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0481588" cy="22632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F57F-18F6-4E32-A5FA-3CF15DDCA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5640" y="2011320"/>
            <a:ext cx="25908120" cy="3772080"/>
          </a:xfrm>
          <a:prstGeom prst="rect">
            <a:avLst/>
          </a:prstGeom>
          <a:noFill/>
          <a:ln w="0">
            <a:noFill/>
          </a:ln>
        </p:spPr>
        <p:txBody>
          <a:bodyPr lIns="303480" rIns="303480" tIns="151920" bIns="151920" anchor="ctr">
            <a:noAutofit/>
          </a:bodyPr>
          <a:p>
            <a:pPr indent="0" algn="ctr">
              <a:buNone/>
              <a:tabLst>
                <a:tab algn="l" pos="0"/>
                <a:tab algn="l" pos="3035160"/>
                <a:tab algn="l" pos="6070680"/>
                <a:tab algn="l" pos="910584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5640" y="6536880"/>
            <a:ext cx="25908120" cy="6477120"/>
          </a:xfrm>
          <a:prstGeom prst="rect">
            <a:avLst/>
          </a:prstGeom>
          <a:noFill/>
          <a:ln w="0">
            <a:noFill/>
          </a:ln>
        </p:spPr>
        <p:txBody>
          <a:bodyPr lIns="303480" rIns="303480" tIns="151920" bIns="15192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3035160"/>
                <a:tab algn="l" pos="6070680"/>
                <a:tab algn="l" pos="9105840"/>
              </a:tabLst>
            </a:pP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5640" y="13629600"/>
            <a:ext cx="25908120" cy="6477120"/>
          </a:xfrm>
          <a:prstGeom prst="rect">
            <a:avLst/>
          </a:prstGeom>
          <a:noFill/>
          <a:ln w="0">
            <a:noFill/>
          </a:ln>
        </p:spPr>
        <p:txBody>
          <a:bodyPr lIns="303480" rIns="303480" tIns="151920" bIns="15192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3035160"/>
                <a:tab algn="l" pos="6070680"/>
                <a:tab algn="l" pos="9105840"/>
              </a:tabLst>
            </a:pP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D30F-7D52-496E-B5DC-16A258A97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5640" y="2011320"/>
            <a:ext cx="25908120" cy="3772080"/>
          </a:xfrm>
          <a:prstGeom prst="rect">
            <a:avLst/>
          </a:prstGeom>
          <a:noFill/>
          <a:ln w="0">
            <a:noFill/>
          </a:ln>
        </p:spPr>
        <p:txBody>
          <a:bodyPr lIns="303480" rIns="303480" tIns="151920" bIns="151920" anchor="ctr">
            <a:noAutofit/>
          </a:bodyPr>
          <a:p>
            <a:pPr indent="0" algn="ctr">
              <a:buNone/>
              <a:tabLst>
                <a:tab algn="l" pos="0"/>
                <a:tab algn="l" pos="3035160"/>
                <a:tab algn="l" pos="6070680"/>
                <a:tab algn="l" pos="910584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5640" y="6536880"/>
            <a:ext cx="12642840" cy="6477120"/>
          </a:xfrm>
          <a:prstGeom prst="rect">
            <a:avLst/>
          </a:prstGeom>
          <a:noFill/>
          <a:ln w="0">
            <a:noFill/>
          </a:ln>
        </p:spPr>
        <p:txBody>
          <a:bodyPr lIns="303480" rIns="303480" tIns="151920" bIns="15192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3035160"/>
                <a:tab algn="l" pos="6070680"/>
                <a:tab algn="l" pos="9105840"/>
              </a:tabLst>
            </a:pP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561000" y="6536880"/>
            <a:ext cx="12642840" cy="6477120"/>
          </a:xfrm>
          <a:prstGeom prst="rect">
            <a:avLst/>
          </a:prstGeom>
          <a:noFill/>
          <a:ln w="0">
            <a:noFill/>
          </a:ln>
        </p:spPr>
        <p:txBody>
          <a:bodyPr lIns="303480" rIns="303480" tIns="151920" bIns="15192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3035160"/>
                <a:tab algn="l" pos="6070680"/>
                <a:tab algn="l" pos="9105840"/>
              </a:tabLst>
            </a:pP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5640" y="13629600"/>
            <a:ext cx="12642840" cy="6477120"/>
          </a:xfrm>
          <a:prstGeom prst="rect">
            <a:avLst/>
          </a:prstGeom>
          <a:noFill/>
          <a:ln w="0">
            <a:noFill/>
          </a:ln>
        </p:spPr>
        <p:txBody>
          <a:bodyPr lIns="303480" rIns="303480" tIns="151920" bIns="15192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3035160"/>
                <a:tab algn="l" pos="6070680"/>
                <a:tab algn="l" pos="9105840"/>
              </a:tabLst>
            </a:pP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561000" y="13629600"/>
            <a:ext cx="12642840" cy="6477120"/>
          </a:xfrm>
          <a:prstGeom prst="rect">
            <a:avLst/>
          </a:prstGeom>
          <a:noFill/>
          <a:ln w="0">
            <a:noFill/>
          </a:ln>
        </p:spPr>
        <p:txBody>
          <a:bodyPr lIns="303480" rIns="303480" tIns="151920" bIns="15192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3035160"/>
                <a:tab algn="l" pos="6070680"/>
                <a:tab algn="l" pos="9105840"/>
              </a:tabLst>
            </a:pP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3140-EC75-41B0-9FC2-367544EFA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5640" y="2011320"/>
            <a:ext cx="25908120" cy="3772080"/>
          </a:xfrm>
          <a:prstGeom prst="rect">
            <a:avLst/>
          </a:prstGeom>
          <a:noFill/>
          <a:ln w="0">
            <a:noFill/>
          </a:ln>
        </p:spPr>
        <p:txBody>
          <a:bodyPr lIns="303480" rIns="303480" tIns="151920" bIns="151920" anchor="ctr">
            <a:noAutofit/>
          </a:bodyPr>
          <a:p>
            <a:pPr indent="0" algn="ctr">
              <a:buNone/>
              <a:tabLst>
                <a:tab algn="l" pos="0"/>
                <a:tab algn="l" pos="3035160"/>
                <a:tab algn="l" pos="6070680"/>
                <a:tab algn="l" pos="910584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5640" y="6536880"/>
            <a:ext cx="8342280" cy="6477120"/>
          </a:xfrm>
          <a:prstGeom prst="rect">
            <a:avLst/>
          </a:prstGeom>
          <a:noFill/>
          <a:ln w="0">
            <a:noFill/>
          </a:ln>
        </p:spPr>
        <p:txBody>
          <a:bodyPr lIns="303480" rIns="303480" tIns="151920" bIns="15192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3035160"/>
                <a:tab algn="l" pos="6070680"/>
                <a:tab algn="l" pos="9105840"/>
              </a:tabLst>
            </a:pP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045520" y="6536880"/>
            <a:ext cx="8342280" cy="6477120"/>
          </a:xfrm>
          <a:prstGeom prst="rect">
            <a:avLst/>
          </a:prstGeom>
          <a:noFill/>
          <a:ln w="0">
            <a:noFill/>
          </a:ln>
        </p:spPr>
        <p:txBody>
          <a:bodyPr lIns="303480" rIns="303480" tIns="151920" bIns="15192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3035160"/>
                <a:tab algn="l" pos="6070680"/>
                <a:tab algn="l" pos="9105840"/>
              </a:tabLst>
            </a:pP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805040" y="6536880"/>
            <a:ext cx="8342280" cy="6477120"/>
          </a:xfrm>
          <a:prstGeom prst="rect">
            <a:avLst/>
          </a:prstGeom>
          <a:noFill/>
          <a:ln w="0">
            <a:noFill/>
          </a:ln>
        </p:spPr>
        <p:txBody>
          <a:bodyPr lIns="303480" rIns="303480" tIns="151920" bIns="15192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3035160"/>
                <a:tab algn="l" pos="6070680"/>
                <a:tab algn="l" pos="9105840"/>
              </a:tabLst>
            </a:pP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5640" y="13629600"/>
            <a:ext cx="8342280" cy="6477120"/>
          </a:xfrm>
          <a:prstGeom prst="rect">
            <a:avLst/>
          </a:prstGeom>
          <a:noFill/>
          <a:ln w="0">
            <a:noFill/>
          </a:ln>
        </p:spPr>
        <p:txBody>
          <a:bodyPr lIns="303480" rIns="303480" tIns="151920" bIns="15192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3035160"/>
                <a:tab algn="l" pos="6070680"/>
                <a:tab algn="l" pos="9105840"/>
              </a:tabLst>
            </a:pP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045520" y="13629600"/>
            <a:ext cx="8342280" cy="6477120"/>
          </a:xfrm>
          <a:prstGeom prst="rect">
            <a:avLst/>
          </a:prstGeom>
          <a:noFill/>
          <a:ln w="0">
            <a:noFill/>
          </a:ln>
        </p:spPr>
        <p:txBody>
          <a:bodyPr lIns="303480" rIns="303480" tIns="151920" bIns="15192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3035160"/>
                <a:tab algn="l" pos="6070680"/>
                <a:tab algn="l" pos="9105840"/>
              </a:tabLst>
            </a:pP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805040" y="13629600"/>
            <a:ext cx="8342280" cy="6477120"/>
          </a:xfrm>
          <a:prstGeom prst="rect">
            <a:avLst/>
          </a:prstGeom>
          <a:noFill/>
          <a:ln w="0">
            <a:noFill/>
          </a:ln>
        </p:spPr>
        <p:txBody>
          <a:bodyPr lIns="303480" rIns="303480" tIns="151920" bIns="15192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3035160"/>
                <a:tab algn="l" pos="6070680"/>
                <a:tab algn="l" pos="9105840"/>
              </a:tabLst>
            </a:pP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84CC-BE35-497B-8BC0-0F2593DE4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5640" y="2011320"/>
            <a:ext cx="25908120" cy="3772080"/>
          </a:xfrm>
          <a:prstGeom prst="rect">
            <a:avLst/>
          </a:prstGeom>
          <a:noFill/>
          <a:ln w="0">
            <a:noFill/>
          </a:ln>
        </p:spPr>
        <p:txBody>
          <a:bodyPr lIns="303480" rIns="303480" tIns="151920" bIns="151920" anchor="ctr">
            <a:noAutofit/>
          </a:bodyPr>
          <a:p>
            <a:pPr indent="0" algn="ctr">
              <a:buNone/>
              <a:tabLst>
                <a:tab algn="l" pos="0"/>
                <a:tab algn="l" pos="3035160"/>
                <a:tab algn="l" pos="6070680"/>
                <a:tab algn="l" pos="910584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5640" y="6536880"/>
            <a:ext cx="25908120" cy="135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650"/>
              </a:spcBef>
              <a:buNone/>
              <a:tabLst>
                <a:tab algn="l" pos="0"/>
                <a:tab algn="l" pos="3035160"/>
                <a:tab algn="l" pos="6070680"/>
                <a:tab algn="l" pos="9105840"/>
              </a:tabLst>
            </a:pP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90FF-A9D5-4274-B3AA-CC9B6A126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5640" y="2011320"/>
            <a:ext cx="25908120" cy="3772080"/>
          </a:xfrm>
          <a:prstGeom prst="rect">
            <a:avLst/>
          </a:prstGeom>
          <a:noFill/>
          <a:ln w="0">
            <a:noFill/>
          </a:ln>
        </p:spPr>
        <p:txBody>
          <a:bodyPr lIns="303480" rIns="303480" tIns="151920" bIns="151920" anchor="ctr">
            <a:noAutofit/>
          </a:bodyPr>
          <a:p>
            <a:pPr indent="0" algn="ctr">
              <a:buNone/>
              <a:tabLst>
                <a:tab algn="l" pos="0"/>
                <a:tab algn="l" pos="3035160"/>
                <a:tab algn="l" pos="6070680"/>
                <a:tab algn="l" pos="910584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5640" y="6536880"/>
            <a:ext cx="25908120" cy="13579560"/>
          </a:xfrm>
          <a:prstGeom prst="rect">
            <a:avLst/>
          </a:prstGeom>
          <a:noFill/>
          <a:ln w="0">
            <a:noFill/>
          </a:ln>
        </p:spPr>
        <p:txBody>
          <a:bodyPr lIns="303480" rIns="303480" tIns="151920" bIns="15192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3035160"/>
                <a:tab algn="l" pos="6070680"/>
                <a:tab algn="l" pos="9105840"/>
              </a:tabLst>
            </a:pP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5335-94ED-44F3-99AF-C0B16CDA3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5640" y="2011320"/>
            <a:ext cx="25908120" cy="3772080"/>
          </a:xfrm>
          <a:prstGeom prst="rect">
            <a:avLst/>
          </a:prstGeom>
          <a:noFill/>
          <a:ln w="0">
            <a:noFill/>
          </a:ln>
        </p:spPr>
        <p:txBody>
          <a:bodyPr lIns="303480" rIns="303480" tIns="151920" bIns="151920" anchor="ctr">
            <a:noAutofit/>
          </a:bodyPr>
          <a:p>
            <a:pPr indent="0" algn="ctr">
              <a:buNone/>
              <a:tabLst>
                <a:tab algn="l" pos="0"/>
                <a:tab algn="l" pos="3035160"/>
                <a:tab algn="l" pos="6070680"/>
                <a:tab algn="l" pos="910584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5640" y="6536880"/>
            <a:ext cx="12642840" cy="13579560"/>
          </a:xfrm>
          <a:prstGeom prst="rect">
            <a:avLst/>
          </a:prstGeom>
          <a:noFill/>
          <a:ln w="0">
            <a:noFill/>
          </a:ln>
        </p:spPr>
        <p:txBody>
          <a:bodyPr lIns="303480" rIns="303480" tIns="151920" bIns="15192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3035160"/>
                <a:tab algn="l" pos="6070680"/>
                <a:tab algn="l" pos="9105840"/>
              </a:tabLst>
            </a:pP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561000" y="6536880"/>
            <a:ext cx="12642840" cy="13579560"/>
          </a:xfrm>
          <a:prstGeom prst="rect">
            <a:avLst/>
          </a:prstGeom>
          <a:noFill/>
          <a:ln w="0">
            <a:noFill/>
          </a:ln>
        </p:spPr>
        <p:txBody>
          <a:bodyPr lIns="303480" rIns="303480" tIns="151920" bIns="15192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3035160"/>
                <a:tab algn="l" pos="6070680"/>
                <a:tab algn="l" pos="9105840"/>
              </a:tabLst>
            </a:pP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8659-4766-4E51-B484-DAC77E6F4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5640" y="2011320"/>
            <a:ext cx="25908120" cy="3772080"/>
          </a:xfrm>
          <a:prstGeom prst="rect">
            <a:avLst/>
          </a:prstGeom>
          <a:noFill/>
          <a:ln w="0">
            <a:noFill/>
          </a:ln>
        </p:spPr>
        <p:txBody>
          <a:bodyPr lIns="303480" rIns="303480" tIns="151920" bIns="151920" anchor="ctr">
            <a:noAutofit/>
          </a:bodyPr>
          <a:p>
            <a:pPr indent="0" algn="ctr">
              <a:buNone/>
              <a:tabLst>
                <a:tab algn="l" pos="0"/>
                <a:tab algn="l" pos="3035160"/>
                <a:tab algn="l" pos="6070680"/>
                <a:tab algn="l" pos="910584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971F-B3A3-4C39-997B-8EDD80B83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5640" y="2011320"/>
            <a:ext cx="25908120" cy="174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650"/>
              </a:spcBef>
              <a:tabLst>
                <a:tab algn="l" pos="0"/>
                <a:tab algn="l" pos="3035160"/>
                <a:tab algn="l" pos="6070680"/>
                <a:tab algn="l" pos="9105840"/>
              </a:tabLst>
            </a:pP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F896-8618-4C27-9CB2-ED71DB66C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5640" y="2011320"/>
            <a:ext cx="25908120" cy="3772080"/>
          </a:xfrm>
          <a:prstGeom prst="rect">
            <a:avLst/>
          </a:prstGeom>
          <a:noFill/>
          <a:ln w="0">
            <a:noFill/>
          </a:ln>
        </p:spPr>
        <p:txBody>
          <a:bodyPr lIns="303480" rIns="303480" tIns="151920" bIns="151920" anchor="ctr">
            <a:noAutofit/>
          </a:bodyPr>
          <a:p>
            <a:pPr indent="0" algn="ctr">
              <a:buNone/>
              <a:tabLst>
                <a:tab algn="l" pos="0"/>
                <a:tab algn="l" pos="3035160"/>
                <a:tab algn="l" pos="6070680"/>
                <a:tab algn="l" pos="910584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5640" y="6536880"/>
            <a:ext cx="12642840" cy="6477120"/>
          </a:xfrm>
          <a:prstGeom prst="rect">
            <a:avLst/>
          </a:prstGeom>
          <a:noFill/>
          <a:ln w="0">
            <a:noFill/>
          </a:ln>
        </p:spPr>
        <p:txBody>
          <a:bodyPr lIns="303480" rIns="303480" tIns="151920" bIns="15192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3035160"/>
                <a:tab algn="l" pos="6070680"/>
                <a:tab algn="l" pos="9105840"/>
              </a:tabLst>
            </a:pP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561000" y="6536880"/>
            <a:ext cx="12642840" cy="13579560"/>
          </a:xfrm>
          <a:prstGeom prst="rect">
            <a:avLst/>
          </a:prstGeom>
          <a:noFill/>
          <a:ln w="0">
            <a:noFill/>
          </a:ln>
        </p:spPr>
        <p:txBody>
          <a:bodyPr lIns="303480" rIns="303480" tIns="151920" bIns="15192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3035160"/>
                <a:tab algn="l" pos="6070680"/>
                <a:tab algn="l" pos="9105840"/>
              </a:tabLst>
            </a:pP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5640" y="13629600"/>
            <a:ext cx="12642840" cy="6477120"/>
          </a:xfrm>
          <a:prstGeom prst="rect">
            <a:avLst/>
          </a:prstGeom>
          <a:noFill/>
          <a:ln w="0">
            <a:noFill/>
          </a:ln>
        </p:spPr>
        <p:txBody>
          <a:bodyPr lIns="303480" rIns="303480" tIns="151920" bIns="15192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3035160"/>
                <a:tab algn="l" pos="6070680"/>
                <a:tab algn="l" pos="9105840"/>
              </a:tabLst>
            </a:pP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6617-279E-42A0-A987-B62BA746D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5640" y="2011320"/>
            <a:ext cx="25908120" cy="3772080"/>
          </a:xfrm>
          <a:prstGeom prst="rect">
            <a:avLst/>
          </a:prstGeom>
          <a:noFill/>
          <a:ln w="0">
            <a:noFill/>
          </a:ln>
        </p:spPr>
        <p:txBody>
          <a:bodyPr lIns="303480" rIns="303480" tIns="151920" bIns="151920" anchor="ctr">
            <a:noAutofit/>
          </a:bodyPr>
          <a:p>
            <a:pPr indent="0" algn="ctr">
              <a:buNone/>
              <a:tabLst>
                <a:tab algn="l" pos="0"/>
                <a:tab algn="l" pos="3035160"/>
                <a:tab algn="l" pos="6070680"/>
                <a:tab algn="l" pos="910584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5640" y="6536880"/>
            <a:ext cx="12642840" cy="13579560"/>
          </a:xfrm>
          <a:prstGeom prst="rect">
            <a:avLst/>
          </a:prstGeom>
          <a:noFill/>
          <a:ln w="0">
            <a:noFill/>
          </a:ln>
        </p:spPr>
        <p:txBody>
          <a:bodyPr lIns="303480" rIns="303480" tIns="151920" bIns="15192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3035160"/>
                <a:tab algn="l" pos="6070680"/>
                <a:tab algn="l" pos="9105840"/>
              </a:tabLst>
            </a:pP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561000" y="6536880"/>
            <a:ext cx="12642840" cy="6477120"/>
          </a:xfrm>
          <a:prstGeom prst="rect">
            <a:avLst/>
          </a:prstGeom>
          <a:noFill/>
          <a:ln w="0">
            <a:noFill/>
          </a:ln>
        </p:spPr>
        <p:txBody>
          <a:bodyPr lIns="303480" rIns="303480" tIns="151920" bIns="15192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3035160"/>
                <a:tab algn="l" pos="6070680"/>
                <a:tab algn="l" pos="9105840"/>
              </a:tabLst>
            </a:pP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561000" y="13629600"/>
            <a:ext cx="12642840" cy="6477120"/>
          </a:xfrm>
          <a:prstGeom prst="rect">
            <a:avLst/>
          </a:prstGeom>
          <a:noFill/>
          <a:ln w="0">
            <a:noFill/>
          </a:ln>
        </p:spPr>
        <p:txBody>
          <a:bodyPr lIns="303480" rIns="303480" tIns="151920" bIns="15192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3035160"/>
                <a:tab algn="l" pos="6070680"/>
                <a:tab algn="l" pos="9105840"/>
              </a:tabLst>
            </a:pP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5B5C-2264-4479-9D96-519864A03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5640" y="2011320"/>
            <a:ext cx="25908120" cy="3772080"/>
          </a:xfrm>
          <a:prstGeom prst="rect">
            <a:avLst/>
          </a:prstGeom>
          <a:noFill/>
          <a:ln w="0">
            <a:noFill/>
          </a:ln>
        </p:spPr>
        <p:txBody>
          <a:bodyPr lIns="303480" rIns="303480" tIns="151920" bIns="151920" anchor="ctr">
            <a:noAutofit/>
          </a:bodyPr>
          <a:p>
            <a:pPr indent="0" algn="ctr">
              <a:buNone/>
              <a:tabLst>
                <a:tab algn="l" pos="0"/>
                <a:tab algn="l" pos="3035160"/>
                <a:tab algn="l" pos="6070680"/>
                <a:tab algn="l" pos="910584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5640" y="6536880"/>
            <a:ext cx="12642840" cy="6477120"/>
          </a:xfrm>
          <a:prstGeom prst="rect">
            <a:avLst/>
          </a:prstGeom>
          <a:noFill/>
          <a:ln w="0">
            <a:noFill/>
          </a:ln>
        </p:spPr>
        <p:txBody>
          <a:bodyPr lIns="303480" rIns="303480" tIns="151920" bIns="15192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3035160"/>
                <a:tab algn="l" pos="6070680"/>
                <a:tab algn="l" pos="9105840"/>
              </a:tabLst>
            </a:pP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561000" y="6536880"/>
            <a:ext cx="12642840" cy="6477120"/>
          </a:xfrm>
          <a:prstGeom prst="rect">
            <a:avLst/>
          </a:prstGeom>
          <a:noFill/>
          <a:ln w="0">
            <a:noFill/>
          </a:ln>
        </p:spPr>
        <p:txBody>
          <a:bodyPr lIns="303480" rIns="303480" tIns="151920" bIns="15192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3035160"/>
                <a:tab algn="l" pos="6070680"/>
                <a:tab algn="l" pos="9105840"/>
              </a:tabLst>
            </a:pP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5640" y="13629600"/>
            <a:ext cx="25908120" cy="6477120"/>
          </a:xfrm>
          <a:prstGeom prst="rect">
            <a:avLst/>
          </a:prstGeom>
          <a:noFill/>
          <a:ln w="0">
            <a:noFill/>
          </a:ln>
        </p:spPr>
        <p:txBody>
          <a:bodyPr lIns="303480" rIns="303480" tIns="151920" bIns="15192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3035160"/>
                <a:tab algn="l" pos="6070680"/>
                <a:tab algn="l" pos="9105840"/>
              </a:tabLst>
            </a:pP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901A-14AC-4965-A846-207B75658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5640" y="2011320"/>
            <a:ext cx="25908120" cy="3772080"/>
          </a:xfrm>
          <a:prstGeom prst="rect">
            <a:avLst/>
          </a:prstGeom>
          <a:noFill/>
          <a:ln w="0">
            <a:noFill/>
          </a:ln>
        </p:spPr>
        <p:txBody>
          <a:bodyPr lIns="303480" rIns="303480" tIns="151920" bIns="151920" anchor="ctr">
            <a:noAutofit/>
          </a:bodyPr>
          <a:p>
            <a:pPr indent="0" algn="ctr">
              <a:buNone/>
              <a:tabLst>
                <a:tab algn="l" pos="0"/>
                <a:tab algn="l" pos="3035160"/>
                <a:tab algn="l" pos="6070680"/>
                <a:tab algn="l" pos="9105840"/>
              </a:tabLst>
            </a:pPr>
            <a:r>
              <a:rPr b="0" lang="en-US" sz="14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5640" y="6536880"/>
            <a:ext cx="25908120" cy="13579560"/>
          </a:xfrm>
          <a:prstGeom prst="rect">
            <a:avLst/>
          </a:prstGeom>
          <a:noFill/>
          <a:ln w="0">
            <a:noFill/>
          </a:ln>
        </p:spPr>
        <p:txBody>
          <a:bodyPr lIns="303480" rIns="303480" tIns="151920" bIns="151920" anchor="t">
            <a:normAutofit fontScale="99000"/>
          </a:bodyPr>
          <a:p>
            <a:pPr marL="1126800" indent="-1126800">
              <a:spcBef>
                <a:spcPts val="2650"/>
              </a:spcBef>
              <a:buClr>
                <a:srgbClr val="000000"/>
              </a:buClr>
              <a:buFont typeface="Times New Roman"/>
              <a:buChar char="•"/>
              <a:tabLst>
                <a:tab algn="l" pos="3035160"/>
                <a:tab algn="l" pos="6070680"/>
                <a:tab algn="l" pos="910584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  <a:p>
            <a:pPr lvl="1" marL="2440440" indent="-937800">
              <a:spcBef>
                <a:spcPts val="2650"/>
              </a:spcBef>
              <a:buClr>
                <a:srgbClr val="000000"/>
              </a:buClr>
              <a:buFont typeface="Times New Roman"/>
              <a:buChar char="–"/>
              <a:tabLst>
                <a:tab algn="l" pos="3035160"/>
                <a:tab algn="l" pos="6070680"/>
                <a:tab algn="l" pos="910584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  <a:p>
            <a:pPr lvl="2" marL="3755880" indent="-750960">
              <a:spcBef>
                <a:spcPts val="2650"/>
              </a:spcBef>
              <a:buClr>
                <a:srgbClr val="000000"/>
              </a:buClr>
              <a:buFont typeface="Times New Roman"/>
              <a:buChar char="•"/>
              <a:tabLst>
                <a:tab algn="l" pos="3035160"/>
                <a:tab algn="l" pos="6070680"/>
                <a:tab algn="l" pos="910584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  <a:p>
            <a:pPr lvl="3" marL="5258520" indent="-750960">
              <a:spcBef>
                <a:spcPts val="2650"/>
              </a:spcBef>
              <a:buClr>
                <a:srgbClr val="000000"/>
              </a:buClr>
              <a:buFont typeface="Times New Roman"/>
              <a:buChar char="–"/>
              <a:tabLst>
                <a:tab algn="l" pos="3035160"/>
                <a:tab algn="l" pos="6070680"/>
                <a:tab algn="l" pos="910584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  <a:p>
            <a:pPr lvl="4" marL="6759360" indent="-750960">
              <a:spcBef>
                <a:spcPts val="2650"/>
              </a:spcBef>
              <a:buClr>
                <a:srgbClr val="000000"/>
              </a:buClr>
              <a:buFont typeface="Times New Roman"/>
              <a:buChar char="»"/>
              <a:tabLst>
                <a:tab algn="l" pos="3035160"/>
                <a:tab algn="l" pos="6070680"/>
                <a:tab algn="l" pos="910584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  <a:p>
            <a:pPr lvl="5" marL="6759360" indent="-750960">
              <a:spcBef>
                <a:spcPts val="2650"/>
              </a:spcBef>
              <a:buClr>
                <a:srgbClr val="000000"/>
              </a:buClr>
              <a:buFont typeface="Times New Roman"/>
              <a:buChar char="»"/>
              <a:tabLst>
                <a:tab algn="l" pos="3035160"/>
                <a:tab algn="l" pos="6070680"/>
                <a:tab algn="l" pos="910584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  <a:p>
            <a:pPr lvl="6" marL="6759360" indent="-750960">
              <a:spcBef>
                <a:spcPts val="2650"/>
              </a:spcBef>
              <a:buClr>
                <a:srgbClr val="000000"/>
              </a:buClr>
              <a:buFont typeface="Times New Roman"/>
              <a:buChar char="»"/>
              <a:tabLst>
                <a:tab algn="l" pos="3035160"/>
                <a:tab algn="l" pos="6070680"/>
                <a:tab algn="l" pos="910584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5640" y="20619720"/>
            <a:ext cx="6350040" cy="1508040"/>
          </a:xfrm>
          <a:prstGeom prst="rect">
            <a:avLst/>
          </a:prstGeom>
          <a:noFill/>
          <a:ln w="0">
            <a:noFill/>
          </a:ln>
        </p:spPr>
        <p:txBody>
          <a:bodyPr lIns="303480" rIns="303480" tIns="151920" bIns="151920" anchor="t">
            <a:noAutofit/>
          </a:bodyPr>
          <a:lstStyle>
            <a:lvl1pPr indent="0">
              <a:buNone/>
              <a:tabLst>
                <a:tab algn="l" pos="0"/>
                <a:tab algn="l" pos="3035160"/>
                <a:tab algn="l" pos="6070680"/>
                <a:tab algn="l" pos="9105840"/>
              </a:tabLst>
              <a:defRPr b="0" lang="en-US" sz="4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035160"/>
                <a:tab algn="l" pos="6070680"/>
                <a:tab algn="l" pos="910584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413720" y="20619720"/>
            <a:ext cx="9651960" cy="1508040"/>
          </a:xfrm>
          <a:prstGeom prst="rect">
            <a:avLst/>
          </a:prstGeom>
          <a:noFill/>
          <a:ln w="0">
            <a:noFill/>
          </a:ln>
        </p:spPr>
        <p:txBody>
          <a:bodyPr lIns="303480" rIns="303480" tIns="151920" bIns="151920" anchor="t">
            <a:noAutofit/>
          </a:bodyPr>
          <a:lstStyle>
            <a:lvl1pPr indent="0" algn="ctr">
              <a:buNone/>
              <a:tabLst>
                <a:tab algn="l" pos="0"/>
                <a:tab algn="l" pos="3035160"/>
                <a:tab algn="l" pos="6070680"/>
                <a:tab algn="l" pos="9105840"/>
              </a:tabLst>
              <a:defRPr b="0" lang="en-US" sz="4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035160"/>
                <a:tab algn="l" pos="6070680"/>
                <a:tab algn="l" pos="910584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843720" y="20619720"/>
            <a:ext cx="6350040" cy="1508040"/>
          </a:xfrm>
          <a:prstGeom prst="rect">
            <a:avLst/>
          </a:prstGeom>
          <a:noFill/>
          <a:ln w="0">
            <a:noFill/>
          </a:ln>
        </p:spPr>
        <p:txBody>
          <a:bodyPr lIns="303480" rIns="303480" tIns="151920" bIns="151920" anchor="t">
            <a:noAutofit/>
          </a:bodyPr>
          <a:lstStyle>
            <a:lvl1pPr indent="0" algn="r">
              <a:buNone/>
              <a:tabLst>
                <a:tab algn="l" pos="0"/>
                <a:tab algn="l" pos="3035160"/>
                <a:tab algn="l" pos="6070680"/>
                <a:tab algn="l" pos="9105840"/>
              </a:tabLst>
              <a:defRPr b="0" lang="en-US" sz="4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035160"/>
                <a:tab algn="l" pos="6070680"/>
                <a:tab algn="l" pos="9105840"/>
              </a:tabLst>
            </a:pPr>
            <a:fld id="{7E5FEAE5-613D-4B04-AAFF-62131A1668FF}" type="slidenum"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4.png"/><Relationship Id="rId20" Type="http://schemas.openxmlformats.org/officeDocument/2006/relationships/image" Target="../media/image1.png"/><Relationship Id="rId21" Type="http://schemas.openxmlformats.org/officeDocument/2006/relationships/image" Target="../media/image6.jpeg"/><Relationship Id="rId2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079640" y="685800"/>
            <a:ext cx="28790640" cy="21377160"/>
            <a:chOff x="1079640" y="685800"/>
            <a:chExt cx="28790640" cy="21377160"/>
          </a:xfrm>
        </p:grpSpPr>
        <p:sp>
          <p:nvSpPr>
            <p:cNvPr id="42" name=""/>
            <p:cNvSpPr/>
            <p:nvPr/>
          </p:nvSpPr>
          <p:spPr>
            <a:xfrm>
              <a:off x="1957320" y="1058760"/>
              <a:ext cx="27532080" cy="20658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079640" y="685800"/>
              <a:ext cx="28790640" cy="21377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21288240" y="20666160"/>
            <a:ext cx="16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º PAVIM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371280" y="19315080"/>
            <a:ext cx="36738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AY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CD / PB -  CAMPINAS GRA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SC. : 1 : 1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0401480" y="9563040"/>
            <a:ext cx="10020240" cy="5905440"/>
            <a:chOff x="10401480" y="9563040"/>
            <a:chExt cx="10020240" cy="5905440"/>
          </a:xfrm>
        </p:grpSpPr>
        <p:sp>
          <p:nvSpPr>
            <p:cNvPr id="47" name=""/>
            <p:cNvSpPr/>
            <p:nvPr/>
          </p:nvSpPr>
          <p:spPr>
            <a:xfrm>
              <a:off x="10814040" y="13809600"/>
              <a:ext cx="39618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6600"/>
                  </a:solidFill>
                  <a:latin typeface="Arial"/>
                </a:rPr>
                <a:t>NECESSÁRIO ESTIMADO  =  12 000 CAIXAS P/ FORMULÁRI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17907120" y="10460160"/>
              <a:ext cx="1714320" cy="426708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7907120" y="10497960"/>
              <a:ext cx="1714320" cy="426744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rot="16200000">
              <a:off x="18711000" y="13251240"/>
              <a:ext cx="71640" cy="180036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rot="16200000">
              <a:off x="18725400" y="10786320"/>
              <a:ext cx="71280" cy="1800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rot="16200000">
              <a:off x="18725400" y="11391120"/>
              <a:ext cx="71280" cy="1800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rot="16200000">
              <a:off x="18739440" y="12024360"/>
              <a:ext cx="71280" cy="180036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rot="16200000">
              <a:off x="18711000" y="12641760"/>
              <a:ext cx="71280" cy="180036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rot="16200000">
              <a:off x="18725040" y="13851360"/>
              <a:ext cx="71640" cy="1800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6200000">
              <a:off x="18739440" y="10163520"/>
              <a:ext cx="71640" cy="180036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17640000" y="10476000"/>
              <a:ext cx="181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17609760" y="14943240"/>
              <a:ext cx="181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rot="16200000">
              <a:off x="17488080" y="14754240"/>
              <a:ext cx="322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33cc"/>
                  </a:solidFill>
                  <a:latin typeface="Arial"/>
                </a:rPr>
                <a:t>.1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17391240" y="14952600"/>
              <a:ext cx="180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17400240" y="10447200"/>
              <a:ext cx="181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7481600" y="10383840"/>
              <a:ext cx="0" cy="4610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16200000">
              <a:off x="17205840" y="12063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cc"/>
                  </a:solidFill>
                  <a:latin typeface="Arial"/>
                </a:rPr>
                <a:t>2.5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7691120" y="10383840"/>
              <a:ext cx="0" cy="4610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7862480" y="10223640"/>
              <a:ext cx="0" cy="180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19662840" y="10213560"/>
              <a:ext cx="0" cy="18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7813160" y="10337760"/>
              <a:ext cx="19148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8563760" y="101552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cc"/>
                  </a:solidFill>
                  <a:latin typeface="Arial"/>
                </a:rPr>
                <a:t>1.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7857800" y="10452240"/>
              <a:ext cx="71280" cy="449892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580400" y="10452240"/>
              <a:ext cx="71280" cy="449892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rot="16200000">
              <a:off x="18725400" y="9584640"/>
              <a:ext cx="71280" cy="1800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" name=""/>
            <p:cNvGrpSpPr/>
            <p:nvPr/>
          </p:nvGrpSpPr>
          <p:grpSpPr>
            <a:xfrm>
              <a:off x="17735400" y="15038280"/>
              <a:ext cx="1590840" cy="428760"/>
              <a:chOff x="17735400" y="15038280"/>
              <a:chExt cx="1590840" cy="428760"/>
            </a:xfrm>
          </p:grpSpPr>
          <p:sp>
            <p:nvSpPr>
              <p:cNvPr id="73" name=""/>
              <p:cNvSpPr/>
              <p:nvPr/>
            </p:nvSpPr>
            <p:spPr>
              <a:xfrm>
                <a:off x="17790480" y="15038280"/>
                <a:ext cx="137700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cc"/>
                    </a:solidFill>
                    <a:latin typeface="Arial"/>
                  </a:rPr>
                  <a:t>VISTA FRONT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cc"/>
                    </a:solidFill>
                    <a:latin typeface="Arial"/>
                  </a:rPr>
                  <a:t>Esc. 1 / 2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7735400" y="15255720"/>
                <a:ext cx="1590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" name=""/>
            <p:cNvSpPr/>
            <p:nvPr/>
          </p:nvSpPr>
          <p:spPr>
            <a:xfrm>
              <a:off x="14693400" y="12907800"/>
              <a:ext cx="228528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1 MÓDULO DE ESTAN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cc"/>
                  </a:solidFill>
                  <a:latin typeface="Arial"/>
                </a:rPr>
                <a:t>C/  7 PRATELEIRAS DE 100 x 50 c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cc"/>
                  </a:solidFill>
                  <a:latin typeface="Arial"/>
                </a:rPr>
                <a:t>CONTENDO    </a:t>
              </a: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63  CAIXAS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1131560" y="12617280"/>
              <a:ext cx="50760" cy="238320"/>
            </a:xfrm>
            <a:prstGeom prst="rect">
              <a:avLst/>
            </a:prstGeom>
            <a:solidFill>
              <a:srgbClr val="b2b2b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1182320" y="12617280"/>
              <a:ext cx="50760" cy="238320"/>
            </a:xfrm>
            <a:prstGeom prst="rect">
              <a:avLst/>
            </a:prstGeom>
            <a:solidFill>
              <a:srgbClr val="b2b2b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1233080" y="12617280"/>
              <a:ext cx="50760" cy="238320"/>
            </a:xfrm>
            <a:prstGeom prst="rect">
              <a:avLst/>
            </a:prstGeom>
            <a:solidFill>
              <a:srgbClr val="b2b2b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83840" y="12617280"/>
              <a:ext cx="50760" cy="238320"/>
            </a:xfrm>
            <a:prstGeom prst="rect">
              <a:avLst/>
            </a:prstGeom>
            <a:solidFill>
              <a:srgbClr val="b2b2b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1328480" y="12617280"/>
              <a:ext cx="50760" cy="238320"/>
            </a:xfrm>
            <a:prstGeom prst="rect">
              <a:avLst/>
            </a:prstGeom>
            <a:solidFill>
              <a:srgbClr val="b2b2b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1379240" y="12617280"/>
              <a:ext cx="50760" cy="238320"/>
            </a:xfrm>
            <a:prstGeom prst="rect">
              <a:avLst/>
            </a:prstGeom>
            <a:solidFill>
              <a:srgbClr val="b2b2b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1430000" y="12617280"/>
              <a:ext cx="49320" cy="238320"/>
            </a:xfrm>
            <a:prstGeom prst="rect">
              <a:avLst/>
            </a:prstGeom>
            <a:solidFill>
              <a:srgbClr val="b2b2b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1479320" y="12617280"/>
              <a:ext cx="50760" cy="238320"/>
            </a:xfrm>
            <a:prstGeom prst="rect">
              <a:avLst/>
            </a:prstGeom>
            <a:solidFill>
              <a:srgbClr val="b2b2b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1530080" y="12617280"/>
              <a:ext cx="50760" cy="238320"/>
            </a:xfrm>
            <a:prstGeom prst="rect">
              <a:avLst/>
            </a:prstGeom>
            <a:solidFill>
              <a:srgbClr val="b2b2b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1580840" y="12617280"/>
              <a:ext cx="50760" cy="238320"/>
            </a:xfrm>
            <a:prstGeom prst="rect">
              <a:avLst/>
            </a:prstGeom>
            <a:solidFill>
              <a:srgbClr val="b2b2b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631600" y="12617280"/>
              <a:ext cx="50760" cy="238320"/>
            </a:xfrm>
            <a:prstGeom prst="rect">
              <a:avLst/>
            </a:prstGeom>
            <a:solidFill>
              <a:srgbClr val="b2b2b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1682360" y="12617280"/>
              <a:ext cx="50760" cy="238320"/>
            </a:xfrm>
            <a:prstGeom prst="rect">
              <a:avLst/>
            </a:prstGeom>
            <a:solidFill>
              <a:srgbClr val="b2b2b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1832840" y="12515760"/>
              <a:ext cx="2288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1 PRATELEIRA DE 9 PAST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P/ FORMULARI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33cc"/>
                  </a:solidFill>
                  <a:latin typeface="Arial"/>
                </a:rPr>
                <a:t>( PASTAS C/ 10 x 44 x 32 cm 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0629000" y="10436400"/>
              <a:ext cx="6570720" cy="15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3333cc"/>
                  </a:solidFill>
                  <a:latin typeface="Arial"/>
                </a:rPr>
                <a:t>CENSO 2000 - CCD P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3333cc"/>
                  </a:solidFill>
                  <a:latin typeface="Arial"/>
                </a:rPr>
                <a:t>DIMENSIONAMENTO DAS ESTANTES PARA A ÁREA DE ARMAZENAM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3333cc"/>
                  </a:solidFill>
                  <a:latin typeface="Arial"/>
                </a:rPr>
                <a:t>NECESSIDADES PREVIST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3333cc"/>
                  </a:solidFill>
                  <a:latin typeface="Arial"/>
                </a:rPr>
                <a:t>500 PASTAS PARA FORMULÁRI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099160" y="12015720"/>
              <a:ext cx="217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PARÂMETROS ADOTAD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0755360" y="14347800"/>
              <a:ext cx="4972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TOTAL PROJETADO =   13 230 CAIXAS, DISTRIBUIDAS EM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15   GRUPOS DE ESTANTES C/ 63 CAIXAS ( EM CADA ESTANTE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7978040" y="9644040"/>
              <a:ext cx="158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ESTAN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7630280" y="14771520"/>
              <a:ext cx="181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rot="16200000">
              <a:off x="17094960" y="11927880"/>
              <a:ext cx="1047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cc"/>
                  </a:solidFill>
                  <a:latin typeface="Times New Roman"/>
                </a:rPr>
                <a:t>0, 35 X 7 = 2, 4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14994000" y="11199960"/>
              <a:ext cx="906480" cy="1690560"/>
              <a:chOff x="14994000" y="11199960"/>
              <a:chExt cx="906480" cy="1690560"/>
            </a:xfrm>
          </p:grpSpPr>
          <p:sp>
            <p:nvSpPr>
              <p:cNvPr id="96" name=""/>
              <p:cNvSpPr/>
              <p:nvPr/>
            </p:nvSpPr>
            <p:spPr>
              <a:xfrm>
                <a:off x="14995440" y="11688840"/>
                <a:ext cx="905040" cy="239760"/>
              </a:xfrm>
              <a:prstGeom prst="rect">
                <a:avLst/>
              </a:prstGeom>
              <a:noFill/>
              <a:ln w="3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4995440" y="11930040"/>
                <a:ext cx="905040" cy="238320"/>
              </a:xfrm>
              <a:prstGeom prst="rect">
                <a:avLst/>
              </a:prstGeom>
              <a:noFill/>
              <a:ln w="3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4995440" y="12169800"/>
                <a:ext cx="905040" cy="239760"/>
              </a:xfrm>
              <a:prstGeom prst="rect">
                <a:avLst/>
              </a:prstGeom>
              <a:noFill/>
              <a:ln w="3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4995440" y="12411000"/>
                <a:ext cx="905040" cy="238320"/>
              </a:xfrm>
              <a:prstGeom prst="rect">
                <a:avLst/>
              </a:prstGeom>
              <a:noFill/>
              <a:ln w="3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4995440" y="12650760"/>
                <a:ext cx="905040" cy="239760"/>
              </a:xfrm>
              <a:prstGeom prst="rect">
                <a:avLst/>
              </a:prstGeom>
              <a:noFill/>
              <a:ln w="3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4995440" y="11447640"/>
                <a:ext cx="905040" cy="239400"/>
              </a:xfrm>
              <a:prstGeom prst="rect">
                <a:avLst/>
              </a:prstGeom>
              <a:noFill/>
              <a:ln w="3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94000" y="11199960"/>
                <a:ext cx="906480" cy="239400"/>
              </a:xfrm>
              <a:prstGeom prst="rect">
                <a:avLst/>
              </a:prstGeom>
              <a:noFill/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>
              <a:off x="10401480" y="9563040"/>
              <a:ext cx="10020240" cy="5905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3121200" y="1952640"/>
            <a:ext cx="23524560" cy="13858920"/>
            <a:chOff x="3121200" y="1952640"/>
            <a:chExt cx="23524560" cy="13858920"/>
          </a:xfrm>
        </p:grpSpPr>
        <p:grpSp>
          <p:nvGrpSpPr>
            <p:cNvPr id="105" name=""/>
            <p:cNvGrpSpPr/>
            <p:nvPr/>
          </p:nvGrpSpPr>
          <p:grpSpPr>
            <a:xfrm>
              <a:off x="3121200" y="1952640"/>
              <a:ext cx="23431320" cy="13858920"/>
              <a:chOff x="3121200" y="1952640"/>
              <a:chExt cx="23431320" cy="13858920"/>
            </a:xfrm>
          </p:grpSpPr>
          <p:sp>
            <p:nvSpPr>
              <p:cNvPr id="106" name=""/>
              <p:cNvSpPr/>
              <p:nvPr/>
            </p:nvSpPr>
            <p:spPr>
              <a:xfrm>
                <a:off x="24703200" y="3514680"/>
                <a:ext cx="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2639600" y="3524400"/>
                <a:ext cx="1474920" cy="2342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1458440" y="5943600"/>
                <a:ext cx="2648160" cy="6667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1477520" y="4968720"/>
                <a:ext cx="495360" cy="9590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121200" y="3516480"/>
                <a:ext cx="3670200" cy="12282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846840" y="3516480"/>
                <a:ext cx="4541760" cy="3124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4157360" y="3516480"/>
                <a:ext cx="3033720" cy="3124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230680" y="3516480"/>
                <a:ext cx="2965320" cy="3124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1439360" y="3516480"/>
                <a:ext cx="2664000" cy="3124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5" name=""/>
              <p:cNvGrpSpPr/>
              <p:nvPr/>
            </p:nvGrpSpPr>
            <p:grpSpPr>
              <a:xfrm>
                <a:off x="22882320" y="3516480"/>
                <a:ext cx="3670200" cy="12282480"/>
                <a:chOff x="22882320" y="3516480"/>
                <a:chExt cx="3670200" cy="1228248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22882320" y="13574880"/>
                  <a:ext cx="36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22882320" y="4659480"/>
                  <a:ext cx="36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22882320" y="3516480"/>
                  <a:ext cx="3670200" cy="12282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9" name=""/>
              <p:cNvSpPr/>
              <p:nvPr/>
            </p:nvSpPr>
            <p:spPr>
              <a:xfrm>
                <a:off x="6824520" y="6678720"/>
                <a:ext cx="16034040" cy="92556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791400" y="7658280"/>
                <a:ext cx="1085760" cy="8153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6164000" y="2019240"/>
                <a:ext cx="4762440" cy="144000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9154880" y="3524400"/>
                <a:ext cx="438120" cy="3236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96600" y="3562200"/>
                <a:ext cx="1085760" cy="137160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6106760" y="1952640"/>
                <a:ext cx="4896000" cy="1562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5602040" y="5035680"/>
                <a:ext cx="71280" cy="71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8627840" y="5043600"/>
                <a:ext cx="71280" cy="71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>
              <a:off x="17845200" y="2563920"/>
              <a:ext cx="128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ANITÁRI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24169680" y="15332040"/>
              <a:ext cx="541440" cy="360360"/>
              <a:chOff x="24169680" y="15332040"/>
              <a:chExt cx="541440" cy="360360"/>
            </a:xfrm>
          </p:grpSpPr>
          <p:sp>
            <p:nvSpPr>
              <p:cNvPr id="129" name=""/>
              <p:cNvSpPr/>
              <p:nvPr/>
            </p:nvSpPr>
            <p:spPr>
              <a:xfrm>
                <a:off x="24169680" y="15332040"/>
                <a:ext cx="28728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4531480" y="15414480"/>
                <a:ext cx="179640" cy="179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5400000">
                <a:off x="24169320" y="15420960"/>
                <a:ext cx="196920" cy="152280"/>
              </a:xfrm>
              <a:custGeom>
                <a:avLst/>
                <a:gdLst>
                  <a:gd name="textAreaLeft" fmla="*/ 43200 w 196920"/>
                  <a:gd name="textAreaRight" fmla="*/ 153720 w 196920"/>
                  <a:gd name="textAreaTop" fmla="*/ 33480 h 152280"/>
                  <a:gd name="textAreaBottom" fmla="*/ 118800 h 15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24798240" y="15312960"/>
              <a:ext cx="541440" cy="360360"/>
              <a:chOff x="24798240" y="15312960"/>
              <a:chExt cx="541440" cy="360360"/>
            </a:xfrm>
          </p:grpSpPr>
          <p:sp>
            <p:nvSpPr>
              <p:cNvPr id="133" name=""/>
              <p:cNvSpPr/>
              <p:nvPr/>
            </p:nvSpPr>
            <p:spPr>
              <a:xfrm>
                <a:off x="24798240" y="15312960"/>
                <a:ext cx="28728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5160040" y="15395400"/>
                <a:ext cx="179640" cy="179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5400000">
                <a:off x="24797880" y="15401880"/>
                <a:ext cx="196920" cy="152280"/>
              </a:xfrm>
              <a:custGeom>
                <a:avLst/>
                <a:gdLst>
                  <a:gd name="textAreaLeft" fmla="*/ 43200 w 196920"/>
                  <a:gd name="textAreaRight" fmla="*/ 153720 w 196920"/>
                  <a:gd name="textAreaTop" fmla="*/ 33480 h 152280"/>
                  <a:gd name="textAreaBottom" fmla="*/ 118800 h 15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 flipV="1" rot="5400000">
              <a:off x="5645160" y="15144480"/>
              <a:ext cx="28728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 rot="5400000">
              <a:off x="5691240" y="15544800"/>
              <a:ext cx="179280" cy="179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5675400" y="15201360"/>
              <a:ext cx="196920" cy="152280"/>
            </a:xfrm>
            <a:custGeom>
              <a:avLst/>
              <a:gdLst>
                <a:gd name="textAreaLeft" fmla="*/ 43200 w 196920"/>
                <a:gd name="textAreaRight" fmla="*/ 153720 w 196920"/>
                <a:gd name="textAreaTop" fmla="*/ 33480 h 152280"/>
                <a:gd name="textAreaBottom" fmla="*/ 11880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" name=""/>
            <p:cNvGrpSpPr/>
            <p:nvPr/>
          </p:nvGrpSpPr>
          <p:grpSpPr>
            <a:xfrm>
              <a:off x="5989680" y="15181200"/>
              <a:ext cx="360360" cy="542520"/>
              <a:chOff x="5989680" y="15181200"/>
              <a:chExt cx="360360" cy="542520"/>
            </a:xfrm>
          </p:grpSpPr>
          <p:sp>
            <p:nvSpPr>
              <p:cNvPr id="140" name=""/>
              <p:cNvSpPr/>
              <p:nvPr/>
            </p:nvSpPr>
            <p:spPr>
              <a:xfrm flipV="1" rot="5400000">
                <a:off x="6025680" y="15144840"/>
                <a:ext cx="28800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V="1" rot="5400000">
                <a:off x="6071760" y="15544080"/>
                <a:ext cx="180000" cy="179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V="1">
                <a:off x="6056280" y="15203520"/>
                <a:ext cx="196920" cy="152640"/>
              </a:xfrm>
              <a:custGeom>
                <a:avLst/>
                <a:gdLst>
                  <a:gd name="textAreaLeft" fmla="*/ 43200 w 196920"/>
                  <a:gd name="textAreaRight" fmla="*/ 153720 w 196920"/>
                  <a:gd name="textAreaTop" fmla="*/ 33480 h 152640"/>
                  <a:gd name="textAreaBottom" fmla="*/ 119160 h 15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6370560" y="15181200"/>
              <a:ext cx="360360" cy="542520"/>
              <a:chOff x="6370560" y="15181200"/>
              <a:chExt cx="360360" cy="542520"/>
            </a:xfrm>
          </p:grpSpPr>
          <p:sp>
            <p:nvSpPr>
              <p:cNvPr id="144" name=""/>
              <p:cNvSpPr/>
              <p:nvPr/>
            </p:nvSpPr>
            <p:spPr>
              <a:xfrm flipV="1" rot="5400000">
                <a:off x="6406560" y="15144840"/>
                <a:ext cx="28800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V="1" rot="5400000">
                <a:off x="6452640" y="15544080"/>
                <a:ext cx="180000" cy="179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V="1">
                <a:off x="6437160" y="15203520"/>
                <a:ext cx="196920" cy="152640"/>
              </a:xfrm>
              <a:custGeom>
                <a:avLst/>
                <a:gdLst>
                  <a:gd name="textAreaLeft" fmla="*/ 43200 w 196920"/>
                  <a:gd name="textAreaRight" fmla="*/ 153720 w 196920"/>
                  <a:gd name="textAreaTop" fmla="*/ 33480 h 152640"/>
                  <a:gd name="textAreaBottom" fmla="*/ 119160 h 15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5602320" y="14619240"/>
              <a:ext cx="360360" cy="544320"/>
              <a:chOff x="5602320" y="14619240"/>
              <a:chExt cx="360360" cy="544320"/>
            </a:xfrm>
          </p:grpSpPr>
          <p:sp>
            <p:nvSpPr>
              <p:cNvPr id="148" name=""/>
              <p:cNvSpPr/>
              <p:nvPr/>
            </p:nvSpPr>
            <p:spPr>
              <a:xfrm rot="16200000">
                <a:off x="5637960" y="14838840"/>
                <a:ext cx="28872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16200000">
                <a:off x="5684040" y="14619600"/>
                <a:ext cx="180360" cy="179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668920" y="14988600"/>
                <a:ext cx="196920" cy="153000"/>
              </a:xfrm>
              <a:custGeom>
                <a:avLst/>
                <a:gdLst>
                  <a:gd name="textAreaLeft" fmla="*/ 43200 w 196920"/>
                  <a:gd name="textAreaRight" fmla="*/ 153720 w 196920"/>
                  <a:gd name="textAreaTop" fmla="*/ 33480 h 153000"/>
                  <a:gd name="textAreaBottom" fmla="*/ 119520 h 15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5985000" y="14618160"/>
              <a:ext cx="360360" cy="543960"/>
              <a:chOff x="5985000" y="14618160"/>
              <a:chExt cx="360360" cy="543960"/>
            </a:xfrm>
          </p:grpSpPr>
          <p:sp>
            <p:nvSpPr>
              <p:cNvPr id="152" name=""/>
              <p:cNvSpPr/>
              <p:nvPr/>
            </p:nvSpPr>
            <p:spPr>
              <a:xfrm rot="16200000">
                <a:off x="6020640" y="14837400"/>
                <a:ext cx="28872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16200000">
                <a:off x="6066720" y="14618520"/>
                <a:ext cx="180360" cy="179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051600" y="14987160"/>
                <a:ext cx="196920" cy="153000"/>
              </a:xfrm>
              <a:custGeom>
                <a:avLst/>
                <a:gdLst>
                  <a:gd name="textAreaLeft" fmla="*/ 43200 w 196920"/>
                  <a:gd name="textAreaRight" fmla="*/ 153720 w 196920"/>
                  <a:gd name="textAreaTop" fmla="*/ 33480 h 153000"/>
                  <a:gd name="textAreaBottom" fmla="*/ 119520 h 15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6364440" y="14619240"/>
              <a:ext cx="360360" cy="544320"/>
              <a:chOff x="6364440" y="14619240"/>
              <a:chExt cx="360360" cy="544320"/>
            </a:xfrm>
          </p:grpSpPr>
          <p:sp>
            <p:nvSpPr>
              <p:cNvPr id="156" name=""/>
              <p:cNvSpPr/>
              <p:nvPr/>
            </p:nvSpPr>
            <p:spPr>
              <a:xfrm rot="16200000">
                <a:off x="6400080" y="14838840"/>
                <a:ext cx="28872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rot="16200000">
                <a:off x="6446160" y="14619600"/>
                <a:ext cx="180360" cy="179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431040" y="14988600"/>
                <a:ext cx="196920" cy="153000"/>
              </a:xfrm>
              <a:custGeom>
                <a:avLst/>
                <a:gdLst>
                  <a:gd name="textAreaLeft" fmla="*/ 43200 w 196920"/>
                  <a:gd name="textAreaRight" fmla="*/ 153720 w 196920"/>
                  <a:gd name="textAreaTop" fmla="*/ 33480 h 153000"/>
                  <a:gd name="textAreaBottom" fmla="*/ 119520 h 15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5589720" y="14059080"/>
              <a:ext cx="360360" cy="542520"/>
              <a:chOff x="5589720" y="14059080"/>
              <a:chExt cx="360360" cy="542520"/>
            </a:xfrm>
          </p:grpSpPr>
          <p:sp>
            <p:nvSpPr>
              <p:cNvPr id="160" name=""/>
              <p:cNvSpPr/>
              <p:nvPr/>
            </p:nvSpPr>
            <p:spPr>
              <a:xfrm flipV="1" rot="5400000">
                <a:off x="5625720" y="14022720"/>
                <a:ext cx="28800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 rot="5400000">
                <a:off x="5671800" y="14421960"/>
                <a:ext cx="180000" cy="179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V="1">
                <a:off x="5656320" y="14081400"/>
                <a:ext cx="196920" cy="152640"/>
              </a:xfrm>
              <a:custGeom>
                <a:avLst/>
                <a:gdLst>
                  <a:gd name="textAreaLeft" fmla="*/ 43200 w 196920"/>
                  <a:gd name="textAreaRight" fmla="*/ 153720 w 196920"/>
                  <a:gd name="textAreaTop" fmla="*/ 33480 h 152640"/>
                  <a:gd name="textAreaBottom" fmla="*/ 119160 h 15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5972040" y="14057280"/>
              <a:ext cx="360360" cy="542520"/>
              <a:chOff x="5972040" y="14057280"/>
              <a:chExt cx="360360" cy="542520"/>
            </a:xfrm>
          </p:grpSpPr>
          <p:sp>
            <p:nvSpPr>
              <p:cNvPr id="164" name=""/>
              <p:cNvSpPr/>
              <p:nvPr/>
            </p:nvSpPr>
            <p:spPr>
              <a:xfrm flipV="1" rot="5400000">
                <a:off x="6008040" y="14020920"/>
                <a:ext cx="28800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V="1" rot="5400000">
                <a:off x="6054120" y="14420160"/>
                <a:ext cx="180000" cy="179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6038640" y="14079600"/>
                <a:ext cx="196920" cy="152640"/>
              </a:xfrm>
              <a:custGeom>
                <a:avLst/>
                <a:gdLst>
                  <a:gd name="textAreaLeft" fmla="*/ 43200 w 196920"/>
                  <a:gd name="textAreaRight" fmla="*/ 153720 w 196920"/>
                  <a:gd name="textAreaTop" fmla="*/ 33480 h 152640"/>
                  <a:gd name="textAreaBottom" fmla="*/ 119160 h 15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6351480" y="14059080"/>
              <a:ext cx="360360" cy="542520"/>
              <a:chOff x="6351480" y="14059080"/>
              <a:chExt cx="360360" cy="542520"/>
            </a:xfrm>
          </p:grpSpPr>
          <p:sp>
            <p:nvSpPr>
              <p:cNvPr id="168" name=""/>
              <p:cNvSpPr/>
              <p:nvPr/>
            </p:nvSpPr>
            <p:spPr>
              <a:xfrm flipV="1" rot="5400000">
                <a:off x="6387480" y="14022720"/>
                <a:ext cx="28800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 rot="5400000">
                <a:off x="6433560" y="14421960"/>
                <a:ext cx="180000" cy="179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V="1">
                <a:off x="6418080" y="14081400"/>
                <a:ext cx="196920" cy="152640"/>
              </a:xfrm>
              <a:custGeom>
                <a:avLst/>
                <a:gdLst>
                  <a:gd name="textAreaLeft" fmla="*/ 43200 w 196920"/>
                  <a:gd name="textAreaRight" fmla="*/ 153720 w 196920"/>
                  <a:gd name="textAreaTop" fmla="*/ 33480 h 152640"/>
                  <a:gd name="textAreaBottom" fmla="*/ 119160 h 15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5595840" y="13496760"/>
              <a:ext cx="360360" cy="544320"/>
              <a:chOff x="5595840" y="13496760"/>
              <a:chExt cx="360360" cy="544320"/>
            </a:xfrm>
          </p:grpSpPr>
          <p:sp>
            <p:nvSpPr>
              <p:cNvPr id="172" name=""/>
              <p:cNvSpPr/>
              <p:nvPr/>
            </p:nvSpPr>
            <p:spPr>
              <a:xfrm rot="16200000">
                <a:off x="5631480" y="13716360"/>
                <a:ext cx="28872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16200000">
                <a:off x="5677560" y="13497120"/>
                <a:ext cx="180360" cy="179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662440" y="13866120"/>
                <a:ext cx="196920" cy="153000"/>
              </a:xfrm>
              <a:custGeom>
                <a:avLst/>
                <a:gdLst>
                  <a:gd name="textAreaLeft" fmla="*/ 43200 w 196920"/>
                  <a:gd name="textAreaRight" fmla="*/ 153720 w 196920"/>
                  <a:gd name="textAreaTop" fmla="*/ 33480 h 153000"/>
                  <a:gd name="textAreaBottom" fmla="*/ 119520 h 15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5978520" y="13495320"/>
              <a:ext cx="360360" cy="544320"/>
              <a:chOff x="5978520" y="13495320"/>
              <a:chExt cx="360360" cy="544320"/>
            </a:xfrm>
          </p:grpSpPr>
          <p:sp>
            <p:nvSpPr>
              <p:cNvPr id="176" name=""/>
              <p:cNvSpPr/>
              <p:nvPr/>
            </p:nvSpPr>
            <p:spPr>
              <a:xfrm rot="16200000">
                <a:off x="6014160" y="13714920"/>
                <a:ext cx="28872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16200000">
                <a:off x="6060240" y="13495680"/>
                <a:ext cx="180360" cy="179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045120" y="13864680"/>
                <a:ext cx="196920" cy="153000"/>
              </a:xfrm>
              <a:custGeom>
                <a:avLst/>
                <a:gdLst>
                  <a:gd name="textAreaLeft" fmla="*/ 43200 w 196920"/>
                  <a:gd name="textAreaRight" fmla="*/ 153720 w 196920"/>
                  <a:gd name="textAreaTop" fmla="*/ 33480 h 153000"/>
                  <a:gd name="textAreaBottom" fmla="*/ 119520 h 15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6357960" y="13496760"/>
              <a:ext cx="360360" cy="544320"/>
              <a:chOff x="6357960" y="13496760"/>
              <a:chExt cx="360360" cy="544320"/>
            </a:xfrm>
          </p:grpSpPr>
          <p:sp>
            <p:nvSpPr>
              <p:cNvPr id="180" name=""/>
              <p:cNvSpPr/>
              <p:nvPr/>
            </p:nvSpPr>
            <p:spPr>
              <a:xfrm rot="16200000">
                <a:off x="6393600" y="13716360"/>
                <a:ext cx="28872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16200000">
                <a:off x="6439680" y="13497120"/>
                <a:ext cx="180360" cy="179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424560" y="13866120"/>
                <a:ext cx="196920" cy="153000"/>
              </a:xfrm>
              <a:custGeom>
                <a:avLst/>
                <a:gdLst>
                  <a:gd name="textAreaLeft" fmla="*/ 43200 w 196920"/>
                  <a:gd name="textAreaRight" fmla="*/ 153720 w 196920"/>
                  <a:gd name="textAreaTop" fmla="*/ 33480 h 153000"/>
                  <a:gd name="textAreaBottom" fmla="*/ 119520 h 15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5595840" y="12936600"/>
              <a:ext cx="360360" cy="542520"/>
              <a:chOff x="5595840" y="12936600"/>
              <a:chExt cx="360360" cy="542520"/>
            </a:xfrm>
          </p:grpSpPr>
          <p:sp>
            <p:nvSpPr>
              <p:cNvPr id="184" name=""/>
              <p:cNvSpPr/>
              <p:nvPr/>
            </p:nvSpPr>
            <p:spPr>
              <a:xfrm flipV="1" rot="5400000">
                <a:off x="5631840" y="12900240"/>
                <a:ext cx="28800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V="1" rot="5400000">
                <a:off x="5677920" y="13299480"/>
                <a:ext cx="180000" cy="179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V="1">
                <a:off x="5662440" y="12958920"/>
                <a:ext cx="196920" cy="152640"/>
              </a:xfrm>
              <a:custGeom>
                <a:avLst/>
                <a:gdLst>
                  <a:gd name="textAreaLeft" fmla="*/ 43200 w 196920"/>
                  <a:gd name="textAreaRight" fmla="*/ 153720 w 196920"/>
                  <a:gd name="textAreaTop" fmla="*/ 33480 h 152640"/>
                  <a:gd name="textAreaBottom" fmla="*/ 119160 h 15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978520" y="12934800"/>
              <a:ext cx="360360" cy="542880"/>
              <a:chOff x="5978520" y="12934800"/>
              <a:chExt cx="360360" cy="542880"/>
            </a:xfrm>
          </p:grpSpPr>
          <p:sp>
            <p:nvSpPr>
              <p:cNvPr id="188" name=""/>
              <p:cNvSpPr/>
              <p:nvPr/>
            </p:nvSpPr>
            <p:spPr>
              <a:xfrm flipV="1" rot="5400000">
                <a:off x="6014520" y="12898440"/>
                <a:ext cx="28800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V="1" rot="5400000">
                <a:off x="6060600" y="13298040"/>
                <a:ext cx="180000" cy="179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V="1">
                <a:off x="6045120" y="12957120"/>
                <a:ext cx="196920" cy="152640"/>
              </a:xfrm>
              <a:custGeom>
                <a:avLst/>
                <a:gdLst>
                  <a:gd name="textAreaLeft" fmla="*/ 43200 w 196920"/>
                  <a:gd name="textAreaRight" fmla="*/ 153720 w 196920"/>
                  <a:gd name="textAreaTop" fmla="*/ 33480 h 152640"/>
                  <a:gd name="textAreaBottom" fmla="*/ 119160 h 15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6357960" y="12936600"/>
              <a:ext cx="360360" cy="542520"/>
              <a:chOff x="6357960" y="12936600"/>
              <a:chExt cx="360360" cy="542520"/>
            </a:xfrm>
          </p:grpSpPr>
          <p:sp>
            <p:nvSpPr>
              <p:cNvPr id="192" name=""/>
              <p:cNvSpPr/>
              <p:nvPr/>
            </p:nvSpPr>
            <p:spPr>
              <a:xfrm flipV="1" rot="5400000">
                <a:off x="6393960" y="12900240"/>
                <a:ext cx="28800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 rot="5400000">
                <a:off x="6440040" y="13299480"/>
                <a:ext cx="180000" cy="179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V="1">
                <a:off x="6424560" y="12958920"/>
                <a:ext cx="196920" cy="152640"/>
              </a:xfrm>
              <a:custGeom>
                <a:avLst/>
                <a:gdLst>
                  <a:gd name="textAreaLeft" fmla="*/ 43200 w 196920"/>
                  <a:gd name="textAreaRight" fmla="*/ 153720 w 196920"/>
                  <a:gd name="textAreaTop" fmla="*/ 33480 h 152640"/>
                  <a:gd name="textAreaBottom" fmla="*/ 119160 h 15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5595840" y="12375000"/>
              <a:ext cx="360360" cy="543960"/>
              <a:chOff x="5595840" y="12375000"/>
              <a:chExt cx="360360" cy="543960"/>
            </a:xfrm>
          </p:grpSpPr>
          <p:sp>
            <p:nvSpPr>
              <p:cNvPr id="196" name=""/>
              <p:cNvSpPr/>
              <p:nvPr/>
            </p:nvSpPr>
            <p:spPr>
              <a:xfrm rot="16200000">
                <a:off x="5631480" y="12594240"/>
                <a:ext cx="28872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16200000">
                <a:off x="5677560" y="12375360"/>
                <a:ext cx="180360" cy="179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662440" y="12744000"/>
                <a:ext cx="196920" cy="153000"/>
              </a:xfrm>
              <a:custGeom>
                <a:avLst/>
                <a:gdLst>
                  <a:gd name="textAreaLeft" fmla="*/ 43200 w 196920"/>
                  <a:gd name="textAreaRight" fmla="*/ 153720 w 196920"/>
                  <a:gd name="textAreaTop" fmla="*/ 33480 h 153000"/>
                  <a:gd name="textAreaBottom" fmla="*/ 119520 h 15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5978520" y="12372840"/>
              <a:ext cx="360360" cy="544320"/>
              <a:chOff x="5978520" y="12372840"/>
              <a:chExt cx="360360" cy="544320"/>
            </a:xfrm>
          </p:grpSpPr>
          <p:sp>
            <p:nvSpPr>
              <p:cNvPr id="200" name=""/>
              <p:cNvSpPr/>
              <p:nvPr/>
            </p:nvSpPr>
            <p:spPr>
              <a:xfrm rot="16200000">
                <a:off x="6014160" y="12592440"/>
                <a:ext cx="28872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rot="16200000">
                <a:off x="6060240" y="12373200"/>
                <a:ext cx="180360" cy="179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045120" y="12742200"/>
                <a:ext cx="196920" cy="153000"/>
              </a:xfrm>
              <a:custGeom>
                <a:avLst/>
                <a:gdLst>
                  <a:gd name="textAreaLeft" fmla="*/ 43200 w 196920"/>
                  <a:gd name="textAreaRight" fmla="*/ 153720 w 196920"/>
                  <a:gd name="textAreaTop" fmla="*/ 33480 h 153000"/>
                  <a:gd name="textAreaBottom" fmla="*/ 119520 h 15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6357960" y="12375000"/>
              <a:ext cx="360360" cy="543960"/>
              <a:chOff x="6357960" y="12375000"/>
              <a:chExt cx="360360" cy="543960"/>
            </a:xfrm>
          </p:grpSpPr>
          <p:sp>
            <p:nvSpPr>
              <p:cNvPr id="204" name=""/>
              <p:cNvSpPr/>
              <p:nvPr/>
            </p:nvSpPr>
            <p:spPr>
              <a:xfrm rot="16200000">
                <a:off x="6393600" y="12594240"/>
                <a:ext cx="28872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16200000">
                <a:off x="6439680" y="12375360"/>
                <a:ext cx="180360" cy="179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424560" y="12744000"/>
                <a:ext cx="196920" cy="153000"/>
              </a:xfrm>
              <a:custGeom>
                <a:avLst/>
                <a:gdLst>
                  <a:gd name="textAreaLeft" fmla="*/ 43200 w 196920"/>
                  <a:gd name="textAreaRight" fmla="*/ 153720 w 196920"/>
                  <a:gd name="textAreaTop" fmla="*/ 33480 h 153000"/>
                  <a:gd name="textAreaBottom" fmla="*/ 119520 h 15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 flipV="1" rot="5400000">
              <a:off x="5632200" y="11709360"/>
              <a:ext cx="28728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 rot="5400000">
              <a:off x="5678280" y="12108240"/>
              <a:ext cx="179640" cy="179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5662440" y="11765880"/>
              <a:ext cx="196920" cy="152280"/>
            </a:xfrm>
            <a:custGeom>
              <a:avLst/>
              <a:gdLst>
                <a:gd name="textAreaLeft" fmla="*/ 43200 w 196920"/>
                <a:gd name="textAreaRight" fmla="*/ 153720 w 196920"/>
                <a:gd name="textAreaTop" fmla="*/ 33480 h 152280"/>
                <a:gd name="textAreaBottom" fmla="*/ 11880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 rot="5400000">
              <a:off x="6013440" y="11709360"/>
              <a:ext cx="28728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 rot="5400000">
              <a:off x="6059160" y="12108240"/>
              <a:ext cx="179640" cy="179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6043680" y="11765880"/>
              <a:ext cx="196920" cy="152280"/>
            </a:xfrm>
            <a:custGeom>
              <a:avLst/>
              <a:gdLst>
                <a:gd name="textAreaLeft" fmla="*/ 43200 w 196920"/>
                <a:gd name="textAreaRight" fmla="*/ 153720 w 196920"/>
                <a:gd name="textAreaTop" fmla="*/ 33480 h 152280"/>
                <a:gd name="textAreaBottom" fmla="*/ 11880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16200000">
              <a:off x="5618880" y="11081160"/>
              <a:ext cx="28908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 rot="5400000">
              <a:off x="5665680" y="11480400"/>
              <a:ext cx="179280" cy="17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5649840" y="11137320"/>
              <a:ext cx="196920" cy="152280"/>
            </a:xfrm>
            <a:custGeom>
              <a:avLst/>
              <a:gdLst>
                <a:gd name="textAreaLeft" fmla="*/ 43200 w 196920"/>
                <a:gd name="textAreaRight" fmla="*/ 153720 w 196920"/>
                <a:gd name="textAreaTop" fmla="*/ 33480 h 152280"/>
                <a:gd name="textAreaBottom" fmla="*/ 11880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rot="16200000">
              <a:off x="5999760" y="11081160"/>
              <a:ext cx="28908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 rot="5400000">
              <a:off x="6046920" y="11480760"/>
              <a:ext cx="179280" cy="179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6031080" y="11137320"/>
              <a:ext cx="196560" cy="152280"/>
            </a:xfrm>
            <a:custGeom>
              <a:avLst/>
              <a:gdLst>
                <a:gd name="textAreaLeft" fmla="*/ 43200 w 196560"/>
                <a:gd name="textAreaRight" fmla="*/ 153360 w 196560"/>
                <a:gd name="textAreaTop" fmla="*/ 33480 h 152280"/>
                <a:gd name="textAreaBottom" fmla="*/ 11880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rot="16200000">
              <a:off x="6396840" y="11092320"/>
              <a:ext cx="28908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 rot="5400000">
              <a:off x="6443640" y="11491920"/>
              <a:ext cx="179280" cy="179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6427800" y="11148840"/>
              <a:ext cx="196920" cy="152640"/>
            </a:xfrm>
            <a:custGeom>
              <a:avLst/>
              <a:gdLst>
                <a:gd name="textAreaLeft" fmla="*/ 43200 w 196920"/>
                <a:gd name="textAreaRight" fmla="*/ 153720 w 196920"/>
                <a:gd name="textAreaTop" fmla="*/ 33480 h 152640"/>
                <a:gd name="textAreaBottom" fmla="*/ 119160 h 15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 rot="5400000">
              <a:off x="6389640" y="11700360"/>
              <a:ext cx="28764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 rot="5400000">
              <a:off x="6435360" y="12100320"/>
              <a:ext cx="179640" cy="179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6419880" y="11757960"/>
              <a:ext cx="196920" cy="152280"/>
            </a:xfrm>
            <a:custGeom>
              <a:avLst/>
              <a:gdLst>
                <a:gd name="textAreaLeft" fmla="*/ 43200 w 196920"/>
                <a:gd name="textAreaRight" fmla="*/ 153720 w 196920"/>
                <a:gd name="textAreaTop" fmla="*/ 33480 h 152280"/>
                <a:gd name="textAreaBottom" fmla="*/ 11880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rot="10800000">
              <a:off x="3206520" y="7856280"/>
              <a:ext cx="190440" cy="53964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6" name=""/>
            <p:cNvGrpSpPr/>
            <p:nvPr/>
          </p:nvGrpSpPr>
          <p:grpSpPr>
            <a:xfrm>
              <a:off x="3877920" y="9447120"/>
              <a:ext cx="360360" cy="541440"/>
              <a:chOff x="3877920" y="9447120"/>
              <a:chExt cx="360360" cy="541440"/>
            </a:xfrm>
          </p:grpSpPr>
          <p:sp>
            <p:nvSpPr>
              <p:cNvPr id="227" name=""/>
              <p:cNvSpPr/>
              <p:nvPr/>
            </p:nvSpPr>
            <p:spPr>
              <a:xfrm rot="5400000">
                <a:off x="3914280" y="9410400"/>
                <a:ext cx="28728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5400000">
                <a:off x="3976200" y="9808920"/>
                <a:ext cx="179640" cy="179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10800000">
                <a:off x="3974760" y="9469080"/>
                <a:ext cx="196920" cy="152280"/>
              </a:xfrm>
              <a:custGeom>
                <a:avLst/>
                <a:gdLst>
                  <a:gd name="textAreaLeft" fmla="*/ 43200 w 196920"/>
                  <a:gd name="textAreaRight" fmla="*/ 153720 w 196920"/>
                  <a:gd name="textAreaTop" fmla="*/ 33480 h 152280"/>
                  <a:gd name="textAreaBottom" fmla="*/ 118800 h 15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3179520" y="8632800"/>
              <a:ext cx="695160" cy="361800"/>
              <a:chOff x="3179520" y="8632800"/>
              <a:chExt cx="695160" cy="361800"/>
            </a:xfrm>
          </p:grpSpPr>
          <p:sp>
            <p:nvSpPr>
              <p:cNvPr id="231" name=""/>
              <p:cNvSpPr/>
              <p:nvPr/>
            </p:nvSpPr>
            <p:spPr>
              <a:xfrm flipH="1" flipV="1" rot="16200000">
                <a:off x="3345840" y="8465760"/>
                <a:ext cx="361800" cy="695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 flipV="1" rot="10800000">
                <a:off x="3206520" y="8735760"/>
                <a:ext cx="196920" cy="152280"/>
              </a:xfrm>
              <a:custGeom>
                <a:avLst/>
                <a:gdLst>
                  <a:gd name="textAreaLeft" fmla="*/ 43200 w 196920"/>
                  <a:gd name="textAreaRight" fmla="*/ 153720 w 196920"/>
                  <a:gd name="textAreaTop" fmla="*/ 33480 h 152280"/>
                  <a:gd name="textAreaBottom" fmla="*/ 118800 h 15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 flipV="1">
                <a:off x="3580920" y="8665920"/>
                <a:ext cx="228600" cy="3175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3916440" y="8639280"/>
              <a:ext cx="695160" cy="361800"/>
              <a:chOff x="3916440" y="8639280"/>
              <a:chExt cx="695160" cy="361800"/>
            </a:xfrm>
          </p:grpSpPr>
          <p:sp>
            <p:nvSpPr>
              <p:cNvPr id="235" name=""/>
              <p:cNvSpPr/>
              <p:nvPr/>
            </p:nvSpPr>
            <p:spPr>
              <a:xfrm flipV="1" rot="5400000">
                <a:off x="4083120" y="8472240"/>
                <a:ext cx="361800" cy="695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 rot="10800000">
                <a:off x="4387320" y="8742240"/>
                <a:ext cx="196920" cy="152280"/>
              </a:xfrm>
              <a:custGeom>
                <a:avLst/>
                <a:gdLst>
                  <a:gd name="textAreaLeft" fmla="*/ 43200 w 196920"/>
                  <a:gd name="textAreaRight" fmla="*/ 153720 w 196920"/>
                  <a:gd name="textAreaTop" fmla="*/ 33480 h 152280"/>
                  <a:gd name="textAreaBottom" fmla="*/ 118800 h 15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V="1">
                <a:off x="3981240" y="8672400"/>
                <a:ext cx="228600" cy="3175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 rot="10800000">
              <a:off x="4368600" y="7856280"/>
              <a:ext cx="190440" cy="53964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rot="10800000">
              <a:off x="5358960" y="7856280"/>
              <a:ext cx="190440" cy="53964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5332680" y="8632800"/>
              <a:ext cx="695160" cy="361800"/>
              <a:chOff x="5332680" y="8632800"/>
              <a:chExt cx="695160" cy="361800"/>
            </a:xfrm>
          </p:grpSpPr>
          <p:sp>
            <p:nvSpPr>
              <p:cNvPr id="241" name=""/>
              <p:cNvSpPr/>
              <p:nvPr/>
            </p:nvSpPr>
            <p:spPr>
              <a:xfrm flipH="1" flipV="1" rot="16200000">
                <a:off x="5499000" y="8465760"/>
                <a:ext cx="361800" cy="695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 flipV="1" rot="10800000">
                <a:off x="5359680" y="8735760"/>
                <a:ext cx="196920" cy="152280"/>
              </a:xfrm>
              <a:custGeom>
                <a:avLst/>
                <a:gdLst>
                  <a:gd name="textAreaLeft" fmla="*/ 43200 w 196920"/>
                  <a:gd name="textAreaRight" fmla="*/ 153720 w 196920"/>
                  <a:gd name="textAreaTop" fmla="*/ 33480 h 152280"/>
                  <a:gd name="textAreaBottom" fmla="*/ 118800 h 15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 flipV="1">
                <a:off x="5734080" y="8665920"/>
                <a:ext cx="228600" cy="3175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6068880" y="8639280"/>
              <a:ext cx="695160" cy="361800"/>
              <a:chOff x="6068880" y="8639280"/>
              <a:chExt cx="695160" cy="361800"/>
            </a:xfrm>
          </p:grpSpPr>
          <p:sp>
            <p:nvSpPr>
              <p:cNvPr id="245" name=""/>
              <p:cNvSpPr/>
              <p:nvPr/>
            </p:nvSpPr>
            <p:spPr>
              <a:xfrm flipV="1" rot="5400000">
                <a:off x="6235560" y="8472240"/>
                <a:ext cx="361800" cy="695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V="1" rot="10800000">
                <a:off x="6539760" y="8742240"/>
                <a:ext cx="196920" cy="152280"/>
              </a:xfrm>
              <a:custGeom>
                <a:avLst/>
                <a:gdLst>
                  <a:gd name="textAreaLeft" fmla="*/ 43200 w 196920"/>
                  <a:gd name="textAreaRight" fmla="*/ 153720 w 196920"/>
                  <a:gd name="textAreaTop" fmla="*/ 33480 h 152280"/>
                  <a:gd name="textAreaBottom" fmla="*/ 118800 h 15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V="1">
                <a:off x="6133680" y="8672400"/>
                <a:ext cx="228600" cy="3175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 rot="10800000">
              <a:off x="6521040" y="7799040"/>
              <a:ext cx="190440" cy="53964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rot="16200000">
              <a:off x="5348160" y="5454000"/>
              <a:ext cx="190440" cy="5400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3171600" y="5446800"/>
              <a:ext cx="360360" cy="540720"/>
              <a:chOff x="3171600" y="5446800"/>
              <a:chExt cx="360360" cy="540720"/>
            </a:xfrm>
          </p:grpSpPr>
          <p:sp>
            <p:nvSpPr>
              <p:cNvPr id="251" name=""/>
              <p:cNvSpPr/>
              <p:nvPr/>
            </p:nvSpPr>
            <p:spPr>
              <a:xfrm rot="5400000">
                <a:off x="3208320" y="5410080"/>
                <a:ext cx="28692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5400000">
                <a:off x="3269880" y="5807880"/>
                <a:ext cx="179280" cy="179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10800000">
                <a:off x="3268440" y="5468760"/>
                <a:ext cx="196920" cy="151920"/>
              </a:xfrm>
              <a:custGeom>
                <a:avLst/>
                <a:gdLst>
                  <a:gd name="textAreaLeft" fmla="*/ 43200 w 196920"/>
                  <a:gd name="textAreaRight" fmla="*/ 153720 w 196920"/>
                  <a:gd name="textAreaTop" fmla="*/ 33480 h 151920"/>
                  <a:gd name="textAreaBottom" fmla="*/ 118440 h 151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4541400" y="5601960"/>
              <a:ext cx="361800" cy="695160"/>
              <a:chOff x="4541400" y="5601960"/>
              <a:chExt cx="361800" cy="695160"/>
            </a:xfrm>
          </p:grpSpPr>
          <p:sp>
            <p:nvSpPr>
              <p:cNvPr id="255" name=""/>
              <p:cNvSpPr/>
              <p:nvPr/>
            </p:nvSpPr>
            <p:spPr>
              <a:xfrm flipH="1" flipV="1">
                <a:off x="4541040" y="5601600"/>
                <a:ext cx="361800" cy="695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 flipV="1" rot="16200000">
                <a:off x="4624920" y="5651280"/>
                <a:ext cx="196920" cy="152280"/>
              </a:xfrm>
              <a:custGeom>
                <a:avLst/>
                <a:gdLst>
                  <a:gd name="textAreaLeft" fmla="*/ 43200 w 196920"/>
                  <a:gd name="textAreaRight" fmla="*/ 153720 w 196920"/>
                  <a:gd name="textAreaTop" fmla="*/ 33480 h 152280"/>
                  <a:gd name="textAreaBottom" fmla="*/ 118800 h 15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 flipV="1" rot="5400000">
                <a:off x="4596840" y="5958720"/>
                <a:ext cx="228600" cy="3175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4554000" y="6338880"/>
              <a:ext cx="361800" cy="695160"/>
              <a:chOff x="4554000" y="6338880"/>
              <a:chExt cx="361800" cy="695160"/>
            </a:xfrm>
          </p:grpSpPr>
          <p:sp>
            <p:nvSpPr>
              <p:cNvPr id="259" name=""/>
              <p:cNvSpPr/>
              <p:nvPr/>
            </p:nvSpPr>
            <p:spPr>
              <a:xfrm flipV="1" rot="10800000">
                <a:off x="4554000" y="6338520"/>
                <a:ext cx="361800" cy="695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V="1" rot="16200000">
                <a:off x="4637880" y="6831720"/>
                <a:ext cx="196920" cy="152280"/>
              </a:xfrm>
              <a:custGeom>
                <a:avLst/>
                <a:gdLst>
                  <a:gd name="textAreaLeft" fmla="*/ 43200 w 196920"/>
                  <a:gd name="textAreaRight" fmla="*/ 153720 w 196920"/>
                  <a:gd name="textAreaTop" fmla="*/ 33480 h 152280"/>
                  <a:gd name="textAreaBottom" fmla="*/ 118800 h 15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 rot="5400000">
                <a:off x="4609440" y="6358680"/>
                <a:ext cx="228600" cy="3175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 rot="16200000">
              <a:off x="5348160" y="6616080"/>
              <a:ext cx="190440" cy="5400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7011720" y="5908320"/>
              <a:ext cx="361800" cy="695160"/>
              <a:chOff x="7011720" y="5908320"/>
              <a:chExt cx="361800" cy="695160"/>
            </a:xfrm>
          </p:grpSpPr>
          <p:sp>
            <p:nvSpPr>
              <p:cNvPr id="264" name=""/>
              <p:cNvSpPr/>
              <p:nvPr/>
            </p:nvSpPr>
            <p:spPr>
              <a:xfrm flipH="1" flipV="1">
                <a:off x="7011360" y="5907960"/>
                <a:ext cx="361800" cy="695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 flipV="1" rot="16200000">
                <a:off x="7095240" y="5957640"/>
                <a:ext cx="196920" cy="152280"/>
              </a:xfrm>
              <a:custGeom>
                <a:avLst/>
                <a:gdLst>
                  <a:gd name="textAreaLeft" fmla="*/ 43200 w 196920"/>
                  <a:gd name="textAreaRight" fmla="*/ 153720 w 196920"/>
                  <a:gd name="textAreaTop" fmla="*/ 33480 h 152280"/>
                  <a:gd name="textAreaBottom" fmla="*/ 118800 h 15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 flipV="1" rot="5400000">
                <a:off x="7067160" y="6265080"/>
                <a:ext cx="228600" cy="3175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8097480" y="5908320"/>
              <a:ext cx="361800" cy="695160"/>
              <a:chOff x="8097480" y="5908320"/>
              <a:chExt cx="361800" cy="695160"/>
            </a:xfrm>
          </p:grpSpPr>
          <p:sp>
            <p:nvSpPr>
              <p:cNvPr id="268" name=""/>
              <p:cNvSpPr/>
              <p:nvPr/>
            </p:nvSpPr>
            <p:spPr>
              <a:xfrm flipH="1" flipV="1">
                <a:off x="8097120" y="5907960"/>
                <a:ext cx="361800" cy="695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 flipV="1" rot="16200000">
                <a:off x="8181000" y="5957640"/>
                <a:ext cx="196920" cy="152280"/>
              </a:xfrm>
              <a:custGeom>
                <a:avLst/>
                <a:gdLst>
                  <a:gd name="textAreaLeft" fmla="*/ 43200 w 196920"/>
                  <a:gd name="textAreaRight" fmla="*/ 153720 w 196920"/>
                  <a:gd name="textAreaTop" fmla="*/ 33480 h 152280"/>
                  <a:gd name="textAreaBottom" fmla="*/ 118800 h 15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H="1" flipV="1" rot="5400000">
                <a:off x="8152920" y="6265080"/>
                <a:ext cx="228600" cy="3175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9276840" y="6040440"/>
              <a:ext cx="360360" cy="541440"/>
              <a:chOff x="9276840" y="6040440"/>
              <a:chExt cx="360360" cy="541440"/>
            </a:xfrm>
          </p:grpSpPr>
          <p:sp>
            <p:nvSpPr>
              <p:cNvPr id="272" name=""/>
              <p:cNvSpPr/>
              <p:nvPr/>
            </p:nvSpPr>
            <p:spPr>
              <a:xfrm flipH="1" rot="5400000">
                <a:off x="9312840" y="6257880"/>
                <a:ext cx="28728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H="1" rot="5400000">
                <a:off x="9374760" y="6040440"/>
                <a:ext cx="179640" cy="179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>
                <a:off x="9373320" y="6407640"/>
                <a:ext cx="196920" cy="152280"/>
              </a:xfrm>
              <a:custGeom>
                <a:avLst/>
                <a:gdLst>
                  <a:gd name="textAreaLeft" fmla="*/ 43200 w 196920"/>
                  <a:gd name="textAreaRight" fmla="*/ 153720 w 196920"/>
                  <a:gd name="textAreaTop" fmla="*/ 33480 h 152280"/>
                  <a:gd name="textAreaBottom" fmla="*/ 118800 h 15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12049200" y="4971960"/>
              <a:ext cx="590400" cy="97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4030280" y="6153120"/>
              <a:ext cx="228600" cy="47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6200000">
              <a:off x="13797000" y="5736960"/>
              <a:ext cx="228600" cy="32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0800000">
              <a:off x="14204880" y="4262400"/>
              <a:ext cx="216000" cy="43200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7116560" y="6114960"/>
              <a:ext cx="228600" cy="47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6679880" y="5684760"/>
              <a:ext cx="2171520" cy="1162080"/>
            </a:xfrm>
            <a:custGeom>
              <a:avLst/>
              <a:gdLst/>
              <a:ahLst/>
              <a:rect l="l" t="t" r="r" b="b"/>
              <a:pathLst>
                <a:path w="1368" h="732">
                  <a:moveTo>
                    <a:pt x="1368" y="732"/>
                  </a:moveTo>
                  <a:cubicBezTo>
                    <a:pt x="1125" y="632"/>
                    <a:pt x="882" y="532"/>
                    <a:pt x="696" y="480"/>
                  </a:cubicBezTo>
                  <a:cubicBezTo>
                    <a:pt x="510" y="428"/>
                    <a:pt x="368" y="500"/>
                    <a:pt x="252" y="420"/>
                  </a:cubicBezTo>
                  <a:cubicBezTo>
                    <a:pt x="136" y="340"/>
                    <a:pt x="68" y="170"/>
                    <a:pt x="0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2468240" y="6153120"/>
              <a:ext cx="2057400" cy="876240"/>
            </a:xfrm>
            <a:custGeom>
              <a:avLst/>
              <a:gdLst/>
              <a:ahLst/>
              <a:rect l="l" t="t" r="r" b="b"/>
              <a:pathLst>
                <a:path w="1296" h="1488">
                  <a:moveTo>
                    <a:pt x="1296" y="0"/>
                  </a:moveTo>
                  <a:cubicBezTo>
                    <a:pt x="1112" y="124"/>
                    <a:pt x="928" y="248"/>
                    <a:pt x="840" y="420"/>
                  </a:cubicBezTo>
                  <a:cubicBezTo>
                    <a:pt x="752" y="592"/>
                    <a:pt x="810" y="866"/>
                    <a:pt x="768" y="1032"/>
                  </a:cubicBezTo>
                  <a:cubicBezTo>
                    <a:pt x="726" y="1198"/>
                    <a:pt x="716" y="1344"/>
                    <a:pt x="588" y="1416"/>
                  </a:cubicBezTo>
                  <a:cubicBezTo>
                    <a:pt x="460" y="1488"/>
                    <a:pt x="230" y="1476"/>
                    <a:pt x="0" y="1464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2" name=""/>
            <p:cNvGrpSpPr/>
            <p:nvPr/>
          </p:nvGrpSpPr>
          <p:grpSpPr>
            <a:xfrm>
              <a:off x="14255640" y="3564000"/>
              <a:ext cx="2237040" cy="360360"/>
              <a:chOff x="14255640" y="3564000"/>
              <a:chExt cx="2237040" cy="360360"/>
            </a:xfrm>
          </p:grpSpPr>
          <p:grpSp>
            <p:nvGrpSpPr>
              <p:cNvPr id="283" name=""/>
              <p:cNvGrpSpPr/>
              <p:nvPr/>
            </p:nvGrpSpPr>
            <p:grpSpPr>
              <a:xfrm>
                <a:off x="14255640" y="3564000"/>
                <a:ext cx="541440" cy="360360"/>
                <a:chOff x="14255640" y="3564000"/>
                <a:chExt cx="541440" cy="360360"/>
              </a:xfrm>
            </p:grpSpPr>
            <p:sp>
              <p:nvSpPr>
                <p:cNvPr id="284" name=""/>
                <p:cNvSpPr/>
                <p:nvPr/>
              </p:nvSpPr>
              <p:spPr>
                <a:xfrm flipH="1">
                  <a:off x="14509800" y="3564000"/>
                  <a:ext cx="287280" cy="3603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flipH="1">
                  <a:off x="14255280" y="3646440"/>
                  <a:ext cx="179640" cy="1796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H="1" rot="16200000">
                  <a:off x="14600160" y="3652920"/>
                  <a:ext cx="196920" cy="152280"/>
                </a:xfrm>
                <a:custGeom>
                  <a:avLst/>
                  <a:gdLst>
                    <a:gd name="textAreaLeft" fmla="*/ 43200 w 196920"/>
                    <a:gd name="textAreaRight" fmla="*/ 153720 w 196920"/>
                    <a:gd name="textAreaTop" fmla="*/ 33480 h 152280"/>
                    <a:gd name="textAreaBottom" fmla="*/ 118800 h 152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15951240" y="3564000"/>
                <a:ext cx="541440" cy="360360"/>
                <a:chOff x="15951240" y="3564000"/>
                <a:chExt cx="541440" cy="36036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15951240" y="3564000"/>
                  <a:ext cx="287280" cy="3603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16313040" y="3646440"/>
                  <a:ext cx="179640" cy="1796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 rot="5400000">
                  <a:off x="15950880" y="3652920"/>
                  <a:ext cx="196920" cy="152280"/>
                </a:xfrm>
                <a:custGeom>
                  <a:avLst/>
                  <a:gdLst>
                    <a:gd name="textAreaLeft" fmla="*/ 43200 w 196920"/>
                    <a:gd name="textAreaRight" fmla="*/ 153720 w 196920"/>
                    <a:gd name="textAreaTop" fmla="*/ 33480 h 152280"/>
                    <a:gd name="textAreaBottom" fmla="*/ 118800 h 152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15398640" y="3564000"/>
                <a:ext cx="541440" cy="360360"/>
                <a:chOff x="15398640" y="3564000"/>
                <a:chExt cx="541440" cy="360360"/>
              </a:xfrm>
            </p:grpSpPr>
            <p:sp>
              <p:nvSpPr>
                <p:cNvPr id="292" name=""/>
                <p:cNvSpPr/>
                <p:nvPr/>
              </p:nvSpPr>
              <p:spPr>
                <a:xfrm flipH="1">
                  <a:off x="15652800" y="3564000"/>
                  <a:ext cx="287280" cy="3603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 flipH="1">
                  <a:off x="15398280" y="3646440"/>
                  <a:ext cx="179640" cy="1796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 flipH="1" rot="16200000">
                  <a:off x="15743160" y="3652920"/>
                  <a:ext cx="196920" cy="152280"/>
                </a:xfrm>
                <a:custGeom>
                  <a:avLst/>
                  <a:gdLst>
                    <a:gd name="textAreaLeft" fmla="*/ 43200 w 196920"/>
                    <a:gd name="textAreaRight" fmla="*/ 153720 w 196920"/>
                    <a:gd name="textAreaTop" fmla="*/ 33480 h 152280"/>
                    <a:gd name="textAreaBottom" fmla="*/ 118800 h 152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95" name=""/>
            <p:cNvSpPr/>
            <p:nvPr/>
          </p:nvSpPr>
          <p:spPr>
            <a:xfrm>
              <a:off x="18360720" y="5192640"/>
              <a:ext cx="1009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ANTI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673360" y="4068720"/>
              <a:ext cx="76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ANIT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7243280" y="3537000"/>
              <a:ext cx="939960" cy="1854000"/>
            </a:xfrm>
            <a:custGeom>
              <a:avLst/>
              <a:gdLst/>
              <a:ahLst/>
              <a:rect l="l" t="t" r="r" b="b"/>
              <a:pathLst>
                <a:path w="592" h="1168">
                  <a:moveTo>
                    <a:pt x="444" y="4"/>
                  </a:moveTo>
                  <a:lnTo>
                    <a:pt x="444" y="1036"/>
                  </a:lnTo>
                  <a:lnTo>
                    <a:pt x="0" y="1036"/>
                  </a:lnTo>
                  <a:lnTo>
                    <a:pt x="0" y="1168"/>
                  </a:lnTo>
                  <a:lnTo>
                    <a:pt x="592" y="1168"/>
                  </a:lnTo>
                  <a:lnTo>
                    <a:pt x="592" y="0"/>
                  </a:lnTo>
                  <a:lnTo>
                    <a:pt x="444" y="4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1958840" y="6087960"/>
              <a:ext cx="68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H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3631480" y="12649320"/>
              <a:ext cx="287964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3631480" y="12839760"/>
              <a:ext cx="289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060320" y="12649320"/>
              <a:ext cx="0" cy="36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4317280" y="12649320"/>
              <a:ext cx="0" cy="36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5784280" y="12649320"/>
              <a:ext cx="0" cy="36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3551200" y="13028760"/>
              <a:ext cx="2529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6 ESTANTES C/ 7 PRATELEIRA, = 1344 PASTAS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3631480" y="11925360"/>
              <a:ext cx="287964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3631480" y="11182320"/>
              <a:ext cx="287964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3631480" y="10439280"/>
              <a:ext cx="287964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3631480" y="9696600"/>
              <a:ext cx="287964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3631480" y="8972640"/>
              <a:ext cx="287964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3631480" y="8210520"/>
              <a:ext cx="287964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3631480" y="7467480"/>
              <a:ext cx="287964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3631480" y="6724800"/>
              <a:ext cx="287964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3631480" y="5981760"/>
              <a:ext cx="287964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3641200" y="5238720"/>
              <a:ext cx="287964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695800" y="5700600"/>
              <a:ext cx="88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TRATAMEN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374240" y="6272280"/>
              <a:ext cx="734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2 SCANN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7" name=""/>
            <p:cNvGrpSpPr/>
            <p:nvPr/>
          </p:nvGrpSpPr>
          <p:grpSpPr>
            <a:xfrm>
              <a:off x="3693600" y="5460840"/>
              <a:ext cx="360360" cy="541440"/>
              <a:chOff x="3693600" y="5460840"/>
              <a:chExt cx="360360" cy="541440"/>
            </a:xfrm>
          </p:grpSpPr>
          <p:sp>
            <p:nvSpPr>
              <p:cNvPr id="318" name=""/>
              <p:cNvSpPr/>
              <p:nvPr/>
            </p:nvSpPr>
            <p:spPr>
              <a:xfrm rot="5400000">
                <a:off x="3729960" y="5424120"/>
                <a:ext cx="28728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5400000">
                <a:off x="3791880" y="5822640"/>
                <a:ext cx="179640" cy="179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0800000">
                <a:off x="3790440" y="5482800"/>
                <a:ext cx="196920" cy="152280"/>
              </a:xfrm>
              <a:custGeom>
                <a:avLst/>
                <a:gdLst>
                  <a:gd name="textAreaLeft" fmla="*/ 43200 w 196920"/>
                  <a:gd name="textAreaRight" fmla="*/ 153720 w 196920"/>
                  <a:gd name="textAreaTop" fmla="*/ 33480 h 152280"/>
                  <a:gd name="textAreaBottom" fmla="*/ 118800 h 15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3192120" y="9423360"/>
              <a:ext cx="360360" cy="541440"/>
              <a:chOff x="3192120" y="9423360"/>
              <a:chExt cx="360360" cy="541440"/>
            </a:xfrm>
          </p:grpSpPr>
          <p:sp>
            <p:nvSpPr>
              <p:cNvPr id="322" name=""/>
              <p:cNvSpPr/>
              <p:nvPr/>
            </p:nvSpPr>
            <p:spPr>
              <a:xfrm rot="5400000">
                <a:off x="3228480" y="9386640"/>
                <a:ext cx="28728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5400000">
                <a:off x="3290400" y="9785160"/>
                <a:ext cx="179640" cy="179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10800000">
                <a:off x="3288960" y="9445320"/>
                <a:ext cx="196920" cy="152280"/>
              </a:xfrm>
              <a:custGeom>
                <a:avLst/>
                <a:gdLst>
                  <a:gd name="textAreaLeft" fmla="*/ 43200 w 196920"/>
                  <a:gd name="textAreaRight" fmla="*/ 153720 w 196920"/>
                  <a:gd name="textAreaTop" fmla="*/ 33480 h 152280"/>
                  <a:gd name="textAreaBottom" fmla="*/ 118800 h 15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5" name=""/>
            <p:cNvSpPr/>
            <p:nvPr/>
          </p:nvSpPr>
          <p:spPr>
            <a:xfrm>
              <a:off x="23969520" y="12642840"/>
              <a:ext cx="0" cy="34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4690240" y="12657240"/>
              <a:ext cx="0" cy="34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5412760" y="12671280"/>
              <a:ext cx="0" cy="34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6149320" y="12671280"/>
              <a:ext cx="0" cy="34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3601600" y="5057640"/>
              <a:ext cx="1517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GRUPO 01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C/ 16 ESTANTES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16200000">
              <a:off x="22299480" y="9885240"/>
              <a:ext cx="2376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ARMAZENAMENTO -  13230 PAST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1" name=""/>
            <p:cNvGrpSpPr/>
            <p:nvPr/>
          </p:nvGrpSpPr>
          <p:grpSpPr>
            <a:xfrm>
              <a:off x="23915880" y="13687560"/>
              <a:ext cx="741240" cy="540720"/>
              <a:chOff x="23915880" y="13687560"/>
              <a:chExt cx="741240" cy="540720"/>
            </a:xfrm>
          </p:grpSpPr>
          <p:grpSp>
            <p:nvGrpSpPr>
              <p:cNvPr id="332" name=""/>
              <p:cNvGrpSpPr/>
              <p:nvPr/>
            </p:nvGrpSpPr>
            <p:grpSpPr>
              <a:xfrm>
                <a:off x="24296760" y="13687560"/>
                <a:ext cx="360360" cy="540720"/>
                <a:chOff x="24296760" y="13687560"/>
                <a:chExt cx="360360" cy="540720"/>
              </a:xfrm>
            </p:grpSpPr>
            <p:sp>
              <p:nvSpPr>
                <p:cNvPr id="333" name=""/>
                <p:cNvSpPr/>
                <p:nvPr/>
              </p:nvSpPr>
              <p:spPr>
                <a:xfrm rot="5400000">
                  <a:off x="24333480" y="13650840"/>
                  <a:ext cx="286920" cy="3603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 rot="5400000">
                  <a:off x="24395400" y="14049000"/>
                  <a:ext cx="179280" cy="179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 rot="10800000">
                  <a:off x="24393600" y="13709520"/>
                  <a:ext cx="196920" cy="151920"/>
                </a:xfrm>
                <a:custGeom>
                  <a:avLst/>
                  <a:gdLst>
                    <a:gd name="textAreaLeft" fmla="*/ 43200 w 196920"/>
                    <a:gd name="textAreaRight" fmla="*/ 153720 w 196920"/>
                    <a:gd name="textAreaTop" fmla="*/ 33480 h 151920"/>
                    <a:gd name="textAreaBottom" fmla="*/ 118440 h 151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160" bIns="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23915880" y="13687560"/>
                <a:ext cx="360360" cy="540720"/>
                <a:chOff x="23915880" y="13687560"/>
                <a:chExt cx="360360" cy="540720"/>
              </a:xfrm>
            </p:grpSpPr>
            <p:sp>
              <p:nvSpPr>
                <p:cNvPr id="337" name=""/>
                <p:cNvSpPr/>
                <p:nvPr/>
              </p:nvSpPr>
              <p:spPr>
                <a:xfrm rot="5400000">
                  <a:off x="23952600" y="13650840"/>
                  <a:ext cx="286920" cy="3603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rot="5400000">
                  <a:off x="24014520" y="14049000"/>
                  <a:ext cx="179280" cy="179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 rot="10800000">
                  <a:off x="24012720" y="13709520"/>
                  <a:ext cx="196920" cy="151920"/>
                </a:xfrm>
                <a:custGeom>
                  <a:avLst/>
                  <a:gdLst>
                    <a:gd name="textAreaLeft" fmla="*/ 43200 w 196920"/>
                    <a:gd name="textAreaRight" fmla="*/ 153720 w 196920"/>
                    <a:gd name="textAreaTop" fmla="*/ 33480 h 151920"/>
                    <a:gd name="textAreaBottom" fmla="*/ 118440 h 151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160" bIns="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0" name=""/>
            <p:cNvGrpSpPr/>
            <p:nvPr/>
          </p:nvGrpSpPr>
          <p:grpSpPr>
            <a:xfrm>
              <a:off x="22918680" y="14650920"/>
              <a:ext cx="541440" cy="741240"/>
              <a:chOff x="22918680" y="14650920"/>
              <a:chExt cx="541440" cy="741240"/>
            </a:xfrm>
          </p:grpSpPr>
          <p:grpSp>
            <p:nvGrpSpPr>
              <p:cNvPr id="341" name=""/>
              <p:cNvGrpSpPr/>
              <p:nvPr/>
            </p:nvGrpSpPr>
            <p:grpSpPr>
              <a:xfrm>
                <a:off x="22918680" y="14650920"/>
                <a:ext cx="541440" cy="360360"/>
                <a:chOff x="22918680" y="14650920"/>
                <a:chExt cx="541440" cy="36036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22918680" y="14650920"/>
                  <a:ext cx="287280" cy="3603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23280480" y="14733360"/>
                  <a:ext cx="179640" cy="179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rot="5400000">
                  <a:off x="22918320" y="14739840"/>
                  <a:ext cx="196920" cy="152280"/>
                </a:xfrm>
                <a:custGeom>
                  <a:avLst/>
                  <a:gdLst>
                    <a:gd name="textAreaLeft" fmla="*/ 43200 w 196920"/>
                    <a:gd name="textAreaRight" fmla="*/ 153720 w 196920"/>
                    <a:gd name="textAreaTop" fmla="*/ 33480 h 152280"/>
                    <a:gd name="textAreaBottom" fmla="*/ 118800 h 152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22918680" y="15031800"/>
                <a:ext cx="541440" cy="360360"/>
                <a:chOff x="22918680" y="15031800"/>
                <a:chExt cx="541440" cy="36036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22918680" y="15031800"/>
                  <a:ext cx="287280" cy="3603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23280480" y="15114240"/>
                  <a:ext cx="179640" cy="179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 rot="5400000">
                  <a:off x="22918320" y="15120720"/>
                  <a:ext cx="196920" cy="152280"/>
                </a:xfrm>
                <a:custGeom>
                  <a:avLst/>
                  <a:gdLst>
                    <a:gd name="textAreaLeft" fmla="*/ 43200 w 196920"/>
                    <a:gd name="textAreaRight" fmla="*/ 153720 w 196920"/>
                    <a:gd name="textAreaTop" fmla="*/ 33480 h 152280"/>
                    <a:gd name="textAreaBottom" fmla="*/ 118800 h 152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49" name=""/>
            <p:cNvSpPr/>
            <p:nvPr/>
          </p:nvSpPr>
          <p:spPr>
            <a:xfrm>
              <a:off x="21940920" y="12607920"/>
              <a:ext cx="568080" cy="608040"/>
            </a:xfrm>
            <a:custGeom>
              <a:avLst/>
              <a:gdLst>
                <a:gd name="textAreaLeft" fmla="*/ 0 w 568080"/>
                <a:gd name="textAreaRight" fmla="*/ 568440 w 56808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rot="16200000">
              <a:off x="21145320" y="14104800"/>
              <a:ext cx="18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ENTRADA  DE  MATERI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2931280" y="15573240"/>
              <a:ext cx="360360" cy="1796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3379120" y="15573240"/>
              <a:ext cx="360360" cy="1796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3" name=""/>
            <p:cNvGrpSpPr/>
            <p:nvPr/>
          </p:nvGrpSpPr>
          <p:grpSpPr>
            <a:xfrm>
              <a:off x="25515720" y="14925600"/>
              <a:ext cx="179280" cy="807840"/>
              <a:chOff x="25515720" y="14925600"/>
              <a:chExt cx="179280" cy="807840"/>
            </a:xfrm>
          </p:grpSpPr>
          <p:sp>
            <p:nvSpPr>
              <p:cNvPr id="354" name=""/>
              <p:cNvSpPr/>
              <p:nvPr/>
            </p:nvSpPr>
            <p:spPr>
              <a:xfrm rot="16200000">
                <a:off x="25425000" y="15463440"/>
                <a:ext cx="360360" cy="1792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rot="16200000">
                <a:off x="25425000" y="15015960"/>
                <a:ext cx="360360" cy="1792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22901400" y="13984200"/>
              <a:ext cx="880920" cy="1159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23766480" y="13579560"/>
              <a:ext cx="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3057640" y="14262120"/>
              <a:ext cx="752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RECEPÇÃ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23186160" y="7184880"/>
              <a:ext cx="304920" cy="352440"/>
            </a:xfrm>
            <a:custGeom>
              <a:avLst/>
              <a:gdLst>
                <a:gd name="textAreaLeft" fmla="*/ -360 w 304920"/>
                <a:gd name="textAreaRight" fmla="*/ 304920 w 30492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 flipV="1">
              <a:off x="23199840" y="6820920"/>
              <a:ext cx="304560" cy="352440"/>
            </a:xfrm>
            <a:custGeom>
              <a:avLst/>
              <a:gdLst>
                <a:gd name="textAreaLeft" fmla="*/ 360 w 304560"/>
                <a:gd name="textAreaRight" fmla="*/ 305280 w 304560"/>
                <a:gd name="textAreaTop" fmla="*/ -360 h 352440"/>
                <a:gd name="textAreaBottom" fmla="*/ 352440 h 35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3347440" y="3898800"/>
              <a:ext cx="867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DESCAR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rot="16200000">
              <a:off x="15977160" y="4935960"/>
              <a:ext cx="2158920" cy="17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5030720" y="5985000"/>
              <a:ext cx="1726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PREPARO DE MATERI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1957040" y="8142120"/>
              <a:ext cx="234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VIMENTO TÉRRE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4603400" y="5122800"/>
              <a:ext cx="735120" cy="27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6" name=""/>
            <p:cNvGrpSpPr/>
            <p:nvPr/>
          </p:nvGrpSpPr>
          <p:grpSpPr>
            <a:xfrm>
              <a:off x="15657480" y="5122800"/>
              <a:ext cx="718920" cy="292320"/>
              <a:chOff x="15657480" y="5122800"/>
              <a:chExt cx="718920" cy="292320"/>
            </a:xfrm>
          </p:grpSpPr>
          <p:sp>
            <p:nvSpPr>
              <p:cNvPr id="367" name=""/>
              <p:cNvSpPr/>
              <p:nvPr/>
            </p:nvSpPr>
            <p:spPr>
              <a:xfrm rot="5400000">
                <a:off x="16089120" y="5127840"/>
                <a:ext cx="287280" cy="28728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5657480" y="5122800"/>
                <a:ext cx="360360" cy="287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14466960" y="4249800"/>
              <a:ext cx="718920" cy="291600"/>
              <a:chOff x="14466960" y="4249800"/>
              <a:chExt cx="718920" cy="291600"/>
            </a:xfrm>
          </p:grpSpPr>
          <p:sp>
            <p:nvSpPr>
              <p:cNvPr id="370" name=""/>
              <p:cNvSpPr/>
              <p:nvPr/>
            </p:nvSpPr>
            <p:spPr>
              <a:xfrm rot="5400000">
                <a:off x="14898600" y="4254120"/>
                <a:ext cx="286920" cy="28728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4466960" y="4249800"/>
                <a:ext cx="360360" cy="287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15535440" y="4235400"/>
              <a:ext cx="718920" cy="292320"/>
              <a:chOff x="15535440" y="4235400"/>
              <a:chExt cx="718920" cy="292320"/>
            </a:xfrm>
          </p:grpSpPr>
          <p:sp>
            <p:nvSpPr>
              <p:cNvPr id="373" name=""/>
              <p:cNvSpPr/>
              <p:nvPr/>
            </p:nvSpPr>
            <p:spPr>
              <a:xfrm rot="5400000">
                <a:off x="15967080" y="4240440"/>
                <a:ext cx="287280" cy="28728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535440" y="4235400"/>
                <a:ext cx="360360" cy="287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15621480" y="5440320"/>
              <a:ext cx="1047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 SACA GRAMPO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rot="16200000">
              <a:off x="16663680" y="4530600"/>
              <a:ext cx="79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6 ESTAN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rot="16200000">
              <a:off x="4700160" y="6206760"/>
              <a:ext cx="734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2 SCANN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73960" y="8394840"/>
              <a:ext cx="734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2 SCANN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546720" y="8416800"/>
              <a:ext cx="734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2 SCANN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276360" y="5981760"/>
              <a:ext cx="88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TRATAMEN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350880" y="9202680"/>
              <a:ext cx="88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TRATAMEN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883320" y="10772640"/>
              <a:ext cx="802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SUPERVISO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475600" y="10718640"/>
              <a:ext cx="802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SUPERVISO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575160" y="7145280"/>
              <a:ext cx="802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SUPERVISO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5" name=""/>
            <p:cNvGrpSpPr/>
            <p:nvPr/>
          </p:nvGrpSpPr>
          <p:grpSpPr>
            <a:xfrm>
              <a:off x="3208320" y="3571560"/>
              <a:ext cx="3494160" cy="1731960"/>
              <a:chOff x="3208320" y="3571560"/>
              <a:chExt cx="3494160" cy="1731960"/>
            </a:xfrm>
          </p:grpSpPr>
          <p:sp>
            <p:nvSpPr>
              <p:cNvPr id="386" name=""/>
              <p:cNvSpPr/>
              <p:nvPr/>
            </p:nvSpPr>
            <p:spPr>
              <a:xfrm rot="10800000">
                <a:off x="3476520" y="4714560"/>
                <a:ext cx="28728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rot="10800000">
                <a:off x="3208320" y="4812840"/>
                <a:ext cx="179280" cy="179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rot="16200000">
                <a:off x="3568680" y="4835160"/>
                <a:ext cx="196920" cy="152280"/>
              </a:xfrm>
              <a:custGeom>
                <a:avLst/>
                <a:gdLst>
                  <a:gd name="textAreaLeft" fmla="*/ 43200 w 196920"/>
                  <a:gd name="textAreaRight" fmla="*/ 153720 w 196920"/>
                  <a:gd name="textAreaTop" fmla="*/ 33480 h 152280"/>
                  <a:gd name="textAreaBottom" fmla="*/ 118800 h 15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9" name=""/>
              <p:cNvGrpSpPr/>
              <p:nvPr/>
            </p:nvGrpSpPr>
            <p:grpSpPr>
              <a:xfrm>
                <a:off x="3208320" y="4333680"/>
                <a:ext cx="541440" cy="360360"/>
                <a:chOff x="3208320" y="4333680"/>
                <a:chExt cx="541440" cy="360360"/>
              </a:xfrm>
            </p:grpSpPr>
            <p:sp>
              <p:nvSpPr>
                <p:cNvPr id="390" name=""/>
                <p:cNvSpPr/>
                <p:nvPr/>
              </p:nvSpPr>
              <p:spPr>
                <a:xfrm rot="10800000">
                  <a:off x="3462480" y="4333680"/>
                  <a:ext cx="287280" cy="3603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 rot="10800000">
                  <a:off x="3208320" y="4432320"/>
                  <a:ext cx="179640" cy="179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 rot="16200000">
                  <a:off x="3553200" y="4452840"/>
                  <a:ext cx="196920" cy="152280"/>
                </a:xfrm>
                <a:custGeom>
                  <a:avLst/>
                  <a:gdLst>
                    <a:gd name="textAreaLeft" fmla="*/ 43200 w 196920"/>
                    <a:gd name="textAreaRight" fmla="*/ 153720 w 196920"/>
                    <a:gd name="textAreaTop" fmla="*/ 33480 h 152280"/>
                    <a:gd name="textAreaBottom" fmla="*/ 118800 h 152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"/>
              <p:cNvGrpSpPr/>
              <p:nvPr/>
            </p:nvGrpSpPr>
            <p:grpSpPr>
              <a:xfrm>
                <a:off x="3208320" y="3952440"/>
                <a:ext cx="541440" cy="360360"/>
                <a:chOff x="3208320" y="3952440"/>
                <a:chExt cx="541440" cy="360360"/>
              </a:xfrm>
            </p:grpSpPr>
            <p:sp>
              <p:nvSpPr>
                <p:cNvPr id="394" name=""/>
                <p:cNvSpPr/>
                <p:nvPr/>
              </p:nvSpPr>
              <p:spPr>
                <a:xfrm rot="10800000">
                  <a:off x="3462480" y="3952440"/>
                  <a:ext cx="287280" cy="3603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 rot="10800000">
                  <a:off x="3208320" y="4051080"/>
                  <a:ext cx="179640" cy="179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 rot="16200000">
                  <a:off x="3553200" y="4071600"/>
                  <a:ext cx="196920" cy="152280"/>
                </a:xfrm>
                <a:custGeom>
                  <a:avLst/>
                  <a:gdLst>
                    <a:gd name="textAreaLeft" fmla="*/ 43200 w 196920"/>
                    <a:gd name="textAreaRight" fmla="*/ 153720 w 196920"/>
                    <a:gd name="textAreaTop" fmla="*/ 33480 h 152280"/>
                    <a:gd name="textAreaBottom" fmla="*/ 118800 h 152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7" name=""/>
              <p:cNvGrpSpPr/>
              <p:nvPr/>
            </p:nvGrpSpPr>
            <p:grpSpPr>
              <a:xfrm>
                <a:off x="3781440" y="4721040"/>
                <a:ext cx="541440" cy="360360"/>
                <a:chOff x="3781440" y="4721040"/>
                <a:chExt cx="541440" cy="360360"/>
              </a:xfrm>
            </p:grpSpPr>
            <p:sp>
              <p:nvSpPr>
                <p:cNvPr id="398" name=""/>
                <p:cNvSpPr/>
                <p:nvPr/>
              </p:nvSpPr>
              <p:spPr>
                <a:xfrm flipH="1" rot="10800000">
                  <a:off x="3781440" y="4721040"/>
                  <a:ext cx="287280" cy="3603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 flipH="1" rot="10800000">
                  <a:off x="4142880" y="4819680"/>
                  <a:ext cx="179640" cy="179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 flipH="1" rot="5400000">
                  <a:off x="3780720" y="4840200"/>
                  <a:ext cx="196920" cy="152280"/>
                </a:xfrm>
                <a:custGeom>
                  <a:avLst/>
                  <a:gdLst>
                    <a:gd name="textAreaLeft" fmla="*/ 43200 w 196920"/>
                    <a:gd name="textAreaRight" fmla="*/ 153720 w 196920"/>
                    <a:gd name="textAreaTop" fmla="*/ 33480 h 152280"/>
                    <a:gd name="textAreaBottom" fmla="*/ 118800 h 152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1" name=""/>
              <p:cNvGrpSpPr/>
              <p:nvPr/>
            </p:nvGrpSpPr>
            <p:grpSpPr>
              <a:xfrm>
                <a:off x="3782880" y="4338360"/>
                <a:ext cx="541440" cy="360360"/>
                <a:chOff x="3782880" y="4338360"/>
                <a:chExt cx="541440" cy="360360"/>
              </a:xfrm>
            </p:grpSpPr>
            <p:sp>
              <p:nvSpPr>
                <p:cNvPr id="402" name=""/>
                <p:cNvSpPr/>
                <p:nvPr/>
              </p:nvSpPr>
              <p:spPr>
                <a:xfrm flipH="1" rot="10800000">
                  <a:off x="3782880" y="4338360"/>
                  <a:ext cx="287280" cy="3603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 flipH="1" rot="10800000">
                  <a:off x="4144320" y="4437000"/>
                  <a:ext cx="179640" cy="179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 flipH="1" rot="5400000">
                  <a:off x="3782160" y="4457520"/>
                  <a:ext cx="196920" cy="152280"/>
                </a:xfrm>
                <a:custGeom>
                  <a:avLst/>
                  <a:gdLst>
                    <a:gd name="textAreaLeft" fmla="*/ 43200 w 196920"/>
                    <a:gd name="textAreaRight" fmla="*/ 153720 w 196920"/>
                    <a:gd name="textAreaTop" fmla="*/ 33480 h 152280"/>
                    <a:gd name="textAreaBottom" fmla="*/ 118800 h 152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5" name=""/>
              <p:cNvGrpSpPr/>
              <p:nvPr/>
            </p:nvGrpSpPr>
            <p:grpSpPr>
              <a:xfrm>
                <a:off x="3781440" y="3958920"/>
                <a:ext cx="541440" cy="360360"/>
                <a:chOff x="3781440" y="3958920"/>
                <a:chExt cx="541440" cy="360360"/>
              </a:xfrm>
            </p:grpSpPr>
            <p:sp>
              <p:nvSpPr>
                <p:cNvPr id="406" name=""/>
                <p:cNvSpPr/>
                <p:nvPr/>
              </p:nvSpPr>
              <p:spPr>
                <a:xfrm flipH="1" rot="10800000">
                  <a:off x="3781440" y="3958920"/>
                  <a:ext cx="287280" cy="3603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 flipH="1" rot="10800000">
                  <a:off x="4142880" y="4057560"/>
                  <a:ext cx="179640" cy="179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 flipH="1" rot="5400000">
                  <a:off x="3780720" y="4078080"/>
                  <a:ext cx="196920" cy="152280"/>
                </a:xfrm>
                <a:custGeom>
                  <a:avLst/>
                  <a:gdLst>
                    <a:gd name="textAreaLeft" fmla="*/ 43200 w 196920"/>
                    <a:gd name="textAreaRight" fmla="*/ 153720 w 196920"/>
                    <a:gd name="textAreaTop" fmla="*/ 33480 h 152280"/>
                    <a:gd name="textAreaBottom" fmla="*/ 118800 h 152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" name=""/>
              <p:cNvGrpSpPr/>
              <p:nvPr/>
            </p:nvGrpSpPr>
            <p:grpSpPr>
              <a:xfrm>
                <a:off x="4383000" y="4733640"/>
                <a:ext cx="541440" cy="360360"/>
                <a:chOff x="4383000" y="4733640"/>
                <a:chExt cx="541440" cy="360360"/>
              </a:xfrm>
            </p:grpSpPr>
            <p:sp>
              <p:nvSpPr>
                <p:cNvPr id="410" name=""/>
                <p:cNvSpPr/>
                <p:nvPr/>
              </p:nvSpPr>
              <p:spPr>
                <a:xfrm rot="10800000">
                  <a:off x="4637160" y="4733640"/>
                  <a:ext cx="287280" cy="3603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 rot="10800000">
                  <a:off x="4383000" y="4832280"/>
                  <a:ext cx="179640" cy="179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 rot="16200000">
                  <a:off x="4727880" y="4852800"/>
                  <a:ext cx="196920" cy="152280"/>
                </a:xfrm>
                <a:custGeom>
                  <a:avLst/>
                  <a:gdLst>
                    <a:gd name="textAreaLeft" fmla="*/ 43200 w 196920"/>
                    <a:gd name="textAreaRight" fmla="*/ 153720 w 196920"/>
                    <a:gd name="textAreaTop" fmla="*/ 33480 h 152280"/>
                    <a:gd name="textAreaBottom" fmla="*/ 118800 h 152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3" name=""/>
              <p:cNvGrpSpPr/>
              <p:nvPr/>
            </p:nvGrpSpPr>
            <p:grpSpPr>
              <a:xfrm>
                <a:off x="4384800" y="4350960"/>
                <a:ext cx="540720" cy="360360"/>
                <a:chOff x="4384800" y="4350960"/>
                <a:chExt cx="540720" cy="360360"/>
              </a:xfrm>
            </p:grpSpPr>
            <p:sp>
              <p:nvSpPr>
                <p:cNvPr id="414" name=""/>
                <p:cNvSpPr/>
                <p:nvPr/>
              </p:nvSpPr>
              <p:spPr>
                <a:xfrm rot="10800000">
                  <a:off x="4638600" y="4350960"/>
                  <a:ext cx="286920" cy="3603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 rot="10800000">
                  <a:off x="4384800" y="4449600"/>
                  <a:ext cx="179280" cy="179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 rot="16200000">
                  <a:off x="4728960" y="4470120"/>
                  <a:ext cx="196920" cy="151920"/>
                </a:xfrm>
                <a:custGeom>
                  <a:avLst/>
                  <a:gdLst>
                    <a:gd name="textAreaLeft" fmla="*/ 43200 w 196920"/>
                    <a:gd name="textAreaRight" fmla="*/ 153720 w 196920"/>
                    <a:gd name="textAreaTop" fmla="*/ 33480 h 151920"/>
                    <a:gd name="textAreaBottom" fmla="*/ 118440 h 151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160" bIns="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7" name=""/>
              <p:cNvGrpSpPr/>
              <p:nvPr/>
            </p:nvGrpSpPr>
            <p:grpSpPr>
              <a:xfrm>
                <a:off x="4383000" y="3971520"/>
                <a:ext cx="541440" cy="360360"/>
                <a:chOff x="4383000" y="3971520"/>
                <a:chExt cx="541440" cy="360360"/>
              </a:xfrm>
            </p:grpSpPr>
            <p:sp>
              <p:nvSpPr>
                <p:cNvPr id="418" name=""/>
                <p:cNvSpPr/>
                <p:nvPr/>
              </p:nvSpPr>
              <p:spPr>
                <a:xfrm rot="10800000">
                  <a:off x="4637160" y="3971520"/>
                  <a:ext cx="287280" cy="3603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 rot="10800000">
                  <a:off x="4383000" y="4070160"/>
                  <a:ext cx="179640" cy="179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 rot="16200000">
                  <a:off x="4727880" y="4090680"/>
                  <a:ext cx="196920" cy="152280"/>
                </a:xfrm>
                <a:custGeom>
                  <a:avLst/>
                  <a:gdLst>
                    <a:gd name="textAreaLeft" fmla="*/ 43200 w 196920"/>
                    <a:gd name="textAreaRight" fmla="*/ 153720 w 196920"/>
                    <a:gd name="textAreaTop" fmla="*/ 33480 h 152280"/>
                    <a:gd name="textAreaBottom" fmla="*/ 118800 h 152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1" name=""/>
              <p:cNvGrpSpPr/>
              <p:nvPr/>
            </p:nvGrpSpPr>
            <p:grpSpPr>
              <a:xfrm>
                <a:off x="4956120" y="4727160"/>
                <a:ext cx="541440" cy="360360"/>
                <a:chOff x="4956120" y="4727160"/>
                <a:chExt cx="541440" cy="360360"/>
              </a:xfrm>
            </p:grpSpPr>
            <p:sp>
              <p:nvSpPr>
                <p:cNvPr id="422" name=""/>
                <p:cNvSpPr/>
                <p:nvPr/>
              </p:nvSpPr>
              <p:spPr>
                <a:xfrm flipH="1" rot="10800000">
                  <a:off x="4956120" y="4727160"/>
                  <a:ext cx="287280" cy="3603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 flipH="1" rot="10800000">
                  <a:off x="5317560" y="4825800"/>
                  <a:ext cx="179640" cy="179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 flipH="1" rot="5400000">
                  <a:off x="4955400" y="4846320"/>
                  <a:ext cx="196920" cy="152280"/>
                </a:xfrm>
                <a:custGeom>
                  <a:avLst/>
                  <a:gdLst>
                    <a:gd name="textAreaLeft" fmla="*/ 43200 w 196920"/>
                    <a:gd name="textAreaRight" fmla="*/ 153720 w 196920"/>
                    <a:gd name="textAreaTop" fmla="*/ 33480 h 152280"/>
                    <a:gd name="textAreaBottom" fmla="*/ 118800 h 152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5" name=""/>
              <p:cNvGrpSpPr/>
              <p:nvPr/>
            </p:nvGrpSpPr>
            <p:grpSpPr>
              <a:xfrm>
                <a:off x="4957920" y="4344480"/>
                <a:ext cx="540720" cy="360360"/>
                <a:chOff x="4957920" y="4344480"/>
                <a:chExt cx="540720" cy="360360"/>
              </a:xfrm>
            </p:grpSpPr>
            <p:sp>
              <p:nvSpPr>
                <p:cNvPr id="426" name=""/>
                <p:cNvSpPr/>
                <p:nvPr/>
              </p:nvSpPr>
              <p:spPr>
                <a:xfrm flipH="1" rot="10800000">
                  <a:off x="4957560" y="4344480"/>
                  <a:ext cx="286920" cy="3603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 flipH="1" rot="10800000">
                  <a:off x="5319360" y="4443120"/>
                  <a:ext cx="179280" cy="179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 flipH="1" rot="5400000">
                  <a:off x="4957200" y="4463640"/>
                  <a:ext cx="196920" cy="151920"/>
                </a:xfrm>
                <a:custGeom>
                  <a:avLst/>
                  <a:gdLst>
                    <a:gd name="textAreaLeft" fmla="*/ 43200 w 196920"/>
                    <a:gd name="textAreaRight" fmla="*/ 153720 w 196920"/>
                    <a:gd name="textAreaTop" fmla="*/ 33480 h 151920"/>
                    <a:gd name="textAreaBottom" fmla="*/ 118440 h 151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160" bIns="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9" name=""/>
              <p:cNvGrpSpPr/>
              <p:nvPr/>
            </p:nvGrpSpPr>
            <p:grpSpPr>
              <a:xfrm>
                <a:off x="4956120" y="3965040"/>
                <a:ext cx="541440" cy="360360"/>
                <a:chOff x="4956120" y="3965040"/>
                <a:chExt cx="541440" cy="360360"/>
              </a:xfrm>
            </p:grpSpPr>
            <p:sp>
              <p:nvSpPr>
                <p:cNvPr id="430" name=""/>
                <p:cNvSpPr/>
                <p:nvPr/>
              </p:nvSpPr>
              <p:spPr>
                <a:xfrm flipH="1" rot="10800000">
                  <a:off x="4956120" y="3965040"/>
                  <a:ext cx="287280" cy="3603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 flipH="1" rot="10800000">
                  <a:off x="5317560" y="4063680"/>
                  <a:ext cx="179640" cy="179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 flipH="1" rot="5400000">
                  <a:off x="4955400" y="4084200"/>
                  <a:ext cx="196920" cy="152280"/>
                </a:xfrm>
                <a:custGeom>
                  <a:avLst/>
                  <a:gdLst>
                    <a:gd name="textAreaLeft" fmla="*/ 43200 w 196920"/>
                    <a:gd name="textAreaRight" fmla="*/ 153720 w 196920"/>
                    <a:gd name="textAreaTop" fmla="*/ 33480 h 152280"/>
                    <a:gd name="textAreaBottom" fmla="*/ 118800 h 152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3" name=""/>
              <p:cNvGrpSpPr/>
              <p:nvPr/>
            </p:nvGrpSpPr>
            <p:grpSpPr>
              <a:xfrm>
                <a:off x="5557680" y="4727160"/>
                <a:ext cx="541440" cy="360360"/>
                <a:chOff x="5557680" y="4727160"/>
                <a:chExt cx="541440" cy="360360"/>
              </a:xfrm>
            </p:grpSpPr>
            <p:sp>
              <p:nvSpPr>
                <p:cNvPr id="434" name=""/>
                <p:cNvSpPr/>
                <p:nvPr/>
              </p:nvSpPr>
              <p:spPr>
                <a:xfrm rot="10800000">
                  <a:off x="5811840" y="4727160"/>
                  <a:ext cx="287280" cy="3603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 rot="10800000">
                  <a:off x="5557680" y="4825800"/>
                  <a:ext cx="179640" cy="179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 rot="16200000">
                  <a:off x="5902560" y="4846320"/>
                  <a:ext cx="196920" cy="152280"/>
                </a:xfrm>
                <a:custGeom>
                  <a:avLst/>
                  <a:gdLst>
                    <a:gd name="textAreaLeft" fmla="*/ 43200 w 196920"/>
                    <a:gd name="textAreaRight" fmla="*/ 153720 w 196920"/>
                    <a:gd name="textAreaTop" fmla="*/ 33480 h 152280"/>
                    <a:gd name="textAreaBottom" fmla="*/ 118800 h 152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7" name=""/>
              <p:cNvGrpSpPr/>
              <p:nvPr/>
            </p:nvGrpSpPr>
            <p:grpSpPr>
              <a:xfrm>
                <a:off x="5559480" y="4344480"/>
                <a:ext cx="541440" cy="360360"/>
                <a:chOff x="5559480" y="4344480"/>
                <a:chExt cx="541440" cy="360360"/>
              </a:xfrm>
            </p:grpSpPr>
            <p:sp>
              <p:nvSpPr>
                <p:cNvPr id="438" name=""/>
                <p:cNvSpPr/>
                <p:nvPr/>
              </p:nvSpPr>
              <p:spPr>
                <a:xfrm rot="10800000">
                  <a:off x="5813640" y="4344480"/>
                  <a:ext cx="287280" cy="3603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 rot="10800000">
                  <a:off x="5559480" y="4443120"/>
                  <a:ext cx="179640" cy="179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 rot="16200000">
                  <a:off x="5904360" y="4463640"/>
                  <a:ext cx="196920" cy="152280"/>
                </a:xfrm>
                <a:custGeom>
                  <a:avLst/>
                  <a:gdLst>
                    <a:gd name="textAreaLeft" fmla="*/ 43200 w 196920"/>
                    <a:gd name="textAreaRight" fmla="*/ 153720 w 196920"/>
                    <a:gd name="textAreaTop" fmla="*/ 33480 h 152280"/>
                    <a:gd name="textAreaBottom" fmla="*/ 118800 h 152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1" name=""/>
              <p:cNvGrpSpPr/>
              <p:nvPr/>
            </p:nvGrpSpPr>
            <p:grpSpPr>
              <a:xfrm>
                <a:off x="5557680" y="3965040"/>
                <a:ext cx="541440" cy="360360"/>
                <a:chOff x="5557680" y="3965040"/>
                <a:chExt cx="541440" cy="360360"/>
              </a:xfrm>
            </p:grpSpPr>
            <p:sp>
              <p:nvSpPr>
                <p:cNvPr id="442" name=""/>
                <p:cNvSpPr/>
                <p:nvPr/>
              </p:nvSpPr>
              <p:spPr>
                <a:xfrm rot="10800000">
                  <a:off x="5811840" y="3965040"/>
                  <a:ext cx="287280" cy="3603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 rot="10800000">
                  <a:off x="5557680" y="4063680"/>
                  <a:ext cx="179640" cy="179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 rot="16200000">
                  <a:off x="5902560" y="4084200"/>
                  <a:ext cx="196920" cy="152280"/>
                </a:xfrm>
                <a:custGeom>
                  <a:avLst/>
                  <a:gdLst>
                    <a:gd name="textAreaLeft" fmla="*/ 43200 w 196920"/>
                    <a:gd name="textAreaRight" fmla="*/ 153720 w 196920"/>
                    <a:gd name="textAreaTop" fmla="*/ 33480 h 152280"/>
                    <a:gd name="textAreaBottom" fmla="*/ 118800 h 152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5" name=""/>
              <p:cNvGrpSpPr/>
              <p:nvPr/>
            </p:nvGrpSpPr>
            <p:grpSpPr>
              <a:xfrm>
                <a:off x="3208320" y="3571560"/>
                <a:ext cx="541440" cy="360360"/>
                <a:chOff x="3208320" y="3571560"/>
                <a:chExt cx="541440" cy="360360"/>
              </a:xfrm>
            </p:grpSpPr>
            <p:sp>
              <p:nvSpPr>
                <p:cNvPr id="446" name=""/>
                <p:cNvSpPr/>
                <p:nvPr/>
              </p:nvSpPr>
              <p:spPr>
                <a:xfrm rot="10800000">
                  <a:off x="3462480" y="3571560"/>
                  <a:ext cx="287280" cy="3603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 rot="10800000">
                  <a:off x="3208320" y="3670200"/>
                  <a:ext cx="179640" cy="179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 rot="16200000">
                  <a:off x="3553200" y="3690720"/>
                  <a:ext cx="196920" cy="152280"/>
                </a:xfrm>
                <a:custGeom>
                  <a:avLst/>
                  <a:gdLst>
                    <a:gd name="textAreaLeft" fmla="*/ 43200 w 196920"/>
                    <a:gd name="textAreaRight" fmla="*/ 153720 w 196920"/>
                    <a:gd name="textAreaTop" fmla="*/ 33480 h 152280"/>
                    <a:gd name="textAreaBottom" fmla="*/ 118800 h 152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9" name=""/>
              <p:cNvGrpSpPr/>
              <p:nvPr/>
            </p:nvGrpSpPr>
            <p:grpSpPr>
              <a:xfrm>
                <a:off x="3781440" y="3578040"/>
                <a:ext cx="541440" cy="360360"/>
                <a:chOff x="3781440" y="3578040"/>
                <a:chExt cx="541440" cy="360360"/>
              </a:xfrm>
            </p:grpSpPr>
            <p:sp>
              <p:nvSpPr>
                <p:cNvPr id="450" name=""/>
                <p:cNvSpPr/>
                <p:nvPr/>
              </p:nvSpPr>
              <p:spPr>
                <a:xfrm flipH="1" rot="10800000">
                  <a:off x="3781440" y="3578040"/>
                  <a:ext cx="287280" cy="3603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 flipH="1" rot="10800000">
                  <a:off x="4142880" y="3676680"/>
                  <a:ext cx="179640" cy="179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 flipH="1" rot="5400000">
                  <a:off x="3780720" y="3697200"/>
                  <a:ext cx="196920" cy="152280"/>
                </a:xfrm>
                <a:custGeom>
                  <a:avLst/>
                  <a:gdLst>
                    <a:gd name="textAreaLeft" fmla="*/ 43200 w 196920"/>
                    <a:gd name="textAreaRight" fmla="*/ 153720 w 196920"/>
                    <a:gd name="textAreaTop" fmla="*/ 33480 h 152280"/>
                    <a:gd name="textAreaBottom" fmla="*/ 118800 h 152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3" name=""/>
              <p:cNvGrpSpPr/>
              <p:nvPr/>
            </p:nvGrpSpPr>
            <p:grpSpPr>
              <a:xfrm>
                <a:off x="4383000" y="3590640"/>
                <a:ext cx="541440" cy="360360"/>
                <a:chOff x="4383000" y="3590640"/>
                <a:chExt cx="541440" cy="360360"/>
              </a:xfrm>
            </p:grpSpPr>
            <p:sp>
              <p:nvSpPr>
                <p:cNvPr id="454" name=""/>
                <p:cNvSpPr/>
                <p:nvPr/>
              </p:nvSpPr>
              <p:spPr>
                <a:xfrm rot="10800000">
                  <a:off x="4637160" y="3590640"/>
                  <a:ext cx="287280" cy="3603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 rot="10800000">
                  <a:off x="4383000" y="3689280"/>
                  <a:ext cx="179640" cy="179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 rot="16200000">
                  <a:off x="4727880" y="3709800"/>
                  <a:ext cx="196920" cy="152280"/>
                </a:xfrm>
                <a:custGeom>
                  <a:avLst/>
                  <a:gdLst>
                    <a:gd name="textAreaLeft" fmla="*/ 43200 w 196920"/>
                    <a:gd name="textAreaRight" fmla="*/ 153720 w 196920"/>
                    <a:gd name="textAreaTop" fmla="*/ 33480 h 152280"/>
                    <a:gd name="textAreaBottom" fmla="*/ 118800 h 152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7" name=""/>
              <p:cNvGrpSpPr/>
              <p:nvPr/>
            </p:nvGrpSpPr>
            <p:grpSpPr>
              <a:xfrm>
                <a:off x="4956120" y="3584160"/>
                <a:ext cx="541440" cy="360360"/>
                <a:chOff x="4956120" y="3584160"/>
                <a:chExt cx="541440" cy="360360"/>
              </a:xfrm>
            </p:grpSpPr>
            <p:sp>
              <p:nvSpPr>
                <p:cNvPr id="458" name=""/>
                <p:cNvSpPr/>
                <p:nvPr/>
              </p:nvSpPr>
              <p:spPr>
                <a:xfrm flipH="1" rot="10800000">
                  <a:off x="4956120" y="3584160"/>
                  <a:ext cx="287280" cy="3603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 flipH="1" rot="10800000">
                  <a:off x="5317560" y="3682800"/>
                  <a:ext cx="179640" cy="179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 flipH="1" rot="5400000">
                  <a:off x="4955400" y="3703320"/>
                  <a:ext cx="196920" cy="152280"/>
                </a:xfrm>
                <a:custGeom>
                  <a:avLst/>
                  <a:gdLst>
                    <a:gd name="textAreaLeft" fmla="*/ 43200 w 196920"/>
                    <a:gd name="textAreaRight" fmla="*/ 153720 w 196920"/>
                    <a:gd name="textAreaTop" fmla="*/ 33480 h 152280"/>
                    <a:gd name="textAreaBottom" fmla="*/ 118800 h 152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1" name=""/>
              <p:cNvGrpSpPr/>
              <p:nvPr/>
            </p:nvGrpSpPr>
            <p:grpSpPr>
              <a:xfrm>
                <a:off x="5557680" y="3584160"/>
                <a:ext cx="541440" cy="360360"/>
                <a:chOff x="5557680" y="3584160"/>
                <a:chExt cx="541440" cy="360360"/>
              </a:xfrm>
            </p:grpSpPr>
            <p:sp>
              <p:nvSpPr>
                <p:cNvPr id="462" name=""/>
                <p:cNvSpPr/>
                <p:nvPr/>
              </p:nvSpPr>
              <p:spPr>
                <a:xfrm rot="10800000">
                  <a:off x="5811840" y="3584160"/>
                  <a:ext cx="287280" cy="3603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 rot="10800000">
                  <a:off x="5557680" y="3682800"/>
                  <a:ext cx="179640" cy="179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 rot="16200000">
                  <a:off x="5902560" y="3703320"/>
                  <a:ext cx="196920" cy="152280"/>
                </a:xfrm>
                <a:custGeom>
                  <a:avLst/>
                  <a:gdLst>
                    <a:gd name="textAreaLeft" fmla="*/ 43200 w 196920"/>
                    <a:gd name="textAreaRight" fmla="*/ 153720 w 196920"/>
                    <a:gd name="textAreaTop" fmla="*/ 33480 h 152280"/>
                    <a:gd name="textAreaBottom" fmla="*/ 118800 h 152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5" name=""/>
              <p:cNvGrpSpPr/>
              <p:nvPr/>
            </p:nvGrpSpPr>
            <p:grpSpPr>
              <a:xfrm>
                <a:off x="6159600" y="3584160"/>
                <a:ext cx="542880" cy="1503360"/>
                <a:chOff x="6159600" y="3584160"/>
                <a:chExt cx="542880" cy="1503360"/>
              </a:xfrm>
            </p:grpSpPr>
            <p:grpSp>
              <p:nvGrpSpPr>
                <p:cNvPr id="466" name=""/>
                <p:cNvGrpSpPr/>
                <p:nvPr/>
              </p:nvGrpSpPr>
              <p:grpSpPr>
                <a:xfrm>
                  <a:off x="6161040" y="4727160"/>
                  <a:ext cx="541440" cy="360360"/>
                  <a:chOff x="6161040" y="4727160"/>
                  <a:chExt cx="541440" cy="360360"/>
                </a:xfrm>
              </p:grpSpPr>
              <p:sp>
                <p:nvSpPr>
                  <p:cNvPr id="467" name=""/>
                  <p:cNvSpPr/>
                  <p:nvPr/>
                </p:nvSpPr>
                <p:spPr>
                  <a:xfrm flipH="1" rot="10800000">
                    <a:off x="6161040" y="4727160"/>
                    <a:ext cx="287280" cy="36036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 flipH="1" rot="10800000">
                    <a:off x="6522480" y="4825800"/>
                    <a:ext cx="179640" cy="1792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 flipH="1" rot="5400000">
                    <a:off x="6160320" y="4846320"/>
                    <a:ext cx="196920" cy="152280"/>
                  </a:xfrm>
                  <a:custGeom>
                    <a:avLst/>
                    <a:gdLst>
                      <a:gd name="textAreaLeft" fmla="*/ 43200 w 196920"/>
                      <a:gd name="textAreaRight" fmla="*/ 153720 w 196920"/>
                      <a:gd name="textAreaTop" fmla="*/ 33480 h 152280"/>
                      <a:gd name="textAreaBottom" fmla="*/ 118800 h 1522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8520" bIns="38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0" name=""/>
                <p:cNvGrpSpPr/>
                <p:nvPr/>
              </p:nvGrpSpPr>
              <p:grpSpPr>
                <a:xfrm>
                  <a:off x="6159600" y="4344480"/>
                  <a:ext cx="541440" cy="360360"/>
                  <a:chOff x="6159600" y="4344480"/>
                  <a:chExt cx="541440" cy="360360"/>
                </a:xfrm>
              </p:grpSpPr>
              <p:sp>
                <p:nvSpPr>
                  <p:cNvPr id="471" name=""/>
                  <p:cNvSpPr/>
                  <p:nvPr/>
                </p:nvSpPr>
                <p:spPr>
                  <a:xfrm flipH="1" rot="10800000">
                    <a:off x="6159600" y="4344480"/>
                    <a:ext cx="287280" cy="36036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 flipH="1" rot="10800000">
                    <a:off x="6521040" y="4443120"/>
                    <a:ext cx="179640" cy="1792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 flipH="1" rot="5400000">
                    <a:off x="6158880" y="4463640"/>
                    <a:ext cx="196920" cy="152280"/>
                  </a:xfrm>
                  <a:custGeom>
                    <a:avLst/>
                    <a:gdLst>
                      <a:gd name="textAreaLeft" fmla="*/ 43200 w 196920"/>
                      <a:gd name="textAreaRight" fmla="*/ 153720 w 196920"/>
                      <a:gd name="textAreaTop" fmla="*/ 33480 h 152280"/>
                      <a:gd name="textAreaBottom" fmla="*/ 118800 h 1522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8520" bIns="38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4" name=""/>
                <p:cNvGrpSpPr/>
                <p:nvPr/>
              </p:nvGrpSpPr>
              <p:grpSpPr>
                <a:xfrm>
                  <a:off x="6161040" y="3965040"/>
                  <a:ext cx="541440" cy="360360"/>
                  <a:chOff x="6161040" y="3965040"/>
                  <a:chExt cx="541440" cy="360360"/>
                </a:xfrm>
              </p:grpSpPr>
              <p:sp>
                <p:nvSpPr>
                  <p:cNvPr id="475" name=""/>
                  <p:cNvSpPr/>
                  <p:nvPr/>
                </p:nvSpPr>
                <p:spPr>
                  <a:xfrm flipH="1" rot="10800000">
                    <a:off x="6161040" y="3965040"/>
                    <a:ext cx="287280" cy="36036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 flipH="1" rot="10800000">
                    <a:off x="6522480" y="4063680"/>
                    <a:ext cx="179640" cy="1792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 flipH="1" rot="5400000">
                    <a:off x="6160320" y="4084200"/>
                    <a:ext cx="196920" cy="152280"/>
                  </a:xfrm>
                  <a:custGeom>
                    <a:avLst/>
                    <a:gdLst>
                      <a:gd name="textAreaLeft" fmla="*/ 43200 w 196920"/>
                      <a:gd name="textAreaRight" fmla="*/ 153720 w 196920"/>
                      <a:gd name="textAreaTop" fmla="*/ 33480 h 152280"/>
                      <a:gd name="textAreaBottom" fmla="*/ 118800 h 1522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8520" bIns="38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8" name=""/>
                <p:cNvGrpSpPr/>
                <p:nvPr/>
              </p:nvGrpSpPr>
              <p:grpSpPr>
                <a:xfrm>
                  <a:off x="6161040" y="3584160"/>
                  <a:ext cx="541440" cy="360360"/>
                  <a:chOff x="6161040" y="3584160"/>
                  <a:chExt cx="541440" cy="360360"/>
                </a:xfrm>
              </p:grpSpPr>
              <p:sp>
                <p:nvSpPr>
                  <p:cNvPr id="479" name=""/>
                  <p:cNvSpPr/>
                  <p:nvPr/>
                </p:nvSpPr>
                <p:spPr>
                  <a:xfrm flipH="1" rot="10800000">
                    <a:off x="6161040" y="3584160"/>
                    <a:ext cx="287280" cy="36036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 flipH="1" rot="10800000">
                    <a:off x="6522480" y="3682800"/>
                    <a:ext cx="179640" cy="1792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 flipH="1" rot="5400000">
                    <a:off x="6160320" y="3703320"/>
                    <a:ext cx="196920" cy="152280"/>
                  </a:xfrm>
                  <a:custGeom>
                    <a:avLst/>
                    <a:gdLst>
                      <a:gd name="textAreaLeft" fmla="*/ 43200 w 196920"/>
                      <a:gd name="textAreaRight" fmla="*/ 153720 w 196920"/>
                      <a:gd name="textAreaTop" fmla="*/ 33480 h 152280"/>
                      <a:gd name="textAreaBottom" fmla="*/ 118800 h 1522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8520" bIns="38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82" name=""/>
              <p:cNvSpPr/>
              <p:nvPr/>
            </p:nvSpPr>
            <p:spPr>
              <a:xfrm>
                <a:off x="3243960" y="5087880"/>
                <a:ext cx="245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20 VERIFICADORES + 4 ANÁLISE QUALITATIV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3" name=""/>
            <p:cNvSpPr/>
            <p:nvPr/>
          </p:nvSpPr>
          <p:spPr>
            <a:xfrm rot="16200000">
              <a:off x="3273120" y="13297680"/>
              <a:ext cx="2454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21 VERIFICADORES + 4 ANÁLISE QUALITATIV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rot="16200000">
              <a:off x="4233600" y="13089240"/>
              <a:ext cx="2454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21 VERIFICADORES + 4 ANÁLISE QUALITATIV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983040" y="7072200"/>
              <a:ext cx="3276720" cy="505080"/>
            </a:xfrm>
            <a:custGeom>
              <a:avLst/>
              <a:gdLst/>
              <a:ahLst/>
              <a:rect l="l" t="t" r="r" b="b"/>
              <a:pathLst>
                <a:path w="2027" h="318">
                  <a:moveTo>
                    <a:pt x="2027" y="0"/>
                  </a:moveTo>
                  <a:cubicBezTo>
                    <a:pt x="1807" y="0"/>
                    <a:pt x="1013" y="1"/>
                    <a:pt x="718" y="18"/>
                  </a:cubicBezTo>
                  <a:cubicBezTo>
                    <a:pt x="423" y="35"/>
                    <a:pt x="375" y="50"/>
                    <a:pt x="255" y="100"/>
                  </a:cubicBezTo>
                  <a:cubicBezTo>
                    <a:pt x="135" y="150"/>
                    <a:pt x="67" y="234"/>
                    <a:pt x="0" y="31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940360" y="7083360"/>
              <a:ext cx="1384200" cy="504720"/>
            </a:xfrm>
            <a:custGeom>
              <a:avLst/>
              <a:gdLst/>
              <a:ahLst/>
              <a:rect l="l" t="t" r="r" b="b"/>
              <a:pathLst>
                <a:path w="2027" h="318">
                  <a:moveTo>
                    <a:pt x="2027" y="0"/>
                  </a:moveTo>
                  <a:cubicBezTo>
                    <a:pt x="1807" y="0"/>
                    <a:pt x="1013" y="1"/>
                    <a:pt x="718" y="18"/>
                  </a:cubicBezTo>
                  <a:cubicBezTo>
                    <a:pt x="423" y="35"/>
                    <a:pt x="375" y="50"/>
                    <a:pt x="255" y="100"/>
                  </a:cubicBezTo>
                  <a:cubicBezTo>
                    <a:pt x="135" y="150"/>
                    <a:pt x="67" y="234"/>
                    <a:pt x="0" y="31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797640" y="7962840"/>
              <a:ext cx="400320" cy="27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M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788440" y="7962840"/>
              <a:ext cx="400320" cy="27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M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255280" y="6230880"/>
              <a:ext cx="400320" cy="27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M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534800" y="5783400"/>
              <a:ext cx="400320" cy="27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M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316560" y="5543640"/>
              <a:ext cx="1144800" cy="1541520"/>
            </a:xfrm>
            <a:custGeom>
              <a:avLst/>
              <a:gdLst/>
              <a:ahLst/>
              <a:rect l="l" t="t" r="r" b="b"/>
              <a:pathLst>
                <a:path w="721" h="971">
                  <a:moveTo>
                    <a:pt x="621" y="971"/>
                  </a:moveTo>
                  <a:cubicBezTo>
                    <a:pt x="421" y="969"/>
                    <a:pt x="222" y="967"/>
                    <a:pt x="121" y="899"/>
                  </a:cubicBezTo>
                  <a:cubicBezTo>
                    <a:pt x="20" y="831"/>
                    <a:pt x="24" y="680"/>
                    <a:pt x="12" y="562"/>
                  </a:cubicBezTo>
                  <a:cubicBezTo>
                    <a:pt x="0" y="444"/>
                    <a:pt x="9" y="276"/>
                    <a:pt x="48" y="190"/>
                  </a:cubicBezTo>
                  <a:cubicBezTo>
                    <a:pt x="87" y="104"/>
                    <a:pt x="171" y="73"/>
                    <a:pt x="248" y="44"/>
                  </a:cubicBezTo>
                  <a:cubicBezTo>
                    <a:pt x="325" y="15"/>
                    <a:pt x="433" y="0"/>
                    <a:pt x="512" y="17"/>
                  </a:cubicBezTo>
                  <a:cubicBezTo>
                    <a:pt x="591" y="34"/>
                    <a:pt x="656" y="89"/>
                    <a:pt x="721" y="144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757840" y="6335640"/>
              <a:ext cx="1515960" cy="735120"/>
            </a:xfrm>
            <a:custGeom>
              <a:avLst/>
              <a:gdLst/>
              <a:ahLst/>
              <a:rect l="l" t="t" r="r" b="b"/>
              <a:pathLst>
                <a:path w="955" h="463">
                  <a:moveTo>
                    <a:pt x="955" y="436"/>
                  </a:moveTo>
                  <a:cubicBezTo>
                    <a:pt x="825" y="449"/>
                    <a:pt x="696" y="463"/>
                    <a:pt x="591" y="436"/>
                  </a:cubicBezTo>
                  <a:cubicBezTo>
                    <a:pt x="486" y="409"/>
                    <a:pt x="385" y="323"/>
                    <a:pt x="328" y="272"/>
                  </a:cubicBezTo>
                  <a:cubicBezTo>
                    <a:pt x="271" y="221"/>
                    <a:pt x="301" y="172"/>
                    <a:pt x="246" y="127"/>
                  </a:cubicBezTo>
                  <a:cubicBezTo>
                    <a:pt x="191" y="82"/>
                    <a:pt x="51" y="26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5442200" y="3933720"/>
              <a:ext cx="1047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2 SACA GRAMPO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10800000">
              <a:off x="15244560" y="4248000"/>
              <a:ext cx="215640" cy="43200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4587560" y="5438880"/>
              <a:ext cx="216000" cy="43164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rot="10800000">
              <a:off x="15389280" y="5128920"/>
              <a:ext cx="216000" cy="431640"/>
            </a:xfrm>
            <a:prstGeom prst="rect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7232480" y="3521160"/>
              <a:ext cx="230040" cy="1011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5195320" y="3956040"/>
              <a:ext cx="867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DESCAR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4803280" y="13544640"/>
              <a:ext cx="857160" cy="7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5679520" y="13658760"/>
              <a:ext cx="718920" cy="17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6308080" y="13925520"/>
              <a:ext cx="179280" cy="180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4216480" y="14457240"/>
              <a:ext cx="977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CEPÇÃ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3" name=""/>
            <p:cNvGrpSpPr/>
            <p:nvPr/>
          </p:nvGrpSpPr>
          <p:grpSpPr>
            <a:xfrm>
              <a:off x="3154320" y="10036080"/>
              <a:ext cx="1150920" cy="969840"/>
              <a:chOff x="3154320" y="10036080"/>
              <a:chExt cx="1150920" cy="969840"/>
            </a:xfrm>
          </p:grpSpPr>
          <p:grpSp>
            <p:nvGrpSpPr>
              <p:cNvPr id="504" name=""/>
              <p:cNvGrpSpPr/>
              <p:nvPr/>
            </p:nvGrpSpPr>
            <p:grpSpPr>
              <a:xfrm>
                <a:off x="3763800" y="10288440"/>
                <a:ext cx="541440" cy="360360"/>
                <a:chOff x="3763800" y="10288440"/>
                <a:chExt cx="541440" cy="360360"/>
              </a:xfrm>
            </p:grpSpPr>
            <p:sp>
              <p:nvSpPr>
                <p:cNvPr id="505" name=""/>
                <p:cNvSpPr/>
                <p:nvPr/>
              </p:nvSpPr>
              <p:spPr>
                <a:xfrm>
                  <a:off x="3763800" y="10288440"/>
                  <a:ext cx="287280" cy="3603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4125600" y="10370880"/>
                  <a:ext cx="179640" cy="1796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 rot="5400000">
                  <a:off x="3763440" y="10377360"/>
                  <a:ext cx="196920" cy="152280"/>
                </a:xfrm>
                <a:custGeom>
                  <a:avLst/>
                  <a:gdLst>
                    <a:gd name="textAreaLeft" fmla="*/ 43200 w 196920"/>
                    <a:gd name="textAreaRight" fmla="*/ 153720 w 196920"/>
                    <a:gd name="textAreaTop" fmla="*/ 33480 h 152280"/>
                    <a:gd name="textAreaBottom" fmla="*/ 118800 h 152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8" name=""/>
              <p:cNvGrpSpPr/>
              <p:nvPr/>
            </p:nvGrpSpPr>
            <p:grpSpPr>
              <a:xfrm>
                <a:off x="3154320" y="10036080"/>
                <a:ext cx="324000" cy="969840"/>
                <a:chOff x="3154320" y="10036080"/>
                <a:chExt cx="324000" cy="969840"/>
              </a:xfrm>
            </p:grpSpPr>
            <p:grpSp>
              <p:nvGrpSpPr>
                <p:cNvPr id="509" name=""/>
                <p:cNvGrpSpPr/>
                <p:nvPr/>
              </p:nvGrpSpPr>
              <p:grpSpPr>
                <a:xfrm>
                  <a:off x="3289320" y="10617120"/>
                  <a:ext cx="146160" cy="131760"/>
                  <a:chOff x="3289320" y="10617120"/>
                  <a:chExt cx="146160" cy="131760"/>
                </a:xfrm>
              </p:grpSpPr>
              <p:sp>
                <p:nvSpPr>
                  <p:cNvPr id="510" name=""/>
                  <p:cNvSpPr/>
                  <p:nvPr/>
                </p:nvSpPr>
                <p:spPr>
                  <a:xfrm rot="5400000">
                    <a:off x="3296520" y="10609920"/>
                    <a:ext cx="131760" cy="14616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11" name=""/>
                  <p:cNvGrpSpPr/>
                  <p:nvPr/>
                </p:nvGrpSpPr>
                <p:grpSpPr>
                  <a:xfrm>
                    <a:off x="3299040" y="10623960"/>
                    <a:ext cx="116640" cy="115920"/>
                    <a:chOff x="3299040" y="10623960"/>
                    <a:chExt cx="116640" cy="115920"/>
                  </a:xfrm>
                </p:grpSpPr>
                <p:sp>
                  <p:nvSpPr>
                    <p:cNvPr id="512" name=""/>
                    <p:cNvSpPr/>
                    <p:nvPr/>
                  </p:nvSpPr>
                  <p:spPr>
                    <a:xfrm rot="5400000">
                      <a:off x="3315960" y="10655640"/>
                      <a:ext cx="252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35">
                          <a:moveTo>
                            <a:pt x="0" y="35"/>
                          </a:moveTo>
                          <a:lnTo>
                            <a:pt x="5" y="29"/>
                          </a:lnTo>
                          <a:lnTo>
                            <a:pt x="11" y="23"/>
                          </a:lnTo>
                          <a:lnTo>
                            <a:pt x="17" y="17"/>
                          </a:lnTo>
                          <a:lnTo>
                            <a:pt x="22" y="12"/>
                          </a:lnTo>
                          <a:lnTo>
                            <a:pt x="26" y="8"/>
                          </a:lnTo>
                          <a:lnTo>
                            <a:pt x="30" y="5"/>
                          </a:lnTo>
                          <a:lnTo>
                            <a:pt x="32" y="2"/>
                          </a:lnTo>
                          <a:lnTo>
                            <a:pt x="34" y="1"/>
                          </a:lnTo>
                          <a:lnTo>
                            <a:pt x="34" y="0"/>
                          </a:lnTo>
                          <a:lnTo>
                            <a:pt x="3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3" name=""/>
                    <p:cNvSpPr/>
                    <p:nvPr/>
                  </p:nvSpPr>
                  <p:spPr>
                    <a:xfrm rot="5400000">
                      <a:off x="3315960" y="10655640"/>
                      <a:ext cx="252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35">
                          <a:moveTo>
                            <a:pt x="0" y="35"/>
                          </a:moveTo>
                          <a:lnTo>
                            <a:pt x="5" y="29"/>
                          </a:lnTo>
                          <a:lnTo>
                            <a:pt x="11" y="23"/>
                          </a:lnTo>
                          <a:lnTo>
                            <a:pt x="17" y="17"/>
                          </a:lnTo>
                          <a:lnTo>
                            <a:pt x="22" y="12"/>
                          </a:lnTo>
                          <a:lnTo>
                            <a:pt x="26" y="8"/>
                          </a:lnTo>
                          <a:lnTo>
                            <a:pt x="30" y="5"/>
                          </a:lnTo>
                          <a:lnTo>
                            <a:pt x="32" y="2"/>
                          </a:lnTo>
                          <a:lnTo>
                            <a:pt x="34" y="1"/>
                          </a:lnTo>
                          <a:lnTo>
                            <a:pt x="34" y="0"/>
                          </a:lnTo>
                          <a:lnTo>
                            <a:pt x="3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4" name=""/>
                    <p:cNvSpPr/>
                    <p:nvPr/>
                  </p:nvSpPr>
                  <p:spPr>
                    <a:xfrm rot="5400000">
                      <a:off x="3332880" y="10657080"/>
                      <a:ext cx="115920" cy="496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880" bIns="2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5" name=""/>
                    <p:cNvSpPr/>
                    <p:nvPr/>
                  </p:nvSpPr>
                  <p:spPr>
                    <a:xfrm rot="5400000">
                      <a:off x="3281760" y="10649520"/>
                      <a:ext cx="99720" cy="65520"/>
                    </a:xfrm>
                    <a:custGeom>
                      <a:avLst/>
                      <a:gdLst>
                        <a:gd name="textAreaLeft" fmla="*/ 21960 w 99720"/>
                        <a:gd name="textAreaRight" fmla="*/ 77760 w 99720"/>
                        <a:gd name="textAreaTop" fmla="*/ 14400 h 65520"/>
                        <a:gd name="textAreaBottom" fmla="*/ 51120 h 6552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16200" y="21600"/>
                          </a:lnTo>
                          <a:lnTo>
                            <a:pt x="5400" y="2160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080" bIns="-10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516" name=""/>
                <p:cNvGrpSpPr/>
                <p:nvPr/>
              </p:nvGrpSpPr>
              <p:grpSpPr>
                <a:xfrm>
                  <a:off x="3301920" y="10809000"/>
                  <a:ext cx="146160" cy="131760"/>
                  <a:chOff x="3301920" y="10809000"/>
                  <a:chExt cx="146160" cy="131760"/>
                </a:xfrm>
              </p:grpSpPr>
              <p:sp>
                <p:nvSpPr>
                  <p:cNvPr id="517" name=""/>
                  <p:cNvSpPr/>
                  <p:nvPr/>
                </p:nvSpPr>
                <p:spPr>
                  <a:xfrm rot="5400000">
                    <a:off x="3309120" y="10801800"/>
                    <a:ext cx="131760" cy="14616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18" name=""/>
                  <p:cNvGrpSpPr/>
                  <p:nvPr/>
                </p:nvGrpSpPr>
                <p:grpSpPr>
                  <a:xfrm>
                    <a:off x="3311640" y="10815840"/>
                    <a:ext cx="116640" cy="115920"/>
                    <a:chOff x="3311640" y="10815840"/>
                    <a:chExt cx="116640" cy="115920"/>
                  </a:xfrm>
                </p:grpSpPr>
                <p:sp>
                  <p:nvSpPr>
                    <p:cNvPr id="519" name=""/>
                    <p:cNvSpPr/>
                    <p:nvPr/>
                  </p:nvSpPr>
                  <p:spPr>
                    <a:xfrm rot="5400000">
                      <a:off x="3328560" y="10847520"/>
                      <a:ext cx="252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35">
                          <a:moveTo>
                            <a:pt x="0" y="35"/>
                          </a:moveTo>
                          <a:lnTo>
                            <a:pt x="5" y="29"/>
                          </a:lnTo>
                          <a:lnTo>
                            <a:pt x="11" y="23"/>
                          </a:lnTo>
                          <a:lnTo>
                            <a:pt x="17" y="17"/>
                          </a:lnTo>
                          <a:lnTo>
                            <a:pt x="22" y="12"/>
                          </a:lnTo>
                          <a:lnTo>
                            <a:pt x="26" y="8"/>
                          </a:lnTo>
                          <a:lnTo>
                            <a:pt x="30" y="5"/>
                          </a:lnTo>
                          <a:lnTo>
                            <a:pt x="32" y="2"/>
                          </a:lnTo>
                          <a:lnTo>
                            <a:pt x="34" y="1"/>
                          </a:lnTo>
                          <a:lnTo>
                            <a:pt x="34" y="0"/>
                          </a:lnTo>
                          <a:lnTo>
                            <a:pt x="3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0" name=""/>
                    <p:cNvSpPr/>
                    <p:nvPr/>
                  </p:nvSpPr>
                  <p:spPr>
                    <a:xfrm rot="5400000">
                      <a:off x="3328560" y="10847520"/>
                      <a:ext cx="252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35">
                          <a:moveTo>
                            <a:pt x="0" y="35"/>
                          </a:moveTo>
                          <a:lnTo>
                            <a:pt x="5" y="29"/>
                          </a:lnTo>
                          <a:lnTo>
                            <a:pt x="11" y="23"/>
                          </a:lnTo>
                          <a:lnTo>
                            <a:pt x="17" y="17"/>
                          </a:lnTo>
                          <a:lnTo>
                            <a:pt x="22" y="12"/>
                          </a:lnTo>
                          <a:lnTo>
                            <a:pt x="26" y="8"/>
                          </a:lnTo>
                          <a:lnTo>
                            <a:pt x="30" y="5"/>
                          </a:lnTo>
                          <a:lnTo>
                            <a:pt x="32" y="2"/>
                          </a:lnTo>
                          <a:lnTo>
                            <a:pt x="34" y="1"/>
                          </a:lnTo>
                          <a:lnTo>
                            <a:pt x="34" y="0"/>
                          </a:lnTo>
                          <a:lnTo>
                            <a:pt x="3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1" name=""/>
                    <p:cNvSpPr/>
                    <p:nvPr/>
                  </p:nvSpPr>
                  <p:spPr>
                    <a:xfrm rot="5400000">
                      <a:off x="3345480" y="10848960"/>
                      <a:ext cx="115920" cy="496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880" bIns="2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2" name=""/>
                    <p:cNvSpPr/>
                    <p:nvPr/>
                  </p:nvSpPr>
                  <p:spPr>
                    <a:xfrm rot="5400000">
                      <a:off x="3294360" y="10841400"/>
                      <a:ext cx="99720" cy="65520"/>
                    </a:xfrm>
                    <a:custGeom>
                      <a:avLst/>
                      <a:gdLst>
                        <a:gd name="textAreaLeft" fmla="*/ 21960 w 99720"/>
                        <a:gd name="textAreaRight" fmla="*/ 77760 w 99720"/>
                        <a:gd name="textAreaTop" fmla="*/ 14400 h 65520"/>
                        <a:gd name="textAreaBottom" fmla="*/ 51120 h 6552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16200" y="21600"/>
                          </a:lnTo>
                          <a:lnTo>
                            <a:pt x="5400" y="2160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080" bIns="-10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523" name=""/>
                <p:cNvSpPr/>
                <p:nvPr/>
              </p:nvSpPr>
              <p:spPr>
                <a:xfrm>
                  <a:off x="3154320" y="10048680"/>
                  <a:ext cx="324000" cy="925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24" name=""/>
                <p:cNvGrpSpPr/>
                <p:nvPr/>
              </p:nvGrpSpPr>
              <p:grpSpPr>
                <a:xfrm>
                  <a:off x="3309840" y="10098000"/>
                  <a:ext cx="146160" cy="131760"/>
                  <a:chOff x="3309840" y="10098000"/>
                  <a:chExt cx="146160" cy="131760"/>
                </a:xfrm>
              </p:grpSpPr>
              <p:sp>
                <p:nvSpPr>
                  <p:cNvPr id="525" name=""/>
                  <p:cNvSpPr/>
                  <p:nvPr/>
                </p:nvSpPr>
                <p:spPr>
                  <a:xfrm rot="5400000">
                    <a:off x="3317040" y="10090800"/>
                    <a:ext cx="131760" cy="14616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26" name=""/>
                  <p:cNvGrpSpPr/>
                  <p:nvPr/>
                </p:nvGrpSpPr>
                <p:grpSpPr>
                  <a:xfrm>
                    <a:off x="3319560" y="10104840"/>
                    <a:ext cx="116640" cy="115920"/>
                    <a:chOff x="3319560" y="10104840"/>
                    <a:chExt cx="116640" cy="115920"/>
                  </a:xfrm>
                </p:grpSpPr>
                <p:sp>
                  <p:nvSpPr>
                    <p:cNvPr id="527" name=""/>
                    <p:cNvSpPr/>
                    <p:nvPr/>
                  </p:nvSpPr>
                  <p:spPr>
                    <a:xfrm rot="5400000">
                      <a:off x="3336480" y="10136520"/>
                      <a:ext cx="252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35">
                          <a:moveTo>
                            <a:pt x="0" y="35"/>
                          </a:moveTo>
                          <a:lnTo>
                            <a:pt x="5" y="29"/>
                          </a:lnTo>
                          <a:lnTo>
                            <a:pt x="11" y="23"/>
                          </a:lnTo>
                          <a:lnTo>
                            <a:pt x="17" y="17"/>
                          </a:lnTo>
                          <a:lnTo>
                            <a:pt x="22" y="12"/>
                          </a:lnTo>
                          <a:lnTo>
                            <a:pt x="26" y="8"/>
                          </a:lnTo>
                          <a:lnTo>
                            <a:pt x="30" y="5"/>
                          </a:lnTo>
                          <a:lnTo>
                            <a:pt x="32" y="2"/>
                          </a:lnTo>
                          <a:lnTo>
                            <a:pt x="34" y="1"/>
                          </a:lnTo>
                          <a:lnTo>
                            <a:pt x="34" y="0"/>
                          </a:lnTo>
                          <a:lnTo>
                            <a:pt x="3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8" name=""/>
                    <p:cNvSpPr/>
                    <p:nvPr/>
                  </p:nvSpPr>
                  <p:spPr>
                    <a:xfrm rot="5400000">
                      <a:off x="3336480" y="10136520"/>
                      <a:ext cx="252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35">
                          <a:moveTo>
                            <a:pt x="0" y="35"/>
                          </a:moveTo>
                          <a:lnTo>
                            <a:pt x="5" y="29"/>
                          </a:lnTo>
                          <a:lnTo>
                            <a:pt x="11" y="23"/>
                          </a:lnTo>
                          <a:lnTo>
                            <a:pt x="17" y="17"/>
                          </a:lnTo>
                          <a:lnTo>
                            <a:pt x="22" y="12"/>
                          </a:lnTo>
                          <a:lnTo>
                            <a:pt x="26" y="8"/>
                          </a:lnTo>
                          <a:lnTo>
                            <a:pt x="30" y="5"/>
                          </a:lnTo>
                          <a:lnTo>
                            <a:pt x="32" y="2"/>
                          </a:lnTo>
                          <a:lnTo>
                            <a:pt x="34" y="1"/>
                          </a:lnTo>
                          <a:lnTo>
                            <a:pt x="34" y="0"/>
                          </a:lnTo>
                          <a:lnTo>
                            <a:pt x="3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9" name=""/>
                    <p:cNvSpPr/>
                    <p:nvPr/>
                  </p:nvSpPr>
                  <p:spPr>
                    <a:xfrm rot="5400000">
                      <a:off x="3353400" y="10137960"/>
                      <a:ext cx="115920" cy="496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880" bIns="2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0" name=""/>
                    <p:cNvSpPr/>
                    <p:nvPr/>
                  </p:nvSpPr>
                  <p:spPr>
                    <a:xfrm rot="5400000">
                      <a:off x="3302280" y="10130400"/>
                      <a:ext cx="99720" cy="65520"/>
                    </a:xfrm>
                    <a:custGeom>
                      <a:avLst/>
                      <a:gdLst>
                        <a:gd name="textAreaLeft" fmla="*/ 21960 w 99720"/>
                        <a:gd name="textAreaRight" fmla="*/ 77760 w 99720"/>
                        <a:gd name="textAreaTop" fmla="*/ 14400 h 65520"/>
                        <a:gd name="textAreaBottom" fmla="*/ 51120 h 6552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16200" y="21600"/>
                          </a:lnTo>
                          <a:lnTo>
                            <a:pt x="5400" y="2160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080" bIns="-10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531" name=""/>
                <p:cNvGrpSpPr/>
                <p:nvPr/>
              </p:nvGrpSpPr>
              <p:grpSpPr>
                <a:xfrm>
                  <a:off x="3327120" y="10269360"/>
                  <a:ext cx="145800" cy="131760"/>
                  <a:chOff x="3327120" y="10269360"/>
                  <a:chExt cx="145800" cy="131760"/>
                </a:xfrm>
              </p:grpSpPr>
              <p:sp>
                <p:nvSpPr>
                  <p:cNvPr id="532" name=""/>
                  <p:cNvSpPr/>
                  <p:nvPr/>
                </p:nvSpPr>
                <p:spPr>
                  <a:xfrm rot="5400000">
                    <a:off x="3333960" y="10262160"/>
                    <a:ext cx="131760" cy="14580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33" name=""/>
                  <p:cNvGrpSpPr/>
                  <p:nvPr/>
                </p:nvGrpSpPr>
                <p:grpSpPr>
                  <a:xfrm>
                    <a:off x="3336840" y="10276200"/>
                    <a:ext cx="116280" cy="115920"/>
                    <a:chOff x="3336840" y="10276200"/>
                    <a:chExt cx="116280" cy="115920"/>
                  </a:xfrm>
                </p:grpSpPr>
                <p:sp>
                  <p:nvSpPr>
                    <p:cNvPr id="534" name=""/>
                    <p:cNvSpPr/>
                    <p:nvPr/>
                  </p:nvSpPr>
                  <p:spPr>
                    <a:xfrm rot="5400000">
                      <a:off x="3353760" y="10307880"/>
                      <a:ext cx="252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35">
                          <a:moveTo>
                            <a:pt x="0" y="35"/>
                          </a:moveTo>
                          <a:lnTo>
                            <a:pt x="5" y="29"/>
                          </a:lnTo>
                          <a:lnTo>
                            <a:pt x="11" y="23"/>
                          </a:lnTo>
                          <a:lnTo>
                            <a:pt x="17" y="17"/>
                          </a:lnTo>
                          <a:lnTo>
                            <a:pt x="22" y="12"/>
                          </a:lnTo>
                          <a:lnTo>
                            <a:pt x="26" y="8"/>
                          </a:lnTo>
                          <a:lnTo>
                            <a:pt x="30" y="5"/>
                          </a:lnTo>
                          <a:lnTo>
                            <a:pt x="32" y="2"/>
                          </a:lnTo>
                          <a:lnTo>
                            <a:pt x="34" y="1"/>
                          </a:lnTo>
                          <a:lnTo>
                            <a:pt x="34" y="0"/>
                          </a:lnTo>
                          <a:lnTo>
                            <a:pt x="3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5" name=""/>
                    <p:cNvSpPr/>
                    <p:nvPr/>
                  </p:nvSpPr>
                  <p:spPr>
                    <a:xfrm rot="5400000">
                      <a:off x="3353760" y="10307880"/>
                      <a:ext cx="252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35">
                          <a:moveTo>
                            <a:pt x="0" y="35"/>
                          </a:moveTo>
                          <a:lnTo>
                            <a:pt x="5" y="29"/>
                          </a:lnTo>
                          <a:lnTo>
                            <a:pt x="11" y="23"/>
                          </a:lnTo>
                          <a:lnTo>
                            <a:pt x="17" y="17"/>
                          </a:lnTo>
                          <a:lnTo>
                            <a:pt x="22" y="12"/>
                          </a:lnTo>
                          <a:lnTo>
                            <a:pt x="26" y="8"/>
                          </a:lnTo>
                          <a:lnTo>
                            <a:pt x="30" y="5"/>
                          </a:lnTo>
                          <a:lnTo>
                            <a:pt x="32" y="2"/>
                          </a:lnTo>
                          <a:lnTo>
                            <a:pt x="34" y="1"/>
                          </a:lnTo>
                          <a:lnTo>
                            <a:pt x="34" y="0"/>
                          </a:lnTo>
                          <a:lnTo>
                            <a:pt x="3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6" name=""/>
                    <p:cNvSpPr/>
                    <p:nvPr/>
                  </p:nvSpPr>
                  <p:spPr>
                    <a:xfrm rot="5400000">
                      <a:off x="3370320" y="10309320"/>
                      <a:ext cx="115920" cy="49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520" bIns="2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7" name=""/>
                    <p:cNvSpPr/>
                    <p:nvPr/>
                  </p:nvSpPr>
                  <p:spPr>
                    <a:xfrm rot="5400000">
                      <a:off x="3319560" y="10302120"/>
                      <a:ext cx="99720" cy="65160"/>
                    </a:xfrm>
                    <a:custGeom>
                      <a:avLst/>
                      <a:gdLst>
                        <a:gd name="textAreaLeft" fmla="*/ 21960 w 99720"/>
                        <a:gd name="textAreaRight" fmla="*/ 77760 w 99720"/>
                        <a:gd name="textAreaTop" fmla="*/ 14400 h 65160"/>
                        <a:gd name="textAreaBottom" fmla="*/ 50760 h 651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16200" y="21600"/>
                          </a:lnTo>
                          <a:lnTo>
                            <a:pt x="5400" y="2160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440" bIns="-10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538" name=""/>
                <p:cNvGrpSpPr/>
                <p:nvPr/>
              </p:nvGrpSpPr>
              <p:grpSpPr>
                <a:xfrm>
                  <a:off x="3301920" y="10466280"/>
                  <a:ext cx="146160" cy="131760"/>
                  <a:chOff x="3301920" y="10466280"/>
                  <a:chExt cx="146160" cy="131760"/>
                </a:xfrm>
              </p:grpSpPr>
              <p:sp>
                <p:nvSpPr>
                  <p:cNvPr id="539" name=""/>
                  <p:cNvSpPr/>
                  <p:nvPr/>
                </p:nvSpPr>
                <p:spPr>
                  <a:xfrm rot="5400000">
                    <a:off x="3309120" y="10459080"/>
                    <a:ext cx="131760" cy="14616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40" name=""/>
                  <p:cNvGrpSpPr/>
                  <p:nvPr/>
                </p:nvGrpSpPr>
                <p:grpSpPr>
                  <a:xfrm>
                    <a:off x="3311640" y="10473120"/>
                    <a:ext cx="116640" cy="115920"/>
                    <a:chOff x="3311640" y="10473120"/>
                    <a:chExt cx="116640" cy="115920"/>
                  </a:xfrm>
                </p:grpSpPr>
                <p:sp>
                  <p:nvSpPr>
                    <p:cNvPr id="541" name=""/>
                    <p:cNvSpPr/>
                    <p:nvPr/>
                  </p:nvSpPr>
                  <p:spPr>
                    <a:xfrm rot="5400000">
                      <a:off x="3328560" y="10504800"/>
                      <a:ext cx="252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35">
                          <a:moveTo>
                            <a:pt x="0" y="35"/>
                          </a:moveTo>
                          <a:lnTo>
                            <a:pt x="5" y="29"/>
                          </a:lnTo>
                          <a:lnTo>
                            <a:pt x="11" y="23"/>
                          </a:lnTo>
                          <a:lnTo>
                            <a:pt x="17" y="17"/>
                          </a:lnTo>
                          <a:lnTo>
                            <a:pt x="22" y="12"/>
                          </a:lnTo>
                          <a:lnTo>
                            <a:pt x="26" y="8"/>
                          </a:lnTo>
                          <a:lnTo>
                            <a:pt x="30" y="5"/>
                          </a:lnTo>
                          <a:lnTo>
                            <a:pt x="32" y="2"/>
                          </a:lnTo>
                          <a:lnTo>
                            <a:pt x="34" y="1"/>
                          </a:lnTo>
                          <a:lnTo>
                            <a:pt x="34" y="0"/>
                          </a:lnTo>
                          <a:lnTo>
                            <a:pt x="3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2" name=""/>
                    <p:cNvSpPr/>
                    <p:nvPr/>
                  </p:nvSpPr>
                  <p:spPr>
                    <a:xfrm rot="5400000">
                      <a:off x="3328560" y="10504800"/>
                      <a:ext cx="252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35">
                          <a:moveTo>
                            <a:pt x="0" y="35"/>
                          </a:moveTo>
                          <a:lnTo>
                            <a:pt x="5" y="29"/>
                          </a:lnTo>
                          <a:lnTo>
                            <a:pt x="11" y="23"/>
                          </a:lnTo>
                          <a:lnTo>
                            <a:pt x="17" y="17"/>
                          </a:lnTo>
                          <a:lnTo>
                            <a:pt x="22" y="12"/>
                          </a:lnTo>
                          <a:lnTo>
                            <a:pt x="26" y="8"/>
                          </a:lnTo>
                          <a:lnTo>
                            <a:pt x="30" y="5"/>
                          </a:lnTo>
                          <a:lnTo>
                            <a:pt x="32" y="2"/>
                          </a:lnTo>
                          <a:lnTo>
                            <a:pt x="34" y="1"/>
                          </a:lnTo>
                          <a:lnTo>
                            <a:pt x="34" y="0"/>
                          </a:lnTo>
                          <a:lnTo>
                            <a:pt x="3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3" name=""/>
                    <p:cNvSpPr/>
                    <p:nvPr/>
                  </p:nvSpPr>
                  <p:spPr>
                    <a:xfrm rot="5400000">
                      <a:off x="3345480" y="10506240"/>
                      <a:ext cx="115920" cy="496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880" bIns="2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4" name=""/>
                    <p:cNvSpPr/>
                    <p:nvPr/>
                  </p:nvSpPr>
                  <p:spPr>
                    <a:xfrm rot="5400000">
                      <a:off x="3294360" y="10498680"/>
                      <a:ext cx="99720" cy="65520"/>
                    </a:xfrm>
                    <a:custGeom>
                      <a:avLst/>
                      <a:gdLst>
                        <a:gd name="textAreaLeft" fmla="*/ 21960 w 99720"/>
                        <a:gd name="textAreaRight" fmla="*/ 77760 w 99720"/>
                        <a:gd name="textAreaTop" fmla="*/ 14400 h 65520"/>
                        <a:gd name="textAreaBottom" fmla="*/ 51120 h 6552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16200" y="21600"/>
                          </a:lnTo>
                          <a:lnTo>
                            <a:pt x="5400" y="2160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080" bIns="-10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545" name=""/>
                <p:cNvSpPr/>
                <p:nvPr/>
              </p:nvSpPr>
              <p:spPr>
                <a:xfrm>
                  <a:off x="3184560" y="10036080"/>
                  <a:ext cx="206280" cy="96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6" name=""/>
                <p:cNvGrpSpPr/>
                <p:nvPr/>
              </p:nvGrpSpPr>
              <p:grpSpPr>
                <a:xfrm>
                  <a:off x="3190680" y="10080360"/>
                  <a:ext cx="144720" cy="131760"/>
                  <a:chOff x="3190680" y="10080360"/>
                  <a:chExt cx="144720" cy="131760"/>
                </a:xfrm>
              </p:grpSpPr>
              <p:sp>
                <p:nvSpPr>
                  <p:cNvPr id="547" name=""/>
                  <p:cNvSpPr/>
                  <p:nvPr/>
                </p:nvSpPr>
                <p:spPr>
                  <a:xfrm rot="5400000">
                    <a:off x="3197160" y="10073880"/>
                    <a:ext cx="131760" cy="14472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48" name=""/>
                  <p:cNvGrpSpPr/>
                  <p:nvPr/>
                </p:nvGrpSpPr>
                <p:grpSpPr>
                  <a:xfrm>
                    <a:off x="3200040" y="10087200"/>
                    <a:ext cx="115560" cy="115920"/>
                    <a:chOff x="3200040" y="10087200"/>
                    <a:chExt cx="115560" cy="115920"/>
                  </a:xfrm>
                </p:grpSpPr>
                <p:sp>
                  <p:nvSpPr>
                    <p:cNvPr id="549" name=""/>
                    <p:cNvSpPr/>
                    <p:nvPr/>
                  </p:nvSpPr>
                  <p:spPr>
                    <a:xfrm rot="5400000">
                      <a:off x="3216600" y="10118880"/>
                      <a:ext cx="252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35">
                          <a:moveTo>
                            <a:pt x="0" y="35"/>
                          </a:moveTo>
                          <a:lnTo>
                            <a:pt x="5" y="29"/>
                          </a:lnTo>
                          <a:lnTo>
                            <a:pt x="11" y="23"/>
                          </a:lnTo>
                          <a:lnTo>
                            <a:pt x="17" y="17"/>
                          </a:lnTo>
                          <a:lnTo>
                            <a:pt x="22" y="12"/>
                          </a:lnTo>
                          <a:lnTo>
                            <a:pt x="26" y="8"/>
                          </a:lnTo>
                          <a:lnTo>
                            <a:pt x="30" y="5"/>
                          </a:lnTo>
                          <a:lnTo>
                            <a:pt x="32" y="2"/>
                          </a:lnTo>
                          <a:lnTo>
                            <a:pt x="34" y="1"/>
                          </a:lnTo>
                          <a:lnTo>
                            <a:pt x="34" y="0"/>
                          </a:lnTo>
                          <a:lnTo>
                            <a:pt x="3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0" name=""/>
                    <p:cNvSpPr/>
                    <p:nvPr/>
                  </p:nvSpPr>
                  <p:spPr>
                    <a:xfrm rot="5400000">
                      <a:off x="3216600" y="10118880"/>
                      <a:ext cx="252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35">
                          <a:moveTo>
                            <a:pt x="0" y="35"/>
                          </a:moveTo>
                          <a:lnTo>
                            <a:pt x="5" y="29"/>
                          </a:lnTo>
                          <a:lnTo>
                            <a:pt x="11" y="23"/>
                          </a:lnTo>
                          <a:lnTo>
                            <a:pt x="17" y="17"/>
                          </a:lnTo>
                          <a:lnTo>
                            <a:pt x="22" y="12"/>
                          </a:lnTo>
                          <a:lnTo>
                            <a:pt x="26" y="8"/>
                          </a:lnTo>
                          <a:lnTo>
                            <a:pt x="30" y="5"/>
                          </a:lnTo>
                          <a:lnTo>
                            <a:pt x="32" y="2"/>
                          </a:lnTo>
                          <a:lnTo>
                            <a:pt x="34" y="1"/>
                          </a:lnTo>
                          <a:lnTo>
                            <a:pt x="34" y="0"/>
                          </a:lnTo>
                          <a:lnTo>
                            <a:pt x="3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1" name=""/>
                    <p:cNvSpPr/>
                    <p:nvPr/>
                  </p:nvSpPr>
                  <p:spPr>
                    <a:xfrm rot="5400000">
                      <a:off x="3233160" y="10120680"/>
                      <a:ext cx="115920" cy="48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2" name=""/>
                    <p:cNvSpPr/>
                    <p:nvPr/>
                  </p:nvSpPr>
                  <p:spPr>
                    <a:xfrm rot="5400000">
                      <a:off x="3182400" y="10113120"/>
                      <a:ext cx="99720" cy="64800"/>
                    </a:xfrm>
                    <a:custGeom>
                      <a:avLst/>
                      <a:gdLst>
                        <a:gd name="textAreaLeft" fmla="*/ 21960 w 99720"/>
                        <a:gd name="textAreaRight" fmla="*/ 77760 w 99720"/>
                        <a:gd name="textAreaTop" fmla="*/ 14040 h 64800"/>
                        <a:gd name="textAreaBottom" fmla="*/ 50760 h 6480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16200" y="21600"/>
                          </a:lnTo>
                          <a:lnTo>
                            <a:pt x="5400" y="2160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080" bIns="-10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553" name=""/>
                <p:cNvGrpSpPr/>
                <p:nvPr/>
              </p:nvGrpSpPr>
              <p:grpSpPr>
                <a:xfrm>
                  <a:off x="3190680" y="10242360"/>
                  <a:ext cx="144720" cy="133560"/>
                  <a:chOff x="3190680" y="10242360"/>
                  <a:chExt cx="144720" cy="133560"/>
                </a:xfrm>
              </p:grpSpPr>
              <p:sp>
                <p:nvSpPr>
                  <p:cNvPr id="554" name=""/>
                  <p:cNvSpPr/>
                  <p:nvPr/>
                </p:nvSpPr>
                <p:spPr>
                  <a:xfrm rot="5400000">
                    <a:off x="3196080" y="10236600"/>
                    <a:ext cx="133560" cy="14472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55" name=""/>
                  <p:cNvGrpSpPr/>
                  <p:nvPr/>
                </p:nvGrpSpPr>
                <p:grpSpPr>
                  <a:xfrm>
                    <a:off x="3200040" y="10249200"/>
                    <a:ext cx="115560" cy="117360"/>
                    <a:chOff x="3200040" y="10249200"/>
                    <a:chExt cx="115560" cy="117360"/>
                  </a:xfrm>
                </p:grpSpPr>
                <p:sp>
                  <p:nvSpPr>
                    <p:cNvPr id="556" name=""/>
                    <p:cNvSpPr/>
                    <p:nvPr/>
                  </p:nvSpPr>
                  <p:spPr>
                    <a:xfrm rot="5400000">
                      <a:off x="3216600" y="10281240"/>
                      <a:ext cx="252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35">
                          <a:moveTo>
                            <a:pt x="0" y="35"/>
                          </a:moveTo>
                          <a:lnTo>
                            <a:pt x="5" y="29"/>
                          </a:lnTo>
                          <a:lnTo>
                            <a:pt x="11" y="23"/>
                          </a:lnTo>
                          <a:lnTo>
                            <a:pt x="17" y="17"/>
                          </a:lnTo>
                          <a:lnTo>
                            <a:pt x="22" y="12"/>
                          </a:lnTo>
                          <a:lnTo>
                            <a:pt x="26" y="8"/>
                          </a:lnTo>
                          <a:lnTo>
                            <a:pt x="30" y="5"/>
                          </a:lnTo>
                          <a:lnTo>
                            <a:pt x="32" y="2"/>
                          </a:lnTo>
                          <a:lnTo>
                            <a:pt x="34" y="1"/>
                          </a:lnTo>
                          <a:lnTo>
                            <a:pt x="34" y="0"/>
                          </a:lnTo>
                          <a:lnTo>
                            <a:pt x="3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7" name=""/>
                    <p:cNvSpPr/>
                    <p:nvPr/>
                  </p:nvSpPr>
                  <p:spPr>
                    <a:xfrm rot="5400000">
                      <a:off x="3216600" y="10281240"/>
                      <a:ext cx="252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35">
                          <a:moveTo>
                            <a:pt x="0" y="35"/>
                          </a:moveTo>
                          <a:lnTo>
                            <a:pt x="5" y="29"/>
                          </a:lnTo>
                          <a:lnTo>
                            <a:pt x="11" y="23"/>
                          </a:lnTo>
                          <a:lnTo>
                            <a:pt x="17" y="17"/>
                          </a:lnTo>
                          <a:lnTo>
                            <a:pt x="22" y="12"/>
                          </a:lnTo>
                          <a:lnTo>
                            <a:pt x="26" y="8"/>
                          </a:lnTo>
                          <a:lnTo>
                            <a:pt x="30" y="5"/>
                          </a:lnTo>
                          <a:lnTo>
                            <a:pt x="32" y="2"/>
                          </a:lnTo>
                          <a:lnTo>
                            <a:pt x="34" y="1"/>
                          </a:lnTo>
                          <a:lnTo>
                            <a:pt x="34" y="0"/>
                          </a:lnTo>
                          <a:lnTo>
                            <a:pt x="3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8" name=""/>
                    <p:cNvSpPr/>
                    <p:nvPr/>
                  </p:nvSpPr>
                  <p:spPr>
                    <a:xfrm rot="5400000">
                      <a:off x="3232440" y="10283400"/>
                      <a:ext cx="117360" cy="48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9" name=""/>
                    <p:cNvSpPr/>
                    <p:nvPr/>
                  </p:nvSpPr>
                  <p:spPr>
                    <a:xfrm rot="5400000">
                      <a:off x="3181680" y="10275840"/>
                      <a:ext cx="101160" cy="64800"/>
                    </a:xfrm>
                    <a:custGeom>
                      <a:avLst/>
                      <a:gdLst>
                        <a:gd name="textAreaLeft" fmla="*/ 22320 w 101160"/>
                        <a:gd name="textAreaRight" fmla="*/ 78840 w 101160"/>
                        <a:gd name="textAreaTop" fmla="*/ 14040 h 64800"/>
                        <a:gd name="textAreaBottom" fmla="*/ 50760 h 6480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16200" y="21600"/>
                          </a:lnTo>
                          <a:lnTo>
                            <a:pt x="5400" y="2160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080" bIns="-10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560" name=""/>
                <p:cNvGrpSpPr/>
                <p:nvPr/>
              </p:nvGrpSpPr>
              <p:grpSpPr>
                <a:xfrm>
                  <a:off x="3181320" y="10431360"/>
                  <a:ext cx="146160" cy="133200"/>
                  <a:chOff x="3181320" y="10431360"/>
                  <a:chExt cx="146160" cy="133200"/>
                </a:xfrm>
              </p:grpSpPr>
              <p:sp>
                <p:nvSpPr>
                  <p:cNvPr id="561" name=""/>
                  <p:cNvSpPr/>
                  <p:nvPr/>
                </p:nvSpPr>
                <p:spPr>
                  <a:xfrm rot="5400000">
                    <a:off x="3187800" y="10424880"/>
                    <a:ext cx="133200" cy="14616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62" name=""/>
                  <p:cNvGrpSpPr/>
                  <p:nvPr/>
                </p:nvGrpSpPr>
                <p:grpSpPr>
                  <a:xfrm>
                    <a:off x="3191040" y="10438200"/>
                    <a:ext cx="116640" cy="117000"/>
                    <a:chOff x="3191040" y="10438200"/>
                    <a:chExt cx="116640" cy="117000"/>
                  </a:xfrm>
                </p:grpSpPr>
                <p:sp>
                  <p:nvSpPr>
                    <p:cNvPr id="563" name=""/>
                    <p:cNvSpPr/>
                    <p:nvPr/>
                  </p:nvSpPr>
                  <p:spPr>
                    <a:xfrm rot="5400000">
                      <a:off x="3207960" y="10469880"/>
                      <a:ext cx="252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35">
                          <a:moveTo>
                            <a:pt x="0" y="35"/>
                          </a:moveTo>
                          <a:lnTo>
                            <a:pt x="5" y="29"/>
                          </a:lnTo>
                          <a:lnTo>
                            <a:pt x="11" y="23"/>
                          </a:lnTo>
                          <a:lnTo>
                            <a:pt x="17" y="17"/>
                          </a:lnTo>
                          <a:lnTo>
                            <a:pt x="22" y="12"/>
                          </a:lnTo>
                          <a:lnTo>
                            <a:pt x="26" y="8"/>
                          </a:lnTo>
                          <a:lnTo>
                            <a:pt x="30" y="5"/>
                          </a:lnTo>
                          <a:lnTo>
                            <a:pt x="32" y="2"/>
                          </a:lnTo>
                          <a:lnTo>
                            <a:pt x="34" y="1"/>
                          </a:lnTo>
                          <a:lnTo>
                            <a:pt x="34" y="0"/>
                          </a:lnTo>
                          <a:lnTo>
                            <a:pt x="3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4" name=""/>
                    <p:cNvSpPr/>
                    <p:nvPr/>
                  </p:nvSpPr>
                  <p:spPr>
                    <a:xfrm rot="5400000">
                      <a:off x="3207960" y="10469880"/>
                      <a:ext cx="252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35">
                          <a:moveTo>
                            <a:pt x="0" y="35"/>
                          </a:moveTo>
                          <a:lnTo>
                            <a:pt x="5" y="29"/>
                          </a:lnTo>
                          <a:lnTo>
                            <a:pt x="11" y="23"/>
                          </a:lnTo>
                          <a:lnTo>
                            <a:pt x="17" y="17"/>
                          </a:lnTo>
                          <a:lnTo>
                            <a:pt x="22" y="12"/>
                          </a:lnTo>
                          <a:lnTo>
                            <a:pt x="26" y="8"/>
                          </a:lnTo>
                          <a:lnTo>
                            <a:pt x="30" y="5"/>
                          </a:lnTo>
                          <a:lnTo>
                            <a:pt x="32" y="2"/>
                          </a:lnTo>
                          <a:lnTo>
                            <a:pt x="34" y="1"/>
                          </a:lnTo>
                          <a:lnTo>
                            <a:pt x="34" y="0"/>
                          </a:lnTo>
                          <a:lnTo>
                            <a:pt x="3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5" name=""/>
                    <p:cNvSpPr/>
                    <p:nvPr/>
                  </p:nvSpPr>
                  <p:spPr>
                    <a:xfrm rot="5400000">
                      <a:off x="3224160" y="10471680"/>
                      <a:ext cx="117000" cy="496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880" bIns="2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6" name=""/>
                    <p:cNvSpPr/>
                    <p:nvPr/>
                  </p:nvSpPr>
                  <p:spPr>
                    <a:xfrm rot="5400000">
                      <a:off x="3173400" y="10464480"/>
                      <a:ext cx="100800" cy="65520"/>
                    </a:xfrm>
                    <a:custGeom>
                      <a:avLst/>
                      <a:gdLst>
                        <a:gd name="textAreaLeft" fmla="*/ 21960 w 100800"/>
                        <a:gd name="textAreaRight" fmla="*/ 78840 w 100800"/>
                        <a:gd name="textAreaTop" fmla="*/ 14400 h 65520"/>
                        <a:gd name="textAreaBottom" fmla="*/ 51120 h 6552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16200" y="21600"/>
                          </a:lnTo>
                          <a:lnTo>
                            <a:pt x="5400" y="2160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080" bIns="-10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567" name=""/>
                <p:cNvGrpSpPr/>
                <p:nvPr/>
              </p:nvGrpSpPr>
              <p:grpSpPr>
                <a:xfrm>
                  <a:off x="3190680" y="10604520"/>
                  <a:ext cx="144720" cy="133200"/>
                  <a:chOff x="3190680" y="10604520"/>
                  <a:chExt cx="144720" cy="133200"/>
                </a:xfrm>
              </p:grpSpPr>
              <p:sp>
                <p:nvSpPr>
                  <p:cNvPr id="568" name=""/>
                  <p:cNvSpPr/>
                  <p:nvPr/>
                </p:nvSpPr>
                <p:spPr>
                  <a:xfrm rot="5400000">
                    <a:off x="3196440" y="10598760"/>
                    <a:ext cx="133200" cy="14472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69" name=""/>
                  <p:cNvGrpSpPr/>
                  <p:nvPr/>
                </p:nvGrpSpPr>
                <p:grpSpPr>
                  <a:xfrm>
                    <a:off x="3200040" y="10611360"/>
                    <a:ext cx="115560" cy="117000"/>
                    <a:chOff x="3200040" y="10611360"/>
                    <a:chExt cx="115560" cy="117000"/>
                  </a:xfrm>
                </p:grpSpPr>
                <p:sp>
                  <p:nvSpPr>
                    <p:cNvPr id="570" name=""/>
                    <p:cNvSpPr/>
                    <p:nvPr/>
                  </p:nvSpPr>
                  <p:spPr>
                    <a:xfrm rot="5400000">
                      <a:off x="3216600" y="10643040"/>
                      <a:ext cx="252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35">
                          <a:moveTo>
                            <a:pt x="0" y="35"/>
                          </a:moveTo>
                          <a:lnTo>
                            <a:pt x="5" y="29"/>
                          </a:lnTo>
                          <a:lnTo>
                            <a:pt x="11" y="23"/>
                          </a:lnTo>
                          <a:lnTo>
                            <a:pt x="17" y="17"/>
                          </a:lnTo>
                          <a:lnTo>
                            <a:pt x="22" y="12"/>
                          </a:lnTo>
                          <a:lnTo>
                            <a:pt x="26" y="8"/>
                          </a:lnTo>
                          <a:lnTo>
                            <a:pt x="30" y="5"/>
                          </a:lnTo>
                          <a:lnTo>
                            <a:pt x="32" y="2"/>
                          </a:lnTo>
                          <a:lnTo>
                            <a:pt x="34" y="1"/>
                          </a:lnTo>
                          <a:lnTo>
                            <a:pt x="34" y="0"/>
                          </a:lnTo>
                          <a:lnTo>
                            <a:pt x="3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1" name=""/>
                    <p:cNvSpPr/>
                    <p:nvPr/>
                  </p:nvSpPr>
                  <p:spPr>
                    <a:xfrm rot="5400000">
                      <a:off x="3216600" y="10643040"/>
                      <a:ext cx="252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35">
                          <a:moveTo>
                            <a:pt x="0" y="35"/>
                          </a:moveTo>
                          <a:lnTo>
                            <a:pt x="5" y="29"/>
                          </a:lnTo>
                          <a:lnTo>
                            <a:pt x="11" y="23"/>
                          </a:lnTo>
                          <a:lnTo>
                            <a:pt x="17" y="17"/>
                          </a:lnTo>
                          <a:lnTo>
                            <a:pt x="22" y="12"/>
                          </a:lnTo>
                          <a:lnTo>
                            <a:pt x="26" y="8"/>
                          </a:lnTo>
                          <a:lnTo>
                            <a:pt x="30" y="5"/>
                          </a:lnTo>
                          <a:lnTo>
                            <a:pt x="32" y="2"/>
                          </a:lnTo>
                          <a:lnTo>
                            <a:pt x="34" y="1"/>
                          </a:lnTo>
                          <a:lnTo>
                            <a:pt x="34" y="0"/>
                          </a:lnTo>
                          <a:lnTo>
                            <a:pt x="3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2" name=""/>
                    <p:cNvSpPr/>
                    <p:nvPr/>
                  </p:nvSpPr>
                  <p:spPr>
                    <a:xfrm rot="5400000">
                      <a:off x="3232440" y="10645200"/>
                      <a:ext cx="117000" cy="48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3" name=""/>
                    <p:cNvSpPr/>
                    <p:nvPr/>
                  </p:nvSpPr>
                  <p:spPr>
                    <a:xfrm rot="5400000">
                      <a:off x="3182040" y="10638000"/>
                      <a:ext cx="100800" cy="64800"/>
                    </a:xfrm>
                    <a:custGeom>
                      <a:avLst/>
                      <a:gdLst>
                        <a:gd name="textAreaLeft" fmla="*/ 21960 w 100800"/>
                        <a:gd name="textAreaRight" fmla="*/ 78840 w 100800"/>
                        <a:gd name="textAreaTop" fmla="*/ 14040 h 64800"/>
                        <a:gd name="textAreaBottom" fmla="*/ 50760 h 6480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16200" y="21600"/>
                          </a:lnTo>
                          <a:lnTo>
                            <a:pt x="5400" y="2160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080" bIns="-10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574" name=""/>
                <p:cNvGrpSpPr/>
                <p:nvPr/>
              </p:nvGrpSpPr>
              <p:grpSpPr>
                <a:xfrm>
                  <a:off x="3181320" y="10793160"/>
                  <a:ext cx="146160" cy="133560"/>
                  <a:chOff x="3181320" y="10793160"/>
                  <a:chExt cx="146160" cy="133560"/>
                </a:xfrm>
              </p:grpSpPr>
              <p:sp>
                <p:nvSpPr>
                  <p:cNvPr id="575" name=""/>
                  <p:cNvSpPr/>
                  <p:nvPr/>
                </p:nvSpPr>
                <p:spPr>
                  <a:xfrm rot="5400000">
                    <a:off x="3187440" y="10786680"/>
                    <a:ext cx="133560" cy="14616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76" name=""/>
                  <p:cNvGrpSpPr/>
                  <p:nvPr/>
                </p:nvGrpSpPr>
                <p:grpSpPr>
                  <a:xfrm>
                    <a:off x="3191040" y="10800000"/>
                    <a:ext cx="116640" cy="117360"/>
                    <a:chOff x="3191040" y="10800000"/>
                    <a:chExt cx="116640" cy="117360"/>
                  </a:xfrm>
                </p:grpSpPr>
                <p:sp>
                  <p:nvSpPr>
                    <p:cNvPr id="577" name=""/>
                    <p:cNvSpPr/>
                    <p:nvPr/>
                  </p:nvSpPr>
                  <p:spPr>
                    <a:xfrm rot="5400000">
                      <a:off x="3207960" y="10832040"/>
                      <a:ext cx="252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35">
                          <a:moveTo>
                            <a:pt x="0" y="35"/>
                          </a:moveTo>
                          <a:lnTo>
                            <a:pt x="5" y="29"/>
                          </a:lnTo>
                          <a:lnTo>
                            <a:pt x="11" y="23"/>
                          </a:lnTo>
                          <a:lnTo>
                            <a:pt x="17" y="17"/>
                          </a:lnTo>
                          <a:lnTo>
                            <a:pt x="22" y="12"/>
                          </a:lnTo>
                          <a:lnTo>
                            <a:pt x="26" y="8"/>
                          </a:lnTo>
                          <a:lnTo>
                            <a:pt x="30" y="5"/>
                          </a:lnTo>
                          <a:lnTo>
                            <a:pt x="32" y="2"/>
                          </a:lnTo>
                          <a:lnTo>
                            <a:pt x="34" y="1"/>
                          </a:lnTo>
                          <a:lnTo>
                            <a:pt x="34" y="0"/>
                          </a:lnTo>
                          <a:lnTo>
                            <a:pt x="3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8" name=""/>
                    <p:cNvSpPr/>
                    <p:nvPr/>
                  </p:nvSpPr>
                  <p:spPr>
                    <a:xfrm rot="5400000">
                      <a:off x="3207960" y="10832040"/>
                      <a:ext cx="252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35">
                          <a:moveTo>
                            <a:pt x="0" y="35"/>
                          </a:moveTo>
                          <a:lnTo>
                            <a:pt x="5" y="29"/>
                          </a:lnTo>
                          <a:lnTo>
                            <a:pt x="11" y="23"/>
                          </a:lnTo>
                          <a:lnTo>
                            <a:pt x="17" y="17"/>
                          </a:lnTo>
                          <a:lnTo>
                            <a:pt x="22" y="12"/>
                          </a:lnTo>
                          <a:lnTo>
                            <a:pt x="26" y="8"/>
                          </a:lnTo>
                          <a:lnTo>
                            <a:pt x="30" y="5"/>
                          </a:lnTo>
                          <a:lnTo>
                            <a:pt x="32" y="2"/>
                          </a:lnTo>
                          <a:lnTo>
                            <a:pt x="34" y="1"/>
                          </a:lnTo>
                          <a:lnTo>
                            <a:pt x="34" y="0"/>
                          </a:lnTo>
                          <a:lnTo>
                            <a:pt x="3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9" name=""/>
                    <p:cNvSpPr/>
                    <p:nvPr/>
                  </p:nvSpPr>
                  <p:spPr>
                    <a:xfrm rot="5400000">
                      <a:off x="3224160" y="10833840"/>
                      <a:ext cx="117360" cy="496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880" bIns="2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0" name=""/>
                    <p:cNvSpPr/>
                    <p:nvPr/>
                  </p:nvSpPr>
                  <p:spPr>
                    <a:xfrm rot="5400000">
                      <a:off x="3173040" y="10826280"/>
                      <a:ext cx="101160" cy="65520"/>
                    </a:xfrm>
                    <a:custGeom>
                      <a:avLst/>
                      <a:gdLst>
                        <a:gd name="textAreaLeft" fmla="*/ 22320 w 101160"/>
                        <a:gd name="textAreaRight" fmla="*/ 78840 w 101160"/>
                        <a:gd name="textAreaTop" fmla="*/ 14400 h 65520"/>
                        <a:gd name="textAreaBottom" fmla="*/ 51120 h 6552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16200" y="21600"/>
                          </a:lnTo>
                          <a:lnTo>
                            <a:pt x="5400" y="2160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080" bIns="-10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581" name=""/>
            <p:cNvGrpSpPr/>
            <p:nvPr/>
          </p:nvGrpSpPr>
          <p:grpSpPr>
            <a:xfrm>
              <a:off x="3205080" y="11103120"/>
              <a:ext cx="1147680" cy="4606560"/>
              <a:chOff x="3205080" y="11103120"/>
              <a:chExt cx="1147680" cy="4606560"/>
            </a:xfrm>
          </p:grpSpPr>
          <p:sp>
            <p:nvSpPr>
              <p:cNvPr id="582" name=""/>
              <p:cNvSpPr/>
              <p:nvPr/>
            </p:nvSpPr>
            <p:spPr>
              <a:xfrm flipV="1" rot="5400000">
                <a:off x="3267000" y="15129360"/>
                <a:ext cx="28764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V="1" rot="5400000">
                <a:off x="3312720" y="15529320"/>
                <a:ext cx="179640" cy="179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V="1">
                <a:off x="3297240" y="15186960"/>
                <a:ext cx="196920" cy="152280"/>
              </a:xfrm>
              <a:custGeom>
                <a:avLst/>
                <a:gdLst>
                  <a:gd name="textAreaLeft" fmla="*/ 43200 w 196920"/>
                  <a:gd name="textAreaRight" fmla="*/ 153720 w 196920"/>
                  <a:gd name="textAreaTop" fmla="*/ 33480 h 152280"/>
                  <a:gd name="textAreaBottom" fmla="*/ 118800 h 15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5" name=""/>
              <p:cNvGrpSpPr/>
              <p:nvPr/>
            </p:nvGrpSpPr>
            <p:grpSpPr>
              <a:xfrm>
                <a:off x="3611520" y="15166800"/>
                <a:ext cx="360360" cy="542880"/>
                <a:chOff x="3611520" y="15166800"/>
                <a:chExt cx="360360" cy="542880"/>
              </a:xfrm>
            </p:grpSpPr>
            <p:sp>
              <p:nvSpPr>
                <p:cNvPr id="586" name=""/>
                <p:cNvSpPr/>
                <p:nvPr/>
              </p:nvSpPr>
              <p:spPr>
                <a:xfrm flipV="1" rot="5400000">
                  <a:off x="3647520" y="15130440"/>
                  <a:ext cx="288000" cy="3603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 flipV="1" rot="5400000">
                  <a:off x="3693600" y="15530040"/>
                  <a:ext cx="180000" cy="179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 flipV="1">
                  <a:off x="3678120" y="15189120"/>
                  <a:ext cx="196920" cy="152640"/>
                </a:xfrm>
                <a:custGeom>
                  <a:avLst/>
                  <a:gdLst>
                    <a:gd name="textAreaLeft" fmla="*/ 43200 w 196920"/>
                    <a:gd name="textAreaRight" fmla="*/ 153720 w 196920"/>
                    <a:gd name="textAreaTop" fmla="*/ 33480 h 152640"/>
                    <a:gd name="textAreaBottom" fmla="*/ 119160 h 152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9" name=""/>
              <p:cNvGrpSpPr/>
              <p:nvPr/>
            </p:nvGrpSpPr>
            <p:grpSpPr>
              <a:xfrm>
                <a:off x="3992400" y="15166800"/>
                <a:ext cx="360360" cy="542880"/>
                <a:chOff x="3992400" y="15166800"/>
                <a:chExt cx="360360" cy="542880"/>
              </a:xfrm>
            </p:grpSpPr>
            <p:sp>
              <p:nvSpPr>
                <p:cNvPr id="590" name=""/>
                <p:cNvSpPr/>
                <p:nvPr/>
              </p:nvSpPr>
              <p:spPr>
                <a:xfrm flipV="1" rot="5400000">
                  <a:off x="4028400" y="15130440"/>
                  <a:ext cx="288000" cy="3603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 flipV="1" rot="5400000">
                  <a:off x="4074480" y="15530040"/>
                  <a:ext cx="180000" cy="179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 flipV="1">
                  <a:off x="4059000" y="15189120"/>
                  <a:ext cx="196920" cy="152640"/>
                </a:xfrm>
                <a:custGeom>
                  <a:avLst/>
                  <a:gdLst>
                    <a:gd name="textAreaLeft" fmla="*/ 43200 w 196920"/>
                    <a:gd name="textAreaRight" fmla="*/ 153720 w 196920"/>
                    <a:gd name="textAreaTop" fmla="*/ 33480 h 152640"/>
                    <a:gd name="textAreaBottom" fmla="*/ 119160 h 152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3" name=""/>
              <p:cNvGrpSpPr/>
              <p:nvPr/>
            </p:nvGrpSpPr>
            <p:grpSpPr>
              <a:xfrm>
                <a:off x="3224160" y="14604840"/>
                <a:ext cx="360360" cy="544320"/>
                <a:chOff x="3224160" y="14604840"/>
                <a:chExt cx="360360" cy="544320"/>
              </a:xfrm>
            </p:grpSpPr>
            <p:sp>
              <p:nvSpPr>
                <p:cNvPr id="594" name=""/>
                <p:cNvSpPr/>
                <p:nvPr/>
              </p:nvSpPr>
              <p:spPr>
                <a:xfrm rot="16200000">
                  <a:off x="3259800" y="14824440"/>
                  <a:ext cx="288720" cy="3603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 rot="16200000">
                  <a:off x="3305880" y="14605200"/>
                  <a:ext cx="180360" cy="179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3290760" y="14974200"/>
                  <a:ext cx="196920" cy="153000"/>
                </a:xfrm>
                <a:custGeom>
                  <a:avLst/>
                  <a:gdLst>
                    <a:gd name="textAreaLeft" fmla="*/ 43200 w 196920"/>
                    <a:gd name="textAreaRight" fmla="*/ 153720 w 196920"/>
                    <a:gd name="textAreaTop" fmla="*/ 33480 h 153000"/>
                    <a:gd name="textAreaBottom" fmla="*/ 119520 h 153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7" name=""/>
              <p:cNvGrpSpPr/>
              <p:nvPr/>
            </p:nvGrpSpPr>
            <p:grpSpPr>
              <a:xfrm>
                <a:off x="3606840" y="14603400"/>
                <a:ext cx="360360" cy="544320"/>
                <a:chOff x="3606840" y="14603400"/>
                <a:chExt cx="360360" cy="544320"/>
              </a:xfrm>
            </p:grpSpPr>
            <p:sp>
              <p:nvSpPr>
                <p:cNvPr id="598" name=""/>
                <p:cNvSpPr/>
                <p:nvPr/>
              </p:nvSpPr>
              <p:spPr>
                <a:xfrm rot="16200000">
                  <a:off x="3642480" y="14823000"/>
                  <a:ext cx="288720" cy="3603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 rot="16200000">
                  <a:off x="3688560" y="14603760"/>
                  <a:ext cx="180360" cy="179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3673440" y="14972760"/>
                  <a:ext cx="196920" cy="153000"/>
                </a:xfrm>
                <a:custGeom>
                  <a:avLst/>
                  <a:gdLst>
                    <a:gd name="textAreaLeft" fmla="*/ 43200 w 196920"/>
                    <a:gd name="textAreaRight" fmla="*/ 153720 w 196920"/>
                    <a:gd name="textAreaTop" fmla="*/ 33480 h 153000"/>
                    <a:gd name="textAreaBottom" fmla="*/ 119520 h 153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1" name=""/>
              <p:cNvGrpSpPr/>
              <p:nvPr/>
            </p:nvGrpSpPr>
            <p:grpSpPr>
              <a:xfrm>
                <a:off x="3986280" y="14604840"/>
                <a:ext cx="360360" cy="544320"/>
                <a:chOff x="3986280" y="14604840"/>
                <a:chExt cx="360360" cy="544320"/>
              </a:xfrm>
            </p:grpSpPr>
            <p:sp>
              <p:nvSpPr>
                <p:cNvPr id="602" name=""/>
                <p:cNvSpPr/>
                <p:nvPr/>
              </p:nvSpPr>
              <p:spPr>
                <a:xfrm rot="16200000">
                  <a:off x="4021920" y="14824440"/>
                  <a:ext cx="288720" cy="3603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 rot="16200000">
                  <a:off x="4068000" y="14605200"/>
                  <a:ext cx="180360" cy="179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4052880" y="14974200"/>
                  <a:ext cx="196920" cy="153000"/>
                </a:xfrm>
                <a:custGeom>
                  <a:avLst/>
                  <a:gdLst>
                    <a:gd name="textAreaLeft" fmla="*/ 43200 w 196920"/>
                    <a:gd name="textAreaRight" fmla="*/ 153720 w 196920"/>
                    <a:gd name="textAreaTop" fmla="*/ 33480 h 153000"/>
                    <a:gd name="textAreaBottom" fmla="*/ 119520 h 153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5" name=""/>
              <p:cNvGrpSpPr/>
              <p:nvPr/>
            </p:nvGrpSpPr>
            <p:grpSpPr>
              <a:xfrm>
                <a:off x="3211560" y="14044680"/>
                <a:ext cx="360360" cy="542520"/>
                <a:chOff x="3211560" y="14044680"/>
                <a:chExt cx="360360" cy="542520"/>
              </a:xfrm>
            </p:grpSpPr>
            <p:sp>
              <p:nvSpPr>
                <p:cNvPr id="606" name=""/>
                <p:cNvSpPr/>
                <p:nvPr/>
              </p:nvSpPr>
              <p:spPr>
                <a:xfrm flipV="1" rot="5400000">
                  <a:off x="3247560" y="14008320"/>
                  <a:ext cx="288000" cy="3603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 flipV="1" rot="5400000">
                  <a:off x="3293640" y="14407560"/>
                  <a:ext cx="180000" cy="179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 flipV="1">
                  <a:off x="3278160" y="14067000"/>
                  <a:ext cx="196920" cy="152640"/>
                </a:xfrm>
                <a:custGeom>
                  <a:avLst/>
                  <a:gdLst>
                    <a:gd name="textAreaLeft" fmla="*/ 43200 w 196920"/>
                    <a:gd name="textAreaRight" fmla="*/ 153720 w 196920"/>
                    <a:gd name="textAreaTop" fmla="*/ 33480 h 152640"/>
                    <a:gd name="textAreaBottom" fmla="*/ 119160 h 152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9" name=""/>
              <p:cNvGrpSpPr/>
              <p:nvPr/>
            </p:nvGrpSpPr>
            <p:grpSpPr>
              <a:xfrm>
                <a:off x="3594240" y="14042880"/>
                <a:ext cx="360360" cy="542880"/>
                <a:chOff x="3594240" y="14042880"/>
                <a:chExt cx="360360" cy="542880"/>
              </a:xfrm>
            </p:grpSpPr>
            <p:sp>
              <p:nvSpPr>
                <p:cNvPr id="610" name=""/>
                <p:cNvSpPr/>
                <p:nvPr/>
              </p:nvSpPr>
              <p:spPr>
                <a:xfrm flipV="1" rot="5400000">
                  <a:off x="3630240" y="14006520"/>
                  <a:ext cx="288000" cy="3603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 flipV="1" rot="5400000">
                  <a:off x="3676320" y="14406120"/>
                  <a:ext cx="180000" cy="179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 flipV="1">
                  <a:off x="3660840" y="14065200"/>
                  <a:ext cx="196920" cy="152640"/>
                </a:xfrm>
                <a:custGeom>
                  <a:avLst/>
                  <a:gdLst>
                    <a:gd name="textAreaLeft" fmla="*/ 43200 w 196920"/>
                    <a:gd name="textAreaRight" fmla="*/ 153720 w 196920"/>
                    <a:gd name="textAreaTop" fmla="*/ 33480 h 152640"/>
                    <a:gd name="textAreaBottom" fmla="*/ 119160 h 152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3" name=""/>
              <p:cNvGrpSpPr/>
              <p:nvPr/>
            </p:nvGrpSpPr>
            <p:grpSpPr>
              <a:xfrm>
                <a:off x="3973680" y="14044680"/>
                <a:ext cx="360360" cy="542520"/>
                <a:chOff x="3973680" y="14044680"/>
                <a:chExt cx="360360" cy="542520"/>
              </a:xfrm>
            </p:grpSpPr>
            <p:sp>
              <p:nvSpPr>
                <p:cNvPr id="614" name=""/>
                <p:cNvSpPr/>
                <p:nvPr/>
              </p:nvSpPr>
              <p:spPr>
                <a:xfrm flipV="1" rot="5400000">
                  <a:off x="4009680" y="14008320"/>
                  <a:ext cx="288000" cy="3603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 flipV="1" rot="5400000">
                  <a:off x="4055760" y="14407560"/>
                  <a:ext cx="180000" cy="179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 flipV="1">
                  <a:off x="4040280" y="14067000"/>
                  <a:ext cx="196920" cy="152640"/>
                </a:xfrm>
                <a:custGeom>
                  <a:avLst/>
                  <a:gdLst>
                    <a:gd name="textAreaLeft" fmla="*/ 43200 w 196920"/>
                    <a:gd name="textAreaRight" fmla="*/ 153720 w 196920"/>
                    <a:gd name="textAreaTop" fmla="*/ 33480 h 152640"/>
                    <a:gd name="textAreaBottom" fmla="*/ 119160 h 152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7" name=""/>
              <p:cNvGrpSpPr/>
              <p:nvPr/>
            </p:nvGrpSpPr>
            <p:grpSpPr>
              <a:xfrm>
                <a:off x="3218040" y="13483080"/>
                <a:ext cx="360360" cy="543960"/>
                <a:chOff x="3218040" y="13483080"/>
                <a:chExt cx="360360" cy="543960"/>
              </a:xfrm>
            </p:grpSpPr>
            <p:sp>
              <p:nvSpPr>
                <p:cNvPr id="618" name=""/>
                <p:cNvSpPr/>
                <p:nvPr/>
              </p:nvSpPr>
              <p:spPr>
                <a:xfrm rot="16200000">
                  <a:off x="3253680" y="13702320"/>
                  <a:ext cx="288720" cy="3603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 rot="16200000">
                  <a:off x="3299760" y="13483440"/>
                  <a:ext cx="180360" cy="179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3284640" y="13852080"/>
                  <a:ext cx="196920" cy="153000"/>
                </a:xfrm>
                <a:custGeom>
                  <a:avLst/>
                  <a:gdLst>
                    <a:gd name="textAreaLeft" fmla="*/ 43200 w 196920"/>
                    <a:gd name="textAreaRight" fmla="*/ 153720 w 196920"/>
                    <a:gd name="textAreaTop" fmla="*/ 33480 h 153000"/>
                    <a:gd name="textAreaBottom" fmla="*/ 119520 h 153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1" name=""/>
              <p:cNvGrpSpPr/>
              <p:nvPr/>
            </p:nvGrpSpPr>
            <p:grpSpPr>
              <a:xfrm>
                <a:off x="3600360" y="13480920"/>
                <a:ext cx="360360" cy="544320"/>
                <a:chOff x="3600360" y="13480920"/>
                <a:chExt cx="360360" cy="544320"/>
              </a:xfrm>
            </p:grpSpPr>
            <p:sp>
              <p:nvSpPr>
                <p:cNvPr id="622" name=""/>
                <p:cNvSpPr/>
                <p:nvPr/>
              </p:nvSpPr>
              <p:spPr>
                <a:xfrm rot="16200000">
                  <a:off x="3636000" y="13700520"/>
                  <a:ext cx="288720" cy="3603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 rot="16200000">
                  <a:off x="3682080" y="13481280"/>
                  <a:ext cx="180360" cy="179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3666960" y="13850280"/>
                  <a:ext cx="196920" cy="153000"/>
                </a:xfrm>
                <a:custGeom>
                  <a:avLst/>
                  <a:gdLst>
                    <a:gd name="textAreaLeft" fmla="*/ 43200 w 196920"/>
                    <a:gd name="textAreaRight" fmla="*/ 153720 w 196920"/>
                    <a:gd name="textAreaTop" fmla="*/ 33480 h 153000"/>
                    <a:gd name="textAreaBottom" fmla="*/ 119520 h 153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5" name=""/>
              <p:cNvGrpSpPr/>
              <p:nvPr/>
            </p:nvGrpSpPr>
            <p:grpSpPr>
              <a:xfrm>
                <a:off x="3979800" y="13483080"/>
                <a:ext cx="360360" cy="543960"/>
                <a:chOff x="3979800" y="13483080"/>
                <a:chExt cx="360360" cy="543960"/>
              </a:xfrm>
            </p:grpSpPr>
            <p:sp>
              <p:nvSpPr>
                <p:cNvPr id="626" name=""/>
                <p:cNvSpPr/>
                <p:nvPr/>
              </p:nvSpPr>
              <p:spPr>
                <a:xfrm rot="16200000">
                  <a:off x="4015440" y="13702320"/>
                  <a:ext cx="288720" cy="3603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 rot="16200000">
                  <a:off x="4061520" y="13483440"/>
                  <a:ext cx="180360" cy="179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4046400" y="13852080"/>
                  <a:ext cx="196920" cy="153000"/>
                </a:xfrm>
                <a:custGeom>
                  <a:avLst/>
                  <a:gdLst>
                    <a:gd name="textAreaLeft" fmla="*/ 43200 w 196920"/>
                    <a:gd name="textAreaRight" fmla="*/ 153720 w 196920"/>
                    <a:gd name="textAreaTop" fmla="*/ 33480 h 153000"/>
                    <a:gd name="textAreaBottom" fmla="*/ 119520 h 153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9" name=""/>
              <p:cNvGrpSpPr/>
              <p:nvPr/>
            </p:nvGrpSpPr>
            <p:grpSpPr>
              <a:xfrm>
                <a:off x="3218040" y="12922200"/>
                <a:ext cx="360360" cy="542520"/>
                <a:chOff x="3218040" y="12922200"/>
                <a:chExt cx="360360" cy="542520"/>
              </a:xfrm>
            </p:grpSpPr>
            <p:sp>
              <p:nvSpPr>
                <p:cNvPr id="630" name=""/>
                <p:cNvSpPr/>
                <p:nvPr/>
              </p:nvSpPr>
              <p:spPr>
                <a:xfrm flipV="1" rot="5400000">
                  <a:off x="3254040" y="12885840"/>
                  <a:ext cx="288000" cy="3603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 flipV="1" rot="5400000">
                  <a:off x="3300120" y="13285080"/>
                  <a:ext cx="180000" cy="179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 flipV="1">
                  <a:off x="3284640" y="12944520"/>
                  <a:ext cx="196920" cy="152640"/>
                </a:xfrm>
                <a:custGeom>
                  <a:avLst/>
                  <a:gdLst>
                    <a:gd name="textAreaLeft" fmla="*/ 43200 w 196920"/>
                    <a:gd name="textAreaRight" fmla="*/ 153720 w 196920"/>
                    <a:gd name="textAreaTop" fmla="*/ 33480 h 152640"/>
                    <a:gd name="textAreaBottom" fmla="*/ 119160 h 152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3" name=""/>
              <p:cNvGrpSpPr/>
              <p:nvPr/>
            </p:nvGrpSpPr>
            <p:grpSpPr>
              <a:xfrm>
                <a:off x="3600360" y="12920760"/>
                <a:ext cx="360360" cy="542520"/>
                <a:chOff x="3600360" y="12920760"/>
                <a:chExt cx="360360" cy="542520"/>
              </a:xfrm>
            </p:grpSpPr>
            <p:sp>
              <p:nvSpPr>
                <p:cNvPr id="634" name=""/>
                <p:cNvSpPr/>
                <p:nvPr/>
              </p:nvSpPr>
              <p:spPr>
                <a:xfrm flipV="1" rot="5400000">
                  <a:off x="3636360" y="12884400"/>
                  <a:ext cx="288000" cy="3603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 flipV="1" rot="5400000">
                  <a:off x="3682440" y="13283640"/>
                  <a:ext cx="180000" cy="179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 flipV="1">
                  <a:off x="3666960" y="12943080"/>
                  <a:ext cx="196920" cy="152640"/>
                </a:xfrm>
                <a:custGeom>
                  <a:avLst/>
                  <a:gdLst>
                    <a:gd name="textAreaLeft" fmla="*/ 43200 w 196920"/>
                    <a:gd name="textAreaRight" fmla="*/ 153720 w 196920"/>
                    <a:gd name="textAreaTop" fmla="*/ 33480 h 152640"/>
                    <a:gd name="textAreaBottom" fmla="*/ 119160 h 152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7" name=""/>
              <p:cNvGrpSpPr/>
              <p:nvPr/>
            </p:nvGrpSpPr>
            <p:grpSpPr>
              <a:xfrm>
                <a:off x="3979800" y="12922200"/>
                <a:ext cx="360360" cy="542520"/>
                <a:chOff x="3979800" y="12922200"/>
                <a:chExt cx="360360" cy="542520"/>
              </a:xfrm>
            </p:grpSpPr>
            <p:sp>
              <p:nvSpPr>
                <p:cNvPr id="638" name=""/>
                <p:cNvSpPr/>
                <p:nvPr/>
              </p:nvSpPr>
              <p:spPr>
                <a:xfrm flipV="1" rot="5400000">
                  <a:off x="4015800" y="12885840"/>
                  <a:ext cx="288000" cy="3603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 flipV="1" rot="5400000">
                  <a:off x="4061880" y="13285080"/>
                  <a:ext cx="180000" cy="179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 flipV="1">
                  <a:off x="4046400" y="12944520"/>
                  <a:ext cx="196920" cy="152640"/>
                </a:xfrm>
                <a:custGeom>
                  <a:avLst/>
                  <a:gdLst>
                    <a:gd name="textAreaLeft" fmla="*/ 43200 w 196920"/>
                    <a:gd name="textAreaRight" fmla="*/ 153720 w 196920"/>
                    <a:gd name="textAreaTop" fmla="*/ 33480 h 152640"/>
                    <a:gd name="textAreaBottom" fmla="*/ 119160 h 152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1" name=""/>
              <p:cNvGrpSpPr/>
              <p:nvPr/>
            </p:nvGrpSpPr>
            <p:grpSpPr>
              <a:xfrm>
                <a:off x="3218040" y="12360240"/>
                <a:ext cx="360360" cy="544320"/>
                <a:chOff x="3218040" y="12360240"/>
                <a:chExt cx="360360" cy="544320"/>
              </a:xfrm>
            </p:grpSpPr>
            <p:sp>
              <p:nvSpPr>
                <p:cNvPr id="642" name=""/>
                <p:cNvSpPr/>
                <p:nvPr/>
              </p:nvSpPr>
              <p:spPr>
                <a:xfrm rot="16200000">
                  <a:off x="3253680" y="12579840"/>
                  <a:ext cx="288720" cy="3603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 rot="16200000">
                  <a:off x="3299760" y="12360600"/>
                  <a:ext cx="180360" cy="179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3284640" y="12729600"/>
                  <a:ext cx="196920" cy="153000"/>
                </a:xfrm>
                <a:custGeom>
                  <a:avLst/>
                  <a:gdLst>
                    <a:gd name="textAreaLeft" fmla="*/ 43200 w 196920"/>
                    <a:gd name="textAreaRight" fmla="*/ 153720 w 196920"/>
                    <a:gd name="textAreaTop" fmla="*/ 33480 h 153000"/>
                    <a:gd name="textAreaBottom" fmla="*/ 119520 h 153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5" name=""/>
              <p:cNvGrpSpPr/>
              <p:nvPr/>
            </p:nvGrpSpPr>
            <p:grpSpPr>
              <a:xfrm>
                <a:off x="3600360" y="12359160"/>
                <a:ext cx="360360" cy="543960"/>
                <a:chOff x="3600360" y="12359160"/>
                <a:chExt cx="360360" cy="543960"/>
              </a:xfrm>
            </p:grpSpPr>
            <p:sp>
              <p:nvSpPr>
                <p:cNvPr id="646" name=""/>
                <p:cNvSpPr/>
                <p:nvPr/>
              </p:nvSpPr>
              <p:spPr>
                <a:xfrm rot="16200000">
                  <a:off x="3636000" y="12578400"/>
                  <a:ext cx="288720" cy="3603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 rot="16200000">
                  <a:off x="3682080" y="12359520"/>
                  <a:ext cx="180360" cy="179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3666960" y="12728160"/>
                  <a:ext cx="196920" cy="153000"/>
                </a:xfrm>
                <a:custGeom>
                  <a:avLst/>
                  <a:gdLst>
                    <a:gd name="textAreaLeft" fmla="*/ 43200 w 196920"/>
                    <a:gd name="textAreaRight" fmla="*/ 153720 w 196920"/>
                    <a:gd name="textAreaTop" fmla="*/ 33480 h 153000"/>
                    <a:gd name="textAreaBottom" fmla="*/ 119520 h 153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9" name=""/>
              <p:cNvGrpSpPr/>
              <p:nvPr/>
            </p:nvGrpSpPr>
            <p:grpSpPr>
              <a:xfrm>
                <a:off x="3979800" y="12360240"/>
                <a:ext cx="360360" cy="544320"/>
                <a:chOff x="3979800" y="12360240"/>
                <a:chExt cx="360360" cy="544320"/>
              </a:xfrm>
            </p:grpSpPr>
            <p:sp>
              <p:nvSpPr>
                <p:cNvPr id="650" name=""/>
                <p:cNvSpPr/>
                <p:nvPr/>
              </p:nvSpPr>
              <p:spPr>
                <a:xfrm rot="16200000">
                  <a:off x="4015440" y="12579840"/>
                  <a:ext cx="288720" cy="3603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 rot="16200000">
                  <a:off x="4061520" y="12360600"/>
                  <a:ext cx="180360" cy="179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4046400" y="12729600"/>
                  <a:ext cx="196920" cy="153000"/>
                </a:xfrm>
                <a:custGeom>
                  <a:avLst/>
                  <a:gdLst>
                    <a:gd name="textAreaLeft" fmla="*/ 43200 w 196920"/>
                    <a:gd name="textAreaRight" fmla="*/ 153720 w 196920"/>
                    <a:gd name="textAreaTop" fmla="*/ 33480 h 153000"/>
                    <a:gd name="textAreaBottom" fmla="*/ 119520 h 153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3" name=""/>
              <p:cNvSpPr/>
              <p:nvPr/>
            </p:nvSpPr>
            <p:spPr>
              <a:xfrm flipV="1" rot="5400000">
                <a:off x="3254400" y="11694960"/>
                <a:ext cx="28728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flipV="1" rot="5400000">
                <a:off x="3300480" y="12095280"/>
                <a:ext cx="179280" cy="179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flipV="1">
                <a:off x="3284640" y="11752200"/>
                <a:ext cx="196920" cy="152640"/>
              </a:xfrm>
              <a:custGeom>
                <a:avLst/>
                <a:gdLst>
                  <a:gd name="textAreaLeft" fmla="*/ 43200 w 196920"/>
                  <a:gd name="textAreaRight" fmla="*/ 153720 w 196920"/>
                  <a:gd name="textAreaTop" fmla="*/ 33480 h 152640"/>
                  <a:gd name="textAreaBottom" fmla="*/ 119160 h 15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flipV="1" rot="5400000">
                <a:off x="3635280" y="11694960"/>
                <a:ext cx="28728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flipV="1" rot="5400000">
                <a:off x="3681360" y="12095280"/>
                <a:ext cx="179280" cy="179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flipV="1">
                <a:off x="3665520" y="11752200"/>
                <a:ext cx="196920" cy="152640"/>
              </a:xfrm>
              <a:custGeom>
                <a:avLst/>
                <a:gdLst>
                  <a:gd name="textAreaLeft" fmla="*/ 43200 w 196920"/>
                  <a:gd name="textAreaRight" fmla="*/ 153720 w 196920"/>
                  <a:gd name="textAreaTop" fmla="*/ 33480 h 152640"/>
                  <a:gd name="textAreaBottom" fmla="*/ 119160 h 15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6200000">
                <a:off x="3240720" y="11067120"/>
                <a:ext cx="28872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flipV="1" rot="5400000">
                <a:off x="3287520" y="11465280"/>
                <a:ext cx="179640" cy="179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V="1">
                <a:off x="3271680" y="11122920"/>
                <a:ext cx="196920" cy="152280"/>
              </a:xfrm>
              <a:custGeom>
                <a:avLst/>
                <a:gdLst>
                  <a:gd name="textAreaLeft" fmla="*/ 43200 w 196920"/>
                  <a:gd name="textAreaRight" fmla="*/ 153720 w 196920"/>
                  <a:gd name="textAreaTop" fmla="*/ 33480 h 152280"/>
                  <a:gd name="textAreaBottom" fmla="*/ 118800 h 15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6200000">
                <a:off x="3621960" y="11067120"/>
                <a:ext cx="28872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flipV="1" rot="5400000">
                <a:off x="3668400" y="11465280"/>
                <a:ext cx="179640" cy="179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V="1">
                <a:off x="3652920" y="11122920"/>
                <a:ext cx="196920" cy="152280"/>
              </a:xfrm>
              <a:custGeom>
                <a:avLst/>
                <a:gdLst>
                  <a:gd name="textAreaLeft" fmla="*/ 43200 w 196920"/>
                  <a:gd name="textAreaRight" fmla="*/ 153720 w 196920"/>
                  <a:gd name="textAreaTop" fmla="*/ 33480 h 152280"/>
                  <a:gd name="textAreaBottom" fmla="*/ 118800 h 15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6200000">
                <a:off x="4018680" y="11077920"/>
                <a:ext cx="28908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flipV="1" rot="5400000">
                <a:off x="4065480" y="11476440"/>
                <a:ext cx="179640" cy="179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V="1">
                <a:off x="4049640" y="11134080"/>
                <a:ext cx="196920" cy="152280"/>
              </a:xfrm>
              <a:custGeom>
                <a:avLst/>
                <a:gdLst>
                  <a:gd name="textAreaLeft" fmla="*/ 43200 w 196920"/>
                  <a:gd name="textAreaRight" fmla="*/ 153720 w 196920"/>
                  <a:gd name="textAreaTop" fmla="*/ 33480 h 152280"/>
                  <a:gd name="textAreaBottom" fmla="*/ 118800 h 15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flipV="1" rot="5400000">
                <a:off x="4011480" y="11687040"/>
                <a:ext cx="28728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flipV="1" rot="5400000">
                <a:off x="4057560" y="12087000"/>
                <a:ext cx="179280" cy="179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flipV="1">
                <a:off x="4041720" y="11743560"/>
                <a:ext cx="196920" cy="152280"/>
              </a:xfrm>
              <a:custGeom>
                <a:avLst/>
                <a:gdLst>
                  <a:gd name="textAreaLeft" fmla="*/ 43200 w 196920"/>
                  <a:gd name="textAreaRight" fmla="*/ 153720 w 196920"/>
                  <a:gd name="textAreaTop" fmla="*/ 33480 h 152280"/>
                  <a:gd name="textAreaBottom" fmla="*/ 118800 h 15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5571720" y="10074240"/>
              <a:ext cx="1150920" cy="969840"/>
              <a:chOff x="5571720" y="10074240"/>
              <a:chExt cx="1150920" cy="969840"/>
            </a:xfrm>
          </p:grpSpPr>
          <p:grpSp>
            <p:nvGrpSpPr>
              <p:cNvPr id="672" name=""/>
              <p:cNvGrpSpPr/>
              <p:nvPr/>
            </p:nvGrpSpPr>
            <p:grpSpPr>
              <a:xfrm>
                <a:off x="5571720" y="10326240"/>
                <a:ext cx="541440" cy="360000"/>
                <a:chOff x="5571720" y="10326240"/>
                <a:chExt cx="541440" cy="360000"/>
              </a:xfrm>
            </p:grpSpPr>
            <p:sp>
              <p:nvSpPr>
                <p:cNvPr id="673" name=""/>
                <p:cNvSpPr/>
                <p:nvPr/>
              </p:nvSpPr>
              <p:spPr>
                <a:xfrm flipH="1">
                  <a:off x="5825880" y="10326240"/>
                  <a:ext cx="287280" cy="360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 flipH="1">
                  <a:off x="5571360" y="10408320"/>
                  <a:ext cx="179640" cy="179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 flipH="1" rot="16200000">
                  <a:off x="5916240" y="10414440"/>
                  <a:ext cx="196560" cy="152280"/>
                </a:xfrm>
                <a:custGeom>
                  <a:avLst/>
                  <a:gdLst>
                    <a:gd name="textAreaLeft" fmla="*/ 43200 w 196560"/>
                    <a:gd name="textAreaRight" fmla="*/ 153360 w 196560"/>
                    <a:gd name="textAreaTop" fmla="*/ 33480 h 152280"/>
                    <a:gd name="textAreaBottom" fmla="*/ 118800 h 152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6" name=""/>
              <p:cNvGrpSpPr/>
              <p:nvPr/>
            </p:nvGrpSpPr>
            <p:grpSpPr>
              <a:xfrm>
                <a:off x="6398640" y="10074240"/>
                <a:ext cx="324000" cy="969840"/>
                <a:chOff x="6398640" y="10074240"/>
                <a:chExt cx="324000" cy="969840"/>
              </a:xfrm>
            </p:grpSpPr>
            <p:grpSp>
              <p:nvGrpSpPr>
                <p:cNvPr id="677" name=""/>
                <p:cNvGrpSpPr/>
                <p:nvPr/>
              </p:nvGrpSpPr>
              <p:grpSpPr>
                <a:xfrm>
                  <a:off x="6441480" y="10655280"/>
                  <a:ext cx="146160" cy="131760"/>
                  <a:chOff x="6441480" y="10655280"/>
                  <a:chExt cx="146160" cy="131760"/>
                </a:xfrm>
              </p:grpSpPr>
              <p:sp>
                <p:nvSpPr>
                  <p:cNvPr id="678" name=""/>
                  <p:cNvSpPr/>
                  <p:nvPr/>
                </p:nvSpPr>
                <p:spPr>
                  <a:xfrm flipH="1" rot="16200000">
                    <a:off x="6448680" y="10648080"/>
                    <a:ext cx="131760" cy="14616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79" name=""/>
                  <p:cNvGrpSpPr/>
                  <p:nvPr/>
                </p:nvGrpSpPr>
                <p:grpSpPr>
                  <a:xfrm>
                    <a:off x="6461280" y="10662120"/>
                    <a:ext cx="116640" cy="115920"/>
                    <a:chOff x="6461280" y="10662120"/>
                    <a:chExt cx="116640" cy="115920"/>
                  </a:xfrm>
                </p:grpSpPr>
                <p:sp>
                  <p:nvSpPr>
                    <p:cNvPr id="680" name=""/>
                    <p:cNvSpPr/>
                    <p:nvPr/>
                  </p:nvSpPr>
                  <p:spPr>
                    <a:xfrm flipH="1" rot="16200000">
                      <a:off x="6558120" y="10693800"/>
                      <a:ext cx="252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35">
                          <a:moveTo>
                            <a:pt x="0" y="35"/>
                          </a:moveTo>
                          <a:lnTo>
                            <a:pt x="5" y="29"/>
                          </a:lnTo>
                          <a:lnTo>
                            <a:pt x="11" y="23"/>
                          </a:lnTo>
                          <a:lnTo>
                            <a:pt x="17" y="17"/>
                          </a:lnTo>
                          <a:lnTo>
                            <a:pt x="22" y="12"/>
                          </a:lnTo>
                          <a:lnTo>
                            <a:pt x="26" y="8"/>
                          </a:lnTo>
                          <a:lnTo>
                            <a:pt x="30" y="5"/>
                          </a:lnTo>
                          <a:lnTo>
                            <a:pt x="32" y="2"/>
                          </a:lnTo>
                          <a:lnTo>
                            <a:pt x="34" y="1"/>
                          </a:lnTo>
                          <a:lnTo>
                            <a:pt x="34" y="0"/>
                          </a:lnTo>
                          <a:lnTo>
                            <a:pt x="3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1" name=""/>
                    <p:cNvSpPr/>
                    <p:nvPr/>
                  </p:nvSpPr>
                  <p:spPr>
                    <a:xfrm flipH="1" rot="16200000">
                      <a:off x="6558120" y="10693800"/>
                      <a:ext cx="252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35">
                          <a:moveTo>
                            <a:pt x="0" y="35"/>
                          </a:moveTo>
                          <a:lnTo>
                            <a:pt x="5" y="29"/>
                          </a:lnTo>
                          <a:lnTo>
                            <a:pt x="11" y="23"/>
                          </a:lnTo>
                          <a:lnTo>
                            <a:pt x="17" y="17"/>
                          </a:lnTo>
                          <a:lnTo>
                            <a:pt x="22" y="12"/>
                          </a:lnTo>
                          <a:lnTo>
                            <a:pt x="26" y="8"/>
                          </a:lnTo>
                          <a:lnTo>
                            <a:pt x="30" y="5"/>
                          </a:lnTo>
                          <a:lnTo>
                            <a:pt x="32" y="2"/>
                          </a:lnTo>
                          <a:lnTo>
                            <a:pt x="34" y="1"/>
                          </a:lnTo>
                          <a:lnTo>
                            <a:pt x="34" y="0"/>
                          </a:lnTo>
                          <a:lnTo>
                            <a:pt x="3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2" name=""/>
                    <p:cNvSpPr/>
                    <p:nvPr/>
                  </p:nvSpPr>
                  <p:spPr>
                    <a:xfrm flipH="1" rot="16200000">
                      <a:off x="6428160" y="10695240"/>
                      <a:ext cx="115920" cy="496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880" bIns="2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3" name=""/>
                    <p:cNvSpPr/>
                    <p:nvPr/>
                  </p:nvSpPr>
                  <p:spPr>
                    <a:xfrm flipH="1" rot="16200000">
                      <a:off x="6495120" y="10687680"/>
                      <a:ext cx="99720" cy="65520"/>
                    </a:xfrm>
                    <a:custGeom>
                      <a:avLst/>
                      <a:gdLst>
                        <a:gd name="textAreaLeft" fmla="*/ 21960 w 99720"/>
                        <a:gd name="textAreaRight" fmla="*/ 77760 w 99720"/>
                        <a:gd name="textAreaTop" fmla="*/ 14400 h 65520"/>
                        <a:gd name="textAreaBottom" fmla="*/ 51120 h 6552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16200" y="21600"/>
                          </a:lnTo>
                          <a:lnTo>
                            <a:pt x="5400" y="2160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080" bIns="-10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684" name=""/>
                <p:cNvGrpSpPr/>
                <p:nvPr/>
              </p:nvGrpSpPr>
              <p:grpSpPr>
                <a:xfrm>
                  <a:off x="6428880" y="10847160"/>
                  <a:ext cx="146160" cy="131760"/>
                  <a:chOff x="6428880" y="10847160"/>
                  <a:chExt cx="146160" cy="131760"/>
                </a:xfrm>
              </p:grpSpPr>
              <p:sp>
                <p:nvSpPr>
                  <p:cNvPr id="685" name=""/>
                  <p:cNvSpPr/>
                  <p:nvPr/>
                </p:nvSpPr>
                <p:spPr>
                  <a:xfrm flipH="1" rot="16200000">
                    <a:off x="6436080" y="10839960"/>
                    <a:ext cx="131760" cy="14616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86" name=""/>
                  <p:cNvGrpSpPr/>
                  <p:nvPr/>
                </p:nvGrpSpPr>
                <p:grpSpPr>
                  <a:xfrm>
                    <a:off x="6448680" y="10854000"/>
                    <a:ext cx="116640" cy="115920"/>
                    <a:chOff x="6448680" y="10854000"/>
                    <a:chExt cx="116640" cy="115920"/>
                  </a:xfrm>
                </p:grpSpPr>
                <p:sp>
                  <p:nvSpPr>
                    <p:cNvPr id="687" name=""/>
                    <p:cNvSpPr/>
                    <p:nvPr/>
                  </p:nvSpPr>
                  <p:spPr>
                    <a:xfrm flipH="1" rot="16200000">
                      <a:off x="6545520" y="10885680"/>
                      <a:ext cx="252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35">
                          <a:moveTo>
                            <a:pt x="0" y="35"/>
                          </a:moveTo>
                          <a:lnTo>
                            <a:pt x="5" y="29"/>
                          </a:lnTo>
                          <a:lnTo>
                            <a:pt x="11" y="23"/>
                          </a:lnTo>
                          <a:lnTo>
                            <a:pt x="17" y="17"/>
                          </a:lnTo>
                          <a:lnTo>
                            <a:pt x="22" y="12"/>
                          </a:lnTo>
                          <a:lnTo>
                            <a:pt x="26" y="8"/>
                          </a:lnTo>
                          <a:lnTo>
                            <a:pt x="30" y="5"/>
                          </a:lnTo>
                          <a:lnTo>
                            <a:pt x="32" y="2"/>
                          </a:lnTo>
                          <a:lnTo>
                            <a:pt x="34" y="1"/>
                          </a:lnTo>
                          <a:lnTo>
                            <a:pt x="34" y="0"/>
                          </a:lnTo>
                          <a:lnTo>
                            <a:pt x="3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8" name=""/>
                    <p:cNvSpPr/>
                    <p:nvPr/>
                  </p:nvSpPr>
                  <p:spPr>
                    <a:xfrm flipH="1" rot="16200000">
                      <a:off x="6545520" y="10885680"/>
                      <a:ext cx="252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35">
                          <a:moveTo>
                            <a:pt x="0" y="35"/>
                          </a:moveTo>
                          <a:lnTo>
                            <a:pt x="5" y="29"/>
                          </a:lnTo>
                          <a:lnTo>
                            <a:pt x="11" y="23"/>
                          </a:lnTo>
                          <a:lnTo>
                            <a:pt x="17" y="17"/>
                          </a:lnTo>
                          <a:lnTo>
                            <a:pt x="22" y="12"/>
                          </a:lnTo>
                          <a:lnTo>
                            <a:pt x="26" y="8"/>
                          </a:lnTo>
                          <a:lnTo>
                            <a:pt x="30" y="5"/>
                          </a:lnTo>
                          <a:lnTo>
                            <a:pt x="32" y="2"/>
                          </a:lnTo>
                          <a:lnTo>
                            <a:pt x="34" y="1"/>
                          </a:lnTo>
                          <a:lnTo>
                            <a:pt x="34" y="0"/>
                          </a:lnTo>
                          <a:lnTo>
                            <a:pt x="3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9" name=""/>
                    <p:cNvSpPr/>
                    <p:nvPr/>
                  </p:nvSpPr>
                  <p:spPr>
                    <a:xfrm flipH="1" rot="16200000">
                      <a:off x="6415560" y="10887120"/>
                      <a:ext cx="115920" cy="496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880" bIns="2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0" name=""/>
                    <p:cNvSpPr/>
                    <p:nvPr/>
                  </p:nvSpPr>
                  <p:spPr>
                    <a:xfrm flipH="1" rot="16200000">
                      <a:off x="6482520" y="10879560"/>
                      <a:ext cx="99720" cy="65520"/>
                    </a:xfrm>
                    <a:custGeom>
                      <a:avLst/>
                      <a:gdLst>
                        <a:gd name="textAreaLeft" fmla="*/ 21960 w 99720"/>
                        <a:gd name="textAreaRight" fmla="*/ 77760 w 99720"/>
                        <a:gd name="textAreaTop" fmla="*/ 14400 h 65520"/>
                        <a:gd name="textAreaBottom" fmla="*/ 51120 h 6552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16200" y="21600"/>
                          </a:lnTo>
                          <a:lnTo>
                            <a:pt x="5400" y="2160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080" bIns="-10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691" name=""/>
                <p:cNvSpPr/>
                <p:nvPr/>
              </p:nvSpPr>
              <p:spPr>
                <a:xfrm flipH="1">
                  <a:off x="6398640" y="10086840"/>
                  <a:ext cx="324000" cy="925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92" name=""/>
                <p:cNvGrpSpPr/>
                <p:nvPr/>
              </p:nvGrpSpPr>
              <p:grpSpPr>
                <a:xfrm>
                  <a:off x="6420960" y="10136160"/>
                  <a:ext cx="146160" cy="131760"/>
                  <a:chOff x="6420960" y="10136160"/>
                  <a:chExt cx="146160" cy="131760"/>
                </a:xfrm>
              </p:grpSpPr>
              <p:sp>
                <p:nvSpPr>
                  <p:cNvPr id="693" name=""/>
                  <p:cNvSpPr/>
                  <p:nvPr/>
                </p:nvSpPr>
                <p:spPr>
                  <a:xfrm flipH="1" rot="16200000">
                    <a:off x="6428160" y="10128960"/>
                    <a:ext cx="131760" cy="14616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94" name=""/>
                  <p:cNvGrpSpPr/>
                  <p:nvPr/>
                </p:nvGrpSpPr>
                <p:grpSpPr>
                  <a:xfrm>
                    <a:off x="6440760" y="10143000"/>
                    <a:ext cx="116640" cy="115920"/>
                    <a:chOff x="6440760" y="10143000"/>
                    <a:chExt cx="116640" cy="115920"/>
                  </a:xfrm>
                </p:grpSpPr>
                <p:sp>
                  <p:nvSpPr>
                    <p:cNvPr id="695" name=""/>
                    <p:cNvSpPr/>
                    <p:nvPr/>
                  </p:nvSpPr>
                  <p:spPr>
                    <a:xfrm flipH="1" rot="16200000">
                      <a:off x="6537600" y="10174680"/>
                      <a:ext cx="252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35">
                          <a:moveTo>
                            <a:pt x="0" y="35"/>
                          </a:moveTo>
                          <a:lnTo>
                            <a:pt x="5" y="29"/>
                          </a:lnTo>
                          <a:lnTo>
                            <a:pt x="11" y="23"/>
                          </a:lnTo>
                          <a:lnTo>
                            <a:pt x="17" y="17"/>
                          </a:lnTo>
                          <a:lnTo>
                            <a:pt x="22" y="12"/>
                          </a:lnTo>
                          <a:lnTo>
                            <a:pt x="26" y="8"/>
                          </a:lnTo>
                          <a:lnTo>
                            <a:pt x="30" y="5"/>
                          </a:lnTo>
                          <a:lnTo>
                            <a:pt x="32" y="2"/>
                          </a:lnTo>
                          <a:lnTo>
                            <a:pt x="34" y="1"/>
                          </a:lnTo>
                          <a:lnTo>
                            <a:pt x="34" y="0"/>
                          </a:lnTo>
                          <a:lnTo>
                            <a:pt x="3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6" name=""/>
                    <p:cNvSpPr/>
                    <p:nvPr/>
                  </p:nvSpPr>
                  <p:spPr>
                    <a:xfrm flipH="1" rot="16200000">
                      <a:off x="6537600" y="10174680"/>
                      <a:ext cx="252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35">
                          <a:moveTo>
                            <a:pt x="0" y="35"/>
                          </a:moveTo>
                          <a:lnTo>
                            <a:pt x="5" y="29"/>
                          </a:lnTo>
                          <a:lnTo>
                            <a:pt x="11" y="23"/>
                          </a:lnTo>
                          <a:lnTo>
                            <a:pt x="17" y="17"/>
                          </a:lnTo>
                          <a:lnTo>
                            <a:pt x="22" y="12"/>
                          </a:lnTo>
                          <a:lnTo>
                            <a:pt x="26" y="8"/>
                          </a:lnTo>
                          <a:lnTo>
                            <a:pt x="30" y="5"/>
                          </a:lnTo>
                          <a:lnTo>
                            <a:pt x="32" y="2"/>
                          </a:lnTo>
                          <a:lnTo>
                            <a:pt x="34" y="1"/>
                          </a:lnTo>
                          <a:lnTo>
                            <a:pt x="34" y="0"/>
                          </a:lnTo>
                          <a:lnTo>
                            <a:pt x="3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7" name=""/>
                    <p:cNvSpPr/>
                    <p:nvPr/>
                  </p:nvSpPr>
                  <p:spPr>
                    <a:xfrm flipH="1" rot="16200000">
                      <a:off x="6407640" y="10176120"/>
                      <a:ext cx="115920" cy="496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880" bIns="2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8" name=""/>
                    <p:cNvSpPr/>
                    <p:nvPr/>
                  </p:nvSpPr>
                  <p:spPr>
                    <a:xfrm flipH="1" rot="16200000">
                      <a:off x="6474600" y="10168560"/>
                      <a:ext cx="99720" cy="65520"/>
                    </a:xfrm>
                    <a:custGeom>
                      <a:avLst/>
                      <a:gdLst>
                        <a:gd name="textAreaLeft" fmla="*/ 21960 w 99720"/>
                        <a:gd name="textAreaRight" fmla="*/ 77760 w 99720"/>
                        <a:gd name="textAreaTop" fmla="*/ 14400 h 65520"/>
                        <a:gd name="textAreaBottom" fmla="*/ 51120 h 6552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16200" y="21600"/>
                          </a:lnTo>
                          <a:lnTo>
                            <a:pt x="5400" y="2160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080" bIns="-10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699" name=""/>
                <p:cNvGrpSpPr/>
                <p:nvPr/>
              </p:nvGrpSpPr>
              <p:grpSpPr>
                <a:xfrm>
                  <a:off x="6404040" y="10307520"/>
                  <a:ext cx="145800" cy="131760"/>
                  <a:chOff x="6404040" y="10307520"/>
                  <a:chExt cx="145800" cy="131760"/>
                </a:xfrm>
              </p:grpSpPr>
              <p:sp>
                <p:nvSpPr>
                  <p:cNvPr id="700" name=""/>
                  <p:cNvSpPr/>
                  <p:nvPr/>
                </p:nvSpPr>
                <p:spPr>
                  <a:xfrm flipH="1" rot="16200000">
                    <a:off x="6410520" y="10300320"/>
                    <a:ext cx="131760" cy="14580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01" name=""/>
                  <p:cNvGrpSpPr/>
                  <p:nvPr/>
                </p:nvGrpSpPr>
                <p:grpSpPr>
                  <a:xfrm>
                    <a:off x="6423840" y="10314360"/>
                    <a:ext cx="116280" cy="115920"/>
                    <a:chOff x="6423840" y="10314360"/>
                    <a:chExt cx="116280" cy="115920"/>
                  </a:xfrm>
                </p:grpSpPr>
                <p:sp>
                  <p:nvSpPr>
                    <p:cNvPr id="702" name=""/>
                    <p:cNvSpPr/>
                    <p:nvPr/>
                  </p:nvSpPr>
                  <p:spPr>
                    <a:xfrm flipH="1" rot="16200000">
                      <a:off x="6520320" y="10346040"/>
                      <a:ext cx="252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35">
                          <a:moveTo>
                            <a:pt x="0" y="35"/>
                          </a:moveTo>
                          <a:lnTo>
                            <a:pt x="5" y="29"/>
                          </a:lnTo>
                          <a:lnTo>
                            <a:pt x="11" y="23"/>
                          </a:lnTo>
                          <a:lnTo>
                            <a:pt x="17" y="17"/>
                          </a:lnTo>
                          <a:lnTo>
                            <a:pt x="22" y="12"/>
                          </a:lnTo>
                          <a:lnTo>
                            <a:pt x="26" y="8"/>
                          </a:lnTo>
                          <a:lnTo>
                            <a:pt x="30" y="5"/>
                          </a:lnTo>
                          <a:lnTo>
                            <a:pt x="32" y="2"/>
                          </a:lnTo>
                          <a:lnTo>
                            <a:pt x="34" y="1"/>
                          </a:lnTo>
                          <a:lnTo>
                            <a:pt x="34" y="0"/>
                          </a:lnTo>
                          <a:lnTo>
                            <a:pt x="3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3" name=""/>
                    <p:cNvSpPr/>
                    <p:nvPr/>
                  </p:nvSpPr>
                  <p:spPr>
                    <a:xfrm flipH="1" rot="16200000">
                      <a:off x="6520320" y="10346040"/>
                      <a:ext cx="252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35">
                          <a:moveTo>
                            <a:pt x="0" y="35"/>
                          </a:moveTo>
                          <a:lnTo>
                            <a:pt x="5" y="29"/>
                          </a:lnTo>
                          <a:lnTo>
                            <a:pt x="11" y="23"/>
                          </a:lnTo>
                          <a:lnTo>
                            <a:pt x="17" y="17"/>
                          </a:lnTo>
                          <a:lnTo>
                            <a:pt x="22" y="12"/>
                          </a:lnTo>
                          <a:lnTo>
                            <a:pt x="26" y="8"/>
                          </a:lnTo>
                          <a:lnTo>
                            <a:pt x="30" y="5"/>
                          </a:lnTo>
                          <a:lnTo>
                            <a:pt x="32" y="2"/>
                          </a:lnTo>
                          <a:lnTo>
                            <a:pt x="34" y="1"/>
                          </a:lnTo>
                          <a:lnTo>
                            <a:pt x="34" y="0"/>
                          </a:lnTo>
                          <a:lnTo>
                            <a:pt x="3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4" name=""/>
                    <p:cNvSpPr/>
                    <p:nvPr/>
                  </p:nvSpPr>
                  <p:spPr>
                    <a:xfrm flipH="1" rot="16200000">
                      <a:off x="6390000" y="10347480"/>
                      <a:ext cx="115920" cy="49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520" bIns="2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5" name=""/>
                    <p:cNvSpPr/>
                    <p:nvPr/>
                  </p:nvSpPr>
                  <p:spPr>
                    <a:xfrm flipH="1" rot="16200000">
                      <a:off x="6457320" y="10340280"/>
                      <a:ext cx="99720" cy="65160"/>
                    </a:xfrm>
                    <a:custGeom>
                      <a:avLst/>
                      <a:gdLst>
                        <a:gd name="textAreaLeft" fmla="*/ 21960 w 99720"/>
                        <a:gd name="textAreaRight" fmla="*/ 77760 w 99720"/>
                        <a:gd name="textAreaTop" fmla="*/ 14400 h 65160"/>
                        <a:gd name="textAreaBottom" fmla="*/ 50760 h 651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16200" y="21600"/>
                          </a:lnTo>
                          <a:lnTo>
                            <a:pt x="5400" y="2160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440" bIns="-10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706" name=""/>
                <p:cNvGrpSpPr/>
                <p:nvPr/>
              </p:nvGrpSpPr>
              <p:grpSpPr>
                <a:xfrm>
                  <a:off x="6428880" y="10504440"/>
                  <a:ext cx="146160" cy="131760"/>
                  <a:chOff x="6428880" y="10504440"/>
                  <a:chExt cx="146160" cy="131760"/>
                </a:xfrm>
              </p:grpSpPr>
              <p:sp>
                <p:nvSpPr>
                  <p:cNvPr id="707" name=""/>
                  <p:cNvSpPr/>
                  <p:nvPr/>
                </p:nvSpPr>
                <p:spPr>
                  <a:xfrm flipH="1" rot="16200000">
                    <a:off x="6436080" y="10497240"/>
                    <a:ext cx="131760" cy="14616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08" name=""/>
                  <p:cNvGrpSpPr/>
                  <p:nvPr/>
                </p:nvGrpSpPr>
                <p:grpSpPr>
                  <a:xfrm>
                    <a:off x="6448680" y="10511280"/>
                    <a:ext cx="116640" cy="115920"/>
                    <a:chOff x="6448680" y="10511280"/>
                    <a:chExt cx="116640" cy="115920"/>
                  </a:xfrm>
                </p:grpSpPr>
                <p:sp>
                  <p:nvSpPr>
                    <p:cNvPr id="709" name=""/>
                    <p:cNvSpPr/>
                    <p:nvPr/>
                  </p:nvSpPr>
                  <p:spPr>
                    <a:xfrm flipH="1" rot="16200000">
                      <a:off x="6545520" y="10542960"/>
                      <a:ext cx="252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35">
                          <a:moveTo>
                            <a:pt x="0" y="35"/>
                          </a:moveTo>
                          <a:lnTo>
                            <a:pt x="5" y="29"/>
                          </a:lnTo>
                          <a:lnTo>
                            <a:pt x="11" y="23"/>
                          </a:lnTo>
                          <a:lnTo>
                            <a:pt x="17" y="17"/>
                          </a:lnTo>
                          <a:lnTo>
                            <a:pt x="22" y="12"/>
                          </a:lnTo>
                          <a:lnTo>
                            <a:pt x="26" y="8"/>
                          </a:lnTo>
                          <a:lnTo>
                            <a:pt x="30" y="5"/>
                          </a:lnTo>
                          <a:lnTo>
                            <a:pt x="32" y="2"/>
                          </a:lnTo>
                          <a:lnTo>
                            <a:pt x="34" y="1"/>
                          </a:lnTo>
                          <a:lnTo>
                            <a:pt x="34" y="0"/>
                          </a:lnTo>
                          <a:lnTo>
                            <a:pt x="3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0" name=""/>
                    <p:cNvSpPr/>
                    <p:nvPr/>
                  </p:nvSpPr>
                  <p:spPr>
                    <a:xfrm flipH="1" rot="16200000">
                      <a:off x="6545520" y="10542960"/>
                      <a:ext cx="252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35">
                          <a:moveTo>
                            <a:pt x="0" y="35"/>
                          </a:moveTo>
                          <a:lnTo>
                            <a:pt x="5" y="29"/>
                          </a:lnTo>
                          <a:lnTo>
                            <a:pt x="11" y="23"/>
                          </a:lnTo>
                          <a:lnTo>
                            <a:pt x="17" y="17"/>
                          </a:lnTo>
                          <a:lnTo>
                            <a:pt x="22" y="12"/>
                          </a:lnTo>
                          <a:lnTo>
                            <a:pt x="26" y="8"/>
                          </a:lnTo>
                          <a:lnTo>
                            <a:pt x="30" y="5"/>
                          </a:lnTo>
                          <a:lnTo>
                            <a:pt x="32" y="2"/>
                          </a:lnTo>
                          <a:lnTo>
                            <a:pt x="34" y="1"/>
                          </a:lnTo>
                          <a:lnTo>
                            <a:pt x="34" y="0"/>
                          </a:lnTo>
                          <a:lnTo>
                            <a:pt x="3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1" name=""/>
                    <p:cNvSpPr/>
                    <p:nvPr/>
                  </p:nvSpPr>
                  <p:spPr>
                    <a:xfrm flipH="1" rot="16200000">
                      <a:off x="6415560" y="10544400"/>
                      <a:ext cx="115920" cy="496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880" bIns="2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2" name=""/>
                    <p:cNvSpPr/>
                    <p:nvPr/>
                  </p:nvSpPr>
                  <p:spPr>
                    <a:xfrm flipH="1" rot="16200000">
                      <a:off x="6482520" y="10536840"/>
                      <a:ext cx="99720" cy="65520"/>
                    </a:xfrm>
                    <a:custGeom>
                      <a:avLst/>
                      <a:gdLst>
                        <a:gd name="textAreaLeft" fmla="*/ 21960 w 99720"/>
                        <a:gd name="textAreaRight" fmla="*/ 77760 w 99720"/>
                        <a:gd name="textAreaTop" fmla="*/ 14400 h 65520"/>
                        <a:gd name="textAreaBottom" fmla="*/ 51120 h 6552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16200" y="21600"/>
                          </a:lnTo>
                          <a:lnTo>
                            <a:pt x="5400" y="2160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080" bIns="-10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713" name=""/>
                <p:cNvSpPr/>
                <p:nvPr/>
              </p:nvSpPr>
              <p:spPr>
                <a:xfrm flipH="1">
                  <a:off x="6485760" y="10074240"/>
                  <a:ext cx="206280" cy="96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14" name=""/>
                <p:cNvGrpSpPr/>
                <p:nvPr/>
              </p:nvGrpSpPr>
              <p:grpSpPr>
                <a:xfrm>
                  <a:off x="6541560" y="10118520"/>
                  <a:ext cx="144720" cy="131760"/>
                  <a:chOff x="6541560" y="10118520"/>
                  <a:chExt cx="144720" cy="131760"/>
                </a:xfrm>
              </p:grpSpPr>
              <p:sp>
                <p:nvSpPr>
                  <p:cNvPr id="715" name=""/>
                  <p:cNvSpPr/>
                  <p:nvPr/>
                </p:nvSpPr>
                <p:spPr>
                  <a:xfrm flipH="1" rot="16200000">
                    <a:off x="6548040" y="10112040"/>
                    <a:ext cx="131760" cy="14472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16" name=""/>
                  <p:cNvGrpSpPr/>
                  <p:nvPr/>
                </p:nvGrpSpPr>
                <p:grpSpPr>
                  <a:xfrm>
                    <a:off x="6561360" y="10125360"/>
                    <a:ext cx="115560" cy="115920"/>
                    <a:chOff x="6561360" y="10125360"/>
                    <a:chExt cx="115560" cy="115920"/>
                  </a:xfrm>
                </p:grpSpPr>
                <p:sp>
                  <p:nvSpPr>
                    <p:cNvPr id="717" name=""/>
                    <p:cNvSpPr/>
                    <p:nvPr/>
                  </p:nvSpPr>
                  <p:spPr>
                    <a:xfrm flipH="1" rot="16200000">
                      <a:off x="6657480" y="10157040"/>
                      <a:ext cx="252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35">
                          <a:moveTo>
                            <a:pt x="0" y="35"/>
                          </a:moveTo>
                          <a:lnTo>
                            <a:pt x="5" y="29"/>
                          </a:lnTo>
                          <a:lnTo>
                            <a:pt x="11" y="23"/>
                          </a:lnTo>
                          <a:lnTo>
                            <a:pt x="17" y="17"/>
                          </a:lnTo>
                          <a:lnTo>
                            <a:pt x="22" y="12"/>
                          </a:lnTo>
                          <a:lnTo>
                            <a:pt x="26" y="8"/>
                          </a:lnTo>
                          <a:lnTo>
                            <a:pt x="30" y="5"/>
                          </a:lnTo>
                          <a:lnTo>
                            <a:pt x="32" y="2"/>
                          </a:lnTo>
                          <a:lnTo>
                            <a:pt x="34" y="1"/>
                          </a:lnTo>
                          <a:lnTo>
                            <a:pt x="34" y="0"/>
                          </a:lnTo>
                          <a:lnTo>
                            <a:pt x="3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8" name=""/>
                    <p:cNvSpPr/>
                    <p:nvPr/>
                  </p:nvSpPr>
                  <p:spPr>
                    <a:xfrm flipH="1" rot="16200000">
                      <a:off x="6657480" y="10157040"/>
                      <a:ext cx="252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35">
                          <a:moveTo>
                            <a:pt x="0" y="35"/>
                          </a:moveTo>
                          <a:lnTo>
                            <a:pt x="5" y="29"/>
                          </a:lnTo>
                          <a:lnTo>
                            <a:pt x="11" y="23"/>
                          </a:lnTo>
                          <a:lnTo>
                            <a:pt x="17" y="17"/>
                          </a:lnTo>
                          <a:lnTo>
                            <a:pt x="22" y="12"/>
                          </a:lnTo>
                          <a:lnTo>
                            <a:pt x="26" y="8"/>
                          </a:lnTo>
                          <a:lnTo>
                            <a:pt x="30" y="5"/>
                          </a:lnTo>
                          <a:lnTo>
                            <a:pt x="32" y="2"/>
                          </a:lnTo>
                          <a:lnTo>
                            <a:pt x="34" y="1"/>
                          </a:lnTo>
                          <a:lnTo>
                            <a:pt x="34" y="0"/>
                          </a:lnTo>
                          <a:lnTo>
                            <a:pt x="3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9" name=""/>
                    <p:cNvSpPr/>
                    <p:nvPr/>
                  </p:nvSpPr>
                  <p:spPr>
                    <a:xfrm flipH="1" rot="16200000">
                      <a:off x="6527880" y="10158840"/>
                      <a:ext cx="115920" cy="48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0" name=""/>
                    <p:cNvSpPr/>
                    <p:nvPr/>
                  </p:nvSpPr>
                  <p:spPr>
                    <a:xfrm flipH="1" rot="16200000">
                      <a:off x="6594480" y="10151280"/>
                      <a:ext cx="99720" cy="64800"/>
                    </a:xfrm>
                    <a:custGeom>
                      <a:avLst/>
                      <a:gdLst>
                        <a:gd name="textAreaLeft" fmla="*/ 21960 w 99720"/>
                        <a:gd name="textAreaRight" fmla="*/ 77760 w 99720"/>
                        <a:gd name="textAreaTop" fmla="*/ 14040 h 64800"/>
                        <a:gd name="textAreaBottom" fmla="*/ 50760 h 6480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16200" y="21600"/>
                          </a:lnTo>
                          <a:lnTo>
                            <a:pt x="5400" y="2160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080" bIns="-10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721" name=""/>
                <p:cNvGrpSpPr/>
                <p:nvPr/>
              </p:nvGrpSpPr>
              <p:grpSpPr>
                <a:xfrm>
                  <a:off x="6541560" y="10280520"/>
                  <a:ext cx="144720" cy="133560"/>
                  <a:chOff x="6541560" y="10280520"/>
                  <a:chExt cx="144720" cy="133560"/>
                </a:xfrm>
              </p:grpSpPr>
              <p:sp>
                <p:nvSpPr>
                  <p:cNvPr id="722" name=""/>
                  <p:cNvSpPr/>
                  <p:nvPr/>
                </p:nvSpPr>
                <p:spPr>
                  <a:xfrm flipH="1" rot="16200000">
                    <a:off x="6546960" y="10274760"/>
                    <a:ext cx="133560" cy="14472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23" name=""/>
                  <p:cNvGrpSpPr/>
                  <p:nvPr/>
                </p:nvGrpSpPr>
                <p:grpSpPr>
                  <a:xfrm>
                    <a:off x="6561360" y="10287360"/>
                    <a:ext cx="115560" cy="117360"/>
                    <a:chOff x="6561360" y="10287360"/>
                    <a:chExt cx="115560" cy="117360"/>
                  </a:xfrm>
                </p:grpSpPr>
                <p:sp>
                  <p:nvSpPr>
                    <p:cNvPr id="724" name=""/>
                    <p:cNvSpPr/>
                    <p:nvPr/>
                  </p:nvSpPr>
                  <p:spPr>
                    <a:xfrm flipH="1" rot="16200000">
                      <a:off x="6657480" y="10319400"/>
                      <a:ext cx="252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35">
                          <a:moveTo>
                            <a:pt x="0" y="35"/>
                          </a:moveTo>
                          <a:lnTo>
                            <a:pt x="5" y="29"/>
                          </a:lnTo>
                          <a:lnTo>
                            <a:pt x="11" y="23"/>
                          </a:lnTo>
                          <a:lnTo>
                            <a:pt x="17" y="17"/>
                          </a:lnTo>
                          <a:lnTo>
                            <a:pt x="22" y="12"/>
                          </a:lnTo>
                          <a:lnTo>
                            <a:pt x="26" y="8"/>
                          </a:lnTo>
                          <a:lnTo>
                            <a:pt x="30" y="5"/>
                          </a:lnTo>
                          <a:lnTo>
                            <a:pt x="32" y="2"/>
                          </a:lnTo>
                          <a:lnTo>
                            <a:pt x="34" y="1"/>
                          </a:lnTo>
                          <a:lnTo>
                            <a:pt x="34" y="0"/>
                          </a:lnTo>
                          <a:lnTo>
                            <a:pt x="3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5" name=""/>
                    <p:cNvSpPr/>
                    <p:nvPr/>
                  </p:nvSpPr>
                  <p:spPr>
                    <a:xfrm flipH="1" rot="16200000">
                      <a:off x="6657480" y="10319400"/>
                      <a:ext cx="252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35">
                          <a:moveTo>
                            <a:pt x="0" y="35"/>
                          </a:moveTo>
                          <a:lnTo>
                            <a:pt x="5" y="29"/>
                          </a:lnTo>
                          <a:lnTo>
                            <a:pt x="11" y="23"/>
                          </a:lnTo>
                          <a:lnTo>
                            <a:pt x="17" y="17"/>
                          </a:lnTo>
                          <a:lnTo>
                            <a:pt x="22" y="12"/>
                          </a:lnTo>
                          <a:lnTo>
                            <a:pt x="26" y="8"/>
                          </a:lnTo>
                          <a:lnTo>
                            <a:pt x="30" y="5"/>
                          </a:lnTo>
                          <a:lnTo>
                            <a:pt x="32" y="2"/>
                          </a:lnTo>
                          <a:lnTo>
                            <a:pt x="34" y="1"/>
                          </a:lnTo>
                          <a:lnTo>
                            <a:pt x="34" y="0"/>
                          </a:lnTo>
                          <a:lnTo>
                            <a:pt x="3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6" name=""/>
                    <p:cNvSpPr/>
                    <p:nvPr/>
                  </p:nvSpPr>
                  <p:spPr>
                    <a:xfrm flipH="1" rot="16200000">
                      <a:off x="6527160" y="10321560"/>
                      <a:ext cx="117360" cy="48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7" name=""/>
                    <p:cNvSpPr/>
                    <p:nvPr/>
                  </p:nvSpPr>
                  <p:spPr>
                    <a:xfrm flipH="1" rot="16200000">
                      <a:off x="6593760" y="10314000"/>
                      <a:ext cx="101160" cy="64800"/>
                    </a:xfrm>
                    <a:custGeom>
                      <a:avLst/>
                      <a:gdLst>
                        <a:gd name="textAreaLeft" fmla="*/ 22320 w 101160"/>
                        <a:gd name="textAreaRight" fmla="*/ 78840 w 101160"/>
                        <a:gd name="textAreaTop" fmla="*/ 14040 h 64800"/>
                        <a:gd name="textAreaBottom" fmla="*/ 50760 h 6480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16200" y="21600"/>
                          </a:lnTo>
                          <a:lnTo>
                            <a:pt x="5400" y="2160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080" bIns="-10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728" name=""/>
                <p:cNvGrpSpPr/>
                <p:nvPr/>
              </p:nvGrpSpPr>
              <p:grpSpPr>
                <a:xfrm>
                  <a:off x="6549480" y="10469520"/>
                  <a:ext cx="146160" cy="133200"/>
                  <a:chOff x="6549480" y="10469520"/>
                  <a:chExt cx="146160" cy="133200"/>
                </a:xfrm>
              </p:grpSpPr>
              <p:sp>
                <p:nvSpPr>
                  <p:cNvPr id="729" name=""/>
                  <p:cNvSpPr/>
                  <p:nvPr/>
                </p:nvSpPr>
                <p:spPr>
                  <a:xfrm flipH="1" rot="16200000">
                    <a:off x="6555960" y="10463040"/>
                    <a:ext cx="133200" cy="14616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30" name=""/>
                  <p:cNvGrpSpPr/>
                  <p:nvPr/>
                </p:nvGrpSpPr>
                <p:grpSpPr>
                  <a:xfrm>
                    <a:off x="6569280" y="10476360"/>
                    <a:ext cx="116640" cy="117000"/>
                    <a:chOff x="6569280" y="10476360"/>
                    <a:chExt cx="116640" cy="117000"/>
                  </a:xfrm>
                </p:grpSpPr>
                <p:sp>
                  <p:nvSpPr>
                    <p:cNvPr id="731" name=""/>
                    <p:cNvSpPr/>
                    <p:nvPr/>
                  </p:nvSpPr>
                  <p:spPr>
                    <a:xfrm flipH="1" rot="16200000">
                      <a:off x="6666120" y="10508040"/>
                      <a:ext cx="252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35">
                          <a:moveTo>
                            <a:pt x="0" y="35"/>
                          </a:moveTo>
                          <a:lnTo>
                            <a:pt x="5" y="29"/>
                          </a:lnTo>
                          <a:lnTo>
                            <a:pt x="11" y="23"/>
                          </a:lnTo>
                          <a:lnTo>
                            <a:pt x="17" y="17"/>
                          </a:lnTo>
                          <a:lnTo>
                            <a:pt x="22" y="12"/>
                          </a:lnTo>
                          <a:lnTo>
                            <a:pt x="26" y="8"/>
                          </a:lnTo>
                          <a:lnTo>
                            <a:pt x="30" y="5"/>
                          </a:lnTo>
                          <a:lnTo>
                            <a:pt x="32" y="2"/>
                          </a:lnTo>
                          <a:lnTo>
                            <a:pt x="34" y="1"/>
                          </a:lnTo>
                          <a:lnTo>
                            <a:pt x="34" y="0"/>
                          </a:lnTo>
                          <a:lnTo>
                            <a:pt x="3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2" name=""/>
                    <p:cNvSpPr/>
                    <p:nvPr/>
                  </p:nvSpPr>
                  <p:spPr>
                    <a:xfrm flipH="1" rot="16200000">
                      <a:off x="6666120" y="10508040"/>
                      <a:ext cx="252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35">
                          <a:moveTo>
                            <a:pt x="0" y="35"/>
                          </a:moveTo>
                          <a:lnTo>
                            <a:pt x="5" y="29"/>
                          </a:lnTo>
                          <a:lnTo>
                            <a:pt x="11" y="23"/>
                          </a:lnTo>
                          <a:lnTo>
                            <a:pt x="17" y="17"/>
                          </a:lnTo>
                          <a:lnTo>
                            <a:pt x="22" y="12"/>
                          </a:lnTo>
                          <a:lnTo>
                            <a:pt x="26" y="8"/>
                          </a:lnTo>
                          <a:lnTo>
                            <a:pt x="30" y="5"/>
                          </a:lnTo>
                          <a:lnTo>
                            <a:pt x="32" y="2"/>
                          </a:lnTo>
                          <a:lnTo>
                            <a:pt x="34" y="1"/>
                          </a:lnTo>
                          <a:lnTo>
                            <a:pt x="34" y="0"/>
                          </a:lnTo>
                          <a:lnTo>
                            <a:pt x="3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3" name=""/>
                    <p:cNvSpPr/>
                    <p:nvPr/>
                  </p:nvSpPr>
                  <p:spPr>
                    <a:xfrm flipH="1" rot="16200000">
                      <a:off x="6535440" y="10509840"/>
                      <a:ext cx="117000" cy="496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880" bIns="2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4" name=""/>
                    <p:cNvSpPr/>
                    <p:nvPr/>
                  </p:nvSpPr>
                  <p:spPr>
                    <a:xfrm flipH="1" rot="16200000">
                      <a:off x="6602760" y="10502640"/>
                      <a:ext cx="100800" cy="65520"/>
                    </a:xfrm>
                    <a:custGeom>
                      <a:avLst/>
                      <a:gdLst>
                        <a:gd name="textAreaLeft" fmla="*/ 21960 w 100800"/>
                        <a:gd name="textAreaRight" fmla="*/ 78840 w 100800"/>
                        <a:gd name="textAreaTop" fmla="*/ 14400 h 65520"/>
                        <a:gd name="textAreaBottom" fmla="*/ 51120 h 6552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16200" y="21600"/>
                          </a:lnTo>
                          <a:lnTo>
                            <a:pt x="5400" y="2160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080" bIns="-10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735" name=""/>
                <p:cNvGrpSpPr/>
                <p:nvPr/>
              </p:nvGrpSpPr>
              <p:grpSpPr>
                <a:xfrm>
                  <a:off x="6541560" y="10642680"/>
                  <a:ext cx="144720" cy="133200"/>
                  <a:chOff x="6541560" y="10642680"/>
                  <a:chExt cx="144720" cy="133200"/>
                </a:xfrm>
              </p:grpSpPr>
              <p:sp>
                <p:nvSpPr>
                  <p:cNvPr id="736" name=""/>
                  <p:cNvSpPr/>
                  <p:nvPr/>
                </p:nvSpPr>
                <p:spPr>
                  <a:xfrm flipH="1" rot="16200000">
                    <a:off x="6547320" y="10636920"/>
                    <a:ext cx="133200" cy="14472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37" name=""/>
                  <p:cNvGrpSpPr/>
                  <p:nvPr/>
                </p:nvGrpSpPr>
                <p:grpSpPr>
                  <a:xfrm>
                    <a:off x="6561360" y="10649520"/>
                    <a:ext cx="115560" cy="117000"/>
                    <a:chOff x="6561360" y="10649520"/>
                    <a:chExt cx="115560" cy="117000"/>
                  </a:xfrm>
                </p:grpSpPr>
                <p:sp>
                  <p:nvSpPr>
                    <p:cNvPr id="738" name=""/>
                    <p:cNvSpPr/>
                    <p:nvPr/>
                  </p:nvSpPr>
                  <p:spPr>
                    <a:xfrm flipH="1" rot="16200000">
                      <a:off x="6657480" y="10681200"/>
                      <a:ext cx="252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35">
                          <a:moveTo>
                            <a:pt x="0" y="35"/>
                          </a:moveTo>
                          <a:lnTo>
                            <a:pt x="5" y="29"/>
                          </a:lnTo>
                          <a:lnTo>
                            <a:pt x="11" y="23"/>
                          </a:lnTo>
                          <a:lnTo>
                            <a:pt x="17" y="17"/>
                          </a:lnTo>
                          <a:lnTo>
                            <a:pt x="22" y="12"/>
                          </a:lnTo>
                          <a:lnTo>
                            <a:pt x="26" y="8"/>
                          </a:lnTo>
                          <a:lnTo>
                            <a:pt x="30" y="5"/>
                          </a:lnTo>
                          <a:lnTo>
                            <a:pt x="32" y="2"/>
                          </a:lnTo>
                          <a:lnTo>
                            <a:pt x="34" y="1"/>
                          </a:lnTo>
                          <a:lnTo>
                            <a:pt x="34" y="0"/>
                          </a:lnTo>
                          <a:lnTo>
                            <a:pt x="3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9" name=""/>
                    <p:cNvSpPr/>
                    <p:nvPr/>
                  </p:nvSpPr>
                  <p:spPr>
                    <a:xfrm flipH="1" rot="16200000">
                      <a:off x="6657480" y="10681200"/>
                      <a:ext cx="252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35">
                          <a:moveTo>
                            <a:pt x="0" y="35"/>
                          </a:moveTo>
                          <a:lnTo>
                            <a:pt x="5" y="29"/>
                          </a:lnTo>
                          <a:lnTo>
                            <a:pt x="11" y="23"/>
                          </a:lnTo>
                          <a:lnTo>
                            <a:pt x="17" y="17"/>
                          </a:lnTo>
                          <a:lnTo>
                            <a:pt x="22" y="12"/>
                          </a:lnTo>
                          <a:lnTo>
                            <a:pt x="26" y="8"/>
                          </a:lnTo>
                          <a:lnTo>
                            <a:pt x="30" y="5"/>
                          </a:lnTo>
                          <a:lnTo>
                            <a:pt x="32" y="2"/>
                          </a:lnTo>
                          <a:lnTo>
                            <a:pt x="34" y="1"/>
                          </a:lnTo>
                          <a:lnTo>
                            <a:pt x="34" y="0"/>
                          </a:lnTo>
                          <a:lnTo>
                            <a:pt x="3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0" name=""/>
                    <p:cNvSpPr/>
                    <p:nvPr/>
                  </p:nvSpPr>
                  <p:spPr>
                    <a:xfrm flipH="1" rot="16200000">
                      <a:off x="6527160" y="10683360"/>
                      <a:ext cx="117000" cy="48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1" name=""/>
                    <p:cNvSpPr/>
                    <p:nvPr/>
                  </p:nvSpPr>
                  <p:spPr>
                    <a:xfrm flipH="1" rot="16200000">
                      <a:off x="6594120" y="10676160"/>
                      <a:ext cx="100800" cy="64800"/>
                    </a:xfrm>
                    <a:custGeom>
                      <a:avLst/>
                      <a:gdLst>
                        <a:gd name="textAreaLeft" fmla="*/ 21960 w 100800"/>
                        <a:gd name="textAreaRight" fmla="*/ 78840 w 100800"/>
                        <a:gd name="textAreaTop" fmla="*/ 14040 h 64800"/>
                        <a:gd name="textAreaBottom" fmla="*/ 50760 h 6480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16200" y="21600"/>
                          </a:lnTo>
                          <a:lnTo>
                            <a:pt x="5400" y="2160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080" bIns="-10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742" name=""/>
                <p:cNvGrpSpPr/>
                <p:nvPr/>
              </p:nvGrpSpPr>
              <p:grpSpPr>
                <a:xfrm>
                  <a:off x="6549480" y="10831320"/>
                  <a:ext cx="146160" cy="133560"/>
                  <a:chOff x="6549480" y="10831320"/>
                  <a:chExt cx="146160" cy="133560"/>
                </a:xfrm>
              </p:grpSpPr>
              <p:sp>
                <p:nvSpPr>
                  <p:cNvPr id="743" name=""/>
                  <p:cNvSpPr/>
                  <p:nvPr/>
                </p:nvSpPr>
                <p:spPr>
                  <a:xfrm flipH="1" rot="16200000">
                    <a:off x="6555600" y="10824840"/>
                    <a:ext cx="133560" cy="14616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44" name=""/>
                  <p:cNvGrpSpPr/>
                  <p:nvPr/>
                </p:nvGrpSpPr>
                <p:grpSpPr>
                  <a:xfrm>
                    <a:off x="6569280" y="10838160"/>
                    <a:ext cx="116640" cy="117360"/>
                    <a:chOff x="6569280" y="10838160"/>
                    <a:chExt cx="116640" cy="117360"/>
                  </a:xfrm>
                </p:grpSpPr>
                <p:sp>
                  <p:nvSpPr>
                    <p:cNvPr id="745" name=""/>
                    <p:cNvSpPr/>
                    <p:nvPr/>
                  </p:nvSpPr>
                  <p:spPr>
                    <a:xfrm flipH="1" rot="16200000">
                      <a:off x="6666120" y="10870200"/>
                      <a:ext cx="252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35">
                          <a:moveTo>
                            <a:pt x="0" y="35"/>
                          </a:moveTo>
                          <a:lnTo>
                            <a:pt x="5" y="29"/>
                          </a:lnTo>
                          <a:lnTo>
                            <a:pt x="11" y="23"/>
                          </a:lnTo>
                          <a:lnTo>
                            <a:pt x="17" y="17"/>
                          </a:lnTo>
                          <a:lnTo>
                            <a:pt x="22" y="12"/>
                          </a:lnTo>
                          <a:lnTo>
                            <a:pt x="26" y="8"/>
                          </a:lnTo>
                          <a:lnTo>
                            <a:pt x="30" y="5"/>
                          </a:lnTo>
                          <a:lnTo>
                            <a:pt x="32" y="2"/>
                          </a:lnTo>
                          <a:lnTo>
                            <a:pt x="34" y="1"/>
                          </a:lnTo>
                          <a:lnTo>
                            <a:pt x="34" y="0"/>
                          </a:lnTo>
                          <a:lnTo>
                            <a:pt x="3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6" name=""/>
                    <p:cNvSpPr/>
                    <p:nvPr/>
                  </p:nvSpPr>
                  <p:spPr>
                    <a:xfrm flipH="1" rot="16200000">
                      <a:off x="6666120" y="10870200"/>
                      <a:ext cx="252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35">
                          <a:moveTo>
                            <a:pt x="0" y="35"/>
                          </a:moveTo>
                          <a:lnTo>
                            <a:pt x="5" y="29"/>
                          </a:lnTo>
                          <a:lnTo>
                            <a:pt x="11" y="23"/>
                          </a:lnTo>
                          <a:lnTo>
                            <a:pt x="17" y="17"/>
                          </a:lnTo>
                          <a:lnTo>
                            <a:pt x="22" y="12"/>
                          </a:lnTo>
                          <a:lnTo>
                            <a:pt x="26" y="8"/>
                          </a:lnTo>
                          <a:lnTo>
                            <a:pt x="30" y="5"/>
                          </a:lnTo>
                          <a:lnTo>
                            <a:pt x="32" y="2"/>
                          </a:lnTo>
                          <a:lnTo>
                            <a:pt x="34" y="1"/>
                          </a:lnTo>
                          <a:lnTo>
                            <a:pt x="34" y="0"/>
                          </a:lnTo>
                          <a:lnTo>
                            <a:pt x="3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7" name=""/>
                    <p:cNvSpPr/>
                    <p:nvPr/>
                  </p:nvSpPr>
                  <p:spPr>
                    <a:xfrm flipH="1" rot="16200000">
                      <a:off x="6535440" y="10872000"/>
                      <a:ext cx="117360" cy="496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880" bIns="2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8" name=""/>
                    <p:cNvSpPr/>
                    <p:nvPr/>
                  </p:nvSpPr>
                  <p:spPr>
                    <a:xfrm flipH="1" rot="16200000">
                      <a:off x="6602400" y="10864440"/>
                      <a:ext cx="101160" cy="65520"/>
                    </a:xfrm>
                    <a:custGeom>
                      <a:avLst/>
                      <a:gdLst>
                        <a:gd name="textAreaLeft" fmla="*/ 22320 w 101160"/>
                        <a:gd name="textAreaRight" fmla="*/ 78840 w 101160"/>
                        <a:gd name="textAreaTop" fmla="*/ 14400 h 65520"/>
                        <a:gd name="textAreaBottom" fmla="*/ 51120 h 6552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16200" y="21600"/>
                          </a:lnTo>
                          <a:lnTo>
                            <a:pt x="5400" y="2160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080" bIns="-10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749" name=""/>
            <p:cNvGrpSpPr/>
            <p:nvPr/>
          </p:nvGrpSpPr>
          <p:grpSpPr>
            <a:xfrm>
              <a:off x="6151320" y="9485280"/>
              <a:ext cx="360360" cy="541440"/>
              <a:chOff x="6151320" y="9485280"/>
              <a:chExt cx="360360" cy="541440"/>
            </a:xfrm>
          </p:grpSpPr>
          <p:sp>
            <p:nvSpPr>
              <p:cNvPr id="750" name=""/>
              <p:cNvSpPr/>
              <p:nvPr/>
            </p:nvSpPr>
            <p:spPr>
              <a:xfrm rot="5400000">
                <a:off x="6187680" y="9448560"/>
                <a:ext cx="28728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rot="5400000">
                <a:off x="6249600" y="9847080"/>
                <a:ext cx="179640" cy="179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rot="10800000">
                <a:off x="6248160" y="9507240"/>
                <a:ext cx="196920" cy="152280"/>
              </a:xfrm>
              <a:custGeom>
                <a:avLst/>
                <a:gdLst>
                  <a:gd name="textAreaLeft" fmla="*/ 43200 w 196920"/>
                  <a:gd name="textAreaRight" fmla="*/ 153720 w 196920"/>
                  <a:gd name="textAreaTop" fmla="*/ 33480 h 152280"/>
                  <a:gd name="textAreaBottom" fmla="*/ 118800 h 15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3" name=""/>
            <p:cNvGrpSpPr/>
            <p:nvPr/>
          </p:nvGrpSpPr>
          <p:grpSpPr>
            <a:xfrm>
              <a:off x="5465520" y="9461520"/>
              <a:ext cx="360360" cy="541440"/>
              <a:chOff x="5465520" y="9461520"/>
              <a:chExt cx="360360" cy="541440"/>
            </a:xfrm>
          </p:grpSpPr>
          <p:sp>
            <p:nvSpPr>
              <p:cNvPr id="754" name=""/>
              <p:cNvSpPr/>
              <p:nvPr/>
            </p:nvSpPr>
            <p:spPr>
              <a:xfrm rot="5400000">
                <a:off x="5501880" y="9424800"/>
                <a:ext cx="28728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rot="5400000">
                <a:off x="5563800" y="9823320"/>
                <a:ext cx="179640" cy="179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rot="10800000">
                <a:off x="5562360" y="9483480"/>
                <a:ext cx="196920" cy="152280"/>
              </a:xfrm>
              <a:custGeom>
                <a:avLst/>
                <a:gdLst>
                  <a:gd name="textAreaLeft" fmla="*/ 43200 w 196920"/>
                  <a:gd name="textAreaRight" fmla="*/ 153720 w 196920"/>
                  <a:gd name="textAreaTop" fmla="*/ 33480 h 152280"/>
                  <a:gd name="textAreaBottom" fmla="*/ 118800 h 15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7" name=""/>
            <p:cNvSpPr/>
            <p:nvPr/>
          </p:nvSpPr>
          <p:spPr>
            <a:xfrm>
              <a:off x="5624280" y="9240840"/>
              <a:ext cx="88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TRATAMEN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8" name=""/>
            <p:cNvGrpSpPr/>
            <p:nvPr/>
          </p:nvGrpSpPr>
          <p:grpSpPr>
            <a:xfrm>
              <a:off x="3162240" y="6423120"/>
              <a:ext cx="1150920" cy="969840"/>
              <a:chOff x="3162240" y="6423120"/>
              <a:chExt cx="1150920" cy="969840"/>
            </a:xfrm>
          </p:grpSpPr>
          <p:grpSp>
            <p:nvGrpSpPr>
              <p:cNvPr id="759" name=""/>
              <p:cNvGrpSpPr/>
              <p:nvPr/>
            </p:nvGrpSpPr>
            <p:grpSpPr>
              <a:xfrm>
                <a:off x="3771720" y="6675120"/>
                <a:ext cx="541440" cy="360000"/>
                <a:chOff x="3771720" y="6675120"/>
                <a:chExt cx="541440" cy="360000"/>
              </a:xfrm>
            </p:grpSpPr>
            <p:sp>
              <p:nvSpPr>
                <p:cNvPr id="760" name=""/>
                <p:cNvSpPr/>
                <p:nvPr/>
              </p:nvSpPr>
              <p:spPr>
                <a:xfrm>
                  <a:off x="3771720" y="6675120"/>
                  <a:ext cx="287280" cy="360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4133520" y="6757200"/>
                  <a:ext cx="179640" cy="179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 rot="5400000">
                  <a:off x="3771360" y="6763320"/>
                  <a:ext cx="196560" cy="152280"/>
                </a:xfrm>
                <a:custGeom>
                  <a:avLst/>
                  <a:gdLst>
                    <a:gd name="textAreaLeft" fmla="*/ 43200 w 196560"/>
                    <a:gd name="textAreaRight" fmla="*/ 153360 w 196560"/>
                    <a:gd name="textAreaTop" fmla="*/ 33480 h 152280"/>
                    <a:gd name="textAreaBottom" fmla="*/ 118800 h 152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3" name=""/>
              <p:cNvGrpSpPr/>
              <p:nvPr/>
            </p:nvGrpSpPr>
            <p:grpSpPr>
              <a:xfrm>
                <a:off x="3162240" y="6423120"/>
                <a:ext cx="324000" cy="969840"/>
                <a:chOff x="3162240" y="6423120"/>
                <a:chExt cx="324000" cy="969840"/>
              </a:xfrm>
            </p:grpSpPr>
            <p:grpSp>
              <p:nvGrpSpPr>
                <p:cNvPr id="764" name=""/>
                <p:cNvGrpSpPr/>
                <p:nvPr/>
              </p:nvGrpSpPr>
              <p:grpSpPr>
                <a:xfrm>
                  <a:off x="3297240" y="7004160"/>
                  <a:ext cx="146160" cy="131760"/>
                  <a:chOff x="3297240" y="7004160"/>
                  <a:chExt cx="146160" cy="131760"/>
                </a:xfrm>
              </p:grpSpPr>
              <p:sp>
                <p:nvSpPr>
                  <p:cNvPr id="765" name=""/>
                  <p:cNvSpPr/>
                  <p:nvPr/>
                </p:nvSpPr>
                <p:spPr>
                  <a:xfrm rot="5400000">
                    <a:off x="3304440" y="6996960"/>
                    <a:ext cx="131760" cy="14616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66" name=""/>
                  <p:cNvGrpSpPr/>
                  <p:nvPr/>
                </p:nvGrpSpPr>
                <p:grpSpPr>
                  <a:xfrm>
                    <a:off x="3306960" y="7011000"/>
                    <a:ext cx="116640" cy="115920"/>
                    <a:chOff x="3306960" y="7011000"/>
                    <a:chExt cx="116640" cy="115920"/>
                  </a:xfrm>
                </p:grpSpPr>
                <p:sp>
                  <p:nvSpPr>
                    <p:cNvPr id="767" name=""/>
                    <p:cNvSpPr/>
                    <p:nvPr/>
                  </p:nvSpPr>
                  <p:spPr>
                    <a:xfrm rot="5400000">
                      <a:off x="3323880" y="7042680"/>
                      <a:ext cx="252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35">
                          <a:moveTo>
                            <a:pt x="0" y="35"/>
                          </a:moveTo>
                          <a:lnTo>
                            <a:pt x="5" y="29"/>
                          </a:lnTo>
                          <a:lnTo>
                            <a:pt x="11" y="23"/>
                          </a:lnTo>
                          <a:lnTo>
                            <a:pt x="17" y="17"/>
                          </a:lnTo>
                          <a:lnTo>
                            <a:pt x="22" y="12"/>
                          </a:lnTo>
                          <a:lnTo>
                            <a:pt x="26" y="8"/>
                          </a:lnTo>
                          <a:lnTo>
                            <a:pt x="30" y="5"/>
                          </a:lnTo>
                          <a:lnTo>
                            <a:pt x="32" y="2"/>
                          </a:lnTo>
                          <a:lnTo>
                            <a:pt x="34" y="1"/>
                          </a:lnTo>
                          <a:lnTo>
                            <a:pt x="34" y="0"/>
                          </a:lnTo>
                          <a:lnTo>
                            <a:pt x="3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8" name=""/>
                    <p:cNvSpPr/>
                    <p:nvPr/>
                  </p:nvSpPr>
                  <p:spPr>
                    <a:xfrm rot="5400000">
                      <a:off x="3323880" y="7042680"/>
                      <a:ext cx="252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35">
                          <a:moveTo>
                            <a:pt x="0" y="35"/>
                          </a:moveTo>
                          <a:lnTo>
                            <a:pt x="5" y="29"/>
                          </a:lnTo>
                          <a:lnTo>
                            <a:pt x="11" y="23"/>
                          </a:lnTo>
                          <a:lnTo>
                            <a:pt x="17" y="17"/>
                          </a:lnTo>
                          <a:lnTo>
                            <a:pt x="22" y="12"/>
                          </a:lnTo>
                          <a:lnTo>
                            <a:pt x="26" y="8"/>
                          </a:lnTo>
                          <a:lnTo>
                            <a:pt x="30" y="5"/>
                          </a:lnTo>
                          <a:lnTo>
                            <a:pt x="32" y="2"/>
                          </a:lnTo>
                          <a:lnTo>
                            <a:pt x="34" y="1"/>
                          </a:lnTo>
                          <a:lnTo>
                            <a:pt x="34" y="0"/>
                          </a:lnTo>
                          <a:lnTo>
                            <a:pt x="3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9" name=""/>
                    <p:cNvSpPr/>
                    <p:nvPr/>
                  </p:nvSpPr>
                  <p:spPr>
                    <a:xfrm rot="5400000">
                      <a:off x="3340800" y="7044120"/>
                      <a:ext cx="115920" cy="496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880" bIns="2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0" name=""/>
                    <p:cNvSpPr/>
                    <p:nvPr/>
                  </p:nvSpPr>
                  <p:spPr>
                    <a:xfrm rot="5400000">
                      <a:off x="3289680" y="7036560"/>
                      <a:ext cx="99720" cy="65520"/>
                    </a:xfrm>
                    <a:custGeom>
                      <a:avLst/>
                      <a:gdLst>
                        <a:gd name="textAreaLeft" fmla="*/ 21960 w 99720"/>
                        <a:gd name="textAreaRight" fmla="*/ 77760 w 99720"/>
                        <a:gd name="textAreaTop" fmla="*/ 14400 h 65520"/>
                        <a:gd name="textAreaBottom" fmla="*/ 51120 h 6552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16200" y="21600"/>
                          </a:lnTo>
                          <a:lnTo>
                            <a:pt x="5400" y="2160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080" bIns="-10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771" name=""/>
                <p:cNvGrpSpPr/>
                <p:nvPr/>
              </p:nvGrpSpPr>
              <p:grpSpPr>
                <a:xfrm>
                  <a:off x="3309840" y="7196040"/>
                  <a:ext cx="146160" cy="131760"/>
                  <a:chOff x="3309840" y="7196040"/>
                  <a:chExt cx="146160" cy="131760"/>
                </a:xfrm>
              </p:grpSpPr>
              <p:sp>
                <p:nvSpPr>
                  <p:cNvPr id="772" name=""/>
                  <p:cNvSpPr/>
                  <p:nvPr/>
                </p:nvSpPr>
                <p:spPr>
                  <a:xfrm rot="5400000">
                    <a:off x="3317040" y="7188840"/>
                    <a:ext cx="131760" cy="14616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73" name=""/>
                  <p:cNvGrpSpPr/>
                  <p:nvPr/>
                </p:nvGrpSpPr>
                <p:grpSpPr>
                  <a:xfrm>
                    <a:off x="3319560" y="7202880"/>
                    <a:ext cx="116640" cy="115920"/>
                    <a:chOff x="3319560" y="7202880"/>
                    <a:chExt cx="116640" cy="115920"/>
                  </a:xfrm>
                </p:grpSpPr>
                <p:sp>
                  <p:nvSpPr>
                    <p:cNvPr id="774" name=""/>
                    <p:cNvSpPr/>
                    <p:nvPr/>
                  </p:nvSpPr>
                  <p:spPr>
                    <a:xfrm rot="5400000">
                      <a:off x="3336480" y="7234560"/>
                      <a:ext cx="252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35">
                          <a:moveTo>
                            <a:pt x="0" y="35"/>
                          </a:moveTo>
                          <a:lnTo>
                            <a:pt x="5" y="29"/>
                          </a:lnTo>
                          <a:lnTo>
                            <a:pt x="11" y="23"/>
                          </a:lnTo>
                          <a:lnTo>
                            <a:pt x="17" y="17"/>
                          </a:lnTo>
                          <a:lnTo>
                            <a:pt x="22" y="12"/>
                          </a:lnTo>
                          <a:lnTo>
                            <a:pt x="26" y="8"/>
                          </a:lnTo>
                          <a:lnTo>
                            <a:pt x="30" y="5"/>
                          </a:lnTo>
                          <a:lnTo>
                            <a:pt x="32" y="2"/>
                          </a:lnTo>
                          <a:lnTo>
                            <a:pt x="34" y="1"/>
                          </a:lnTo>
                          <a:lnTo>
                            <a:pt x="34" y="0"/>
                          </a:lnTo>
                          <a:lnTo>
                            <a:pt x="3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5" name=""/>
                    <p:cNvSpPr/>
                    <p:nvPr/>
                  </p:nvSpPr>
                  <p:spPr>
                    <a:xfrm rot="5400000">
                      <a:off x="3336480" y="7234560"/>
                      <a:ext cx="252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35">
                          <a:moveTo>
                            <a:pt x="0" y="35"/>
                          </a:moveTo>
                          <a:lnTo>
                            <a:pt x="5" y="29"/>
                          </a:lnTo>
                          <a:lnTo>
                            <a:pt x="11" y="23"/>
                          </a:lnTo>
                          <a:lnTo>
                            <a:pt x="17" y="17"/>
                          </a:lnTo>
                          <a:lnTo>
                            <a:pt x="22" y="12"/>
                          </a:lnTo>
                          <a:lnTo>
                            <a:pt x="26" y="8"/>
                          </a:lnTo>
                          <a:lnTo>
                            <a:pt x="30" y="5"/>
                          </a:lnTo>
                          <a:lnTo>
                            <a:pt x="32" y="2"/>
                          </a:lnTo>
                          <a:lnTo>
                            <a:pt x="34" y="1"/>
                          </a:lnTo>
                          <a:lnTo>
                            <a:pt x="34" y="0"/>
                          </a:lnTo>
                          <a:lnTo>
                            <a:pt x="3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6" name=""/>
                    <p:cNvSpPr/>
                    <p:nvPr/>
                  </p:nvSpPr>
                  <p:spPr>
                    <a:xfrm rot="5400000">
                      <a:off x="3353400" y="7236000"/>
                      <a:ext cx="115920" cy="496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880" bIns="2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7" name=""/>
                    <p:cNvSpPr/>
                    <p:nvPr/>
                  </p:nvSpPr>
                  <p:spPr>
                    <a:xfrm rot="5400000">
                      <a:off x="3302280" y="7228440"/>
                      <a:ext cx="99720" cy="65520"/>
                    </a:xfrm>
                    <a:custGeom>
                      <a:avLst/>
                      <a:gdLst>
                        <a:gd name="textAreaLeft" fmla="*/ 21960 w 99720"/>
                        <a:gd name="textAreaRight" fmla="*/ 77760 w 99720"/>
                        <a:gd name="textAreaTop" fmla="*/ 14400 h 65520"/>
                        <a:gd name="textAreaBottom" fmla="*/ 51120 h 6552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16200" y="21600"/>
                          </a:lnTo>
                          <a:lnTo>
                            <a:pt x="5400" y="2160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080" bIns="-10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778" name=""/>
                <p:cNvSpPr/>
                <p:nvPr/>
              </p:nvSpPr>
              <p:spPr>
                <a:xfrm>
                  <a:off x="3162240" y="6435720"/>
                  <a:ext cx="324000" cy="925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79" name=""/>
                <p:cNvGrpSpPr/>
                <p:nvPr/>
              </p:nvGrpSpPr>
              <p:grpSpPr>
                <a:xfrm>
                  <a:off x="3317760" y="6485040"/>
                  <a:ext cx="146160" cy="131760"/>
                  <a:chOff x="3317760" y="6485040"/>
                  <a:chExt cx="146160" cy="131760"/>
                </a:xfrm>
              </p:grpSpPr>
              <p:sp>
                <p:nvSpPr>
                  <p:cNvPr id="780" name=""/>
                  <p:cNvSpPr/>
                  <p:nvPr/>
                </p:nvSpPr>
                <p:spPr>
                  <a:xfrm rot="5400000">
                    <a:off x="3324960" y="6477840"/>
                    <a:ext cx="131760" cy="14616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81" name=""/>
                  <p:cNvGrpSpPr/>
                  <p:nvPr/>
                </p:nvGrpSpPr>
                <p:grpSpPr>
                  <a:xfrm>
                    <a:off x="3327480" y="6491880"/>
                    <a:ext cx="116640" cy="115920"/>
                    <a:chOff x="3327480" y="6491880"/>
                    <a:chExt cx="116640" cy="115920"/>
                  </a:xfrm>
                </p:grpSpPr>
                <p:sp>
                  <p:nvSpPr>
                    <p:cNvPr id="782" name=""/>
                    <p:cNvSpPr/>
                    <p:nvPr/>
                  </p:nvSpPr>
                  <p:spPr>
                    <a:xfrm rot="5400000">
                      <a:off x="3344400" y="6523560"/>
                      <a:ext cx="252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35">
                          <a:moveTo>
                            <a:pt x="0" y="35"/>
                          </a:moveTo>
                          <a:lnTo>
                            <a:pt x="5" y="29"/>
                          </a:lnTo>
                          <a:lnTo>
                            <a:pt x="11" y="23"/>
                          </a:lnTo>
                          <a:lnTo>
                            <a:pt x="17" y="17"/>
                          </a:lnTo>
                          <a:lnTo>
                            <a:pt x="22" y="12"/>
                          </a:lnTo>
                          <a:lnTo>
                            <a:pt x="26" y="8"/>
                          </a:lnTo>
                          <a:lnTo>
                            <a:pt x="30" y="5"/>
                          </a:lnTo>
                          <a:lnTo>
                            <a:pt x="32" y="2"/>
                          </a:lnTo>
                          <a:lnTo>
                            <a:pt x="34" y="1"/>
                          </a:lnTo>
                          <a:lnTo>
                            <a:pt x="34" y="0"/>
                          </a:lnTo>
                          <a:lnTo>
                            <a:pt x="3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3" name=""/>
                    <p:cNvSpPr/>
                    <p:nvPr/>
                  </p:nvSpPr>
                  <p:spPr>
                    <a:xfrm rot="5400000">
                      <a:off x="3344400" y="6523560"/>
                      <a:ext cx="252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35">
                          <a:moveTo>
                            <a:pt x="0" y="35"/>
                          </a:moveTo>
                          <a:lnTo>
                            <a:pt x="5" y="29"/>
                          </a:lnTo>
                          <a:lnTo>
                            <a:pt x="11" y="23"/>
                          </a:lnTo>
                          <a:lnTo>
                            <a:pt x="17" y="17"/>
                          </a:lnTo>
                          <a:lnTo>
                            <a:pt x="22" y="12"/>
                          </a:lnTo>
                          <a:lnTo>
                            <a:pt x="26" y="8"/>
                          </a:lnTo>
                          <a:lnTo>
                            <a:pt x="30" y="5"/>
                          </a:lnTo>
                          <a:lnTo>
                            <a:pt x="32" y="2"/>
                          </a:lnTo>
                          <a:lnTo>
                            <a:pt x="34" y="1"/>
                          </a:lnTo>
                          <a:lnTo>
                            <a:pt x="34" y="0"/>
                          </a:lnTo>
                          <a:lnTo>
                            <a:pt x="3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4" name=""/>
                    <p:cNvSpPr/>
                    <p:nvPr/>
                  </p:nvSpPr>
                  <p:spPr>
                    <a:xfrm rot="5400000">
                      <a:off x="3361320" y="6525000"/>
                      <a:ext cx="115920" cy="496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880" bIns="2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5" name=""/>
                    <p:cNvSpPr/>
                    <p:nvPr/>
                  </p:nvSpPr>
                  <p:spPr>
                    <a:xfrm rot="5400000">
                      <a:off x="3310200" y="6517440"/>
                      <a:ext cx="99720" cy="65520"/>
                    </a:xfrm>
                    <a:custGeom>
                      <a:avLst/>
                      <a:gdLst>
                        <a:gd name="textAreaLeft" fmla="*/ 21960 w 99720"/>
                        <a:gd name="textAreaRight" fmla="*/ 77760 w 99720"/>
                        <a:gd name="textAreaTop" fmla="*/ 14400 h 65520"/>
                        <a:gd name="textAreaBottom" fmla="*/ 51120 h 6552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16200" y="21600"/>
                          </a:lnTo>
                          <a:lnTo>
                            <a:pt x="5400" y="2160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080" bIns="-10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786" name=""/>
                <p:cNvGrpSpPr/>
                <p:nvPr/>
              </p:nvGrpSpPr>
              <p:grpSpPr>
                <a:xfrm>
                  <a:off x="3335040" y="6656400"/>
                  <a:ext cx="145800" cy="131760"/>
                  <a:chOff x="3335040" y="6656400"/>
                  <a:chExt cx="145800" cy="131760"/>
                </a:xfrm>
              </p:grpSpPr>
              <p:sp>
                <p:nvSpPr>
                  <p:cNvPr id="787" name=""/>
                  <p:cNvSpPr/>
                  <p:nvPr/>
                </p:nvSpPr>
                <p:spPr>
                  <a:xfrm rot="5400000">
                    <a:off x="3341880" y="6649200"/>
                    <a:ext cx="131760" cy="14580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88" name=""/>
                  <p:cNvGrpSpPr/>
                  <p:nvPr/>
                </p:nvGrpSpPr>
                <p:grpSpPr>
                  <a:xfrm>
                    <a:off x="3344760" y="6663240"/>
                    <a:ext cx="116280" cy="115920"/>
                    <a:chOff x="3344760" y="6663240"/>
                    <a:chExt cx="116280" cy="115920"/>
                  </a:xfrm>
                </p:grpSpPr>
                <p:sp>
                  <p:nvSpPr>
                    <p:cNvPr id="789" name=""/>
                    <p:cNvSpPr/>
                    <p:nvPr/>
                  </p:nvSpPr>
                  <p:spPr>
                    <a:xfrm rot="5400000">
                      <a:off x="3361680" y="6694920"/>
                      <a:ext cx="252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35">
                          <a:moveTo>
                            <a:pt x="0" y="35"/>
                          </a:moveTo>
                          <a:lnTo>
                            <a:pt x="5" y="29"/>
                          </a:lnTo>
                          <a:lnTo>
                            <a:pt x="11" y="23"/>
                          </a:lnTo>
                          <a:lnTo>
                            <a:pt x="17" y="17"/>
                          </a:lnTo>
                          <a:lnTo>
                            <a:pt x="22" y="12"/>
                          </a:lnTo>
                          <a:lnTo>
                            <a:pt x="26" y="8"/>
                          </a:lnTo>
                          <a:lnTo>
                            <a:pt x="30" y="5"/>
                          </a:lnTo>
                          <a:lnTo>
                            <a:pt x="32" y="2"/>
                          </a:lnTo>
                          <a:lnTo>
                            <a:pt x="34" y="1"/>
                          </a:lnTo>
                          <a:lnTo>
                            <a:pt x="34" y="0"/>
                          </a:lnTo>
                          <a:lnTo>
                            <a:pt x="3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0" name=""/>
                    <p:cNvSpPr/>
                    <p:nvPr/>
                  </p:nvSpPr>
                  <p:spPr>
                    <a:xfrm rot="5400000">
                      <a:off x="3361680" y="6694920"/>
                      <a:ext cx="252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35">
                          <a:moveTo>
                            <a:pt x="0" y="35"/>
                          </a:moveTo>
                          <a:lnTo>
                            <a:pt x="5" y="29"/>
                          </a:lnTo>
                          <a:lnTo>
                            <a:pt x="11" y="23"/>
                          </a:lnTo>
                          <a:lnTo>
                            <a:pt x="17" y="17"/>
                          </a:lnTo>
                          <a:lnTo>
                            <a:pt x="22" y="12"/>
                          </a:lnTo>
                          <a:lnTo>
                            <a:pt x="26" y="8"/>
                          </a:lnTo>
                          <a:lnTo>
                            <a:pt x="30" y="5"/>
                          </a:lnTo>
                          <a:lnTo>
                            <a:pt x="32" y="2"/>
                          </a:lnTo>
                          <a:lnTo>
                            <a:pt x="34" y="1"/>
                          </a:lnTo>
                          <a:lnTo>
                            <a:pt x="34" y="0"/>
                          </a:lnTo>
                          <a:lnTo>
                            <a:pt x="3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1" name=""/>
                    <p:cNvSpPr/>
                    <p:nvPr/>
                  </p:nvSpPr>
                  <p:spPr>
                    <a:xfrm rot="5400000">
                      <a:off x="3378240" y="6696360"/>
                      <a:ext cx="115920" cy="49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520" bIns="2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2" name=""/>
                    <p:cNvSpPr/>
                    <p:nvPr/>
                  </p:nvSpPr>
                  <p:spPr>
                    <a:xfrm rot="5400000">
                      <a:off x="3327480" y="6689160"/>
                      <a:ext cx="99720" cy="65160"/>
                    </a:xfrm>
                    <a:custGeom>
                      <a:avLst/>
                      <a:gdLst>
                        <a:gd name="textAreaLeft" fmla="*/ 21960 w 99720"/>
                        <a:gd name="textAreaRight" fmla="*/ 77760 w 99720"/>
                        <a:gd name="textAreaTop" fmla="*/ 14400 h 65160"/>
                        <a:gd name="textAreaBottom" fmla="*/ 50760 h 651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16200" y="21600"/>
                          </a:lnTo>
                          <a:lnTo>
                            <a:pt x="5400" y="2160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440" bIns="-10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793" name=""/>
                <p:cNvGrpSpPr/>
                <p:nvPr/>
              </p:nvGrpSpPr>
              <p:grpSpPr>
                <a:xfrm>
                  <a:off x="3309840" y="6853320"/>
                  <a:ext cx="146160" cy="131760"/>
                  <a:chOff x="3309840" y="6853320"/>
                  <a:chExt cx="146160" cy="131760"/>
                </a:xfrm>
              </p:grpSpPr>
              <p:sp>
                <p:nvSpPr>
                  <p:cNvPr id="794" name=""/>
                  <p:cNvSpPr/>
                  <p:nvPr/>
                </p:nvSpPr>
                <p:spPr>
                  <a:xfrm rot="5400000">
                    <a:off x="3317040" y="6846120"/>
                    <a:ext cx="131760" cy="14616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95" name=""/>
                  <p:cNvGrpSpPr/>
                  <p:nvPr/>
                </p:nvGrpSpPr>
                <p:grpSpPr>
                  <a:xfrm>
                    <a:off x="3319560" y="6860160"/>
                    <a:ext cx="116640" cy="115920"/>
                    <a:chOff x="3319560" y="6860160"/>
                    <a:chExt cx="116640" cy="115920"/>
                  </a:xfrm>
                </p:grpSpPr>
                <p:sp>
                  <p:nvSpPr>
                    <p:cNvPr id="796" name=""/>
                    <p:cNvSpPr/>
                    <p:nvPr/>
                  </p:nvSpPr>
                  <p:spPr>
                    <a:xfrm rot="5400000">
                      <a:off x="3336480" y="6891840"/>
                      <a:ext cx="252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35">
                          <a:moveTo>
                            <a:pt x="0" y="35"/>
                          </a:moveTo>
                          <a:lnTo>
                            <a:pt x="5" y="29"/>
                          </a:lnTo>
                          <a:lnTo>
                            <a:pt x="11" y="23"/>
                          </a:lnTo>
                          <a:lnTo>
                            <a:pt x="17" y="17"/>
                          </a:lnTo>
                          <a:lnTo>
                            <a:pt x="22" y="12"/>
                          </a:lnTo>
                          <a:lnTo>
                            <a:pt x="26" y="8"/>
                          </a:lnTo>
                          <a:lnTo>
                            <a:pt x="30" y="5"/>
                          </a:lnTo>
                          <a:lnTo>
                            <a:pt x="32" y="2"/>
                          </a:lnTo>
                          <a:lnTo>
                            <a:pt x="34" y="1"/>
                          </a:lnTo>
                          <a:lnTo>
                            <a:pt x="34" y="0"/>
                          </a:lnTo>
                          <a:lnTo>
                            <a:pt x="3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7" name=""/>
                    <p:cNvSpPr/>
                    <p:nvPr/>
                  </p:nvSpPr>
                  <p:spPr>
                    <a:xfrm rot="5400000">
                      <a:off x="3336480" y="6891840"/>
                      <a:ext cx="252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35">
                          <a:moveTo>
                            <a:pt x="0" y="35"/>
                          </a:moveTo>
                          <a:lnTo>
                            <a:pt x="5" y="29"/>
                          </a:lnTo>
                          <a:lnTo>
                            <a:pt x="11" y="23"/>
                          </a:lnTo>
                          <a:lnTo>
                            <a:pt x="17" y="17"/>
                          </a:lnTo>
                          <a:lnTo>
                            <a:pt x="22" y="12"/>
                          </a:lnTo>
                          <a:lnTo>
                            <a:pt x="26" y="8"/>
                          </a:lnTo>
                          <a:lnTo>
                            <a:pt x="30" y="5"/>
                          </a:lnTo>
                          <a:lnTo>
                            <a:pt x="32" y="2"/>
                          </a:lnTo>
                          <a:lnTo>
                            <a:pt x="34" y="1"/>
                          </a:lnTo>
                          <a:lnTo>
                            <a:pt x="34" y="0"/>
                          </a:lnTo>
                          <a:lnTo>
                            <a:pt x="3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8" name=""/>
                    <p:cNvSpPr/>
                    <p:nvPr/>
                  </p:nvSpPr>
                  <p:spPr>
                    <a:xfrm rot="5400000">
                      <a:off x="3353400" y="6893280"/>
                      <a:ext cx="115920" cy="496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880" bIns="2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9" name=""/>
                    <p:cNvSpPr/>
                    <p:nvPr/>
                  </p:nvSpPr>
                  <p:spPr>
                    <a:xfrm rot="5400000">
                      <a:off x="3302280" y="6885720"/>
                      <a:ext cx="99720" cy="65520"/>
                    </a:xfrm>
                    <a:custGeom>
                      <a:avLst/>
                      <a:gdLst>
                        <a:gd name="textAreaLeft" fmla="*/ 21960 w 99720"/>
                        <a:gd name="textAreaRight" fmla="*/ 77760 w 99720"/>
                        <a:gd name="textAreaTop" fmla="*/ 14400 h 65520"/>
                        <a:gd name="textAreaBottom" fmla="*/ 51120 h 6552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16200" y="21600"/>
                          </a:lnTo>
                          <a:lnTo>
                            <a:pt x="5400" y="2160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080" bIns="-10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800" name=""/>
                <p:cNvSpPr/>
                <p:nvPr/>
              </p:nvSpPr>
              <p:spPr>
                <a:xfrm>
                  <a:off x="3192480" y="6423120"/>
                  <a:ext cx="206280" cy="96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01" name=""/>
                <p:cNvGrpSpPr/>
                <p:nvPr/>
              </p:nvGrpSpPr>
              <p:grpSpPr>
                <a:xfrm>
                  <a:off x="3198600" y="6467400"/>
                  <a:ext cx="144720" cy="131760"/>
                  <a:chOff x="3198600" y="6467400"/>
                  <a:chExt cx="144720" cy="131760"/>
                </a:xfrm>
              </p:grpSpPr>
              <p:sp>
                <p:nvSpPr>
                  <p:cNvPr id="802" name=""/>
                  <p:cNvSpPr/>
                  <p:nvPr/>
                </p:nvSpPr>
                <p:spPr>
                  <a:xfrm rot="5400000">
                    <a:off x="3205080" y="6460920"/>
                    <a:ext cx="131760" cy="14472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03" name=""/>
                  <p:cNvGrpSpPr/>
                  <p:nvPr/>
                </p:nvGrpSpPr>
                <p:grpSpPr>
                  <a:xfrm>
                    <a:off x="3207960" y="6474240"/>
                    <a:ext cx="115560" cy="115920"/>
                    <a:chOff x="3207960" y="6474240"/>
                    <a:chExt cx="115560" cy="115920"/>
                  </a:xfrm>
                </p:grpSpPr>
                <p:sp>
                  <p:nvSpPr>
                    <p:cNvPr id="804" name=""/>
                    <p:cNvSpPr/>
                    <p:nvPr/>
                  </p:nvSpPr>
                  <p:spPr>
                    <a:xfrm rot="5400000">
                      <a:off x="3224520" y="6505920"/>
                      <a:ext cx="252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35">
                          <a:moveTo>
                            <a:pt x="0" y="35"/>
                          </a:moveTo>
                          <a:lnTo>
                            <a:pt x="5" y="29"/>
                          </a:lnTo>
                          <a:lnTo>
                            <a:pt x="11" y="23"/>
                          </a:lnTo>
                          <a:lnTo>
                            <a:pt x="17" y="17"/>
                          </a:lnTo>
                          <a:lnTo>
                            <a:pt x="22" y="12"/>
                          </a:lnTo>
                          <a:lnTo>
                            <a:pt x="26" y="8"/>
                          </a:lnTo>
                          <a:lnTo>
                            <a:pt x="30" y="5"/>
                          </a:lnTo>
                          <a:lnTo>
                            <a:pt x="32" y="2"/>
                          </a:lnTo>
                          <a:lnTo>
                            <a:pt x="34" y="1"/>
                          </a:lnTo>
                          <a:lnTo>
                            <a:pt x="34" y="0"/>
                          </a:lnTo>
                          <a:lnTo>
                            <a:pt x="3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5" name=""/>
                    <p:cNvSpPr/>
                    <p:nvPr/>
                  </p:nvSpPr>
                  <p:spPr>
                    <a:xfrm rot="5400000">
                      <a:off x="3224520" y="6505920"/>
                      <a:ext cx="252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35">
                          <a:moveTo>
                            <a:pt x="0" y="35"/>
                          </a:moveTo>
                          <a:lnTo>
                            <a:pt x="5" y="29"/>
                          </a:lnTo>
                          <a:lnTo>
                            <a:pt x="11" y="23"/>
                          </a:lnTo>
                          <a:lnTo>
                            <a:pt x="17" y="17"/>
                          </a:lnTo>
                          <a:lnTo>
                            <a:pt x="22" y="12"/>
                          </a:lnTo>
                          <a:lnTo>
                            <a:pt x="26" y="8"/>
                          </a:lnTo>
                          <a:lnTo>
                            <a:pt x="30" y="5"/>
                          </a:lnTo>
                          <a:lnTo>
                            <a:pt x="32" y="2"/>
                          </a:lnTo>
                          <a:lnTo>
                            <a:pt x="34" y="1"/>
                          </a:lnTo>
                          <a:lnTo>
                            <a:pt x="34" y="0"/>
                          </a:lnTo>
                          <a:lnTo>
                            <a:pt x="3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6" name=""/>
                    <p:cNvSpPr/>
                    <p:nvPr/>
                  </p:nvSpPr>
                  <p:spPr>
                    <a:xfrm rot="5400000">
                      <a:off x="3241080" y="6507720"/>
                      <a:ext cx="115920" cy="48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7" name=""/>
                    <p:cNvSpPr/>
                    <p:nvPr/>
                  </p:nvSpPr>
                  <p:spPr>
                    <a:xfrm rot="5400000">
                      <a:off x="3190320" y="6500160"/>
                      <a:ext cx="99720" cy="64800"/>
                    </a:xfrm>
                    <a:custGeom>
                      <a:avLst/>
                      <a:gdLst>
                        <a:gd name="textAreaLeft" fmla="*/ 21960 w 99720"/>
                        <a:gd name="textAreaRight" fmla="*/ 77760 w 99720"/>
                        <a:gd name="textAreaTop" fmla="*/ 14040 h 64800"/>
                        <a:gd name="textAreaBottom" fmla="*/ 50760 h 6480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16200" y="21600"/>
                          </a:lnTo>
                          <a:lnTo>
                            <a:pt x="5400" y="2160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080" bIns="-10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808" name=""/>
                <p:cNvGrpSpPr/>
                <p:nvPr/>
              </p:nvGrpSpPr>
              <p:grpSpPr>
                <a:xfrm>
                  <a:off x="3198600" y="6629400"/>
                  <a:ext cx="144720" cy="133560"/>
                  <a:chOff x="3198600" y="6629400"/>
                  <a:chExt cx="144720" cy="133560"/>
                </a:xfrm>
              </p:grpSpPr>
              <p:sp>
                <p:nvSpPr>
                  <p:cNvPr id="809" name=""/>
                  <p:cNvSpPr/>
                  <p:nvPr/>
                </p:nvSpPr>
                <p:spPr>
                  <a:xfrm rot="5400000">
                    <a:off x="3204000" y="6623640"/>
                    <a:ext cx="133560" cy="14472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10" name=""/>
                  <p:cNvGrpSpPr/>
                  <p:nvPr/>
                </p:nvGrpSpPr>
                <p:grpSpPr>
                  <a:xfrm>
                    <a:off x="3207960" y="6636240"/>
                    <a:ext cx="115560" cy="117360"/>
                    <a:chOff x="3207960" y="6636240"/>
                    <a:chExt cx="115560" cy="117360"/>
                  </a:xfrm>
                </p:grpSpPr>
                <p:sp>
                  <p:nvSpPr>
                    <p:cNvPr id="811" name=""/>
                    <p:cNvSpPr/>
                    <p:nvPr/>
                  </p:nvSpPr>
                  <p:spPr>
                    <a:xfrm rot="5400000">
                      <a:off x="3224520" y="6668280"/>
                      <a:ext cx="252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35">
                          <a:moveTo>
                            <a:pt x="0" y="35"/>
                          </a:moveTo>
                          <a:lnTo>
                            <a:pt x="5" y="29"/>
                          </a:lnTo>
                          <a:lnTo>
                            <a:pt x="11" y="23"/>
                          </a:lnTo>
                          <a:lnTo>
                            <a:pt x="17" y="17"/>
                          </a:lnTo>
                          <a:lnTo>
                            <a:pt x="22" y="12"/>
                          </a:lnTo>
                          <a:lnTo>
                            <a:pt x="26" y="8"/>
                          </a:lnTo>
                          <a:lnTo>
                            <a:pt x="30" y="5"/>
                          </a:lnTo>
                          <a:lnTo>
                            <a:pt x="32" y="2"/>
                          </a:lnTo>
                          <a:lnTo>
                            <a:pt x="34" y="1"/>
                          </a:lnTo>
                          <a:lnTo>
                            <a:pt x="34" y="0"/>
                          </a:lnTo>
                          <a:lnTo>
                            <a:pt x="3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2" name=""/>
                    <p:cNvSpPr/>
                    <p:nvPr/>
                  </p:nvSpPr>
                  <p:spPr>
                    <a:xfrm rot="5400000">
                      <a:off x="3224520" y="6668280"/>
                      <a:ext cx="252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35">
                          <a:moveTo>
                            <a:pt x="0" y="35"/>
                          </a:moveTo>
                          <a:lnTo>
                            <a:pt x="5" y="29"/>
                          </a:lnTo>
                          <a:lnTo>
                            <a:pt x="11" y="23"/>
                          </a:lnTo>
                          <a:lnTo>
                            <a:pt x="17" y="17"/>
                          </a:lnTo>
                          <a:lnTo>
                            <a:pt x="22" y="12"/>
                          </a:lnTo>
                          <a:lnTo>
                            <a:pt x="26" y="8"/>
                          </a:lnTo>
                          <a:lnTo>
                            <a:pt x="30" y="5"/>
                          </a:lnTo>
                          <a:lnTo>
                            <a:pt x="32" y="2"/>
                          </a:lnTo>
                          <a:lnTo>
                            <a:pt x="34" y="1"/>
                          </a:lnTo>
                          <a:lnTo>
                            <a:pt x="34" y="0"/>
                          </a:lnTo>
                          <a:lnTo>
                            <a:pt x="3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3" name=""/>
                    <p:cNvSpPr/>
                    <p:nvPr/>
                  </p:nvSpPr>
                  <p:spPr>
                    <a:xfrm rot="5400000">
                      <a:off x="3240360" y="6670440"/>
                      <a:ext cx="117360" cy="48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4" name=""/>
                    <p:cNvSpPr/>
                    <p:nvPr/>
                  </p:nvSpPr>
                  <p:spPr>
                    <a:xfrm rot="5400000">
                      <a:off x="3189600" y="6662880"/>
                      <a:ext cx="101160" cy="64800"/>
                    </a:xfrm>
                    <a:custGeom>
                      <a:avLst/>
                      <a:gdLst>
                        <a:gd name="textAreaLeft" fmla="*/ 22320 w 101160"/>
                        <a:gd name="textAreaRight" fmla="*/ 78840 w 101160"/>
                        <a:gd name="textAreaTop" fmla="*/ 14040 h 64800"/>
                        <a:gd name="textAreaBottom" fmla="*/ 50760 h 6480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16200" y="21600"/>
                          </a:lnTo>
                          <a:lnTo>
                            <a:pt x="5400" y="2160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080" bIns="-10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815" name=""/>
                <p:cNvGrpSpPr/>
                <p:nvPr/>
              </p:nvGrpSpPr>
              <p:grpSpPr>
                <a:xfrm>
                  <a:off x="3189240" y="6818400"/>
                  <a:ext cx="146160" cy="133200"/>
                  <a:chOff x="3189240" y="6818400"/>
                  <a:chExt cx="146160" cy="133200"/>
                </a:xfrm>
              </p:grpSpPr>
              <p:sp>
                <p:nvSpPr>
                  <p:cNvPr id="816" name=""/>
                  <p:cNvSpPr/>
                  <p:nvPr/>
                </p:nvSpPr>
                <p:spPr>
                  <a:xfrm rot="5400000">
                    <a:off x="3195720" y="6811920"/>
                    <a:ext cx="133200" cy="14616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17" name=""/>
                  <p:cNvGrpSpPr/>
                  <p:nvPr/>
                </p:nvGrpSpPr>
                <p:grpSpPr>
                  <a:xfrm>
                    <a:off x="3198960" y="6825240"/>
                    <a:ext cx="116640" cy="117000"/>
                    <a:chOff x="3198960" y="6825240"/>
                    <a:chExt cx="116640" cy="117000"/>
                  </a:xfrm>
                </p:grpSpPr>
                <p:sp>
                  <p:nvSpPr>
                    <p:cNvPr id="818" name=""/>
                    <p:cNvSpPr/>
                    <p:nvPr/>
                  </p:nvSpPr>
                  <p:spPr>
                    <a:xfrm rot="5400000">
                      <a:off x="3215880" y="6856920"/>
                      <a:ext cx="252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35">
                          <a:moveTo>
                            <a:pt x="0" y="35"/>
                          </a:moveTo>
                          <a:lnTo>
                            <a:pt x="5" y="29"/>
                          </a:lnTo>
                          <a:lnTo>
                            <a:pt x="11" y="23"/>
                          </a:lnTo>
                          <a:lnTo>
                            <a:pt x="17" y="17"/>
                          </a:lnTo>
                          <a:lnTo>
                            <a:pt x="22" y="12"/>
                          </a:lnTo>
                          <a:lnTo>
                            <a:pt x="26" y="8"/>
                          </a:lnTo>
                          <a:lnTo>
                            <a:pt x="30" y="5"/>
                          </a:lnTo>
                          <a:lnTo>
                            <a:pt x="32" y="2"/>
                          </a:lnTo>
                          <a:lnTo>
                            <a:pt x="34" y="1"/>
                          </a:lnTo>
                          <a:lnTo>
                            <a:pt x="34" y="0"/>
                          </a:lnTo>
                          <a:lnTo>
                            <a:pt x="3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9" name=""/>
                    <p:cNvSpPr/>
                    <p:nvPr/>
                  </p:nvSpPr>
                  <p:spPr>
                    <a:xfrm rot="5400000">
                      <a:off x="3215880" y="6856920"/>
                      <a:ext cx="252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35">
                          <a:moveTo>
                            <a:pt x="0" y="35"/>
                          </a:moveTo>
                          <a:lnTo>
                            <a:pt x="5" y="29"/>
                          </a:lnTo>
                          <a:lnTo>
                            <a:pt x="11" y="23"/>
                          </a:lnTo>
                          <a:lnTo>
                            <a:pt x="17" y="17"/>
                          </a:lnTo>
                          <a:lnTo>
                            <a:pt x="22" y="12"/>
                          </a:lnTo>
                          <a:lnTo>
                            <a:pt x="26" y="8"/>
                          </a:lnTo>
                          <a:lnTo>
                            <a:pt x="30" y="5"/>
                          </a:lnTo>
                          <a:lnTo>
                            <a:pt x="32" y="2"/>
                          </a:lnTo>
                          <a:lnTo>
                            <a:pt x="34" y="1"/>
                          </a:lnTo>
                          <a:lnTo>
                            <a:pt x="34" y="0"/>
                          </a:lnTo>
                          <a:lnTo>
                            <a:pt x="3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0" name=""/>
                    <p:cNvSpPr/>
                    <p:nvPr/>
                  </p:nvSpPr>
                  <p:spPr>
                    <a:xfrm rot="5400000">
                      <a:off x="3232080" y="6858720"/>
                      <a:ext cx="117000" cy="496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880" bIns="2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1" name=""/>
                    <p:cNvSpPr/>
                    <p:nvPr/>
                  </p:nvSpPr>
                  <p:spPr>
                    <a:xfrm rot="5400000">
                      <a:off x="3181320" y="6851520"/>
                      <a:ext cx="100800" cy="65520"/>
                    </a:xfrm>
                    <a:custGeom>
                      <a:avLst/>
                      <a:gdLst>
                        <a:gd name="textAreaLeft" fmla="*/ 21960 w 100800"/>
                        <a:gd name="textAreaRight" fmla="*/ 78840 w 100800"/>
                        <a:gd name="textAreaTop" fmla="*/ 14400 h 65520"/>
                        <a:gd name="textAreaBottom" fmla="*/ 51120 h 6552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16200" y="21600"/>
                          </a:lnTo>
                          <a:lnTo>
                            <a:pt x="5400" y="2160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080" bIns="-10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822" name=""/>
                <p:cNvGrpSpPr/>
                <p:nvPr/>
              </p:nvGrpSpPr>
              <p:grpSpPr>
                <a:xfrm>
                  <a:off x="3198600" y="6991560"/>
                  <a:ext cx="144720" cy="133200"/>
                  <a:chOff x="3198600" y="6991560"/>
                  <a:chExt cx="144720" cy="133200"/>
                </a:xfrm>
              </p:grpSpPr>
              <p:sp>
                <p:nvSpPr>
                  <p:cNvPr id="823" name=""/>
                  <p:cNvSpPr/>
                  <p:nvPr/>
                </p:nvSpPr>
                <p:spPr>
                  <a:xfrm rot="5400000">
                    <a:off x="3204360" y="6985800"/>
                    <a:ext cx="133200" cy="14472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24" name=""/>
                  <p:cNvGrpSpPr/>
                  <p:nvPr/>
                </p:nvGrpSpPr>
                <p:grpSpPr>
                  <a:xfrm>
                    <a:off x="3207960" y="6998400"/>
                    <a:ext cx="115560" cy="117000"/>
                    <a:chOff x="3207960" y="6998400"/>
                    <a:chExt cx="115560" cy="117000"/>
                  </a:xfrm>
                </p:grpSpPr>
                <p:sp>
                  <p:nvSpPr>
                    <p:cNvPr id="825" name=""/>
                    <p:cNvSpPr/>
                    <p:nvPr/>
                  </p:nvSpPr>
                  <p:spPr>
                    <a:xfrm rot="5400000">
                      <a:off x="3224520" y="7030080"/>
                      <a:ext cx="252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35">
                          <a:moveTo>
                            <a:pt x="0" y="35"/>
                          </a:moveTo>
                          <a:lnTo>
                            <a:pt x="5" y="29"/>
                          </a:lnTo>
                          <a:lnTo>
                            <a:pt x="11" y="23"/>
                          </a:lnTo>
                          <a:lnTo>
                            <a:pt x="17" y="17"/>
                          </a:lnTo>
                          <a:lnTo>
                            <a:pt x="22" y="12"/>
                          </a:lnTo>
                          <a:lnTo>
                            <a:pt x="26" y="8"/>
                          </a:lnTo>
                          <a:lnTo>
                            <a:pt x="30" y="5"/>
                          </a:lnTo>
                          <a:lnTo>
                            <a:pt x="32" y="2"/>
                          </a:lnTo>
                          <a:lnTo>
                            <a:pt x="34" y="1"/>
                          </a:lnTo>
                          <a:lnTo>
                            <a:pt x="34" y="0"/>
                          </a:lnTo>
                          <a:lnTo>
                            <a:pt x="3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6" name=""/>
                    <p:cNvSpPr/>
                    <p:nvPr/>
                  </p:nvSpPr>
                  <p:spPr>
                    <a:xfrm rot="5400000">
                      <a:off x="3224520" y="7030080"/>
                      <a:ext cx="252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35">
                          <a:moveTo>
                            <a:pt x="0" y="35"/>
                          </a:moveTo>
                          <a:lnTo>
                            <a:pt x="5" y="29"/>
                          </a:lnTo>
                          <a:lnTo>
                            <a:pt x="11" y="23"/>
                          </a:lnTo>
                          <a:lnTo>
                            <a:pt x="17" y="17"/>
                          </a:lnTo>
                          <a:lnTo>
                            <a:pt x="22" y="12"/>
                          </a:lnTo>
                          <a:lnTo>
                            <a:pt x="26" y="8"/>
                          </a:lnTo>
                          <a:lnTo>
                            <a:pt x="30" y="5"/>
                          </a:lnTo>
                          <a:lnTo>
                            <a:pt x="32" y="2"/>
                          </a:lnTo>
                          <a:lnTo>
                            <a:pt x="34" y="1"/>
                          </a:lnTo>
                          <a:lnTo>
                            <a:pt x="34" y="0"/>
                          </a:lnTo>
                          <a:lnTo>
                            <a:pt x="3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7" name=""/>
                    <p:cNvSpPr/>
                    <p:nvPr/>
                  </p:nvSpPr>
                  <p:spPr>
                    <a:xfrm rot="5400000">
                      <a:off x="3240360" y="7032240"/>
                      <a:ext cx="117000" cy="48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8" name=""/>
                    <p:cNvSpPr/>
                    <p:nvPr/>
                  </p:nvSpPr>
                  <p:spPr>
                    <a:xfrm rot="5400000">
                      <a:off x="3189960" y="7025040"/>
                      <a:ext cx="100800" cy="64800"/>
                    </a:xfrm>
                    <a:custGeom>
                      <a:avLst/>
                      <a:gdLst>
                        <a:gd name="textAreaLeft" fmla="*/ 21960 w 100800"/>
                        <a:gd name="textAreaRight" fmla="*/ 78840 w 100800"/>
                        <a:gd name="textAreaTop" fmla="*/ 14040 h 64800"/>
                        <a:gd name="textAreaBottom" fmla="*/ 50760 h 6480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16200" y="21600"/>
                          </a:lnTo>
                          <a:lnTo>
                            <a:pt x="5400" y="2160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080" bIns="-10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829" name=""/>
                <p:cNvGrpSpPr/>
                <p:nvPr/>
              </p:nvGrpSpPr>
              <p:grpSpPr>
                <a:xfrm>
                  <a:off x="3189240" y="7180200"/>
                  <a:ext cx="146160" cy="133560"/>
                  <a:chOff x="3189240" y="7180200"/>
                  <a:chExt cx="146160" cy="133560"/>
                </a:xfrm>
              </p:grpSpPr>
              <p:sp>
                <p:nvSpPr>
                  <p:cNvPr id="830" name=""/>
                  <p:cNvSpPr/>
                  <p:nvPr/>
                </p:nvSpPr>
                <p:spPr>
                  <a:xfrm rot="5400000">
                    <a:off x="3195360" y="7173720"/>
                    <a:ext cx="133560" cy="14616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31" name=""/>
                  <p:cNvGrpSpPr/>
                  <p:nvPr/>
                </p:nvGrpSpPr>
                <p:grpSpPr>
                  <a:xfrm>
                    <a:off x="3198960" y="7187040"/>
                    <a:ext cx="116640" cy="117360"/>
                    <a:chOff x="3198960" y="7187040"/>
                    <a:chExt cx="116640" cy="117360"/>
                  </a:xfrm>
                </p:grpSpPr>
                <p:sp>
                  <p:nvSpPr>
                    <p:cNvPr id="832" name=""/>
                    <p:cNvSpPr/>
                    <p:nvPr/>
                  </p:nvSpPr>
                  <p:spPr>
                    <a:xfrm rot="5400000">
                      <a:off x="3215880" y="7219080"/>
                      <a:ext cx="252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35">
                          <a:moveTo>
                            <a:pt x="0" y="35"/>
                          </a:moveTo>
                          <a:lnTo>
                            <a:pt x="5" y="29"/>
                          </a:lnTo>
                          <a:lnTo>
                            <a:pt x="11" y="23"/>
                          </a:lnTo>
                          <a:lnTo>
                            <a:pt x="17" y="17"/>
                          </a:lnTo>
                          <a:lnTo>
                            <a:pt x="22" y="12"/>
                          </a:lnTo>
                          <a:lnTo>
                            <a:pt x="26" y="8"/>
                          </a:lnTo>
                          <a:lnTo>
                            <a:pt x="30" y="5"/>
                          </a:lnTo>
                          <a:lnTo>
                            <a:pt x="32" y="2"/>
                          </a:lnTo>
                          <a:lnTo>
                            <a:pt x="34" y="1"/>
                          </a:lnTo>
                          <a:lnTo>
                            <a:pt x="34" y="0"/>
                          </a:lnTo>
                          <a:lnTo>
                            <a:pt x="3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3" name=""/>
                    <p:cNvSpPr/>
                    <p:nvPr/>
                  </p:nvSpPr>
                  <p:spPr>
                    <a:xfrm rot="5400000">
                      <a:off x="3215880" y="7219080"/>
                      <a:ext cx="252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35">
                          <a:moveTo>
                            <a:pt x="0" y="35"/>
                          </a:moveTo>
                          <a:lnTo>
                            <a:pt x="5" y="29"/>
                          </a:lnTo>
                          <a:lnTo>
                            <a:pt x="11" y="23"/>
                          </a:lnTo>
                          <a:lnTo>
                            <a:pt x="17" y="17"/>
                          </a:lnTo>
                          <a:lnTo>
                            <a:pt x="22" y="12"/>
                          </a:lnTo>
                          <a:lnTo>
                            <a:pt x="26" y="8"/>
                          </a:lnTo>
                          <a:lnTo>
                            <a:pt x="30" y="5"/>
                          </a:lnTo>
                          <a:lnTo>
                            <a:pt x="32" y="2"/>
                          </a:lnTo>
                          <a:lnTo>
                            <a:pt x="34" y="1"/>
                          </a:lnTo>
                          <a:lnTo>
                            <a:pt x="34" y="0"/>
                          </a:lnTo>
                          <a:lnTo>
                            <a:pt x="3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4" name=""/>
                    <p:cNvSpPr/>
                    <p:nvPr/>
                  </p:nvSpPr>
                  <p:spPr>
                    <a:xfrm rot="5400000">
                      <a:off x="3232080" y="7220880"/>
                      <a:ext cx="117360" cy="496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880" bIns="2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5" name=""/>
                    <p:cNvSpPr/>
                    <p:nvPr/>
                  </p:nvSpPr>
                  <p:spPr>
                    <a:xfrm rot="5400000">
                      <a:off x="3180960" y="7213320"/>
                      <a:ext cx="101160" cy="65520"/>
                    </a:xfrm>
                    <a:custGeom>
                      <a:avLst/>
                      <a:gdLst>
                        <a:gd name="textAreaLeft" fmla="*/ 22320 w 101160"/>
                        <a:gd name="textAreaRight" fmla="*/ 78840 w 101160"/>
                        <a:gd name="textAreaTop" fmla="*/ 14400 h 65520"/>
                        <a:gd name="textAreaBottom" fmla="*/ 51120 h 6552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16200" y="21600"/>
                          </a:lnTo>
                          <a:lnTo>
                            <a:pt x="5400" y="2160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080" bIns="-10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836" name=""/>
            <p:cNvGrpSpPr/>
            <p:nvPr/>
          </p:nvGrpSpPr>
          <p:grpSpPr>
            <a:xfrm>
              <a:off x="6788160" y="3566880"/>
              <a:ext cx="4533840" cy="1808280"/>
              <a:chOff x="6788160" y="3566880"/>
              <a:chExt cx="4533840" cy="1808280"/>
            </a:xfrm>
          </p:grpSpPr>
          <p:sp>
            <p:nvSpPr>
              <p:cNvPr id="837" name=""/>
              <p:cNvSpPr/>
              <p:nvPr/>
            </p:nvSpPr>
            <p:spPr>
              <a:xfrm>
                <a:off x="7856640" y="5037120"/>
                <a:ext cx="71280" cy="71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10296360" y="5051520"/>
                <a:ext cx="71640" cy="71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39" name=""/>
              <p:cNvGrpSpPr/>
              <p:nvPr/>
            </p:nvGrpSpPr>
            <p:grpSpPr>
              <a:xfrm>
                <a:off x="6926400" y="4354200"/>
                <a:ext cx="540720" cy="360360"/>
                <a:chOff x="6926400" y="4354200"/>
                <a:chExt cx="540720" cy="360360"/>
              </a:xfrm>
            </p:grpSpPr>
            <p:sp>
              <p:nvSpPr>
                <p:cNvPr id="840" name=""/>
                <p:cNvSpPr/>
                <p:nvPr/>
              </p:nvSpPr>
              <p:spPr>
                <a:xfrm rot="10800000">
                  <a:off x="7180200" y="4354200"/>
                  <a:ext cx="286920" cy="3603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 rot="10800000">
                  <a:off x="6926400" y="4452840"/>
                  <a:ext cx="179280" cy="179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 rot="16200000">
                  <a:off x="7270560" y="4473360"/>
                  <a:ext cx="196920" cy="151920"/>
                </a:xfrm>
                <a:custGeom>
                  <a:avLst/>
                  <a:gdLst>
                    <a:gd name="textAreaLeft" fmla="*/ 43200 w 196920"/>
                    <a:gd name="textAreaRight" fmla="*/ 153720 w 196920"/>
                    <a:gd name="textAreaTop" fmla="*/ 33480 h 151920"/>
                    <a:gd name="textAreaBottom" fmla="*/ 118440 h 151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160" bIns="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3" name=""/>
              <p:cNvGrpSpPr/>
              <p:nvPr/>
            </p:nvGrpSpPr>
            <p:grpSpPr>
              <a:xfrm>
                <a:off x="6926400" y="3973320"/>
                <a:ext cx="540720" cy="360360"/>
                <a:chOff x="6926400" y="3973320"/>
                <a:chExt cx="540720" cy="360360"/>
              </a:xfrm>
            </p:grpSpPr>
            <p:sp>
              <p:nvSpPr>
                <p:cNvPr id="844" name=""/>
                <p:cNvSpPr/>
                <p:nvPr/>
              </p:nvSpPr>
              <p:spPr>
                <a:xfrm rot="10800000">
                  <a:off x="7180200" y="3973320"/>
                  <a:ext cx="286920" cy="3603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 rot="10800000">
                  <a:off x="6926400" y="4071960"/>
                  <a:ext cx="179280" cy="179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 rot="16200000">
                  <a:off x="7270560" y="4092480"/>
                  <a:ext cx="196920" cy="151920"/>
                </a:xfrm>
                <a:custGeom>
                  <a:avLst/>
                  <a:gdLst>
                    <a:gd name="textAreaLeft" fmla="*/ 43200 w 196920"/>
                    <a:gd name="textAreaRight" fmla="*/ 153720 w 196920"/>
                    <a:gd name="textAreaTop" fmla="*/ 33480 h 151920"/>
                    <a:gd name="textAreaBottom" fmla="*/ 118440 h 151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160" bIns="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7" name=""/>
              <p:cNvGrpSpPr/>
              <p:nvPr/>
            </p:nvGrpSpPr>
            <p:grpSpPr>
              <a:xfrm>
                <a:off x="6926400" y="3592080"/>
                <a:ext cx="540720" cy="360360"/>
                <a:chOff x="6926400" y="3592080"/>
                <a:chExt cx="540720" cy="360360"/>
              </a:xfrm>
            </p:grpSpPr>
            <p:sp>
              <p:nvSpPr>
                <p:cNvPr id="848" name=""/>
                <p:cNvSpPr/>
                <p:nvPr/>
              </p:nvSpPr>
              <p:spPr>
                <a:xfrm rot="10800000">
                  <a:off x="7180200" y="3592080"/>
                  <a:ext cx="286920" cy="3603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 rot="10800000">
                  <a:off x="6926400" y="3690720"/>
                  <a:ext cx="179280" cy="179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 rot="16200000">
                  <a:off x="7270560" y="3711240"/>
                  <a:ext cx="196920" cy="151920"/>
                </a:xfrm>
                <a:custGeom>
                  <a:avLst/>
                  <a:gdLst>
                    <a:gd name="textAreaLeft" fmla="*/ 43200 w 196920"/>
                    <a:gd name="textAreaRight" fmla="*/ 153720 w 196920"/>
                    <a:gd name="textAreaTop" fmla="*/ 33480 h 151920"/>
                    <a:gd name="textAreaBottom" fmla="*/ 118440 h 151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160" bIns="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1" name=""/>
              <p:cNvGrpSpPr/>
              <p:nvPr/>
            </p:nvGrpSpPr>
            <p:grpSpPr>
              <a:xfrm>
                <a:off x="7548480" y="3603240"/>
                <a:ext cx="542520" cy="1120680"/>
                <a:chOff x="7548480" y="3603240"/>
                <a:chExt cx="542520" cy="1120680"/>
              </a:xfrm>
            </p:grpSpPr>
            <p:grpSp>
              <p:nvGrpSpPr>
                <p:cNvPr id="852" name=""/>
                <p:cNvGrpSpPr/>
                <p:nvPr/>
              </p:nvGrpSpPr>
              <p:grpSpPr>
                <a:xfrm>
                  <a:off x="7548480" y="4363560"/>
                  <a:ext cx="541440" cy="360360"/>
                  <a:chOff x="7548480" y="4363560"/>
                  <a:chExt cx="541440" cy="360360"/>
                </a:xfrm>
              </p:grpSpPr>
              <p:sp>
                <p:nvSpPr>
                  <p:cNvPr id="853" name=""/>
                  <p:cNvSpPr/>
                  <p:nvPr/>
                </p:nvSpPr>
                <p:spPr>
                  <a:xfrm flipH="1" rot="10800000">
                    <a:off x="7548480" y="4363560"/>
                    <a:ext cx="287280" cy="36036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4" name=""/>
                  <p:cNvSpPr/>
                  <p:nvPr/>
                </p:nvSpPr>
                <p:spPr>
                  <a:xfrm flipH="1" rot="10800000">
                    <a:off x="7909920" y="4462200"/>
                    <a:ext cx="179640" cy="1792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5" name=""/>
                  <p:cNvSpPr/>
                  <p:nvPr/>
                </p:nvSpPr>
                <p:spPr>
                  <a:xfrm flipH="1" rot="5400000">
                    <a:off x="7547760" y="4482720"/>
                    <a:ext cx="196920" cy="152280"/>
                  </a:xfrm>
                  <a:custGeom>
                    <a:avLst/>
                    <a:gdLst>
                      <a:gd name="textAreaLeft" fmla="*/ 43200 w 196920"/>
                      <a:gd name="textAreaRight" fmla="*/ 153720 w 196920"/>
                      <a:gd name="textAreaTop" fmla="*/ 33480 h 152280"/>
                      <a:gd name="textAreaBottom" fmla="*/ 118800 h 1522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8520" bIns="38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56" name=""/>
                <p:cNvGrpSpPr/>
                <p:nvPr/>
              </p:nvGrpSpPr>
              <p:grpSpPr>
                <a:xfrm>
                  <a:off x="7550280" y="3984120"/>
                  <a:ext cx="540720" cy="360360"/>
                  <a:chOff x="7550280" y="3984120"/>
                  <a:chExt cx="540720" cy="360360"/>
                </a:xfrm>
              </p:grpSpPr>
              <p:sp>
                <p:nvSpPr>
                  <p:cNvPr id="857" name=""/>
                  <p:cNvSpPr/>
                  <p:nvPr/>
                </p:nvSpPr>
                <p:spPr>
                  <a:xfrm flipH="1" rot="10800000">
                    <a:off x="7549920" y="3984120"/>
                    <a:ext cx="286920" cy="36036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8" name=""/>
                  <p:cNvSpPr/>
                  <p:nvPr/>
                </p:nvSpPr>
                <p:spPr>
                  <a:xfrm flipH="1" rot="10800000">
                    <a:off x="7911720" y="4082760"/>
                    <a:ext cx="179280" cy="1792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9" name=""/>
                  <p:cNvSpPr/>
                  <p:nvPr/>
                </p:nvSpPr>
                <p:spPr>
                  <a:xfrm flipH="1" rot="5400000">
                    <a:off x="7549560" y="4103280"/>
                    <a:ext cx="196920" cy="151920"/>
                  </a:xfrm>
                  <a:custGeom>
                    <a:avLst/>
                    <a:gdLst>
                      <a:gd name="textAreaLeft" fmla="*/ 43200 w 196920"/>
                      <a:gd name="textAreaRight" fmla="*/ 153720 w 196920"/>
                      <a:gd name="textAreaTop" fmla="*/ 33480 h 151920"/>
                      <a:gd name="textAreaBottom" fmla="*/ 118440 h 1519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8160" bIns="38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60" name=""/>
                <p:cNvGrpSpPr/>
                <p:nvPr/>
              </p:nvGrpSpPr>
              <p:grpSpPr>
                <a:xfrm>
                  <a:off x="7550280" y="3603240"/>
                  <a:ext cx="540720" cy="360360"/>
                  <a:chOff x="7550280" y="3603240"/>
                  <a:chExt cx="540720" cy="360360"/>
                </a:xfrm>
              </p:grpSpPr>
              <p:sp>
                <p:nvSpPr>
                  <p:cNvPr id="861" name=""/>
                  <p:cNvSpPr/>
                  <p:nvPr/>
                </p:nvSpPr>
                <p:spPr>
                  <a:xfrm flipH="1" rot="10800000">
                    <a:off x="7549920" y="3603240"/>
                    <a:ext cx="286920" cy="36036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2" name=""/>
                  <p:cNvSpPr/>
                  <p:nvPr/>
                </p:nvSpPr>
                <p:spPr>
                  <a:xfrm flipH="1" rot="10800000">
                    <a:off x="7911720" y="3701880"/>
                    <a:ext cx="179280" cy="1792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3" name=""/>
                  <p:cNvSpPr/>
                  <p:nvPr/>
                </p:nvSpPr>
                <p:spPr>
                  <a:xfrm flipH="1" rot="5400000">
                    <a:off x="7549560" y="3722400"/>
                    <a:ext cx="196920" cy="151920"/>
                  </a:xfrm>
                  <a:custGeom>
                    <a:avLst/>
                    <a:gdLst>
                      <a:gd name="textAreaLeft" fmla="*/ 43200 w 196920"/>
                      <a:gd name="textAreaRight" fmla="*/ 153720 w 196920"/>
                      <a:gd name="textAreaTop" fmla="*/ 33480 h 151920"/>
                      <a:gd name="textAreaBottom" fmla="*/ 118440 h 1519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8160" bIns="38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64" name=""/>
              <p:cNvGrpSpPr/>
              <p:nvPr/>
            </p:nvGrpSpPr>
            <p:grpSpPr>
              <a:xfrm>
                <a:off x="8264520" y="3566880"/>
                <a:ext cx="542520" cy="1503360"/>
                <a:chOff x="8264520" y="3566880"/>
                <a:chExt cx="542520" cy="1503360"/>
              </a:xfrm>
            </p:grpSpPr>
            <p:grpSp>
              <p:nvGrpSpPr>
                <p:cNvPr id="865" name=""/>
                <p:cNvGrpSpPr/>
                <p:nvPr/>
              </p:nvGrpSpPr>
              <p:grpSpPr>
                <a:xfrm>
                  <a:off x="8264520" y="4709880"/>
                  <a:ext cx="541440" cy="360360"/>
                  <a:chOff x="8264520" y="4709880"/>
                  <a:chExt cx="541440" cy="360360"/>
                </a:xfrm>
              </p:grpSpPr>
              <p:sp>
                <p:nvSpPr>
                  <p:cNvPr id="866" name=""/>
                  <p:cNvSpPr/>
                  <p:nvPr/>
                </p:nvSpPr>
                <p:spPr>
                  <a:xfrm rot="10800000">
                    <a:off x="8518680" y="4709880"/>
                    <a:ext cx="287280" cy="36036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7" name=""/>
                  <p:cNvSpPr/>
                  <p:nvPr/>
                </p:nvSpPr>
                <p:spPr>
                  <a:xfrm rot="10800000">
                    <a:off x="8264520" y="4808520"/>
                    <a:ext cx="179640" cy="1792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8" name=""/>
                  <p:cNvSpPr/>
                  <p:nvPr/>
                </p:nvSpPr>
                <p:spPr>
                  <a:xfrm rot="16200000">
                    <a:off x="8609400" y="4829040"/>
                    <a:ext cx="196920" cy="152280"/>
                  </a:xfrm>
                  <a:custGeom>
                    <a:avLst/>
                    <a:gdLst>
                      <a:gd name="textAreaLeft" fmla="*/ 43200 w 196920"/>
                      <a:gd name="textAreaRight" fmla="*/ 153720 w 196920"/>
                      <a:gd name="textAreaTop" fmla="*/ 33480 h 152280"/>
                      <a:gd name="textAreaBottom" fmla="*/ 118800 h 1522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8520" bIns="38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69" name=""/>
                <p:cNvGrpSpPr/>
                <p:nvPr/>
              </p:nvGrpSpPr>
              <p:grpSpPr>
                <a:xfrm>
                  <a:off x="8266320" y="4327200"/>
                  <a:ext cx="540720" cy="360360"/>
                  <a:chOff x="8266320" y="4327200"/>
                  <a:chExt cx="540720" cy="360360"/>
                </a:xfrm>
              </p:grpSpPr>
              <p:sp>
                <p:nvSpPr>
                  <p:cNvPr id="870" name=""/>
                  <p:cNvSpPr/>
                  <p:nvPr/>
                </p:nvSpPr>
                <p:spPr>
                  <a:xfrm rot="10800000">
                    <a:off x="8520120" y="4327200"/>
                    <a:ext cx="286920" cy="36036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1" name=""/>
                  <p:cNvSpPr/>
                  <p:nvPr/>
                </p:nvSpPr>
                <p:spPr>
                  <a:xfrm rot="10800000">
                    <a:off x="8266320" y="4425840"/>
                    <a:ext cx="179280" cy="1792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2" name=""/>
                  <p:cNvSpPr/>
                  <p:nvPr/>
                </p:nvSpPr>
                <p:spPr>
                  <a:xfrm rot="16200000">
                    <a:off x="8610480" y="4446360"/>
                    <a:ext cx="196920" cy="151920"/>
                  </a:xfrm>
                  <a:custGeom>
                    <a:avLst/>
                    <a:gdLst>
                      <a:gd name="textAreaLeft" fmla="*/ 43200 w 196920"/>
                      <a:gd name="textAreaRight" fmla="*/ 153720 w 196920"/>
                      <a:gd name="textAreaTop" fmla="*/ 33480 h 151920"/>
                      <a:gd name="textAreaBottom" fmla="*/ 118440 h 1519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8160" bIns="38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73" name=""/>
                <p:cNvGrpSpPr/>
                <p:nvPr/>
              </p:nvGrpSpPr>
              <p:grpSpPr>
                <a:xfrm>
                  <a:off x="8264520" y="3947760"/>
                  <a:ext cx="541440" cy="360360"/>
                  <a:chOff x="8264520" y="3947760"/>
                  <a:chExt cx="541440" cy="360360"/>
                </a:xfrm>
              </p:grpSpPr>
              <p:sp>
                <p:nvSpPr>
                  <p:cNvPr id="874" name=""/>
                  <p:cNvSpPr/>
                  <p:nvPr/>
                </p:nvSpPr>
                <p:spPr>
                  <a:xfrm rot="10800000">
                    <a:off x="8518680" y="3947760"/>
                    <a:ext cx="287280" cy="36036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5" name=""/>
                  <p:cNvSpPr/>
                  <p:nvPr/>
                </p:nvSpPr>
                <p:spPr>
                  <a:xfrm rot="10800000">
                    <a:off x="8264520" y="4046400"/>
                    <a:ext cx="179640" cy="1792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6" name=""/>
                  <p:cNvSpPr/>
                  <p:nvPr/>
                </p:nvSpPr>
                <p:spPr>
                  <a:xfrm rot="16200000">
                    <a:off x="8609400" y="4066920"/>
                    <a:ext cx="196920" cy="152280"/>
                  </a:xfrm>
                  <a:custGeom>
                    <a:avLst/>
                    <a:gdLst>
                      <a:gd name="textAreaLeft" fmla="*/ 43200 w 196920"/>
                      <a:gd name="textAreaRight" fmla="*/ 153720 w 196920"/>
                      <a:gd name="textAreaTop" fmla="*/ 33480 h 152280"/>
                      <a:gd name="textAreaBottom" fmla="*/ 118800 h 1522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8520" bIns="38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77" name=""/>
                <p:cNvGrpSpPr/>
                <p:nvPr/>
              </p:nvGrpSpPr>
              <p:grpSpPr>
                <a:xfrm>
                  <a:off x="8264520" y="3566880"/>
                  <a:ext cx="541440" cy="360360"/>
                  <a:chOff x="8264520" y="3566880"/>
                  <a:chExt cx="541440" cy="360360"/>
                </a:xfrm>
              </p:grpSpPr>
              <p:sp>
                <p:nvSpPr>
                  <p:cNvPr id="878" name=""/>
                  <p:cNvSpPr/>
                  <p:nvPr/>
                </p:nvSpPr>
                <p:spPr>
                  <a:xfrm rot="10800000">
                    <a:off x="8518680" y="3566880"/>
                    <a:ext cx="287280" cy="36036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9" name=""/>
                  <p:cNvSpPr/>
                  <p:nvPr/>
                </p:nvSpPr>
                <p:spPr>
                  <a:xfrm rot="10800000">
                    <a:off x="8264520" y="3665520"/>
                    <a:ext cx="179640" cy="1792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0" name=""/>
                  <p:cNvSpPr/>
                  <p:nvPr/>
                </p:nvSpPr>
                <p:spPr>
                  <a:xfrm rot="16200000">
                    <a:off x="8609400" y="3686040"/>
                    <a:ext cx="196920" cy="152280"/>
                  </a:xfrm>
                  <a:custGeom>
                    <a:avLst/>
                    <a:gdLst>
                      <a:gd name="textAreaLeft" fmla="*/ 43200 w 196920"/>
                      <a:gd name="textAreaRight" fmla="*/ 153720 w 196920"/>
                      <a:gd name="textAreaTop" fmla="*/ 33480 h 152280"/>
                      <a:gd name="textAreaBottom" fmla="*/ 118800 h 1522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8520" bIns="38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81" name=""/>
              <p:cNvGrpSpPr/>
              <p:nvPr/>
            </p:nvGrpSpPr>
            <p:grpSpPr>
              <a:xfrm>
                <a:off x="10152000" y="3584160"/>
                <a:ext cx="542520" cy="1120680"/>
                <a:chOff x="10152000" y="3584160"/>
                <a:chExt cx="542520" cy="1120680"/>
              </a:xfrm>
            </p:grpSpPr>
            <p:grpSp>
              <p:nvGrpSpPr>
                <p:cNvPr id="882" name=""/>
                <p:cNvGrpSpPr/>
                <p:nvPr/>
              </p:nvGrpSpPr>
              <p:grpSpPr>
                <a:xfrm>
                  <a:off x="10152000" y="4344480"/>
                  <a:ext cx="541440" cy="360360"/>
                  <a:chOff x="10152000" y="4344480"/>
                  <a:chExt cx="541440" cy="360360"/>
                </a:xfrm>
              </p:grpSpPr>
              <p:sp>
                <p:nvSpPr>
                  <p:cNvPr id="883" name=""/>
                  <p:cNvSpPr/>
                  <p:nvPr/>
                </p:nvSpPr>
                <p:spPr>
                  <a:xfrm flipH="1" rot="10800000">
                    <a:off x="10152000" y="4344480"/>
                    <a:ext cx="287280" cy="36036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4" name=""/>
                  <p:cNvSpPr/>
                  <p:nvPr/>
                </p:nvSpPr>
                <p:spPr>
                  <a:xfrm flipH="1" rot="10800000">
                    <a:off x="10513440" y="4443120"/>
                    <a:ext cx="179640" cy="1792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5" name=""/>
                  <p:cNvSpPr/>
                  <p:nvPr/>
                </p:nvSpPr>
                <p:spPr>
                  <a:xfrm flipH="1" rot="5400000">
                    <a:off x="10151280" y="4463640"/>
                    <a:ext cx="196920" cy="152280"/>
                  </a:xfrm>
                  <a:custGeom>
                    <a:avLst/>
                    <a:gdLst>
                      <a:gd name="textAreaLeft" fmla="*/ 43200 w 196920"/>
                      <a:gd name="textAreaRight" fmla="*/ 153720 w 196920"/>
                      <a:gd name="textAreaTop" fmla="*/ 33480 h 152280"/>
                      <a:gd name="textAreaBottom" fmla="*/ 118800 h 1522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8520" bIns="38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86" name=""/>
                <p:cNvGrpSpPr/>
                <p:nvPr/>
              </p:nvGrpSpPr>
              <p:grpSpPr>
                <a:xfrm>
                  <a:off x="10153800" y="3965040"/>
                  <a:ext cx="540720" cy="360360"/>
                  <a:chOff x="10153800" y="3965040"/>
                  <a:chExt cx="540720" cy="360360"/>
                </a:xfrm>
              </p:grpSpPr>
              <p:sp>
                <p:nvSpPr>
                  <p:cNvPr id="887" name=""/>
                  <p:cNvSpPr/>
                  <p:nvPr/>
                </p:nvSpPr>
                <p:spPr>
                  <a:xfrm flipH="1" rot="10800000">
                    <a:off x="10153440" y="3965040"/>
                    <a:ext cx="286920" cy="36036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8" name=""/>
                  <p:cNvSpPr/>
                  <p:nvPr/>
                </p:nvSpPr>
                <p:spPr>
                  <a:xfrm flipH="1" rot="10800000">
                    <a:off x="10515240" y="4063680"/>
                    <a:ext cx="179280" cy="1792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9" name=""/>
                  <p:cNvSpPr/>
                  <p:nvPr/>
                </p:nvSpPr>
                <p:spPr>
                  <a:xfrm flipH="1" rot="5400000">
                    <a:off x="10153080" y="4084200"/>
                    <a:ext cx="196920" cy="151920"/>
                  </a:xfrm>
                  <a:custGeom>
                    <a:avLst/>
                    <a:gdLst>
                      <a:gd name="textAreaLeft" fmla="*/ 43200 w 196920"/>
                      <a:gd name="textAreaRight" fmla="*/ 153720 w 196920"/>
                      <a:gd name="textAreaTop" fmla="*/ 33480 h 151920"/>
                      <a:gd name="textAreaBottom" fmla="*/ 118440 h 1519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8160" bIns="38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90" name=""/>
                <p:cNvGrpSpPr/>
                <p:nvPr/>
              </p:nvGrpSpPr>
              <p:grpSpPr>
                <a:xfrm>
                  <a:off x="10153800" y="3584160"/>
                  <a:ext cx="540720" cy="360360"/>
                  <a:chOff x="10153800" y="3584160"/>
                  <a:chExt cx="540720" cy="360360"/>
                </a:xfrm>
              </p:grpSpPr>
              <p:sp>
                <p:nvSpPr>
                  <p:cNvPr id="891" name=""/>
                  <p:cNvSpPr/>
                  <p:nvPr/>
                </p:nvSpPr>
                <p:spPr>
                  <a:xfrm flipH="1" rot="10800000">
                    <a:off x="10153440" y="3584160"/>
                    <a:ext cx="286920" cy="36036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2" name=""/>
                  <p:cNvSpPr/>
                  <p:nvPr/>
                </p:nvSpPr>
                <p:spPr>
                  <a:xfrm flipH="1" rot="10800000">
                    <a:off x="10515240" y="3682800"/>
                    <a:ext cx="179280" cy="1792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3" name=""/>
                  <p:cNvSpPr/>
                  <p:nvPr/>
                </p:nvSpPr>
                <p:spPr>
                  <a:xfrm flipH="1" rot="5400000">
                    <a:off x="10153080" y="3703320"/>
                    <a:ext cx="196920" cy="151920"/>
                  </a:xfrm>
                  <a:custGeom>
                    <a:avLst/>
                    <a:gdLst>
                      <a:gd name="textAreaLeft" fmla="*/ 43200 w 196920"/>
                      <a:gd name="textAreaRight" fmla="*/ 153720 w 196920"/>
                      <a:gd name="textAreaTop" fmla="*/ 33480 h 151920"/>
                      <a:gd name="textAreaBottom" fmla="*/ 118440 h 1519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8160" bIns="38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94" name=""/>
              <p:cNvGrpSpPr/>
              <p:nvPr/>
            </p:nvGrpSpPr>
            <p:grpSpPr>
              <a:xfrm>
                <a:off x="9553680" y="3584160"/>
                <a:ext cx="542880" cy="1503360"/>
                <a:chOff x="9553680" y="3584160"/>
                <a:chExt cx="542880" cy="1503360"/>
              </a:xfrm>
            </p:grpSpPr>
            <p:grpSp>
              <p:nvGrpSpPr>
                <p:cNvPr id="895" name=""/>
                <p:cNvGrpSpPr/>
                <p:nvPr/>
              </p:nvGrpSpPr>
              <p:grpSpPr>
                <a:xfrm>
                  <a:off x="9553680" y="4727160"/>
                  <a:ext cx="540720" cy="360360"/>
                  <a:chOff x="9553680" y="4727160"/>
                  <a:chExt cx="540720" cy="360360"/>
                </a:xfrm>
              </p:grpSpPr>
              <p:sp>
                <p:nvSpPr>
                  <p:cNvPr id="896" name=""/>
                  <p:cNvSpPr/>
                  <p:nvPr/>
                </p:nvSpPr>
                <p:spPr>
                  <a:xfrm rot="10800000">
                    <a:off x="9807480" y="4727160"/>
                    <a:ext cx="286920" cy="36036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7" name=""/>
                  <p:cNvSpPr/>
                  <p:nvPr/>
                </p:nvSpPr>
                <p:spPr>
                  <a:xfrm rot="10800000">
                    <a:off x="9553680" y="4825800"/>
                    <a:ext cx="179280" cy="1792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8" name=""/>
                  <p:cNvSpPr/>
                  <p:nvPr/>
                </p:nvSpPr>
                <p:spPr>
                  <a:xfrm rot="16200000">
                    <a:off x="9897840" y="4846320"/>
                    <a:ext cx="196920" cy="151920"/>
                  </a:xfrm>
                  <a:custGeom>
                    <a:avLst/>
                    <a:gdLst>
                      <a:gd name="textAreaLeft" fmla="*/ 43200 w 196920"/>
                      <a:gd name="textAreaRight" fmla="*/ 153720 w 196920"/>
                      <a:gd name="textAreaTop" fmla="*/ 33480 h 151920"/>
                      <a:gd name="textAreaBottom" fmla="*/ 118440 h 1519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8160" bIns="38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99" name=""/>
                <p:cNvGrpSpPr/>
                <p:nvPr/>
              </p:nvGrpSpPr>
              <p:grpSpPr>
                <a:xfrm>
                  <a:off x="9555120" y="4344480"/>
                  <a:ext cx="541440" cy="360360"/>
                  <a:chOff x="9555120" y="4344480"/>
                  <a:chExt cx="541440" cy="360360"/>
                </a:xfrm>
              </p:grpSpPr>
              <p:sp>
                <p:nvSpPr>
                  <p:cNvPr id="900" name=""/>
                  <p:cNvSpPr/>
                  <p:nvPr/>
                </p:nvSpPr>
                <p:spPr>
                  <a:xfrm rot="10800000">
                    <a:off x="9809280" y="4344480"/>
                    <a:ext cx="287280" cy="36036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1" name=""/>
                  <p:cNvSpPr/>
                  <p:nvPr/>
                </p:nvSpPr>
                <p:spPr>
                  <a:xfrm rot="10800000">
                    <a:off x="9555120" y="4443120"/>
                    <a:ext cx="179640" cy="1792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2" name=""/>
                  <p:cNvSpPr/>
                  <p:nvPr/>
                </p:nvSpPr>
                <p:spPr>
                  <a:xfrm rot="16200000">
                    <a:off x="9900000" y="4463640"/>
                    <a:ext cx="196920" cy="152280"/>
                  </a:xfrm>
                  <a:custGeom>
                    <a:avLst/>
                    <a:gdLst>
                      <a:gd name="textAreaLeft" fmla="*/ 43200 w 196920"/>
                      <a:gd name="textAreaRight" fmla="*/ 153720 w 196920"/>
                      <a:gd name="textAreaTop" fmla="*/ 33480 h 152280"/>
                      <a:gd name="textAreaBottom" fmla="*/ 118800 h 1522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8520" bIns="38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03" name=""/>
                <p:cNvGrpSpPr/>
                <p:nvPr/>
              </p:nvGrpSpPr>
              <p:grpSpPr>
                <a:xfrm>
                  <a:off x="9553680" y="3965040"/>
                  <a:ext cx="540720" cy="360360"/>
                  <a:chOff x="9553680" y="3965040"/>
                  <a:chExt cx="540720" cy="360360"/>
                </a:xfrm>
              </p:grpSpPr>
              <p:sp>
                <p:nvSpPr>
                  <p:cNvPr id="904" name=""/>
                  <p:cNvSpPr/>
                  <p:nvPr/>
                </p:nvSpPr>
                <p:spPr>
                  <a:xfrm rot="10800000">
                    <a:off x="9807480" y="3965040"/>
                    <a:ext cx="286920" cy="36036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5" name=""/>
                  <p:cNvSpPr/>
                  <p:nvPr/>
                </p:nvSpPr>
                <p:spPr>
                  <a:xfrm rot="10800000">
                    <a:off x="9553680" y="4063680"/>
                    <a:ext cx="179280" cy="1792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6" name=""/>
                  <p:cNvSpPr/>
                  <p:nvPr/>
                </p:nvSpPr>
                <p:spPr>
                  <a:xfrm rot="16200000">
                    <a:off x="9897840" y="4084200"/>
                    <a:ext cx="196920" cy="151920"/>
                  </a:xfrm>
                  <a:custGeom>
                    <a:avLst/>
                    <a:gdLst>
                      <a:gd name="textAreaLeft" fmla="*/ 43200 w 196920"/>
                      <a:gd name="textAreaRight" fmla="*/ 153720 w 196920"/>
                      <a:gd name="textAreaTop" fmla="*/ 33480 h 151920"/>
                      <a:gd name="textAreaBottom" fmla="*/ 118440 h 1519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8160" bIns="38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07" name=""/>
                <p:cNvGrpSpPr/>
                <p:nvPr/>
              </p:nvGrpSpPr>
              <p:grpSpPr>
                <a:xfrm>
                  <a:off x="9553680" y="3584160"/>
                  <a:ext cx="540720" cy="360360"/>
                  <a:chOff x="9553680" y="3584160"/>
                  <a:chExt cx="540720" cy="360360"/>
                </a:xfrm>
              </p:grpSpPr>
              <p:sp>
                <p:nvSpPr>
                  <p:cNvPr id="908" name=""/>
                  <p:cNvSpPr/>
                  <p:nvPr/>
                </p:nvSpPr>
                <p:spPr>
                  <a:xfrm rot="10800000">
                    <a:off x="9807480" y="3584160"/>
                    <a:ext cx="286920" cy="36036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9" name=""/>
                  <p:cNvSpPr/>
                  <p:nvPr/>
                </p:nvSpPr>
                <p:spPr>
                  <a:xfrm rot="10800000">
                    <a:off x="9553680" y="3682800"/>
                    <a:ext cx="179280" cy="1792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0" name=""/>
                  <p:cNvSpPr/>
                  <p:nvPr/>
                </p:nvSpPr>
                <p:spPr>
                  <a:xfrm rot="16200000">
                    <a:off x="9897840" y="3703320"/>
                    <a:ext cx="196920" cy="151920"/>
                  </a:xfrm>
                  <a:custGeom>
                    <a:avLst/>
                    <a:gdLst>
                      <a:gd name="textAreaLeft" fmla="*/ 43200 w 196920"/>
                      <a:gd name="textAreaRight" fmla="*/ 153720 w 196920"/>
                      <a:gd name="textAreaTop" fmla="*/ 33480 h 151920"/>
                      <a:gd name="textAreaBottom" fmla="*/ 118440 h 1519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8160" bIns="38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11" name=""/>
              <p:cNvGrpSpPr/>
              <p:nvPr/>
            </p:nvGrpSpPr>
            <p:grpSpPr>
              <a:xfrm>
                <a:off x="10779120" y="3584160"/>
                <a:ext cx="542880" cy="1503360"/>
                <a:chOff x="10779120" y="3584160"/>
                <a:chExt cx="542880" cy="1503360"/>
              </a:xfrm>
            </p:grpSpPr>
            <p:grpSp>
              <p:nvGrpSpPr>
                <p:cNvPr id="912" name=""/>
                <p:cNvGrpSpPr/>
                <p:nvPr/>
              </p:nvGrpSpPr>
              <p:grpSpPr>
                <a:xfrm>
                  <a:off x="10779120" y="4727160"/>
                  <a:ext cx="541440" cy="360360"/>
                  <a:chOff x="10779120" y="4727160"/>
                  <a:chExt cx="541440" cy="360360"/>
                </a:xfrm>
              </p:grpSpPr>
              <p:sp>
                <p:nvSpPr>
                  <p:cNvPr id="913" name=""/>
                  <p:cNvSpPr/>
                  <p:nvPr/>
                </p:nvSpPr>
                <p:spPr>
                  <a:xfrm rot="10800000">
                    <a:off x="11033280" y="4727160"/>
                    <a:ext cx="287280" cy="36036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4" name=""/>
                  <p:cNvSpPr/>
                  <p:nvPr/>
                </p:nvSpPr>
                <p:spPr>
                  <a:xfrm rot="10800000">
                    <a:off x="10779120" y="4825800"/>
                    <a:ext cx="179640" cy="1792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5" name=""/>
                  <p:cNvSpPr/>
                  <p:nvPr/>
                </p:nvSpPr>
                <p:spPr>
                  <a:xfrm rot="16200000">
                    <a:off x="11124000" y="4846320"/>
                    <a:ext cx="196920" cy="152280"/>
                  </a:xfrm>
                  <a:custGeom>
                    <a:avLst/>
                    <a:gdLst>
                      <a:gd name="textAreaLeft" fmla="*/ 43200 w 196920"/>
                      <a:gd name="textAreaRight" fmla="*/ 153720 w 196920"/>
                      <a:gd name="textAreaTop" fmla="*/ 33480 h 152280"/>
                      <a:gd name="textAreaBottom" fmla="*/ 118800 h 1522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8520" bIns="38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16" name=""/>
                <p:cNvGrpSpPr/>
                <p:nvPr/>
              </p:nvGrpSpPr>
              <p:grpSpPr>
                <a:xfrm>
                  <a:off x="10780560" y="4344480"/>
                  <a:ext cx="541440" cy="360360"/>
                  <a:chOff x="10780560" y="4344480"/>
                  <a:chExt cx="541440" cy="360360"/>
                </a:xfrm>
              </p:grpSpPr>
              <p:sp>
                <p:nvSpPr>
                  <p:cNvPr id="917" name=""/>
                  <p:cNvSpPr/>
                  <p:nvPr/>
                </p:nvSpPr>
                <p:spPr>
                  <a:xfrm rot="10800000">
                    <a:off x="11034720" y="4344480"/>
                    <a:ext cx="287280" cy="36036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8" name=""/>
                  <p:cNvSpPr/>
                  <p:nvPr/>
                </p:nvSpPr>
                <p:spPr>
                  <a:xfrm rot="10800000">
                    <a:off x="10780560" y="4443120"/>
                    <a:ext cx="179640" cy="1792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9" name=""/>
                  <p:cNvSpPr/>
                  <p:nvPr/>
                </p:nvSpPr>
                <p:spPr>
                  <a:xfrm rot="16200000">
                    <a:off x="11125440" y="4463640"/>
                    <a:ext cx="196920" cy="152280"/>
                  </a:xfrm>
                  <a:custGeom>
                    <a:avLst/>
                    <a:gdLst>
                      <a:gd name="textAreaLeft" fmla="*/ 43200 w 196920"/>
                      <a:gd name="textAreaRight" fmla="*/ 153720 w 196920"/>
                      <a:gd name="textAreaTop" fmla="*/ 33480 h 152280"/>
                      <a:gd name="textAreaBottom" fmla="*/ 118800 h 1522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8520" bIns="38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20" name=""/>
                <p:cNvGrpSpPr/>
                <p:nvPr/>
              </p:nvGrpSpPr>
              <p:grpSpPr>
                <a:xfrm>
                  <a:off x="10779120" y="3965040"/>
                  <a:ext cx="541440" cy="360360"/>
                  <a:chOff x="10779120" y="3965040"/>
                  <a:chExt cx="541440" cy="360360"/>
                </a:xfrm>
              </p:grpSpPr>
              <p:sp>
                <p:nvSpPr>
                  <p:cNvPr id="921" name=""/>
                  <p:cNvSpPr/>
                  <p:nvPr/>
                </p:nvSpPr>
                <p:spPr>
                  <a:xfrm rot="10800000">
                    <a:off x="11033280" y="3965040"/>
                    <a:ext cx="287280" cy="36036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2" name=""/>
                  <p:cNvSpPr/>
                  <p:nvPr/>
                </p:nvSpPr>
                <p:spPr>
                  <a:xfrm rot="10800000">
                    <a:off x="10779120" y="4063680"/>
                    <a:ext cx="179640" cy="1792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3" name=""/>
                  <p:cNvSpPr/>
                  <p:nvPr/>
                </p:nvSpPr>
                <p:spPr>
                  <a:xfrm rot="16200000">
                    <a:off x="11124000" y="4084200"/>
                    <a:ext cx="196920" cy="152280"/>
                  </a:xfrm>
                  <a:custGeom>
                    <a:avLst/>
                    <a:gdLst>
                      <a:gd name="textAreaLeft" fmla="*/ 43200 w 196920"/>
                      <a:gd name="textAreaRight" fmla="*/ 153720 w 196920"/>
                      <a:gd name="textAreaTop" fmla="*/ 33480 h 152280"/>
                      <a:gd name="textAreaBottom" fmla="*/ 118800 h 1522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8520" bIns="38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24" name=""/>
                <p:cNvGrpSpPr/>
                <p:nvPr/>
              </p:nvGrpSpPr>
              <p:grpSpPr>
                <a:xfrm>
                  <a:off x="10779120" y="3584160"/>
                  <a:ext cx="541440" cy="360360"/>
                  <a:chOff x="10779120" y="3584160"/>
                  <a:chExt cx="541440" cy="360360"/>
                </a:xfrm>
              </p:grpSpPr>
              <p:sp>
                <p:nvSpPr>
                  <p:cNvPr id="925" name=""/>
                  <p:cNvSpPr/>
                  <p:nvPr/>
                </p:nvSpPr>
                <p:spPr>
                  <a:xfrm rot="10800000">
                    <a:off x="11033280" y="3584160"/>
                    <a:ext cx="287280" cy="36036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6" name=""/>
                  <p:cNvSpPr/>
                  <p:nvPr/>
                </p:nvSpPr>
                <p:spPr>
                  <a:xfrm rot="10800000">
                    <a:off x="10779120" y="3682800"/>
                    <a:ext cx="179640" cy="1792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7" name=""/>
                  <p:cNvSpPr/>
                  <p:nvPr/>
                </p:nvSpPr>
                <p:spPr>
                  <a:xfrm rot="16200000">
                    <a:off x="11124000" y="3703320"/>
                    <a:ext cx="196920" cy="152280"/>
                  </a:xfrm>
                  <a:custGeom>
                    <a:avLst/>
                    <a:gdLst>
                      <a:gd name="textAreaLeft" fmla="*/ 43200 w 196920"/>
                      <a:gd name="textAreaRight" fmla="*/ 153720 w 196920"/>
                      <a:gd name="textAreaTop" fmla="*/ 33480 h 152280"/>
                      <a:gd name="textAreaBottom" fmla="*/ 118800 h 1522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8520" bIns="38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928" name=""/>
              <p:cNvSpPr/>
              <p:nvPr/>
            </p:nvSpPr>
            <p:spPr>
              <a:xfrm>
                <a:off x="7689240" y="5159520"/>
                <a:ext cx="245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24 VERIFICADORES + 4 ANÁLISE QUALITATIV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9177480" y="5059440"/>
                <a:ext cx="71280" cy="71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6788160" y="5037120"/>
                <a:ext cx="71280" cy="71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31" name=""/>
              <p:cNvGrpSpPr/>
              <p:nvPr/>
            </p:nvGrpSpPr>
            <p:grpSpPr>
              <a:xfrm>
                <a:off x="8896320" y="3584160"/>
                <a:ext cx="542880" cy="1120680"/>
                <a:chOff x="8896320" y="3584160"/>
                <a:chExt cx="542880" cy="1120680"/>
              </a:xfrm>
            </p:grpSpPr>
            <p:grpSp>
              <p:nvGrpSpPr>
                <p:cNvPr id="932" name=""/>
                <p:cNvGrpSpPr/>
                <p:nvPr/>
              </p:nvGrpSpPr>
              <p:grpSpPr>
                <a:xfrm>
                  <a:off x="8896320" y="4344480"/>
                  <a:ext cx="541440" cy="360360"/>
                  <a:chOff x="8896320" y="4344480"/>
                  <a:chExt cx="541440" cy="360360"/>
                </a:xfrm>
              </p:grpSpPr>
              <p:sp>
                <p:nvSpPr>
                  <p:cNvPr id="933" name=""/>
                  <p:cNvSpPr/>
                  <p:nvPr/>
                </p:nvSpPr>
                <p:spPr>
                  <a:xfrm flipH="1" rot="10800000">
                    <a:off x="8896320" y="4344480"/>
                    <a:ext cx="287280" cy="36036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4" name=""/>
                  <p:cNvSpPr/>
                  <p:nvPr/>
                </p:nvSpPr>
                <p:spPr>
                  <a:xfrm flipH="1" rot="10800000">
                    <a:off x="9257760" y="4443120"/>
                    <a:ext cx="179640" cy="1792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5" name=""/>
                  <p:cNvSpPr/>
                  <p:nvPr/>
                </p:nvSpPr>
                <p:spPr>
                  <a:xfrm flipH="1" rot="5400000">
                    <a:off x="8895600" y="4463640"/>
                    <a:ext cx="196920" cy="152280"/>
                  </a:xfrm>
                  <a:custGeom>
                    <a:avLst/>
                    <a:gdLst>
                      <a:gd name="textAreaLeft" fmla="*/ 43200 w 196920"/>
                      <a:gd name="textAreaRight" fmla="*/ 153720 w 196920"/>
                      <a:gd name="textAreaTop" fmla="*/ 33480 h 152280"/>
                      <a:gd name="textAreaBottom" fmla="*/ 118800 h 1522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8520" bIns="38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36" name=""/>
                <p:cNvGrpSpPr/>
                <p:nvPr/>
              </p:nvGrpSpPr>
              <p:grpSpPr>
                <a:xfrm>
                  <a:off x="8897760" y="3965040"/>
                  <a:ext cx="541440" cy="360360"/>
                  <a:chOff x="8897760" y="3965040"/>
                  <a:chExt cx="541440" cy="360360"/>
                </a:xfrm>
              </p:grpSpPr>
              <p:sp>
                <p:nvSpPr>
                  <p:cNvPr id="937" name=""/>
                  <p:cNvSpPr/>
                  <p:nvPr/>
                </p:nvSpPr>
                <p:spPr>
                  <a:xfrm flipH="1" rot="10800000">
                    <a:off x="8897760" y="3965040"/>
                    <a:ext cx="287280" cy="36036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8" name=""/>
                  <p:cNvSpPr/>
                  <p:nvPr/>
                </p:nvSpPr>
                <p:spPr>
                  <a:xfrm flipH="1" rot="10800000">
                    <a:off x="9259200" y="4063680"/>
                    <a:ext cx="179640" cy="1792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9" name=""/>
                  <p:cNvSpPr/>
                  <p:nvPr/>
                </p:nvSpPr>
                <p:spPr>
                  <a:xfrm flipH="1" rot="5400000">
                    <a:off x="8897040" y="4084200"/>
                    <a:ext cx="196920" cy="152280"/>
                  </a:xfrm>
                  <a:custGeom>
                    <a:avLst/>
                    <a:gdLst>
                      <a:gd name="textAreaLeft" fmla="*/ 43200 w 196920"/>
                      <a:gd name="textAreaRight" fmla="*/ 153720 w 196920"/>
                      <a:gd name="textAreaTop" fmla="*/ 33480 h 152280"/>
                      <a:gd name="textAreaBottom" fmla="*/ 118800 h 1522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8520" bIns="38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40" name=""/>
                <p:cNvGrpSpPr/>
                <p:nvPr/>
              </p:nvGrpSpPr>
              <p:grpSpPr>
                <a:xfrm>
                  <a:off x="8897760" y="3584160"/>
                  <a:ext cx="541440" cy="360360"/>
                  <a:chOff x="8897760" y="3584160"/>
                  <a:chExt cx="541440" cy="360360"/>
                </a:xfrm>
              </p:grpSpPr>
              <p:sp>
                <p:nvSpPr>
                  <p:cNvPr id="941" name=""/>
                  <p:cNvSpPr/>
                  <p:nvPr/>
                </p:nvSpPr>
                <p:spPr>
                  <a:xfrm flipH="1" rot="10800000">
                    <a:off x="8897760" y="3584160"/>
                    <a:ext cx="287280" cy="36036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2" name=""/>
                  <p:cNvSpPr/>
                  <p:nvPr/>
                </p:nvSpPr>
                <p:spPr>
                  <a:xfrm flipH="1" rot="10800000">
                    <a:off x="9259200" y="3682800"/>
                    <a:ext cx="179640" cy="1792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3" name=""/>
                  <p:cNvSpPr/>
                  <p:nvPr/>
                </p:nvSpPr>
                <p:spPr>
                  <a:xfrm flipH="1" rot="5400000">
                    <a:off x="8897040" y="3703320"/>
                    <a:ext cx="196920" cy="152280"/>
                  </a:xfrm>
                  <a:custGeom>
                    <a:avLst/>
                    <a:gdLst>
                      <a:gd name="textAreaLeft" fmla="*/ 43200 w 196920"/>
                      <a:gd name="textAreaRight" fmla="*/ 153720 w 196920"/>
                      <a:gd name="textAreaTop" fmla="*/ 33480 h 152280"/>
                      <a:gd name="textAreaBottom" fmla="*/ 118800 h 1522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8520" bIns="38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944" name=""/>
            <p:cNvGrpSpPr/>
            <p:nvPr/>
          </p:nvGrpSpPr>
          <p:grpSpPr>
            <a:xfrm>
              <a:off x="10204560" y="5446440"/>
              <a:ext cx="969840" cy="1150920"/>
              <a:chOff x="10204560" y="5446440"/>
              <a:chExt cx="969840" cy="1150920"/>
            </a:xfrm>
          </p:grpSpPr>
          <p:grpSp>
            <p:nvGrpSpPr>
              <p:cNvPr id="945" name=""/>
              <p:cNvGrpSpPr/>
              <p:nvPr/>
            </p:nvGrpSpPr>
            <p:grpSpPr>
              <a:xfrm>
                <a:off x="10562400" y="5446440"/>
                <a:ext cx="360000" cy="541440"/>
                <a:chOff x="10562400" y="5446440"/>
                <a:chExt cx="360000" cy="541440"/>
              </a:xfrm>
            </p:grpSpPr>
            <p:sp>
              <p:nvSpPr>
                <p:cNvPr id="946" name=""/>
                <p:cNvSpPr/>
                <p:nvPr/>
              </p:nvSpPr>
              <p:spPr>
                <a:xfrm flipH="1" rot="5400000">
                  <a:off x="10598760" y="5664240"/>
                  <a:ext cx="287280" cy="360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 flipH="1" rot="5400000">
                  <a:off x="10660680" y="5446440"/>
                  <a:ext cx="179640" cy="179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 flipH="1">
                  <a:off x="10659600" y="5813640"/>
                  <a:ext cx="196560" cy="152280"/>
                </a:xfrm>
                <a:custGeom>
                  <a:avLst/>
                  <a:gdLst>
                    <a:gd name="textAreaLeft" fmla="*/ 43200 w 196560"/>
                    <a:gd name="textAreaRight" fmla="*/ 153360 w 196560"/>
                    <a:gd name="textAreaTop" fmla="*/ 33480 h 152280"/>
                    <a:gd name="textAreaBottom" fmla="*/ 118800 h 152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9" name=""/>
              <p:cNvGrpSpPr/>
              <p:nvPr/>
            </p:nvGrpSpPr>
            <p:grpSpPr>
              <a:xfrm>
                <a:off x="10204560" y="6273360"/>
                <a:ext cx="969840" cy="324000"/>
                <a:chOff x="10204560" y="6273360"/>
                <a:chExt cx="969840" cy="324000"/>
              </a:xfrm>
            </p:grpSpPr>
            <p:grpSp>
              <p:nvGrpSpPr>
                <p:cNvPr id="950" name=""/>
                <p:cNvGrpSpPr/>
                <p:nvPr/>
              </p:nvGrpSpPr>
              <p:grpSpPr>
                <a:xfrm>
                  <a:off x="10461600" y="6316200"/>
                  <a:ext cx="131760" cy="146160"/>
                  <a:chOff x="10461600" y="6316200"/>
                  <a:chExt cx="131760" cy="146160"/>
                </a:xfrm>
              </p:grpSpPr>
              <p:sp>
                <p:nvSpPr>
                  <p:cNvPr id="951" name=""/>
                  <p:cNvSpPr/>
                  <p:nvPr/>
                </p:nvSpPr>
                <p:spPr>
                  <a:xfrm flipH="1">
                    <a:off x="10461600" y="6316200"/>
                    <a:ext cx="131760" cy="14616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52" name=""/>
                  <p:cNvGrpSpPr/>
                  <p:nvPr/>
                </p:nvGrpSpPr>
                <p:grpSpPr>
                  <a:xfrm>
                    <a:off x="10470600" y="6336000"/>
                    <a:ext cx="115920" cy="116640"/>
                    <a:chOff x="10470600" y="6336000"/>
                    <a:chExt cx="115920" cy="116640"/>
                  </a:xfrm>
                </p:grpSpPr>
                <p:sp>
                  <p:nvSpPr>
                    <p:cNvPr id="953" name=""/>
                    <p:cNvSpPr/>
                    <p:nvPr/>
                  </p:nvSpPr>
                  <p:spPr>
                    <a:xfrm flipH="1">
                      <a:off x="10552680" y="6433920"/>
                      <a:ext cx="252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35">
                          <a:moveTo>
                            <a:pt x="0" y="35"/>
                          </a:moveTo>
                          <a:lnTo>
                            <a:pt x="5" y="29"/>
                          </a:lnTo>
                          <a:lnTo>
                            <a:pt x="11" y="23"/>
                          </a:lnTo>
                          <a:lnTo>
                            <a:pt x="17" y="17"/>
                          </a:lnTo>
                          <a:lnTo>
                            <a:pt x="22" y="12"/>
                          </a:lnTo>
                          <a:lnTo>
                            <a:pt x="26" y="8"/>
                          </a:lnTo>
                          <a:lnTo>
                            <a:pt x="30" y="5"/>
                          </a:lnTo>
                          <a:lnTo>
                            <a:pt x="32" y="2"/>
                          </a:lnTo>
                          <a:lnTo>
                            <a:pt x="34" y="1"/>
                          </a:lnTo>
                          <a:lnTo>
                            <a:pt x="34" y="0"/>
                          </a:lnTo>
                          <a:lnTo>
                            <a:pt x="3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4" name=""/>
                    <p:cNvSpPr/>
                    <p:nvPr/>
                  </p:nvSpPr>
                  <p:spPr>
                    <a:xfrm flipH="1">
                      <a:off x="10552680" y="6433920"/>
                      <a:ext cx="252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35">
                          <a:moveTo>
                            <a:pt x="0" y="35"/>
                          </a:moveTo>
                          <a:lnTo>
                            <a:pt x="5" y="29"/>
                          </a:lnTo>
                          <a:lnTo>
                            <a:pt x="11" y="23"/>
                          </a:lnTo>
                          <a:lnTo>
                            <a:pt x="17" y="17"/>
                          </a:lnTo>
                          <a:lnTo>
                            <a:pt x="22" y="12"/>
                          </a:lnTo>
                          <a:lnTo>
                            <a:pt x="26" y="8"/>
                          </a:lnTo>
                          <a:lnTo>
                            <a:pt x="30" y="5"/>
                          </a:lnTo>
                          <a:lnTo>
                            <a:pt x="32" y="2"/>
                          </a:lnTo>
                          <a:lnTo>
                            <a:pt x="34" y="1"/>
                          </a:lnTo>
                          <a:lnTo>
                            <a:pt x="34" y="0"/>
                          </a:lnTo>
                          <a:lnTo>
                            <a:pt x="3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5" name=""/>
                    <p:cNvSpPr/>
                    <p:nvPr/>
                  </p:nvSpPr>
                  <p:spPr>
                    <a:xfrm flipH="1">
                      <a:off x="10470600" y="6336000"/>
                      <a:ext cx="115920" cy="496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880" bIns="2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6" name=""/>
                    <p:cNvSpPr/>
                    <p:nvPr/>
                  </p:nvSpPr>
                  <p:spPr>
                    <a:xfrm flipH="1">
                      <a:off x="10477800" y="6387120"/>
                      <a:ext cx="99720" cy="65520"/>
                    </a:xfrm>
                    <a:custGeom>
                      <a:avLst/>
                      <a:gdLst>
                        <a:gd name="textAreaLeft" fmla="*/ 21960 w 99720"/>
                        <a:gd name="textAreaRight" fmla="*/ 77760 w 99720"/>
                        <a:gd name="textAreaTop" fmla="*/ 14400 h 65520"/>
                        <a:gd name="textAreaBottom" fmla="*/ 51120 h 6552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16200" y="21600"/>
                          </a:lnTo>
                          <a:lnTo>
                            <a:pt x="5400" y="2160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080" bIns="-10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957" name=""/>
                <p:cNvGrpSpPr/>
                <p:nvPr/>
              </p:nvGrpSpPr>
              <p:grpSpPr>
                <a:xfrm>
                  <a:off x="10269720" y="6303600"/>
                  <a:ext cx="131760" cy="146160"/>
                  <a:chOff x="10269720" y="6303600"/>
                  <a:chExt cx="131760" cy="146160"/>
                </a:xfrm>
              </p:grpSpPr>
              <p:sp>
                <p:nvSpPr>
                  <p:cNvPr id="958" name=""/>
                  <p:cNvSpPr/>
                  <p:nvPr/>
                </p:nvSpPr>
                <p:spPr>
                  <a:xfrm flipH="1">
                    <a:off x="10269720" y="6303600"/>
                    <a:ext cx="131760" cy="14616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59" name=""/>
                  <p:cNvGrpSpPr/>
                  <p:nvPr/>
                </p:nvGrpSpPr>
                <p:grpSpPr>
                  <a:xfrm>
                    <a:off x="10278720" y="6323400"/>
                    <a:ext cx="115920" cy="116640"/>
                    <a:chOff x="10278720" y="6323400"/>
                    <a:chExt cx="115920" cy="116640"/>
                  </a:xfrm>
                </p:grpSpPr>
                <p:sp>
                  <p:nvSpPr>
                    <p:cNvPr id="960" name=""/>
                    <p:cNvSpPr/>
                    <p:nvPr/>
                  </p:nvSpPr>
                  <p:spPr>
                    <a:xfrm flipH="1">
                      <a:off x="10360800" y="6421320"/>
                      <a:ext cx="252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35">
                          <a:moveTo>
                            <a:pt x="0" y="35"/>
                          </a:moveTo>
                          <a:lnTo>
                            <a:pt x="5" y="29"/>
                          </a:lnTo>
                          <a:lnTo>
                            <a:pt x="11" y="23"/>
                          </a:lnTo>
                          <a:lnTo>
                            <a:pt x="17" y="17"/>
                          </a:lnTo>
                          <a:lnTo>
                            <a:pt x="22" y="12"/>
                          </a:lnTo>
                          <a:lnTo>
                            <a:pt x="26" y="8"/>
                          </a:lnTo>
                          <a:lnTo>
                            <a:pt x="30" y="5"/>
                          </a:lnTo>
                          <a:lnTo>
                            <a:pt x="32" y="2"/>
                          </a:lnTo>
                          <a:lnTo>
                            <a:pt x="34" y="1"/>
                          </a:lnTo>
                          <a:lnTo>
                            <a:pt x="34" y="0"/>
                          </a:lnTo>
                          <a:lnTo>
                            <a:pt x="3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1" name=""/>
                    <p:cNvSpPr/>
                    <p:nvPr/>
                  </p:nvSpPr>
                  <p:spPr>
                    <a:xfrm flipH="1">
                      <a:off x="10360800" y="6421320"/>
                      <a:ext cx="252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35">
                          <a:moveTo>
                            <a:pt x="0" y="35"/>
                          </a:moveTo>
                          <a:lnTo>
                            <a:pt x="5" y="29"/>
                          </a:lnTo>
                          <a:lnTo>
                            <a:pt x="11" y="23"/>
                          </a:lnTo>
                          <a:lnTo>
                            <a:pt x="17" y="17"/>
                          </a:lnTo>
                          <a:lnTo>
                            <a:pt x="22" y="12"/>
                          </a:lnTo>
                          <a:lnTo>
                            <a:pt x="26" y="8"/>
                          </a:lnTo>
                          <a:lnTo>
                            <a:pt x="30" y="5"/>
                          </a:lnTo>
                          <a:lnTo>
                            <a:pt x="32" y="2"/>
                          </a:lnTo>
                          <a:lnTo>
                            <a:pt x="34" y="1"/>
                          </a:lnTo>
                          <a:lnTo>
                            <a:pt x="34" y="0"/>
                          </a:lnTo>
                          <a:lnTo>
                            <a:pt x="3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2" name=""/>
                    <p:cNvSpPr/>
                    <p:nvPr/>
                  </p:nvSpPr>
                  <p:spPr>
                    <a:xfrm flipH="1">
                      <a:off x="10278720" y="6323400"/>
                      <a:ext cx="115920" cy="496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880" bIns="2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3" name=""/>
                    <p:cNvSpPr/>
                    <p:nvPr/>
                  </p:nvSpPr>
                  <p:spPr>
                    <a:xfrm flipH="1">
                      <a:off x="10285920" y="6374520"/>
                      <a:ext cx="99720" cy="65520"/>
                    </a:xfrm>
                    <a:custGeom>
                      <a:avLst/>
                      <a:gdLst>
                        <a:gd name="textAreaLeft" fmla="*/ 21960 w 99720"/>
                        <a:gd name="textAreaRight" fmla="*/ 77760 w 99720"/>
                        <a:gd name="textAreaTop" fmla="*/ 14400 h 65520"/>
                        <a:gd name="textAreaBottom" fmla="*/ 51120 h 6552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16200" y="21600"/>
                          </a:lnTo>
                          <a:lnTo>
                            <a:pt x="5400" y="2160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080" bIns="-10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964" name=""/>
                <p:cNvSpPr/>
                <p:nvPr/>
              </p:nvSpPr>
              <p:spPr>
                <a:xfrm flipH="1" rot="5400000">
                  <a:off x="10536480" y="5972400"/>
                  <a:ext cx="324000" cy="925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65" name=""/>
                <p:cNvGrpSpPr/>
                <p:nvPr/>
              </p:nvGrpSpPr>
              <p:grpSpPr>
                <a:xfrm>
                  <a:off x="10980720" y="6295680"/>
                  <a:ext cx="131760" cy="146160"/>
                  <a:chOff x="10980720" y="6295680"/>
                  <a:chExt cx="131760" cy="146160"/>
                </a:xfrm>
              </p:grpSpPr>
              <p:sp>
                <p:nvSpPr>
                  <p:cNvPr id="966" name=""/>
                  <p:cNvSpPr/>
                  <p:nvPr/>
                </p:nvSpPr>
                <p:spPr>
                  <a:xfrm flipH="1">
                    <a:off x="10980720" y="6295680"/>
                    <a:ext cx="131760" cy="14616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67" name=""/>
                  <p:cNvGrpSpPr/>
                  <p:nvPr/>
                </p:nvGrpSpPr>
                <p:grpSpPr>
                  <a:xfrm>
                    <a:off x="10989720" y="6315480"/>
                    <a:ext cx="115920" cy="116640"/>
                    <a:chOff x="10989720" y="6315480"/>
                    <a:chExt cx="115920" cy="116640"/>
                  </a:xfrm>
                </p:grpSpPr>
                <p:sp>
                  <p:nvSpPr>
                    <p:cNvPr id="968" name=""/>
                    <p:cNvSpPr/>
                    <p:nvPr/>
                  </p:nvSpPr>
                  <p:spPr>
                    <a:xfrm flipH="1">
                      <a:off x="11071800" y="6413400"/>
                      <a:ext cx="252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35">
                          <a:moveTo>
                            <a:pt x="0" y="35"/>
                          </a:moveTo>
                          <a:lnTo>
                            <a:pt x="5" y="29"/>
                          </a:lnTo>
                          <a:lnTo>
                            <a:pt x="11" y="23"/>
                          </a:lnTo>
                          <a:lnTo>
                            <a:pt x="17" y="17"/>
                          </a:lnTo>
                          <a:lnTo>
                            <a:pt x="22" y="12"/>
                          </a:lnTo>
                          <a:lnTo>
                            <a:pt x="26" y="8"/>
                          </a:lnTo>
                          <a:lnTo>
                            <a:pt x="30" y="5"/>
                          </a:lnTo>
                          <a:lnTo>
                            <a:pt x="32" y="2"/>
                          </a:lnTo>
                          <a:lnTo>
                            <a:pt x="34" y="1"/>
                          </a:lnTo>
                          <a:lnTo>
                            <a:pt x="34" y="0"/>
                          </a:lnTo>
                          <a:lnTo>
                            <a:pt x="3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9" name=""/>
                    <p:cNvSpPr/>
                    <p:nvPr/>
                  </p:nvSpPr>
                  <p:spPr>
                    <a:xfrm flipH="1">
                      <a:off x="11071800" y="6413400"/>
                      <a:ext cx="252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35">
                          <a:moveTo>
                            <a:pt x="0" y="35"/>
                          </a:moveTo>
                          <a:lnTo>
                            <a:pt x="5" y="29"/>
                          </a:lnTo>
                          <a:lnTo>
                            <a:pt x="11" y="23"/>
                          </a:lnTo>
                          <a:lnTo>
                            <a:pt x="17" y="17"/>
                          </a:lnTo>
                          <a:lnTo>
                            <a:pt x="22" y="12"/>
                          </a:lnTo>
                          <a:lnTo>
                            <a:pt x="26" y="8"/>
                          </a:lnTo>
                          <a:lnTo>
                            <a:pt x="30" y="5"/>
                          </a:lnTo>
                          <a:lnTo>
                            <a:pt x="32" y="2"/>
                          </a:lnTo>
                          <a:lnTo>
                            <a:pt x="34" y="1"/>
                          </a:lnTo>
                          <a:lnTo>
                            <a:pt x="34" y="0"/>
                          </a:lnTo>
                          <a:lnTo>
                            <a:pt x="3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0" name=""/>
                    <p:cNvSpPr/>
                    <p:nvPr/>
                  </p:nvSpPr>
                  <p:spPr>
                    <a:xfrm flipH="1">
                      <a:off x="10989720" y="6315480"/>
                      <a:ext cx="115920" cy="496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880" bIns="2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1" name=""/>
                    <p:cNvSpPr/>
                    <p:nvPr/>
                  </p:nvSpPr>
                  <p:spPr>
                    <a:xfrm flipH="1">
                      <a:off x="10996920" y="6366600"/>
                      <a:ext cx="99720" cy="65520"/>
                    </a:xfrm>
                    <a:custGeom>
                      <a:avLst/>
                      <a:gdLst>
                        <a:gd name="textAreaLeft" fmla="*/ 21960 w 99720"/>
                        <a:gd name="textAreaRight" fmla="*/ 77760 w 99720"/>
                        <a:gd name="textAreaTop" fmla="*/ 14400 h 65520"/>
                        <a:gd name="textAreaBottom" fmla="*/ 51120 h 6552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16200" y="21600"/>
                          </a:lnTo>
                          <a:lnTo>
                            <a:pt x="5400" y="2160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080" bIns="-10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972" name=""/>
                <p:cNvGrpSpPr/>
                <p:nvPr/>
              </p:nvGrpSpPr>
              <p:grpSpPr>
                <a:xfrm>
                  <a:off x="10809360" y="6278760"/>
                  <a:ext cx="131760" cy="145800"/>
                  <a:chOff x="10809360" y="6278760"/>
                  <a:chExt cx="131760" cy="145800"/>
                </a:xfrm>
              </p:grpSpPr>
              <p:sp>
                <p:nvSpPr>
                  <p:cNvPr id="973" name=""/>
                  <p:cNvSpPr/>
                  <p:nvPr/>
                </p:nvSpPr>
                <p:spPr>
                  <a:xfrm flipH="1">
                    <a:off x="10809360" y="6278760"/>
                    <a:ext cx="131760" cy="14580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74" name=""/>
                  <p:cNvGrpSpPr/>
                  <p:nvPr/>
                </p:nvGrpSpPr>
                <p:grpSpPr>
                  <a:xfrm>
                    <a:off x="10818360" y="6298560"/>
                    <a:ext cx="115920" cy="116280"/>
                    <a:chOff x="10818360" y="6298560"/>
                    <a:chExt cx="115920" cy="116280"/>
                  </a:xfrm>
                </p:grpSpPr>
                <p:sp>
                  <p:nvSpPr>
                    <p:cNvPr id="975" name=""/>
                    <p:cNvSpPr/>
                    <p:nvPr/>
                  </p:nvSpPr>
                  <p:spPr>
                    <a:xfrm flipH="1">
                      <a:off x="10900440" y="6396120"/>
                      <a:ext cx="252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35">
                          <a:moveTo>
                            <a:pt x="0" y="35"/>
                          </a:moveTo>
                          <a:lnTo>
                            <a:pt x="5" y="29"/>
                          </a:lnTo>
                          <a:lnTo>
                            <a:pt x="11" y="23"/>
                          </a:lnTo>
                          <a:lnTo>
                            <a:pt x="17" y="17"/>
                          </a:lnTo>
                          <a:lnTo>
                            <a:pt x="22" y="12"/>
                          </a:lnTo>
                          <a:lnTo>
                            <a:pt x="26" y="8"/>
                          </a:lnTo>
                          <a:lnTo>
                            <a:pt x="30" y="5"/>
                          </a:lnTo>
                          <a:lnTo>
                            <a:pt x="32" y="2"/>
                          </a:lnTo>
                          <a:lnTo>
                            <a:pt x="34" y="1"/>
                          </a:lnTo>
                          <a:lnTo>
                            <a:pt x="34" y="0"/>
                          </a:lnTo>
                          <a:lnTo>
                            <a:pt x="3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6" name=""/>
                    <p:cNvSpPr/>
                    <p:nvPr/>
                  </p:nvSpPr>
                  <p:spPr>
                    <a:xfrm flipH="1">
                      <a:off x="10900440" y="6396120"/>
                      <a:ext cx="252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35">
                          <a:moveTo>
                            <a:pt x="0" y="35"/>
                          </a:moveTo>
                          <a:lnTo>
                            <a:pt x="5" y="29"/>
                          </a:lnTo>
                          <a:lnTo>
                            <a:pt x="11" y="23"/>
                          </a:lnTo>
                          <a:lnTo>
                            <a:pt x="17" y="17"/>
                          </a:lnTo>
                          <a:lnTo>
                            <a:pt x="22" y="12"/>
                          </a:lnTo>
                          <a:lnTo>
                            <a:pt x="26" y="8"/>
                          </a:lnTo>
                          <a:lnTo>
                            <a:pt x="30" y="5"/>
                          </a:lnTo>
                          <a:lnTo>
                            <a:pt x="32" y="2"/>
                          </a:lnTo>
                          <a:lnTo>
                            <a:pt x="34" y="1"/>
                          </a:lnTo>
                          <a:lnTo>
                            <a:pt x="34" y="0"/>
                          </a:lnTo>
                          <a:lnTo>
                            <a:pt x="3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7" name=""/>
                    <p:cNvSpPr/>
                    <p:nvPr/>
                  </p:nvSpPr>
                  <p:spPr>
                    <a:xfrm flipH="1">
                      <a:off x="10818360" y="6298560"/>
                      <a:ext cx="115920" cy="49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520" bIns="2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8" name=""/>
                    <p:cNvSpPr/>
                    <p:nvPr/>
                  </p:nvSpPr>
                  <p:spPr>
                    <a:xfrm flipH="1">
                      <a:off x="10825560" y="6349680"/>
                      <a:ext cx="99720" cy="65160"/>
                    </a:xfrm>
                    <a:custGeom>
                      <a:avLst/>
                      <a:gdLst>
                        <a:gd name="textAreaLeft" fmla="*/ 21960 w 99720"/>
                        <a:gd name="textAreaRight" fmla="*/ 77760 w 99720"/>
                        <a:gd name="textAreaTop" fmla="*/ 14400 h 65160"/>
                        <a:gd name="textAreaBottom" fmla="*/ 50760 h 651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16200" y="21600"/>
                          </a:lnTo>
                          <a:lnTo>
                            <a:pt x="5400" y="2160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440" bIns="-10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979" name=""/>
                <p:cNvGrpSpPr/>
                <p:nvPr/>
              </p:nvGrpSpPr>
              <p:grpSpPr>
                <a:xfrm>
                  <a:off x="10612440" y="6303600"/>
                  <a:ext cx="131760" cy="146160"/>
                  <a:chOff x="10612440" y="6303600"/>
                  <a:chExt cx="131760" cy="146160"/>
                </a:xfrm>
              </p:grpSpPr>
              <p:sp>
                <p:nvSpPr>
                  <p:cNvPr id="980" name=""/>
                  <p:cNvSpPr/>
                  <p:nvPr/>
                </p:nvSpPr>
                <p:spPr>
                  <a:xfrm flipH="1">
                    <a:off x="10612440" y="6303600"/>
                    <a:ext cx="131760" cy="14616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81" name=""/>
                  <p:cNvGrpSpPr/>
                  <p:nvPr/>
                </p:nvGrpSpPr>
                <p:grpSpPr>
                  <a:xfrm>
                    <a:off x="10621440" y="6323400"/>
                    <a:ext cx="115920" cy="116640"/>
                    <a:chOff x="10621440" y="6323400"/>
                    <a:chExt cx="115920" cy="116640"/>
                  </a:xfrm>
                </p:grpSpPr>
                <p:sp>
                  <p:nvSpPr>
                    <p:cNvPr id="982" name=""/>
                    <p:cNvSpPr/>
                    <p:nvPr/>
                  </p:nvSpPr>
                  <p:spPr>
                    <a:xfrm flipH="1">
                      <a:off x="10703520" y="6421320"/>
                      <a:ext cx="252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35">
                          <a:moveTo>
                            <a:pt x="0" y="35"/>
                          </a:moveTo>
                          <a:lnTo>
                            <a:pt x="5" y="29"/>
                          </a:lnTo>
                          <a:lnTo>
                            <a:pt x="11" y="23"/>
                          </a:lnTo>
                          <a:lnTo>
                            <a:pt x="17" y="17"/>
                          </a:lnTo>
                          <a:lnTo>
                            <a:pt x="22" y="12"/>
                          </a:lnTo>
                          <a:lnTo>
                            <a:pt x="26" y="8"/>
                          </a:lnTo>
                          <a:lnTo>
                            <a:pt x="30" y="5"/>
                          </a:lnTo>
                          <a:lnTo>
                            <a:pt x="32" y="2"/>
                          </a:lnTo>
                          <a:lnTo>
                            <a:pt x="34" y="1"/>
                          </a:lnTo>
                          <a:lnTo>
                            <a:pt x="34" y="0"/>
                          </a:lnTo>
                          <a:lnTo>
                            <a:pt x="3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3" name=""/>
                    <p:cNvSpPr/>
                    <p:nvPr/>
                  </p:nvSpPr>
                  <p:spPr>
                    <a:xfrm flipH="1">
                      <a:off x="10703520" y="6421320"/>
                      <a:ext cx="252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35">
                          <a:moveTo>
                            <a:pt x="0" y="35"/>
                          </a:moveTo>
                          <a:lnTo>
                            <a:pt x="5" y="29"/>
                          </a:lnTo>
                          <a:lnTo>
                            <a:pt x="11" y="23"/>
                          </a:lnTo>
                          <a:lnTo>
                            <a:pt x="17" y="17"/>
                          </a:lnTo>
                          <a:lnTo>
                            <a:pt x="22" y="12"/>
                          </a:lnTo>
                          <a:lnTo>
                            <a:pt x="26" y="8"/>
                          </a:lnTo>
                          <a:lnTo>
                            <a:pt x="30" y="5"/>
                          </a:lnTo>
                          <a:lnTo>
                            <a:pt x="32" y="2"/>
                          </a:lnTo>
                          <a:lnTo>
                            <a:pt x="34" y="1"/>
                          </a:lnTo>
                          <a:lnTo>
                            <a:pt x="34" y="0"/>
                          </a:lnTo>
                          <a:lnTo>
                            <a:pt x="3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4" name=""/>
                    <p:cNvSpPr/>
                    <p:nvPr/>
                  </p:nvSpPr>
                  <p:spPr>
                    <a:xfrm flipH="1">
                      <a:off x="10621440" y="6323400"/>
                      <a:ext cx="115920" cy="496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880" bIns="2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5" name=""/>
                    <p:cNvSpPr/>
                    <p:nvPr/>
                  </p:nvSpPr>
                  <p:spPr>
                    <a:xfrm flipH="1">
                      <a:off x="10628640" y="6374520"/>
                      <a:ext cx="99720" cy="65520"/>
                    </a:xfrm>
                    <a:custGeom>
                      <a:avLst/>
                      <a:gdLst>
                        <a:gd name="textAreaLeft" fmla="*/ 21960 w 99720"/>
                        <a:gd name="textAreaRight" fmla="*/ 77760 w 99720"/>
                        <a:gd name="textAreaTop" fmla="*/ 14400 h 65520"/>
                        <a:gd name="textAreaBottom" fmla="*/ 51120 h 6552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16200" y="21600"/>
                          </a:lnTo>
                          <a:lnTo>
                            <a:pt x="5400" y="2160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080" bIns="-10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986" name=""/>
                <p:cNvSpPr/>
                <p:nvPr/>
              </p:nvSpPr>
              <p:spPr>
                <a:xfrm flipH="1" rot="5400000">
                  <a:off x="10586160" y="5978880"/>
                  <a:ext cx="206280" cy="96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87" name=""/>
                <p:cNvGrpSpPr/>
                <p:nvPr/>
              </p:nvGrpSpPr>
              <p:grpSpPr>
                <a:xfrm>
                  <a:off x="10998360" y="6416280"/>
                  <a:ext cx="131760" cy="144720"/>
                  <a:chOff x="10998360" y="6416280"/>
                  <a:chExt cx="131760" cy="144720"/>
                </a:xfrm>
              </p:grpSpPr>
              <p:sp>
                <p:nvSpPr>
                  <p:cNvPr id="988" name=""/>
                  <p:cNvSpPr/>
                  <p:nvPr/>
                </p:nvSpPr>
                <p:spPr>
                  <a:xfrm flipH="1">
                    <a:off x="10998360" y="6416280"/>
                    <a:ext cx="131760" cy="14472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89" name=""/>
                  <p:cNvGrpSpPr/>
                  <p:nvPr/>
                </p:nvGrpSpPr>
                <p:grpSpPr>
                  <a:xfrm>
                    <a:off x="11007360" y="6436080"/>
                    <a:ext cx="115920" cy="115560"/>
                    <a:chOff x="11007360" y="6436080"/>
                    <a:chExt cx="115920" cy="115560"/>
                  </a:xfrm>
                </p:grpSpPr>
                <p:sp>
                  <p:nvSpPr>
                    <p:cNvPr id="990" name=""/>
                    <p:cNvSpPr/>
                    <p:nvPr/>
                  </p:nvSpPr>
                  <p:spPr>
                    <a:xfrm flipH="1">
                      <a:off x="11089440" y="6533280"/>
                      <a:ext cx="252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35">
                          <a:moveTo>
                            <a:pt x="0" y="35"/>
                          </a:moveTo>
                          <a:lnTo>
                            <a:pt x="5" y="29"/>
                          </a:lnTo>
                          <a:lnTo>
                            <a:pt x="11" y="23"/>
                          </a:lnTo>
                          <a:lnTo>
                            <a:pt x="17" y="17"/>
                          </a:lnTo>
                          <a:lnTo>
                            <a:pt x="22" y="12"/>
                          </a:lnTo>
                          <a:lnTo>
                            <a:pt x="26" y="8"/>
                          </a:lnTo>
                          <a:lnTo>
                            <a:pt x="30" y="5"/>
                          </a:lnTo>
                          <a:lnTo>
                            <a:pt x="32" y="2"/>
                          </a:lnTo>
                          <a:lnTo>
                            <a:pt x="34" y="1"/>
                          </a:lnTo>
                          <a:lnTo>
                            <a:pt x="34" y="0"/>
                          </a:lnTo>
                          <a:lnTo>
                            <a:pt x="3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1" name=""/>
                    <p:cNvSpPr/>
                    <p:nvPr/>
                  </p:nvSpPr>
                  <p:spPr>
                    <a:xfrm flipH="1">
                      <a:off x="11089440" y="6533280"/>
                      <a:ext cx="252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35">
                          <a:moveTo>
                            <a:pt x="0" y="35"/>
                          </a:moveTo>
                          <a:lnTo>
                            <a:pt x="5" y="29"/>
                          </a:lnTo>
                          <a:lnTo>
                            <a:pt x="11" y="23"/>
                          </a:lnTo>
                          <a:lnTo>
                            <a:pt x="17" y="17"/>
                          </a:lnTo>
                          <a:lnTo>
                            <a:pt x="22" y="12"/>
                          </a:lnTo>
                          <a:lnTo>
                            <a:pt x="26" y="8"/>
                          </a:lnTo>
                          <a:lnTo>
                            <a:pt x="30" y="5"/>
                          </a:lnTo>
                          <a:lnTo>
                            <a:pt x="32" y="2"/>
                          </a:lnTo>
                          <a:lnTo>
                            <a:pt x="34" y="1"/>
                          </a:lnTo>
                          <a:lnTo>
                            <a:pt x="34" y="0"/>
                          </a:lnTo>
                          <a:lnTo>
                            <a:pt x="3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2" name=""/>
                    <p:cNvSpPr/>
                    <p:nvPr/>
                  </p:nvSpPr>
                  <p:spPr>
                    <a:xfrm flipH="1">
                      <a:off x="11007360" y="6436080"/>
                      <a:ext cx="115920" cy="48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3" name=""/>
                    <p:cNvSpPr/>
                    <p:nvPr/>
                  </p:nvSpPr>
                  <p:spPr>
                    <a:xfrm flipH="1">
                      <a:off x="11014560" y="6486840"/>
                      <a:ext cx="99720" cy="64800"/>
                    </a:xfrm>
                    <a:custGeom>
                      <a:avLst/>
                      <a:gdLst>
                        <a:gd name="textAreaLeft" fmla="*/ 21960 w 99720"/>
                        <a:gd name="textAreaRight" fmla="*/ 77760 w 99720"/>
                        <a:gd name="textAreaTop" fmla="*/ 14040 h 64800"/>
                        <a:gd name="textAreaBottom" fmla="*/ 50760 h 6480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16200" y="21600"/>
                          </a:lnTo>
                          <a:lnTo>
                            <a:pt x="5400" y="2160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080" bIns="-10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994" name=""/>
                <p:cNvGrpSpPr/>
                <p:nvPr/>
              </p:nvGrpSpPr>
              <p:grpSpPr>
                <a:xfrm>
                  <a:off x="10834560" y="6416280"/>
                  <a:ext cx="133560" cy="144720"/>
                  <a:chOff x="10834560" y="6416280"/>
                  <a:chExt cx="133560" cy="144720"/>
                </a:xfrm>
              </p:grpSpPr>
              <p:sp>
                <p:nvSpPr>
                  <p:cNvPr id="995" name=""/>
                  <p:cNvSpPr/>
                  <p:nvPr/>
                </p:nvSpPr>
                <p:spPr>
                  <a:xfrm flipH="1">
                    <a:off x="10834200" y="6416280"/>
                    <a:ext cx="133560" cy="14472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96" name=""/>
                  <p:cNvGrpSpPr/>
                  <p:nvPr/>
                </p:nvGrpSpPr>
                <p:grpSpPr>
                  <a:xfrm>
                    <a:off x="10843920" y="6436080"/>
                    <a:ext cx="117360" cy="115560"/>
                    <a:chOff x="10843920" y="6436080"/>
                    <a:chExt cx="117360" cy="115560"/>
                  </a:xfrm>
                </p:grpSpPr>
                <p:sp>
                  <p:nvSpPr>
                    <p:cNvPr id="997" name=""/>
                    <p:cNvSpPr/>
                    <p:nvPr/>
                  </p:nvSpPr>
                  <p:spPr>
                    <a:xfrm flipH="1">
                      <a:off x="10927080" y="6533280"/>
                      <a:ext cx="252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35">
                          <a:moveTo>
                            <a:pt x="0" y="35"/>
                          </a:moveTo>
                          <a:lnTo>
                            <a:pt x="5" y="29"/>
                          </a:lnTo>
                          <a:lnTo>
                            <a:pt x="11" y="23"/>
                          </a:lnTo>
                          <a:lnTo>
                            <a:pt x="17" y="17"/>
                          </a:lnTo>
                          <a:lnTo>
                            <a:pt x="22" y="12"/>
                          </a:lnTo>
                          <a:lnTo>
                            <a:pt x="26" y="8"/>
                          </a:lnTo>
                          <a:lnTo>
                            <a:pt x="30" y="5"/>
                          </a:lnTo>
                          <a:lnTo>
                            <a:pt x="32" y="2"/>
                          </a:lnTo>
                          <a:lnTo>
                            <a:pt x="34" y="1"/>
                          </a:lnTo>
                          <a:lnTo>
                            <a:pt x="34" y="0"/>
                          </a:lnTo>
                          <a:lnTo>
                            <a:pt x="3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8" name=""/>
                    <p:cNvSpPr/>
                    <p:nvPr/>
                  </p:nvSpPr>
                  <p:spPr>
                    <a:xfrm flipH="1">
                      <a:off x="10927080" y="6533280"/>
                      <a:ext cx="252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35">
                          <a:moveTo>
                            <a:pt x="0" y="35"/>
                          </a:moveTo>
                          <a:lnTo>
                            <a:pt x="5" y="29"/>
                          </a:lnTo>
                          <a:lnTo>
                            <a:pt x="11" y="23"/>
                          </a:lnTo>
                          <a:lnTo>
                            <a:pt x="17" y="17"/>
                          </a:lnTo>
                          <a:lnTo>
                            <a:pt x="22" y="12"/>
                          </a:lnTo>
                          <a:lnTo>
                            <a:pt x="26" y="8"/>
                          </a:lnTo>
                          <a:lnTo>
                            <a:pt x="30" y="5"/>
                          </a:lnTo>
                          <a:lnTo>
                            <a:pt x="32" y="2"/>
                          </a:lnTo>
                          <a:lnTo>
                            <a:pt x="34" y="1"/>
                          </a:lnTo>
                          <a:lnTo>
                            <a:pt x="34" y="0"/>
                          </a:lnTo>
                          <a:lnTo>
                            <a:pt x="3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9" name=""/>
                    <p:cNvSpPr/>
                    <p:nvPr/>
                  </p:nvSpPr>
                  <p:spPr>
                    <a:xfrm flipH="1">
                      <a:off x="10843920" y="6436080"/>
                      <a:ext cx="117360" cy="48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0" name=""/>
                    <p:cNvSpPr/>
                    <p:nvPr/>
                  </p:nvSpPr>
                  <p:spPr>
                    <a:xfrm flipH="1">
                      <a:off x="10851120" y="6486840"/>
                      <a:ext cx="101160" cy="64800"/>
                    </a:xfrm>
                    <a:custGeom>
                      <a:avLst/>
                      <a:gdLst>
                        <a:gd name="textAreaLeft" fmla="*/ 22320 w 101160"/>
                        <a:gd name="textAreaRight" fmla="*/ 78840 w 101160"/>
                        <a:gd name="textAreaTop" fmla="*/ 14040 h 64800"/>
                        <a:gd name="textAreaBottom" fmla="*/ 50760 h 6480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16200" y="21600"/>
                          </a:lnTo>
                          <a:lnTo>
                            <a:pt x="5400" y="2160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080" bIns="-10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001" name=""/>
                <p:cNvGrpSpPr/>
                <p:nvPr/>
              </p:nvGrpSpPr>
              <p:grpSpPr>
                <a:xfrm>
                  <a:off x="10645920" y="6424200"/>
                  <a:ext cx="133200" cy="146160"/>
                  <a:chOff x="10645920" y="6424200"/>
                  <a:chExt cx="133200" cy="146160"/>
                </a:xfrm>
              </p:grpSpPr>
              <p:sp>
                <p:nvSpPr>
                  <p:cNvPr id="1002" name=""/>
                  <p:cNvSpPr/>
                  <p:nvPr/>
                </p:nvSpPr>
                <p:spPr>
                  <a:xfrm flipH="1">
                    <a:off x="10645920" y="6424200"/>
                    <a:ext cx="133200" cy="14616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03" name=""/>
                  <p:cNvGrpSpPr/>
                  <p:nvPr/>
                </p:nvGrpSpPr>
                <p:grpSpPr>
                  <a:xfrm>
                    <a:off x="10655280" y="6444000"/>
                    <a:ext cx="117000" cy="116640"/>
                    <a:chOff x="10655280" y="6444000"/>
                    <a:chExt cx="117000" cy="116640"/>
                  </a:xfrm>
                </p:grpSpPr>
                <p:sp>
                  <p:nvSpPr>
                    <p:cNvPr id="1004" name=""/>
                    <p:cNvSpPr/>
                    <p:nvPr/>
                  </p:nvSpPr>
                  <p:spPr>
                    <a:xfrm flipH="1">
                      <a:off x="10738440" y="6541920"/>
                      <a:ext cx="252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35">
                          <a:moveTo>
                            <a:pt x="0" y="35"/>
                          </a:moveTo>
                          <a:lnTo>
                            <a:pt x="5" y="29"/>
                          </a:lnTo>
                          <a:lnTo>
                            <a:pt x="11" y="23"/>
                          </a:lnTo>
                          <a:lnTo>
                            <a:pt x="17" y="17"/>
                          </a:lnTo>
                          <a:lnTo>
                            <a:pt x="22" y="12"/>
                          </a:lnTo>
                          <a:lnTo>
                            <a:pt x="26" y="8"/>
                          </a:lnTo>
                          <a:lnTo>
                            <a:pt x="30" y="5"/>
                          </a:lnTo>
                          <a:lnTo>
                            <a:pt x="32" y="2"/>
                          </a:lnTo>
                          <a:lnTo>
                            <a:pt x="34" y="1"/>
                          </a:lnTo>
                          <a:lnTo>
                            <a:pt x="34" y="0"/>
                          </a:lnTo>
                          <a:lnTo>
                            <a:pt x="3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5" name=""/>
                    <p:cNvSpPr/>
                    <p:nvPr/>
                  </p:nvSpPr>
                  <p:spPr>
                    <a:xfrm flipH="1">
                      <a:off x="10738440" y="6541920"/>
                      <a:ext cx="252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35">
                          <a:moveTo>
                            <a:pt x="0" y="35"/>
                          </a:moveTo>
                          <a:lnTo>
                            <a:pt x="5" y="29"/>
                          </a:lnTo>
                          <a:lnTo>
                            <a:pt x="11" y="23"/>
                          </a:lnTo>
                          <a:lnTo>
                            <a:pt x="17" y="17"/>
                          </a:lnTo>
                          <a:lnTo>
                            <a:pt x="22" y="12"/>
                          </a:lnTo>
                          <a:lnTo>
                            <a:pt x="26" y="8"/>
                          </a:lnTo>
                          <a:lnTo>
                            <a:pt x="30" y="5"/>
                          </a:lnTo>
                          <a:lnTo>
                            <a:pt x="32" y="2"/>
                          </a:lnTo>
                          <a:lnTo>
                            <a:pt x="34" y="1"/>
                          </a:lnTo>
                          <a:lnTo>
                            <a:pt x="34" y="0"/>
                          </a:lnTo>
                          <a:lnTo>
                            <a:pt x="3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6" name=""/>
                    <p:cNvSpPr/>
                    <p:nvPr/>
                  </p:nvSpPr>
                  <p:spPr>
                    <a:xfrm flipH="1">
                      <a:off x="10654920" y="6444000"/>
                      <a:ext cx="117000" cy="496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880" bIns="2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7" name=""/>
                    <p:cNvSpPr/>
                    <p:nvPr/>
                  </p:nvSpPr>
                  <p:spPr>
                    <a:xfrm flipH="1">
                      <a:off x="10662840" y="6495120"/>
                      <a:ext cx="100800" cy="65520"/>
                    </a:xfrm>
                    <a:custGeom>
                      <a:avLst/>
                      <a:gdLst>
                        <a:gd name="textAreaLeft" fmla="*/ 21960 w 100800"/>
                        <a:gd name="textAreaRight" fmla="*/ 78840 w 100800"/>
                        <a:gd name="textAreaTop" fmla="*/ 14400 h 65520"/>
                        <a:gd name="textAreaBottom" fmla="*/ 51120 h 6552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16200" y="21600"/>
                          </a:lnTo>
                          <a:lnTo>
                            <a:pt x="5400" y="2160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080" bIns="-10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008" name=""/>
                <p:cNvGrpSpPr/>
                <p:nvPr/>
              </p:nvGrpSpPr>
              <p:grpSpPr>
                <a:xfrm>
                  <a:off x="10472760" y="6416280"/>
                  <a:ext cx="133200" cy="144720"/>
                  <a:chOff x="10472760" y="6416280"/>
                  <a:chExt cx="133200" cy="144720"/>
                </a:xfrm>
              </p:grpSpPr>
              <p:sp>
                <p:nvSpPr>
                  <p:cNvPr id="1009" name=""/>
                  <p:cNvSpPr/>
                  <p:nvPr/>
                </p:nvSpPr>
                <p:spPr>
                  <a:xfrm flipH="1">
                    <a:off x="10472760" y="6416280"/>
                    <a:ext cx="133200" cy="14472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10" name=""/>
                  <p:cNvGrpSpPr/>
                  <p:nvPr/>
                </p:nvGrpSpPr>
                <p:grpSpPr>
                  <a:xfrm>
                    <a:off x="10482120" y="6436080"/>
                    <a:ext cx="117000" cy="115560"/>
                    <a:chOff x="10482120" y="6436080"/>
                    <a:chExt cx="117000" cy="115560"/>
                  </a:xfrm>
                </p:grpSpPr>
                <p:sp>
                  <p:nvSpPr>
                    <p:cNvPr id="1011" name=""/>
                    <p:cNvSpPr/>
                    <p:nvPr/>
                  </p:nvSpPr>
                  <p:spPr>
                    <a:xfrm flipH="1">
                      <a:off x="10565280" y="6533280"/>
                      <a:ext cx="252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35">
                          <a:moveTo>
                            <a:pt x="0" y="35"/>
                          </a:moveTo>
                          <a:lnTo>
                            <a:pt x="5" y="29"/>
                          </a:lnTo>
                          <a:lnTo>
                            <a:pt x="11" y="23"/>
                          </a:lnTo>
                          <a:lnTo>
                            <a:pt x="17" y="17"/>
                          </a:lnTo>
                          <a:lnTo>
                            <a:pt x="22" y="12"/>
                          </a:lnTo>
                          <a:lnTo>
                            <a:pt x="26" y="8"/>
                          </a:lnTo>
                          <a:lnTo>
                            <a:pt x="30" y="5"/>
                          </a:lnTo>
                          <a:lnTo>
                            <a:pt x="32" y="2"/>
                          </a:lnTo>
                          <a:lnTo>
                            <a:pt x="34" y="1"/>
                          </a:lnTo>
                          <a:lnTo>
                            <a:pt x="34" y="0"/>
                          </a:lnTo>
                          <a:lnTo>
                            <a:pt x="3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2" name=""/>
                    <p:cNvSpPr/>
                    <p:nvPr/>
                  </p:nvSpPr>
                  <p:spPr>
                    <a:xfrm flipH="1">
                      <a:off x="10565280" y="6533280"/>
                      <a:ext cx="252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35">
                          <a:moveTo>
                            <a:pt x="0" y="35"/>
                          </a:moveTo>
                          <a:lnTo>
                            <a:pt x="5" y="29"/>
                          </a:lnTo>
                          <a:lnTo>
                            <a:pt x="11" y="23"/>
                          </a:lnTo>
                          <a:lnTo>
                            <a:pt x="17" y="17"/>
                          </a:lnTo>
                          <a:lnTo>
                            <a:pt x="22" y="12"/>
                          </a:lnTo>
                          <a:lnTo>
                            <a:pt x="26" y="8"/>
                          </a:lnTo>
                          <a:lnTo>
                            <a:pt x="30" y="5"/>
                          </a:lnTo>
                          <a:lnTo>
                            <a:pt x="32" y="2"/>
                          </a:lnTo>
                          <a:lnTo>
                            <a:pt x="34" y="1"/>
                          </a:lnTo>
                          <a:lnTo>
                            <a:pt x="34" y="0"/>
                          </a:lnTo>
                          <a:lnTo>
                            <a:pt x="3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3" name=""/>
                    <p:cNvSpPr/>
                    <p:nvPr/>
                  </p:nvSpPr>
                  <p:spPr>
                    <a:xfrm flipH="1">
                      <a:off x="10481760" y="6436080"/>
                      <a:ext cx="117000" cy="48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4" name=""/>
                    <p:cNvSpPr/>
                    <p:nvPr/>
                  </p:nvSpPr>
                  <p:spPr>
                    <a:xfrm flipH="1">
                      <a:off x="10489680" y="6486840"/>
                      <a:ext cx="100800" cy="64800"/>
                    </a:xfrm>
                    <a:custGeom>
                      <a:avLst/>
                      <a:gdLst>
                        <a:gd name="textAreaLeft" fmla="*/ 21960 w 100800"/>
                        <a:gd name="textAreaRight" fmla="*/ 78840 w 100800"/>
                        <a:gd name="textAreaTop" fmla="*/ 14040 h 64800"/>
                        <a:gd name="textAreaBottom" fmla="*/ 50760 h 6480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16200" y="21600"/>
                          </a:lnTo>
                          <a:lnTo>
                            <a:pt x="5400" y="2160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080" bIns="-10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015" name=""/>
                <p:cNvGrpSpPr/>
                <p:nvPr/>
              </p:nvGrpSpPr>
              <p:grpSpPr>
                <a:xfrm>
                  <a:off x="10283760" y="6424200"/>
                  <a:ext cx="133560" cy="146160"/>
                  <a:chOff x="10283760" y="6424200"/>
                  <a:chExt cx="133560" cy="146160"/>
                </a:xfrm>
              </p:grpSpPr>
              <p:sp>
                <p:nvSpPr>
                  <p:cNvPr id="1016" name=""/>
                  <p:cNvSpPr/>
                  <p:nvPr/>
                </p:nvSpPr>
                <p:spPr>
                  <a:xfrm flipH="1">
                    <a:off x="10283400" y="6424200"/>
                    <a:ext cx="133560" cy="14616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17" name=""/>
                  <p:cNvGrpSpPr/>
                  <p:nvPr/>
                </p:nvGrpSpPr>
                <p:grpSpPr>
                  <a:xfrm>
                    <a:off x="10293120" y="6444000"/>
                    <a:ext cx="117360" cy="116640"/>
                    <a:chOff x="10293120" y="6444000"/>
                    <a:chExt cx="117360" cy="116640"/>
                  </a:xfrm>
                </p:grpSpPr>
                <p:sp>
                  <p:nvSpPr>
                    <p:cNvPr id="1018" name=""/>
                    <p:cNvSpPr/>
                    <p:nvPr/>
                  </p:nvSpPr>
                  <p:spPr>
                    <a:xfrm flipH="1">
                      <a:off x="10376280" y="6541920"/>
                      <a:ext cx="252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35">
                          <a:moveTo>
                            <a:pt x="0" y="35"/>
                          </a:moveTo>
                          <a:lnTo>
                            <a:pt x="5" y="29"/>
                          </a:lnTo>
                          <a:lnTo>
                            <a:pt x="11" y="23"/>
                          </a:lnTo>
                          <a:lnTo>
                            <a:pt x="17" y="17"/>
                          </a:lnTo>
                          <a:lnTo>
                            <a:pt x="22" y="12"/>
                          </a:lnTo>
                          <a:lnTo>
                            <a:pt x="26" y="8"/>
                          </a:lnTo>
                          <a:lnTo>
                            <a:pt x="30" y="5"/>
                          </a:lnTo>
                          <a:lnTo>
                            <a:pt x="32" y="2"/>
                          </a:lnTo>
                          <a:lnTo>
                            <a:pt x="34" y="1"/>
                          </a:lnTo>
                          <a:lnTo>
                            <a:pt x="34" y="0"/>
                          </a:lnTo>
                          <a:lnTo>
                            <a:pt x="3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9" name=""/>
                    <p:cNvSpPr/>
                    <p:nvPr/>
                  </p:nvSpPr>
                  <p:spPr>
                    <a:xfrm flipH="1">
                      <a:off x="10376280" y="6541920"/>
                      <a:ext cx="252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35">
                          <a:moveTo>
                            <a:pt x="0" y="35"/>
                          </a:moveTo>
                          <a:lnTo>
                            <a:pt x="5" y="29"/>
                          </a:lnTo>
                          <a:lnTo>
                            <a:pt x="11" y="23"/>
                          </a:lnTo>
                          <a:lnTo>
                            <a:pt x="17" y="17"/>
                          </a:lnTo>
                          <a:lnTo>
                            <a:pt x="22" y="12"/>
                          </a:lnTo>
                          <a:lnTo>
                            <a:pt x="26" y="8"/>
                          </a:lnTo>
                          <a:lnTo>
                            <a:pt x="30" y="5"/>
                          </a:lnTo>
                          <a:lnTo>
                            <a:pt x="32" y="2"/>
                          </a:lnTo>
                          <a:lnTo>
                            <a:pt x="34" y="1"/>
                          </a:lnTo>
                          <a:lnTo>
                            <a:pt x="34" y="0"/>
                          </a:lnTo>
                          <a:lnTo>
                            <a:pt x="3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0" name=""/>
                    <p:cNvSpPr/>
                    <p:nvPr/>
                  </p:nvSpPr>
                  <p:spPr>
                    <a:xfrm flipH="1">
                      <a:off x="10293120" y="6444000"/>
                      <a:ext cx="117360" cy="496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880" bIns="2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1" name=""/>
                    <p:cNvSpPr/>
                    <p:nvPr/>
                  </p:nvSpPr>
                  <p:spPr>
                    <a:xfrm flipH="1">
                      <a:off x="10300320" y="6495120"/>
                      <a:ext cx="101160" cy="65520"/>
                    </a:xfrm>
                    <a:custGeom>
                      <a:avLst/>
                      <a:gdLst>
                        <a:gd name="textAreaLeft" fmla="*/ 22320 w 101160"/>
                        <a:gd name="textAreaRight" fmla="*/ 78840 w 101160"/>
                        <a:gd name="textAreaTop" fmla="*/ 14400 h 65520"/>
                        <a:gd name="textAreaBottom" fmla="*/ 51120 h 6552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16200" y="21600"/>
                          </a:lnTo>
                          <a:lnTo>
                            <a:pt x="5400" y="2160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080" bIns="-10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022" name=""/>
            <p:cNvSpPr/>
            <p:nvPr/>
          </p:nvSpPr>
          <p:spPr>
            <a:xfrm>
              <a:off x="10137960" y="5999040"/>
              <a:ext cx="802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SUPERVISO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4325040" y="9818640"/>
              <a:ext cx="10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Times New Roman"/>
                </a:rPr>
                <a:t>Rack c/ Micros P/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Times New Roman"/>
                </a:rPr>
                <a:t>Reconheciment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3549600" y="10044000"/>
              <a:ext cx="808200" cy="201600"/>
            </a:xfrm>
            <a:custGeom>
              <a:avLst/>
              <a:gdLst/>
              <a:ahLst/>
              <a:rect l="l" t="t" r="r" b="b"/>
              <a:pathLst>
                <a:path w="509" h="127">
                  <a:moveTo>
                    <a:pt x="509" y="18"/>
                  </a:moveTo>
                  <a:cubicBezTo>
                    <a:pt x="411" y="9"/>
                    <a:pt x="313" y="0"/>
                    <a:pt x="228" y="18"/>
                  </a:cubicBezTo>
                  <a:cubicBezTo>
                    <a:pt x="143" y="36"/>
                    <a:pt x="71" y="81"/>
                    <a:pt x="0" y="12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3562640" y="7226280"/>
              <a:ext cx="117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IRCULAÇÃ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6" name=""/>
            <p:cNvGrpSpPr/>
            <p:nvPr/>
          </p:nvGrpSpPr>
          <p:grpSpPr>
            <a:xfrm>
              <a:off x="22673160" y="13278960"/>
              <a:ext cx="573840" cy="605160"/>
              <a:chOff x="22673160" y="13278960"/>
              <a:chExt cx="573840" cy="605160"/>
            </a:xfrm>
          </p:grpSpPr>
          <p:sp>
            <p:nvSpPr>
              <p:cNvPr id="1027" name=""/>
              <p:cNvSpPr/>
              <p:nvPr/>
            </p:nvSpPr>
            <p:spPr>
              <a:xfrm flipV="1">
                <a:off x="22673160" y="13278600"/>
                <a:ext cx="573840" cy="57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 flipV="1">
                <a:off x="22960080" y="13566600"/>
                <a:ext cx="0" cy="3175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9" name=""/>
            <p:cNvGrpSpPr/>
            <p:nvPr/>
          </p:nvGrpSpPr>
          <p:grpSpPr>
            <a:xfrm>
              <a:off x="22584960" y="12080880"/>
              <a:ext cx="613080" cy="1158120"/>
              <a:chOff x="22584960" y="12080880"/>
              <a:chExt cx="613080" cy="1158120"/>
            </a:xfrm>
          </p:grpSpPr>
          <p:grpSp>
            <p:nvGrpSpPr>
              <p:cNvPr id="1030" name=""/>
              <p:cNvGrpSpPr/>
              <p:nvPr/>
            </p:nvGrpSpPr>
            <p:grpSpPr>
              <a:xfrm>
                <a:off x="22584960" y="12665160"/>
                <a:ext cx="605160" cy="573840"/>
                <a:chOff x="22584960" y="12665160"/>
                <a:chExt cx="605160" cy="573840"/>
              </a:xfrm>
            </p:grpSpPr>
            <p:sp>
              <p:nvSpPr>
                <p:cNvPr id="1031" name=""/>
                <p:cNvSpPr/>
                <p:nvPr/>
              </p:nvSpPr>
              <p:spPr>
                <a:xfrm flipV="1" rot="16200000">
                  <a:off x="22584960" y="12664800"/>
                  <a:ext cx="573840" cy="57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 flipH="1">
                  <a:off x="22872600" y="12952080"/>
                  <a:ext cx="317520" cy="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3" name=""/>
              <p:cNvGrpSpPr/>
              <p:nvPr/>
            </p:nvGrpSpPr>
            <p:grpSpPr>
              <a:xfrm>
                <a:off x="22592880" y="12080880"/>
                <a:ext cx="605160" cy="574560"/>
                <a:chOff x="22592880" y="12080880"/>
                <a:chExt cx="605160" cy="574560"/>
              </a:xfrm>
            </p:grpSpPr>
            <p:sp>
              <p:nvSpPr>
                <p:cNvPr id="1034" name=""/>
                <p:cNvSpPr/>
                <p:nvPr/>
              </p:nvSpPr>
              <p:spPr>
                <a:xfrm flipH="1" flipV="1" rot="16200000">
                  <a:off x="22592160" y="12080880"/>
                  <a:ext cx="574560" cy="57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 flipH="1">
                  <a:off x="22880520" y="12368160"/>
                  <a:ext cx="317520" cy="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36" name=""/>
            <p:cNvGrpSpPr/>
            <p:nvPr/>
          </p:nvGrpSpPr>
          <p:grpSpPr>
            <a:xfrm>
              <a:off x="22599360" y="6610320"/>
              <a:ext cx="613080" cy="1158120"/>
              <a:chOff x="22599360" y="6610320"/>
              <a:chExt cx="613080" cy="1158120"/>
            </a:xfrm>
          </p:grpSpPr>
          <p:grpSp>
            <p:nvGrpSpPr>
              <p:cNvPr id="1037" name=""/>
              <p:cNvGrpSpPr/>
              <p:nvPr/>
            </p:nvGrpSpPr>
            <p:grpSpPr>
              <a:xfrm>
                <a:off x="22599360" y="7194600"/>
                <a:ext cx="605160" cy="573840"/>
                <a:chOff x="22599360" y="7194600"/>
                <a:chExt cx="605160" cy="573840"/>
              </a:xfrm>
            </p:grpSpPr>
            <p:sp>
              <p:nvSpPr>
                <p:cNvPr id="1038" name=""/>
                <p:cNvSpPr/>
                <p:nvPr/>
              </p:nvSpPr>
              <p:spPr>
                <a:xfrm flipV="1" rot="16200000">
                  <a:off x="22599360" y="7194240"/>
                  <a:ext cx="573840" cy="57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 flipH="1">
                  <a:off x="22887000" y="7481520"/>
                  <a:ext cx="317520" cy="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0" name=""/>
              <p:cNvGrpSpPr/>
              <p:nvPr/>
            </p:nvGrpSpPr>
            <p:grpSpPr>
              <a:xfrm>
                <a:off x="22607280" y="6610320"/>
                <a:ext cx="605160" cy="574560"/>
                <a:chOff x="22607280" y="6610320"/>
                <a:chExt cx="605160" cy="574560"/>
              </a:xfrm>
            </p:grpSpPr>
            <p:sp>
              <p:nvSpPr>
                <p:cNvPr id="1041" name=""/>
                <p:cNvSpPr/>
                <p:nvPr/>
              </p:nvSpPr>
              <p:spPr>
                <a:xfrm flipH="1" flipV="1" rot="16200000">
                  <a:off x="22606560" y="6610320"/>
                  <a:ext cx="574560" cy="57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 flipH="1">
                  <a:off x="22894920" y="6897600"/>
                  <a:ext cx="317520" cy="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43" name=""/>
            <p:cNvSpPr/>
            <p:nvPr/>
          </p:nvSpPr>
          <p:spPr>
            <a:xfrm>
              <a:off x="12710520" y="4475160"/>
              <a:ext cx="1262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ANUTENÇÃ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7753320" y="7658280"/>
              <a:ext cx="151257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0212200" y="6610320"/>
              <a:ext cx="2666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1412080" y="11010960"/>
              <a:ext cx="1440000" cy="287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 rot="16200000">
              <a:off x="20427840" y="12187440"/>
              <a:ext cx="1672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ROJEÇÃO DA COBERTUR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8" name=""/>
            <p:cNvGrpSpPr/>
            <p:nvPr/>
          </p:nvGrpSpPr>
          <p:grpSpPr>
            <a:xfrm>
              <a:off x="14808240" y="3564000"/>
              <a:ext cx="541440" cy="360360"/>
              <a:chOff x="14808240" y="3564000"/>
              <a:chExt cx="541440" cy="360360"/>
            </a:xfrm>
          </p:grpSpPr>
          <p:sp>
            <p:nvSpPr>
              <p:cNvPr id="1049" name=""/>
              <p:cNvSpPr/>
              <p:nvPr/>
            </p:nvSpPr>
            <p:spPr>
              <a:xfrm>
                <a:off x="14808240" y="3564000"/>
                <a:ext cx="28728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15170040" y="3646440"/>
                <a:ext cx="179640" cy="179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 rot="5400000">
                <a:off x="14807880" y="3652920"/>
                <a:ext cx="196920" cy="152280"/>
              </a:xfrm>
              <a:custGeom>
                <a:avLst/>
                <a:gdLst>
                  <a:gd name="textAreaLeft" fmla="*/ 43200 w 196920"/>
                  <a:gd name="textAreaRight" fmla="*/ 153720 w 196920"/>
                  <a:gd name="textAreaTop" fmla="*/ 33480 h 152280"/>
                  <a:gd name="textAreaBottom" fmla="*/ 118800 h 15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2" name=""/>
            <p:cNvGrpSpPr/>
            <p:nvPr/>
          </p:nvGrpSpPr>
          <p:grpSpPr>
            <a:xfrm>
              <a:off x="16551360" y="3564000"/>
              <a:ext cx="540720" cy="360360"/>
              <a:chOff x="16551360" y="3564000"/>
              <a:chExt cx="540720" cy="360360"/>
            </a:xfrm>
          </p:grpSpPr>
          <p:sp>
            <p:nvSpPr>
              <p:cNvPr id="1053" name=""/>
              <p:cNvSpPr/>
              <p:nvPr/>
            </p:nvSpPr>
            <p:spPr>
              <a:xfrm flipH="1">
                <a:off x="16804800" y="3564000"/>
                <a:ext cx="28692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 flipH="1">
                <a:off x="16551360" y="3646440"/>
                <a:ext cx="179280" cy="179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 flipH="1" rot="16200000">
                <a:off x="16895520" y="3652920"/>
                <a:ext cx="196920" cy="151920"/>
              </a:xfrm>
              <a:custGeom>
                <a:avLst/>
                <a:gdLst>
                  <a:gd name="textAreaLeft" fmla="*/ 43200 w 196920"/>
                  <a:gd name="textAreaRight" fmla="*/ 153720 w 196920"/>
                  <a:gd name="textAreaTop" fmla="*/ 33480 h 151920"/>
                  <a:gd name="textAreaBottom" fmla="*/ 118440 h 151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6" name=""/>
            <p:cNvSpPr/>
            <p:nvPr/>
          </p:nvSpPr>
          <p:spPr>
            <a:xfrm>
              <a:off x="13849200" y="3629160"/>
              <a:ext cx="382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7" name=""/>
            <p:cNvGrpSpPr/>
            <p:nvPr/>
          </p:nvGrpSpPr>
          <p:grpSpPr>
            <a:xfrm>
              <a:off x="4374720" y="15181200"/>
              <a:ext cx="360360" cy="541440"/>
              <a:chOff x="4374720" y="15181200"/>
              <a:chExt cx="360360" cy="541440"/>
            </a:xfrm>
          </p:grpSpPr>
          <p:sp>
            <p:nvSpPr>
              <p:cNvPr id="1058" name=""/>
              <p:cNvSpPr/>
              <p:nvPr/>
            </p:nvSpPr>
            <p:spPr>
              <a:xfrm rot="5400000">
                <a:off x="4411080" y="15144480"/>
                <a:ext cx="28728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 rot="5400000">
                <a:off x="4473000" y="15543000"/>
                <a:ext cx="179640" cy="179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 rot="10800000">
                <a:off x="4471560" y="15203160"/>
                <a:ext cx="196920" cy="152280"/>
              </a:xfrm>
              <a:custGeom>
                <a:avLst/>
                <a:gdLst>
                  <a:gd name="textAreaLeft" fmla="*/ 43200 w 196920"/>
                  <a:gd name="textAreaRight" fmla="*/ 153720 w 196920"/>
                  <a:gd name="textAreaTop" fmla="*/ 33480 h 152280"/>
                  <a:gd name="textAreaBottom" fmla="*/ 118800 h 15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1" name=""/>
            <p:cNvGrpSpPr/>
            <p:nvPr/>
          </p:nvGrpSpPr>
          <p:grpSpPr>
            <a:xfrm>
              <a:off x="5241600" y="15181200"/>
              <a:ext cx="360360" cy="541440"/>
              <a:chOff x="5241600" y="15181200"/>
              <a:chExt cx="360360" cy="541440"/>
            </a:xfrm>
          </p:grpSpPr>
          <p:sp>
            <p:nvSpPr>
              <p:cNvPr id="1062" name=""/>
              <p:cNvSpPr/>
              <p:nvPr/>
            </p:nvSpPr>
            <p:spPr>
              <a:xfrm rot="5400000">
                <a:off x="5277960" y="15144480"/>
                <a:ext cx="28728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 rot="5400000">
                <a:off x="5339880" y="15543000"/>
                <a:ext cx="179640" cy="179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 rot="10800000">
                <a:off x="5338440" y="15203160"/>
                <a:ext cx="196920" cy="152280"/>
              </a:xfrm>
              <a:custGeom>
                <a:avLst/>
                <a:gdLst>
                  <a:gd name="textAreaLeft" fmla="*/ 43200 w 196920"/>
                  <a:gd name="textAreaRight" fmla="*/ 153720 w 196920"/>
                  <a:gd name="textAreaTop" fmla="*/ 33480 h 152280"/>
                  <a:gd name="textAreaBottom" fmla="*/ 118800 h 15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5" name=""/>
            <p:cNvSpPr/>
            <p:nvPr/>
          </p:nvSpPr>
          <p:spPr>
            <a:xfrm>
              <a:off x="9433440" y="5388120"/>
              <a:ext cx="10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Times New Roman"/>
                </a:rPr>
                <a:t>Rack c/ Micros P/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Times New Roman"/>
                </a:rPr>
                <a:t>Reconheciment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9698040" y="5715000"/>
              <a:ext cx="476280" cy="5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1864600" y="4849920"/>
              <a:ext cx="360360" cy="17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8" name=""/>
            <p:cNvGrpSpPr/>
            <p:nvPr/>
          </p:nvGrpSpPr>
          <p:grpSpPr>
            <a:xfrm>
              <a:off x="23158440" y="4692600"/>
              <a:ext cx="1060560" cy="181080"/>
              <a:chOff x="23158440" y="4692600"/>
              <a:chExt cx="1060560" cy="181080"/>
            </a:xfrm>
          </p:grpSpPr>
          <p:sp>
            <p:nvSpPr>
              <p:cNvPr id="1069" name=""/>
              <p:cNvSpPr/>
              <p:nvPr/>
            </p:nvSpPr>
            <p:spPr>
              <a:xfrm>
                <a:off x="23158440" y="4694400"/>
                <a:ext cx="360360" cy="179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23510880" y="4692600"/>
                <a:ext cx="360360" cy="179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23858640" y="4692600"/>
                <a:ext cx="360360" cy="179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2" name=""/>
            <p:cNvSpPr/>
            <p:nvPr/>
          </p:nvSpPr>
          <p:spPr>
            <a:xfrm rot="16200000">
              <a:off x="22827960" y="5693760"/>
              <a:ext cx="360360" cy="179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 rot="16200000">
              <a:off x="22836240" y="5343120"/>
              <a:ext cx="360360" cy="17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rot="16200000">
              <a:off x="22836240" y="4995360"/>
              <a:ext cx="360360" cy="17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 rot="16200000">
              <a:off x="22839120" y="6403320"/>
              <a:ext cx="360360" cy="179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 rot="16200000">
              <a:off x="22839120" y="6054120"/>
              <a:ext cx="360360" cy="179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rot="16200000">
              <a:off x="22831200" y="8465760"/>
              <a:ext cx="360360" cy="179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 rot="16200000">
              <a:off x="22826520" y="8114760"/>
              <a:ext cx="360360" cy="179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 rot="16200000">
              <a:off x="22826520" y="7767000"/>
              <a:ext cx="360360" cy="179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 rot="16200000">
              <a:off x="22829760" y="9175320"/>
              <a:ext cx="360360" cy="179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 rot="16200000">
              <a:off x="22829760" y="8826120"/>
              <a:ext cx="360360" cy="179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 rot="16200000">
              <a:off x="22831200" y="10237320"/>
              <a:ext cx="360360" cy="179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 rot="16200000">
              <a:off x="22826520" y="9886320"/>
              <a:ext cx="360360" cy="179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 rot="16200000">
              <a:off x="22826520" y="9538920"/>
              <a:ext cx="360360" cy="179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 rot="16200000">
              <a:off x="22829760" y="10946880"/>
              <a:ext cx="360360" cy="179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 rot="16200000">
              <a:off x="22829760" y="10597680"/>
              <a:ext cx="360360" cy="179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 rot="16200000">
              <a:off x="22831200" y="12018600"/>
              <a:ext cx="360360" cy="179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 rot="16200000">
              <a:off x="22826520" y="11667600"/>
              <a:ext cx="360360" cy="179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 rot="16200000">
              <a:off x="22826520" y="11319840"/>
              <a:ext cx="360360" cy="179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3620680" y="5810400"/>
              <a:ext cx="1517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GRUPO 02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C/ 16 ESTANTES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3601600" y="6534000"/>
              <a:ext cx="1517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GRUPO 03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C/ 16 ESTANTES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3601600" y="7296120"/>
              <a:ext cx="1517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GRUPO 04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C/ 16 ESTANTES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3611320" y="8048520"/>
              <a:ext cx="1517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GRUPO 05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C/ 16 ESTANTES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3620680" y="8791560"/>
              <a:ext cx="1517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GRUPO 06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C/ 16 ESTANTES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3620680" y="9524880"/>
              <a:ext cx="1517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GRUPO 07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C/ 16 ESTANTES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3630400" y="10267920"/>
              <a:ext cx="1517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GRUPO 08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C/ 16 ESTANTES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23620680" y="11010960"/>
              <a:ext cx="1517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GRUPO 09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C/ 16 ESTANTES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23630400" y="11754000"/>
              <a:ext cx="1517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GRUPO 10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C/ 16 ESTANTES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3620680" y="12458880"/>
              <a:ext cx="1517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GRUPO 11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C/ 16 ESTANTES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0" name=""/>
            <p:cNvGrpSpPr/>
            <p:nvPr/>
          </p:nvGrpSpPr>
          <p:grpSpPr>
            <a:xfrm>
              <a:off x="25435080" y="4683240"/>
              <a:ext cx="1059840" cy="180360"/>
              <a:chOff x="25435080" y="4683240"/>
              <a:chExt cx="1059840" cy="180360"/>
            </a:xfrm>
          </p:grpSpPr>
          <p:sp>
            <p:nvSpPr>
              <p:cNvPr id="1101" name=""/>
              <p:cNvSpPr/>
              <p:nvPr/>
            </p:nvSpPr>
            <p:spPr>
              <a:xfrm>
                <a:off x="25435080" y="4684680"/>
                <a:ext cx="360000" cy="17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25787160" y="4683240"/>
                <a:ext cx="360000" cy="17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26134920" y="4683240"/>
                <a:ext cx="360000" cy="17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4" name=""/>
            <p:cNvSpPr/>
            <p:nvPr/>
          </p:nvSpPr>
          <p:spPr>
            <a:xfrm>
              <a:off x="25154280" y="4867200"/>
              <a:ext cx="1491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GRUPO 12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C/  3 ESTANTES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23077800" y="4867200"/>
              <a:ext cx="1491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GRUPO 13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C/  3 ESTANTES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 rot="16200000">
              <a:off x="22477680" y="5742000"/>
              <a:ext cx="1491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GRUPO 14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C/  5 ESTANTES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 rot="16200000">
              <a:off x="22429440" y="9902520"/>
              <a:ext cx="1569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GRUPO 15 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C/  13 ESTANTES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8" name=""/>
          <p:cNvGrpSpPr/>
          <p:nvPr/>
        </p:nvGrpSpPr>
        <p:grpSpPr>
          <a:xfrm>
            <a:off x="6566040" y="16438680"/>
            <a:ext cx="13876920" cy="5105520"/>
            <a:chOff x="6566040" y="16438680"/>
            <a:chExt cx="13876920" cy="5105520"/>
          </a:xfrm>
        </p:grpSpPr>
        <p:sp>
          <p:nvSpPr>
            <p:cNvPr id="1109" name=""/>
            <p:cNvSpPr/>
            <p:nvPr/>
          </p:nvSpPr>
          <p:spPr>
            <a:xfrm>
              <a:off x="13217040" y="16438680"/>
              <a:ext cx="28936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ACK DA RE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ACK DOS SERVIDORES DA DE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 flipH="1">
              <a:off x="12974400" y="16654320"/>
              <a:ext cx="345960" cy="73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1" name=""/>
            <p:cNvGrpSpPr/>
            <p:nvPr/>
          </p:nvGrpSpPr>
          <p:grpSpPr>
            <a:xfrm>
              <a:off x="6566040" y="17311680"/>
              <a:ext cx="13617360" cy="4226760"/>
              <a:chOff x="6566040" y="17311680"/>
              <a:chExt cx="13617360" cy="4226760"/>
            </a:xfrm>
          </p:grpSpPr>
          <p:grpSp>
            <p:nvGrpSpPr>
              <p:cNvPr id="1112" name=""/>
              <p:cNvGrpSpPr/>
              <p:nvPr/>
            </p:nvGrpSpPr>
            <p:grpSpPr>
              <a:xfrm>
                <a:off x="6566040" y="17311680"/>
                <a:ext cx="13617360" cy="4226760"/>
                <a:chOff x="6566040" y="17311680"/>
                <a:chExt cx="13617360" cy="4226760"/>
              </a:xfrm>
            </p:grpSpPr>
            <p:sp>
              <p:nvSpPr>
                <p:cNvPr id="1113" name=""/>
                <p:cNvSpPr/>
                <p:nvPr/>
              </p:nvSpPr>
              <p:spPr>
                <a:xfrm>
                  <a:off x="11396520" y="18822960"/>
                  <a:ext cx="495360" cy="1635120"/>
                </a:xfrm>
                <a:prstGeom prst="rect">
                  <a:avLst/>
                </a:prstGeom>
                <a:blipFill rotWithShape="0">
                  <a:blip r:embed="rId1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>
                  <a:off x="6566040" y="17321040"/>
                  <a:ext cx="13617360" cy="39830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11944440" y="18822960"/>
                  <a:ext cx="495360" cy="1635120"/>
                </a:xfrm>
                <a:prstGeom prst="rect">
                  <a:avLst/>
                </a:prstGeom>
                <a:blipFill rotWithShape="0">
                  <a:blip r:embed="rId1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>
                  <a:off x="9118440" y="17311680"/>
                  <a:ext cx="0" cy="3200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>
                  <a:off x="12509640" y="17349840"/>
                  <a:ext cx="0" cy="3200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17119440" y="17311680"/>
                  <a:ext cx="0" cy="3200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>
                  <a:off x="14033520" y="17349840"/>
                  <a:ext cx="0" cy="3200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>
                  <a:off x="11391840" y="17373600"/>
                  <a:ext cx="1085760" cy="1371600"/>
                </a:xfrm>
                <a:prstGeom prst="rect">
                  <a:avLst/>
                </a:prstGeom>
                <a:blipFill rotWithShape="0">
                  <a:blip r:embed="rId1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15576480" y="17349840"/>
                  <a:ext cx="0" cy="3200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>
                  <a:off x="18662760" y="17311680"/>
                  <a:ext cx="0" cy="3981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23" name=""/>
                <p:cNvGrpSpPr/>
                <p:nvPr/>
              </p:nvGrpSpPr>
              <p:grpSpPr>
                <a:xfrm>
                  <a:off x="18249840" y="20154960"/>
                  <a:ext cx="612000" cy="630360"/>
                  <a:chOff x="18249840" y="20154960"/>
                  <a:chExt cx="612000" cy="630360"/>
                </a:xfrm>
              </p:grpSpPr>
              <p:sp>
                <p:nvSpPr>
                  <p:cNvPr id="1124" name=""/>
                  <p:cNvSpPr/>
                  <p:nvPr/>
                </p:nvSpPr>
                <p:spPr>
                  <a:xfrm flipH="1">
                    <a:off x="18249840" y="20173680"/>
                    <a:ext cx="612000" cy="611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5" name=""/>
                  <p:cNvSpPr/>
                  <p:nvPr/>
                </p:nvSpPr>
                <p:spPr>
                  <a:xfrm flipV="1">
                    <a:off x="18573840" y="20154960"/>
                    <a:ext cx="0" cy="342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26" name=""/>
                <p:cNvGrpSpPr/>
                <p:nvPr/>
              </p:nvGrpSpPr>
              <p:grpSpPr>
                <a:xfrm>
                  <a:off x="18410040" y="20926440"/>
                  <a:ext cx="630360" cy="612000"/>
                  <a:chOff x="18410040" y="20926440"/>
                  <a:chExt cx="630360" cy="612000"/>
                </a:xfrm>
              </p:grpSpPr>
              <p:sp>
                <p:nvSpPr>
                  <p:cNvPr id="1127" name=""/>
                  <p:cNvSpPr/>
                  <p:nvPr/>
                </p:nvSpPr>
                <p:spPr>
                  <a:xfrm flipH="1" rot="5400000">
                    <a:off x="18409320" y="20926440"/>
                    <a:ext cx="612000" cy="611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8" name=""/>
                  <p:cNvSpPr/>
                  <p:nvPr/>
                </p:nvSpPr>
                <p:spPr>
                  <a:xfrm>
                    <a:off x="18697680" y="21250440"/>
                    <a:ext cx="342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29" name=""/>
              <p:cNvGrpSpPr/>
              <p:nvPr/>
            </p:nvGrpSpPr>
            <p:grpSpPr>
              <a:xfrm>
                <a:off x="15220800" y="20193120"/>
                <a:ext cx="612000" cy="630360"/>
                <a:chOff x="15220800" y="20193120"/>
                <a:chExt cx="612000" cy="630360"/>
              </a:xfrm>
            </p:grpSpPr>
            <p:sp>
              <p:nvSpPr>
                <p:cNvPr id="1130" name=""/>
                <p:cNvSpPr/>
                <p:nvPr/>
              </p:nvSpPr>
              <p:spPr>
                <a:xfrm flipH="1">
                  <a:off x="15220800" y="20211840"/>
                  <a:ext cx="612000" cy="611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 flipV="1">
                  <a:off x="15544800" y="20193120"/>
                  <a:ext cx="0" cy="342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2" name=""/>
              <p:cNvGrpSpPr/>
              <p:nvPr/>
            </p:nvGrpSpPr>
            <p:grpSpPr>
              <a:xfrm>
                <a:off x="16751160" y="20179800"/>
                <a:ext cx="612000" cy="630720"/>
                <a:chOff x="16751160" y="20179800"/>
                <a:chExt cx="612000" cy="630720"/>
              </a:xfrm>
            </p:grpSpPr>
            <p:sp>
              <p:nvSpPr>
                <p:cNvPr id="1133" name=""/>
                <p:cNvSpPr/>
                <p:nvPr/>
              </p:nvSpPr>
              <p:spPr>
                <a:xfrm flipH="1">
                  <a:off x="16751160" y="20198160"/>
                  <a:ext cx="612000" cy="612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 flipV="1">
                  <a:off x="17075160" y="20179800"/>
                  <a:ext cx="0" cy="343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5" name=""/>
              <p:cNvGrpSpPr/>
              <p:nvPr/>
            </p:nvGrpSpPr>
            <p:grpSpPr>
              <a:xfrm>
                <a:off x="10953720" y="20193120"/>
                <a:ext cx="612000" cy="630360"/>
                <a:chOff x="10953720" y="20193120"/>
                <a:chExt cx="612000" cy="630360"/>
              </a:xfrm>
            </p:grpSpPr>
            <p:sp>
              <p:nvSpPr>
                <p:cNvPr id="1136" name=""/>
                <p:cNvSpPr/>
                <p:nvPr/>
              </p:nvSpPr>
              <p:spPr>
                <a:xfrm flipH="1">
                  <a:off x="10953720" y="20211840"/>
                  <a:ext cx="612000" cy="611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 flipV="1">
                  <a:off x="11277720" y="20193120"/>
                  <a:ext cx="0" cy="342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38" name=""/>
              <p:cNvSpPr/>
              <p:nvPr/>
            </p:nvSpPr>
            <p:spPr>
              <a:xfrm>
                <a:off x="9145440" y="20526480"/>
                <a:ext cx="9536400" cy="765000"/>
              </a:xfrm>
              <a:prstGeom prst="rect">
                <a:avLst/>
              </a:prstGeom>
              <a:blipFill rotWithShape="0">
                <a:blip r:embed="rId2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39" name=""/>
              <p:cNvGrpSpPr/>
              <p:nvPr/>
            </p:nvGrpSpPr>
            <p:grpSpPr>
              <a:xfrm>
                <a:off x="8759880" y="20894760"/>
                <a:ext cx="630360" cy="611280"/>
                <a:chOff x="8759880" y="20894760"/>
                <a:chExt cx="630360" cy="611280"/>
              </a:xfrm>
            </p:grpSpPr>
            <p:sp>
              <p:nvSpPr>
                <p:cNvPr id="1140" name=""/>
                <p:cNvSpPr/>
                <p:nvPr/>
              </p:nvSpPr>
              <p:spPr>
                <a:xfrm rot="16200000">
                  <a:off x="8778600" y="20894400"/>
                  <a:ext cx="611280" cy="611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 flipH="1">
                  <a:off x="8759880" y="21218400"/>
                  <a:ext cx="342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2" name=""/>
              <p:cNvGrpSpPr/>
              <p:nvPr/>
            </p:nvGrpSpPr>
            <p:grpSpPr>
              <a:xfrm>
                <a:off x="13654080" y="20163960"/>
                <a:ext cx="612000" cy="630720"/>
                <a:chOff x="13654080" y="20163960"/>
                <a:chExt cx="612000" cy="630720"/>
              </a:xfrm>
            </p:grpSpPr>
            <p:sp>
              <p:nvSpPr>
                <p:cNvPr id="1143" name=""/>
                <p:cNvSpPr/>
                <p:nvPr/>
              </p:nvSpPr>
              <p:spPr>
                <a:xfrm flipH="1">
                  <a:off x="13654080" y="20182320"/>
                  <a:ext cx="612000" cy="612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 flipV="1">
                  <a:off x="13978080" y="20163960"/>
                  <a:ext cx="0" cy="343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45" name=""/>
            <p:cNvGrpSpPr/>
            <p:nvPr/>
          </p:nvGrpSpPr>
          <p:grpSpPr>
            <a:xfrm>
              <a:off x="6648480" y="17037000"/>
              <a:ext cx="13794480" cy="4507200"/>
              <a:chOff x="6648480" y="17037000"/>
              <a:chExt cx="13794480" cy="4507200"/>
            </a:xfrm>
          </p:grpSpPr>
          <p:sp>
            <p:nvSpPr>
              <p:cNvPr id="1146" name=""/>
              <p:cNvSpPr/>
              <p:nvPr/>
            </p:nvSpPr>
            <p:spPr>
              <a:xfrm>
                <a:off x="10877400" y="17735400"/>
                <a:ext cx="0" cy="169560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47" name=""/>
              <p:cNvGrpSpPr/>
              <p:nvPr/>
            </p:nvGrpSpPr>
            <p:grpSpPr>
              <a:xfrm>
                <a:off x="12610800" y="17749800"/>
                <a:ext cx="517320" cy="608040"/>
                <a:chOff x="12610800" y="17749800"/>
                <a:chExt cx="517320" cy="608040"/>
              </a:xfrm>
            </p:grpSpPr>
            <p:grpSp>
              <p:nvGrpSpPr>
                <p:cNvPr id="1148" name=""/>
                <p:cNvGrpSpPr/>
                <p:nvPr/>
              </p:nvGrpSpPr>
              <p:grpSpPr>
                <a:xfrm>
                  <a:off x="12966480" y="17970120"/>
                  <a:ext cx="161640" cy="162360"/>
                  <a:chOff x="12966480" y="17970120"/>
                  <a:chExt cx="161640" cy="162360"/>
                </a:xfrm>
              </p:grpSpPr>
              <p:sp>
                <p:nvSpPr>
                  <p:cNvPr id="1149" name=""/>
                  <p:cNvSpPr/>
                  <p:nvPr/>
                </p:nvSpPr>
                <p:spPr>
                  <a:xfrm flipH="1" flipV="1" rot="16200000">
                    <a:off x="13038480" y="18069120"/>
                    <a:ext cx="36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0" name=""/>
                  <p:cNvSpPr/>
                  <p:nvPr/>
                </p:nvSpPr>
                <p:spPr>
                  <a:xfrm flipH="1" flipV="1" rot="16200000">
                    <a:off x="13038480" y="18082440"/>
                    <a:ext cx="36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1" name=""/>
                  <p:cNvSpPr/>
                  <p:nvPr/>
                </p:nvSpPr>
                <p:spPr>
                  <a:xfrm flipH="1" flipV="1" rot="16200000">
                    <a:off x="13038120" y="17920800"/>
                    <a:ext cx="108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2" name=""/>
                  <p:cNvSpPr/>
                  <p:nvPr/>
                </p:nvSpPr>
                <p:spPr>
                  <a:xfrm flipH="1" flipV="1" rot="16200000">
                    <a:off x="13038120" y="17934120"/>
                    <a:ext cx="144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3" name=""/>
                  <p:cNvSpPr/>
                  <p:nvPr/>
                </p:nvSpPr>
                <p:spPr>
                  <a:xfrm flipH="1" flipV="1" rot="16200000">
                    <a:off x="13025880" y="17955360"/>
                    <a:ext cx="36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925">
                        <a:moveTo>
                          <a:pt x="0" y="0"/>
                        </a:moveTo>
                        <a:lnTo>
                          <a:pt x="18" y="1925"/>
                        </a:lnTo>
                        <a:lnTo>
                          <a:pt x="19" y="1925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4" name=""/>
                  <p:cNvSpPr/>
                  <p:nvPr/>
                </p:nvSpPr>
                <p:spPr>
                  <a:xfrm flipH="1" flipV="1" rot="16200000">
                    <a:off x="12970080" y="17988480"/>
                    <a:ext cx="2016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8" h="605">
                        <a:moveTo>
                          <a:pt x="0" y="0"/>
                        </a:moveTo>
                        <a:lnTo>
                          <a:pt x="184" y="396"/>
                        </a:lnTo>
                        <a:lnTo>
                          <a:pt x="567" y="605"/>
                        </a:lnTo>
                        <a:lnTo>
                          <a:pt x="568" y="605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5" name=""/>
                  <p:cNvSpPr/>
                  <p:nvPr/>
                </p:nvSpPr>
                <p:spPr>
                  <a:xfrm flipH="1" flipV="1" rot="16200000">
                    <a:off x="12927240" y="18049320"/>
                    <a:ext cx="8136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269" h="103">
                        <a:moveTo>
                          <a:pt x="0" y="2"/>
                        </a:moveTo>
                        <a:lnTo>
                          <a:pt x="1135" y="103"/>
                        </a:lnTo>
                        <a:lnTo>
                          <a:pt x="2268" y="0"/>
                        </a:lnTo>
                        <a:lnTo>
                          <a:pt x="2269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6" name=""/>
                  <p:cNvSpPr/>
                  <p:nvPr/>
                </p:nvSpPr>
                <p:spPr>
                  <a:xfrm flipH="1" flipV="1" rot="16200000">
                    <a:off x="12970080" y="18090360"/>
                    <a:ext cx="2016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8" h="605">
                        <a:moveTo>
                          <a:pt x="0" y="605"/>
                        </a:moveTo>
                        <a:lnTo>
                          <a:pt x="382" y="396"/>
                        </a:lnTo>
                        <a:lnTo>
                          <a:pt x="567" y="0"/>
                        </a:lnTo>
                        <a:lnTo>
                          <a:pt x="568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7" name=""/>
                  <p:cNvSpPr/>
                  <p:nvPr/>
                </p:nvSpPr>
                <p:spPr>
                  <a:xfrm flipH="1" flipV="1" rot="16200000">
                    <a:off x="13025880" y="18077400"/>
                    <a:ext cx="36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925">
                        <a:moveTo>
                          <a:pt x="0" y="1925"/>
                        </a:moveTo>
                        <a:lnTo>
                          <a:pt x="16" y="0"/>
                        </a:lnTo>
                        <a:lnTo>
                          <a:pt x="17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8" name=""/>
                  <p:cNvSpPr/>
                  <p:nvPr/>
                </p:nvSpPr>
                <p:spPr>
                  <a:xfrm flipH="1" flipV="1" rot="16200000">
                    <a:off x="13062240" y="18084240"/>
                    <a:ext cx="2556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745" h="787">
                        <a:moveTo>
                          <a:pt x="745" y="787"/>
                        </a:moveTo>
                        <a:lnTo>
                          <a:pt x="623" y="420"/>
                        </a:lnTo>
                        <a:lnTo>
                          <a:pt x="358" y="14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9" name=""/>
                  <p:cNvSpPr/>
                  <p:nvPr/>
                </p:nvSpPr>
                <p:spPr>
                  <a:xfrm flipH="1" flipV="1" rot="16200000">
                    <a:off x="13055760" y="18048960"/>
                    <a:ext cx="7020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1947" h="77">
                        <a:moveTo>
                          <a:pt x="1947" y="76"/>
                        </a:moveTo>
                        <a:lnTo>
                          <a:pt x="974" y="0"/>
                        </a:lnTo>
                        <a:lnTo>
                          <a:pt x="0" y="77"/>
                        </a:lnTo>
                        <a:lnTo>
                          <a:pt x="1" y="77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0" name=""/>
                  <p:cNvSpPr/>
                  <p:nvPr/>
                </p:nvSpPr>
                <p:spPr>
                  <a:xfrm flipH="1" flipV="1" rot="16200000">
                    <a:off x="13061880" y="17988480"/>
                    <a:ext cx="2592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744" h="788">
                        <a:moveTo>
                          <a:pt x="744" y="0"/>
                        </a:moveTo>
                        <a:lnTo>
                          <a:pt x="386" y="141"/>
                        </a:lnTo>
                        <a:lnTo>
                          <a:pt x="121" y="421"/>
                        </a:lnTo>
                        <a:lnTo>
                          <a:pt x="0" y="788"/>
                        </a:lnTo>
                        <a:lnTo>
                          <a:pt x="1" y="788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1" name=""/>
                  <p:cNvSpPr/>
                  <p:nvPr/>
                </p:nvSpPr>
                <p:spPr>
                  <a:xfrm flipH="1" flipV="1" rot="16200000">
                    <a:off x="12982320" y="18124920"/>
                    <a:ext cx="129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50" h="0">
                        <a:moveTo>
                          <a:pt x="0" y="0"/>
                        </a:moveTo>
                        <a:lnTo>
                          <a:pt x="349" y="0"/>
                        </a:lnTo>
                        <a:lnTo>
                          <a:pt x="350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2" name=""/>
                  <p:cNvSpPr/>
                  <p:nvPr/>
                </p:nvSpPr>
                <p:spPr>
                  <a:xfrm flipH="1" flipV="1" rot="16200000">
                    <a:off x="12982680" y="17975880"/>
                    <a:ext cx="1260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49" h="0">
                        <a:moveTo>
                          <a:pt x="349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3" name=""/>
                  <p:cNvSpPr/>
                  <p:nvPr/>
                </p:nvSpPr>
                <p:spPr>
                  <a:xfrm flipH="1" flipV="1" rot="16200000">
                    <a:off x="13080960" y="18124920"/>
                    <a:ext cx="129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50" h="0">
                        <a:moveTo>
                          <a:pt x="0" y="0"/>
                        </a:moveTo>
                        <a:lnTo>
                          <a:pt x="349" y="0"/>
                        </a:lnTo>
                        <a:lnTo>
                          <a:pt x="350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4" name=""/>
                  <p:cNvSpPr/>
                  <p:nvPr/>
                </p:nvSpPr>
                <p:spPr>
                  <a:xfrm flipH="1" flipV="1" rot="16200000">
                    <a:off x="13084200" y="18050040"/>
                    <a:ext cx="2412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8" h="0">
                        <a:moveTo>
                          <a:pt x="698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5" name=""/>
                  <p:cNvSpPr/>
                  <p:nvPr/>
                </p:nvSpPr>
                <p:spPr>
                  <a:xfrm flipH="1" flipV="1" rot="16200000">
                    <a:off x="13093560" y="18061560"/>
                    <a:ext cx="144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33">
                        <a:moveTo>
                          <a:pt x="0" y="133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6" name=""/>
                  <p:cNvSpPr/>
                  <p:nvPr/>
                </p:nvSpPr>
                <p:spPr>
                  <a:xfrm flipH="1" flipV="1" rot="16200000">
                    <a:off x="13094280" y="18036360"/>
                    <a:ext cx="36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34">
                        <a:moveTo>
                          <a:pt x="0" y="134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7" name=""/>
                  <p:cNvSpPr/>
                  <p:nvPr/>
                </p:nvSpPr>
                <p:spPr>
                  <a:xfrm flipH="1" flipV="1" rot="16200000">
                    <a:off x="13081320" y="17975880"/>
                    <a:ext cx="1260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49" h="0">
                        <a:moveTo>
                          <a:pt x="349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8" name=""/>
                  <p:cNvSpPr/>
                  <p:nvPr/>
                </p:nvSpPr>
                <p:spPr>
                  <a:xfrm flipH="1" flipV="1" rot="16200000">
                    <a:off x="13056840" y="18040680"/>
                    <a:ext cx="12168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3444" h="562">
                        <a:moveTo>
                          <a:pt x="3405" y="560"/>
                        </a:moveTo>
                        <a:lnTo>
                          <a:pt x="3444" y="429"/>
                        </a:lnTo>
                        <a:lnTo>
                          <a:pt x="3366" y="316"/>
                        </a:lnTo>
                        <a:lnTo>
                          <a:pt x="2559" y="78"/>
                        </a:lnTo>
                        <a:lnTo>
                          <a:pt x="1722" y="0"/>
                        </a:lnTo>
                        <a:lnTo>
                          <a:pt x="884" y="79"/>
                        </a:lnTo>
                        <a:lnTo>
                          <a:pt x="78" y="318"/>
                        </a:lnTo>
                        <a:lnTo>
                          <a:pt x="0" y="430"/>
                        </a:lnTo>
                        <a:lnTo>
                          <a:pt x="39" y="562"/>
                        </a:lnTo>
                        <a:lnTo>
                          <a:pt x="40" y="562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9" name=""/>
                  <p:cNvSpPr/>
                  <p:nvPr/>
                </p:nvSpPr>
                <p:spPr>
                  <a:xfrm flipH="1" flipV="1" rot="16200000">
                    <a:off x="13046760" y="18036360"/>
                    <a:ext cx="11304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52" h="740">
                        <a:moveTo>
                          <a:pt x="3152" y="738"/>
                        </a:moveTo>
                        <a:lnTo>
                          <a:pt x="3126" y="512"/>
                        </a:lnTo>
                        <a:lnTo>
                          <a:pt x="2966" y="350"/>
                        </a:lnTo>
                        <a:lnTo>
                          <a:pt x="2290" y="101"/>
                        </a:lnTo>
                        <a:lnTo>
                          <a:pt x="1576" y="0"/>
                        </a:lnTo>
                        <a:lnTo>
                          <a:pt x="862" y="102"/>
                        </a:lnTo>
                        <a:lnTo>
                          <a:pt x="186" y="352"/>
                        </a:lnTo>
                        <a:lnTo>
                          <a:pt x="26" y="514"/>
                        </a:lnTo>
                        <a:lnTo>
                          <a:pt x="0" y="740"/>
                        </a:lnTo>
                        <a:lnTo>
                          <a:pt x="1" y="74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0" name=""/>
                  <p:cNvSpPr/>
                  <p:nvPr/>
                </p:nvSpPr>
                <p:spPr>
                  <a:xfrm flipH="1" flipV="1" rot="16200000">
                    <a:off x="13073760" y="18015120"/>
                    <a:ext cx="3564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023" h="298">
                        <a:moveTo>
                          <a:pt x="1023" y="0"/>
                        </a:moveTo>
                        <a:lnTo>
                          <a:pt x="496" y="98"/>
                        </a:lnTo>
                        <a:lnTo>
                          <a:pt x="0" y="298"/>
                        </a:lnTo>
                        <a:lnTo>
                          <a:pt x="2" y="298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1" name=""/>
                  <p:cNvSpPr/>
                  <p:nvPr/>
                </p:nvSpPr>
                <p:spPr>
                  <a:xfrm flipH="1" flipV="1" rot="16200000">
                    <a:off x="13083120" y="17996040"/>
                    <a:ext cx="828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203" h="97">
                        <a:moveTo>
                          <a:pt x="0" y="0"/>
                        </a:moveTo>
                        <a:lnTo>
                          <a:pt x="78" y="97"/>
                        </a:lnTo>
                        <a:lnTo>
                          <a:pt x="201" y="93"/>
                        </a:lnTo>
                        <a:lnTo>
                          <a:pt x="203" y="9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2" name=""/>
                  <p:cNvSpPr/>
                  <p:nvPr/>
                </p:nvSpPr>
                <p:spPr>
                  <a:xfrm flipH="1" flipV="1" rot="16200000">
                    <a:off x="13095720" y="17983440"/>
                    <a:ext cx="432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496">
                        <a:moveTo>
                          <a:pt x="109" y="496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3" name=""/>
                  <p:cNvSpPr/>
                  <p:nvPr/>
                </p:nvSpPr>
                <p:spPr>
                  <a:xfrm flipH="1" flipV="1" rot="16200000">
                    <a:off x="13108680" y="17987760"/>
                    <a:ext cx="288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160">
                        <a:moveTo>
                          <a:pt x="84" y="0"/>
                        </a:moveTo>
                        <a:lnTo>
                          <a:pt x="13" y="64"/>
                        </a:lnTo>
                        <a:lnTo>
                          <a:pt x="0" y="160"/>
                        </a:lnTo>
                        <a:lnTo>
                          <a:pt x="1" y="16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4" name=""/>
                  <p:cNvSpPr/>
                  <p:nvPr/>
                </p:nvSpPr>
                <p:spPr>
                  <a:xfrm flipH="1" flipV="1" rot="16200000">
                    <a:off x="13108680" y="18106560"/>
                    <a:ext cx="288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159">
                        <a:moveTo>
                          <a:pt x="84" y="159"/>
                        </a:moveTo>
                        <a:lnTo>
                          <a:pt x="71" y="64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5" name=""/>
                  <p:cNvSpPr/>
                  <p:nvPr/>
                </p:nvSpPr>
                <p:spPr>
                  <a:xfrm flipH="1" flipV="1" rot="16200000">
                    <a:off x="13096080" y="18100800"/>
                    <a:ext cx="396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496">
                        <a:moveTo>
                          <a:pt x="109" y="0"/>
                        </a:moveTo>
                        <a:lnTo>
                          <a:pt x="0" y="496"/>
                        </a:lnTo>
                        <a:lnTo>
                          <a:pt x="1" y="496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6" name=""/>
                  <p:cNvSpPr/>
                  <p:nvPr/>
                </p:nvSpPr>
                <p:spPr>
                  <a:xfrm flipH="1" flipV="1" rot="16200000">
                    <a:off x="13083120" y="18100800"/>
                    <a:ext cx="828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202" h="98">
                        <a:moveTo>
                          <a:pt x="0" y="94"/>
                        </a:moveTo>
                        <a:lnTo>
                          <a:pt x="124" y="98"/>
                        </a:lnTo>
                        <a:lnTo>
                          <a:pt x="201" y="0"/>
                        </a:lnTo>
                        <a:lnTo>
                          <a:pt x="202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7" name=""/>
                  <p:cNvSpPr/>
                  <p:nvPr/>
                </p:nvSpPr>
                <p:spPr>
                  <a:xfrm flipH="1" flipV="1" rot="16200000">
                    <a:off x="13073760" y="18075960"/>
                    <a:ext cx="3600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021" h="297">
                        <a:moveTo>
                          <a:pt x="1021" y="297"/>
                        </a:moveTo>
                        <a:lnTo>
                          <a:pt x="525" y="97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78" name=""/>
                <p:cNvGrpSpPr/>
                <p:nvPr/>
              </p:nvGrpSpPr>
              <p:grpSpPr>
                <a:xfrm>
                  <a:off x="12610800" y="17749800"/>
                  <a:ext cx="513360" cy="608040"/>
                  <a:chOff x="12610800" y="17749800"/>
                  <a:chExt cx="513360" cy="608040"/>
                </a:xfrm>
              </p:grpSpPr>
              <p:sp>
                <p:nvSpPr>
                  <p:cNvPr id="1179" name=""/>
                  <p:cNvSpPr/>
                  <p:nvPr/>
                </p:nvSpPr>
                <p:spPr>
                  <a:xfrm>
                    <a:off x="12610800" y="17762400"/>
                    <a:ext cx="324000" cy="582480"/>
                  </a:xfrm>
                  <a:prstGeom prst="rect">
                    <a:avLst/>
                  </a:prstGeom>
                  <a:noFill/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80" name=""/>
                  <p:cNvGrpSpPr/>
                  <p:nvPr/>
                </p:nvGrpSpPr>
                <p:grpSpPr>
                  <a:xfrm>
                    <a:off x="12950280" y="18167400"/>
                    <a:ext cx="160920" cy="161280"/>
                    <a:chOff x="12950280" y="18167400"/>
                    <a:chExt cx="160920" cy="161280"/>
                  </a:xfrm>
                </p:grpSpPr>
                <p:sp>
                  <p:nvSpPr>
                    <p:cNvPr id="1181" name=""/>
                    <p:cNvSpPr/>
                    <p:nvPr/>
                  </p:nvSpPr>
                  <p:spPr>
                    <a:xfrm flipV="1" rot="16200000">
                      <a:off x="13022280" y="18131040"/>
                      <a:ext cx="360" cy="9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733">
                          <a:moveTo>
                            <a:pt x="0" y="0"/>
                          </a:moveTo>
                          <a:lnTo>
                            <a:pt x="1" y="2733"/>
                          </a:lnTo>
                          <a:lnTo>
                            <a:pt x="2" y="2733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2" name=""/>
                    <p:cNvSpPr/>
                    <p:nvPr/>
                  </p:nvSpPr>
                  <p:spPr>
                    <a:xfrm flipV="1" rot="16200000">
                      <a:off x="13022280" y="18118080"/>
                      <a:ext cx="360" cy="9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733">
                          <a:moveTo>
                            <a:pt x="0" y="0"/>
                          </a:moveTo>
                          <a:lnTo>
                            <a:pt x="1" y="2733"/>
                          </a:lnTo>
                          <a:lnTo>
                            <a:pt x="2" y="2733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3" name=""/>
                    <p:cNvSpPr/>
                    <p:nvPr/>
                  </p:nvSpPr>
                  <p:spPr>
                    <a:xfrm flipV="1" rot="16200000">
                      <a:off x="13021920" y="18278640"/>
                      <a:ext cx="1080" cy="9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733">
                          <a:moveTo>
                            <a:pt x="0" y="0"/>
                          </a:moveTo>
                          <a:lnTo>
                            <a:pt x="1" y="2733"/>
                          </a:lnTo>
                          <a:lnTo>
                            <a:pt x="2" y="2733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4" name=""/>
                    <p:cNvSpPr/>
                    <p:nvPr/>
                  </p:nvSpPr>
                  <p:spPr>
                    <a:xfrm flipV="1" rot="16200000">
                      <a:off x="13021920" y="18266400"/>
                      <a:ext cx="1440" cy="9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733">
                          <a:moveTo>
                            <a:pt x="0" y="0"/>
                          </a:moveTo>
                          <a:lnTo>
                            <a:pt x="1" y="2733"/>
                          </a:lnTo>
                          <a:lnTo>
                            <a:pt x="2" y="2733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5" name=""/>
                    <p:cNvSpPr/>
                    <p:nvPr/>
                  </p:nvSpPr>
                  <p:spPr>
                    <a:xfrm flipV="1" rot="16200000">
                      <a:off x="13010040" y="18274320"/>
                      <a:ext cx="360" cy="6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1925">
                          <a:moveTo>
                            <a:pt x="0" y="0"/>
                          </a:moveTo>
                          <a:lnTo>
                            <a:pt x="18" y="1925"/>
                          </a:lnTo>
                          <a:lnTo>
                            <a:pt x="19" y="1925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0" bIns="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6" name=""/>
                    <p:cNvSpPr/>
                    <p:nvPr/>
                  </p:nvSpPr>
                  <p:spPr>
                    <a:xfrm flipV="1" rot="16200000">
                      <a:off x="12954600" y="18287640"/>
                      <a:ext cx="1980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8" h="605">
                          <a:moveTo>
                            <a:pt x="0" y="0"/>
                          </a:moveTo>
                          <a:lnTo>
                            <a:pt x="184" y="396"/>
                          </a:lnTo>
                          <a:lnTo>
                            <a:pt x="567" y="605"/>
                          </a:lnTo>
                          <a:lnTo>
                            <a:pt x="568" y="605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7" name=""/>
                    <p:cNvSpPr/>
                    <p:nvPr/>
                  </p:nvSpPr>
                  <p:spPr>
                    <a:xfrm flipV="1" rot="16200000">
                      <a:off x="12911040" y="18246600"/>
                      <a:ext cx="81000" cy="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69" h="103">
                          <a:moveTo>
                            <a:pt x="0" y="2"/>
                          </a:moveTo>
                          <a:lnTo>
                            <a:pt x="1135" y="103"/>
                          </a:lnTo>
                          <a:lnTo>
                            <a:pt x="2268" y="0"/>
                          </a:lnTo>
                          <a:lnTo>
                            <a:pt x="2269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8" name=""/>
                    <p:cNvSpPr/>
                    <p:nvPr/>
                  </p:nvSpPr>
                  <p:spPr>
                    <a:xfrm flipV="1" rot="16200000">
                      <a:off x="12954600" y="18186480"/>
                      <a:ext cx="1980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8" h="605">
                          <a:moveTo>
                            <a:pt x="0" y="605"/>
                          </a:moveTo>
                          <a:lnTo>
                            <a:pt x="382" y="396"/>
                          </a:lnTo>
                          <a:lnTo>
                            <a:pt x="567" y="0"/>
                          </a:lnTo>
                          <a:lnTo>
                            <a:pt x="568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9" name=""/>
                    <p:cNvSpPr/>
                    <p:nvPr/>
                  </p:nvSpPr>
                  <p:spPr>
                    <a:xfrm flipV="1" rot="16200000">
                      <a:off x="13010040" y="18153000"/>
                      <a:ext cx="360" cy="6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925">
                          <a:moveTo>
                            <a:pt x="0" y="1925"/>
                          </a:moveTo>
                          <a:lnTo>
                            <a:pt x="16" y="0"/>
                          </a:lnTo>
                          <a:lnTo>
                            <a:pt x="17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0" bIns="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0" name=""/>
                    <p:cNvSpPr/>
                    <p:nvPr/>
                  </p:nvSpPr>
                  <p:spPr>
                    <a:xfrm flipV="1" rot="16200000">
                      <a:off x="13046040" y="18186480"/>
                      <a:ext cx="2520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45" h="787">
                          <a:moveTo>
                            <a:pt x="745" y="787"/>
                          </a:moveTo>
                          <a:lnTo>
                            <a:pt x="623" y="420"/>
                          </a:lnTo>
                          <a:lnTo>
                            <a:pt x="358" y="140"/>
                          </a:ln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1" name=""/>
                    <p:cNvSpPr/>
                    <p:nvPr/>
                  </p:nvSpPr>
                  <p:spPr>
                    <a:xfrm flipV="1" rot="16200000">
                      <a:off x="13039560" y="18246600"/>
                      <a:ext cx="69480" cy="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47" h="77">
                          <a:moveTo>
                            <a:pt x="1947" y="76"/>
                          </a:moveTo>
                          <a:lnTo>
                            <a:pt x="974" y="0"/>
                          </a:lnTo>
                          <a:lnTo>
                            <a:pt x="0" y="77"/>
                          </a:lnTo>
                          <a:lnTo>
                            <a:pt x="1" y="77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2" name=""/>
                    <p:cNvSpPr/>
                    <p:nvPr/>
                  </p:nvSpPr>
                  <p:spPr>
                    <a:xfrm flipV="1" rot="16200000">
                      <a:off x="13046040" y="18281880"/>
                      <a:ext cx="2556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44" h="788">
                          <a:moveTo>
                            <a:pt x="744" y="0"/>
                          </a:moveTo>
                          <a:lnTo>
                            <a:pt x="386" y="141"/>
                          </a:lnTo>
                          <a:lnTo>
                            <a:pt x="121" y="421"/>
                          </a:lnTo>
                          <a:lnTo>
                            <a:pt x="0" y="788"/>
                          </a:lnTo>
                          <a:lnTo>
                            <a:pt x="1" y="788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3" name=""/>
                    <p:cNvSpPr/>
                    <p:nvPr/>
                  </p:nvSpPr>
                  <p:spPr>
                    <a:xfrm flipV="1" rot="16200000">
                      <a:off x="12966840" y="18173880"/>
                      <a:ext cx="1260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0" h="0">
                          <a:moveTo>
                            <a:pt x="0" y="0"/>
                          </a:moveTo>
                          <a:lnTo>
                            <a:pt x="349" y="0"/>
                          </a:lnTo>
                          <a:lnTo>
                            <a:pt x="350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4" name=""/>
                    <p:cNvSpPr/>
                    <p:nvPr/>
                  </p:nvSpPr>
                  <p:spPr>
                    <a:xfrm flipV="1" rot="16200000">
                      <a:off x="12966840" y="18321840"/>
                      <a:ext cx="1260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9" h="0">
                          <a:moveTo>
                            <a:pt x="349" y="0"/>
                          </a:move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5" name=""/>
                    <p:cNvSpPr/>
                    <p:nvPr/>
                  </p:nvSpPr>
                  <p:spPr>
                    <a:xfrm flipV="1" rot="16200000">
                      <a:off x="13065120" y="18173880"/>
                      <a:ext cx="1260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0" h="0">
                          <a:moveTo>
                            <a:pt x="0" y="0"/>
                          </a:moveTo>
                          <a:lnTo>
                            <a:pt x="349" y="0"/>
                          </a:lnTo>
                          <a:lnTo>
                            <a:pt x="350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6" name=""/>
                    <p:cNvSpPr/>
                    <p:nvPr/>
                  </p:nvSpPr>
                  <p:spPr>
                    <a:xfrm flipV="1" rot="16200000">
                      <a:off x="13067640" y="18248040"/>
                      <a:ext cx="2412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98" h="0">
                          <a:moveTo>
                            <a:pt x="698" y="0"/>
                          </a:move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7" name=""/>
                    <p:cNvSpPr/>
                    <p:nvPr/>
                  </p:nvSpPr>
                  <p:spPr>
                    <a:xfrm flipV="1" rot="16200000">
                      <a:off x="13077000" y="18233640"/>
                      <a:ext cx="1440" cy="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33">
                          <a:moveTo>
                            <a:pt x="0" y="133"/>
                          </a:move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8" name=""/>
                    <p:cNvSpPr/>
                    <p:nvPr/>
                  </p:nvSpPr>
                  <p:spPr>
                    <a:xfrm flipV="1" rot="16200000">
                      <a:off x="13077720" y="18258120"/>
                      <a:ext cx="360" cy="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34">
                          <a:moveTo>
                            <a:pt x="0" y="134"/>
                          </a:move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9" name=""/>
                    <p:cNvSpPr/>
                    <p:nvPr/>
                  </p:nvSpPr>
                  <p:spPr>
                    <a:xfrm flipV="1" rot="16200000">
                      <a:off x="13065120" y="18321840"/>
                      <a:ext cx="1260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9" h="0">
                          <a:moveTo>
                            <a:pt x="349" y="0"/>
                          </a:move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0" name=""/>
                    <p:cNvSpPr/>
                    <p:nvPr/>
                  </p:nvSpPr>
                  <p:spPr>
                    <a:xfrm flipV="1" rot="16200000">
                      <a:off x="13041000" y="18239040"/>
                      <a:ext cx="120960" cy="1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44" h="562">
                          <a:moveTo>
                            <a:pt x="3405" y="560"/>
                          </a:moveTo>
                          <a:lnTo>
                            <a:pt x="3444" y="429"/>
                          </a:lnTo>
                          <a:lnTo>
                            <a:pt x="3366" y="316"/>
                          </a:lnTo>
                          <a:lnTo>
                            <a:pt x="2559" y="78"/>
                          </a:lnTo>
                          <a:lnTo>
                            <a:pt x="1722" y="0"/>
                          </a:lnTo>
                          <a:lnTo>
                            <a:pt x="884" y="79"/>
                          </a:lnTo>
                          <a:lnTo>
                            <a:pt x="78" y="318"/>
                          </a:lnTo>
                          <a:lnTo>
                            <a:pt x="0" y="430"/>
                          </a:lnTo>
                          <a:lnTo>
                            <a:pt x="39" y="562"/>
                          </a:lnTo>
                          <a:lnTo>
                            <a:pt x="40" y="562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1" name=""/>
                    <p:cNvSpPr/>
                    <p:nvPr/>
                  </p:nvSpPr>
                  <p:spPr>
                    <a:xfrm flipV="1" rot="16200000">
                      <a:off x="13030920" y="18234000"/>
                      <a:ext cx="11232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2" h="740">
                          <a:moveTo>
                            <a:pt x="3152" y="738"/>
                          </a:moveTo>
                          <a:lnTo>
                            <a:pt x="3126" y="512"/>
                          </a:lnTo>
                          <a:lnTo>
                            <a:pt x="2966" y="350"/>
                          </a:lnTo>
                          <a:lnTo>
                            <a:pt x="2290" y="101"/>
                          </a:lnTo>
                          <a:lnTo>
                            <a:pt x="1576" y="0"/>
                          </a:lnTo>
                          <a:lnTo>
                            <a:pt x="862" y="102"/>
                          </a:lnTo>
                          <a:lnTo>
                            <a:pt x="186" y="352"/>
                          </a:lnTo>
                          <a:lnTo>
                            <a:pt x="26" y="514"/>
                          </a:lnTo>
                          <a:lnTo>
                            <a:pt x="0" y="740"/>
                          </a:lnTo>
                          <a:lnTo>
                            <a:pt x="1" y="74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2" name=""/>
                    <p:cNvSpPr/>
                    <p:nvPr/>
                  </p:nvSpPr>
                  <p:spPr>
                    <a:xfrm flipV="1" rot="16200000">
                      <a:off x="13057200" y="18273600"/>
                      <a:ext cx="35280" cy="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23" h="298">
                          <a:moveTo>
                            <a:pt x="1023" y="0"/>
                          </a:moveTo>
                          <a:lnTo>
                            <a:pt x="496" y="98"/>
                          </a:lnTo>
                          <a:lnTo>
                            <a:pt x="0" y="298"/>
                          </a:lnTo>
                          <a:lnTo>
                            <a:pt x="2" y="298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3" name=""/>
                    <p:cNvSpPr/>
                    <p:nvPr/>
                  </p:nvSpPr>
                  <p:spPr>
                    <a:xfrm flipV="1" rot="16200000">
                      <a:off x="13066920" y="18298080"/>
                      <a:ext cx="8280" cy="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3" h="97">
                          <a:moveTo>
                            <a:pt x="0" y="0"/>
                          </a:moveTo>
                          <a:lnTo>
                            <a:pt x="78" y="97"/>
                          </a:lnTo>
                          <a:lnTo>
                            <a:pt x="201" y="93"/>
                          </a:lnTo>
                          <a:lnTo>
                            <a:pt x="203" y="93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4" name=""/>
                    <p:cNvSpPr/>
                    <p:nvPr/>
                  </p:nvSpPr>
                  <p:spPr>
                    <a:xfrm flipV="1" rot="16200000">
                      <a:off x="13079160" y="18298440"/>
                      <a:ext cx="4320" cy="16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496">
                          <a:moveTo>
                            <a:pt x="109" y="496"/>
                          </a:move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880" bIns="-29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5" name=""/>
                    <p:cNvSpPr/>
                    <p:nvPr/>
                  </p:nvSpPr>
                  <p:spPr>
                    <a:xfrm flipV="1" rot="16200000">
                      <a:off x="13092120" y="18304200"/>
                      <a:ext cx="2880" cy="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" h="160">
                          <a:moveTo>
                            <a:pt x="84" y="0"/>
                          </a:moveTo>
                          <a:lnTo>
                            <a:pt x="13" y="64"/>
                          </a:lnTo>
                          <a:lnTo>
                            <a:pt x="0" y="160"/>
                          </a:lnTo>
                          <a:lnTo>
                            <a:pt x="1" y="16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6" name=""/>
                    <p:cNvSpPr/>
                    <p:nvPr/>
                  </p:nvSpPr>
                  <p:spPr>
                    <a:xfrm flipV="1" rot="16200000">
                      <a:off x="13092120" y="18185760"/>
                      <a:ext cx="2880" cy="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" h="159">
                          <a:moveTo>
                            <a:pt x="84" y="159"/>
                          </a:moveTo>
                          <a:lnTo>
                            <a:pt x="71" y="64"/>
                          </a:ln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7" name=""/>
                    <p:cNvSpPr/>
                    <p:nvPr/>
                  </p:nvSpPr>
                  <p:spPr>
                    <a:xfrm flipV="1" rot="16200000">
                      <a:off x="13079520" y="18181440"/>
                      <a:ext cx="3960" cy="16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496">
                          <a:moveTo>
                            <a:pt x="109" y="0"/>
                          </a:moveTo>
                          <a:lnTo>
                            <a:pt x="0" y="496"/>
                          </a:lnTo>
                          <a:lnTo>
                            <a:pt x="1" y="496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880" bIns="-29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8" name=""/>
                    <p:cNvSpPr/>
                    <p:nvPr/>
                  </p:nvSpPr>
                  <p:spPr>
                    <a:xfrm flipV="1" rot="16200000">
                      <a:off x="13066920" y="18194040"/>
                      <a:ext cx="8280" cy="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2" h="98">
                          <a:moveTo>
                            <a:pt x="0" y="94"/>
                          </a:moveTo>
                          <a:lnTo>
                            <a:pt x="124" y="98"/>
                          </a:lnTo>
                          <a:lnTo>
                            <a:pt x="201" y="0"/>
                          </a:lnTo>
                          <a:lnTo>
                            <a:pt x="202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9" name=""/>
                    <p:cNvSpPr/>
                    <p:nvPr/>
                  </p:nvSpPr>
                  <p:spPr>
                    <a:xfrm flipV="1" rot="16200000">
                      <a:off x="13057200" y="18213480"/>
                      <a:ext cx="35640" cy="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21" h="297">
                          <a:moveTo>
                            <a:pt x="1021" y="297"/>
                          </a:moveTo>
                          <a:lnTo>
                            <a:pt x="525" y="97"/>
                          </a:ln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10" name=""/>
                  <p:cNvGrpSpPr/>
                  <p:nvPr/>
                </p:nvGrpSpPr>
                <p:grpSpPr>
                  <a:xfrm>
                    <a:off x="12963240" y="17781480"/>
                    <a:ext cx="160920" cy="161280"/>
                    <a:chOff x="12963240" y="17781480"/>
                    <a:chExt cx="160920" cy="161280"/>
                  </a:xfrm>
                </p:grpSpPr>
                <p:sp>
                  <p:nvSpPr>
                    <p:cNvPr id="1211" name=""/>
                    <p:cNvSpPr/>
                    <p:nvPr/>
                  </p:nvSpPr>
                  <p:spPr>
                    <a:xfrm flipV="1" rot="16200000">
                      <a:off x="13035240" y="17745120"/>
                      <a:ext cx="360" cy="9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733">
                          <a:moveTo>
                            <a:pt x="0" y="0"/>
                          </a:moveTo>
                          <a:lnTo>
                            <a:pt x="1" y="2733"/>
                          </a:lnTo>
                          <a:lnTo>
                            <a:pt x="2" y="2733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2" name=""/>
                    <p:cNvSpPr/>
                    <p:nvPr/>
                  </p:nvSpPr>
                  <p:spPr>
                    <a:xfrm flipV="1" rot="16200000">
                      <a:off x="13035240" y="17732160"/>
                      <a:ext cx="360" cy="9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733">
                          <a:moveTo>
                            <a:pt x="0" y="0"/>
                          </a:moveTo>
                          <a:lnTo>
                            <a:pt x="1" y="2733"/>
                          </a:lnTo>
                          <a:lnTo>
                            <a:pt x="2" y="2733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3" name=""/>
                    <p:cNvSpPr/>
                    <p:nvPr/>
                  </p:nvSpPr>
                  <p:spPr>
                    <a:xfrm flipV="1" rot="16200000">
                      <a:off x="13034880" y="17892720"/>
                      <a:ext cx="1080" cy="9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733">
                          <a:moveTo>
                            <a:pt x="0" y="0"/>
                          </a:moveTo>
                          <a:lnTo>
                            <a:pt x="1" y="2733"/>
                          </a:lnTo>
                          <a:lnTo>
                            <a:pt x="2" y="2733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4" name=""/>
                    <p:cNvSpPr/>
                    <p:nvPr/>
                  </p:nvSpPr>
                  <p:spPr>
                    <a:xfrm flipV="1" rot="16200000">
                      <a:off x="13034880" y="17880480"/>
                      <a:ext cx="1440" cy="9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733">
                          <a:moveTo>
                            <a:pt x="0" y="0"/>
                          </a:moveTo>
                          <a:lnTo>
                            <a:pt x="1" y="2733"/>
                          </a:lnTo>
                          <a:lnTo>
                            <a:pt x="2" y="2733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5" name=""/>
                    <p:cNvSpPr/>
                    <p:nvPr/>
                  </p:nvSpPr>
                  <p:spPr>
                    <a:xfrm flipV="1" rot="16200000">
                      <a:off x="13023000" y="17888400"/>
                      <a:ext cx="360" cy="6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1925">
                          <a:moveTo>
                            <a:pt x="0" y="0"/>
                          </a:moveTo>
                          <a:lnTo>
                            <a:pt x="18" y="1925"/>
                          </a:lnTo>
                          <a:lnTo>
                            <a:pt x="19" y="1925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0" bIns="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6" name=""/>
                    <p:cNvSpPr/>
                    <p:nvPr/>
                  </p:nvSpPr>
                  <p:spPr>
                    <a:xfrm flipV="1" rot="16200000">
                      <a:off x="12967560" y="17901720"/>
                      <a:ext cx="1980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8" h="605">
                          <a:moveTo>
                            <a:pt x="0" y="0"/>
                          </a:moveTo>
                          <a:lnTo>
                            <a:pt x="184" y="396"/>
                          </a:lnTo>
                          <a:lnTo>
                            <a:pt x="567" y="605"/>
                          </a:lnTo>
                          <a:lnTo>
                            <a:pt x="568" y="605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7" name=""/>
                    <p:cNvSpPr/>
                    <p:nvPr/>
                  </p:nvSpPr>
                  <p:spPr>
                    <a:xfrm flipV="1" rot="16200000">
                      <a:off x="12924000" y="17860680"/>
                      <a:ext cx="81000" cy="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69" h="103">
                          <a:moveTo>
                            <a:pt x="0" y="2"/>
                          </a:moveTo>
                          <a:lnTo>
                            <a:pt x="1135" y="103"/>
                          </a:lnTo>
                          <a:lnTo>
                            <a:pt x="2268" y="0"/>
                          </a:lnTo>
                          <a:lnTo>
                            <a:pt x="2269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8" name=""/>
                    <p:cNvSpPr/>
                    <p:nvPr/>
                  </p:nvSpPr>
                  <p:spPr>
                    <a:xfrm flipV="1" rot="16200000">
                      <a:off x="12967560" y="17800560"/>
                      <a:ext cx="1980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8" h="605">
                          <a:moveTo>
                            <a:pt x="0" y="605"/>
                          </a:moveTo>
                          <a:lnTo>
                            <a:pt x="382" y="396"/>
                          </a:lnTo>
                          <a:lnTo>
                            <a:pt x="567" y="0"/>
                          </a:lnTo>
                          <a:lnTo>
                            <a:pt x="568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9" name=""/>
                    <p:cNvSpPr/>
                    <p:nvPr/>
                  </p:nvSpPr>
                  <p:spPr>
                    <a:xfrm flipV="1" rot="16200000">
                      <a:off x="13023000" y="17767080"/>
                      <a:ext cx="360" cy="6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925">
                          <a:moveTo>
                            <a:pt x="0" y="1925"/>
                          </a:moveTo>
                          <a:lnTo>
                            <a:pt x="16" y="0"/>
                          </a:lnTo>
                          <a:lnTo>
                            <a:pt x="17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0" bIns="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0" name=""/>
                    <p:cNvSpPr/>
                    <p:nvPr/>
                  </p:nvSpPr>
                  <p:spPr>
                    <a:xfrm flipV="1" rot="16200000">
                      <a:off x="13059000" y="17800560"/>
                      <a:ext cx="2520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45" h="787">
                          <a:moveTo>
                            <a:pt x="745" y="787"/>
                          </a:moveTo>
                          <a:lnTo>
                            <a:pt x="623" y="420"/>
                          </a:lnTo>
                          <a:lnTo>
                            <a:pt x="358" y="140"/>
                          </a:ln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1" name=""/>
                    <p:cNvSpPr/>
                    <p:nvPr/>
                  </p:nvSpPr>
                  <p:spPr>
                    <a:xfrm flipV="1" rot="16200000">
                      <a:off x="13052520" y="17860680"/>
                      <a:ext cx="69480" cy="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47" h="77">
                          <a:moveTo>
                            <a:pt x="1947" y="76"/>
                          </a:moveTo>
                          <a:lnTo>
                            <a:pt x="974" y="0"/>
                          </a:lnTo>
                          <a:lnTo>
                            <a:pt x="0" y="77"/>
                          </a:lnTo>
                          <a:lnTo>
                            <a:pt x="1" y="77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2" name=""/>
                    <p:cNvSpPr/>
                    <p:nvPr/>
                  </p:nvSpPr>
                  <p:spPr>
                    <a:xfrm flipV="1" rot="16200000">
                      <a:off x="13059000" y="17895960"/>
                      <a:ext cx="2556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44" h="788">
                          <a:moveTo>
                            <a:pt x="744" y="0"/>
                          </a:moveTo>
                          <a:lnTo>
                            <a:pt x="386" y="141"/>
                          </a:lnTo>
                          <a:lnTo>
                            <a:pt x="121" y="421"/>
                          </a:lnTo>
                          <a:lnTo>
                            <a:pt x="0" y="788"/>
                          </a:lnTo>
                          <a:lnTo>
                            <a:pt x="1" y="788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3" name=""/>
                    <p:cNvSpPr/>
                    <p:nvPr/>
                  </p:nvSpPr>
                  <p:spPr>
                    <a:xfrm flipV="1" rot="16200000">
                      <a:off x="12979800" y="17787960"/>
                      <a:ext cx="1260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0" h="0">
                          <a:moveTo>
                            <a:pt x="0" y="0"/>
                          </a:moveTo>
                          <a:lnTo>
                            <a:pt x="349" y="0"/>
                          </a:lnTo>
                          <a:lnTo>
                            <a:pt x="350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4" name=""/>
                    <p:cNvSpPr/>
                    <p:nvPr/>
                  </p:nvSpPr>
                  <p:spPr>
                    <a:xfrm flipV="1" rot="16200000">
                      <a:off x="12979800" y="17935920"/>
                      <a:ext cx="1260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9" h="0">
                          <a:moveTo>
                            <a:pt x="349" y="0"/>
                          </a:move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5" name=""/>
                    <p:cNvSpPr/>
                    <p:nvPr/>
                  </p:nvSpPr>
                  <p:spPr>
                    <a:xfrm flipV="1" rot="16200000">
                      <a:off x="13078080" y="17787960"/>
                      <a:ext cx="1260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0" h="0">
                          <a:moveTo>
                            <a:pt x="0" y="0"/>
                          </a:moveTo>
                          <a:lnTo>
                            <a:pt x="349" y="0"/>
                          </a:lnTo>
                          <a:lnTo>
                            <a:pt x="350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6" name=""/>
                    <p:cNvSpPr/>
                    <p:nvPr/>
                  </p:nvSpPr>
                  <p:spPr>
                    <a:xfrm flipV="1" rot="16200000">
                      <a:off x="13080600" y="17862120"/>
                      <a:ext cx="2412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98" h="0">
                          <a:moveTo>
                            <a:pt x="698" y="0"/>
                          </a:move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7" name=""/>
                    <p:cNvSpPr/>
                    <p:nvPr/>
                  </p:nvSpPr>
                  <p:spPr>
                    <a:xfrm flipV="1" rot="16200000">
                      <a:off x="13089960" y="17847720"/>
                      <a:ext cx="1440" cy="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33">
                          <a:moveTo>
                            <a:pt x="0" y="133"/>
                          </a:move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8" name=""/>
                    <p:cNvSpPr/>
                    <p:nvPr/>
                  </p:nvSpPr>
                  <p:spPr>
                    <a:xfrm flipV="1" rot="16200000">
                      <a:off x="13090680" y="17872200"/>
                      <a:ext cx="360" cy="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34">
                          <a:moveTo>
                            <a:pt x="0" y="134"/>
                          </a:move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9" name=""/>
                    <p:cNvSpPr/>
                    <p:nvPr/>
                  </p:nvSpPr>
                  <p:spPr>
                    <a:xfrm flipV="1" rot="16200000">
                      <a:off x="13078080" y="17935920"/>
                      <a:ext cx="1260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9" h="0">
                          <a:moveTo>
                            <a:pt x="349" y="0"/>
                          </a:move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0" name=""/>
                    <p:cNvSpPr/>
                    <p:nvPr/>
                  </p:nvSpPr>
                  <p:spPr>
                    <a:xfrm flipV="1" rot="16200000">
                      <a:off x="13053960" y="17853120"/>
                      <a:ext cx="120960" cy="1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44" h="562">
                          <a:moveTo>
                            <a:pt x="3405" y="560"/>
                          </a:moveTo>
                          <a:lnTo>
                            <a:pt x="3444" y="429"/>
                          </a:lnTo>
                          <a:lnTo>
                            <a:pt x="3366" y="316"/>
                          </a:lnTo>
                          <a:lnTo>
                            <a:pt x="2559" y="78"/>
                          </a:lnTo>
                          <a:lnTo>
                            <a:pt x="1722" y="0"/>
                          </a:lnTo>
                          <a:lnTo>
                            <a:pt x="884" y="79"/>
                          </a:lnTo>
                          <a:lnTo>
                            <a:pt x="78" y="318"/>
                          </a:lnTo>
                          <a:lnTo>
                            <a:pt x="0" y="430"/>
                          </a:lnTo>
                          <a:lnTo>
                            <a:pt x="39" y="562"/>
                          </a:lnTo>
                          <a:lnTo>
                            <a:pt x="40" y="562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1" name=""/>
                    <p:cNvSpPr/>
                    <p:nvPr/>
                  </p:nvSpPr>
                  <p:spPr>
                    <a:xfrm flipV="1" rot="16200000">
                      <a:off x="13043880" y="17848080"/>
                      <a:ext cx="11232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2" h="740">
                          <a:moveTo>
                            <a:pt x="3152" y="738"/>
                          </a:moveTo>
                          <a:lnTo>
                            <a:pt x="3126" y="512"/>
                          </a:lnTo>
                          <a:lnTo>
                            <a:pt x="2966" y="350"/>
                          </a:lnTo>
                          <a:lnTo>
                            <a:pt x="2290" y="101"/>
                          </a:lnTo>
                          <a:lnTo>
                            <a:pt x="1576" y="0"/>
                          </a:lnTo>
                          <a:lnTo>
                            <a:pt x="862" y="102"/>
                          </a:lnTo>
                          <a:lnTo>
                            <a:pt x="186" y="352"/>
                          </a:lnTo>
                          <a:lnTo>
                            <a:pt x="26" y="514"/>
                          </a:lnTo>
                          <a:lnTo>
                            <a:pt x="0" y="740"/>
                          </a:lnTo>
                          <a:lnTo>
                            <a:pt x="1" y="74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2" name=""/>
                    <p:cNvSpPr/>
                    <p:nvPr/>
                  </p:nvSpPr>
                  <p:spPr>
                    <a:xfrm flipV="1" rot="16200000">
                      <a:off x="13070160" y="17887680"/>
                      <a:ext cx="35280" cy="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23" h="298">
                          <a:moveTo>
                            <a:pt x="1023" y="0"/>
                          </a:moveTo>
                          <a:lnTo>
                            <a:pt x="496" y="98"/>
                          </a:lnTo>
                          <a:lnTo>
                            <a:pt x="0" y="298"/>
                          </a:lnTo>
                          <a:lnTo>
                            <a:pt x="2" y="298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3" name=""/>
                    <p:cNvSpPr/>
                    <p:nvPr/>
                  </p:nvSpPr>
                  <p:spPr>
                    <a:xfrm flipV="1" rot="16200000">
                      <a:off x="13079880" y="17912160"/>
                      <a:ext cx="8280" cy="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3" h="97">
                          <a:moveTo>
                            <a:pt x="0" y="0"/>
                          </a:moveTo>
                          <a:lnTo>
                            <a:pt x="78" y="97"/>
                          </a:lnTo>
                          <a:lnTo>
                            <a:pt x="201" y="93"/>
                          </a:lnTo>
                          <a:lnTo>
                            <a:pt x="203" y="93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4" name=""/>
                    <p:cNvSpPr/>
                    <p:nvPr/>
                  </p:nvSpPr>
                  <p:spPr>
                    <a:xfrm flipV="1" rot="16200000">
                      <a:off x="13092120" y="17912520"/>
                      <a:ext cx="4320" cy="16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496">
                          <a:moveTo>
                            <a:pt x="109" y="496"/>
                          </a:move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880" bIns="-29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5" name=""/>
                    <p:cNvSpPr/>
                    <p:nvPr/>
                  </p:nvSpPr>
                  <p:spPr>
                    <a:xfrm flipV="1" rot="16200000">
                      <a:off x="13105080" y="17918280"/>
                      <a:ext cx="2880" cy="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" h="160">
                          <a:moveTo>
                            <a:pt x="84" y="0"/>
                          </a:moveTo>
                          <a:lnTo>
                            <a:pt x="13" y="64"/>
                          </a:lnTo>
                          <a:lnTo>
                            <a:pt x="0" y="160"/>
                          </a:lnTo>
                          <a:lnTo>
                            <a:pt x="1" y="16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6" name=""/>
                    <p:cNvSpPr/>
                    <p:nvPr/>
                  </p:nvSpPr>
                  <p:spPr>
                    <a:xfrm flipV="1" rot="16200000">
                      <a:off x="13105080" y="17799840"/>
                      <a:ext cx="2880" cy="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" h="159">
                          <a:moveTo>
                            <a:pt x="84" y="159"/>
                          </a:moveTo>
                          <a:lnTo>
                            <a:pt x="71" y="64"/>
                          </a:ln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7" name=""/>
                    <p:cNvSpPr/>
                    <p:nvPr/>
                  </p:nvSpPr>
                  <p:spPr>
                    <a:xfrm flipV="1" rot="16200000">
                      <a:off x="13092480" y="17795520"/>
                      <a:ext cx="3960" cy="16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496">
                          <a:moveTo>
                            <a:pt x="109" y="0"/>
                          </a:moveTo>
                          <a:lnTo>
                            <a:pt x="0" y="496"/>
                          </a:lnTo>
                          <a:lnTo>
                            <a:pt x="1" y="496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880" bIns="-29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8" name=""/>
                    <p:cNvSpPr/>
                    <p:nvPr/>
                  </p:nvSpPr>
                  <p:spPr>
                    <a:xfrm flipV="1" rot="16200000">
                      <a:off x="13079880" y="17808120"/>
                      <a:ext cx="8280" cy="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2" h="98">
                          <a:moveTo>
                            <a:pt x="0" y="94"/>
                          </a:moveTo>
                          <a:lnTo>
                            <a:pt x="124" y="98"/>
                          </a:lnTo>
                          <a:lnTo>
                            <a:pt x="201" y="0"/>
                          </a:lnTo>
                          <a:lnTo>
                            <a:pt x="202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9" name=""/>
                    <p:cNvSpPr/>
                    <p:nvPr/>
                  </p:nvSpPr>
                  <p:spPr>
                    <a:xfrm flipV="1" rot="16200000">
                      <a:off x="13070160" y="17827560"/>
                      <a:ext cx="35640" cy="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21" h="297">
                          <a:moveTo>
                            <a:pt x="1021" y="297"/>
                          </a:moveTo>
                          <a:lnTo>
                            <a:pt x="525" y="97"/>
                          </a:ln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40" name=""/>
                  <p:cNvGrpSpPr/>
                  <p:nvPr/>
                </p:nvGrpSpPr>
                <p:grpSpPr>
                  <a:xfrm>
                    <a:off x="12766320" y="17810640"/>
                    <a:ext cx="145440" cy="132480"/>
                    <a:chOff x="12766320" y="17810640"/>
                    <a:chExt cx="145440" cy="132480"/>
                  </a:xfrm>
                </p:grpSpPr>
                <p:sp>
                  <p:nvSpPr>
                    <p:cNvPr id="1241" name=""/>
                    <p:cNvSpPr/>
                    <p:nvPr/>
                  </p:nvSpPr>
                  <p:spPr>
                    <a:xfrm rot="5400000">
                      <a:off x="12772800" y="17804160"/>
                      <a:ext cx="132480" cy="1454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242" name=""/>
                    <p:cNvGrpSpPr/>
                    <p:nvPr/>
                  </p:nvGrpSpPr>
                  <p:grpSpPr>
                    <a:xfrm>
                      <a:off x="12775680" y="17817480"/>
                      <a:ext cx="116280" cy="116640"/>
                      <a:chOff x="12775680" y="17817480"/>
                      <a:chExt cx="116280" cy="116640"/>
                    </a:xfrm>
                  </p:grpSpPr>
                  <p:sp>
                    <p:nvSpPr>
                      <p:cNvPr id="1243" name=""/>
                      <p:cNvSpPr/>
                      <p:nvPr/>
                    </p:nvSpPr>
                    <p:spPr>
                      <a:xfrm rot="5400000">
                        <a:off x="12792600" y="17849160"/>
                        <a:ext cx="252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" h="35">
                            <a:moveTo>
                              <a:pt x="0" y="35"/>
                            </a:moveTo>
                            <a:lnTo>
                              <a:pt x="5" y="29"/>
                            </a:lnTo>
                            <a:lnTo>
                              <a:pt x="11" y="23"/>
                            </a:lnTo>
                            <a:lnTo>
                              <a:pt x="17" y="17"/>
                            </a:lnTo>
                            <a:lnTo>
                              <a:pt x="22" y="12"/>
                            </a:lnTo>
                            <a:lnTo>
                              <a:pt x="26" y="8"/>
                            </a:lnTo>
                            <a:lnTo>
                              <a:pt x="30" y="5"/>
                            </a:lnTo>
                            <a:lnTo>
                              <a:pt x="32" y="2"/>
                            </a:lnTo>
                            <a:lnTo>
                              <a:pt x="34" y="1"/>
                            </a:lnTo>
                            <a:lnTo>
                              <a:pt x="34" y="0"/>
                            </a:lnTo>
                            <a:lnTo>
                              <a:pt x="35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6633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44" name=""/>
                      <p:cNvSpPr/>
                      <p:nvPr/>
                    </p:nvSpPr>
                    <p:spPr>
                      <a:xfrm rot="5400000">
                        <a:off x="12792600" y="17849160"/>
                        <a:ext cx="252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" h="35">
                            <a:moveTo>
                              <a:pt x="0" y="35"/>
                            </a:moveTo>
                            <a:lnTo>
                              <a:pt x="5" y="29"/>
                            </a:lnTo>
                            <a:lnTo>
                              <a:pt x="11" y="23"/>
                            </a:lnTo>
                            <a:lnTo>
                              <a:pt x="17" y="17"/>
                            </a:lnTo>
                            <a:lnTo>
                              <a:pt x="22" y="12"/>
                            </a:lnTo>
                            <a:lnTo>
                              <a:pt x="26" y="8"/>
                            </a:lnTo>
                            <a:lnTo>
                              <a:pt x="30" y="5"/>
                            </a:lnTo>
                            <a:lnTo>
                              <a:pt x="32" y="2"/>
                            </a:lnTo>
                            <a:lnTo>
                              <a:pt x="34" y="1"/>
                            </a:lnTo>
                            <a:lnTo>
                              <a:pt x="34" y="0"/>
                            </a:lnTo>
                            <a:lnTo>
                              <a:pt x="35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6633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45" name=""/>
                      <p:cNvSpPr/>
                      <p:nvPr/>
                    </p:nvSpPr>
                    <p:spPr>
                      <a:xfrm rot="5400000">
                        <a:off x="12808800" y="17850960"/>
                        <a:ext cx="116640" cy="49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520" bIns="2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46" name=""/>
                      <p:cNvSpPr/>
                      <p:nvPr/>
                    </p:nvSpPr>
                    <p:spPr>
                      <a:xfrm rot="5400000">
                        <a:off x="12758040" y="17843760"/>
                        <a:ext cx="100440" cy="65160"/>
                      </a:xfrm>
                      <a:custGeom>
                        <a:avLst/>
                        <a:gdLst>
                          <a:gd name="textAreaLeft" fmla="*/ 21960 w 100440"/>
                          <a:gd name="textAreaRight" fmla="*/ 78480 w 100440"/>
                          <a:gd name="textAreaTop" fmla="*/ 14400 h 65160"/>
                          <a:gd name="textAreaBottom" fmla="*/ 50760 h 6516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21600" y="0"/>
                            </a:lnTo>
                            <a:lnTo>
                              <a:pt x="16200" y="21600"/>
                            </a:lnTo>
                            <a:lnTo>
                              <a:pt x="5400" y="2160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0440" bIns="-10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247" name=""/>
                  <p:cNvGrpSpPr/>
                  <p:nvPr/>
                </p:nvGrpSpPr>
                <p:grpSpPr>
                  <a:xfrm>
                    <a:off x="12783600" y="17982000"/>
                    <a:ext cx="145440" cy="132840"/>
                    <a:chOff x="12783600" y="17982000"/>
                    <a:chExt cx="145440" cy="132840"/>
                  </a:xfrm>
                </p:grpSpPr>
                <p:sp>
                  <p:nvSpPr>
                    <p:cNvPr id="1248" name=""/>
                    <p:cNvSpPr/>
                    <p:nvPr/>
                  </p:nvSpPr>
                  <p:spPr>
                    <a:xfrm rot="5400000">
                      <a:off x="12789720" y="17975520"/>
                      <a:ext cx="132840" cy="1454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249" name=""/>
                    <p:cNvGrpSpPr/>
                    <p:nvPr/>
                  </p:nvGrpSpPr>
                  <p:grpSpPr>
                    <a:xfrm>
                      <a:off x="12792960" y="17988840"/>
                      <a:ext cx="116280" cy="116640"/>
                      <a:chOff x="12792960" y="17988840"/>
                      <a:chExt cx="116280" cy="116640"/>
                    </a:xfrm>
                  </p:grpSpPr>
                  <p:sp>
                    <p:nvSpPr>
                      <p:cNvPr id="1250" name=""/>
                      <p:cNvSpPr/>
                      <p:nvPr/>
                    </p:nvSpPr>
                    <p:spPr>
                      <a:xfrm rot="5400000">
                        <a:off x="12809880" y="18020520"/>
                        <a:ext cx="252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" h="35">
                            <a:moveTo>
                              <a:pt x="0" y="35"/>
                            </a:moveTo>
                            <a:lnTo>
                              <a:pt x="5" y="29"/>
                            </a:lnTo>
                            <a:lnTo>
                              <a:pt x="11" y="23"/>
                            </a:lnTo>
                            <a:lnTo>
                              <a:pt x="17" y="17"/>
                            </a:lnTo>
                            <a:lnTo>
                              <a:pt x="22" y="12"/>
                            </a:lnTo>
                            <a:lnTo>
                              <a:pt x="26" y="8"/>
                            </a:lnTo>
                            <a:lnTo>
                              <a:pt x="30" y="5"/>
                            </a:lnTo>
                            <a:lnTo>
                              <a:pt x="32" y="2"/>
                            </a:lnTo>
                            <a:lnTo>
                              <a:pt x="34" y="1"/>
                            </a:lnTo>
                            <a:lnTo>
                              <a:pt x="34" y="0"/>
                            </a:lnTo>
                            <a:lnTo>
                              <a:pt x="35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6633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51" name=""/>
                      <p:cNvSpPr/>
                      <p:nvPr/>
                    </p:nvSpPr>
                    <p:spPr>
                      <a:xfrm rot="5400000">
                        <a:off x="12809880" y="18020520"/>
                        <a:ext cx="252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" h="35">
                            <a:moveTo>
                              <a:pt x="0" y="35"/>
                            </a:moveTo>
                            <a:lnTo>
                              <a:pt x="5" y="29"/>
                            </a:lnTo>
                            <a:lnTo>
                              <a:pt x="11" y="23"/>
                            </a:lnTo>
                            <a:lnTo>
                              <a:pt x="17" y="17"/>
                            </a:lnTo>
                            <a:lnTo>
                              <a:pt x="22" y="12"/>
                            </a:lnTo>
                            <a:lnTo>
                              <a:pt x="26" y="8"/>
                            </a:lnTo>
                            <a:lnTo>
                              <a:pt x="30" y="5"/>
                            </a:lnTo>
                            <a:lnTo>
                              <a:pt x="32" y="2"/>
                            </a:lnTo>
                            <a:lnTo>
                              <a:pt x="34" y="1"/>
                            </a:lnTo>
                            <a:lnTo>
                              <a:pt x="34" y="0"/>
                            </a:lnTo>
                            <a:lnTo>
                              <a:pt x="35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6633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52" name=""/>
                      <p:cNvSpPr/>
                      <p:nvPr/>
                    </p:nvSpPr>
                    <p:spPr>
                      <a:xfrm rot="5400000">
                        <a:off x="12826080" y="18022320"/>
                        <a:ext cx="116640" cy="49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520" bIns="2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53" name=""/>
                      <p:cNvSpPr/>
                      <p:nvPr/>
                    </p:nvSpPr>
                    <p:spPr>
                      <a:xfrm rot="5400000">
                        <a:off x="12775320" y="18015120"/>
                        <a:ext cx="100440" cy="65160"/>
                      </a:xfrm>
                      <a:custGeom>
                        <a:avLst/>
                        <a:gdLst>
                          <a:gd name="textAreaLeft" fmla="*/ 21960 w 100440"/>
                          <a:gd name="textAreaRight" fmla="*/ 78480 w 100440"/>
                          <a:gd name="textAreaTop" fmla="*/ 14400 h 65160"/>
                          <a:gd name="textAreaBottom" fmla="*/ 50760 h 6516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21600" y="0"/>
                            </a:lnTo>
                            <a:lnTo>
                              <a:pt x="16200" y="21600"/>
                            </a:lnTo>
                            <a:lnTo>
                              <a:pt x="5400" y="2160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0440" bIns="-10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254" name=""/>
                  <p:cNvGrpSpPr/>
                  <p:nvPr/>
                </p:nvGrpSpPr>
                <p:grpSpPr>
                  <a:xfrm>
                    <a:off x="12757680" y="18179280"/>
                    <a:ext cx="145080" cy="132480"/>
                    <a:chOff x="12757680" y="18179280"/>
                    <a:chExt cx="145080" cy="132480"/>
                  </a:xfrm>
                </p:grpSpPr>
                <p:sp>
                  <p:nvSpPr>
                    <p:cNvPr id="1255" name=""/>
                    <p:cNvSpPr/>
                    <p:nvPr/>
                  </p:nvSpPr>
                  <p:spPr>
                    <a:xfrm rot="5400000">
                      <a:off x="12763800" y="18172800"/>
                      <a:ext cx="132480" cy="1450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256" name=""/>
                    <p:cNvGrpSpPr/>
                    <p:nvPr/>
                  </p:nvGrpSpPr>
                  <p:grpSpPr>
                    <a:xfrm>
                      <a:off x="12767040" y="18186120"/>
                      <a:ext cx="115920" cy="116640"/>
                      <a:chOff x="12767040" y="18186120"/>
                      <a:chExt cx="115920" cy="116640"/>
                    </a:xfrm>
                  </p:grpSpPr>
                  <p:sp>
                    <p:nvSpPr>
                      <p:cNvPr id="1257" name=""/>
                      <p:cNvSpPr/>
                      <p:nvPr/>
                    </p:nvSpPr>
                    <p:spPr>
                      <a:xfrm rot="5400000">
                        <a:off x="12783960" y="18217800"/>
                        <a:ext cx="252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" h="35">
                            <a:moveTo>
                              <a:pt x="0" y="35"/>
                            </a:moveTo>
                            <a:lnTo>
                              <a:pt x="5" y="29"/>
                            </a:lnTo>
                            <a:lnTo>
                              <a:pt x="11" y="23"/>
                            </a:lnTo>
                            <a:lnTo>
                              <a:pt x="17" y="17"/>
                            </a:lnTo>
                            <a:lnTo>
                              <a:pt x="22" y="12"/>
                            </a:lnTo>
                            <a:lnTo>
                              <a:pt x="26" y="8"/>
                            </a:lnTo>
                            <a:lnTo>
                              <a:pt x="30" y="5"/>
                            </a:lnTo>
                            <a:lnTo>
                              <a:pt x="32" y="2"/>
                            </a:lnTo>
                            <a:lnTo>
                              <a:pt x="34" y="1"/>
                            </a:lnTo>
                            <a:lnTo>
                              <a:pt x="34" y="0"/>
                            </a:lnTo>
                            <a:lnTo>
                              <a:pt x="35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6633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58" name=""/>
                      <p:cNvSpPr/>
                      <p:nvPr/>
                    </p:nvSpPr>
                    <p:spPr>
                      <a:xfrm rot="5400000">
                        <a:off x="12783960" y="18217800"/>
                        <a:ext cx="252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" h="35">
                            <a:moveTo>
                              <a:pt x="0" y="35"/>
                            </a:moveTo>
                            <a:lnTo>
                              <a:pt x="5" y="29"/>
                            </a:lnTo>
                            <a:lnTo>
                              <a:pt x="11" y="23"/>
                            </a:lnTo>
                            <a:lnTo>
                              <a:pt x="17" y="17"/>
                            </a:lnTo>
                            <a:lnTo>
                              <a:pt x="22" y="12"/>
                            </a:lnTo>
                            <a:lnTo>
                              <a:pt x="26" y="8"/>
                            </a:lnTo>
                            <a:lnTo>
                              <a:pt x="30" y="5"/>
                            </a:lnTo>
                            <a:lnTo>
                              <a:pt x="32" y="2"/>
                            </a:lnTo>
                            <a:lnTo>
                              <a:pt x="34" y="1"/>
                            </a:lnTo>
                            <a:lnTo>
                              <a:pt x="34" y="0"/>
                            </a:lnTo>
                            <a:lnTo>
                              <a:pt x="35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6633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59" name=""/>
                      <p:cNvSpPr/>
                      <p:nvPr/>
                    </p:nvSpPr>
                    <p:spPr>
                      <a:xfrm rot="5400000">
                        <a:off x="12799800" y="18219600"/>
                        <a:ext cx="116640" cy="49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520" bIns="2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60" name=""/>
                      <p:cNvSpPr/>
                      <p:nvPr/>
                    </p:nvSpPr>
                    <p:spPr>
                      <a:xfrm rot="5400000">
                        <a:off x="12749400" y="18212400"/>
                        <a:ext cx="100440" cy="65160"/>
                      </a:xfrm>
                      <a:custGeom>
                        <a:avLst/>
                        <a:gdLst>
                          <a:gd name="textAreaLeft" fmla="*/ 21960 w 100440"/>
                          <a:gd name="textAreaRight" fmla="*/ 78480 w 100440"/>
                          <a:gd name="textAreaTop" fmla="*/ 14400 h 65160"/>
                          <a:gd name="textAreaBottom" fmla="*/ 50760 h 6516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21600" y="0"/>
                            </a:lnTo>
                            <a:lnTo>
                              <a:pt x="16200" y="21600"/>
                            </a:lnTo>
                            <a:lnTo>
                              <a:pt x="5400" y="2160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0440" bIns="-10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261" name=""/>
                  <p:cNvSpPr/>
                  <p:nvPr/>
                </p:nvSpPr>
                <p:spPr>
                  <a:xfrm>
                    <a:off x="12640680" y="17749800"/>
                    <a:ext cx="205560" cy="60804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262" name=""/>
                  <p:cNvGrpSpPr/>
                  <p:nvPr/>
                </p:nvGrpSpPr>
                <p:grpSpPr>
                  <a:xfrm>
                    <a:off x="12646080" y="17793720"/>
                    <a:ext cx="145080" cy="132480"/>
                    <a:chOff x="12646080" y="17793720"/>
                    <a:chExt cx="145080" cy="132480"/>
                  </a:xfrm>
                </p:grpSpPr>
                <p:sp>
                  <p:nvSpPr>
                    <p:cNvPr id="1263" name=""/>
                    <p:cNvSpPr/>
                    <p:nvPr/>
                  </p:nvSpPr>
                  <p:spPr>
                    <a:xfrm rot="5400000">
                      <a:off x="12652200" y="17787240"/>
                      <a:ext cx="132480" cy="1450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264" name=""/>
                    <p:cNvGrpSpPr/>
                    <p:nvPr/>
                  </p:nvGrpSpPr>
                  <p:grpSpPr>
                    <a:xfrm>
                      <a:off x="12655440" y="17800560"/>
                      <a:ext cx="115920" cy="116640"/>
                      <a:chOff x="12655440" y="17800560"/>
                      <a:chExt cx="115920" cy="116640"/>
                    </a:xfrm>
                  </p:grpSpPr>
                  <p:sp>
                    <p:nvSpPr>
                      <p:cNvPr id="1265" name=""/>
                      <p:cNvSpPr/>
                      <p:nvPr/>
                    </p:nvSpPr>
                    <p:spPr>
                      <a:xfrm rot="5400000">
                        <a:off x="12672360" y="17832240"/>
                        <a:ext cx="252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" h="35">
                            <a:moveTo>
                              <a:pt x="0" y="35"/>
                            </a:moveTo>
                            <a:lnTo>
                              <a:pt x="5" y="29"/>
                            </a:lnTo>
                            <a:lnTo>
                              <a:pt x="11" y="23"/>
                            </a:lnTo>
                            <a:lnTo>
                              <a:pt x="17" y="17"/>
                            </a:lnTo>
                            <a:lnTo>
                              <a:pt x="22" y="12"/>
                            </a:lnTo>
                            <a:lnTo>
                              <a:pt x="26" y="8"/>
                            </a:lnTo>
                            <a:lnTo>
                              <a:pt x="30" y="5"/>
                            </a:lnTo>
                            <a:lnTo>
                              <a:pt x="32" y="2"/>
                            </a:lnTo>
                            <a:lnTo>
                              <a:pt x="34" y="1"/>
                            </a:lnTo>
                            <a:lnTo>
                              <a:pt x="34" y="0"/>
                            </a:lnTo>
                            <a:lnTo>
                              <a:pt x="35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6633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66" name=""/>
                      <p:cNvSpPr/>
                      <p:nvPr/>
                    </p:nvSpPr>
                    <p:spPr>
                      <a:xfrm rot="5400000">
                        <a:off x="12672360" y="17832240"/>
                        <a:ext cx="252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" h="35">
                            <a:moveTo>
                              <a:pt x="0" y="35"/>
                            </a:moveTo>
                            <a:lnTo>
                              <a:pt x="5" y="29"/>
                            </a:lnTo>
                            <a:lnTo>
                              <a:pt x="11" y="23"/>
                            </a:lnTo>
                            <a:lnTo>
                              <a:pt x="17" y="17"/>
                            </a:lnTo>
                            <a:lnTo>
                              <a:pt x="22" y="12"/>
                            </a:lnTo>
                            <a:lnTo>
                              <a:pt x="26" y="8"/>
                            </a:lnTo>
                            <a:lnTo>
                              <a:pt x="30" y="5"/>
                            </a:lnTo>
                            <a:lnTo>
                              <a:pt x="32" y="2"/>
                            </a:lnTo>
                            <a:lnTo>
                              <a:pt x="34" y="1"/>
                            </a:lnTo>
                            <a:lnTo>
                              <a:pt x="34" y="0"/>
                            </a:lnTo>
                            <a:lnTo>
                              <a:pt x="35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6633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67" name=""/>
                      <p:cNvSpPr/>
                      <p:nvPr/>
                    </p:nvSpPr>
                    <p:spPr>
                      <a:xfrm rot="5400000">
                        <a:off x="12688200" y="17834040"/>
                        <a:ext cx="116640" cy="49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520" bIns="2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68" name=""/>
                      <p:cNvSpPr/>
                      <p:nvPr/>
                    </p:nvSpPr>
                    <p:spPr>
                      <a:xfrm rot="5400000">
                        <a:off x="12637800" y="17826840"/>
                        <a:ext cx="100440" cy="65160"/>
                      </a:xfrm>
                      <a:custGeom>
                        <a:avLst/>
                        <a:gdLst>
                          <a:gd name="textAreaLeft" fmla="*/ 21960 w 100440"/>
                          <a:gd name="textAreaRight" fmla="*/ 78480 w 100440"/>
                          <a:gd name="textAreaTop" fmla="*/ 14400 h 65160"/>
                          <a:gd name="textAreaBottom" fmla="*/ 50760 h 6516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21600" y="0"/>
                            </a:lnTo>
                            <a:lnTo>
                              <a:pt x="16200" y="21600"/>
                            </a:lnTo>
                            <a:lnTo>
                              <a:pt x="5400" y="2160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0440" bIns="-10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269" name=""/>
                  <p:cNvGrpSpPr/>
                  <p:nvPr/>
                </p:nvGrpSpPr>
                <p:grpSpPr>
                  <a:xfrm>
                    <a:off x="12646080" y="17956440"/>
                    <a:ext cx="145080" cy="132480"/>
                    <a:chOff x="12646080" y="17956440"/>
                    <a:chExt cx="145080" cy="132480"/>
                  </a:xfrm>
                </p:grpSpPr>
                <p:sp>
                  <p:nvSpPr>
                    <p:cNvPr id="1270" name=""/>
                    <p:cNvSpPr/>
                    <p:nvPr/>
                  </p:nvSpPr>
                  <p:spPr>
                    <a:xfrm rot="5400000">
                      <a:off x="12652200" y="17949960"/>
                      <a:ext cx="132480" cy="1450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271" name=""/>
                    <p:cNvGrpSpPr/>
                    <p:nvPr/>
                  </p:nvGrpSpPr>
                  <p:grpSpPr>
                    <a:xfrm>
                      <a:off x="12655440" y="17963280"/>
                      <a:ext cx="115920" cy="116640"/>
                      <a:chOff x="12655440" y="17963280"/>
                      <a:chExt cx="115920" cy="116640"/>
                    </a:xfrm>
                  </p:grpSpPr>
                  <p:sp>
                    <p:nvSpPr>
                      <p:cNvPr id="1272" name=""/>
                      <p:cNvSpPr/>
                      <p:nvPr/>
                    </p:nvSpPr>
                    <p:spPr>
                      <a:xfrm rot="5400000">
                        <a:off x="12672360" y="17994960"/>
                        <a:ext cx="252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" h="35">
                            <a:moveTo>
                              <a:pt x="0" y="35"/>
                            </a:moveTo>
                            <a:lnTo>
                              <a:pt x="5" y="29"/>
                            </a:lnTo>
                            <a:lnTo>
                              <a:pt x="11" y="23"/>
                            </a:lnTo>
                            <a:lnTo>
                              <a:pt x="17" y="17"/>
                            </a:lnTo>
                            <a:lnTo>
                              <a:pt x="22" y="12"/>
                            </a:lnTo>
                            <a:lnTo>
                              <a:pt x="26" y="8"/>
                            </a:lnTo>
                            <a:lnTo>
                              <a:pt x="30" y="5"/>
                            </a:lnTo>
                            <a:lnTo>
                              <a:pt x="32" y="2"/>
                            </a:lnTo>
                            <a:lnTo>
                              <a:pt x="34" y="1"/>
                            </a:lnTo>
                            <a:lnTo>
                              <a:pt x="34" y="0"/>
                            </a:lnTo>
                            <a:lnTo>
                              <a:pt x="35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6633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73" name=""/>
                      <p:cNvSpPr/>
                      <p:nvPr/>
                    </p:nvSpPr>
                    <p:spPr>
                      <a:xfrm rot="5400000">
                        <a:off x="12672360" y="17994960"/>
                        <a:ext cx="252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" h="35">
                            <a:moveTo>
                              <a:pt x="0" y="35"/>
                            </a:moveTo>
                            <a:lnTo>
                              <a:pt x="5" y="29"/>
                            </a:lnTo>
                            <a:lnTo>
                              <a:pt x="11" y="23"/>
                            </a:lnTo>
                            <a:lnTo>
                              <a:pt x="17" y="17"/>
                            </a:lnTo>
                            <a:lnTo>
                              <a:pt x="22" y="12"/>
                            </a:lnTo>
                            <a:lnTo>
                              <a:pt x="26" y="8"/>
                            </a:lnTo>
                            <a:lnTo>
                              <a:pt x="30" y="5"/>
                            </a:lnTo>
                            <a:lnTo>
                              <a:pt x="32" y="2"/>
                            </a:lnTo>
                            <a:lnTo>
                              <a:pt x="34" y="1"/>
                            </a:lnTo>
                            <a:lnTo>
                              <a:pt x="34" y="0"/>
                            </a:lnTo>
                            <a:lnTo>
                              <a:pt x="35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6633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74" name=""/>
                      <p:cNvSpPr/>
                      <p:nvPr/>
                    </p:nvSpPr>
                    <p:spPr>
                      <a:xfrm rot="5400000">
                        <a:off x="12688200" y="17996760"/>
                        <a:ext cx="116640" cy="49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520" bIns="2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75" name=""/>
                      <p:cNvSpPr/>
                      <p:nvPr/>
                    </p:nvSpPr>
                    <p:spPr>
                      <a:xfrm rot="5400000">
                        <a:off x="12637800" y="17989560"/>
                        <a:ext cx="100440" cy="65160"/>
                      </a:xfrm>
                      <a:custGeom>
                        <a:avLst/>
                        <a:gdLst>
                          <a:gd name="textAreaLeft" fmla="*/ 21960 w 100440"/>
                          <a:gd name="textAreaRight" fmla="*/ 78480 w 100440"/>
                          <a:gd name="textAreaTop" fmla="*/ 14400 h 65160"/>
                          <a:gd name="textAreaBottom" fmla="*/ 50760 h 6516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21600" y="0"/>
                            </a:lnTo>
                            <a:lnTo>
                              <a:pt x="16200" y="21600"/>
                            </a:lnTo>
                            <a:lnTo>
                              <a:pt x="5400" y="2160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0440" bIns="-10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276" name=""/>
                  <p:cNvGrpSpPr/>
                  <p:nvPr/>
                </p:nvGrpSpPr>
                <p:grpSpPr>
                  <a:xfrm>
                    <a:off x="12637800" y="18145080"/>
                    <a:ext cx="145440" cy="132480"/>
                    <a:chOff x="12637800" y="18145080"/>
                    <a:chExt cx="145440" cy="132480"/>
                  </a:xfrm>
                </p:grpSpPr>
                <p:sp>
                  <p:nvSpPr>
                    <p:cNvPr id="1277" name=""/>
                    <p:cNvSpPr/>
                    <p:nvPr/>
                  </p:nvSpPr>
                  <p:spPr>
                    <a:xfrm rot="5400000">
                      <a:off x="12644280" y="18138600"/>
                      <a:ext cx="132480" cy="1454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278" name=""/>
                    <p:cNvGrpSpPr/>
                    <p:nvPr/>
                  </p:nvGrpSpPr>
                  <p:grpSpPr>
                    <a:xfrm>
                      <a:off x="12647160" y="18151920"/>
                      <a:ext cx="116280" cy="116640"/>
                      <a:chOff x="12647160" y="18151920"/>
                      <a:chExt cx="116280" cy="116640"/>
                    </a:xfrm>
                  </p:grpSpPr>
                  <p:sp>
                    <p:nvSpPr>
                      <p:cNvPr id="1279" name=""/>
                      <p:cNvSpPr/>
                      <p:nvPr/>
                    </p:nvSpPr>
                    <p:spPr>
                      <a:xfrm rot="5400000">
                        <a:off x="12664080" y="18183600"/>
                        <a:ext cx="252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" h="35">
                            <a:moveTo>
                              <a:pt x="0" y="35"/>
                            </a:moveTo>
                            <a:lnTo>
                              <a:pt x="5" y="29"/>
                            </a:lnTo>
                            <a:lnTo>
                              <a:pt x="11" y="23"/>
                            </a:lnTo>
                            <a:lnTo>
                              <a:pt x="17" y="17"/>
                            </a:lnTo>
                            <a:lnTo>
                              <a:pt x="22" y="12"/>
                            </a:lnTo>
                            <a:lnTo>
                              <a:pt x="26" y="8"/>
                            </a:lnTo>
                            <a:lnTo>
                              <a:pt x="30" y="5"/>
                            </a:lnTo>
                            <a:lnTo>
                              <a:pt x="32" y="2"/>
                            </a:lnTo>
                            <a:lnTo>
                              <a:pt x="34" y="1"/>
                            </a:lnTo>
                            <a:lnTo>
                              <a:pt x="34" y="0"/>
                            </a:lnTo>
                            <a:lnTo>
                              <a:pt x="35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6633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80" name=""/>
                      <p:cNvSpPr/>
                      <p:nvPr/>
                    </p:nvSpPr>
                    <p:spPr>
                      <a:xfrm rot="5400000">
                        <a:off x="12664080" y="18183600"/>
                        <a:ext cx="252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" h="35">
                            <a:moveTo>
                              <a:pt x="0" y="35"/>
                            </a:moveTo>
                            <a:lnTo>
                              <a:pt x="5" y="29"/>
                            </a:lnTo>
                            <a:lnTo>
                              <a:pt x="11" y="23"/>
                            </a:lnTo>
                            <a:lnTo>
                              <a:pt x="17" y="17"/>
                            </a:lnTo>
                            <a:lnTo>
                              <a:pt x="22" y="12"/>
                            </a:lnTo>
                            <a:lnTo>
                              <a:pt x="26" y="8"/>
                            </a:lnTo>
                            <a:lnTo>
                              <a:pt x="30" y="5"/>
                            </a:lnTo>
                            <a:lnTo>
                              <a:pt x="32" y="2"/>
                            </a:lnTo>
                            <a:lnTo>
                              <a:pt x="34" y="1"/>
                            </a:lnTo>
                            <a:lnTo>
                              <a:pt x="34" y="0"/>
                            </a:lnTo>
                            <a:lnTo>
                              <a:pt x="35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6633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81" name=""/>
                      <p:cNvSpPr/>
                      <p:nvPr/>
                    </p:nvSpPr>
                    <p:spPr>
                      <a:xfrm rot="5400000">
                        <a:off x="12680280" y="18185400"/>
                        <a:ext cx="116640" cy="49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520" bIns="2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82" name=""/>
                      <p:cNvSpPr/>
                      <p:nvPr/>
                    </p:nvSpPr>
                    <p:spPr>
                      <a:xfrm rot="5400000">
                        <a:off x="12629520" y="18178200"/>
                        <a:ext cx="100440" cy="65160"/>
                      </a:xfrm>
                      <a:custGeom>
                        <a:avLst/>
                        <a:gdLst>
                          <a:gd name="textAreaLeft" fmla="*/ 21960 w 100440"/>
                          <a:gd name="textAreaRight" fmla="*/ 78480 w 100440"/>
                          <a:gd name="textAreaTop" fmla="*/ 14400 h 65160"/>
                          <a:gd name="textAreaBottom" fmla="*/ 50760 h 6516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21600" y="0"/>
                            </a:lnTo>
                            <a:lnTo>
                              <a:pt x="16200" y="21600"/>
                            </a:lnTo>
                            <a:lnTo>
                              <a:pt x="5400" y="2160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0440" bIns="-10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1283" name=""/>
              <p:cNvGrpSpPr/>
              <p:nvPr/>
            </p:nvGrpSpPr>
            <p:grpSpPr>
              <a:xfrm>
                <a:off x="12610800" y="18378360"/>
                <a:ext cx="517320" cy="608040"/>
                <a:chOff x="12610800" y="18378360"/>
                <a:chExt cx="517320" cy="608040"/>
              </a:xfrm>
            </p:grpSpPr>
            <p:grpSp>
              <p:nvGrpSpPr>
                <p:cNvPr id="1284" name=""/>
                <p:cNvGrpSpPr/>
                <p:nvPr/>
              </p:nvGrpSpPr>
              <p:grpSpPr>
                <a:xfrm>
                  <a:off x="12966480" y="18598680"/>
                  <a:ext cx="161640" cy="162360"/>
                  <a:chOff x="12966480" y="18598680"/>
                  <a:chExt cx="161640" cy="162360"/>
                </a:xfrm>
              </p:grpSpPr>
              <p:sp>
                <p:nvSpPr>
                  <p:cNvPr id="1285" name=""/>
                  <p:cNvSpPr/>
                  <p:nvPr/>
                </p:nvSpPr>
                <p:spPr>
                  <a:xfrm flipH="1" flipV="1" rot="16200000">
                    <a:off x="13038480" y="18697680"/>
                    <a:ext cx="36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6" name=""/>
                  <p:cNvSpPr/>
                  <p:nvPr/>
                </p:nvSpPr>
                <p:spPr>
                  <a:xfrm flipH="1" flipV="1" rot="16200000">
                    <a:off x="13038480" y="18711000"/>
                    <a:ext cx="36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7" name=""/>
                  <p:cNvSpPr/>
                  <p:nvPr/>
                </p:nvSpPr>
                <p:spPr>
                  <a:xfrm flipH="1" flipV="1" rot="16200000">
                    <a:off x="13038120" y="18549360"/>
                    <a:ext cx="108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8" name=""/>
                  <p:cNvSpPr/>
                  <p:nvPr/>
                </p:nvSpPr>
                <p:spPr>
                  <a:xfrm flipH="1" flipV="1" rot="16200000">
                    <a:off x="13038120" y="18562680"/>
                    <a:ext cx="144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9" name=""/>
                  <p:cNvSpPr/>
                  <p:nvPr/>
                </p:nvSpPr>
                <p:spPr>
                  <a:xfrm flipH="1" flipV="1" rot="16200000">
                    <a:off x="13025880" y="18583920"/>
                    <a:ext cx="36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925">
                        <a:moveTo>
                          <a:pt x="0" y="0"/>
                        </a:moveTo>
                        <a:lnTo>
                          <a:pt x="18" y="1925"/>
                        </a:lnTo>
                        <a:lnTo>
                          <a:pt x="19" y="1925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0" name=""/>
                  <p:cNvSpPr/>
                  <p:nvPr/>
                </p:nvSpPr>
                <p:spPr>
                  <a:xfrm flipH="1" flipV="1" rot="16200000">
                    <a:off x="12970080" y="18617040"/>
                    <a:ext cx="2016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8" h="605">
                        <a:moveTo>
                          <a:pt x="0" y="0"/>
                        </a:moveTo>
                        <a:lnTo>
                          <a:pt x="184" y="396"/>
                        </a:lnTo>
                        <a:lnTo>
                          <a:pt x="567" y="605"/>
                        </a:lnTo>
                        <a:lnTo>
                          <a:pt x="568" y="605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1" name=""/>
                  <p:cNvSpPr/>
                  <p:nvPr/>
                </p:nvSpPr>
                <p:spPr>
                  <a:xfrm flipH="1" flipV="1" rot="16200000">
                    <a:off x="12927240" y="18677880"/>
                    <a:ext cx="8136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269" h="103">
                        <a:moveTo>
                          <a:pt x="0" y="2"/>
                        </a:moveTo>
                        <a:lnTo>
                          <a:pt x="1135" y="103"/>
                        </a:lnTo>
                        <a:lnTo>
                          <a:pt x="2268" y="0"/>
                        </a:lnTo>
                        <a:lnTo>
                          <a:pt x="2269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2" name=""/>
                  <p:cNvSpPr/>
                  <p:nvPr/>
                </p:nvSpPr>
                <p:spPr>
                  <a:xfrm flipH="1" flipV="1" rot="16200000">
                    <a:off x="12970080" y="18718920"/>
                    <a:ext cx="2016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8" h="605">
                        <a:moveTo>
                          <a:pt x="0" y="605"/>
                        </a:moveTo>
                        <a:lnTo>
                          <a:pt x="382" y="396"/>
                        </a:lnTo>
                        <a:lnTo>
                          <a:pt x="567" y="0"/>
                        </a:lnTo>
                        <a:lnTo>
                          <a:pt x="568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3" name=""/>
                  <p:cNvSpPr/>
                  <p:nvPr/>
                </p:nvSpPr>
                <p:spPr>
                  <a:xfrm flipH="1" flipV="1" rot="16200000">
                    <a:off x="13025880" y="18705960"/>
                    <a:ext cx="36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925">
                        <a:moveTo>
                          <a:pt x="0" y="1925"/>
                        </a:moveTo>
                        <a:lnTo>
                          <a:pt x="16" y="0"/>
                        </a:lnTo>
                        <a:lnTo>
                          <a:pt x="17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4" name=""/>
                  <p:cNvSpPr/>
                  <p:nvPr/>
                </p:nvSpPr>
                <p:spPr>
                  <a:xfrm flipH="1" flipV="1" rot="16200000">
                    <a:off x="13062240" y="18712800"/>
                    <a:ext cx="2556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745" h="787">
                        <a:moveTo>
                          <a:pt x="745" y="787"/>
                        </a:moveTo>
                        <a:lnTo>
                          <a:pt x="623" y="420"/>
                        </a:lnTo>
                        <a:lnTo>
                          <a:pt x="358" y="14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5" name=""/>
                  <p:cNvSpPr/>
                  <p:nvPr/>
                </p:nvSpPr>
                <p:spPr>
                  <a:xfrm flipH="1" flipV="1" rot="16200000">
                    <a:off x="13055760" y="18677520"/>
                    <a:ext cx="7020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1947" h="77">
                        <a:moveTo>
                          <a:pt x="1947" y="76"/>
                        </a:moveTo>
                        <a:lnTo>
                          <a:pt x="974" y="0"/>
                        </a:lnTo>
                        <a:lnTo>
                          <a:pt x="0" y="77"/>
                        </a:lnTo>
                        <a:lnTo>
                          <a:pt x="1" y="77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6" name=""/>
                  <p:cNvSpPr/>
                  <p:nvPr/>
                </p:nvSpPr>
                <p:spPr>
                  <a:xfrm flipH="1" flipV="1" rot="16200000">
                    <a:off x="13061880" y="18617040"/>
                    <a:ext cx="2592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744" h="788">
                        <a:moveTo>
                          <a:pt x="744" y="0"/>
                        </a:moveTo>
                        <a:lnTo>
                          <a:pt x="386" y="141"/>
                        </a:lnTo>
                        <a:lnTo>
                          <a:pt x="121" y="421"/>
                        </a:lnTo>
                        <a:lnTo>
                          <a:pt x="0" y="788"/>
                        </a:lnTo>
                        <a:lnTo>
                          <a:pt x="1" y="788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7" name=""/>
                  <p:cNvSpPr/>
                  <p:nvPr/>
                </p:nvSpPr>
                <p:spPr>
                  <a:xfrm flipH="1" flipV="1" rot="16200000">
                    <a:off x="12982320" y="18753480"/>
                    <a:ext cx="129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50" h="0">
                        <a:moveTo>
                          <a:pt x="0" y="0"/>
                        </a:moveTo>
                        <a:lnTo>
                          <a:pt x="349" y="0"/>
                        </a:lnTo>
                        <a:lnTo>
                          <a:pt x="350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8" name=""/>
                  <p:cNvSpPr/>
                  <p:nvPr/>
                </p:nvSpPr>
                <p:spPr>
                  <a:xfrm flipH="1" flipV="1" rot="16200000">
                    <a:off x="12982680" y="18604440"/>
                    <a:ext cx="1260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49" h="0">
                        <a:moveTo>
                          <a:pt x="349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9" name=""/>
                  <p:cNvSpPr/>
                  <p:nvPr/>
                </p:nvSpPr>
                <p:spPr>
                  <a:xfrm flipH="1" flipV="1" rot="16200000">
                    <a:off x="13080960" y="18753480"/>
                    <a:ext cx="129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50" h="0">
                        <a:moveTo>
                          <a:pt x="0" y="0"/>
                        </a:moveTo>
                        <a:lnTo>
                          <a:pt x="349" y="0"/>
                        </a:lnTo>
                        <a:lnTo>
                          <a:pt x="350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0" name=""/>
                  <p:cNvSpPr/>
                  <p:nvPr/>
                </p:nvSpPr>
                <p:spPr>
                  <a:xfrm flipH="1" flipV="1" rot="16200000">
                    <a:off x="13084200" y="18678600"/>
                    <a:ext cx="2412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8" h="0">
                        <a:moveTo>
                          <a:pt x="698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1" name=""/>
                  <p:cNvSpPr/>
                  <p:nvPr/>
                </p:nvSpPr>
                <p:spPr>
                  <a:xfrm flipH="1" flipV="1" rot="16200000">
                    <a:off x="13093560" y="18690120"/>
                    <a:ext cx="144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33">
                        <a:moveTo>
                          <a:pt x="0" y="133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2" name=""/>
                  <p:cNvSpPr/>
                  <p:nvPr/>
                </p:nvSpPr>
                <p:spPr>
                  <a:xfrm flipH="1" flipV="1" rot="16200000">
                    <a:off x="13094280" y="18664920"/>
                    <a:ext cx="36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34">
                        <a:moveTo>
                          <a:pt x="0" y="134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3" name=""/>
                  <p:cNvSpPr/>
                  <p:nvPr/>
                </p:nvSpPr>
                <p:spPr>
                  <a:xfrm flipH="1" flipV="1" rot="16200000">
                    <a:off x="13081320" y="18604440"/>
                    <a:ext cx="1260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49" h="0">
                        <a:moveTo>
                          <a:pt x="349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4" name=""/>
                  <p:cNvSpPr/>
                  <p:nvPr/>
                </p:nvSpPr>
                <p:spPr>
                  <a:xfrm flipH="1" flipV="1" rot="16200000">
                    <a:off x="13056840" y="18669240"/>
                    <a:ext cx="12168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3444" h="562">
                        <a:moveTo>
                          <a:pt x="3405" y="560"/>
                        </a:moveTo>
                        <a:lnTo>
                          <a:pt x="3444" y="429"/>
                        </a:lnTo>
                        <a:lnTo>
                          <a:pt x="3366" y="316"/>
                        </a:lnTo>
                        <a:lnTo>
                          <a:pt x="2559" y="78"/>
                        </a:lnTo>
                        <a:lnTo>
                          <a:pt x="1722" y="0"/>
                        </a:lnTo>
                        <a:lnTo>
                          <a:pt x="884" y="79"/>
                        </a:lnTo>
                        <a:lnTo>
                          <a:pt x="78" y="318"/>
                        </a:lnTo>
                        <a:lnTo>
                          <a:pt x="0" y="430"/>
                        </a:lnTo>
                        <a:lnTo>
                          <a:pt x="39" y="562"/>
                        </a:lnTo>
                        <a:lnTo>
                          <a:pt x="40" y="562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5" name=""/>
                  <p:cNvSpPr/>
                  <p:nvPr/>
                </p:nvSpPr>
                <p:spPr>
                  <a:xfrm flipH="1" flipV="1" rot="16200000">
                    <a:off x="13046760" y="18664920"/>
                    <a:ext cx="11304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52" h="740">
                        <a:moveTo>
                          <a:pt x="3152" y="738"/>
                        </a:moveTo>
                        <a:lnTo>
                          <a:pt x="3126" y="512"/>
                        </a:lnTo>
                        <a:lnTo>
                          <a:pt x="2966" y="350"/>
                        </a:lnTo>
                        <a:lnTo>
                          <a:pt x="2290" y="101"/>
                        </a:lnTo>
                        <a:lnTo>
                          <a:pt x="1576" y="0"/>
                        </a:lnTo>
                        <a:lnTo>
                          <a:pt x="862" y="102"/>
                        </a:lnTo>
                        <a:lnTo>
                          <a:pt x="186" y="352"/>
                        </a:lnTo>
                        <a:lnTo>
                          <a:pt x="26" y="514"/>
                        </a:lnTo>
                        <a:lnTo>
                          <a:pt x="0" y="740"/>
                        </a:lnTo>
                        <a:lnTo>
                          <a:pt x="1" y="74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6" name=""/>
                  <p:cNvSpPr/>
                  <p:nvPr/>
                </p:nvSpPr>
                <p:spPr>
                  <a:xfrm flipH="1" flipV="1" rot="16200000">
                    <a:off x="13073760" y="18643680"/>
                    <a:ext cx="3564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023" h="298">
                        <a:moveTo>
                          <a:pt x="1023" y="0"/>
                        </a:moveTo>
                        <a:lnTo>
                          <a:pt x="496" y="98"/>
                        </a:lnTo>
                        <a:lnTo>
                          <a:pt x="0" y="298"/>
                        </a:lnTo>
                        <a:lnTo>
                          <a:pt x="2" y="298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7" name=""/>
                  <p:cNvSpPr/>
                  <p:nvPr/>
                </p:nvSpPr>
                <p:spPr>
                  <a:xfrm flipH="1" flipV="1" rot="16200000">
                    <a:off x="13083120" y="18624600"/>
                    <a:ext cx="828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203" h="97">
                        <a:moveTo>
                          <a:pt x="0" y="0"/>
                        </a:moveTo>
                        <a:lnTo>
                          <a:pt x="78" y="97"/>
                        </a:lnTo>
                        <a:lnTo>
                          <a:pt x="201" y="93"/>
                        </a:lnTo>
                        <a:lnTo>
                          <a:pt x="203" y="9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8" name=""/>
                  <p:cNvSpPr/>
                  <p:nvPr/>
                </p:nvSpPr>
                <p:spPr>
                  <a:xfrm flipH="1" flipV="1" rot="16200000">
                    <a:off x="13095720" y="18612000"/>
                    <a:ext cx="432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496">
                        <a:moveTo>
                          <a:pt x="109" y="496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9" name=""/>
                  <p:cNvSpPr/>
                  <p:nvPr/>
                </p:nvSpPr>
                <p:spPr>
                  <a:xfrm flipH="1" flipV="1" rot="16200000">
                    <a:off x="13108680" y="18616320"/>
                    <a:ext cx="288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160">
                        <a:moveTo>
                          <a:pt x="84" y="0"/>
                        </a:moveTo>
                        <a:lnTo>
                          <a:pt x="13" y="64"/>
                        </a:lnTo>
                        <a:lnTo>
                          <a:pt x="0" y="160"/>
                        </a:lnTo>
                        <a:lnTo>
                          <a:pt x="1" y="16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0" name=""/>
                  <p:cNvSpPr/>
                  <p:nvPr/>
                </p:nvSpPr>
                <p:spPr>
                  <a:xfrm flipH="1" flipV="1" rot="16200000">
                    <a:off x="13108680" y="18735120"/>
                    <a:ext cx="288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159">
                        <a:moveTo>
                          <a:pt x="84" y="159"/>
                        </a:moveTo>
                        <a:lnTo>
                          <a:pt x="71" y="64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1" name=""/>
                  <p:cNvSpPr/>
                  <p:nvPr/>
                </p:nvSpPr>
                <p:spPr>
                  <a:xfrm flipH="1" flipV="1" rot="16200000">
                    <a:off x="13096080" y="18729360"/>
                    <a:ext cx="396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496">
                        <a:moveTo>
                          <a:pt x="109" y="0"/>
                        </a:moveTo>
                        <a:lnTo>
                          <a:pt x="0" y="496"/>
                        </a:lnTo>
                        <a:lnTo>
                          <a:pt x="1" y="496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2" name=""/>
                  <p:cNvSpPr/>
                  <p:nvPr/>
                </p:nvSpPr>
                <p:spPr>
                  <a:xfrm flipH="1" flipV="1" rot="16200000">
                    <a:off x="13083120" y="18729360"/>
                    <a:ext cx="828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202" h="98">
                        <a:moveTo>
                          <a:pt x="0" y="94"/>
                        </a:moveTo>
                        <a:lnTo>
                          <a:pt x="124" y="98"/>
                        </a:lnTo>
                        <a:lnTo>
                          <a:pt x="201" y="0"/>
                        </a:lnTo>
                        <a:lnTo>
                          <a:pt x="202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3" name=""/>
                  <p:cNvSpPr/>
                  <p:nvPr/>
                </p:nvSpPr>
                <p:spPr>
                  <a:xfrm flipH="1" flipV="1" rot="16200000">
                    <a:off x="13073760" y="18704520"/>
                    <a:ext cx="3600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021" h="297">
                        <a:moveTo>
                          <a:pt x="1021" y="297"/>
                        </a:moveTo>
                        <a:lnTo>
                          <a:pt x="525" y="97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14" name=""/>
                <p:cNvGrpSpPr/>
                <p:nvPr/>
              </p:nvGrpSpPr>
              <p:grpSpPr>
                <a:xfrm>
                  <a:off x="12610800" y="18378360"/>
                  <a:ext cx="513360" cy="608040"/>
                  <a:chOff x="12610800" y="18378360"/>
                  <a:chExt cx="513360" cy="608040"/>
                </a:xfrm>
              </p:grpSpPr>
              <p:sp>
                <p:nvSpPr>
                  <p:cNvPr id="1315" name=""/>
                  <p:cNvSpPr/>
                  <p:nvPr/>
                </p:nvSpPr>
                <p:spPr>
                  <a:xfrm>
                    <a:off x="12610800" y="18390960"/>
                    <a:ext cx="324000" cy="582480"/>
                  </a:xfrm>
                  <a:prstGeom prst="rect">
                    <a:avLst/>
                  </a:prstGeom>
                  <a:noFill/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16" name=""/>
                  <p:cNvGrpSpPr/>
                  <p:nvPr/>
                </p:nvGrpSpPr>
                <p:grpSpPr>
                  <a:xfrm>
                    <a:off x="12950280" y="18795960"/>
                    <a:ext cx="160920" cy="161280"/>
                    <a:chOff x="12950280" y="18795960"/>
                    <a:chExt cx="160920" cy="161280"/>
                  </a:xfrm>
                </p:grpSpPr>
                <p:sp>
                  <p:nvSpPr>
                    <p:cNvPr id="1317" name=""/>
                    <p:cNvSpPr/>
                    <p:nvPr/>
                  </p:nvSpPr>
                  <p:spPr>
                    <a:xfrm flipV="1" rot="16200000">
                      <a:off x="13022280" y="18759600"/>
                      <a:ext cx="360" cy="9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733">
                          <a:moveTo>
                            <a:pt x="0" y="0"/>
                          </a:moveTo>
                          <a:lnTo>
                            <a:pt x="1" y="2733"/>
                          </a:lnTo>
                          <a:lnTo>
                            <a:pt x="2" y="2733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8" name=""/>
                    <p:cNvSpPr/>
                    <p:nvPr/>
                  </p:nvSpPr>
                  <p:spPr>
                    <a:xfrm flipV="1" rot="16200000">
                      <a:off x="13022280" y="18746640"/>
                      <a:ext cx="360" cy="9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733">
                          <a:moveTo>
                            <a:pt x="0" y="0"/>
                          </a:moveTo>
                          <a:lnTo>
                            <a:pt x="1" y="2733"/>
                          </a:lnTo>
                          <a:lnTo>
                            <a:pt x="2" y="2733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9" name=""/>
                    <p:cNvSpPr/>
                    <p:nvPr/>
                  </p:nvSpPr>
                  <p:spPr>
                    <a:xfrm flipV="1" rot="16200000">
                      <a:off x="13021920" y="18907200"/>
                      <a:ext cx="1080" cy="9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733">
                          <a:moveTo>
                            <a:pt x="0" y="0"/>
                          </a:moveTo>
                          <a:lnTo>
                            <a:pt x="1" y="2733"/>
                          </a:lnTo>
                          <a:lnTo>
                            <a:pt x="2" y="2733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0" name=""/>
                    <p:cNvSpPr/>
                    <p:nvPr/>
                  </p:nvSpPr>
                  <p:spPr>
                    <a:xfrm flipV="1" rot="16200000">
                      <a:off x="13021920" y="18894960"/>
                      <a:ext cx="1440" cy="9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733">
                          <a:moveTo>
                            <a:pt x="0" y="0"/>
                          </a:moveTo>
                          <a:lnTo>
                            <a:pt x="1" y="2733"/>
                          </a:lnTo>
                          <a:lnTo>
                            <a:pt x="2" y="2733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1" name=""/>
                    <p:cNvSpPr/>
                    <p:nvPr/>
                  </p:nvSpPr>
                  <p:spPr>
                    <a:xfrm flipV="1" rot="16200000">
                      <a:off x="13010040" y="18902880"/>
                      <a:ext cx="360" cy="6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1925">
                          <a:moveTo>
                            <a:pt x="0" y="0"/>
                          </a:moveTo>
                          <a:lnTo>
                            <a:pt x="18" y="1925"/>
                          </a:lnTo>
                          <a:lnTo>
                            <a:pt x="19" y="1925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0" bIns="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2" name=""/>
                    <p:cNvSpPr/>
                    <p:nvPr/>
                  </p:nvSpPr>
                  <p:spPr>
                    <a:xfrm flipV="1" rot="16200000">
                      <a:off x="12954600" y="18916200"/>
                      <a:ext cx="1980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8" h="605">
                          <a:moveTo>
                            <a:pt x="0" y="0"/>
                          </a:moveTo>
                          <a:lnTo>
                            <a:pt x="184" y="396"/>
                          </a:lnTo>
                          <a:lnTo>
                            <a:pt x="567" y="605"/>
                          </a:lnTo>
                          <a:lnTo>
                            <a:pt x="568" y="605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3" name=""/>
                    <p:cNvSpPr/>
                    <p:nvPr/>
                  </p:nvSpPr>
                  <p:spPr>
                    <a:xfrm flipV="1" rot="16200000">
                      <a:off x="12911040" y="18875160"/>
                      <a:ext cx="81000" cy="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69" h="103">
                          <a:moveTo>
                            <a:pt x="0" y="2"/>
                          </a:moveTo>
                          <a:lnTo>
                            <a:pt x="1135" y="103"/>
                          </a:lnTo>
                          <a:lnTo>
                            <a:pt x="2268" y="0"/>
                          </a:lnTo>
                          <a:lnTo>
                            <a:pt x="2269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4" name=""/>
                    <p:cNvSpPr/>
                    <p:nvPr/>
                  </p:nvSpPr>
                  <p:spPr>
                    <a:xfrm flipV="1" rot="16200000">
                      <a:off x="12954600" y="18815040"/>
                      <a:ext cx="1980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8" h="605">
                          <a:moveTo>
                            <a:pt x="0" y="605"/>
                          </a:moveTo>
                          <a:lnTo>
                            <a:pt x="382" y="396"/>
                          </a:lnTo>
                          <a:lnTo>
                            <a:pt x="567" y="0"/>
                          </a:lnTo>
                          <a:lnTo>
                            <a:pt x="568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5" name=""/>
                    <p:cNvSpPr/>
                    <p:nvPr/>
                  </p:nvSpPr>
                  <p:spPr>
                    <a:xfrm flipV="1" rot="16200000">
                      <a:off x="13010040" y="18781560"/>
                      <a:ext cx="360" cy="6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925">
                          <a:moveTo>
                            <a:pt x="0" y="1925"/>
                          </a:moveTo>
                          <a:lnTo>
                            <a:pt x="16" y="0"/>
                          </a:lnTo>
                          <a:lnTo>
                            <a:pt x="17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0" bIns="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6" name=""/>
                    <p:cNvSpPr/>
                    <p:nvPr/>
                  </p:nvSpPr>
                  <p:spPr>
                    <a:xfrm flipV="1" rot="16200000">
                      <a:off x="13046040" y="18815040"/>
                      <a:ext cx="2520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45" h="787">
                          <a:moveTo>
                            <a:pt x="745" y="787"/>
                          </a:moveTo>
                          <a:lnTo>
                            <a:pt x="623" y="420"/>
                          </a:lnTo>
                          <a:lnTo>
                            <a:pt x="358" y="140"/>
                          </a:ln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7" name=""/>
                    <p:cNvSpPr/>
                    <p:nvPr/>
                  </p:nvSpPr>
                  <p:spPr>
                    <a:xfrm flipV="1" rot="16200000">
                      <a:off x="13039560" y="18875160"/>
                      <a:ext cx="69480" cy="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47" h="77">
                          <a:moveTo>
                            <a:pt x="1947" y="76"/>
                          </a:moveTo>
                          <a:lnTo>
                            <a:pt x="974" y="0"/>
                          </a:lnTo>
                          <a:lnTo>
                            <a:pt x="0" y="77"/>
                          </a:lnTo>
                          <a:lnTo>
                            <a:pt x="1" y="77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8" name=""/>
                    <p:cNvSpPr/>
                    <p:nvPr/>
                  </p:nvSpPr>
                  <p:spPr>
                    <a:xfrm flipV="1" rot="16200000">
                      <a:off x="13046040" y="18910440"/>
                      <a:ext cx="2556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44" h="788">
                          <a:moveTo>
                            <a:pt x="744" y="0"/>
                          </a:moveTo>
                          <a:lnTo>
                            <a:pt x="386" y="141"/>
                          </a:lnTo>
                          <a:lnTo>
                            <a:pt x="121" y="421"/>
                          </a:lnTo>
                          <a:lnTo>
                            <a:pt x="0" y="788"/>
                          </a:lnTo>
                          <a:lnTo>
                            <a:pt x="1" y="788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9" name=""/>
                    <p:cNvSpPr/>
                    <p:nvPr/>
                  </p:nvSpPr>
                  <p:spPr>
                    <a:xfrm flipV="1" rot="16200000">
                      <a:off x="12966840" y="18802440"/>
                      <a:ext cx="1260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0" h="0">
                          <a:moveTo>
                            <a:pt x="0" y="0"/>
                          </a:moveTo>
                          <a:lnTo>
                            <a:pt x="349" y="0"/>
                          </a:lnTo>
                          <a:lnTo>
                            <a:pt x="350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0" name=""/>
                    <p:cNvSpPr/>
                    <p:nvPr/>
                  </p:nvSpPr>
                  <p:spPr>
                    <a:xfrm flipV="1" rot="16200000">
                      <a:off x="12966840" y="18950400"/>
                      <a:ext cx="1260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9" h="0">
                          <a:moveTo>
                            <a:pt x="349" y="0"/>
                          </a:move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1" name=""/>
                    <p:cNvSpPr/>
                    <p:nvPr/>
                  </p:nvSpPr>
                  <p:spPr>
                    <a:xfrm flipV="1" rot="16200000">
                      <a:off x="13065120" y="18802440"/>
                      <a:ext cx="1260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0" h="0">
                          <a:moveTo>
                            <a:pt x="0" y="0"/>
                          </a:moveTo>
                          <a:lnTo>
                            <a:pt x="349" y="0"/>
                          </a:lnTo>
                          <a:lnTo>
                            <a:pt x="350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2" name=""/>
                    <p:cNvSpPr/>
                    <p:nvPr/>
                  </p:nvSpPr>
                  <p:spPr>
                    <a:xfrm flipV="1" rot="16200000">
                      <a:off x="13067640" y="18876600"/>
                      <a:ext cx="2412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98" h="0">
                          <a:moveTo>
                            <a:pt x="698" y="0"/>
                          </a:move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3" name=""/>
                    <p:cNvSpPr/>
                    <p:nvPr/>
                  </p:nvSpPr>
                  <p:spPr>
                    <a:xfrm flipV="1" rot="16200000">
                      <a:off x="13077000" y="18862200"/>
                      <a:ext cx="1440" cy="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33">
                          <a:moveTo>
                            <a:pt x="0" y="133"/>
                          </a:move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4" name=""/>
                    <p:cNvSpPr/>
                    <p:nvPr/>
                  </p:nvSpPr>
                  <p:spPr>
                    <a:xfrm flipV="1" rot="16200000">
                      <a:off x="13077720" y="18886680"/>
                      <a:ext cx="360" cy="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34">
                          <a:moveTo>
                            <a:pt x="0" y="134"/>
                          </a:move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5" name=""/>
                    <p:cNvSpPr/>
                    <p:nvPr/>
                  </p:nvSpPr>
                  <p:spPr>
                    <a:xfrm flipV="1" rot="16200000">
                      <a:off x="13065120" y="18950400"/>
                      <a:ext cx="1260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9" h="0">
                          <a:moveTo>
                            <a:pt x="349" y="0"/>
                          </a:move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6" name=""/>
                    <p:cNvSpPr/>
                    <p:nvPr/>
                  </p:nvSpPr>
                  <p:spPr>
                    <a:xfrm flipV="1" rot="16200000">
                      <a:off x="13041000" y="18867600"/>
                      <a:ext cx="120960" cy="1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44" h="562">
                          <a:moveTo>
                            <a:pt x="3405" y="560"/>
                          </a:moveTo>
                          <a:lnTo>
                            <a:pt x="3444" y="429"/>
                          </a:lnTo>
                          <a:lnTo>
                            <a:pt x="3366" y="316"/>
                          </a:lnTo>
                          <a:lnTo>
                            <a:pt x="2559" y="78"/>
                          </a:lnTo>
                          <a:lnTo>
                            <a:pt x="1722" y="0"/>
                          </a:lnTo>
                          <a:lnTo>
                            <a:pt x="884" y="79"/>
                          </a:lnTo>
                          <a:lnTo>
                            <a:pt x="78" y="318"/>
                          </a:lnTo>
                          <a:lnTo>
                            <a:pt x="0" y="430"/>
                          </a:lnTo>
                          <a:lnTo>
                            <a:pt x="39" y="562"/>
                          </a:lnTo>
                          <a:lnTo>
                            <a:pt x="40" y="562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7" name=""/>
                    <p:cNvSpPr/>
                    <p:nvPr/>
                  </p:nvSpPr>
                  <p:spPr>
                    <a:xfrm flipV="1" rot="16200000">
                      <a:off x="13030920" y="18862560"/>
                      <a:ext cx="11232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2" h="740">
                          <a:moveTo>
                            <a:pt x="3152" y="738"/>
                          </a:moveTo>
                          <a:lnTo>
                            <a:pt x="3126" y="512"/>
                          </a:lnTo>
                          <a:lnTo>
                            <a:pt x="2966" y="350"/>
                          </a:lnTo>
                          <a:lnTo>
                            <a:pt x="2290" y="101"/>
                          </a:lnTo>
                          <a:lnTo>
                            <a:pt x="1576" y="0"/>
                          </a:lnTo>
                          <a:lnTo>
                            <a:pt x="862" y="102"/>
                          </a:lnTo>
                          <a:lnTo>
                            <a:pt x="186" y="352"/>
                          </a:lnTo>
                          <a:lnTo>
                            <a:pt x="26" y="514"/>
                          </a:lnTo>
                          <a:lnTo>
                            <a:pt x="0" y="740"/>
                          </a:lnTo>
                          <a:lnTo>
                            <a:pt x="1" y="74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8" name=""/>
                    <p:cNvSpPr/>
                    <p:nvPr/>
                  </p:nvSpPr>
                  <p:spPr>
                    <a:xfrm flipV="1" rot="16200000">
                      <a:off x="13057200" y="18902160"/>
                      <a:ext cx="35280" cy="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23" h="298">
                          <a:moveTo>
                            <a:pt x="1023" y="0"/>
                          </a:moveTo>
                          <a:lnTo>
                            <a:pt x="496" y="98"/>
                          </a:lnTo>
                          <a:lnTo>
                            <a:pt x="0" y="298"/>
                          </a:lnTo>
                          <a:lnTo>
                            <a:pt x="2" y="298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9" name=""/>
                    <p:cNvSpPr/>
                    <p:nvPr/>
                  </p:nvSpPr>
                  <p:spPr>
                    <a:xfrm flipV="1" rot="16200000">
                      <a:off x="13066920" y="18926640"/>
                      <a:ext cx="8280" cy="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3" h="97">
                          <a:moveTo>
                            <a:pt x="0" y="0"/>
                          </a:moveTo>
                          <a:lnTo>
                            <a:pt x="78" y="97"/>
                          </a:lnTo>
                          <a:lnTo>
                            <a:pt x="201" y="93"/>
                          </a:lnTo>
                          <a:lnTo>
                            <a:pt x="203" y="93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0" name=""/>
                    <p:cNvSpPr/>
                    <p:nvPr/>
                  </p:nvSpPr>
                  <p:spPr>
                    <a:xfrm flipV="1" rot="16200000">
                      <a:off x="13079160" y="18927000"/>
                      <a:ext cx="4320" cy="16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496">
                          <a:moveTo>
                            <a:pt x="109" y="496"/>
                          </a:move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880" bIns="-29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1" name=""/>
                    <p:cNvSpPr/>
                    <p:nvPr/>
                  </p:nvSpPr>
                  <p:spPr>
                    <a:xfrm flipV="1" rot="16200000">
                      <a:off x="13092120" y="18932760"/>
                      <a:ext cx="2880" cy="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" h="160">
                          <a:moveTo>
                            <a:pt x="84" y="0"/>
                          </a:moveTo>
                          <a:lnTo>
                            <a:pt x="13" y="64"/>
                          </a:lnTo>
                          <a:lnTo>
                            <a:pt x="0" y="160"/>
                          </a:lnTo>
                          <a:lnTo>
                            <a:pt x="1" y="16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2" name=""/>
                    <p:cNvSpPr/>
                    <p:nvPr/>
                  </p:nvSpPr>
                  <p:spPr>
                    <a:xfrm flipV="1" rot="16200000">
                      <a:off x="13092120" y="18814320"/>
                      <a:ext cx="2880" cy="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" h="159">
                          <a:moveTo>
                            <a:pt x="84" y="159"/>
                          </a:moveTo>
                          <a:lnTo>
                            <a:pt x="71" y="64"/>
                          </a:ln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3" name=""/>
                    <p:cNvSpPr/>
                    <p:nvPr/>
                  </p:nvSpPr>
                  <p:spPr>
                    <a:xfrm flipV="1" rot="16200000">
                      <a:off x="13079520" y="18810000"/>
                      <a:ext cx="3960" cy="16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496">
                          <a:moveTo>
                            <a:pt x="109" y="0"/>
                          </a:moveTo>
                          <a:lnTo>
                            <a:pt x="0" y="496"/>
                          </a:lnTo>
                          <a:lnTo>
                            <a:pt x="1" y="496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880" bIns="-29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4" name=""/>
                    <p:cNvSpPr/>
                    <p:nvPr/>
                  </p:nvSpPr>
                  <p:spPr>
                    <a:xfrm flipV="1" rot="16200000">
                      <a:off x="13066920" y="18822600"/>
                      <a:ext cx="8280" cy="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2" h="98">
                          <a:moveTo>
                            <a:pt x="0" y="94"/>
                          </a:moveTo>
                          <a:lnTo>
                            <a:pt x="124" y="98"/>
                          </a:lnTo>
                          <a:lnTo>
                            <a:pt x="201" y="0"/>
                          </a:lnTo>
                          <a:lnTo>
                            <a:pt x="202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5" name=""/>
                    <p:cNvSpPr/>
                    <p:nvPr/>
                  </p:nvSpPr>
                  <p:spPr>
                    <a:xfrm flipV="1" rot="16200000">
                      <a:off x="13057200" y="18842040"/>
                      <a:ext cx="35640" cy="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21" h="297">
                          <a:moveTo>
                            <a:pt x="1021" y="297"/>
                          </a:moveTo>
                          <a:lnTo>
                            <a:pt x="525" y="97"/>
                          </a:ln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46" name=""/>
                  <p:cNvGrpSpPr/>
                  <p:nvPr/>
                </p:nvGrpSpPr>
                <p:grpSpPr>
                  <a:xfrm>
                    <a:off x="12963240" y="18410040"/>
                    <a:ext cx="160920" cy="161280"/>
                    <a:chOff x="12963240" y="18410040"/>
                    <a:chExt cx="160920" cy="161280"/>
                  </a:xfrm>
                </p:grpSpPr>
                <p:sp>
                  <p:nvSpPr>
                    <p:cNvPr id="1347" name=""/>
                    <p:cNvSpPr/>
                    <p:nvPr/>
                  </p:nvSpPr>
                  <p:spPr>
                    <a:xfrm flipV="1" rot="16200000">
                      <a:off x="13035240" y="18373680"/>
                      <a:ext cx="360" cy="9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733">
                          <a:moveTo>
                            <a:pt x="0" y="0"/>
                          </a:moveTo>
                          <a:lnTo>
                            <a:pt x="1" y="2733"/>
                          </a:lnTo>
                          <a:lnTo>
                            <a:pt x="2" y="2733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8" name=""/>
                    <p:cNvSpPr/>
                    <p:nvPr/>
                  </p:nvSpPr>
                  <p:spPr>
                    <a:xfrm flipV="1" rot="16200000">
                      <a:off x="13035240" y="18360720"/>
                      <a:ext cx="360" cy="9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733">
                          <a:moveTo>
                            <a:pt x="0" y="0"/>
                          </a:moveTo>
                          <a:lnTo>
                            <a:pt x="1" y="2733"/>
                          </a:lnTo>
                          <a:lnTo>
                            <a:pt x="2" y="2733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9" name=""/>
                    <p:cNvSpPr/>
                    <p:nvPr/>
                  </p:nvSpPr>
                  <p:spPr>
                    <a:xfrm flipV="1" rot="16200000">
                      <a:off x="13034880" y="18521280"/>
                      <a:ext cx="1080" cy="9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733">
                          <a:moveTo>
                            <a:pt x="0" y="0"/>
                          </a:moveTo>
                          <a:lnTo>
                            <a:pt x="1" y="2733"/>
                          </a:lnTo>
                          <a:lnTo>
                            <a:pt x="2" y="2733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0" name=""/>
                    <p:cNvSpPr/>
                    <p:nvPr/>
                  </p:nvSpPr>
                  <p:spPr>
                    <a:xfrm flipV="1" rot="16200000">
                      <a:off x="13034880" y="18509040"/>
                      <a:ext cx="1440" cy="9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733">
                          <a:moveTo>
                            <a:pt x="0" y="0"/>
                          </a:moveTo>
                          <a:lnTo>
                            <a:pt x="1" y="2733"/>
                          </a:lnTo>
                          <a:lnTo>
                            <a:pt x="2" y="2733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1" name=""/>
                    <p:cNvSpPr/>
                    <p:nvPr/>
                  </p:nvSpPr>
                  <p:spPr>
                    <a:xfrm flipV="1" rot="16200000">
                      <a:off x="13023000" y="18516960"/>
                      <a:ext cx="360" cy="6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1925">
                          <a:moveTo>
                            <a:pt x="0" y="0"/>
                          </a:moveTo>
                          <a:lnTo>
                            <a:pt x="18" y="1925"/>
                          </a:lnTo>
                          <a:lnTo>
                            <a:pt x="19" y="1925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0" bIns="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2" name=""/>
                    <p:cNvSpPr/>
                    <p:nvPr/>
                  </p:nvSpPr>
                  <p:spPr>
                    <a:xfrm flipV="1" rot="16200000">
                      <a:off x="12967560" y="18530280"/>
                      <a:ext cx="1980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8" h="605">
                          <a:moveTo>
                            <a:pt x="0" y="0"/>
                          </a:moveTo>
                          <a:lnTo>
                            <a:pt x="184" y="396"/>
                          </a:lnTo>
                          <a:lnTo>
                            <a:pt x="567" y="605"/>
                          </a:lnTo>
                          <a:lnTo>
                            <a:pt x="568" y="605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3" name=""/>
                    <p:cNvSpPr/>
                    <p:nvPr/>
                  </p:nvSpPr>
                  <p:spPr>
                    <a:xfrm flipV="1" rot="16200000">
                      <a:off x="12924000" y="18489240"/>
                      <a:ext cx="81000" cy="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69" h="103">
                          <a:moveTo>
                            <a:pt x="0" y="2"/>
                          </a:moveTo>
                          <a:lnTo>
                            <a:pt x="1135" y="103"/>
                          </a:lnTo>
                          <a:lnTo>
                            <a:pt x="2268" y="0"/>
                          </a:lnTo>
                          <a:lnTo>
                            <a:pt x="2269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4" name=""/>
                    <p:cNvSpPr/>
                    <p:nvPr/>
                  </p:nvSpPr>
                  <p:spPr>
                    <a:xfrm flipV="1" rot="16200000">
                      <a:off x="12967560" y="18429120"/>
                      <a:ext cx="1980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8" h="605">
                          <a:moveTo>
                            <a:pt x="0" y="605"/>
                          </a:moveTo>
                          <a:lnTo>
                            <a:pt x="382" y="396"/>
                          </a:lnTo>
                          <a:lnTo>
                            <a:pt x="567" y="0"/>
                          </a:lnTo>
                          <a:lnTo>
                            <a:pt x="568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5" name=""/>
                    <p:cNvSpPr/>
                    <p:nvPr/>
                  </p:nvSpPr>
                  <p:spPr>
                    <a:xfrm flipV="1" rot="16200000">
                      <a:off x="13023000" y="18395640"/>
                      <a:ext cx="360" cy="6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925">
                          <a:moveTo>
                            <a:pt x="0" y="1925"/>
                          </a:moveTo>
                          <a:lnTo>
                            <a:pt x="16" y="0"/>
                          </a:lnTo>
                          <a:lnTo>
                            <a:pt x="17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0" bIns="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6" name=""/>
                    <p:cNvSpPr/>
                    <p:nvPr/>
                  </p:nvSpPr>
                  <p:spPr>
                    <a:xfrm flipV="1" rot="16200000">
                      <a:off x="13059000" y="18429120"/>
                      <a:ext cx="2520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45" h="787">
                          <a:moveTo>
                            <a:pt x="745" y="787"/>
                          </a:moveTo>
                          <a:lnTo>
                            <a:pt x="623" y="420"/>
                          </a:lnTo>
                          <a:lnTo>
                            <a:pt x="358" y="140"/>
                          </a:ln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7" name=""/>
                    <p:cNvSpPr/>
                    <p:nvPr/>
                  </p:nvSpPr>
                  <p:spPr>
                    <a:xfrm flipV="1" rot="16200000">
                      <a:off x="13052520" y="18489240"/>
                      <a:ext cx="69480" cy="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47" h="77">
                          <a:moveTo>
                            <a:pt x="1947" y="76"/>
                          </a:moveTo>
                          <a:lnTo>
                            <a:pt x="974" y="0"/>
                          </a:lnTo>
                          <a:lnTo>
                            <a:pt x="0" y="77"/>
                          </a:lnTo>
                          <a:lnTo>
                            <a:pt x="1" y="77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8" name=""/>
                    <p:cNvSpPr/>
                    <p:nvPr/>
                  </p:nvSpPr>
                  <p:spPr>
                    <a:xfrm flipV="1" rot="16200000">
                      <a:off x="13059000" y="18524520"/>
                      <a:ext cx="2556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44" h="788">
                          <a:moveTo>
                            <a:pt x="744" y="0"/>
                          </a:moveTo>
                          <a:lnTo>
                            <a:pt x="386" y="141"/>
                          </a:lnTo>
                          <a:lnTo>
                            <a:pt x="121" y="421"/>
                          </a:lnTo>
                          <a:lnTo>
                            <a:pt x="0" y="788"/>
                          </a:lnTo>
                          <a:lnTo>
                            <a:pt x="1" y="788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9" name=""/>
                    <p:cNvSpPr/>
                    <p:nvPr/>
                  </p:nvSpPr>
                  <p:spPr>
                    <a:xfrm flipV="1" rot="16200000">
                      <a:off x="12979800" y="18416520"/>
                      <a:ext cx="1260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0" h="0">
                          <a:moveTo>
                            <a:pt x="0" y="0"/>
                          </a:moveTo>
                          <a:lnTo>
                            <a:pt x="349" y="0"/>
                          </a:lnTo>
                          <a:lnTo>
                            <a:pt x="350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0" name=""/>
                    <p:cNvSpPr/>
                    <p:nvPr/>
                  </p:nvSpPr>
                  <p:spPr>
                    <a:xfrm flipV="1" rot="16200000">
                      <a:off x="12979800" y="18564480"/>
                      <a:ext cx="1260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9" h="0">
                          <a:moveTo>
                            <a:pt x="349" y="0"/>
                          </a:move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1" name=""/>
                    <p:cNvSpPr/>
                    <p:nvPr/>
                  </p:nvSpPr>
                  <p:spPr>
                    <a:xfrm flipV="1" rot="16200000">
                      <a:off x="13078080" y="18416520"/>
                      <a:ext cx="1260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0" h="0">
                          <a:moveTo>
                            <a:pt x="0" y="0"/>
                          </a:moveTo>
                          <a:lnTo>
                            <a:pt x="349" y="0"/>
                          </a:lnTo>
                          <a:lnTo>
                            <a:pt x="350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2" name=""/>
                    <p:cNvSpPr/>
                    <p:nvPr/>
                  </p:nvSpPr>
                  <p:spPr>
                    <a:xfrm flipV="1" rot="16200000">
                      <a:off x="13080600" y="18490680"/>
                      <a:ext cx="2412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98" h="0">
                          <a:moveTo>
                            <a:pt x="698" y="0"/>
                          </a:move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3" name=""/>
                    <p:cNvSpPr/>
                    <p:nvPr/>
                  </p:nvSpPr>
                  <p:spPr>
                    <a:xfrm flipV="1" rot="16200000">
                      <a:off x="13089960" y="18476280"/>
                      <a:ext cx="1440" cy="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33">
                          <a:moveTo>
                            <a:pt x="0" y="133"/>
                          </a:move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4" name=""/>
                    <p:cNvSpPr/>
                    <p:nvPr/>
                  </p:nvSpPr>
                  <p:spPr>
                    <a:xfrm flipV="1" rot="16200000">
                      <a:off x="13090680" y="18500760"/>
                      <a:ext cx="360" cy="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34">
                          <a:moveTo>
                            <a:pt x="0" y="134"/>
                          </a:move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5" name=""/>
                    <p:cNvSpPr/>
                    <p:nvPr/>
                  </p:nvSpPr>
                  <p:spPr>
                    <a:xfrm flipV="1" rot="16200000">
                      <a:off x="13078080" y="18564480"/>
                      <a:ext cx="1260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9" h="0">
                          <a:moveTo>
                            <a:pt x="349" y="0"/>
                          </a:move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6" name=""/>
                    <p:cNvSpPr/>
                    <p:nvPr/>
                  </p:nvSpPr>
                  <p:spPr>
                    <a:xfrm flipV="1" rot="16200000">
                      <a:off x="13053960" y="18481680"/>
                      <a:ext cx="120960" cy="1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44" h="562">
                          <a:moveTo>
                            <a:pt x="3405" y="560"/>
                          </a:moveTo>
                          <a:lnTo>
                            <a:pt x="3444" y="429"/>
                          </a:lnTo>
                          <a:lnTo>
                            <a:pt x="3366" y="316"/>
                          </a:lnTo>
                          <a:lnTo>
                            <a:pt x="2559" y="78"/>
                          </a:lnTo>
                          <a:lnTo>
                            <a:pt x="1722" y="0"/>
                          </a:lnTo>
                          <a:lnTo>
                            <a:pt x="884" y="79"/>
                          </a:lnTo>
                          <a:lnTo>
                            <a:pt x="78" y="318"/>
                          </a:lnTo>
                          <a:lnTo>
                            <a:pt x="0" y="430"/>
                          </a:lnTo>
                          <a:lnTo>
                            <a:pt x="39" y="562"/>
                          </a:lnTo>
                          <a:lnTo>
                            <a:pt x="40" y="562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7" name=""/>
                    <p:cNvSpPr/>
                    <p:nvPr/>
                  </p:nvSpPr>
                  <p:spPr>
                    <a:xfrm flipV="1" rot="16200000">
                      <a:off x="13043880" y="18476640"/>
                      <a:ext cx="11232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2" h="740">
                          <a:moveTo>
                            <a:pt x="3152" y="738"/>
                          </a:moveTo>
                          <a:lnTo>
                            <a:pt x="3126" y="512"/>
                          </a:lnTo>
                          <a:lnTo>
                            <a:pt x="2966" y="350"/>
                          </a:lnTo>
                          <a:lnTo>
                            <a:pt x="2290" y="101"/>
                          </a:lnTo>
                          <a:lnTo>
                            <a:pt x="1576" y="0"/>
                          </a:lnTo>
                          <a:lnTo>
                            <a:pt x="862" y="102"/>
                          </a:lnTo>
                          <a:lnTo>
                            <a:pt x="186" y="352"/>
                          </a:lnTo>
                          <a:lnTo>
                            <a:pt x="26" y="514"/>
                          </a:lnTo>
                          <a:lnTo>
                            <a:pt x="0" y="740"/>
                          </a:lnTo>
                          <a:lnTo>
                            <a:pt x="1" y="74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8" name=""/>
                    <p:cNvSpPr/>
                    <p:nvPr/>
                  </p:nvSpPr>
                  <p:spPr>
                    <a:xfrm flipV="1" rot="16200000">
                      <a:off x="13070160" y="18516240"/>
                      <a:ext cx="35280" cy="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23" h="298">
                          <a:moveTo>
                            <a:pt x="1023" y="0"/>
                          </a:moveTo>
                          <a:lnTo>
                            <a:pt x="496" y="98"/>
                          </a:lnTo>
                          <a:lnTo>
                            <a:pt x="0" y="298"/>
                          </a:lnTo>
                          <a:lnTo>
                            <a:pt x="2" y="298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9" name=""/>
                    <p:cNvSpPr/>
                    <p:nvPr/>
                  </p:nvSpPr>
                  <p:spPr>
                    <a:xfrm flipV="1" rot="16200000">
                      <a:off x="13079880" y="18540720"/>
                      <a:ext cx="8280" cy="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3" h="97">
                          <a:moveTo>
                            <a:pt x="0" y="0"/>
                          </a:moveTo>
                          <a:lnTo>
                            <a:pt x="78" y="97"/>
                          </a:lnTo>
                          <a:lnTo>
                            <a:pt x="201" y="93"/>
                          </a:lnTo>
                          <a:lnTo>
                            <a:pt x="203" y="93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0" name=""/>
                    <p:cNvSpPr/>
                    <p:nvPr/>
                  </p:nvSpPr>
                  <p:spPr>
                    <a:xfrm flipV="1" rot="16200000">
                      <a:off x="13092120" y="18541080"/>
                      <a:ext cx="4320" cy="16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496">
                          <a:moveTo>
                            <a:pt x="109" y="496"/>
                          </a:move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880" bIns="-29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1" name=""/>
                    <p:cNvSpPr/>
                    <p:nvPr/>
                  </p:nvSpPr>
                  <p:spPr>
                    <a:xfrm flipV="1" rot="16200000">
                      <a:off x="13105080" y="18546840"/>
                      <a:ext cx="2880" cy="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" h="160">
                          <a:moveTo>
                            <a:pt x="84" y="0"/>
                          </a:moveTo>
                          <a:lnTo>
                            <a:pt x="13" y="64"/>
                          </a:lnTo>
                          <a:lnTo>
                            <a:pt x="0" y="160"/>
                          </a:lnTo>
                          <a:lnTo>
                            <a:pt x="1" y="16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2" name=""/>
                    <p:cNvSpPr/>
                    <p:nvPr/>
                  </p:nvSpPr>
                  <p:spPr>
                    <a:xfrm flipV="1" rot="16200000">
                      <a:off x="13105080" y="18428400"/>
                      <a:ext cx="2880" cy="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" h="159">
                          <a:moveTo>
                            <a:pt x="84" y="159"/>
                          </a:moveTo>
                          <a:lnTo>
                            <a:pt x="71" y="64"/>
                          </a:ln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3" name=""/>
                    <p:cNvSpPr/>
                    <p:nvPr/>
                  </p:nvSpPr>
                  <p:spPr>
                    <a:xfrm flipV="1" rot="16200000">
                      <a:off x="13092480" y="18424080"/>
                      <a:ext cx="3960" cy="16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496">
                          <a:moveTo>
                            <a:pt x="109" y="0"/>
                          </a:moveTo>
                          <a:lnTo>
                            <a:pt x="0" y="496"/>
                          </a:lnTo>
                          <a:lnTo>
                            <a:pt x="1" y="496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880" bIns="-29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4" name=""/>
                    <p:cNvSpPr/>
                    <p:nvPr/>
                  </p:nvSpPr>
                  <p:spPr>
                    <a:xfrm flipV="1" rot="16200000">
                      <a:off x="13079880" y="18436680"/>
                      <a:ext cx="8280" cy="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2" h="98">
                          <a:moveTo>
                            <a:pt x="0" y="94"/>
                          </a:moveTo>
                          <a:lnTo>
                            <a:pt x="124" y="98"/>
                          </a:lnTo>
                          <a:lnTo>
                            <a:pt x="201" y="0"/>
                          </a:lnTo>
                          <a:lnTo>
                            <a:pt x="202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5" name=""/>
                    <p:cNvSpPr/>
                    <p:nvPr/>
                  </p:nvSpPr>
                  <p:spPr>
                    <a:xfrm flipV="1" rot="16200000">
                      <a:off x="13070160" y="18456120"/>
                      <a:ext cx="35640" cy="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21" h="297">
                          <a:moveTo>
                            <a:pt x="1021" y="297"/>
                          </a:moveTo>
                          <a:lnTo>
                            <a:pt x="525" y="97"/>
                          </a:ln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76" name=""/>
                  <p:cNvGrpSpPr/>
                  <p:nvPr/>
                </p:nvGrpSpPr>
                <p:grpSpPr>
                  <a:xfrm>
                    <a:off x="12766320" y="18439200"/>
                    <a:ext cx="145440" cy="132480"/>
                    <a:chOff x="12766320" y="18439200"/>
                    <a:chExt cx="145440" cy="132480"/>
                  </a:xfrm>
                </p:grpSpPr>
                <p:sp>
                  <p:nvSpPr>
                    <p:cNvPr id="1377" name=""/>
                    <p:cNvSpPr/>
                    <p:nvPr/>
                  </p:nvSpPr>
                  <p:spPr>
                    <a:xfrm rot="5400000">
                      <a:off x="12772800" y="18432720"/>
                      <a:ext cx="132480" cy="1454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378" name=""/>
                    <p:cNvGrpSpPr/>
                    <p:nvPr/>
                  </p:nvGrpSpPr>
                  <p:grpSpPr>
                    <a:xfrm>
                      <a:off x="12775680" y="18446040"/>
                      <a:ext cx="116280" cy="116640"/>
                      <a:chOff x="12775680" y="18446040"/>
                      <a:chExt cx="116280" cy="116640"/>
                    </a:xfrm>
                  </p:grpSpPr>
                  <p:sp>
                    <p:nvSpPr>
                      <p:cNvPr id="1379" name=""/>
                      <p:cNvSpPr/>
                      <p:nvPr/>
                    </p:nvSpPr>
                    <p:spPr>
                      <a:xfrm rot="5400000">
                        <a:off x="12792600" y="18477720"/>
                        <a:ext cx="252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" h="35">
                            <a:moveTo>
                              <a:pt x="0" y="35"/>
                            </a:moveTo>
                            <a:lnTo>
                              <a:pt x="5" y="29"/>
                            </a:lnTo>
                            <a:lnTo>
                              <a:pt x="11" y="23"/>
                            </a:lnTo>
                            <a:lnTo>
                              <a:pt x="17" y="17"/>
                            </a:lnTo>
                            <a:lnTo>
                              <a:pt x="22" y="12"/>
                            </a:lnTo>
                            <a:lnTo>
                              <a:pt x="26" y="8"/>
                            </a:lnTo>
                            <a:lnTo>
                              <a:pt x="30" y="5"/>
                            </a:lnTo>
                            <a:lnTo>
                              <a:pt x="32" y="2"/>
                            </a:lnTo>
                            <a:lnTo>
                              <a:pt x="34" y="1"/>
                            </a:lnTo>
                            <a:lnTo>
                              <a:pt x="34" y="0"/>
                            </a:lnTo>
                            <a:lnTo>
                              <a:pt x="35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6633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80" name=""/>
                      <p:cNvSpPr/>
                      <p:nvPr/>
                    </p:nvSpPr>
                    <p:spPr>
                      <a:xfrm rot="5400000">
                        <a:off x="12792600" y="18477720"/>
                        <a:ext cx="252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" h="35">
                            <a:moveTo>
                              <a:pt x="0" y="35"/>
                            </a:moveTo>
                            <a:lnTo>
                              <a:pt x="5" y="29"/>
                            </a:lnTo>
                            <a:lnTo>
                              <a:pt x="11" y="23"/>
                            </a:lnTo>
                            <a:lnTo>
                              <a:pt x="17" y="17"/>
                            </a:lnTo>
                            <a:lnTo>
                              <a:pt x="22" y="12"/>
                            </a:lnTo>
                            <a:lnTo>
                              <a:pt x="26" y="8"/>
                            </a:lnTo>
                            <a:lnTo>
                              <a:pt x="30" y="5"/>
                            </a:lnTo>
                            <a:lnTo>
                              <a:pt x="32" y="2"/>
                            </a:lnTo>
                            <a:lnTo>
                              <a:pt x="34" y="1"/>
                            </a:lnTo>
                            <a:lnTo>
                              <a:pt x="34" y="0"/>
                            </a:lnTo>
                            <a:lnTo>
                              <a:pt x="35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6633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81" name=""/>
                      <p:cNvSpPr/>
                      <p:nvPr/>
                    </p:nvSpPr>
                    <p:spPr>
                      <a:xfrm rot="5400000">
                        <a:off x="12808800" y="18479520"/>
                        <a:ext cx="116640" cy="49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520" bIns="2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82" name=""/>
                      <p:cNvSpPr/>
                      <p:nvPr/>
                    </p:nvSpPr>
                    <p:spPr>
                      <a:xfrm rot="5400000">
                        <a:off x="12758040" y="18472320"/>
                        <a:ext cx="100440" cy="65160"/>
                      </a:xfrm>
                      <a:custGeom>
                        <a:avLst/>
                        <a:gdLst>
                          <a:gd name="textAreaLeft" fmla="*/ 21960 w 100440"/>
                          <a:gd name="textAreaRight" fmla="*/ 78480 w 100440"/>
                          <a:gd name="textAreaTop" fmla="*/ 14400 h 65160"/>
                          <a:gd name="textAreaBottom" fmla="*/ 50760 h 6516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21600" y="0"/>
                            </a:lnTo>
                            <a:lnTo>
                              <a:pt x="16200" y="21600"/>
                            </a:lnTo>
                            <a:lnTo>
                              <a:pt x="5400" y="2160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0440" bIns="-10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383" name=""/>
                  <p:cNvGrpSpPr/>
                  <p:nvPr/>
                </p:nvGrpSpPr>
                <p:grpSpPr>
                  <a:xfrm>
                    <a:off x="12783600" y="18610560"/>
                    <a:ext cx="145440" cy="132840"/>
                    <a:chOff x="12783600" y="18610560"/>
                    <a:chExt cx="145440" cy="132840"/>
                  </a:xfrm>
                </p:grpSpPr>
                <p:sp>
                  <p:nvSpPr>
                    <p:cNvPr id="1384" name=""/>
                    <p:cNvSpPr/>
                    <p:nvPr/>
                  </p:nvSpPr>
                  <p:spPr>
                    <a:xfrm rot="5400000">
                      <a:off x="12789720" y="18604080"/>
                      <a:ext cx="132840" cy="1454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385" name=""/>
                    <p:cNvGrpSpPr/>
                    <p:nvPr/>
                  </p:nvGrpSpPr>
                  <p:grpSpPr>
                    <a:xfrm>
                      <a:off x="12792960" y="18617400"/>
                      <a:ext cx="116280" cy="116640"/>
                      <a:chOff x="12792960" y="18617400"/>
                      <a:chExt cx="116280" cy="116640"/>
                    </a:xfrm>
                  </p:grpSpPr>
                  <p:sp>
                    <p:nvSpPr>
                      <p:cNvPr id="1386" name=""/>
                      <p:cNvSpPr/>
                      <p:nvPr/>
                    </p:nvSpPr>
                    <p:spPr>
                      <a:xfrm rot="5400000">
                        <a:off x="12809880" y="18649080"/>
                        <a:ext cx="252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" h="35">
                            <a:moveTo>
                              <a:pt x="0" y="35"/>
                            </a:moveTo>
                            <a:lnTo>
                              <a:pt x="5" y="29"/>
                            </a:lnTo>
                            <a:lnTo>
                              <a:pt x="11" y="23"/>
                            </a:lnTo>
                            <a:lnTo>
                              <a:pt x="17" y="17"/>
                            </a:lnTo>
                            <a:lnTo>
                              <a:pt x="22" y="12"/>
                            </a:lnTo>
                            <a:lnTo>
                              <a:pt x="26" y="8"/>
                            </a:lnTo>
                            <a:lnTo>
                              <a:pt x="30" y="5"/>
                            </a:lnTo>
                            <a:lnTo>
                              <a:pt x="32" y="2"/>
                            </a:lnTo>
                            <a:lnTo>
                              <a:pt x="34" y="1"/>
                            </a:lnTo>
                            <a:lnTo>
                              <a:pt x="34" y="0"/>
                            </a:lnTo>
                            <a:lnTo>
                              <a:pt x="35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6633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87" name=""/>
                      <p:cNvSpPr/>
                      <p:nvPr/>
                    </p:nvSpPr>
                    <p:spPr>
                      <a:xfrm rot="5400000">
                        <a:off x="12809880" y="18649080"/>
                        <a:ext cx="252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" h="35">
                            <a:moveTo>
                              <a:pt x="0" y="35"/>
                            </a:moveTo>
                            <a:lnTo>
                              <a:pt x="5" y="29"/>
                            </a:lnTo>
                            <a:lnTo>
                              <a:pt x="11" y="23"/>
                            </a:lnTo>
                            <a:lnTo>
                              <a:pt x="17" y="17"/>
                            </a:lnTo>
                            <a:lnTo>
                              <a:pt x="22" y="12"/>
                            </a:lnTo>
                            <a:lnTo>
                              <a:pt x="26" y="8"/>
                            </a:lnTo>
                            <a:lnTo>
                              <a:pt x="30" y="5"/>
                            </a:lnTo>
                            <a:lnTo>
                              <a:pt x="32" y="2"/>
                            </a:lnTo>
                            <a:lnTo>
                              <a:pt x="34" y="1"/>
                            </a:lnTo>
                            <a:lnTo>
                              <a:pt x="34" y="0"/>
                            </a:lnTo>
                            <a:lnTo>
                              <a:pt x="35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6633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88" name=""/>
                      <p:cNvSpPr/>
                      <p:nvPr/>
                    </p:nvSpPr>
                    <p:spPr>
                      <a:xfrm rot="5400000">
                        <a:off x="12826080" y="18650880"/>
                        <a:ext cx="116640" cy="49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520" bIns="2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89" name=""/>
                      <p:cNvSpPr/>
                      <p:nvPr/>
                    </p:nvSpPr>
                    <p:spPr>
                      <a:xfrm rot="5400000">
                        <a:off x="12775320" y="18643680"/>
                        <a:ext cx="100440" cy="65160"/>
                      </a:xfrm>
                      <a:custGeom>
                        <a:avLst/>
                        <a:gdLst>
                          <a:gd name="textAreaLeft" fmla="*/ 21960 w 100440"/>
                          <a:gd name="textAreaRight" fmla="*/ 78480 w 100440"/>
                          <a:gd name="textAreaTop" fmla="*/ 14400 h 65160"/>
                          <a:gd name="textAreaBottom" fmla="*/ 50760 h 6516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21600" y="0"/>
                            </a:lnTo>
                            <a:lnTo>
                              <a:pt x="16200" y="21600"/>
                            </a:lnTo>
                            <a:lnTo>
                              <a:pt x="5400" y="2160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0440" bIns="-10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390" name=""/>
                  <p:cNvGrpSpPr/>
                  <p:nvPr/>
                </p:nvGrpSpPr>
                <p:grpSpPr>
                  <a:xfrm>
                    <a:off x="12757680" y="18807840"/>
                    <a:ext cx="145080" cy="132480"/>
                    <a:chOff x="12757680" y="18807840"/>
                    <a:chExt cx="145080" cy="132480"/>
                  </a:xfrm>
                </p:grpSpPr>
                <p:sp>
                  <p:nvSpPr>
                    <p:cNvPr id="1391" name=""/>
                    <p:cNvSpPr/>
                    <p:nvPr/>
                  </p:nvSpPr>
                  <p:spPr>
                    <a:xfrm rot="5400000">
                      <a:off x="12763800" y="18801360"/>
                      <a:ext cx="132480" cy="1450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392" name=""/>
                    <p:cNvGrpSpPr/>
                    <p:nvPr/>
                  </p:nvGrpSpPr>
                  <p:grpSpPr>
                    <a:xfrm>
                      <a:off x="12767040" y="18814680"/>
                      <a:ext cx="115920" cy="116640"/>
                      <a:chOff x="12767040" y="18814680"/>
                      <a:chExt cx="115920" cy="116640"/>
                    </a:xfrm>
                  </p:grpSpPr>
                  <p:sp>
                    <p:nvSpPr>
                      <p:cNvPr id="1393" name=""/>
                      <p:cNvSpPr/>
                      <p:nvPr/>
                    </p:nvSpPr>
                    <p:spPr>
                      <a:xfrm rot="5400000">
                        <a:off x="12783960" y="18846360"/>
                        <a:ext cx="252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" h="35">
                            <a:moveTo>
                              <a:pt x="0" y="35"/>
                            </a:moveTo>
                            <a:lnTo>
                              <a:pt x="5" y="29"/>
                            </a:lnTo>
                            <a:lnTo>
                              <a:pt x="11" y="23"/>
                            </a:lnTo>
                            <a:lnTo>
                              <a:pt x="17" y="17"/>
                            </a:lnTo>
                            <a:lnTo>
                              <a:pt x="22" y="12"/>
                            </a:lnTo>
                            <a:lnTo>
                              <a:pt x="26" y="8"/>
                            </a:lnTo>
                            <a:lnTo>
                              <a:pt x="30" y="5"/>
                            </a:lnTo>
                            <a:lnTo>
                              <a:pt x="32" y="2"/>
                            </a:lnTo>
                            <a:lnTo>
                              <a:pt x="34" y="1"/>
                            </a:lnTo>
                            <a:lnTo>
                              <a:pt x="34" y="0"/>
                            </a:lnTo>
                            <a:lnTo>
                              <a:pt x="35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6633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94" name=""/>
                      <p:cNvSpPr/>
                      <p:nvPr/>
                    </p:nvSpPr>
                    <p:spPr>
                      <a:xfrm rot="5400000">
                        <a:off x="12783960" y="18846360"/>
                        <a:ext cx="252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" h="35">
                            <a:moveTo>
                              <a:pt x="0" y="35"/>
                            </a:moveTo>
                            <a:lnTo>
                              <a:pt x="5" y="29"/>
                            </a:lnTo>
                            <a:lnTo>
                              <a:pt x="11" y="23"/>
                            </a:lnTo>
                            <a:lnTo>
                              <a:pt x="17" y="17"/>
                            </a:lnTo>
                            <a:lnTo>
                              <a:pt x="22" y="12"/>
                            </a:lnTo>
                            <a:lnTo>
                              <a:pt x="26" y="8"/>
                            </a:lnTo>
                            <a:lnTo>
                              <a:pt x="30" y="5"/>
                            </a:lnTo>
                            <a:lnTo>
                              <a:pt x="32" y="2"/>
                            </a:lnTo>
                            <a:lnTo>
                              <a:pt x="34" y="1"/>
                            </a:lnTo>
                            <a:lnTo>
                              <a:pt x="34" y="0"/>
                            </a:lnTo>
                            <a:lnTo>
                              <a:pt x="35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6633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95" name=""/>
                      <p:cNvSpPr/>
                      <p:nvPr/>
                    </p:nvSpPr>
                    <p:spPr>
                      <a:xfrm rot="5400000">
                        <a:off x="12799800" y="18848160"/>
                        <a:ext cx="116640" cy="49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520" bIns="2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96" name=""/>
                      <p:cNvSpPr/>
                      <p:nvPr/>
                    </p:nvSpPr>
                    <p:spPr>
                      <a:xfrm rot="5400000">
                        <a:off x="12749400" y="18840960"/>
                        <a:ext cx="100440" cy="65160"/>
                      </a:xfrm>
                      <a:custGeom>
                        <a:avLst/>
                        <a:gdLst>
                          <a:gd name="textAreaLeft" fmla="*/ 21960 w 100440"/>
                          <a:gd name="textAreaRight" fmla="*/ 78480 w 100440"/>
                          <a:gd name="textAreaTop" fmla="*/ 14400 h 65160"/>
                          <a:gd name="textAreaBottom" fmla="*/ 50760 h 6516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21600" y="0"/>
                            </a:lnTo>
                            <a:lnTo>
                              <a:pt x="16200" y="21600"/>
                            </a:lnTo>
                            <a:lnTo>
                              <a:pt x="5400" y="2160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0440" bIns="-10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397" name=""/>
                  <p:cNvSpPr/>
                  <p:nvPr/>
                </p:nvSpPr>
                <p:spPr>
                  <a:xfrm>
                    <a:off x="12640680" y="18378360"/>
                    <a:ext cx="205560" cy="60804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98" name=""/>
                  <p:cNvGrpSpPr/>
                  <p:nvPr/>
                </p:nvGrpSpPr>
                <p:grpSpPr>
                  <a:xfrm>
                    <a:off x="12646080" y="18422280"/>
                    <a:ext cx="145080" cy="132480"/>
                    <a:chOff x="12646080" y="18422280"/>
                    <a:chExt cx="145080" cy="132480"/>
                  </a:xfrm>
                </p:grpSpPr>
                <p:sp>
                  <p:nvSpPr>
                    <p:cNvPr id="1399" name=""/>
                    <p:cNvSpPr/>
                    <p:nvPr/>
                  </p:nvSpPr>
                  <p:spPr>
                    <a:xfrm rot="5400000">
                      <a:off x="12652200" y="18415800"/>
                      <a:ext cx="132480" cy="1450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400" name=""/>
                    <p:cNvGrpSpPr/>
                    <p:nvPr/>
                  </p:nvGrpSpPr>
                  <p:grpSpPr>
                    <a:xfrm>
                      <a:off x="12655440" y="18429120"/>
                      <a:ext cx="115920" cy="116640"/>
                      <a:chOff x="12655440" y="18429120"/>
                      <a:chExt cx="115920" cy="116640"/>
                    </a:xfrm>
                  </p:grpSpPr>
                  <p:sp>
                    <p:nvSpPr>
                      <p:cNvPr id="1401" name=""/>
                      <p:cNvSpPr/>
                      <p:nvPr/>
                    </p:nvSpPr>
                    <p:spPr>
                      <a:xfrm rot="5400000">
                        <a:off x="12672360" y="18460800"/>
                        <a:ext cx="252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" h="35">
                            <a:moveTo>
                              <a:pt x="0" y="35"/>
                            </a:moveTo>
                            <a:lnTo>
                              <a:pt x="5" y="29"/>
                            </a:lnTo>
                            <a:lnTo>
                              <a:pt x="11" y="23"/>
                            </a:lnTo>
                            <a:lnTo>
                              <a:pt x="17" y="17"/>
                            </a:lnTo>
                            <a:lnTo>
                              <a:pt x="22" y="12"/>
                            </a:lnTo>
                            <a:lnTo>
                              <a:pt x="26" y="8"/>
                            </a:lnTo>
                            <a:lnTo>
                              <a:pt x="30" y="5"/>
                            </a:lnTo>
                            <a:lnTo>
                              <a:pt x="32" y="2"/>
                            </a:lnTo>
                            <a:lnTo>
                              <a:pt x="34" y="1"/>
                            </a:lnTo>
                            <a:lnTo>
                              <a:pt x="34" y="0"/>
                            </a:lnTo>
                            <a:lnTo>
                              <a:pt x="35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6633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02" name=""/>
                      <p:cNvSpPr/>
                      <p:nvPr/>
                    </p:nvSpPr>
                    <p:spPr>
                      <a:xfrm rot="5400000">
                        <a:off x="12672360" y="18460800"/>
                        <a:ext cx="252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" h="35">
                            <a:moveTo>
                              <a:pt x="0" y="35"/>
                            </a:moveTo>
                            <a:lnTo>
                              <a:pt x="5" y="29"/>
                            </a:lnTo>
                            <a:lnTo>
                              <a:pt x="11" y="23"/>
                            </a:lnTo>
                            <a:lnTo>
                              <a:pt x="17" y="17"/>
                            </a:lnTo>
                            <a:lnTo>
                              <a:pt x="22" y="12"/>
                            </a:lnTo>
                            <a:lnTo>
                              <a:pt x="26" y="8"/>
                            </a:lnTo>
                            <a:lnTo>
                              <a:pt x="30" y="5"/>
                            </a:lnTo>
                            <a:lnTo>
                              <a:pt x="32" y="2"/>
                            </a:lnTo>
                            <a:lnTo>
                              <a:pt x="34" y="1"/>
                            </a:lnTo>
                            <a:lnTo>
                              <a:pt x="34" y="0"/>
                            </a:lnTo>
                            <a:lnTo>
                              <a:pt x="35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6633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03" name=""/>
                      <p:cNvSpPr/>
                      <p:nvPr/>
                    </p:nvSpPr>
                    <p:spPr>
                      <a:xfrm rot="5400000">
                        <a:off x="12688200" y="18462600"/>
                        <a:ext cx="116640" cy="49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520" bIns="2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04" name=""/>
                      <p:cNvSpPr/>
                      <p:nvPr/>
                    </p:nvSpPr>
                    <p:spPr>
                      <a:xfrm rot="5400000">
                        <a:off x="12637800" y="18455400"/>
                        <a:ext cx="100440" cy="65160"/>
                      </a:xfrm>
                      <a:custGeom>
                        <a:avLst/>
                        <a:gdLst>
                          <a:gd name="textAreaLeft" fmla="*/ 21960 w 100440"/>
                          <a:gd name="textAreaRight" fmla="*/ 78480 w 100440"/>
                          <a:gd name="textAreaTop" fmla="*/ 14400 h 65160"/>
                          <a:gd name="textAreaBottom" fmla="*/ 50760 h 6516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21600" y="0"/>
                            </a:lnTo>
                            <a:lnTo>
                              <a:pt x="16200" y="21600"/>
                            </a:lnTo>
                            <a:lnTo>
                              <a:pt x="5400" y="2160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0440" bIns="-10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405" name=""/>
                  <p:cNvGrpSpPr/>
                  <p:nvPr/>
                </p:nvGrpSpPr>
                <p:grpSpPr>
                  <a:xfrm>
                    <a:off x="12646080" y="18585000"/>
                    <a:ext cx="145080" cy="132480"/>
                    <a:chOff x="12646080" y="18585000"/>
                    <a:chExt cx="145080" cy="132480"/>
                  </a:xfrm>
                </p:grpSpPr>
                <p:sp>
                  <p:nvSpPr>
                    <p:cNvPr id="1406" name=""/>
                    <p:cNvSpPr/>
                    <p:nvPr/>
                  </p:nvSpPr>
                  <p:spPr>
                    <a:xfrm rot="5400000">
                      <a:off x="12652200" y="18578520"/>
                      <a:ext cx="132480" cy="1450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407" name=""/>
                    <p:cNvGrpSpPr/>
                    <p:nvPr/>
                  </p:nvGrpSpPr>
                  <p:grpSpPr>
                    <a:xfrm>
                      <a:off x="12655440" y="18591840"/>
                      <a:ext cx="115920" cy="116640"/>
                      <a:chOff x="12655440" y="18591840"/>
                      <a:chExt cx="115920" cy="116640"/>
                    </a:xfrm>
                  </p:grpSpPr>
                  <p:sp>
                    <p:nvSpPr>
                      <p:cNvPr id="1408" name=""/>
                      <p:cNvSpPr/>
                      <p:nvPr/>
                    </p:nvSpPr>
                    <p:spPr>
                      <a:xfrm rot="5400000">
                        <a:off x="12672360" y="18623520"/>
                        <a:ext cx="252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" h="35">
                            <a:moveTo>
                              <a:pt x="0" y="35"/>
                            </a:moveTo>
                            <a:lnTo>
                              <a:pt x="5" y="29"/>
                            </a:lnTo>
                            <a:lnTo>
                              <a:pt x="11" y="23"/>
                            </a:lnTo>
                            <a:lnTo>
                              <a:pt x="17" y="17"/>
                            </a:lnTo>
                            <a:lnTo>
                              <a:pt x="22" y="12"/>
                            </a:lnTo>
                            <a:lnTo>
                              <a:pt x="26" y="8"/>
                            </a:lnTo>
                            <a:lnTo>
                              <a:pt x="30" y="5"/>
                            </a:lnTo>
                            <a:lnTo>
                              <a:pt x="32" y="2"/>
                            </a:lnTo>
                            <a:lnTo>
                              <a:pt x="34" y="1"/>
                            </a:lnTo>
                            <a:lnTo>
                              <a:pt x="34" y="0"/>
                            </a:lnTo>
                            <a:lnTo>
                              <a:pt x="35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6633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09" name=""/>
                      <p:cNvSpPr/>
                      <p:nvPr/>
                    </p:nvSpPr>
                    <p:spPr>
                      <a:xfrm rot="5400000">
                        <a:off x="12672360" y="18623520"/>
                        <a:ext cx="252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" h="35">
                            <a:moveTo>
                              <a:pt x="0" y="35"/>
                            </a:moveTo>
                            <a:lnTo>
                              <a:pt x="5" y="29"/>
                            </a:lnTo>
                            <a:lnTo>
                              <a:pt x="11" y="23"/>
                            </a:lnTo>
                            <a:lnTo>
                              <a:pt x="17" y="17"/>
                            </a:lnTo>
                            <a:lnTo>
                              <a:pt x="22" y="12"/>
                            </a:lnTo>
                            <a:lnTo>
                              <a:pt x="26" y="8"/>
                            </a:lnTo>
                            <a:lnTo>
                              <a:pt x="30" y="5"/>
                            </a:lnTo>
                            <a:lnTo>
                              <a:pt x="32" y="2"/>
                            </a:lnTo>
                            <a:lnTo>
                              <a:pt x="34" y="1"/>
                            </a:lnTo>
                            <a:lnTo>
                              <a:pt x="34" y="0"/>
                            </a:lnTo>
                            <a:lnTo>
                              <a:pt x="35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6633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10" name=""/>
                      <p:cNvSpPr/>
                      <p:nvPr/>
                    </p:nvSpPr>
                    <p:spPr>
                      <a:xfrm rot="5400000">
                        <a:off x="12688200" y="18625320"/>
                        <a:ext cx="116640" cy="49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520" bIns="2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11" name=""/>
                      <p:cNvSpPr/>
                      <p:nvPr/>
                    </p:nvSpPr>
                    <p:spPr>
                      <a:xfrm rot="5400000">
                        <a:off x="12637800" y="18618120"/>
                        <a:ext cx="100440" cy="65160"/>
                      </a:xfrm>
                      <a:custGeom>
                        <a:avLst/>
                        <a:gdLst>
                          <a:gd name="textAreaLeft" fmla="*/ 21960 w 100440"/>
                          <a:gd name="textAreaRight" fmla="*/ 78480 w 100440"/>
                          <a:gd name="textAreaTop" fmla="*/ 14400 h 65160"/>
                          <a:gd name="textAreaBottom" fmla="*/ 50760 h 6516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21600" y="0"/>
                            </a:lnTo>
                            <a:lnTo>
                              <a:pt x="16200" y="21600"/>
                            </a:lnTo>
                            <a:lnTo>
                              <a:pt x="5400" y="2160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0440" bIns="-10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412" name=""/>
                  <p:cNvGrpSpPr/>
                  <p:nvPr/>
                </p:nvGrpSpPr>
                <p:grpSpPr>
                  <a:xfrm>
                    <a:off x="12637800" y="18773640"/>
                    <a:ext cx="145440" cy="132480"/>
                    <a:chOff x="12637800" y="18773640"/>
                    <a:chExt cx="145440" cy="132480"/>
                  </a:xfrm>
                </p:grpSpPr>
                <p:sp>
                  <p:nvSpPr>
                    <p:cNvPr id="1413" name=""/>
                    <p:cNvSpPr/>
                    <p:nvPr/>
                  </p:nvSpPr>
                  <p:spPr>
                    <a:xfrm rot="5400000">
                      <a:off x="12644280" y="18767160"/>
                      <a:ext cx="132480" cy="1454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414" name=""/>
                    <p:cNvGrpSpPr/>
                    <p:nvPr/>
                  </p:nvGrpSpPr>
                  <p:grpSpPr>
                    <a:xfrm>
                      <a:off x="12647160" y="18780480"/>
                      <a:ext cx="116280" cy="116640"/>
                      <a:chOff x="12647160" y="18780480"/>
                      <a:chExt cx="116280" cy="116640"/>
                    </a:xfrm>
                  </p:grpSpPr>
                  <p:sp>
                    <p:nvSpPr>
                      <p:cNvPr id="1415" name=""/>
                      <p:cNvSpPr/>
                      <p:nvPr/>
                    </p:nvSpPr>
                    <p:spPr>
                      <a:xfrm rot="5400000">
                        <a:off x="12664080" y="18812160"/>
                        <a:ext cx="252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" h="35">
                            <a:moveTo>
                              <a:pt x="0" y="35"/>
                            </a:moveTo>
                            <a:lnTo>
                              <a:pt x="5" y="29"/>
                            </a:lnTo>
                            <a:lnTo>
                              <a:pt x="11" y="23"/>
                            </a:lnTo>
                            <a:lnTo>
                              <a:pt x="17" y="17"/>
                            </a:lnTo>
                            <a:lnTo>
                              <a:pt x="22" y="12"/>
                            </a:lnTo>
                            <a:lnTo>
                              <a:pt x="26" y="8"/>
                            </a:lnTo>
                            <a:lnTo>
                              <a:pt x="30" y="5"/>
                            </a:lnTo>
                            <a:lnTo>
                              <a:pt x="32" y="2"/>
                            </a:lnTo>
                            <a:lnTo>
                              <a:pt x="34" y="1"/>
                            </a:lnTo>
                            <a:lnTo>
                              <a:pt x="34" y="0"/>
                            </a:lnTo>
                            <a:lnTo>
                              <a:pt x="35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6633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16" name=""/>
                      <p:cNvSpPr/>
                      <p:nvPr/>
                    </p:nvSpPr>
                    <p:spPr>
                      <a:xfrm rot="5400000">
                        <a:off x="12664080" y="18812160"/>
                        <a:ext cx="252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" h="35">
                            <a:moveTo>
                              <a:pt x="0" y="35"/>
                            </a:moveTo>
                            <a:lnTo>
                              <a:pt x="5" y="29"/>
                            </a:lnTo>
                            <a:lnTo>
                              <a:pt x="11" y="23"/>
                            </a:lnTo>
                            <a:lnTo>
                              <a:pt x="17" y="17"/>
                            </a:lnTo>
                            <a:lnTo>
                              <a:pt x="22" y="12"/>
                            </a:lnTo>
                            <a:lnTo>
                              <a:pt x="26" y="8"/>
                            </a:lnTo>
                            <a:lnTo>
                              <a:pt x="30" y="5"/>
                            </a:lnTo>
                            <a:lnTo>
                              <a:pt x="32" y="2"/>
                            </a:lnTo>
                            <a:lnTo>
                              <a:pt x="34" y="1"/>
                            </a:lnTo>
                            <a:lnTo>
                              <a:pt x="34" y="0"/>
                            </a:lnTo>
                            <a:lnTo>
                              <a:pt x="35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6633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17" name=""/>
                      <p:cNvSpPr/>
                      <p:nvPr/>
                    </p:nvSpPr>
                    <p:spPr>
                      <a:xfrm rot="5400000">
                        <a:off x="12680280" y="18813960"/>
                        <a:ext cx="116640" cy="49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520" bIns="2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18" name=""/>
                      <p:cNvSpPr/>
                      <p:nvPr/>
                    </p:nvSpPr>
                    <p:spPr>
                      <a:xfrm rot="5400000">
                        <a:off x="12629520" y="18806760"/>
                        <a:ext cx="100440" cy="65160"/>
                      </a:xfrm>
                      <a:custGeom>
                        <a:avLst/>
                        <a:gdLst>
                          <a:gd name="textAreaLeft" fmla="*/ 21960 w 100440"/>
                          <a:gd name="textAreaRight" fmla="*/ 78480 w 100440"/>
                          <a:gd name="textAreaTop" fmla="*/ 14400 h 65160"/>
                          <a:gd name="textAreaBottom" fmla="*/ 50760 h 6516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21600" y="0"/>
                            </a:lnTo>
                            <a:lnTo>
                              <a:pt x="16200" y="21600"/>
                            </a:lnTo>
                            <a:lnTo>
                              <a:pt x="5400" y="2160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0440" bIns="-10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1419" name=""/>
              <p:cNvSpPr/>
              <p:nvPr/>
            </p:nvSpPr>
            <p:spPr>
              <a:xfrm>
                <a:off x="12630240" y="17430840"/>
                <a:ext cx="252360" cy="2523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 rot="16200000">
                <a:off x="14211000" y="20192760"/>
                <a:ext cx="179280" cy="36036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 rot="16200000">
                <a:off x="19240200" y="19278360"/>
                <a:ext cx="179280" cy="36036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18634680" y="18191160"/>
                <a:ext cx="1348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COORDENAD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23" name=""/>
              <p:cNvGrpSpPr/>
              <p:nvPr/>
            </p:nvGrpSpPr>
            <p:grpSpPr>
              <a:xfrm>
                <a:off x="13614480" y="17424360"/>
                <a:ext cx="355680" cy="460080"/>
                <a:chOff x="13614480" y="17424360"/>
                <a:chExt cx="355680" cy="460080"/>
              </a:xfrm>
            </p:grpSpPr>
            <p:sp>
              <p:nvSpPr>
                <p:cNvPr id="1424" name=""/>
                <p:cNvSpPr/>
                <p:nvPr/>
              </p:nvSpPr>
              <p:spPr>
                <a:xfrm flipV="1" rot="10800000">
                  <a:off x="13682880" y="17575200"/>
                  <a:ext cx="218880" cy="6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25" name=""/>
                <p:cNvGrpSpPr/>
                <p:nvPr/>
              </p:nvGrpSpPr>
              <p:grpSpPr>
                <a:xfrm>
                  <a:off x="13731840" y="17586000"/>
                  <a:ext cx="131760" cy="47880"/>
                  <a:chOff x="13731840" y="17586000"/>
                  <a:chExt cx="131760" cy="47880"/>
                </a:xfrm>
              </p:grpSpPr>
              <p:sp>
                <p:nvSpPr>
                  <p:cNvPr id="1426" name=""/>
                  <p:cNvSpPr/>
                  <p:nvPr/>
                </p:nvSpPr>
                <p:spPr>
                  <a:xfrm flipV="1" rot="10800000">
                    <a:off x="13731840" y="17585640"/>
                    <a:ext cx="131760" cy="47880"/>
                  </a:xfrm>
                  <a:prstGeom prst="rect">
                    <a:avLst/>
                  </a:prstGeom>
                  <a:noFill/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" bIns="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7" name=""/>
                  <p:cNvSpPr/>
                  <p:nvPr/>
                </p:nvSpPr>
                <p:spPr>
                  <a:xfrm flipV="1" rot="10800000">
                    <a:off x="13842360" y="17593920"/>
                    <a:ext cx="15840" cy="32040"/>
                  </a:xfrm>
                  <a:prstGeom prst="rect">
                    <a:avLst/>
                  </a:prstGeom>
                  <a:noFill/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760" bIns="-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8" name=""/>
                  <p:cNvSpPr/>
                  <p:nvPr/>
                </p:nvSpPr>
                <p:spPr>
                  <a:xfrm flipV="1" rot="10800000">
                    <a:off x="13737600" y="17593920"/>
                    <a:ext cx="97560" cy="32040"/>
                  </a:xfrm>
                  <a:prstGeom prst="rect">
                    <a:avLst/>
                  </a:prstGeom>
                  <a:noFill/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760" bIns="-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29" name=""/>
                <p:cNvSpPr/>
                <p:nvPr/>
              </p:nvSpPr>
              <p:spPr>
                <a:xfrm flipV="1" rot="10800000">
                  <a:off x="13614480" y="17641800"/>
                  <a:ext cx="355680" cy="2426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0" name=""/>
                <p:cNvSpPr/>
                <p:nvPr/>
              </p:nvSpPr>
              <p:spPr>
                <a:xfrm flipV="1" rot="9048600">
                  <a:off x="13898520" y="17676000"/>
                  <a:ext cx="22320" cy="31680"/>
                </a:xfrm>
                <a:prstGeom prst="ellipse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1" name=""/>
                <p:cNvSpPr/>
                <p:nvPr/>
              </p:nvSpPr>
              <p:spPr>
                <a:xfrm flipV="1" rot="10800000">
                  <a:off x="13880880" y="17661240"/>
                  <a:ext cx="68040" cy="6660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2" name=""/>
                <p:cNvGrpSpPr/>
                <p:nvPr/>
              </p:nvGrpSpPr>
              <p:grpSpPr>
                <a:xfrm>
                  <a:off x="13712400" y="17665560"/>
                  <a:ext cx="133560" cy="146160"/>
                  <a:chOff x="13712400" y="17665560"/>
                  <a:chExt cx="133560" cy="146160"/>
                </a:xfrm>
              </p:grpSpPr>
              <p:sp>
                <p:nvSpPr>
                  <p:cNvPr id="1433" name=""/>
                  <p:cNvSpPr/>
                  <p:nvPr/>
                </p:nvSpPr>
                <p:spPr>
                  <a:xfrm flipV="1" rot="10800000">
                    <a:off x="13712400" y="17665560"/>
                    <a:ext cx="133560" cy="14616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434" name=""/>
                  <p:cNvGrpSpPr/>
                  <p:nvPr/>
                </p:nvGrpSpPr>
                <p:grpSpPr>
                  <a:xfrm>
                    <a:off x="13721760" y="17685360"/>
                    <a:ext cx="117360" cy="116640"/>
                    <a:chOff x="13721760" y="17685360"/>
                    <a:chExt cx="117360" cy="116640"/>
                  </a:xfrm>
                </p:grpSpPr>
                <p:sp>
                  <p:nvSpPr>
                    <p:cNvPr id="1435" name=""/>
                    <p:cNvSpPr/>
                    <p:nvPr/>
                  </p:nvSpPr>
                  <p:spPr>
                    <a:xfrm flipV="1" rot="10800000">
                      <a:off x="13805280" y="17782920"/>
                      <a:ext cx="252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35">
                          <a:moveTo>
                            <a:pt x="0" y="35"/>
                          </a:moveTo>
                          <a:lnTo>
                            <a:pt x="5" y="29"/>
                          </a:lnTo>
                          <a:lnTo>
                            <a:pt x="11" y="23"/>
                          </a:lnTo>
                          <a:lnTo>
                            <a:pt x="17" y="17"/>
                          </a:lnTo>
                          <a:lnTo>
                            <a:pt x="22" y="12"/>
                          </a:lnTo>
                          <a:lnTo>
                            <a:pt x="26" y="8"/>
                          </a:lnTo>
                          <a:lnTo>
                            <a:pt x="30" y="5"/>
                          </a:lnTo>
                          <a:lnTo>
                            <a:pt x="32" y="2"/>
                          </a:lnTo>
                          <a:lnTo>
                            <a:pt x="34" y="1"/>
                          </a:lnTo>
                          <a:lnTo>
                            <a:pt x="34" y="0"/>
                          </a:lnTo>
                          <a:lnTo>
                            <a:pt x="3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6" name=""/>
                    <p:cNvSpPr/>
                    <p:nvPr/>
                  </p:nvSpPr>
                  <p:spPr>
                    <a:xfrm flipV="1" rot="10800000">
                      <a:off x="13805280" y="17782920"/>
                      <a:ext cx="252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35">
                          <a:moveTo>
                            <a:pt x="0" y="35"/>
                          </a:moveTo>
                          <a:lnTo>
                            <a:pt x="5" y="29"/>
                          </a:lnTo>
                          <a:lnTo>
                            <a:pt x="11" y="23"/>
                          </a:lnTo>
                          <a:lnTo>
                            <a:pt x="17" y="17"/>
                          </a:lnTo>
                          <a:lnTo>
                            <a:pt x="22" y="12"/>
                          </a:lnTo>
                          <a:lnTo>
                            <a:pt x="26" y="8"/>
                          </a:lnTo>
                          <a:lnTo>
                            <a:pt x="30" y="5"/>
                          </a:lnTo>
                          <a:lnTo>
                            <a:pt x="32" y="2"/>
                          </a:lnTo>
                          <a:lnTo>
                            <a:pt x="34" y="1"/>
                          </a:lnTo>
                          <a:lnTo>
                            <a:pt x="34" y="0"/>
                          </a:lnTo>
                          <a:lnTo>
                            <a:pt x="3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7" name=""/>
                    <p:cNvSpPr/>
                    <p:nvPr/>
                  </p:nvSpPr>
                  <p:spPr>
                    <a:xfrm flipV="1" rot="10800000">
                      <a:off x="13721760" y="17685360"/>
                      <a:ext cx="117360" cy="496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880" bIns="2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8" name=""/>
                    <p:cNvSpPr/>
                    <p:nvPr/>
                  </p:nvSpPr>
                  <p:spPr>
                    <a:xfrm flipV="1" rot="10800000">
                      <a:off x="13729320" y="17736480"/>
                      <a:ext cx="101160" cy="65520"/>
                    </a:xfrm>
                    <a:custGeom>
                      <a:avLst/>
                      <a:gdLst>
                        <a:gd name="textAreaLeft" fmla="*/ 22320 w 101160"/>
                        <a:gd name="textAreaRight" fmla="*/ 78840 w 101160"/>
                        <a:gd name="textAreaTop" fmla="*/ 14400 h 65520"/>
                        <a:gd name="textAreaBottom" fmla="*/ 51120 h 6552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16200" y="21600"/>
                          </a:lnTo>
                          <a:lnTo>
                            <a:pt x="5400" y="2160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080" bIns="-10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439" name=""/>
                <p:cNvGrpSpPr/>
                <p:nvPr/>
              </p:nvGrpSpPr>
              <p:grpSpPr>
                <a:xfrm>
                  <a:off x="13715640" y="17424360"/>
                  <a:ext cx="162360" cy="161280"/>
                  <a:chOff x="13715640" y="17424360"/>
                  <a:chExt cx="162360" cy="161280"/>
                </a:xfrm>
              </p:grpSpPr>
              <p:sp>
                <p:nvSpPr>
                  <p:cNvPr id="1440" name=""/>
                  <p:cNvSpPr/>
                  <p:nvPr/>
                </p:nvSpPr>
                <p:spPr>
                  <a:xfrm flipV="1" rot="10800000">
                    <a:off x="13728960" y="17463960"/>
                    <a:ext cx="36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1" name=""/>
                  <p:cNvSpPr/>
                  <p:nvPr/>
                </p:nvSpPr>
                <p:spPr>
                  <a:xfrm flipV="1" rot="10800000">
                    <a:off x="13715640" y="17463960"/>
                    <a:ext cx="36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2" name=""/>
                  <p:cNvSpPr/>
                  <p:nvPr/>
                </p:nvSpPr>
                <p:spPr>
                  <a:xfrm flipV="1" rot="10800000">
                    <a:off x="13876920" y="17463960"/>
                    <a:ext cx="108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3" name=""/>
                  <p:cNvSpPr/>
                  <p:nvPr/>
                </p:nvSpPr>
                <p:spPr>
                  <a:xfrm flipV="1" rot="10800000">
                    <a:off x="13863960" y="17463960"/>
                    <a:ext cx="144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4" name=""/>
                  <p:cNvSpPr/>
                  <p:nvPr/>
                </p:nvSpPr>
                <p:spPr>
                  <a:xfrm flipV="1" rot="10800000">
                    <a:off x="13857840" y="17490960"/>
                    <a:ext cx="36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925">
                        <a:moveTo>
                          <a:pt x="0" y="0"/>
                        </a:moveTo>
                        <a:lnTo>
                          <a:pt x="18" y="1925"/>
                        </a:lnTo>
                        <a:lnTo>
                          <a:pt x="19" y="1925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5" name=""/>
                  <p:cNvSpPr/>
                  <p:nvPr/>
                </p:nvSpPr>
                <p:spPr>
                  <a:xfrm flipV="1" rot="10800000">
                    <a:off x="13838040" y="17559720"/>
                    <a:ext cx="2016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8" h="605">
                        <a:moveTo>
                          <a:pt x="0" y="0"/>
                        </a:moveTo>
                        <a:lnTo>
                          <a:pt x="184" y="396"/>
                        </a:lnTo>
                        <a:lnTo>
                          <a:pt x="567" y="605"/>
                        </a:lnTo>
                        <a:lnTo>
                          <a:pt x="568" y="605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6" name=""/>
                  <p:cNvSpPr/>
                  <p:nvPr/>
                </p:nvSpPr>
                <p:spPr>
                  <a:xfrm flipV="1" rot="10800000">
                    <a:off x="13756680" y="17582760"/>
                    <a:ext cx="8136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269" h="103">
                        <a:moveTo>
                          <a:pt x="0" y="2"/>
                        </a:moveTo>
                        <a:lnTo>
                          <a:pt x="1135" y="103"/>
                        </a:lnTo>
                        <a:lnTo>
                          <a:pt x="2268" y="0"/>
                        </a:lnTo>
                        <a:lnTo>
                          <a:pt x="2269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7" name=""/>
                  <p:cNvSpPr/>
                  <p:nvPr/>
                </p:nvSpPr>
                <p:spPr>
                  <a:xfrm flipV="1" rot="10800000">
                    <a:off x="13736160" y="17559720"/>
                    <a:ext cx="2016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8" h="605">
                        <a:moveTo>
                          <a:pt x="0" y="605"/>
                        </a:moveTo>
                        <a:lnTo>
                          <a:pt x="382" y="396"/>
                        </a:lnTo>
                        <a:lnTo>
                          <a:pt x="567" y="0"/>
                        </a:lnTo>
                        <a:lnTo>
                          <a:pt x="568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8" name=""/>
                  <p:cNvSpPr/>
                  <p:nvPr/>
                </p:nvSpPr>
                <p:spPr>
                  <a:xfrm flipV="1" rot="10800000">
                    <a:off x="13735800" y="17490960"/>
                    <a:ext cx="36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925">
                        <a:moveTo>
                          <a:pt x="0" y="1925"/>
                        </a:moveTo>
                        <a:lnTo>
                          <a:pt x="16" y="0"/>
                        </a:lnTo>
                        <a:lnTo>
                          <a:pt x="17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9" name=""/>
                  <p:cNvSpPr/>
                  <p:nvPr/>
                </p:nvSpPr>
                <p:spPr>
                  <a:xfrm flipV="1" rot="10800000">
                    <a:off x="13736520" y="17462520"/>
                    <a:ext cx="2556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745" h="787">
                        <a:moveTo>
                          <a:pt x="745" y="787"/>
                        </a:moveTo>
                        <a:lnTo>
                          <a:pt x="623" y="420"/>
                        </a:lnTo>
                        <a:lnTo>
                          <a:pt x="358" y="14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0" name=""/>
                  <p:cNvSpPr/>
                  <p:nvPr/>
                </p:nvSpPr>
                <p:spPr>
                  <a:xfrm flipV="1" rot="10800000">
                    <a:off x="13762080" y="17460000"/>
                    <a:ext cx="7020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1947" h="77">
                        <a:moveTo>
                          <a:pt x="1947" y="76"/>
                        </a:moveTo>
                        <a:lnTo>
                          <a:pt x="974" y="0"/>
                        </a:lnTo>
                        <a:lnTo>
                          <a:pt x="0" y="77"/>
                        </a:lnTo>
                        <a:lnTo>
                          <a:pt x="1" y="77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1" name=""/>
                  <p:cNvSpPr/>
                  <p:nvPr/>
                </p:nvSpPr>
                <p:spPr>
                  <a:xfrm flipV="1" rot="10800000">
                    <a:off x="13832280" y="17462520"/>
                    <a:ext cx="2592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744" h="788">
                        <a:moveTo>
                          <a:pt x="744" y="0"/>
                        </a:moveTo>
                        <a:lnTo>
                          <a:pt x="386" y="141"/>
                        </a:lnTo>
                        <a:lnTo>
                          <a:pt x="121" y="421"/>
                        </a:lnTo>
                        <a:lnTo>
                          <a:pt x="0" y="788"/>
                        </a:lnTo>
                        <a:lnTo>
                          <a:pt x="1" y="788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2" name=""/>
                  <p:cNvSpPr/>
                  <p:nvPr/>
                </p:nvSpPr>
                <p:spPr>
                  <a:xfrm flipV="1" rot="10800000">
                    <a:off x="13716360" y="17562600"/>
                    <a:ext cx="129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50" h="0">
                        <a:moveTo>
                          <a:pt x="0" y="0"/>
                        </a:moveTo>
                        <a:lnTo>
                          <a:pt x="349" y="0"/>
                        </a:lnTo>
                        <a:lnTo>
                          <a:pt x="350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3" name=""/>
                  <p:cNvSpPr/>
                  <p:nvPr/>
                </p:nvSpPr>
                <p:spPr>
                  <a:xfrm flipV="1" rot="10800000">
                    <a:off x="13865400" y="17562600"/>
                    <a:ext cx="1260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49" h="0">
                        <a:moveTo>
                          <a:pt x="349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4" name=""/>
                  <p:cNvSpPr/>
                  <p:nvPr/>
                </p:nvSpPr>
                <p:spPr>
                  <a:xfrm flipV="1" rot="10800000">
                    <a:off x="13716360" y="17463600"/>
                    <a:ext cx="129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50" h="0">
                        <a:moveTo>
                          <a:pt x="0" y="0"/>
                        </a:moveTo>
                        <a:lnTo>
                          <a:pt x="349" y="0"/>
                        </a:lnTo>
                        <a:lnTo>
                          <a:pt x="350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5" name=""/>
                  <p:cNvSpPr/>
                  <p:nvPr/>
                </p:nvSpPr>
                <p:spPr>
                  <a:xfrm flipV="1" rot="10800000">
                    <a:off x="13785480" y="17455320"/>
                    <a:ext cx="2412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8" h="0">
                        <a:moveTo>
                          <a:pt x="698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6" name=""/>
                  <p:cNvSpPr/>
                  <p:nvPr/>
                </p:nvSpPr>
                <p:spPr>
                  <a:xfrm flipV="1" rot="10800000">
                    <a:off x="13783680" y="17455320"/>
                    <a:ext cx="144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33">
                        <a:moveTo>
                          <a:pt x="0" y="133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7" name=""/>
                  <p:cNvSpPr/>
                  <p:nvPr/>
                </p:nvSpPr>
                <p:spPr>
                  <a:xfrm flipV="1" rot="10800000">
                    <a:off x="13809240" y="17455320"/>
                    <a:ext cx="36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34">
                        <a:moveTo>
                          <a:pt x="0" y="134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8" name=""/>
                  <p:cNvSpPr/>
                  <p:nvPr/>
                </p:nvSpPr>
                <p:spPr>
                  <a:xfrm flipV="1" rot="10800000">
                    <a:off x="13865400" y="17463600"/>
                    <a:ext cx="1260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49" h="0">
                        <a:moveTo>
                          <a:pt x="349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9" name=""/>
                  <p:cNvSpPr/>
                  <p:nvPr/>
                </p:nvSpPr>
                <p:spPr>
                  <a:xfrm flipV="1" rot="10800000">
                    <a:off x="13736520" y="17424000"/>
                    <a:ext cx="12168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3444" h="562">
                        <a:moveTo>
                          <a:pt x="3405" y="560"/>
                        </a:moveTo>
                        <a:lnTo>
                          <a:pt x="3444" y="429"/>
                        </a:lnTo>
                        <a:lnTo>
                          <a:pt x="3366" y="316"/>
                        </a:lnTo>
                        <a:lnTo>
                          <a:pt x="2559" y="78"/>
                        </a:lnTo>
                        <a:lnTo>
                          <a:pt x="1722" y="0"/>
                        </a:lnTo>
                        <a:lnTo>
                          <a:pt x="884" y="79"/>
                        </a:lnTo>
                        <a:lnTo>
                          <a:pt x="78" y="318"/>
                        </a:lnTo>
                        <a:lnTo>
                          <a:pt x="0" y="430"/>
                        </a:lnTo>
                        <a:lnTo>
                          <a:pt x="39" y="562"/>
                        </a:lnTo>
                        <a:lnTo>
                          <a:pt x="40" y="562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0" name=""/>
                  <p:cNvSpPr/>
                  <p:nvPr/>
                </p:nvSpPr>
                <p:spPr>
                  <a:xfrm flipV="1" rot="10800000">
                    <a:off x="13740840" y="17433720"/>
                    <a:ext cx="11304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52" h="740">
                        <a:moveTo>
                          <a:pt x="3152" y="738"/>
                        </a:moveTo>
                        <a:lnTo>
                          <a:pt x="3126" y="512"/>
                        </a:lnTo>
                        <a:lnTo>
                          <a:pt x="2966" y="350"/>
                        </a:lnTo>
                        <a:lnTo>
                          <a:pt x="2290" y="101"/>
                        </a:lnTo>
                        <a:lnTo>
                          <a:pt x="1576" y="0"/>
                        </a:lnTo>
                        <a:lnTo>
                          <a:pt x="862" y="102"/>
                        </a:lnTo>
                        <a:lnTo>
                          <a:pt x="186" y="352"/>
                        </a:lnTo>
                        <a:lnTo>
                          <a:pt x="26" y="514"/>
                        </a:lnTo>
                        <a:lnTo>
                          <a:pt x="0" y="740"/>
                        </a:lnTo>
                        <a:lnTo>
                          <a:pt x="1" y="74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1" name=""/>
                  <p:cNvSpPr/>
                  <p:nvPr/>
                </p:nvSpPr>
                <p:spPr>
                  <a:xfrm flipV="1" rot="10800000">
                    <a:off x="13809600" y="17455320"/>
                    <a:ext cx="3564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023" h="298">
                        <a:moveTo>
                          <a:pt x="1023" y="0"/>
                        </a:moveTo>
                        <a:lnTo>
                          <a:pt x="496" y="98"/>
                        </a:lnTo>
                        <a:lnTo>
                          <a:pt x="0" y="298"/>
                        </a:lnTo>
                        <a:lnTo>
                          <a:pt x="2" y="298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2" name=""/>
                  <p:cNvSpPr/>
                  <p:nvPr/>
                </p:nvSpPr>
                <p:spPr>
                  <a:xfrm flipV="1" rot="10800000">
                    <a:off x="13845600" y="17462520"/>
                    <a:ext cx="828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203" h="97">
                        <a:moveTo>
                          <a:pt x="0" y="0"/>
                        </a:moveTo>
                        <a:lnTo>
                          <a:pt x="78" y="97"/>
                        </a:lnTo>
                        <a:lnTo>
                          <a:pt x="201" y="93"/>
                        </a:lnTo>
                        <a:lnTo>
                          <a:pt x="203" y="9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3" name=""/>
                  <p:cNvSpPr/>
                  <p:nvPr/>
                </p:nvSpPr>
                <p:spPr>
                  <a:xfrm flipV="1" rot="10800000">
                    <a:off x="13853880" y="17445240"/>
                    <a:ext cx="432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496">
                        <a:moveTo>
                          <a:pt x="109" y="496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4" name=""/>
                  <p:cNvSpPr/>
                  <p:nvPr/>
                </p:nvSpPr>
                <p:spPr>
                  <a:xfrm flipV="1" rot="10800000">
                    <a:off x="13855320" y="17438040"/>
                    <a:ext cx="288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160">
                        <a:moveTo>
                          <a:pt x="84" y="0"/>
                        </a:moveTo>
                        <a:lnTo>
                          <a:pt x="13" y="64"/>
                        </a:lnTo>
                        <a:lnTo>
                          <a:pt x="0" y="160"/>
                        </a:lnTo>
                        <a:lnTo>
                          <a:pt x="1" y="16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5" name=""/>
                  <p:cNvSpPr/>
                  <p:nvPr/>
                </p:nvSpPr>
                <p:spPr>
                  <a:xfrm flipV="1" rot="10800000">
                    <a:off x="13736520" y="17438040"/>
                    <a:ext cx="288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159">
                        <a:moveTo>
                          <a:pt x="84" y="159"/>
                        </a:moveTo>
                        <a:lnTo>
                          <a:pt x="71" y="64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6" name=""/>
                  <p:cNvSpPr/>
                  <p:nvPr/>
                </p:nvSpPr>
                <p:spPr>
                  <a:xfrm flipV="1" rot="10800000">
                    <a:off x="13736520" y="17445240"/>
                    <a:ext cx="396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496">
                        <a:moveTo>
                          <a:pt x="109" y="0"/>
                        </a:moveTo>
                        <a:lnTo>
                          <a:pt x="0" y="496"/>
                        </a:lnTo>
                        <a:lnTo>
                          <a:pt x="1" y="496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7" name=""/>
                  <p:cNvSpPr/>
                  <p:nvPr/>
                </p:nvSpPr>
                <p:spPr>
                  <a:xfrm flipV="1" rot="10800000">
                    <a:off x="13740840" y="17462520"/>
                    <a:ext cx="828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202" h="98">
                        <a:moveTo>
                          <a:pt x="0" y="94"/>
                        </a:moveTo>
                        <a:lnTo>
                          <a:pt x="124" y="98"/>
                        </a:lnTo>
                        <a:lnTo>
                          <a:pt x="201" y="0"/>
                        </a:lnTo>
                        <a:lnTo>
                          <a:pt x="202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8" name=""/>
                  <p:cNvSpPr/>
                  <p:nvPr/>
                </p:nvSpPr>
                <p:spPr>
                  <a:xfrm flipV="1" rot="10800000">
                    <a:off x="13749120" y="17455320"/>
                    <a:ext cx="360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021" h="297">
                        <a:moveTo>
                          <a:pt x="1021" y="297"/>
                        </a:moveTo>
                        <a:lnTo>
                          <a:pt x="525" y="97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469" name=""/>
              <p:cNvSpPr/>
              <p:nvPr/>
            </p:nvSpPr>
            <p:spPr>
              <a:xfrm>
                <a:off x="9468000" y="19431000"/>
                <a:ext cx="150480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70" name=""/>
              <p:cNvGrpSpPr/>
              <p:nvPr/>
            </p:nvGrpSpPr>
            <p:grpSpPr>
              <a:xfrm>
                <a:off x="19259640" y="19758240"/>
                <a:ext cx="790200" cy="1247400"/>
                <a:chOff x="19259640" y="19758240"/>
                <a:chExt cx="790200" cy="1247400"/>
              </a:xfrm>
            </p:grpSpPr>
            <p:sp>
              <p:nvSpPr>
                <p:cNvPr id="1471" name=""/>
                <p:cNvSpPr/>
                <p:nvPr/>
              </p:nvSpPr>
              <p:spPr>
                <a:xfrm rot="16200000">
                  <a:off x="19214640" y="20203200"/>
                  <a:ext cx="863640" cy="360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72" name=""/>
                <p:cNvGrpSpPr/>
                <p:nvPr/>
              </p:nvGrpSpPr>
              <p:grpSpPr>
                <a:xfrm>
                  <a:off x="19888560" y="20576880"/>
                  <a:ext cx="161280" cy="162360"/>
                  <a:chOff x="19888560" y="20576880"/>
                  <a:chExt cx="161280" cy="162360"/>
                </a:xfrm>
              </p:grpSpPr>
              <p:sp>
                <p:nvSpPr>
                  <p:cNvPr id="1473" name=""/>
                  <p:cNvSpPr/>
                  <p:nvPr/>
                </p:nvSpPr>
                <p:spPr>
                  <a:xfrm rot="5400000">
                    <a:off x="19960560" y="20676240"/>
                    <a:ext cx="36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4" name=""/>
                  <p:cNvSpPr/>
                  <p:nvPr/>
                </p:nvSpPr>
                <p:spPr>
                  <a:xfrm rot="5400000">
                    <a:off x="19960560" y="20689560"/>
                    <a:ext cx="36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5" name=""/>
                  <p:cNvSpPr/>
                  <p:nvPr/>
                </p:nvSpPr>
                <p:spPr>
                  <a:xfrm rot="5400000">
                    <a:off x="19960200" y="20527920"/>
                    <a:ext cx="108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6" name=""/>
                  <p:cNvSpPr/>
                  <p:nvPr/>
                </p:nvSpPr>
                <p:spPr>
                  <a:xfrm rot="5400000">
                    <a:off x="19960200" y="20540880"/>
                    <a:ext cx="144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7" name=""/>
                  <p:cNvSpPr/>
                  <p:nvPr/>
                </p:nvSpPr>
                <p:spPr>
                  <a:xfrm rot="5400000">
                    <a:off x="19948320" y="20562480"/>
                    <a:ext cx="36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925">
                        <a:moveTo>
                          <a:pt x="0" y="0"/>
                        </a:moveTo>
                        <a:lnTo>
                          <a:pt x="18" y="1925"/>
                        </a:lnTo>
                        <a:lnTo>
                          <a:pt x="19" y="1925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8" name=""/>
                  <p:cNvSpPr/>
                  <p:nvPr/>
                </p:nvSpPr>
                <p:spPr>
                  <a:xfrm rot="5400000">
                    <a:off x="19892520" y="20595240"/>
                    <a:ext cx="2016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8" h="605">
                        <a:moveTo>
                          <a:pt x="0" y="0"/>
                        </a:moveTo>
                        <a:lnTo>
                          <a:pt x="184" y="396"/>
                        </a:lnTo>
                        <a:lnTo>
                          <a:pt x="567" y="605"/>
                        </a:lnTo>
                        <a:lnTo>
                          <a:pt x="568" y="605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9" name=""/>
                  <p:cNvSpPr/>
                  <p:nvPr/>
                </p:nvSpPr>
                <p:spPr>
                  <a:xfrm rot="5400000">
                    <a:off x="19849320" y="20656080"/>
                    <a:ext cx="8136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269" h="103">
                        <a:moveTo>
                          <a:pt x="0" y="2"/>
                        </a:moveTo>
                        <a:lnTo>
                          <a:pt x="1135" y="103"/>
                        </a:lnTo>
                        <a:lnTo>
                          <a:pt x="2268" y="0"/>
                        </a:lnTo>
                        <a:lnTo>
                          <a:pt x="2269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0" name=""/>
                  <p:cNvSpPr/>
                  <p:nvPr/>
                </p:nvSpPr>
                <p:spPr>
                  <a:xfrm rot="5400000">
                    <a:off x="19892520" y="20697120"/>
                    <a:ext cx="2016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8" h="605">
                        <a:moveTo>
                          <a:pt x="0" y="605"/>
                        </a:moveTo>
                        <a:lnTo>
                          <a:pt x="382" y="396"/>
                        </a:lnTo>
                        <a:lnTo>
                          <a:pt x="567" y="0"/>
                        </a:lnTo>
                        <a:lnTo>
                          <a:pt x="568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1" name=""/>
                  <p:cNvSpPr/>
                  <p:nvPr/>
                </p:nvSpPr>
                <p:spPr>
                  <a:xfrm rot="5400000">
                    <a:off x="19948320" y="20684520"/>
                    <a:ext cx="36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925">
                        <a:moveTo>
                          <a:pt x="0" y="1925"/>
                        </a:moveTo>
                        <a:lnTo>
                          <a:pt x="16" y="0"/>
                        </a:lnTo>
                        <a:lnTo>
                          <a:pt x="17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2" name=""/>
                  <p:cNvSpPr/>
                  <p:nvPr/>
                </p:nvSpPr>
                <p:spPr>
                  <a:xfrm rot="5400000">
                    <a:off x="19984320" y="20691360"/>
                    <a:ext cx="2556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745" h="787">
                        <a:moveTo>
                          <a:pt x="745" y="787"/>
                        </a:moveTo>
                        <a:lnTo>
                          <a:pt x="623" y="420"/>
                        </a:lnTo>
                        <a:lnTo>
                          <a:pt x="358" y="14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3" name=""/>
                  <p:cNvSpPr/>
                  <p:nvPr/>
                </p:nvSpPr>
                <p:spPr>
                  <a:xfrm rot="5400000">
                    <a:off x="19977480" y="20656080"/>
                    <a:ext cx="7020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1947" h="77">
                        <a:moveTo>
                          <a:pt x="1947" y="76"/>
                        </a:moveTo>
                        <a:lnTo>
                          <a:pt x="974" y="0"/>
                        </a:lnTo>
                        <a:lnTo>
                          <a:pt x="0" y="77"/>
                        </a:lnTo>
                        <a:lnTo>
                          <a:pt x="1" y="77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4" name=""/>
                  <p:cNvSpPr/>
                  <p:nvPr/>
                </p:nvSpPr>
                <p:spPr>
                  <a:xfrm rot="5400000">
                    <a:off x="19983960" y="20595240"/>
                    <a:ext cx="2592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744" h="788">
                        <a:moveTo>
                          <a:pt x="744" y="0"/>
                        </a:moveTo>
                        <a:lnTo>
                          <a:pt x="386" y="141"/>
                        </a:lnTo>
                        <a:lnTo>
                          <a:pt x="121" y="421"/>
                        </a:lnTo>
                        <a:lnTo>
                          <a:pt x="0" y="788"/>
                        </a:lnTo>
                        <a:lnTo>
                          <a:pt x="1" y="788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5" name=""/>
                  <p:cNvSpPr/>
                  <p:nvPr/>
                </p:nvSpPr>
                <p:spPr>
                  <a:xfrm rot="5400000">
                    <a:off x="19904400" y="20731680"/>
                    <a:ext cx="129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50" h="0">
                        <a:moveTo>
                          <a:pt x="0" y="0"/>
                        </a:moveTo>
                        <a:lnTo>
                          <a:pt x="349" y="0"/>
                        </a:lnTo>
                        <a:lnTo>
                          <a:pt x="350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6" name=""/>
                  <p:cNvSpPr/>
                  <p:nvPr/>
                </p:nvSpPr>
                <p:spPr>
                  <a:xfrm rot="5400000">
                    <a:off x="19904760" y="20583000"/>
                    <a:ext cx="1260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49" h="0">
                        <a:moveTo>
                          <a:pt x="349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7" name=""/>
                  <p:cNvSpPr/>
                  <p:nvPr/>
                </p:nvSpPr>
                <p:spPr>
                  <a:xfrm rot="5400000">
                    <a:off x="20003400" y="20731680"/>
                    <a:ext cx="129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50" h="0">
                        <a:moveTo>
                          <a:pt x="0" y="0"/>
                        </a:moveTo>
                        <a:lnTo>
                          <a:pt x="349" y="0"/>
                        </a:lnTo>
                        <a:lnTo>
                          <a:pt x="350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8" name=""/>
                  <p:cNvSpPr/>
                  <p:nvPr/>
                </p:nvSpPr>
                <p:spPr>
                  <a:xfrm rot="5400000">
                    <a:off x="20006280" y="20657160"/>
                    <a:ext cx="2412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8" h="0">
                        <a:moveTo>
                          <a:pt x="698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9" name=""/>
                  <p:cNvSpPr/>
                  <p:nvPr/>
                </p:nvSpPr>
                <p:spPr>
                  <a:xfrm rot="5400000">
                    <a:off x="20015640" y="20668320"/>
                    <a:ext cx="144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33">
                        <a:moveTo>
                          <a:pt x="0" y="133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0" name=""/>
                  <p:cNvSpPr/>
                  <p:nvPr/>
                </p:nvSpPr>
                <p:spPr>
                  <a:xfrm rot="5400000">
                    <a:off x="20016360" y="20643480"/>
                    <a:ext cx="36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34">
                        <a:moveTo>
                          <a:pt x="0" y="134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1" name=""/>
                  <p:cNvSpPr/>
                  <p:nvPr/>
                </p:nvSpPr>
                <p:spPr>
                  <a:xfrm rot="5400000">
                    <a:off x="20003760" y="20583000"/>
                    <a:ext cx="1260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49" h="0">
                        <a:moveTo>
                          <a:pt x="349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2" name=""/>
                  <p:cNvSpPr/>
                  <p:nvPr/>
                </p:nvSpPr>
                <p:spPr>
                  <a:xfrm rot="5400000">
                    <a:off x="19978920" y="20647440"/>
                    <a:ext cx="12168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3444" h="562">
                        <a:moveTo>
                          <a:pt x="3405" y="560"/>
                        </a:moveTo>
                        <a:lnTo>
                          <a:pt x="3444" y="429"/>
                        </a:lnTo>
                        <a:lnTo>
                          <a:pt x="3366" y="316"/>
                        </a:lnTo>
                        <a:lnTo>
                          <a:pt x="2559" y="78"/>
                        </a:lnTo>
                        <a:lnTo>
                          <a:pt x="1722" y="0"/>
                        </a:lnTo>
                        <a:lnTo>
                          <a:pt x="884" y="79"/>
                        </a:lnTo>
                        <a:lnTo>
                          <a:pt x="78" y="318"/>
                        </a:lnTo>
                        <a:lnTo>
                          <a:pt x="0" y="430"/>
                        </a:lnTo>
                        <a:lnTo>
                          <a:pt x="39" y="562"/>
                        </a:lnTo>
                        <a:lnTo>
                          <a:pt x="40" y="562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3" name=""/>
                  <p:cNvSpPr/>
                  <p:nvPr/>
                </p:nvSpPr>
                <p:spPr>
                  <a:xfrm rot="5400000">
                    <a:off x="19969200" y="20643120"/>
                    <a:ext cx="11304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52" h="740">
                        <a:moveTo>
                          <a:pt x="3152" y="738"/>
                        </a:moveTo>
                        <a:lnTo>
                          <a:pt x="3126" y="512"/>
                        </a:lnTo>
                        <a:lnTo>
                          <a:pt x="2966" y="350"/>
                        </a:lnTo>
                        <a:lnTo>
                          <a:pt x="2290" y="101"/>
                        </a:lnTo>
                        <a:lnTo>
                          <a:pt x="1576" y="0"/>
                        </a:lnTo>
                        <a:lnTo>
                          <a:pt x="862" y="102"/>
                        </a:lnTo>
                        <a:lnTo>
                          <a:pt x="186" y="352"/>
                        </a:lnTo>
                        <a:lnTo>
                          <a:pt x="26" y="514"/>
                        </a:lnTo>
                        <a:lnTo>
                          <a:pt x="0" y="740"/>
                        </a:lnTo>
                        <a:lnTo>
                          <a:pt x="1" y="74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4" name=""/>
                  <p:cNvSpPr/>
                  <p:nvPr/>
                </p:nvSpPr>
                <p:spPr>
                  <a:xfrm rot="5400000">
                    <a:off x="19995840" y="20622600"/>
                    <a:ext cx="3564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023" h="298">
                        <a:moveTo>
                          <a:pt x="1023" y="0"/>
                        </a:moveTo>
                        <a:lnTo>
                          <a:pt x="496" y="98"/>
                        </a:lnTo>
                        <a:lnTo>
                          <a:pt x="0" y="298"/>
                        </a:lnTo>
                        <a:lnTo>
                          <a:pt x="2" y="298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5" name=""/>
                  <p:cNvSpPr/>
                  <p:nvPr/>
                </p:nvSpPr>
                <p:spPr>
                  <a:xfrm rot="5400000">
                    <a:off x="20005200" y="20603160"/>
                    <a:ext cx="828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203" h="97">
                        <a:moveTo>
                          <a:pt x="0" y="0"/>
                        </a:moveTo>
                        <a:lnTo>
                          <a:pt x="78" y="97"/>
                        </a:lnTo>
                        <a:lnTo>
                          <a:pt x="201" y="93"/>
                        </a:lnTo>
                        <a:lnTo>
                          <a:pt x="203" y="9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6" name=""/>
                  <p:cNvSpPr/>
                  <p:nvPr/>
                </p:nvSpPr>
                <p:spPr>
                  <a:xfrm rot="5400000">
                    <a:off x="20017800" y="20590200"/>
                    <a:ext cx="432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496">
                        <a:moveTo>
                          <a:pt x="109" y="496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7" name=""/>
                  <p:cNvSpPr/>
                  <p:nvPr/>
                </p:nvSpPr>
                <p:spPr>
                  <a:xfrm rot="5400000">
                    <a:off x="20030760" y="20594520"/>
                    <a:ext cx="288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160">
                        <a:moveTo>
                          <a:pt x="84" y="0"/>
                        </a:moveTo>
                        <a:lnTo>
                          <a:pt x="13" y="64"/>
                        </a:lnTo>
                        <a:lnTo>
                          <a:pt x="0" y="160"/>
                        </a:lnTo>
                        <a:lnTo>
                          <a:pt x="1" y="16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8" name=""/>
                  <p:cNvSpPr/>
                  <p:nvPr/>
                </p:nvSpPr>
                <p:spPr>
                  <a:xfrm rot="5400000">
                    <a:off x="20030760" y="20713320"/>
                    <a:ext cx="288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159">
                        <a:moveTo>
                          <a:pt x="84" y="159"/>
                        </a:moveTo>
                        <a:lnTo>
                          <a:pt x="71" y="64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9" name=""/>
                  <p:cNvSpPr/>
                  <p:nvPr/>
                </p:nvSpPr>
                <p:spPr>
                  <a:xfrm rot="5400000">
                    <a:off x="20018160" y="20707920"/>
                    <a:ext cx="396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496">
                        <a:moveTo>
                          <a:pt x="109" y="0"/>
                        </a:moveTo>
                        <a:lnTo>
                          <a:pt x="0" y="496"/>
                        </a:lnTo>
                        <a:lnTo>
                          <a:pt x="1" y="496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0" name=""/>
                  <p:cNvSpPr/>
                  <p:nvPr/>
                </p:nvSpPr>
                <p:spPr>
                  <a:xfrm rot="5400000">
                    <a:off x="20005200" y="20707920"/>
                    <a:ext cx="828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202" h="98">
                        <a:moveTo>
                          <a:pt x="0" y="94"/>
                        </a:moveTo>
                        <a:lnTo>
                          <a:pt x="124" y="98"/>
                        </a:lnTo>
                        <a:lnTo>
                          <a:pt x="201" y="0"/>
                        </a:lnTo>
                        <a:lnTo>
                          <a:pt x="202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1" name=""/>
                  <p:cNvSpPr/>
                  <p:nvPr/>
                </p:nvSpPr>
                <p:spPr>
                  <a:xfrm rot="5400000">
                    <a:off x="19995480" y="20682720"/>
                    <a:ext cx="360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021" h="297">
                        <a:moveTo>
                          <a:pt x="1021" y="297"/>
                        </a:moveTo>
                        <a:lnTo>
                          <a:pt x="525" y="97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02" name=""/>
                <p:cNvGrpSpPr/>
                <p:nvPr/>
              </p:nvGrpSpPr>
              <p:grpSpPr>
                <a:xfrm>
                  <a:off x="19888560" y="20329200"/>
                  <a:ext cx="161280" cy="162360"/>
                  <a:chOff x="19888560" y="20329200"/>
                  <a:chExt cx="161280" cy="162360"/>
                </a:xfrm>
              </p:grpSpPr>
              <p:sp>
                <p:nvSpPr>
                  <p:cNvPr id="1503" name=""/>
                  <p:cNvSpPr/>
                  <p:nvPr/>
                </p:nvSpPr>
                <p:spPr>
                  <a:xfrm rot="5400000">
                    <a:off x="19960560" y="20428560"/>
                    <a:ext cx="36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4" name=""/>
                  <p:cNvSpPr/>
                  <p:nvPr/>
                </p:nvSpPr>
                <p:spPr>
                  <a:xfrm rot="5400000">
                    <a:off x="19960560" y="20441880"/>
                    <a:ext cx="36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5" name=""/>
                  <p:cNvSpPr/>
                  <p:nvPr/>
                </p:nvSpPr>
                <p:spPr>
                  <a:xfrm rot="5400000">
                    <a:off x="19960200" y="20280240"/>
                    <a:ext cx="108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6" name=""/>
                  <p:cNvSpPr/>
                  <p:nvPr/>
                </p:nvSpPr>
                <p:spPr>
                  <a:xfrm rot="5400000">
                    <a:off x="19960200" y="20293200"/>
                    <a:ext cx="144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7" name=""/>
                  <p:cNvSpPr/>
                  <p:nvPr/>
                </p:nvSpPr>
                <p:spPr>
                  <a:xfrm rot="5400000">
                    <a:off x="19948320" y="20314800"/>
                    <a:ext cx="36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925">
                        <a:moveTo>
                          <a:pt x="0" y="0"/>
                        </a:moveTo>
                        <a:lnTo>
                          <a:pt x="18" y="1925"/>
                        </a:lnTo>
                        <a:lnTo>
                          <a:pt x="19" y="1925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8" name=""/>
                  <p:cNvSpPr/>
                  <p:nvPr/>
                </p:nvSpPr>
                <p:spPr>
                  <a:xfrm rot="5400000">
                    <a:off x="19892520" y="20347560"/>
                    <a:ext cx="2016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8" h="605">
                        <a:moveTo>
                          <a:pt x="0" y="0"/>
                        </a:moveTo>
                        <a:lnTo>
                          <a:pt x="184" y="396"/>
                        </a:lnTo>
                        <a:lnTo>
                          <a:pt x="567" y="605"/>
                        </a:lnTo>
                        <a:lnTo>
                          <a:pt x="568" y="605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9" name=""/>
                  <p:cNvSpPr/>
                  <p:nvPr/>
                </p:nvSpPr>
                <p:spPr>
                  <a:xfrm rot="5400000">
                    <a:off x="19849320" y="20408400"/>
                    <a:ext cx="8136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269" h="103">
                        <a:moveTo>
                          <a:pt x="0" y="2"/>
                        </a:moveTo>
                        <a:lnTo>
                          <a:pt x="1135" y="103"/>
                        </a:lnTo>
                        <a:lnTo>
                          <a:pt x="2268" y="0"/>
                        </a:lnTo>
                        <a:lnTo>
                          <a:pt x="2269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0" name=""/>
                  <p:cNvSpPr/>
                  <p:nvPr/>
                </p:nvSpPr>
                <p:spPr>
                  <a:xfrm rot="5400000">
                    <a:off x="19892520" y="20449440"/>
                    <a:ext cx="2016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8" h="605">
                        <a:moveTo>
                          <a:pt x="0" y="605"/>
                        </a:moveTo>
                        <a:lnTo>
                          <a:pt x="382" y="396"/>
                        </a:lnTo>
                        <a:lnTo>
                          <a:pt x="567" y="0"/>
                        </a:lnTo>
                        <a:lnTo>
                          <a:pt x="568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1" name=""/>
                  <p:cNvSpPr/>
                  <p:nvPr/>
                </p:nvSpPr>
                <p:spPr>
                  <a:xfrm rot="5400000">
                    <a:off x="19948320" y="20436840"/>
                    <a:ext cx="36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925">
                        <a:moveTo>
                          <a:pt x="0" y="1925"/>
                        </a:moveTo>
                        <a:lnTo>
                          <a:pt x="16" y="0"/>
                        </a:lnTo>
                        <a:lnTo>
                          <a:pt x="17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2" name=""/>
                  <p:cNvSpPr/>
                  <p:nvPr/>
                </p:nvSpPr>
                <p:spPr>
                  <a:xfrm rot="5400000">
                    <a:off x="19984320" y="20443680"/>
                    <a:ext cx="2556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745" h="787">
                        <a:moveTo>
                          <a:pt x="745" y="787"/>
                        </a:moveTo>
                        <a:lnTo>
                          <a:pt x="623" y="420"/>
                        </a:lnTo>
                        <a:lnTo>
                          <a:pt x="358" y="14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3" name=""/>
                  <p:cNvSpPr/>
                  <p:nvPr/>
                </p:nvSpPr>
                <p:spPr>
                  <a:xfrm rot="5400000">
                    <a:off x="19977480" y="20408400"/>
                    <a:ext cx="7020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1947" h="77">
                        <a:moveTo>
                          <a:pt x="1947" y="76"/>
                        </a:moveTo>
                        <a:lnTo>
                          <a:pt x="974" y="0"/>
                        </a:lnTo>
                        <a:lnTo>
                          <a:pt x="0" y="77"/>
                        </a:lnTo>
                        <a:lnTo>
                          <a:pt x="1" y="77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4" name=""/>
                  <p:cNvSpPr/>
                  <p:nvPr/>
                </p:nvSpPr>
                <p:spPr>
                  <a:xfrm rot="5400000">
                    <a:off x="19983960" y="20347560"/>
                    <a:ext cx="2592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744" h="788">
                        <a:moveTo>
                          <a:pt x="744" y="0"/>
                        </a:moveTo>
                        <a:lnTo>
                          <a:pt x="386" y="141"/>
                        </a:lnTo>
                        <a:lnTo>
                          <a:pt x="121" y="421"/>
                        </a:lnTo>
                        <a:lnTo>
                          <a:pt x="0" y="788"/>
                        </a:lnTo>
                        <a:lnTo>
                          <a:pt x="1" y="788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5" name=""/>
                  <p:cNvSpPr/>
                  <p:nvPr/>
                </p:nvSpPr>
                <p:spPr>
                  <a:xfrm rot="5400000">
                    <a:off x="19904400" y="20484000"/>
                    <a:ext cx="129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50" h="0">
                        <a:moveTo>
                          <a:pt x="0" y="0"/>
                        </a:moveTo>
                        <a:lnTo>
                          <a:pt x="349" y="0"/>
                        </a:lnTo>
                        <a:lnTo>
                          <a:pt x="350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6" name=""/>
                  <p:cNvSpPr/>
                  <p:nvPr/>
                </p:nvSpPr>
                <p:spPr>
                  <a:xfrm rot="5400000">
                    <a:off x="19904760" y="20335320"/>
                    <a:ext cx="1260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49" h="0">
                        <a:moveTo>
                          <a:pt x="349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7" name=""/>
                  <p:cNvSpPr/>
                  <p:nvPr/>
                </p:nvSpPr>
                <p:spPr>
                  <a:xfrm rot="5400000">
                    <a:off x="20003400" y="20484000"/>
                    <a:ext cx="129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50" h="0">
                        <a:moveTo>
                          <a:pt x="0" y="0"/>
                        </a:moveTo>
                        <a:lnTo>
                          <a:pt x="349" y="0"/>
                        </a:lnTo>
                        <a:lnTo>
                          <a:pt x="350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8" name=""/>
                  <p:cNvSpPr/>
                  <p:nvPr/>
                </p:nvSpPr>
                <p:spPr>
                  <a:xfrm rot="5400000">
                    <a:off x="20006280" y="20409480"/>
                    <a:ext cx="2412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8" h="0">
                        <a:moveTo>
                          <a:pt x="698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9" name=""/>
                  <p:cNvSpPr/>
                  <p:nvPr/>
                </p:nvSpPr>
                <p:spPr>
                  <a:xfrm rot="5400000">
                    <a:off x="20015640" y="20420640"/>
                    <a:ext cx="144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33">
                        <a:moveTo>
                          <a:pt x="0" y="133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0" name=""/>
                  <p:cNvSpPr/>
                  <p:nvPr/>
                </p:nvSpPr>
                <p:spPr>
                  <a:xfrm rot="5400000">
                    <a:off x="20016360" y="20395800"/>
                    <a:ext cx="36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34">
                        <a:moveTo>
                          <a:pt x="0" y="134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1" name=""/>
                  <p:cNvSpPr/>
                  <p:nvPr/>
                </p:nvSpPr>
                <p:spPr>
                  <a:xfrm rot="5400000">
                    <a:off x="20003760" y="20335320"/>
                    <a:ext cx="1260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49" h="0">
                        <a:moveTo>
                          <a:pt x="349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2" name=""/>
                  <p:cNvSpPr/>
                  <p:nvPr/>
                </p:nvSpPr>
                <p:spPr>
                  <a:xfrm rot="5400000">
                    <a:off x="19978920" y="20399760"/>
                    <a:ext cx="12168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3444" h="562">
                        <a:moveTo>
                          <a:pt x="3405" y="560"/>
                        </a:moveTo>
                        <a:lnTo>
                          <a:pt x="3444" y="429"/>
                        </a:lnTo>
                        <a:lnTo>
                          <a:pt x="3366" y="316"/>
                        </a:lnTo>
                        <a:lnTo>
                          <a:pt x="2559" y="78"/>
                        </a:lnTo>
                        <a:lnTo>
                          <a:pt x="1722" y="0"/>
                        </a:lnTo>
                        <a:lnTo>
                          <a:pt x="884" y="79"/>
                        </a:lnTo>
                        <a:lnTo>
                          <a:pt x="78" y="318"/>
                        </a:lnTo>
                        <a:lnTo>
                          <a:pt x="0" y="430"/>
                        </a:lnTo>
                        <a:lnTo>
                          <a:pt x="39" y="562"/>
                        </a:lnTo>
                        <a:lnTo>
                          <a:pt x="40" y="562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3" name=""/>
                  <p:cNvSpPr/>
                  <p:nvPr/>
                </p:nvSpPr>
                <p:spPr>
                  <a:xfrm rot="5400000">
                    <a:off x="19969200" y="20395440"/>
                    <a:ext cx="11304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52" h="740">
                        <a:moveTo>
                          <a:pt x="3152" y="738"/>
                        </a:moveTo>
                        <a:lnTo>
                          <a:pt x="3126" y="512"/>
                        </a:lnTo>
                        <a:lnTo>
                          <a:pt x="2966" y="350"/>
                        </a:lnTo>
                        <a:lnTo>
                          <a:pt x="2290" y="101"/>
                        </a:lnTo>
                        <a:lnTo>
                          <a:pt x="1576" y="0"/>
                        </a:lnTo>
                        <a:lnTo>
                          <a:pt x="862" y="102"/>
                        </a:lnTo>
                        <a:lnTo>
                          <a:pt x="186" y="352"/>
                        </a:lnTo>
                        <a:lnTo>
                          <a:pt x="26" y="514"/>
                        </a:lnTo>
                        <a:lnTo>
                          <a:pt x="0" y="740"/>
                        </a:lnTo>
                        <a:lnTo>
                          <a:pt x="1" y="74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4" name=""/>
                  <p:cNvSpPr/>
                  <p:nvPr/>
                </p:nvSpPr>
                <p:spPr>
                  <a:xfrm rot="5400000">
                    <a:off x="19995840" y="20374920"/>
                    <a:ext cx="3564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023" h="298">
                        <a:moveTo>
                          <a:pt x="1023" y="0"/>
                        </a:moveTo>
                        <a:lnTo>
                          <a:pt x="496" y="98"/>
                        </a:lnTo>
                        <a:lnTo>
                          <a:pt x="0" y="298"/>
                        </a:lnTo>
                        <a:lnTo>
                          <a:pt x="2" y="298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5" name=""/>
                  <p:cNvSpPr/>
                  <p:nvPr/>
                </p:nvSpPr>
                <p:spPr>
                  <a:xfrm rot="5400000">
                    <a:off x="20005200" y="20355480"/>
                    <a:ext cx="828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203" h="97">
                        <a:moveTo>
                          <a:pt x="0" y="0"/>
                        </a:moveTo>
                        <a:lnTo>
                          <a:pt x="78" y="97"/>
                        </a:lnTo>
                        <a:lnTo>
                          <a:pt x="201" y="93"/>
                        </a:lnTo>
                        <a:lnTo>
                          <a:pt x="203" y="9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6" name=""/>
                  <p:cNvSpPr/>
                  <p:nvPr/>
                </p:nvSpPr>
                <p:spPr>
                  <a:xfrm rot="5400000">
                    <a:off x="20017800" y="20342520"/>
                    <a:ext cx="432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496">
                        <a:moveTo>
                          <a:pt x="109" y="496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7" name=""/>
                  <p:cNvSpPr/>
                  <p:nvPr/>
                </p:nvSpPr>
                <p:spPr>
                  <a:xfrm rot="5400000">
                    <a:off x="20030760" y="20346840"/>
                    <a:ext cx="288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160">
                        <a:moveTo>
                          <a:pt x="84" y="0"/>
                        </a:moveTo>
                        <a:lnTo>
                          <a:pt x="13" y="64"/>
                        </a:lnTo>
                        <a:lnTo>
                          <a:pt x="0" y="160"/>
                        </a:lnTo>
                        <a:lnTo>
                          <a:pt x="1" y="16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8" name=""/>
                  <p:cNvSpPr/>
                  <p:nvPr/>
                </p:nvSpPr>
                <p:spPr>
                  <a:xfrm rot="5400000">
                    <a:off x="20030760" y="20465640"/>
                    <a:ext cx="288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159">
                        <a:moveTo>
                          <a:pt x="84" y="159"/>
                        </a:moveTo>
                        <a:lnTo>
                          <a:pt x="71" y="64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9" name=""/>
                  <p:cNvSpPr/>
                  <p:nvPr/>
                </p:nvSpPr>
                <p:spPr>
                  <a:xfrm rot="5400000">
                    <a:off x="20018160" y="20460240"/>
                    <a:ext cx="396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496">
                        <a:moveTo>
                          <a:pt x="109" y="0"/>
                        </a:moveTo>
                        <a:lnTo>
                          <a:pt x="0" y="496"/>
                        </a:lnTo>
                        <a:lnTo>
                          <a:pt x="1" y="496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0" name=""/>
                  <p:cNvSpPr/>
                  <p:nvPr/>
                </p:nvSpPr>
                <p:spPr>
                  <a:xfrm rot="5400000">
                    <a:off x="20005200" y="20460240"/>
                    <a:ext cx="828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202" h="98">
                        <a:moveTo>
                          <a:pt x="0" y="94"/>
                        </a:moveTo>
                        <a:lnTo>
                          <a:pt x="124" y="98"/>
                        </a:lnTo>
                        <a:lnTo>
                          <a:pt x="201" y="0"/>
                        </a:lnTo>
                        <a:lnTo>
                          <a:pt x="202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1" name=""/>
                  <p:cNvSpPr/>
                  <p:nvPr/>
                </p:nvSpPr>
                <p:spPr>
                  <a:xfrm rot="5400000">
                    <a:off x="19995480" y="20435040"/>
                    <a:ext cx="360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021" h="297">
                        <a:moveTo>
                          <a:pt x="1021" y="297"/>
                        </a:moveTo>
                        <a:lnTo>
                          <a:pt x="525" y="97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32" name=""/>
                <p:cNvGrpSpPr/>
                <p:nvPr/>
              </p:nvGrpSpPr>
              <p:grpSpPr>
                <a:xfrm>
                  <a:off x="19869480" y="20044080"/>
                  <a:ext cx="161280" cy="162000"/>
                  <a:chOff x="19869480" y="20044080"/>
                  <a:chExt cx="161280" cy="162000"/>
                </a:xfrm>
              </p:grpSpPr>
              <p:sp>
                <p:nvSpPr>
                  <p:cNvPr id="1533" name=""/>
                  <p:cNvSpPr/>
                  <p:nvPr/>
                </p:nvSpPr>
                <p:spPr>
                  <a:xfrm rot="5400000">
                    <a:off x="19941480" y="20143440"/>
                    <a:ext cx="36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4" name=""/>
                  <p:cNvSpPr/>
                  <p:nvPr/>
                </p:nvSpPr>
                <p:spPr>
                  <a:xfrm rot="5400000">
                    <a:off x="19941480" y="20156400"/>
                    <a:ext cx="36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5" name=""/>
                  <p:cNvSpPr/>
                  <p:nvPr/>
                </p:nvSpPr>
                <p:spPr>
                  <a:xfrm rot="5400000">
                    <a:off x="19941120" y="19995120"/>
                    <a:ext cx="108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6" name=""/>
                  <p:cNvSpPr/>
                  <p:nvPr/>
                </p:nvSpPr>
                <p:spPr>
                  <a:xfrm rot="5400000">
                    <a:off x="19941120" y="20008080"/>
                    <a:ext cx="144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7" name=""/>
                  <p:cNvSpPr/>
                  <p:nvPr/>
                </p:nvSpPr>
                <p:spPr>
                  <a:xfrm rot="5400000">
                    <a:off x="19929240" y="20029680"/>
                    <a:ext cx="36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925">
                        <a:moveTo>
                          <a:pt x="0" y="0"/>
                        </a:moveTo>
                        <a:lnTo>
                          <a:pt x="18" y="1925"/>
                        </a:lnTo>
                        <a:lnTo>
                          <a:pt x="19" y="1925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8" name=""/>
                  <p:cNvSpPr/>
                  <p:nvPr/>
                </p:nvSpPr>
                <p:spPr>
                  <a:xfrm rot="5400000">
                    <a:off x="19873800" y="20062440"/>
                    <a:ext cx="1980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8" h="605">
                        <a:moveTo>
                          <a:pt x="0" y="0"/>
                        </a:moveTo>
                        <a:lnTo>
                          <a:pt x="184" y="396"/>
                        </a:lnTo>
                        <a:lnTo>
                          <a:pt x="567" y="605"/>
                        </a:lnTo>
                        <a:lnTo>
                          <a:pt x="568" y="605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9" name=""/>
                  <p:cNvSpPr/>
                  <p:nvPr/>
                </p:nvSpPr>
                <p:spPr>
                  <a:xfrm rot="5400000">
                    <a:off x="19830240" y="20122920"/>
                    <a:ext cx="8136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269" h="103">
                        <a:moveTo>
                          <a:pt x="0" y="2"/>
                        </a:moveTo>
                        <a:lnTo>
                          <a:pt x="1135" y="103"/>
                        </a:lnTo>
                        <a:lnTo>
                          <a:pt x="2268" y="0"/>
                        </a:lnTo>
                        <a:lnTo>
                          <a:pt x="2269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0" name=""/>
                  <p:cNvSpPr/>
                  <p:nvPr/>
                </p:nvSpPr>
                <p:spPr>
                  <a:xfrm rot="5400000">
                    <a:off x="19873800" y="20163960"/>
                    <a:ext cx="1980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8" h="605">
                        <a:moveTo>
                          <a:pt x="0" y="605"/>
                        </a:moveTo>
                        <a:lnTo>
                          <a:pt x="382" y="396"/>
                        </a:lnTo>
                        <a:lnTo>
                          <a:pt x="567" y="0"/>
                        </a:lnTo>
                        <a:lnTo>
                          <a:pt x="568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1" name=""/>
                  <p:cNvSpPr/>
                  <p:nvPr/>
                </p:nvSpPr>
                <p:spPr>
                  <a:xfrm rot="5400000">
                    <a:off x="19929240" y="20151360"/>
                    <a:ext cx="36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925">
                        <a:moveTo>
                          <a:pt x="0" y="1925"/>
                        </a:moveTo>
                        <a:lnTo>
                          <a:pt x="16" y="0"/>
                        </a:lnTo>
                        <a:lnTo>
                          <a:pt x="17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2" name=""/>
                  <p:cNvSpPr/>
                  <p:nvPr/>
                </p:nvSpPr>
                <p:spPr>
                  <a:xfrm rot="5400000">
                    <a:off x="19965240" y="20158200"/>
                    <a:ext cx="2556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745" h="787">
                        <a:moveTo>
                          <a:pt x="745" y="787"/>
                        </a:moveTo>
                        <a:lnTo>
                          <a:pt x="623" y="420"/>
                        </a:lnTo>
                        <a:lnTo>
                          <a:pt x="358" y="14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3" name=""/>
                  <p:cNvSpPr/>
                  <p:nvPr/>
                </p:nvSpPr>
                <p:spPr>
                  <a:xfrm rot="5400000">
                    <a:off x="19958760" y="20123280"/>
                    <a:ext cx="6984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1947" h="77">
                        <a:moveTo>
                          <a:pt x="1947" y="76"/>
                        </a:moveTo>
                        <a:lnTo>
                          <a:pt x="974" y="0"/>
                        </a:lnTo>
                        <a:lnTo>
                          <a:pt x="0" y="77"/>
                        </a:lnTo>
                        <a:lnTo>
                          <a:pt x="1" y="77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4" name=""/>
                  <p:cNvSpPr/>
                  <p:nvPr/>
                </p:nvSpPr>
                <p:spPr>
                  <a:xfrm rot="5400000">
                    <a:off x="19964880" y="20062440"/>
                    <a:ext cx="2592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744" h="788">
                        <a:moveTo>
                          <a:pt x="744" y="0"/>
                        </a:moveTo>
                        <a:lnTo>
                          <a:pt x="386" y="141"/>
                        </a:lnTo>
                        <a:lnTo>
                          <a:pt x="121" y="421"/>
                        </a:lnTo>
                        <a:lnTo>
                          <a:pt x="0" y="788"/>
                        </a:lnTo>
                        <a:lnTo>
                          <a:pt x="1" y="788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5" name=""/>
                  <p:cNvSpPr/>
                  <p:nvPr/>
                </p:nvSpPr>
                <p:spPr>
                  <a:xfrm rot="5400000">
                    <a:off x="19885320" y="20198880"/>
                    <a:ext cx="129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50" h="0">
                        <a:moveTo>
                          <a:pt x="0" y="0"/>
                        </a:moveTo>
                        <a:lnTo>
                          <a:pt x="349" y="0"/>
                        </a:lnTo>
                        <a:lnTo>
                          <a:pt x="350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6" name=""/>
                  <p:cNvSpPr/>
                  <p:nvPr/>
                </p:nvSpPr>
                <p:spPr>
                  <a:xfrm rot="5400000">
                    <a:off x="19885680" y="20050200"/>
                    <a:ext cx="1260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49" h="0">
                        <a:moveTo>
                          <a:pt x="349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7" name=""/>
                  <p:cNvSpPr/>
                  <p:nvPr/>
                </p:nvSpPr>
                <p:spPr>
                  <a:xfrm rot="5400000">
                    <a:off x="19984320" y="20198880"/>
                    <a:ext cx="129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50" h="0">
                        <a:moveTo>
                          <a:pt x="0" y="0"/>
                        </a:moveTo>
                        <a:lnTo>
                          <a:pt x="349" y="0"/>
                        </a:lnTo>
                        <a:lnTo>
                          <a:pt x="350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8" name=""/>
                  <p:cNvSpPr/>
                  <p:nvPr/>
                </p:nvSpPr>
                <p:spPr>
                  <a:xfrm rot="5400000">
                    <a:off x="19987200" y="20124360"/>
                    <a:ext cx="2412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8" h="0">
                        <a:moveTo>
                          <a:pt x="698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9" name=""/>
                  <p:cNvSpPr/>
                  <p:nvPr/>
                </p:nvSpPr>
                <p:spPr>
                  <a:xfrm rot="5400000">
                    <a:off x="19996560" y="20135160"/>
                    <a:ext cx="144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33">
                        <a:moveTo>
                          <a:pt x="0" y="133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0" name=""/>
                  <p:cNvSpPr/>
                  <p:nvPr/>
                </p:nvSpPr>
                <p:spPr>
                  <a:xfrm rot="5400000">
                    <a:off x="19997280" y="20110680"/>
                    <a:ext cx="36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34">
                        <a:moveTo>
                          <a:pt x="0" y="134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1" name=""/>
                  <p:cNvSpPr/>
                  <p:nvPr/>
                </p:nvSpPr>
                <p:spPr>
                  <a:xfrm rot="5400000">
                    <a:off x="19984680" y="20050200"/>
                    <a:ext cx="1260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49" h="0">
                        <a:moveTo>
                          <a:pt x="349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2" name=""/>
                  <p:cNvSpPr/>
                  <p:nvPr/>
                </p:nvSpPr>
                <p:spPr>
                  <a:xfrm rot="5400000">
                    <a:off x="19959840" y="20114640"/>
                    <a:ext cx="12168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3444" h="562">
                        <a:moveTo>
                          <a:pt x="3405" y="560"/>
                        </a:moveTo>
                        <a:lnTo>
                          <a:pt x="3444" y="429"/>
                        </a:lnTo>
                        <a:lnTo>
                          <a:pt x="3366" y="316"/>
                        </a:lnTo>
                        <a:lnTo>
                          <a:pt x="2559" y="78"/>
                        </a:lnTo>
                        <a:lnTo>
                          <a:pt x="1722" y="0"/>
                        </a:lnTo>
                        <a:lnTo>
                          <a:pt x="884" y="79"/>
                        </a:lnTo>
                        <a:lnTo>
                          <a:pt x="78" y="318"/>
                        </a:lnTo>
                        <a:lnTo>
                          <a:pt x="0" y="430"/>
                        </a:lnTo>
                        <a:lnTo>
                          <a:pt x="39" y="562"/>
                        </a:lnTo>
                        <a:lnTo>
                          <a:pt x="40" y="562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3" name=""/>
                  <p:cNvSpPr/>
                  <p:nvPr/>
                </p:nvSpPr>
                <p:spPr>
                  <a:xfrm rot="5400000">
                    <a:off x="19950480" y="20110320"/>
                    <a:ext cx="11268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52" h="740">
                        <a:moveTo>
                          <a:pt x="3152" y="738"/>
                        </a:moveTo>
                        <a:lnTo>
                          <a:pt x="3126" y="512"/>
                        </a:lnTo>
                        <a:lnTo>
                          <a:pt x="2966" y="350"/>
                        </a:lnTo>
                        <a:lnTo>
                          <a:pt x="2290" y="101"/>
                        </a:lnTo>
                        <a:lnTo>
                          <a:pt x="1576" y="0"/>
                        </a:lnTo>
                        <a:lnTo>
                          <a:pt x="862" y="102"/>
                        </a:lnTo>
                        <a:lnTo>
                          <a:pt x="186" y="352"/>
                        </a:lnTo>
                        <a:lnTo>
                          <a:pt x="26" y="514"/>
                        </a:lnTo>
                        <a:lnTo>
                          <a:pt x="0" y="740"/>
                        </a:lnTo>
                        <a:lnTo>
                          <a:pt x="1" y="74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4" name=""/>
                  <p:cNvSpPr/>
                  <p:nvPr/>
                </p:nvSpPr>
                <p:spPr>
                  <a:xfrm rot="5400000">
                    <a:off x="19976760" y="20089800"/>
                    <a:ext cx="3564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023" h="298">
                        <a:moveTo>
                          <a:pt x="1023" y="0"/>
                        </a:moveTo>
                        <a:lnTo>
                          <a:pt x="496" y="98"/>
                        </a:lnTo>
                        <a:lnTo>
                          <a:pt x="0" y="298"/>
                        </a:lnTo>
                        <a:lnTo>
                          <a:pt x="2" y="298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5" name=""/>
                  <p:cNvSpPr/>
                  <p:nvPr/>
                </p:nvSpPr>
                <p:spPr>
                  <a:xfrm rot="5400000">
                    <a:off x="19986120" y="20070360"/>
                    <a:ext cx="828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203" h="97">
                        <a:moveTo>
                          <a:pt x="0" y="0"/>
                        </a:moveTo>
                        <a:lnTo>
                          <a:pt x="78" y="97"/>
                        </a:lnTo>
                        <a:lnTo>
                          <a:pt x="201" y="93"/>
                        </a:lnTo>
                        <a:lnTo>
                          <a:pt x="203" y="9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6" name=""/>
                  <p:cNvSpPr/>
                  <p:nvPr/>
                </p:nvSpPr>
                <p:spPr>
                  <a:xfrm rot="5400000">
                    <a:off x="19998720" y="20057400"/>
                    <a:ext cx="432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496">
                        <a:moveTo>
                          <a:pt x="109" y="496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7" name=""/>
                  <p:cNvSpPr/>
                  <p:nvPr/>
                </p:nvSpPr>
                <p:spPr>
                  <a:xfrm rot="5400000">
                    <a:off x="20011680" y="20061720"/>
                    <a:ext cx="288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160">
                        <a:moveTo>
                          <a:pt x="84" y="0"/>
                        </a:moveTo>
                        <a:lnTo>
                          <a:pt x="13" y="64"/>
                        </a:lnTo>
                        <a:lnTo>
                          <a:pt x="0" y="160"/>
                        </a:lnTo>
                        <a:lnTo>
                          <a:pt x="1" y="16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8" name=""/>
                  <p:cNvSpPr/>
                  <p:nvPr/>
                </p:nvSpPr>
                <p:spPr>
                  <a:xfrm rot="5400000">
                    <a:off x="20011680" y="20180520"/>
                    <a:ext cx="288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159">
                        <a:moveTo>
                          <a:pt x="84" y="159"/>
                        </a:moveTo>
                        <a:lnTo>
                          <a:pt x="71" y="64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9" name=""/>
                  <p:cNvSpPr/>
                  <p:nvPr/>
                </p:nvSpPr>
                <p:spPr>
                  <a:xfrm rot="5400000">
                    <a:off x="19999080" y="20174760"/>
                    <a:ext cx="396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496">
                        <a:moveTo>
                          <a:pt x="109" y="0"/>
                        </a:moveTo>
                        <a:lnTo>
                          <a:pt x="0" y="496"/>
                        </a:lnTo>
                        <a:lnTo>
                          <a:pt x="1" y="496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0" name=""/>
                  <p:cNvSpPr/>
                  <p:nvPr/>
                </p:nvSpPr>
                <p:spPr>
                  <a:xfrm rot="5400000">
                    <a:off x="19986120" y="20175120"/>
                    <a:ext cx="828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202" h="98">
                        <a:moveTo>
                          <a:pt x="0" y="94"/>
                        </a:moveTo>
                        <a:lnTo>
                          <a:pt x="124" y="98"/>
                        </a:lnTo>
                        <a:lnTo>
                          <a:pt x="201" y="0"/>
                        </a:lnTo>
                        <a:lnTo>
                          <a:pt x="202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1" name=""/>
                  <p:cNvSpPr/>
                  <p:nvPr/>
                </p:nvSpPr>
                <p:spPr>
                  <a:xfrm rot="5400000">
                    <a:off x="19976400" y="20149560"/>
                    <a:ext cx="360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021" h="297">
                        <a:moveTo>
                          <a:pt x="1021" y="297"/>
                        </a:moveTo>
                        <a:lnTo>
                          <a:pt x="525" y="97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62" name=""/>
                <p:cNvGrpSpPr/>
                <p:nvPr/>
              </p:nvGrpSpPr>
              <p:grpSpPr>
                <a:xfrm>
                  <a:off x="19259640" y="20576880"/>
                  <a:ext cx="161640" cy="162360"/>
                  <a:chOff x="19259640" y="20576880"/>
                  <a:chExt cx="161640" cy="162360"/>
                </a:xfrm>
              </p:grpSpPr>
              <p:sp>
                <p:nvSpPr>
                  <p:cNvPr id="1563" name=""/>
                  <p:cNvSpPr/>
                  <p:nvPr/>
                </p:nvSpPr>
                <p:spPr>
                  <a:xfrm flipV="1" rot="5400000">
                    <a:off x="19348560" y="20675880"/>
                    <a:ext cx="36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4" name=""/>
                  <p:cNvSpPr/>
                  <p:nvPr/>
                </p:nvSpPr>
                <p:spPr>
                  <a:xfrm flipV="1" rot="5400000">
                    <a:off x="19348560" y="20689200"/>
                    <a:ext cx="36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5" name=""/>
                  <p:cNvSpPr/>
                  <p:nvPr/>
                </p:nvSpPr>
                <p:spPr>
                  <a:xfrm flipV="1" rot="5400000">
                    <a:off x="19348200" y="20527560"/>
                    <a:ext cx="108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6" name=""/>
                  <p:cNvSpPr/>
                  <p:nvPr/>
                </p:nvSpPr>
                <p:spPr>
                  <a:xfrm flipV="1" rot="5400000">
                    <a:off x="19348200" y="20540880"/>
                    <a:ext cx="144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7" name=""/>
                  <p:cNvSpPr/>
                  <p:nvPr/>
                </p:nvSpPr>
                <p:spPr>
                  <a:xfrm flipV="1" rot="5400000">
                    <a:off x="19361160" y="20562120"/>
                    <a:ext cx="36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925">
                        <a:moveTo>
                          <a:pt x="0" y="0"/>
                        </a:moveTo>
                        <a:lnTo>
                          <a:pt x="18" y="1925"/>
                        </a:lnTo>
                        <a:lnTo>
                          <a:pt x="19" y="1925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8" name=""/>
                  <p:cNvSpPr/>
                  <p:nvPr/>
                </p:nvSpPr>
                <p:spPr>
                  <a:xfrm flipV="1" rot="5400000">
                    <a:off x="19396800" y="20595240"/>
                    <a:ext cx="2016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8" h="605">
                        <a:moveTo>
                          <a:pt x="0" y="0"/>
                        </a:moveTo>
                        <a:lnTo>
                          <a:pt x="184" y="396"/>
                        </a:lnTo>
                        <a:lnTo>
                          <a:pt x="567" y="605"/>
                        </a:lnTo>
                        <a:lnTo>
                          <a:pt x="568" y="605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9" name=""/>
                  <p:cNvSpPr/>
                  <p:nvPr/>
                </p:nvSpPr>
                <p:spPr>
                  <a:xfrm flipV="1" rot="5400000">
                    <a:off x="19379160" y="20656080"/>
                    <a:ext cx="8136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269" h="103">
                        <a:moveTo>
                          <a:pt x="0" y="2"/>
                        </a:moveTo>
                        <a:lnTo>
                          <a:pt x="1135" y="103"/>
                        </a:lnTo>
                        <a:lnTo>
                          <a:pt x="2268" y="0"/>
                        </a:lnTo>
                        <a:lnTo>
                          <a:pt x="2269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0" name=""/>
                  <p:cNvSpPr/>
                  <p:nvPr/>
                </p:nvSpPr>
                <p:spPr>
                  <a:xfrm flipV="1" rot="5400000">
                    <a:off x="19396800" y="20697120"/>
                    <a:ext cx="2016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8" h="605">
                        <a:moveTo>
                          <a:pt x="0" y="605"/>
                        </a:moveTo>
                        <a:lnTo>
                          <a:pt x="382" y="396"/>
                        </a:lnTo>
                        <a:lnTo>
                          <a:pt x="567" y="0"/>
                        </a:lnTo>
                        <a:lnTo>
                          <a:pt x="568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1" name=""/>
                  <p:cNvSpPr/>
                  <p:nvPr/>
                </p:nvSpPr>
                <p:spPr>
                  <a:xfrm flipV="1" rot="5400000">
                    <a:off x="19361160" y="20684160"/>
                    <a:ext cx="36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925">
                        <a:moveTo>
                          <a:pt x="0" y="1925"/>
                        </a:moveTo>
                        <a:lnTo>
                          <a:pt x="16" y="0"/>
                        </a:lnTo>
                        <a:lnTo>
                          <a:pt x="17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2" name=""/>
                  <p:cNvSpPr/>
                  <p:nvPr/>
                </p:nvSpPr>
                <p:spPr>
                  <a:xfrm flipV="1" rot="5400000">
                    <a:off x="19299600" y="20691000"/>
                    <a:ext cx="2556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745" h="787">
                        <a:moveTo>
                          <a:pt x="745" y="787"/>
                        </a:moveTo>
                        <a:lnTo>
                          <a:pt x="623" y="420"/>
                        </a:lnTo>
                        <a:lnTo>
                          <a:pt x="358" y="14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3" name=""/>
                  <p:cNvSpPr/>
                  <p:nvPr/>
                </p:nvSpPr>
                <p:spPr>
                  <a:xfrm flipV="1" rot="5400000">
                    <a:off x="19261440" y="20655720"/>
                    <a:ext cx="7020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1947" h="77">
                        <a:moveTo>
                          <a:pt x="1947" y="76"/>
                        </a:moveTo>
                        <a:lnTo>
                          <a:pt x="974" y="0"/>
                        </a:lnTo>
                        <a:lnTo>
                          <a:pt x="0" y="77"/>
                        </a:lnTo>
                        <a:lnTo>
                          <a:pt x="1" y="77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4" name=""/>
                  <p:cNvSpPr/>
                  <p:nvPr/>
                </p:nvSpPr>
                <p:spPr>
                  <a:xfrm flipV="1" rot="5400000">
                    <a:off x="19299240" y="20595240"/>
                    <a:ext cx="2592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744" h="788">
                        <a:moveTo>
                          <a:pt x="744" y="0"/>
                        </a:moveTo>
                        <a:lnTo>
                          <a:pt x="386" y="141"/>
                        </a:lnTo>
                        <a:lnTo>
                          <a:pt x="121" y="421"/>
                        </a:lnTo>
                        <a:lnTo>
                          <a:pt x="0" y="788"/>
                        </a:lnTo>
                        <a:lnTo>
                          <a:pt x="1" y="788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5" name=""/>
                  <p:cNvSpPr/>
                  <p:nvPr/>
                </p:nvSpPr>
                <p:spPr>
                  <a:xfrm flipV="1" rot="5400000">
                    <a:off x="19391760" y="20731680"/>
                    <a:ext cx="129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50" h="0">
                        <a:moveTo>
                          <a:pt x="0" y="0"/>
                        </a:moveTo>
                        <a:lnTo>
                          <a:pt x="349" y="0"/>
                        </a:lnTo>
                        <a:lnTo>
                          <a:pt x="350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6" name=""/>
                  <p:cNvSpPr/>
                  <p:nvPr/>
                </p:nvSpPr>
                <p:spPr>
                  <a:xfrm flipV="1" rot="5400000">
                    <a:off x="19392120" y="20582640"/>
                    <a:ext cx="1260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49" h="0">
                        <a:moveTo>
                          <a:pt x="349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7" name=""/>
                  <p:cNvSpPr/>
                  <p:nvPr/>
                </p:nvSpPr>
                <p:spPr>
                  <a:xfrm flipV="1" rot="5400000">
                    <a:off x="19293120" y="20731680"/>
                    <a:ext cx="129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50" h="0">
                        <a:moveTo>
                          <a:pt x="0" y="0"/>
                        </a:moveTo>
                        <a:lnTo>
                          <a:pt x="349" y="0"/>
                        </a:lnTo>
                        <a:lnTo>
                          <a:pt x="350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8" name=""/>
                  <p:cNvSpPr/>
                  <p:nvPr/>
                </p:nvSpPr>
                <p:spPr>
                  <a:xfrm flipV="1" rot="5400000">
                    <a:off x="19279080" y="20656800"/>
                    <a:ext cx="2412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8" h="0">
                        <a:moveTo>
                          <a:pt x="698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9" name=""/>
                  <p:cNvSpPr/>
                  <p:nvPr/>
                </p:nvSpPr>
                <p:spPr>
                  <a:xfrm flipV="1" rot="5400000">
                    <a:off x="19292040" y="20668320"/>
                    <a:ext cx="144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33">
                        <a:moveTo>
                          <a:pt x="0" y="133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0" name=""/>
                  <p:cNvSpPr/>
                  <p:nvPr/>
                </p:nvSpPr>
                <p:spPr>
                  <a:xfrm flipV="1" rot="5400000">
                    <a:off x="19292760" y="20643120"/>
                    <a:ext cx="36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34">
                        <a:moveTo>
                          <a:pt x="0" y="134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1" name=""/>
                  <p:cNvSpPr/>
                  <p:nvPr/>
                </p:nvSpPr>
                <p:spPr>
                  <a:xfrm flipV="1" rot="5400000">
                    <a:off x="19293480" y="20582640"/>
                    <a:ext cx="1260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49" h="0">
                        <a:moveTo>
                          <a:pt x="349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2" name=""/>
                  <p:cNvSpPr/>
                  <p:nvPr/>
                </p:nvSpPr>
                <p:spPr>
                  <a:xfrm flipV="1" rot="5400000">
                    <a:off x="19208520" y="20647440"/>
                    <a:ext cx="12168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3444" h="562">
                        <a:moveTo>
                          <a:pt x="3405" y="560"/>
                        </a:moveTo>
                        <a:lnTo>
                          <a:pt x="3444" y="429"/>
                        </a:lnTo>
                        <a:lnTo>
                          <a:pt x="3366" y="316"/>
                        </a:lnTo>
                        <a:lnTo>
                          <a:pt x="2559" y="78"/>
                        </a:lnTo>
                        <a:lnTo>
                          <a:pt x="1722" y="0"/>
                        </a:lnTo>
                        <a:lnTo>
                          <a:pt x="884" y="79"/>
                        </a:lnTo>
                        <a:lnTo>
                          <a:pt x="78" y="318"/>
                        </a:lnTo>
                        <a:lnTo>
                          <a:pt x="0" y="430"/>
                        </a:lnTo>
                        <a:lnTo>
                          <a:pt x="39" y="562"/>
                        </a:lnTo>
                        <a:lnTo>
                          <a:pt x="40" y="562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3" name=""/>
                  <p:cNvSpPr/>
                  <p:nvPr/>
                </p:nvSpPr>
                <p:spPr>
                  <a:xfrm flipV="1" rot="5400000">
                    <a:off x="19227240" y="20643120"/>
                    <a:ext cx="11304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52" h="740">
                        <a:moveTo>
                          <a:pt x="3152" y="738"/>
                        </a:moveTo>
                        <a:lnTo>
                          <a:pt x="3126" y="512"/>
                        </a:lnTo>
                        <a:lnTo>
                          <a:pt x="2966" y="350"/>
                        </a:lnTo>
                        <a:lnTo>
                          <a:pt x="2290" y="101"/>
                        </a:lnTo>
                        <a:lnTo>
                          <a:pt x="1576" y="0"/>
                        </a:lnTo>
                        <a:lnTo>
                          <a:pt x="862" y="102"/>
                        </a:lnTo>
                        <a:lnTo>
                          <a:pt x="186" y="352"/>
                        </a:lnTo>
                        <a:lnTo>
                          <a:pt x="26" y="514"/>
                        </a:lnTo>
                        <a:lnTo>
                          <a:pt x="0" y="740"/>
                        </a:lnTo>
                        <a:lnTo>
                          <a:pt x="1" y="74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4" name=""/>
                  <p:cNvSpPr/>
                  <p:nvPr/>
                </p:nvSpPr>
                <p:spPr>
                  <a:xfrm flipV="1" rot="5400000">
                    <a:off x="19278000" y="20621880"/>
                    <a:ext cx="3564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023" h="298">
                        <a:moveTo>
                          <a:pt x="1023" y="0"/>
                        </a:moveTo>
                        <a:lnTo>
                          <a:pt x="496" y="98"/>
                        </a:lnTo>
                        <a:lnTo>
                          <a:pt x="0" y="298"/>
                        </a:lnTo>
                        <a:lnTo>
                          <a:pt x="2" y="298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5" name=""/>
                  <p:cNvSpPr/>
                  <p:nvPr/>
                </p:nvSpPr>
                <p:spPr>
                  <a:xfrm flipV="1" rot="5400000">
                    <a:off x="19296000" y="20602800"/>
                    <a:ext cx="828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203" h="97">
                        <a:moveTo>
                          <a:pt x="0" y="0"/>
                        </a:moveTo>
                        <a:lnTo>
                          <a:pt x="78" y="97"/>
                        </a:lnTo>
                        <a:lnTo>
                          <a:pt x="201" y="93"/>
                        </a:lnTo>
                        <a:lnTo>
                          <a:pt x="203" y="9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6" name=""/>
                  <p:cNvSpPr/>
                  <p:nvPr/>
                </p:nvSpPr>
                <p:spPr>
                  <a:xfrm flipV="1" rot="5400000">
                    <a:off x="19287000" y="20590200"/>
                    <a:ext cx="432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496">
                        <a:moveTo>
                          <a:pt x="109" y="496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7" name=""/>
                  <p:cNvSpPr/>
                  <p:nvPr/>
                </p:nvSpPr>
                <p:spPr>
                  <a:xfrm flipV="1" rot="5400000">
                    <a:off x="19275480" y="20594520"/>
                    <a:ext cx="288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160">
                        <a:moveTo>
                          <a:pt x="84" y="0"/>
                        </a:moveTo>
                        <a:lnTo>
                          <a:pt x="13" y="64"/>
                        </a:lnTo>
                        <a:lnTo>
                          <a:pt x="0" y="160"/>
                        </a:lnTo>
                        <a:lnTo>
                          <a:pt x="1" y="16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8" name=""/>
                  <p:cNvSpPr/>
                  <p:nvPr/>
                </p:nvSpPr>
                <p:spPr>
                  <a:xfrm flipV="1" rot="5400000">
                    <a:off x="19275480" y="20713320"/>
                    <a:ext cx="288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159">
                        <a:moveTo>
                          <a:pt x="84" y="159"/>
                        </a:moveTo>
                        <a:lnTo>
                          <a:pt x="71" y="64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9" name=""/>
                  <p:cNvSpPr/>
                  <p:nvPr/>
                </p:nvSpPr>
                <p:spPr>
                  <a:xfrm flipV="1" rot="5400000">
                    <a:off x="19287360" y="20707560"/>
                    <a:ext cx="396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496">
                        <a:moveTo>
                          <a:pt x="109" y="0"/>
                        </a:moveTo>
                        <a:lnTo>
                          <a:pt x="0" y="496"/>
                        </a:lnTo>
                        <a:lnTo>
                          <a:pt x="1" y="496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0" name=""/>
                  <p:cNvSpPr/>
                  <p:nvPr/>
                </p:nvSpPr>
                <p:spPr>
                  <a:xfrm flipV="1" rot="5400000">
                    <a:off x="19296000" y="20707560"/>
                    <a:ext cx="828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202" h="98">
                        <a:moveTo>
                          <a:pt x="0" y="94"/>
                        </a:moveTo>
                        <a:lnTo>
                          <a:pt x="124" y="98"/>
                        </a:lnTo>
                        <a:lnTo>
                          <a:pt x="201" y="0"/>
                        </a:lnTo>
                        <a:lnTo>
                          <a:pt x="202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1" name=""/>
                  <p:cNvSpPr/>
                  <p:nvPr/>
                </p:nvSpPr>
                <p:spPr>
                  <a:xfrm flipV="1" rot="5400000">
                    <a:off x="19278000" y="20682720"/>
                    <a:ext cx="3600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021" h="297">
                        <a:moveTo>
                          <a:pt x="1021" y="297"/>
                        </a:moveTo>
                        <a:lnTo>
                          <a:pt x="525" y="97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92" name=""/>
                <p:cNvGrpSpPr/>
                <p:nvPr/>
              </p:nvGrpSpPr>
              <p:grpSpPr>
                <a:xfrm>
                  <a:off x="19259640" y="20329200"/>
                  <a:ext cx="161640" cy="162360"/>
                  <a:chOff x="19259640" y="20329200"/>
                  <a:chExt cx="161640" cy="162360"/>
                </a:xfrm>
              </p:grpSpPr>
              <p:sp>
                <p:nvSpPr>
                  <p:cNvPr id="1593" name=""/>
                  <p:cNvSpPr/>
                  <p:nvPr/>
                </p:nvSpPr>
                <p:spPr>
                  <a:xfrm flipV="1" rot="5400000">
                    <a:off x="19348560" y="20428200"/>
                    <a:ext cx="36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4" name=""/>
                  <p:cNvSpPr/>
                  <p:nvPr/>
                </p:nvSpPr>
                <p:spPr>
                  <a:xfrm flipV="1" rot="5400000">
                    <a:off x="19348560" y="20441520"/>
                    <a:ext cx="36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5" name=""/>
                  <p:cNvSpPr/>
                  <p:nvPr/>
                </p:nvSpPr>
                <p:spPr>
                  <a:xfrm flipV="1" rot="5400000">
                    <a:off x="19348200" y="20279880"/>
                    <a:ext cx="108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6" name=""/>
                  <p:cNvSpPr/>
                  <p:nvPr/>
                </p:nvSpPr>
                <p:spPr>
                  <a:xfrm flipV="1" rot="5400000">
                    <a:off x="19348200" y="20293200"/>
                    <a:ext cx="144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7" name=""/>
                  <p:cNvSpPr/>
                  <p:nvPr/>
                </p:nvSpPr>
                <p:spPr>
                  <a:xfrm flipV="1" rot="5400000">
                    <a:off x="19361160" y="20314440"/>
                    <a:ext cx="36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925">
                        <a:moveTo>
                          <a:pt x="0" y="0"/>
                        </a:moveTo>
                        <a:lnTo>
                          <a:pt x="18" y="1925"/>
                        </a:lnTo>
                        <a:lnTo>
                          <a:pt x="19" y="1925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8" name=""/>
                  <p:cNvSpPr/>
                  <p:nvPr/>
                </p:nvSpPr>
                <p:spPr>
                  <a:xfrm flipV="1" rot="5400000">
                    <a:off x="19396800" y="20347560"/>
                    <a:ext cx="2016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8" h="605">
                        <a:moveTo>
                          <a:pt x="0" y="0"/>
                        </a:moveTo>
                        <a:lnTo>
                          <a:pt x="184" y="396"/>
                        </a:lnTo>
                        <a:lnTo>
                          <a:pt x="567" y="605"/>
                        </a:lnTo>
                        <a:lnTo>
                          <a:pt x="568" y="605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9" name=""/>
                  <p:cNvSpPr/>
                  <p:nvPr/>
                </p:nvSpPr>
                <p:spPr>
                  <a:xfrm flipV="1" rot="5400000">
                    <a:off x="19379160" y="20408400"/>
                    <a:ext cx="8136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269" h="103">
                        <a:moveTo>
                          <a:pt x="0" y="2"/>
                        </a:moveTo>
                        <a:lnTo>
                          <a:pt x="1135" y="103"/>
                        </a:lnTo>
                        <a:lnTo>
                          <a:pt x="2268" y="0"/>
                        </a:lnTo>
                        <a:lnTo>
                          <a:pt x="2269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0" name=""/>
                  <p:cNvSpPr/>
                  <p:nvPr/>
                </p:nvSpPr>
                <p:spPr>
                  <a:xfrm flipV="1" rot="5400000">
                    <a:off x="19396800" y="20449440"/>
                    <a:ext cx="2016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8" h="605">
                        <a:moveTo>
                          <a:pt x="0" y="605"/>
                        </a:moveTo>
                        <a:lnTo>
                          <a:pt x="382" y="396"/>
                        </a:lnTo>
                        <a:lnTo>
                          <a:pt x="567" y="0"/>
                        </a:lnTo>
                        <a:lnTo>
                          <a:pt x="568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1" name=""/>
                  <p:cNvSpPr/>
                  <p:nvPr/>
                </p:nvSpPr>
                <p:spPr>
                  <a:xfrm flipV="1" rot="5400000">
                    <a:off x="19361160" y="20436480"/>
                    <a:ext cx="36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925">
                        <a:moveTo>
                          <a:pt x="0" y="1925"/>
                        </a:moveTo>
                        <a:lnTo>
                          <a:pt x="16" y="0"/>
                        </a:lnTo>
                        <a:lnTo>
                          <a:pt x="17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2" name=""/>
                  <p:cNvSpPr/>
                  <p:nvPr/>
                </p:nvSpPr>
                <p:spPr>
                  <a:xfrm flipV="1" rot="5400000">
                    <a:off x="19299600" y="20443320"/>
                    <a:ext cx="2556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745" h="787">
                        <a:moveTo>
                          <a:pt x="745" y="787"/>
                        </a:moveTo>
                        <a:lnTo>
                          <a:pt x="623" y="420"/>
                        </a:lnTo>
                        <a:lnTo>
                          <a:pt x="358" y="14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3" name=""/>
                  <p:cNvSpPr/>
                  <p:nvPr/>
                </p:nvSpPr>
                <p:spPr>
                  <a:xfrm flipV="1" rot="5400000">
                    <a:off x="19261440" y="20408040"/>
                    <a:ext cx="7020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1947" h="77">
                        <a:moveTo>
                          <a:pt x="1947" y="76"/>
                        </a:moveTo>
                        <a:lnTo>
                          <a:pt x="974" y="0"/>
                        </a:lnTo>
                        <a:lnTo>
                          <a:pt x="0" y="77"/>
                        </a:lnTo>
                        <a:lnTo>
                          <a:pt x="1" y="77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4" name=""/>
                  <p:cNvSpPr/>
                  <p:nvPr/>
                </p:nvSpPr>
                <p:spPr>
                  <a:xfrm flipV="1" rot="5400000">
                    <a:off x="19299240" y="20347560"/>
                    <a:ext cx="2592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744" h="788">
                        <a:moveTo>
                          <a:pt x="744" y="0"/>
                        </a:moveTo>
                        <a:lnTo>
                          <a:pt x="386" y="141"/>
                        </a:lnTo>
                        <a:lnTo>
                          <a:pt x="121" y="421"/>
                        </a:lnTo>
                        <a:lnTo>
                          <a:pt x="0" y="788"/>
                        </a:lnTo>
                        <a:lnTo>
                          <a:pt x="1" y="788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5" name=""/>
                  <p:cNvSpPr/>
                  <p:nvPr/>
                </p:nvSpPr>
                <p:spPr>
                  <a:xfrm flipV="1" rot="5400000">
                    <a:off x="19391760" y="20484000"/>
                    <a:ext cx="129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50" h="0">
                        <a:moveTo>
                          <a:pt x="0" y="0"/>
                        </a:moveTo>
                        <a:lnTo>
                          <a:pt x="349" y="0"/>
                        </a:lnTo>
                        <a:lnTo>
                          <a:pt x="350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6" name=""/>
                  <p:cNvSpPr/>
                  <p:nvPr/>
                </p:nvSpPr>
                <p:spPr>
                  <a:xfrm flipV="1" rot="5400000">
                    <a:off x="19392120" y="20334960"/>
                    <a:ext cx="1260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49" h="0">
                        <a:moveTo>
                          <a:pt x="349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7" name=""/>
                  <p:cNvSpPr/>
                  <p:nvPr/>
                </p:nvSpPr>
                <p:spPr>
                  <a:xfrm flipV="1" rot="5400000">
                    <a:off x="19293120" y="20484000"/>
                    <a:ext cx="129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50" h="0">
                        <a:moveTo>
                          <a:pt x="0" y="0"/>
                        </a:moveTo>
                        <a:lnTo>
                          <a:pt x="349" y="0"/>
                        </a:lnTo>
                        <a:lnTo>
                          <a:pt x="350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8" name=""/>
                  <p:cNvSpPr/>
                  <p:nvPr/>
                </p:nvSpPr>
                <p:spPr>
                  <a:xfrm flipV="1" rot="5400000">
                    <a:off x="19279080" y="20409120"/>
                    <a:ext cx="2412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8" h="0">
                        <a:moveTo>
                          <a:pt x="698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9" name=""/>
                  <p:cNvSpPr/>
                  <p:nvPr/>
                </p:nvSpPr>
                <p:spPr>
                  <a:xfrm flipV="1" rot="5400000">
                    <a:off x="19292040" y="20420640"/>
                    <a:ext cx="144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33">
                        <a:moveTo>
                          <a:pt x="0" y="133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0" name=""/>
                  <p:cNvSpPr/>
                  <p:nvPr/>
                </p:nvSpPr>
                <p:spPr>
                  <a:xfrm flipV="1" rot="5400000">
                    <a:off x="19292760" y="20395440"/>
                    <a:ext cx="36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34">
                        <a:moveTo>
                          <a:pt x="0" y="134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1" name=""/>
                  <p:cNvSpPr/>
                  <p:nvPr/>
                </p:nvSpPr>
                <p:spPr>
                  <a:xfrm flipV="1" rot="5400000">
                    <a:off x="19293480" y="20334960"/>
                    <a:ext cx="1260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49" h="0">
                        <a:moveTo>
                          <a:pt x="349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2" name=""/>
                  <p:cNvSpPr/>
                  <p:nvPr/>
                </p:nvSpPr>
                <p:spPr>
                  <a:xfrm flipV="1" rot="5400000">
                    <a:off x="19208520" y="20399760"/>
                    <a:ext cx="12168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3444" h="562">
                        <a:moveTo>
                          <a:pt x="3405" y="560"/>
                        </a:moveTo>
                        <a:lnTo>
                          <a:pt x="3444" y="429"/>
                        </a:lnTo>
                        <a:lnTo>
                          <a:pt x="3366" y="316"/>
                        </a:lnTo>
                        <a:lnTo>
                          <a:pt x="2559" y="78"/>
                        </a:lnTo>
                        <a:lnTo>
                          <a:pt x="1722" y="0"/>
                        </a:lnTo>
                        <a:lnTo>
                          <a:pt x="884" y="79"/>
                        </a:lnTo>
                        <a:lnTo>
                          <a:pt x="78" y="318"/>
                        </a:lnTo>
                        <a:lnTo>
                          <a:pt x="0" y="430"/>
                        </a:lnTo>
                        <a:lnTo>
                          <a:pt x="39" y="562"/>
                        </a:lnTo>
                        <a:lnTo>
                          <a:pt x="40" y="562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3" name=""/>
                  <p:cNvSpPr/>
                  <p:nvPr/>
                </p:nvSpPr>
                <p:spPr>
                  <a:xfrm flipV="1" rot="5400000">
                    <a:off x="19227240" y="20395440"/>
                    <a:ext cx="11304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52" h="740">
                        <a:moveTo>
                          <a:pt x="3152" y="738"/>
                        </a:moveTo>
                        <a:lnTo>
                          <a:pt x="3126" y="512"/>
                        </a:lnTo>
                        <a:lnTo>
                          <a:pt x="2966" y="350"/>
                        </a:lnTo>
                        <a:lnTo>
                          <a:pt x="2290" y="101"/>
                        </a:lnTo>
                        <a:lnTo>
                          <a:pt x="1576" y="0"/>
                        </a:lnTo>
                        <a:lnTo>
                          <a:pt x="862" y="102"/>
                        </a:lnTo>
                        <a:lnTo>
                          <a:pt x="186" y="352"/>
                        </a:lnTo>
                        <a:lnTo>
                          <a:pt x="26" y="514"/>
                        </a:lnTo>
                        <a:lnTo>
                          <a:pt x="0" y="740"/>
                        </a:lnTo>
                        <a:lnTo>
                          <a:pt x="1" y="74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4" name=""/>
                  <p:cNvSpPr/>
                  <p:nvPr/>
                </p:nvSpPr>
                <p:spPr>
                  <a:xfrm flipV="1" rot="5400000">
                    <a:off x="19278000" y="20374200"/>
                    <a:ext cx="3564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023" h="298">
                        <a:moveTo>
                          <a:pt x="1023" y="0"/>
                        </a:moveTo>
                        <a:lnTo>
                          <a:pt x="496" y="98"/>
                        </a:lnTo>
                        <a:lnTo>
                          <a:pt x="0" y="298"/>
                        </a:lnTo>
                        <a:lnTo>
                          <a:pt x="2" y="298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5" name=""/>
                  <p:cNvSpPr/>
                  <p:nvPr/>
                </p:nvSpPr>
                <p:spPr>
                  <a:xfrm flipV="1" rot="5400000">
                    <a:off x="19296000" y="20355120"/>
                    <a:ext cx="828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203" h="97">
                        <a:moveTo>
                          <a:pt x="0" y="0"/>
                        </a:moveTo>
                        <a:lnTo>
                          <a:pt x="78" y="97"/>
                        </a:lnTo>
                        <a:lnTo>
                          <a:pt x="201" y="93"/>
                        </a:lnTo>
                        <a:lnTo>
                          <a:pt x="203" y="9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6" name=""/>
                  <p:cNvSpPr/>
                  <p:nvPr/>
                </p:nvSpPr>
                <p:spPr>
                  <a:xfrm flipV="1" rot="5400000">
                    <a:off x="19287000" y="20342520"/>
                    <a:ext cx="432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496">
                        <a:moveTo>
                          <a:pt x="109" y="496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7" name=""/>
                  <p:cNvSpPr/>
                  <p:nvPr/>
                </p:nvSpPr>
                <p:spPr>
                  <a:xfrm flipV="1" rot="5400000">
                    <a:off x="19275480" y="20346840"/>
                    <a:ext cx="288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160">
                        <a:moveTo>
                          <a:pt x="84" y="0"/>
                        </a:moveTo>
                        <a:lnTo>
                          <a:pt x="13" y="64"/>
                        </a:lnTo>
                        <a:lnTo>
                          <a:pt x="0" y="160"/>
                        </a:lnTo>
                        <a:lnTo>
                          <a:pt x="1" y="16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8" name=""/>
                  <p:cNvSpPr/>
                  <p:nvPr/>
                </p:nvSpPr>
                <p:spPr>
                  <a:xfrm flipV="1" rot="5400000">
                    <a:off x="19275480" y="20465640"/>
                    <a:ext cx="288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159">
                        <a:moveTo>
                          <a:pt x="84" y="159"/>
                        </a:moveTo>
                        <a:lnTo>
                          <a:pt x="71" y="64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9" name=""/>
                  <p:cNvSpPr/>
                  <p:nvPr/>
                </p:nvSpPr>
                <p:spPr>
                  <a:xfrm flipV="1" rot="5400000">
                    <a:off x="19287360" y="20459880"/>
                    <a:ext cx="396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496">
                        <a:moveTo>
                          <a:pt x="109" y="0"/>
                        </a:moveTo>
                        <a:lnTo>
                          <a:pt x="0" y="496"/>
                        </a:lnTo>
                        <a:lnTo>
                          <a:pt x="1" y="496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0" name=""/>
                  <p:cNvSpPr/>
                  <p:nvPr/>
                </p:nvSpPr>
                <p:spPr>
                  <a:xfrm flipV="1" rot="5400000">
                    <a:off x="19296000" y="20459880"/>
                    <a:ext cx="828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202" h="98">
                        <a:moveTo>
                          <a:pt x="0" y="94"/>
                        </a:moveTo>
                        <a:lnTo>
                          <a:pt x="124" y="98"/>
                        </a:lnTo>
                        <a:lnTo>
                          <a:pt x="201" y="0"/>
                        </a:lnTo>
                        <a:lnTo>
                          <a:pt x="202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1" name=""/>
                  <p:cNvSpPr/>
                  <p:nvPr/>
                </p:nvSpPr>
                <p:spPr>
                  <a:xfrm flipV="1" rot="5400000">
                    <a:off x="19278000" y="20435040"/>
                    <a:ext cx="3600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021" h="297">
                        <a:moveTo>
                          <a:pt x="1021" y="297"/>
                        </a:moveTo>
                        <a:lnTo>
                          <a:pt x="525" y="97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22" name=""/>
                <p:cNvGrpSpPr/>
                <p:nvPr/>
              </p:nvGrpSpPr>
              <p:grpSpPr>
                <a:xfrm>
                  <a:off x="19583640" y="19758240"/>
                  <a:ext cx="162360" cy="161640"/>
                  <a:chOff x="19583640" y="19758240"/>
                  <a:chExt cx="162360" cy="161640"/>
                </a:xfrm>
              </p:grpSpPr>
              <p:sp>
                <p:nvSpPr>
                  <p:cNvPr id="1623" name=""/>
                  <p:cNvSpPr/>
                  <p:nvPr/>
                </p:nvSpPr>
                <p:spPr>
                  <a:xfrm flipV="1">
                    <a:off x="19732320" y="19781280"/>
                    <a:ext cx="36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4" name=""/>
                  <p:cNvSpPr/>
                  <p:nvPr/>
                </p:nvSpPr>
                <p:spPr>
                  <a:xfrm flipV="1">
                    <a:off x="19745640" y="19781280"/>
                    <a:ext cx="36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5" name=""/>
                  <p:cNvSpPr/>
                  <p:nvPr/>
                </p:nvSpPr>
                <p:spPr>
                  <a:xfrm flipV="1">
                    <a:off x="19583640" y="19781280"/>
                    <a:ext cx="108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6" name=""/>
                  <p:cNvSpPr/>
                  <p:nvPr/>
                </p:nvSpPr>
                <p:spPr>
                  <a:xfrm flipV="1">
                    <a:off x="19596240" y="19781280"/>
                    <a:ext cx="144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7" name=""/>
                  <p:cNvSpPr/>
                  <p:nvPr/>
                </p:nvSpPr>
                <p:spPr>
                  <a:xfrm flipV="1">
                    <a:off x="19603440" y="19783440"/>
                    <a:ext cx="36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925">
                        <a:moveTo>
                          <a:pt x="0" y="0"/>
                        </a:moveTo>
                        <a:lnTo>
                          <a:pt x="18" y="1925"/>
                        </a:lnTo>
                        <a:lnTo>
                          <a:pt x="19" y="1925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8" name=""/>
                  <p:cNvSpPr/>
                  <p:nvPr/>
                </p:nvSpPr>
                <p:spPr>
                  <a:xfrm flipV="1">
                    <a:off x="19603440" y="19760760"/>
                    <a:ext cx="2016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8" h="605">
                        <a:moveTo>
                          <a:pt x="0" y="0"/>
                        </a:moveTo>
                        <a:lnTo>
                          <a:pt x="184" y="396"/>
                        </a:lnTo>
                        <a:lnTo>
                          <a:pt x="567" y="605"/>
                        </a:lnTo>
                        <a:lnTo>
                          <a:pt x="568" y="605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9" name=""/>
                  <p:cNvSpPr/>
                  <p:nvPr/>
                </p:nvSpPr>
                <p:spPr>
                  <a:xfrm flipV="1">
                    <a:off x="19623600" y="19758240"/>
                    <a:ext cx="8136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269" h="103">
                        <a:moveTo>
                          <a:pt x="0" y="2"/>
                        </a:moveTo>
                        <a:lnTo>
                          <a:pt x="1135" y="103"/>
                        </a:lnTo>
                        <a:lnTo>
                          <a:pt x="2268" y="0"/>
                        </a:lnTo>
                        <a:lnTo>
                          <a:pt x="2269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0" name=""/>
                  <p:cNvSpPr/>
                  <p:nvPr/>
                </p:nvSpPr>
                <p:spPr>
                  <a:xfrm flipV="1">
                    <a:off x="19705320" y="19760760"/>
                    <a:ext cx="2016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8" h="605">
                        <a:moveTo>
                          <a:pt x="0" y="605"/>
                        </a:moveTo>
                        <a:lnTo>
                          <a:pt x="382" y="396"/>
                        </a:lnTo>
                        <a:lnTo>
                          <a:pt x="567" y="0"/>
                        </a:lnTo>
                        <a:lnTo>
                          <a:pt x="568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1" name=""/>
                  <p:cNvSpPr/>
                  <p:nvPr/>
                </p:nvSpPr>
                <p:spPr>
                  <a:xfrm flipV="1">
                    <a:off x="19725480" y="19783440"/>
                    <a:ext cx="36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925">
                        <a:moveTo>
                          <a:pt x="0" y="1925"/>
                        </a:moveTo>
                        <a:lnTo>
                          <a:pt x="16" y="0"/>
                        </a:lnTo>
                        <a:lnTo>
                          <a:pt x="17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2" name=""/>
                  <p:cNvSpPr/>
                  <p:nvPr/>
                </p:nvSpPr>
                <p:spPr>
                  <a:xfrm flipV="1">
                    <a:off x="19699560" y="19852560"/>
                    <a:ext cx="2556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745" h="787">
                        <a:moveTo>
                          <a:pt x="745" y="787"/>
                        </a:moveTo>
                        <a:lnTo>
                          <a:pt x="623" y="420"/>
                        </a:lnTo>
                        <a:lnTo>
                          <a:pt x="358" y="14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3" name=""/>
                  <p:cNvSpPr/>
                  <p:nvPr/>
                </p:nvSpPr>
                <p:spPr>
                  <a:xfrm flipV="1">
                    <a:off x="19629360" y="19881360"/>
                    <a:ext cx="7020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1947" h="77">
                        <a:moveTo>
                          <a:pt x="1947" y="76"/>
                        </a:moveTo>
                        <a:lnTo>
                          <a:pt x="974" y="0"/>
                        </a:lnTo>
                        <a:lnTo>
                          <a:pt x="0" y="77"/>
                        </a:lnTo>
                        <a:lnTo>
                          <a:pt x="1" y="77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4" name=""/>
                  <p:cNvSpPr/>
                  <p:nvPr/>
                </p:nvSpPr>
                <p:spPr>
                  <a:xfrm flipV="1">
                    <a:off x="19603440" y="19852560"/>
                    <a:ext cx="2592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744" h="788">
                        <a:moveTo>
                          <a:pt x="744" y="0"/>
                        </a:moveTo>
                        <a:lnTo>
                          <a:pt x="386" y="141"/>
                        </a:lnTo>
                        <a:lnTo>
                          <a:pt x="121" y="421"/>
                        </a:lnTo>
                        <a:lnTo>
                          <a:pt x="0" y="788"/>
                        </a:lnTo>
                        <a:lnTo>
                          <a:pt x="1" y="788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5" name=""/>
                  <p:cNvSpPr/>
                  <p:nvPr/>
                </p:nvSpPr>
                <p:spPr>
                  <a:xfrm flipV="1">
                    <a:off x="19732320" y="19780560"/>
                    <a:ext cx="129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50" h="0">
                        <a:moveTo>
                          <a:pt x="0" y="0"/>
                        </a:moveTo>
                        <a:lnTo>
                          <a:pt x="349" y="0"/>
                        </a:lnTo>
                        <a:lnTo>
                          <a:pt x="350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6" name=""/>
                  <p:cNvSpPr/>
                  <p:nvPr/>
                </p:nvSpPr>
                <p:spPr>
                  <a:xfrm flipV="1">
                    <a:off x="19583640" y="19780560"/>
                    <a:ext cx="1260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49" h="0">
                        <a:moveTo>
                          <a:pt x="349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7" name=""/>
                  <p:cNvSpPr/>
                  <p:nvPr/>
                </p:nvSpPr>
                <p:spPr>
                  <a:xfrm flipV="1">
                    <a:off x="19732320" y="19879200"/>
                    <a:ext cx="129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50" h="0">
                        <a:moveTo>
                          <a:pt x="0" y="0"/>
                        </a:moveTo>
                        <a:lnTo>
                          <a:pt x="349" y="0"/>
                        </a:lnTo>
                        <a:lnTo>
                          <a:pt x="350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8" name=""/>
                  <p:cNvSpPr/>
                  <p:nvPr/>
                </p:nvSpPr>
                <p:spPr>
                  <a:xfrm flipV="1">
                    <a:off x="19652040" y="19887840"/>
                    <a:ext cx="2412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8" h="0">
                        <a:moveTo>
                          <a:pt x="698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9" name=""/>
                  <p:cNvSpPr/>
                  <p:nvPr/>
                </p:nvSpPr>
                <p:spPr>
                  <a:xfrm flipV="1">
                    <a:off x="19676520" y="19884240"/>
                    <a:ext cx="144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33">
                        <a:moveTo>
                          <a:pt x="0" y="133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0" name=""/>
                  <p:cNvSpPr/>
                  <p:nvPr/>
                </p:nvSpPr>
                <p:spPr>
                  <a:xfrm flipV="1">
                    <a:off x="19652040" y="19884240"/>
                    <a:ext cx="36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34">
                        <a:moveTo>
                          <a:pt x="0" y="134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1" name=""/>
                  <p:cNvSpPr/>
                  <p:nvPr/>
                </p:nvSpPr>
                <p:spPr>
                  <a:xfrm flipV="1">
                    <a:off x="19583640" y="19879200"/>
                    <a:ext cx="1260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49" h="0">
                        <a:moveTo>
                          <a:pt x="349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2" name=""/>
                  <p:cNvSpPr/>
                  <p:nvPr/>
                </p:nvSpPr>
                <p:spPr>
                  <a:xfrm flipV="1">
                    <a:off x="19603440" y="19899720"/>
                    <a:ext cx="12168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3444" h="562">
                        <a:moveTo>
                          <a:pt x="3405" y="560"/>
                        </a:moveTo>
                        <a:lnTo>
                          <a:pt x="3444" y="429"/>
                        </a:lnTo>
                        <a:lnTo>
                          <a:pt x="3366" y="316"/>
                        </a:lnTo>
                        <a:lnTo>
                          <a:pt x="2559" y="78"/>
                        </a:lnTo>
                        <a:lnTo>
                          <a:pt x="1722" y="0"/>
                        </a:lnTo>
                        <a:lnTo>
                          <a:pt x="884" y="79"/>
                        </a:lnTo>
                        <a:lnTo>
                          <a:pt x="78" y="318"/>
                        </a:lnTo>
                        <a:lnTo>
                          <a:pt x="0" y="430"/>
                        </a:lnTo>
                        <a:lnTo>
                          <a:pt x="39" y="562"/>
                        </a:lnTo>
                        <a:lnTo>
                          <a:pt x="40" y="562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3" name=""/>
                  <p:cNvSpPr/>
                  <p:nvPr/>
                </p:nvSpPr>
                <p:spPr>
                  <a:xfrm flipV="1">
                    <a:off x="19607760" y="19881000"/>
                    <a:ext cx="11304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52" h="740">
                        <a:moveTo>
                          <a:pt x="3152" y="738"/>
                        </a:moveTo>
                        <a:lnTo>
                          <a:pt x="3126" y="512"/>
                        </a:lnTo>
                        <a:lnTo>
                          <a:pt x="2966" y="350"/>
                        </a:lnTo>
                        <a:lnTo>
                          <a:pt x="2290" y="101"/>
                        </a:lnTo>
                        <a:lnTo>
                          <a:pt x="1576" y="0"/>
                        </a:lnTo>
                        <a:lnTo>
                          <a:pt x="862" y="102"/>
                        </a:lnTo>
                        <a:lnTo>
                          <a:pt x="186" y="352"/>
                        </a:lnTo>
                        <a:lnTo>
                          <a:pt x="26" y="514"/>
                        </a:lnTo>
                        <a:lnTo>
                          <a:pt x="0" y="740"/>
                        </a:lnTo>
                        <a:lnTo>
                          <a:pt x="1" y="74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4" name=""/>
                  <p:cNvSpPr/>
                  <p:nvPr/>
                </p:nvSpPr>
                <p:spPr>
                  <a:xfrm flipV="1">
                    <a:off x="19616400" y="19878480"/>
                    <a:ext cx="3564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023" h="298">
                        <a:moveTo>
                          <a:pt x="1023" y="0"/>
                        </a:moveTo>
                        <a:lnTo>
                          <a:pt x="496" y="98"/>
                        </a:lnTo>
                        <a:lnTo>
                          <a:pt x="0" y="298"/>
                        </a:lnTo>
                        <a:lnTo>
                          <a:pt x="2" y="298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5" name=""/>
                  <p:cNvSpPr/>
                  <p:nvPr/>
                </p:nvSpPr>
                <p:spPr>
                  <a:xfrm flipV="1">
                    <a:off x="19607760" y="19877040"/>
                    <a:ext cx="828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203" h="97">
                        <a:moveTo>
                          <a:pt x="0" y="0"/>
                        </a:moveTo>
                        <a:lnTo>
                          <a:pt x="78" y="97"/>
                        </a:lnTo>
                        <a:lnTo>
                          <a:pt x="201" y="93"/>
                        </a:lnTo>
                        <a:lnTo>
                          <a:pt x="203" y="9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6" name=""/>
                  <p:cNvSpPr/>
                  <p:nvPr/>
                </p:nvSpPr>
                <p:spPr>
                  <a:xfrm flipV="1">
                    <a:off x="19603440" y="19881360"/>
                    <a:ext cx="432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496">
                        <a:moveTo>
                          <a:pt x="109" y="496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7" name=""/>
                  <p:cNvSpPr/>
                  <p:nvPr/>
                </p:nvSpPr>
                <p:spPr>
                  <a:xfrm flipV="1">
                    <a:off x="19603440" y="19898640"/>
                    <a:ext cx="288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160">
                        <a:moveTo>
                          <a:pt x="84" y="0"/>
                        </a:moveTo>
                        <a:lnTo>
                          <a:pt x="13" y="64"/>
                        </a:lnTo>
                        <a:lnTo>
                          <a:pt x="0" y="160"/>
                        </a:lnTo>
                        <a:lnTo>
                          <a:pt x="1" y="16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8" name=""/>
                  <p:cNvSpPr/>
                  <p:nvPr/>
                </p:nvSpPr>
                <p:spPr>
                  <a:xfrm flipV="1">
                    <a:off x="19722240" y="19898640"/>
                    <a:ext cx="288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159">
                        <a:moveTo>
                          <a:pt x="84" y="159"/>
                        </a:moveTo>
                        <a:lnTo>
                          <a:pt x="71" y="64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9" name=""/>
                  <p:cNvSpPr/>
                  <p:nvPr/>
                </p:nvSpPr>
                <p:spPr>
                  <a:xfrm flipV="1">
                    <a:off x="19721160" y="19881360"/>
                    <a:ext cx="396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496">
                        <a:moveTo>
                          <a:pt x="109" y="0"/>
                        </a:moveTo>
                        <a:lnTo>
                          <a:pt x="0" y="496"/>
                        </a:lnTo>
                        <a:lnTo>
                          <a:pt x="1" y="496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0" name=""/>
                  <p:cNvSpPr/>
                  <p:nvPr/>
                </p:nvSpPr>
                <p:spPr>
                  <a:xfrm flipV="1">
                    <a:off x="19712520" y="19877040"/>
                    <a:ext cx="828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202" h="98">
                        <a:moveTo>
                          <a:pt x="0" y="94"/>
                        </a:moveTo>
                        <a:lnTo>
                          <a:pt x="124" y="98"/>
                        </a:lnTo>
                        <a:lnTo>
                          <a:pt x="201" y="0"/>
                        </a:lnTo>
                        <a:lnTo>
                          <a:pt x="202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1" name=""/>
                  <p:cNvSpPr/>
                  <p:nvPr/>
                </p:nvSpPr>
                <p:spPr>
                  <a:xfrm flipV="1">
                    <a:off x="19676520" y="19878480"/>
                    <a:ext cx="3600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021" h="297">
                        <a:moveTo>
                          <a:pt x="1021" y="297"/>
                        </a:moveTo>
                        <a:lnTo>
                          <a:pt x="525" y="97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52" name=""/>
                <p:cNvGrpSpPr/>
                <p:nvPr/>
              </p:nvGrpSpPr>
              <p:grpSpPr>
                <a:xfrm>
                  <a:off x="19583280" y="20844000"/>
                  <a:ext cx="162360" cy="161640"/>
                  <a:chOff x="19583280" y="20844000"/>
                  <a:chExt cx="162360" cy="161640"/>
                </a:xfrm>
              </p:grpSpPr>
              <p:sp>
                <p:nvSpPr>
                  <p:cNvPr id="1653" name=""/>
                  <p:cNvSpPr/>
                  <p:nvPr/>
                </p:nvSpPr>
                <p:spPr>
                  <a:xfrm rot="10800000">
                    <a:off x="19596600" y="20867040"/>
                    <a:ext cx="36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4" name=""/>
                  <p:cNvSpPr/>
                  <p:nvPr/>
                </p:nvSpPr>
                <p:spPr>
                  <a:xfrm rot="10800000">
                    <a:off x="19583280" y="20867040"/>
                    <a:ext cx="36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5" name=""/>
                  <p:cNvSpPr/>
                  <p:nvPr/>
                </p:nvSpPr>
                <p:spPr>
                  <a:xfrm rot="10800000">
                    <a:off x="19744560" y="20867040"/>
                    <a:ext cx="108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6" name=""/>
                  <p:cNvSpPr/>
                  <p:nvPr/>
                </p:nvSpPr>
                <p:spPr>
                  <a:xfrm rot="10800000">
                    <a:off x="19731600" y="20867040"/>
                    <a:ext cx="144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7" name=""/>
                  <p:cNvSpPr/>
                  <p:nvPr/>
                </p:nvSpPr>
                <p:spPr>
                  <a:xfrm rot="10800000">
                    <a:off x="19725480" y="20869560"/>
                    <a:ext cx="36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925">
                        <a:moveTo>
                          <a:pt x="0" y="0"/>
                        </a:moveTo>
                        <a:lnTo>
                          <a:pt x="18" y="1925"/>
                        </a:lnTo>
                        <a:lnTo>
                          <a:pt x="19" y="1925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8" name=""/>
                  <p:cNvSpPr/>
                  <p:nvPr/>
                </p:nvSpPr>
                <p:spPr>
                  <a:xfrm rot="10800000">
                    <a:off x="19705680" y="20846880"/>
                    <a:ext cx="2016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8" h="605">
                        <a:moveTo>
                          <a:pt x="0" y="0"/>
                        </a:moveTo>
                        <a:lnTo>
                          <a:pt x="184" y="396"/>
                        </a:lnTo>
                        <a:lnTo>
                          <a:pt x="567" y="605"/>
                        </a:lnTo>
                        <a:lnTo>
                          <a:pt x="568" y="605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9" name=""/>
                  <p:cNvSpPr/>
                  <p:nvPr/>
                </p:nvSpPr>
                <p:spPr>
                  <a:xfrm rot="10800000">
                    <a:off x="19624320" y="20844000"/>
                    <a:ext cx="8136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269" h="103">
                        <a:moveTo>
                          <a:pt x="0" y="2"/>
                        </a:moveTo>
                        <a:lnTo>
                          <a:pt x="1135" y="103"/>
                        </a:lnTo>
                        <a:lnTo>
                          <a:pt x="2268" y="0"/>
                        </a:lnTo>
                        <a:lnTo>
                          <a:pt x="2269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0" name=""/>
                  <p:cNvSpPr/>
                  <p:nvPr/>
                </p:nvSpPr>
                <p:spPr>
                  <a:xfrm rot="10800000">
                    <a:off x="19603800" y="20846880"/>
                    <a:ext cx="2016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8" h="605">
                        <a:moveTo>
                          <a:pt x="0" y="605"/>
                        </a:moveTo>
                        <a:lnTo>
                          <a:pt x="382" y="396"/>
                        </a:lnTo>
                        <a:lnTo>
                          <a:pt x="567" y="0"/>
                        </a:lnTo>
                        <a:lnTo>
                          <a:pt x="568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1" name=""/>
                  <p:cNvSpPr/>
                  <p:nvPr/>
                </p:nvSpPr>
                <p:spPr>
                  <a:xfrm rot="10800000">
                    <a:off x="19603440" y="20869560"/>
                    <a:ext cx="36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925">
                        <a:moveTo>
                          <a:pt x="0" y="1925"/>
                        </a:moveTo>
                        <a:lnTo>
                          <a:pt x="16" y="0"/>
                        </a:lnTo>
                        <a:lnTo>
                          <a:pt x="17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2" name=""/>
                  <p:cNvSpPr/>
                  <p:nvPr/>
                </p:nvSpPr>
                <p:spPr>
                  <a:xfrm rot="10800000">
                    <a:off x="19604160" y="20938680"/>
                    <a:ext cx="2556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745" h="787">
                        <a:moveTo>
                          <a:pt x="745" y="787"/>
                        </a:moveTo>
                        <a:lnTo>
                          <a:pt x="623" y="420"/>
                        </a:lnTo>
                        <a:lnTo>
                          <a:pt x="358" y="14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3" name=""/>
                  <p:cNvSpPr/>
                  <p:nvPr/>
                </p:nvSpPr>
                <p:spPr>
                  <a:xfrm rot="10800000">
                    <a:off x="19629720" y="20967120"/>
                    <a:ext cx="7020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1947" h="77">
                        <a:moveTo>
                          <a:pt x="1947" y="76"/>
                        </a:moveTo>
                        <a:lnTo>
                          <a:pt x="974" y="0"/>
                        </a:lnTo>
                        <a:lnTo>
                          <a:pt x="0" y="77"/>
                        </a:lnTo>
                        <a:lnTo>
                          <a:pt x="1" y="77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4" name=""/>
                  <p:cNvSpPr/>
                  <p:nvPr/>
                </p:nvSpPr>
                <p:spPr>
                  <a:xfrm rot="10800000">
                    <a:off x="19699920" y="20938680"/>
                    <a:ext cx="2592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744" h="788">
                        <a:moveTo>
                          <a:pt x="744" y="0"/>
                        </a:moveTo>
                        <a:lnTo>
                          <a:pt x="386" y="141"/>
                        </a:lnTo>
                        <a:lnTo>
                          <a:pt x="121" y="421"/>
                        </a:lnTo>
                        <a:lnTo>
                          <a:pt x="0" y="788"/>
                        </a:lnTo>
                        <a:lnTo>
                          <a:pt x="1" y="788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5" name=""/>
                  <p:cNvSpPr/>
                  <p:nvPr/>
                </p:nvSpPr>
                <p:spPr>
                  <a:xfrm rot="10800000">
                    <a:off x="19584000" y="20866680"/>
                    <a:ext cx="129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50" h="0">
                        <a:moveTo>
                          <a:pt x="0" y="0"/>
                        </a:moveTo>
                        <a:lnTo>
                          <a:pt x="349" y="0"/>
                        </a:lnTo>
                        <a:lnTo>
                          <a:pt x="350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6" name=""/>
                  <p:cNvSpPr/>
                  <p:nvPr/>
                </p:nvSpPr>
                <p:spPr>
                  <a:xfrm rot="10800000">
                    <a:off x="19733040" y="20866680"/>
                    <a:ext cx="1260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49" h="0">
                        <a:moveTo>
                          <a:pt x="349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7" name=""/>
                  <p:cNvSpPr/>
                  <p:nvPr/>
                </p:nvSpPr>
                <p:spPr>
                  <a:xfrm rot="10800000">
                    <a:off x="19584000" y="20965320"/>
                    <a:ext cx="129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50" h="0">
                        <a:moveTo>
                          <a:pt x="0" y="0"/>
                        </a:moveTo>
                        <a:lnTo>
                          <a:pt x="349" y="0"/>
                        </a:lnTo>
                        <a:lnTo>
                          <a:pt x="350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8" name=""/>
                  <p:cNvSpPr/>
                  <p:nvPr/>
                </p:nvSpPr>
                <p:spPr>
                  <a:xfrm rot="10800000">
                    <a:off x="19653120" y="20973960"/>
                    <a:ext cx="2412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8" h="0">
                        <a:moveTo>
                          <a:pt x="698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9" name=""/>
                  <p:cNvSpPr/>
                  <p:nvPr/>
                </p:nvSpPr>
                <p:spPr>
                  <a:xfrm rot="10800000">
                    <a:off x="19651320" y="20970360"/>
                    <a:ext cx="144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33">
                        <a:moveTo>
                          <a:pt x="0" y="133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0" name=""/>
                  <p:cNvSpPr/>
                  <p:nvPr/>
                </p:nvSpPr>
                <p:spPr>
                  <a:xfrm rot="10800000">
                    <a:off x="19676880" y="20970360"/>
                    <a:ext cx="36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34">
                        <a:moveTo>
                          <a:pt x="0" y="134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1" name=""/>
                  <p:cNvSpPr/>
                  <p:nvPr/>
                </p:nvSpPr>
                <p:spPr>
                  <a:xfrm rot="10800000">
                    <a:off x="19733040" y="20965320"/>
                    <a:ext cx="1260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49" h="0">
                        <a:moveTo>
                          <a:pt x="349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2" name=""/>
                  <p:cNvSpPr/>
                  <p:nvPr/>
                </p:nvSpPr>
                <p:spPr>
                  <a:xfrm rot="10800000">
                    <a:off x="19604160" y="20985840"/>
                    <a:ext cx="12168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3444" h="562">
                        <a:moveTo>
                          <a:pt x="3405" y="560"/>
                        </a:moveTo>
                        <a:lnTo>
                          <a:pt x="3444" y="429"/>
                        </a:lnTo>
                        <a:lnTo>
                          <a:pt x="3366" y="316"/>
                        </a:lnTo>
                        <a:lnTo>
                          <a:pt x="2559" y="78"/>
                        </a:lnTo>
                        <a:lnTo>
                          <a:pt x="1722" y="0"/>
                        </a:lnTo>
                        <a:lnTo>
                          <a:pt x="884" y="79"/>
                        </a:lnTo>
                        <a:lnTo>
                          <a:pt x="78" y="318"/>
                        </a:lnTo>
                        <a:lnTo>
                          <a:pt x="0" y="430"/>
                        </a:lnTo>
                        <a:lnTo>
                          <a:pt x="39" y="562"/>
                        </a:lnTo>
                        <a:lnTo>
                          <a:pt x="40" y="562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3" name=""/>
                  <p:cNvSpPr/>
                  <p:nvPr/>
                </p:nvSpPr>
                <p:spPr>
                  <a:xfrm rot="10800000">
                    <a:off x="19608480" y="20967120"/>
                    <a:ext cx="11304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52" h="740">
                        <a:moveTo>
                          <a:pt x="3152" y="738"/>
                        </a:moveTo>
                        <a:lnTo>
                          <a:pt x="3126" y="512"/>
                        </a:lnTo>
                        <a:lnTo>
                          <a:pt x="2966" y="350"/>
                        </a:lnTo>
                        <a:lnTo>
                          <a:pt x="2290" y="101"/>
                        </a:lnTo>
                        <a:lnTo>
                          <a:pt x="1576" y="0"/>
                        </a:lnTo>
                        <a:lnTo>
                          <a:pt x="862" y="102"/>
                        </a:lnTo>
                        <a:lnTo>
                          <a:pt x="186" y="352"/>
                        </a:lnTo>
                        <a:lnTo>
                          <a:pt x="26" y="514"/>
                        </a:lnTo>
                        <a:lnTo>
                          <a:pt x="0" y="740"/>
                        </a:lnTo>
                        <a:lnTo>
                          <a:pt x="1" y="74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4" name=""/>
                  <p:cNvSpPr/>
                  <p:nvPr/>
                </p:nvSpPr>
                <p:spPr>
                  <a:xfrm rot="10800000">
                    <a:off x="19677240" y="20964240"/>
                    <a:ext cx="3564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023" h="298">
                        <a:moveTo>
                          <a:pt x="1023" y="0"/>
                        </a:moveTo>
                        <a:lnTo>
                          <a:pt x="496" y="98"/>
                        </a:lnTo>
                        <a:lnTo>
                          <a:pt x="0" y="298"/>
                        </a:lnTo>
                        <a:lnTo>
                          <a:pt x="2" y="298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5" name=""/>
                  <p:cNvSpPr/>
                  <p:nvPr/>
                </p:nvSpPr>
                <p:spPr>
                  <a:xfrm rot="10800000">
                    <a:off x="19713240" y="20963160"/>
                    <a:ext cx="828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203" h="97">
                        <a:moveTo>
                          <a:pt x="0" y="0"/>
                        </a:moveTo>
                        <a:lnTo>
                          <a:pt x="78" y="97"/>
                        </a:lnTo>
                        <a:lnTo>
                          <a:pt x="201" y="93"/>
                        </a:lnTo>
                        <a:lnTo>
                          <a:pt x="203" y="9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6" name=""/>
                  <p:cNvSpPr/>
                  <p:nvPr/>
                </p:nvSpPr>
                <p:spPr>
                  <a:xfrm rot="10800000">
                    <a:off x="19721520" y="20967480"/>
                    <a:ext cx="432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496">
                        <a:moveTo>
                          <a:pt x="109" y="496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7" name=""/>
                  <p:cNvSpPr/>
                  <p:nvPr/>
                </p:nvSpPr>
                <p:spPr>
                  <a:xfrm rot="10800000">
                    <a:off x="19722960" y="20984760"/>
                    <a:ext cx="288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160">
                        <a:moveTo>
                          <a:pt x="84" y="0"/>
                        </a:moveTo>
                        <a:lnTo>
                          <a:pt x="13" y="64"/>
                        </a:lnTo>
                        <a:lnTo>
                          <a:pt x="0" y="160"/>
                        </a:lnTo>
                        <a:lnTo>
                          <a:pt x="1" y="16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8" name=""/>
                  <p:cNvSpPr/>
                  <p:nvPr/>
                </p:nvSpPr>
                <p:spPr>
                  <a:xfrm rot="10800000">
                    <a:off x="19604160" y="20984760"/>
                    <a:ext cx="288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159">
                        <a:moveTo>
                          <a:pt x="84" y="159"/>
                        </a:moveTo>
                        <a:lnTo>
                          <a:pt x="71" y="64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9" name=""/>
                  <p:cNvSpPr/>
                  <p:nvPr/>
                </p:nvSpPr>
                <p:spPr>
                  <a:xfrm rot="10800000">
                    <a:off x="19604160" y="20967480"/>
                    <a:ext cx="396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496">
                        <a:moveTo>
                          <a:pt x="109" y="0"/>
                        </a:moveTo>
                        <a:lnTo>
                          <a:pt x="0" y="496"/>
                        </a:lnTo>
                        <a:lnTo>
                          <a:pt x="1" y="496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0" name=""/>
                  <p:cNvSpPr/>
                  <p:nvPr/>
                </p:nvSpPr>
                <p:spPr>
                  <a:xfrm rot="10800000">
                    <a:off x="19608480" y="20963160"/>
                    <a:ext cx="828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202" h="98">
                        <a:moveTo>
                          <a:pt x="0" y="94"/>
                        </a:moveTo>
                        <a:lnTo>
                          <a:pt x="124" y="98"/>
                        </a:lnTo>
                        <a:lnTo>
                          <a:pt x="201" y="0"/>
                        </a:lnTo>
                        <a:lnTo>
                          <a:pt x="202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1" name=""/>
                  <p:cNvSpPr/>
                  <p:nvPr/>
                </p:nvSpPr>
                <p:spPr>
                  <a:xfrm rot="10800000">
                    <a:off x="19616760" y="20964240"/>
                    <a:ext cx="3600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021" h="297">
                        <a:moveTo>
                          <a:pt x="1021" y="297"/>
                        </a:moveTo>
                        <a:lnTo>
                          <a:pt x="525" y="97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82" name=""/>
                <p:cNvGrpSpPr/>
                <p:nvPr/>
              </p:nvGrpSpPr>
              <p:grpSpPr>
                <a:xfrm>
                  <a:off x="19259640" y="20063160"/>
                  <a:ext cx="161640" cy="162000"/>
                  <a:chOff x="19259640" y="20063160"/>
                  <a:chExt cx="161640" cy="162000"/>
                </a:xfrm>
              </p:grpSpPr>
              <p:sp>
                <p:nvSpPr>
                  <p:cNvPr id="1683" name=""/>
                  <p:cNvSpPr/>
                  <p:nvPr/>
                </p:nvSpPr>
                <p:spPr>
                  <a:xfrm flipV="1" rot="5400000">
                    <a:off x="19348560" y="20162160"/>
                    <a:ext cx="36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4" name=""/>
                  <p:cNvSpPr/>
                  <p:nvPr/>
                </p:nvSpPr>
                <p:spPr>
                  <a:xfrm flipV="1" rot="5400000">
                    <a:off x="19348560" y="20175120"/>
                    <a:ext cx="36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5" name=""/>
                  <p:cNvSpPr/>
                  <p:nvPr/>
                </p:nvSpPr>
                <p:spPr>
                  <a:xfrm flipV="1" rot="5400000">
                    <a:off x="19348200" y="20013840"/>
                    <a:ext cx="108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6" name=""/>
                  <p:cNvSpPr/>
                  <p:nvPr/>
                </p:nvSpPr>
                <p:spPr>
                  <a:xfrm flipV="1" rot="5400000">
                    <a:off x="19348200" y="20027160"/>
                    <a:ext cx="144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7" name=""/>
                  <p:cNvSpPr/>
                  <p:nvPr/>
                </p:nvSpPr>
                <p:spPr>
                  <a:xfrm flipV="1" rot="5400000">
                    <a:off x="19361160" y="20048400"/>
                    <a:ext cx="36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925">
                        <a:moveTo>
                          <a:pt x="0" y="0"/>
                        </a:moveTo>
                        <a:lnTo>
                          <a:pt x="18" y="1925"/>
                        </a:lnTo>
                        <a:lnTo>
                          <a:pt x="19" y="1925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8" name=""/>
                  <p:cNvSpPr/>
                  <p:nvPr/>
                </p:nvSpPr>
                <p:spPr>
                  <a:xfrm flipV="1" rot="5400000">
                    <a:off x="19397160" y="20081160"/>
                    <a:ext cx="1980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8" h="605">
                        <a:moveTo>
                          <a:pt x="0" y="0"/>
                        </a:moveTo>
                        <a:lnTo>
                          <a:pt x="184" y="396"/>
                        </a:lnTo>
                        <a:lnTo>
                          <a:pt x="567" y="605"/>
                        </a:lnTo>
                        <a:lnTo>
                          <a:pt x="568" y="605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9" name=""/>
                  <p:cNvSpPr/>
                  <p:nvPr/>
                </p:nvSpPr>
                <p:spPr>
                  <a:xfrm flipV="1" rot="5400000">
                    <a:off x="19379160" y="20142000"/>
                    <a:ext cx="8136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269" h="103">
                        <a:moveTo>
                          <a:pt x="0" y="2"/>
                        </a:moveTo>
                        <a:lnTo>
                          <a:pt x="1135" y="103"/>
                        </a:lnTo>
                        <a:lnTo>
                          <a:pt x="2268" y="0"/>
                        </a:lnTo>
                        <a:lnTo>
                          <a:pt x="2269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0" name=""/>
                  <p:cNvSpPr/>
                  <p:nvPr/>
                </p:nvSpPr>
                <p:spPr>
                  <a:xfrm flipV="1" rot="5400000">
                    <a:off x="19397160" y="20182680"/>
                    <a:ext cx="1980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8" h="605">
                        <a:moveTo>
                          <a:pt x="0" y="605"/>
                        </a:moveTo>
                        <a:lnTo>
                          <a:pt x="382" y="396"/>
                        </a:lnTo>
                        <a:lnTo>
                          <a:pt x="567" y="0"/>
                        </a:lnTo>
                        <a:lnTo>
                          <a:pt x="568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1" name=""/>
                  <p:cNvSpPr/>
                  <p:nvPr/>
                </p:nvSpPr>
                <p:spPr>
                  <a:xfrm flipV="1" rot="5400000">
                    <a:off x="19361160" y="20170080"/>
                    <a:ext cx="36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925">
                        <a:moveTo>
                          <a:pt x="0" y="1925"/>
                        </a:moveTo>
                        <a:lnTo>
                          <a:pt x="16" y="0"/>
                        </a:lnTo>
                        <a:lnTo>
                          <a:pt x="17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2" name=""/>
                  <p:cNvSpPr/>
                  <p:nvPr/>
                </p:nvSpPr>
                <p:spPr>
                  <a:xfrm flipV="1" rot="5400000">
                    <a:off x="19299600" y="20176920"/>
                    <a:ext cx="2556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745" h="787">
                        <a:moveTo>
                          <a:pt x="745" y="787"/>
                        </a:moveTo>
                        <a:lnTo>
                          <a:pt x="623" y="420"/>
                        </a:lnTo>
                        <a:lnTo>
                          <a:pt x="358" y="14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3" name=""/>
                  <p:cNvSpPr/>
                  <p:nvPr/>
                </p:nvSpPr>
                <p:spPr>
                  <a:xfrm flipV="1" rot="5400000">
                    <a:off x="19261800" y="20142360"/>
                    <a:ext cx="6984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1947" h="77">
                        <a:moveTo>
                          <a:pt x="1947" y="76"/>
                        </a:moveTo>
                        <a:lnTo>
                          <a:pt x="974" y="0"/>
                        </a:lnTo>
                        <a:lnTo>
                          <a:pt x="0" y="77"/>
                        </a:lnTo>
                        <a:lnTo>
                          <a:pt x="1" y="77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4" name=""/>
                  <p:cNvSpPr/>
                  <p:nvPr/>
                </p:nvSpPr>
                <p:spPr>
                  <a:xfrm flipV="1" rot="5400000">
                    <a:off x="19299240" y="20081520"/>
                    <a:ext cx="2592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744" h="788">
                        <a:moveTo>
                          <a:pt x="744" y="0"/>
                        </a:moveTo>
                        <a:lnTo>
                          <a:pt x="386" y="141"/>
                        </a:lnTo>
                        <a:lnTo>
                          <a:pt x="121" y="421"/>
                        </a:lnTo>
                        <a:lnTo>
                          <a:pt x="0" y="788"/>
                        </a:lnTo>
                        <a:lnTo>
                          <a:pt x="1" y="788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5" name=""/>
                  <p:cNvSpPr/>
                  <p:nvPr/>
                </p:nvSpPr>
                <p:spPr>
                  <a:xfrm flipV="1" rot="5400000">
                    <a:off x="19391760" y="20217960"/>
                    <a:ext cx="129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50" h="0">
                        <a:moveTo>
                          <a:pt x="0" y="0"/>
                        </a:moveTo>
                        <a:lnTo>
                          <a:pt x="349" y="0"/>
                        </a:lnTo>
                        <a:lnTo>
                          <a:pt x="350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6" name=""/>
                  <p:cNvSpPr/>
                  <p:nvPr/>
                </p:nvSpPr>
                <p:spPr>
                  <a:xfrm flipV="1" rot="5400000">
                    <a:off x="19392120" y="20068920"/>
                    <a:ext cx="1260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49" h="0">
                        <a:moveTo>
                          <a:pt x="349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7" name=""/>
                  <p:cNvSpPr/>
                  <p:nvPr/>
                </p:nvSpPr>
                <p:spPr>
                  <a:xfrm flipV="1" rot="5400000">
                    <a:off x="19293120" y="20217960"/>
                    <a:ext cx="129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50" h="0">
                        <a:moveTo>
                          <a:pt x="0" y="0"/>
                        </a:moveTo>
                        <a:lnTo>
                          <a:pt x="349" y="0"/>
                        </a:lnTo>
                        <a:lnTo>
                          <a:pt x="350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8" name=""/>
                  <p:cNvSpPr/>
                  <p:nvPr/>
                </p:nvSpPr>
                <p:spPr>
                  <a:xfrm flipV="1" rot="5400000">
                    <a:off x="19279080" y="20143080"/>
                    <a:ext cx="2412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8" h="0">
                        <a:moveTo>
                          <a:pt x="698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9" name=""/>
                  <p:cNvSpPr/>
                  <p:nvPr/>
                </p:nvSpPr>
                <p:spPr>
                  <a:xfrm flipV="1" rot="5400000">
                    <a:off x="19292040" y="20154240"/>
                    <a:ext cx="144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33">
                        <a:moveTo>
                          <a:pt x="0" y="133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0" name=""/>
                  <p:cNvSpPr/>
                  <p:nvPr/>
                </p:nvSpPr>
                <p:spPr>
                  <a:xfrm flipV="1" rot="5400000">
                    <a:off x="19292760" y="20129400"/>
                    <a:ext cx="36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34">
                        <a:moveTo>
                          <a:pt x="0" y="134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1" name=""/>
                  <p:cNvSpPr/>
                  <p:nvPr/>
                </p:nvSpPr>
                <p:spPr>
                  <a:xfrm flipV="1" rot="5400000">
                    <a:off x="19293480" y="20068920"/>
                    <a:ext cx="1260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49" h="0">
                        <a:moveTo>
                          <a:pt x="349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2" name=""/>
                  <p:cNvSpPr/>
                  <p:nvPr/>
                </p:nvSpPr>
                <p:spPr>
                  <a:xfrm flipV="1" rot="5400000">
                    <a:off x="19208520" y="20133720"/>
                    <a:ext cx="12168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3444" h="562">
                        <a:moveTo>
                          <a:pt x="3405" y="560"/>
                        </a:moveTo>
                        <a:lnTo>
                          <a:pt x="3444" y="429"/>
                        </a:lnTo>
                        <a:lnTo>
                          <a:pt x="3366" y="316"/>
                        </a:lnTo>
                        <a:lnTo>
                          <a:pt x="2559" y="78"/>
                        </a:lnTo>
                        <a:lnTo>
                          <a:pt x="1722" y="0"/>
                        </a:lnTo>
                        <a:lnTo>
                          <a:pt x="884" y="79"/>
                        </a:lnTo>
                        <a:lnTo>
                          <a:pt x="78" y="318"/>
                        </a:lnTo>
                        <a:lnTo>
                          <a:pt x="0" y="430"/>
                        </a:lnTo>
                        <a:lnTo>
                          <a:pt x="39" y="562"/>
                        </a:lnTo>
                        <a:lnTo>
                          <a:pt x="40" y="562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3" name=""/>
                  <p:cNvSpPr/>
                  <p:nvPr/>
                </p:nvSpPr>
                <p:spPr>
                  <a:xfrm flipV="1" rot="5400000">
                    <a:off x="19227600" y="20129040"/>
                    <a:ext cx="11268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52" h="740">
                        <a:moveTo>
                          <a:pt x="3152" y="738"/>
                        </a:moveTo>
                        <a:lnTo>
                          <a:pt x="3126" y="512"/>
                        </a:lnTo>
                        <a:lnTo>
                          <a:pt x="2966" y="350"/>
                        </a:lnTo>
                        <a:lnTo>
                          <a:pt x="2290" y="101"/>
                        </a:lnTo>
                        <a:lnTo>
                          <a:pt x="1576" y="0"/>
                        </a:lnTo>
                        <a:lnTo>
                          <a:pt x="862" y="102"/>
                        </a:lnTo>
                        <a:lnTo>
                          <a:pt x="186" y="352"/>
                        </a:lnTo>
                        <a:lnTo>
                          <a:pt x="26" y="514"/>
                        </a:lnTo>
                        <a:lnTo>
                          <a:pt x="0" y="740"/>
                        </a:lnTo>
                        <a:lnTo>
                          <a:pt x="1" y="74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4" name=""/>
                  <p:cNvSpPr/>
                  <p:nvPr/>
                </p:nvSpPr>
                <p:spPr>
                  <a:xfrm flipV="1" rot="5400000">
                    <a:off x="19278000" y="20108160"/>
                    <a:ext cx="3564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023" h="298">
                        <a:moveTo>
                          <a:pt x="1023" y="0"/>
                        </a:moveTo>
                        <a:lnTo>
                          <a:pt x="496" y="98"/>
                        </a:lnTo>
                        <a:lnTo>
                          <a:pt x="0" y="298"/>
                        </a:lnTo>
                        <a:lnTo>
                          <a:pt x="2" y="298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5" name=""/>
                  <p:cNvSpPr/>
                  <p:nvPr/>
                </p:nvSpPr>
                <p:spPr>
                  <a:xfrm flipV="1" rot="5400000">
                    <a:off x="19296000" y="20089080"/>
                    <a:ext cx="828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203" h="97">
                        <a:moveTo>
                          <a:pt x="0" y="0"/>
                        </a:moveTo>
                        <a:lnTo>
                          <a:pt x="78" y="97"/>
                        </a:lnTo>
                        <a:lnTo>
                          <a:pt x="201" y="93"/>
                        </a:lnTo>
                        <a:lnTo>
                          <a:pt x="203" y="9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6" name=""/>
                  <p:cNvSpPr/>
                  <p:nvPr/>
                </p:nvSpPr>
                <p:spPr>
                  <a:xfrm flipV="1" rot="5400000">
                    <a:off x="19287000" y="20076480"/>
                    <a:ext cx="432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496">
                        <a:moveTo>
                          <a:pt x="109" y="496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7" name=""/>
                  <p:cNvSpPr/>
                  <p:nvPr/>
                </p:nvSpPr>
                <p:spPr>
                  <a:xfrm flipV="1" rot="5400000">
                    <a:off x="19275480" y="20080800"/>
                    <a:ext cx="288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160">
                        <a:moveTo>
                          <a:pt x="84" y="0"/>
                        </a:moveTo>
                        <a:lnTo>
                          <a:pt x="13" y="64"/>
                        </a:lnTo>
                        <a:lnTo>
                          <a:pt x="0" y="160"/>
                        </a:lnTo>
                        <a:lnTo>
                          <a:pt x="1" y="16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8" name=""/>
                  <p:cNvSpPr/>
                  <p:nvPr/>
                </p:nvSpPr>
                <p:spPr>
                  <a:xfrm flipV="1" rot="5400000">
                    <a:off x="19275480" y="20199600"/>
                    <a:ext cx="288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159">
                        <a:moveTo>
                          <a:pt x="84" y="159"/>
                        </a:moveTo>
                        <a:lnTo>
                          <a:pt x="71" y="64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9" name=""/>
                  <p:cNvSpPr/>
                  <p:nvPr/>
                </p:nvSpPr>
                <p:spPr>
                  <a:xfrm flipV="1" rot="5400000">
                    <a:off x="19287360" y="20193480"/>
                    <a:ext cx="396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496">
                        <a:moveTo>
                          <a:pt x="109" y="0"/>
                        </a:moveTo>
                        <a:lnTo>
                          <a:pt x="0" y="496"/>
                        </a:lnTo>
                        <a:lnTo>
                          <a:pt x="1" y="496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0" name=""/>
                  <p:cNvSpPr/>
                  <p:nvPr/>
                </p:nvSpPr>
                <p:spPr>
                  <a:xfrm flipV="1" rot="5400000">
                    <a:off x="19296000" y="20193840"/>
                    <a:ext cx="828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202" h="98">
                        <a:moveTo>
                          <a:pt x="0" y="94"/>
                        </a:moveTo>
                        <a:lnTo>
                          <a:pt x="124" y="98"/>
                        </a:lnTo>
                        <a:lnTo>
                          <a:pt x="201" y="0"/>
                        </a:lnTo>
                        <a:lnTo>
                          <a:pt x="202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1" name=""/>
                  <p:cNvSpPr/>
                  <p:nvPr/>
                </p:nvSpPr>
                <p:spPr>
                  <a:xfrm flipV="1" rot="5400000">
                    <a:off x="19278000" y="20168640"/>
                    <a:ext cx="3600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021" h="297">
                        <a:moveTo>
                          <a:pt x="1021" y="297"/>
                        </a:moveTo>
                        <a:lnTo>
                          <a:pt x="525" y="97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12" name=""/>
              <p:cNvGrpSpPr/>
              <p:nvPr/>
            </p:nvGrpSpPr>
            <p:grpSpPr>
              <a:xfrm>
                <a:off x="18705240" y="17382960"/>
                <a:ext cx="901800" cy="879120"/>
                <a:chOff x="18705240" y="17382960"/>
                <a:chExt cx="901800" cy="879120"/>
              </a:xfrm>
            </p:grpSpPr>
            <p:grpSp>
              <p:nvGrpSpPr>
                <p:cNvPr id="1713" name=""/>
                <p:cNvGrpSpPr/>
                <p:nvPr/>
              </p:nvGrpSpPr>
              <p:grpSpPr>
                <a:xfrm>
                  <a:off x="19106640" y="18100800"/>
                  <a:ext cx="162360" cy="161280"/>
                  <a:chOff x="19106640" y="18100800"/>
                  <a:chExt cx="162360" cy="161280"/>
                </a:xfrm>
              </p:grpSpPr>
              <p:sp>
                <p:nvSpPr>
                  <p:cNvPr id="1714" name=""/>
                  <p:cNvSpPr/>
                  <p:nvPr/>
                </p:nvSpPr>
                <p:spPr>
                  <a:xfrm rot="10800000">
                    <a:off x="19119960" y="18123840"/>
                    <a:ext cx="36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5" name=""/>
                  <p:cNvSpPr/>
                  <p:nvPr/>
                </p:nvSpPr>
                <p:spPr>
                  <a:xfrm rot="10800000">
                    <a:off x="19106640" y="18123840"/>
                    <a:ext cx="36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6" name=""/>
                  <p:cNvSpPr/>
                  <p:nvPr/>
                </p:nvSpPr>
                <p:spPr>
                  <a:xfrm rot="10800000">
                    <a:off x="19267920" y="18123840"/>
                    <a:ext cx="108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7" name=""/>
                  <p:cNvSpPr/>
                  <p:nvPr/>
                </p:nvSpPr>
                <p:spPr>
                  <a:xfrm rot="10800000">
                    <a:off x="19254960" y="18123840"/>
                    <a:ext cx="144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8" name=""/>
                  <p:cNvSpPr/>
                  <p:nvPr/>
                </p:nvSpPr>
                <p:spPr>
                  <a:xfrm rot="10800000">
                    <a:off x="19248840" y="18126360"/>
                    <a:ext cx="36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925">
                        <a:moveTo>
                          <a:pt x="0" y="0"/>
                        </a:moveTo>
                        <a:lnTo>
                          <a:pt x="18" y="1925"/>
                        </a:lnTo>
                        <a:lnTo>
                          <a:pt x="19" y="1925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9" name=""/>
                  <p:cNvSpPr/>
                  <p:nvPr/>
                </p:nvSpPr>
                <p:spPr>
                  <a:xfrm rot="10800000">
                    <a:off x="19229040" y="18103680"/>
                    <a:ext cx="2016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8" h="605">
                        <a:moveTo>
                          <a:pt x="0" y="0"/>
                        </a:moveTo>
                        <a:lnTo>
                          <a:pt x="184" y="396"/>
                        </a:lnTo>
                        <a:lnTo>
                          <a:pt x="567" y="605"/>
                        </a:lnTo>
                        <a:lnTo>
                          <a:pt x="568" y="605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0" name=""/>
                  <p:cNvSpPr/>
                  <p:nvPr/>
                </p:nvSpPr>
                <p:spPr>
                  <a:xfrm rot="10800000">
                    <a:off x="19147680" y="18100800"/>
                    <a:ext cx="8136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269" h="103">
                        <a:moveTo>
                          <a:pt x="0" y="2"/>
                        </a:moveTo>
                        <a:lnTo>
                          <a:pt x="1135" y="103"/>
                        </a:lnTo>
                        <a:lnTo>
                          <a:pt x="2268" y="0"/>
                        </a:lnTo>
                        <a:lnTo>
                          <a:pt x="2269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1" name=""/>
                  <p:cNvSpPr/>
                  <p:nvPr/>
                </p:nvSpPr>
                <p:spPr>
                  <a:xfrm rot="10800000">
                    <a:off x="19127160" y="18103680"/>
                    <a:ext cx="2016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8" h="605">
                        <a:moveTo>
                          <a:pt x="0" y="605"/>
                        </a:moveTo>
                        <a:lnTo>
                          <a:pt x="382" y="396"/>
                        </a:lnTo>
                        <a:lnTo>
                          <a:pt x="567" y="0"/>
                        </a:lnTo>
                        <a:lnTo>
                          <a:pt x="568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2" name=""/>
                  <p:cNvSpPr/>
                  <p:nvPr/>
                </p:nvSpPr>
                <p:spPr>
                  <a:xfrm rot="10800000">
                    <a:off x="19126800" y="18126360"/>
                    <a:ext cx="36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925">
                        <a:moveTo>
                          <a:pt x="0" y="1925"/>
                        </a:moveTo>
                        <a:lnTo>
                          <a:pt x="16" y="0"/>
                        </a:lnTo>
                        <a:lnTo>
                          <a:pt x="17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3" name=""/>
                  <p:cNvSpPr/>
                  <p:nvPr/>
                </p:nvSpPr>
                <p:spPr>
                  <a:xfrm rot="10800000">
                    <a:off x="19127520" y="18195120"/>
                    <a:ext cx="2556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745" h="787">
                        <a:moveTo>
                          <a:pt x="745" y="787"/>
                        </a:moveTo>
                        <a:lnTo>
                          <a:pt x="623" y="420"/>
                        </a:lnTo>
                        <a:lnTo>
                          <a:pt x="358" y="14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4" name=""/>
                  <p:cNvSpPr/>
                  <p:nvPr/>
                </p:nvSpPr>
                <p:spPr>
                  <a:xfrm rot="10800000">
                    <a:off x="19153080" y="18223560"/>
                    <a:ext cx="7020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1947" h="77">
                        <a:moveTo>
                          <a:pt x="1947" y="76"/>
                        </a:moveTo>
                        <a:lnTo>
                          <a:pt x="974" y="0"/>
                        </a:lnTo>
                        <a:lnTo>
                          <a:pt x="0" y="77"/>
                        </a:lnTo>
                        <a:lnTo>
                          <a:pt x="1" y="77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5" name=""/>
                  <p:cNvSpPr/>
                  <p:nvPr/>
                </p:nvSpPr>
                <p:spPr>
                  <a:xfrm rot="10800000">
                    <a:off x="19223280" y="18195120"/>
                    <a:ext cx="2592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744" h="788">
                        <a:moveTo>
                          <a:pt x="744" y="0"/>
                        </a:moveTo>
                        <a:lnTo>
                          <a:pt x="386" y="141"/>
                        </a:lnTo>
                        <a:lnTo>
                          <a:pt x="121" y="421"/>
                        </a:lnTo>
                        <a:lnTo>
                          <a:pt x="0" y="788"/>
                        </a:lnTo>
                        <a:lnTo>
                          <a:pt x="1" y="788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6" name=""/>
                  <p:cNvSpPr/>
                  <p:nvPr/>
                </p:nvSpPr>
                <p:spPr>
                  <a:xfrm rot="10800000">
                    <a:off x="19107360" y="18123120"/>
                    <a:ext cx="129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50" h="0">
                        <a:moveTo>
                          <a:pt x="0" y="0"/>
                        </a:moveTo>
                        <a:lnTo>
                          <a:pt x="349" y="0"/>
                        </a:lnTo>
                        <a:lnTo>
                          <a:pt x="350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7" name=""/>
                  <p:cNvSpPr/>
                  <p:nvPr/>
                </p:nvSpPr>
                <p:spPr>
                  <a:xfrm rot="10800000">
                    <a:off x="19256400" y="18123120"/>
                    <a:ext cx="1260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49" h="0">
                        <a:moveTo>
                          <a:pt x="349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8" name=""/>
                  <p:cNvSpPr/>
                  <p:nvPr/>
                </p:nvSpPr>
                <p:spPr>
                  <a:xfrm rot="10800000">
                    <a:off x="19107360" y="18222120"/>
                    <a:ext cx="129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50" h="0">
                        <a:moveTo>
                          <a:pt x="0" y="0"/>
                        </a:moveTo>
                        <a:lnTo>
                          <a:pt x="349" y="0"/>
                        </a:lnTo>
                        <a:lnTo>
                          <a:pt x="350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9" name=""/>
                  <p:cNvSpPr/>
                  <p:nvPr/>
                </p:nvSpPr>
                <p:spPr>
                  <a:xfrm rot="10800000">
                    <a:off x="19176480" y="18230400"/>
                    <a:ext cx="2412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8" h="0">
                        <a:moveTo>
                          <a:pt x="698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0" name=""/>
                  <p:cNvSpPr/>
                  <p:nvPr/>
                </p:nvSpPr>
                <p:spPr>
                  <a:xfrm rot="10800000">
                    <a:off x="19174680" y="18226800"/>
                    <a:ext cx="144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33">
                        <a:moveTo>
                          <a:pt x="0" y="133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1" name=""/>
                  <p:cNvSpPr/>
                  <p:nvPr/>
                </p:nvSpPr>
                <p:spPr>
                  <a:xfrm rot="10800000">
                    <a:off x="19200240" y="18226800"/>
                    <a:ext cx="36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34">
                        <a:moveTo>
                          <a:pt x="0" y="134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2" name=""/>
                  <p:cNvSpPr/>
                  <p:nvPr/>
                </p:nvSpPr>
                <p:spPr>
                  <a:xfrm rot="10800000">
                    <a:off x="19256400" y="18222120"/>
                    <a:ext cx="1260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49" h="0">
                        <a:moveTo>
                          <a:pt x="349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3" name=""/>
                  <p:cNvSpPr/>
                  <p:nvPr/>
                </p:nvSpPr>
                <p:spPr>
                  <a:xfrm rot="10800000">
                    <a:off x="19127520" y="18242280"/>
                    <a:ext cx="12168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3444" h="562">
                        <a:moveTo>
                          <a:pt x="3405" y="560"/>
                        </a:moveTo>
                        <a:lnTo>
                          <a:pt x="3444" y="429"/>
                        </a:lnTo>
                        <a:lnTo>
                          <a:pt x="3366" y="316"/>
                        </a:lnTo>
                        <a:lnTo>
                          <a:pt x="2559" y="78"/>
                        </a:lnTo>
                        <a:lnTo>
                          <a:pt x="1722" y="0"/>
                        </a:lnTo>
                        <a:lnTo>
                          <a:pt x="884" y="79"/>
                        </a:lnTo>
                        <a:lnTo>
                          <a:pt x="78" y="318"/>
                        </a:lnTo>
                        <a:lnTo>
                          <a:pt x="0" y="430"/>
                        </a:lnTo>
                        <a:lnTo>
                          <a:pt x="39" y="562"/>
                        </a:lnTo>
                        <a:lnTo>
                          <a:pt x="40" y="562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4" name=""/>
                  <p:cNvSpPr/>
                  <p:nvPr/>
                </p:nvSpPr>
                <p:spPr>
                  <a:xfrm rot="10800000">
                    <a:off x="19131840" y="18223920"/>
                    <a:ext cx="11304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52" h="740">
                        <a:moveTo>
                          <a:pt x="3152" y="738"/>
                        </a:moveTo>
                        <a:lnTo>
                          <a:pt x="3126" y="512"/>
                        </a:lnTo>
                        <a:lnTo>
                          <a:pt x="2966" y="350"/>
                        </a:lnTo>
                        <a:lnTo>
                          <a:pt x="2290" y="101"/>
                        </a:lnTo>
                        <a:lnTo>
                          <a:pt x="1576" y="0"/>
                        </a:lnTo>
                        <a:lnTo>
                          <a:pt x="862" y="102"/>
                        </a:lnTo>
                        <a:lnTo>
                          <a:pt x="186" y="352"/>
                        </a:lnTo>
                        <a:lnTo>
                          <a:pt x="26" y="514"/>
                        </a:lnTo>
                        <a:lnTo>
                          <a:pt x="0" y="740"/>
                        </a:lnTo>
                        <a:lnTo>
                          <a:pt x="1" y="74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5" name=""/>
                  <p:cNvSpPr/>
                  <p:nvPr/>
                </p:nvSpPr>
                <p:spPr>
                  <a:xfrm rot="10800000">
                    <a:off x="19200600" y="18221040"/>
                    <a:ext cx="3564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023" h="298">
                        <a:moveTo>
                          <a:pt x="1023" y="0"/>
                        </a:moveTo>
                        <a:lnTo>
                          <a:pt x="496" y="98"/>
                        </a:lnTo>
                        <a:lnTo>
                          <a:pt x="0" y="298"/>
                        </a:lnTo>
                        <a:lnTo>
                          <a:pt x="2" y="298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6" name=""/>
                  <p:cNvSpPr/>
                  <p:nvPr/>
                </p:nvSpPr>
                <p:spPr>
                  <a:xfrm rot="10800000">
                    <a:off x="19236600" y="18219600"/>
                    <a:ext cx="828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203" h="97">
                        <a:moveTo>
                          <a:pt x="0" y="0"/>
                        </a:moveTo>
                        <a:lnTo>
                          <a:pt x="78" y="97"/>
                        </a:lnTo>
                        <a:lnTo>
                          <a:pt x="201" y="93"/>
                        </a:lnTo>
                        <a:lnTo>
                          <a:pt x="203" y="9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7" name=""/>
                  <p:cNvSpPr/>
                  <p:nvPr/>
                </p:nvSpPr>
                <p:spPr>
                  <a:xfrm rot="10800000">
                    <a:off x="19244880" y="18223920"/>
                    <a:ext cx="432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496">
                        <a:moveTo>
                          <a:pt x="109" y="496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8" name=""/>
                  <p:cNvSpPr/>
                  <p:nvPr/>
                </p:nvSpPr>
                <p:spPr>
                  <a:xfrm rot="10800000">
                    <a:off x="19246320" y="18241200"/>
                    <a:ext cx="288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160">
                        <a:moveTo>
                          <a:pt x="84" y="0"/>
                        </a:moveTo>
                        <a:lnTo>
                          <a:pt x="13" y="64"/>
                        </a:lnTo>
                        <a:lnTo>
                          <a:pt x="0" y="160"/>
                        </a:lnTo>
                        <a:lnTo>
                          <a:pt x="1" y="16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9" name=""/>
                  <p:cNvSpPr/>
                  <p:nvPr/>
                </p:nvSpPr>
                <p:spPr>
                  <a:xfrm rot="10800000">
                    <a:off x="19127520" y="18241200"/>
                    <a:ext cx="288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159">
                        <a:moveTo>
                          <a:pt x="84" y="159"/>
                        </a:moveTo>
                        <a:lnTo>
                          <a:pt x="71" y="64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0" name=""/>
                  <p:cNvSpPr/>
                  <p:nvPr/>
                </p:nvSpPr>
                <p:spPr>
                  <a:xfrm rot="10800000">
                    <a:off x="19127520" y="18223920"/>
                    <a:ext cx="396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496">
                        <a:moveTo>
                          <a:pt x="109" y="0"/>
                        </a:moveTo>
                        <a:lnTo>
                          <a:pt x="0" y="496"/>
                        </a:lnTo>
                        <a:lnTo>
                          <a:pt x="1" y="496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1" name=""/>
                  <p:cNvSpPr/>
                  <p:nvPr/>
                </p:nvSpPr>
                <p:spPr>
                  <a:xfrm rot="10800000">
                    <a:off x="19131840" y="18219600"/>
                    <a:ext cx="828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202" h="98">
                        <a:moveTo>
                          <a:pt x="0" y="94"/>
                        </a:moveTo>
                        <a:lnTo>
                          <a:pt x="124" y="98"/>
                        </a:lnTo>
                        <a:lnTo>
                          <a:pt x="201" y="0"/>
                        </a:lnTo>
                        <a:lnTo>
                          <a:pt x="202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2" name=""/>
                  <p:cNvSpPr/>
                  <p:nvPr/>
                </p:nvSpPr>
                <p:spPr>
                  <a:xfrm rot="10800000">
                    <a:off x="19140120" y="18221040"/>
                    <a:ext cx="360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021" h="297">
                        <a:moveTo>
                          <a:pt x="1021" y="297"/>
                        </a:moveTo>
                        <a:lnTo>
                          <a:pt x="525" y="97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43" name=""/>
                <p:cNvSpPr/>
                <p:nvPr/>
              </p:nvSpPr>
              <p:spPr>
                <a:xfrm>
                  <a:off x="19031040" y="17740440"/>
                  <a:ext cx="576000" cy="287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44" name=""/>
                <p:cNvGrpSpPr/>
                <p:nvPr/>
              </p:nvGrpSpPr>
              <p:grpSpPr>
                <a:xfrm>
                  <a:off x="18705240" y="17382960"/>
                  <a:ext cx="461520" cy="355680"/>
                  <a:chOff x="18705240" y="17382960"/>
                  <a:chExt cx="461520" cy="355680"/>
                </a:xfrm>
              </p:grpSpPr>
              <p:grpSp>
                <p:nvGrpSpPr>
                  <p:cNvPr id="1745" name=""/>
                  <p:cNvGrpSpPr/>
                  <p:nvPr/>
                </p:nvGrpSpPr>
                <p:grpSpPr>
                  <a:xfrm>
                    <a:off x="19005480" y="17475840"/>
                    <a:ext cx="161280" cy="161640"/>
                    <a:chOff x="19005480" y="17475840"/>
                    <a:chExt cx="161280" cy="161640"/>
                  </a:xfrm>
                </p:grpSpPr>
                <p:sp>
                  <p:nvSpPr>
                    <p:cNvPr id="1746" name=""/>
                    <p:cNvSpPr/>
                    <p:nvPr/>
                  </p:nvSpPr>
                  <p:spPr>
                    <a:xfrm flipV="1" rot="16200000">
                      <a:off x="19077480" y="17439120"/>
                      <a:ext cx="360" cy="9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733">
                          <a:moveTo>
                            <a:pt x="0" y="0"/>
                          </a:moveTo>
                          <a:lnTo>
                            <a:pt x="1" y="2733"/>
                          </a:lnTo>
                          <a:lnTo>
                            <a:pt x="2" y="2733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47" name=""/>
                    <p:cNvSpPr/>
                    <p:nvPr/>
                  </p:nvSpPr>
                  <p:spPr>
                    <a:xfrm flipV="1" rot="16200000">
                      <a:off x="19077480" y="17426160"/>
                      <a:ext cx="360" cy="9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733">
                          <a:moveTo>
                            <a:pt x="0" y="0"/>
                          </a:moveTo>
                          <a:lnTo>
                            <a:pt x="1" y="2733"/>
                          </a:lnTo>
                          <a:lnTo>
                            <a:pt x="2" y="2733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48" name=""/>
                    <p:cNvSpPr/>
                    <p:nvPr/>
                  </p:nvSpPr>
                  <p:spPr>
                    <a:xfrm flipV="1" rot="16200000">
                      <a:off x="19077120" y="17587080"/>
                      <a:ext cx="1080" cy="9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733">
                          <a:moveTo>
                            <a:pt x="0" y="0"/>
                          </a:moveTo>
                          <a:lnTo>
                            <a:pt x="1" y="2733"/>
                          </a:lnTo>
                          <a:lnTo>
                            <a:pt x="2" y="2733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49" name=""/>
                    <p:cNvSpPr/>
                    <p:nvPr/>
                  </p:nvSpPr>
                  <p:spPr>
                    <a:xfrm flipV="1" rot="16200000">
                      <a:off x="19077120" y="17574840"/>
                      <a:ext cx="1440" cy="9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733">
                          <a:moveTo>
                            <a:pt x="0" y="0"/>
                          </a:moveTo>
                          <a:lnTo>
                            <a:pt x="1" y="2733"/>
                          </a:lnTo>
                          <a:lnTo>
                            <a:pt x="2" y="2733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50" name=""/>
                    <p:cNvSpPr/>
                    <p:nvPr/>
                  </p:nvSpPr>
                  <p:spPr>
                    <a:xfrm flipV="1" rot="16200000">
                      <a:off x="19065240" y="17583120"/>
                      <a:ext cx="360" cy="6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1925">
                          <a:moveTo>
                            <a:pt x="0" y="0"/>
                          </a:moveTo>
                          <a:lnTo>
                            <a:pt x="18" y="1925"/>
                          </a:lnTo>
                          <a:lnTo>
                            <a:pt x="19" y="1925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960" bIns="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51" name=""/>
                    <p:cNvSpPr/>
                    <p:nvPr/>
                  </p:nvSpPr>
                  <p:spPr>
                    <a:xfrm flipV="1" rot="16200000">
                      <a:off x="19009800" y="17596440"/>
                      <a:ext cx="19800" cy="2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8" h="605">
                          <a:moveTo>
                            <a:pt x="0" y="0"/>
                          </a:moveTo>
                          <a:lnTo>
                            <a:pt x="184" y="396"/>
                          </a:lnTo>
                          <a:lnTo>
                            <a:pt x="567" y="605"/>
                          </a:lnTo>
                          <a:lnTo>
                            <a:pt x="568" y="605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52" name=""/>
                    <p:cNvSpPr/>
                    <p:nvPr/>
                  </p:nvSpPr>
                  <p:spPr>
                    <a:xfrm flipV="1" rot="16200000">
                      <a:off x="18966240" y="17555400"/>
                      <a:ext cx="81000" cy="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69" h="103">
                          <a:moveTo>
                            <a:pt x="0" y="2"/>
                          </a:moveTo>
                          <a:lnTo>
                            <a:pt x="1135" y="103"/>
                          </a:lnTo>
                          <a:lnTo>
                            <a:pt x="2268" y="0"/>
                          </a:lnTo>
                          <a:lnTo>
                            <a:pt x="2269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53" name=""/>
                    <p:cNvSpPr/>
                    <p:nvPr/>
                  </p:nvSpPr>
                  <p:spPr>
                    <a:xfrm flipV="1" rot="16200000">
                      <a:off x="19009800" y="17494920"/>
                      <a:ext cx="19800" cy="2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8" h="605">
                          <a:moveTo>
                            <a:pt x="0" y="605"/>
                          </a:moveTo>
                          <a:lnTo>
                            <a:pt x="382" y="396"/>
                          </a:lnTo>
                          <a:lnTo>
                            <a:pt x="567" y="0"/>
                          </a:lnTo>
                          <a:lnTo>
                            <a:pt x="568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54" name=""/>
                    <p:cNvSpPr/>
                    <p:nvPr/>
                  </p:nvSpPr>
                  <p:spPr>
                    <a:xfrm flipV="1" rot="16200000">
                      <a:off x="19065240" y="17461440"/>
                      <a:ext cx="360" cy="6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925">
                          <a:moveTo>
                            <a:pt x="0" y="1925"/>
                          </a:moveTo>
                          <a:lnTo>
                            <a:pt x="16" y="0"/>
                          </a:lnTo>
                          <a:lnTo>
                            <a:pt x="17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960" bIns="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55" name=""/>
                    <p:cNvSpPr/>
                    <p:nvPr/>
                  </p:nvSpPr>
                  <p:spPr>
                    <a:xfrm flipV="1" rot="16200000">
                      <a:off x="19101240" y="17494560"/>
                      <a:ext cx="2556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45" h="787">
                          <a:moveTo>
                            <a:pt x="745" y="787"/>
                          </a:moveTo>
                          <a:lnTo>
                            <a:pt x="623" y="420"/>
                          </a:lnTo>
                          <a:lnTo>
                            <a:pt x="358" y="140"/>
                          </a:ln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56" name=""/>
                    <p:cNvSpPr/>
                    <p:nvPr/>
                  </p:nvSpPr>
                  <p:spPr>
                    <a:xfrm flipV="1" rot="16200000">
                      <a:off x="19094760" y="17555760"/>
                      <a:ext cx="69840" cy="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47" h="77">
                          <a:moveTo>
                            <a:pt x="1947" y="76"/>
                          </a:moveTo>
                          <a:lnTo>
                            <a:pt x="974" y="0"/>
                          </a:lnTo>
                          <a:lnTo>
                            <a:pt x="0" y="77"/>
                          </a:lnTo>
                          <a:lnTo>
                            <a:pt x="1" y="77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57" name=""/>
                    <p:cNvSpPr/>
                    <p:nvPr/>
                  </p:nvSpPr>
                  <p:spPr>
                    <a:xfrm flipV="1" rot="16200000">
                      <a:off x="19101240" y="17590680"/>
                      <a:ext cx="2556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44" h="788">
                          <a:moveTo>
                            <a:pt x="744" y="0"/>
                          </a:moveTo>
                          <a:lnTo>
                            <a:pt x="386" y="141"/>
                          </a:lnTo>
                          <a:lnTo>
                            <a:pt x="121" y="421"/>
                          </a:lnTo>
                          <a:lnTo>
                            <a:pt x="0" y="788"/>
                          </a:lnTo>
                          <a:lnTo>
                            <a:pt x="1" y="788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58" name=""/>
                    <p:cNvSpPr/>
                    <p:nvPr/>
                  </p:nvSpPr>
                  <p:spPr>
                    <a:xfrm flipV="1" rot="16200000">
                      <a:off x="19021680" y="17482320"/>
                      <a:ext cx="1260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0" h="0">
                          <a:moveTo>
                            <a:pt x="0" y="0"/>
                          </a:moveTo>
                          <a:lnTo>
                            <a:pt x="349" y="0"/>
                          </a:lnTo>
                          <a:lnTo>
                            <a:pt x="350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59" name=""/>
                    <p:cNvSpPr/>
                    <p:nvPr/>
                  </p:nvSpPr>
                  <p:spPr>
                    <a:xfrm flipV="1" rot="16200000">
                      <a:off x="19021680" y="17630640"/>
                      <a:ext cx="1260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9" h="0">
                          <a:moveTo>
                            <a:pt x="349" y="0"/>
                          </a:move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0" name=""/>
                    <p:cNvSpPr/>
                    <p:nvPr/>
                  </p:nvSpPr>
                  <p:spPr>
                    <a:xfrm flipV="1" rot="16200000">
                      <a:off x="19120680" y="17482320"/>
                      <a:ext cx="1260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0" h="0">
                          <a:moveTo>
                            <a:pt x="0" y="0"/>
                          </a:moveTo>
                          <a:lnTo>
                            <a:pt x="349" y="0"/>
                          </a:lnTo>
                          <a:lnTo>
                            <a:pt x="350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1" name=""/>
                    <p:cNvSpPr/>
                    <p:nvPr/>
                  </p:nvSpPr>
                  <p:spPr>
                    <a:xfrm flipV="1" rot="16200000">
                      <a:off x="19123200" y="17556840"/>
                      <a:ext cx="2412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98" h="0">
                          <a:moveTo>
                            <a:pt x="698" y="0"/>
                          </a:move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2" name=""/>
                    <p:cNvSpPr/>
                    <p:nvPr/>
                  </p:nvSpPr>
                  <p:spPr>
                    <a:xfrm flipV="1" rot="16200000">
                      <a:off x="19132560" y="17542080"/>
                      <a:ext cx="1440" cy="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33">
                          <a:moveTo>
                            <a:pt x="0" y="133"/>
                          </a:move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3" name=""/>
                    <p:cNvSpPr/>
                    <p:nvPr/>
                  </p:nvSpPr>
                  <p:spPr>
                    <a:xfrm flipV="1" rot="16200000">
                      <a:off x="19133280" y="17566920"/>
                      <a:ext cx="360" cy="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34">
                          <a:moveTo>
                            <a:pt x="0" y="134"/>
                          </a:move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4" name=""/>
                    <p:cNvSpPr/>
                    <p:nvPr/>
                  </p:nvSpPr>
                  <p:spPr>
                    <a:xfrm flipV="1" rot="16200000">
                      <a:off x="19120680" y="17630640"/>
                      <a:ext cx="1260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9" h="0">
                          <a:moveTo>
                            <a:pt x="349" y="0"/>
                          </a:move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5" name=""/>
                    <p:cNvSpPr/>
                    <p:nvPr/>
                  </p:nvSpPr>
                  <p:spPr>
                    <a:xfrm flipV="1" rot="16200000">
                      <a:off x="19096200" y="17547120"/>
                      <a:ext cx="121320" cy="1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44" h="562">
                          <a:moveTo>
                            <a:pt x="3405" y="560"/>
                          </a:moveTo>
                          <a:lnTo>
                            <a:pt x="3444" y="429"/>
                          </a:lnTo>
                          <a:lnTo>
                            <a:pt x="3366" y="316"/>
                          </a:lnTo>
                          <a:lnTo>
                            <a:pt x="2559" y="78"/>
                          </a:lnTo>
                          <a:lnTo>
                            <a:pt x="1722" y="0"/>
                          </a:lnTo>
                          <a:lnTo>
                            <a:pt x="884" y="79"/>
                          </a:lnTo>
                          <a:lnTo>
                            <a:pt x="78" y="318"/>
                          </a:lnTo>
                          <a:lnTo>
                            <a:pt x="0" y="430"/>
                          </a:lnTo>
                          <a:lnTo>
                            <a:pt x="39" y="562"/>
                          </a:lnTo>
                          <a:lnTo>
                            <a:pt x="40" y="562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000" bIns="-27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6" name=""/>
                    <p:cNvSpPr/>
                    <p:nvPr/>
                  </p:nvSpPr>
                  <p:spPr>
                    <a:xfrm flipV="1" rot="16200000">
                      <a:off x="19086480" y="17542440"/>
                      <a:ext cx="11268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2" h="740">
                          <a:moveTo>
                            <a:pt x="3152" y="738"/>
                          </a:moveTo>
                          <a:lnTo>
                            <a:pt x="3126" y="512"/>
                          </a:lnTo>
                          <a:lnTo>
                            <a:pt x="2966" y="350"/>
                          </a:lnTo>
                          <a:lnTo>
                            <a:pt x="2290" y="101"/>
                          </a:lnTo>
                          <a:lnTo>
                            <a:pt x="1576" y="0"/>
                          </a:lnTo>
                          <a:lnTo>
                            <a:pt x="862" y="102"/>
                          </a:lnTo>
                          <a:lnTo>
                            <a:pt x="186" y="352"/>
                          </a:lnTo>
                          <a:lnTo>
                            <a:pt x="26" y="514"/>
                          </a:lnTo>
                          <a:lnTo>
                            <a:pt x="0" y="740"/>
                          </a:lnTo>
                          <a:lnTo>
                            <a:pt x="1" y="74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7" name=""/>
                    <p:cNvSpPr/>
                    <p:nvPr/>
                  </p:nvSpPr>
                  <p:spPr>
                    <a:xfrm flipV="1" rot="16200000">
                      <a:off x="19112760" y="17582400"/>
                      <a:ext cx="35280" cy="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23" h="298">
                          <a:moveTo>
                            <a:pt x="1023" y="0"/>
                          </a:moveTo>
                          <a:lnTo>
                            <a:pt x="496" y="98"/>
                          </a:lnTo>
                          <a:lnTo>
                            <a:pt x="0" y="298"/>
                          </a:lnTo>
                          <a:lnTo>
                            <a:pt x="2" y="298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8" name=""/>
                    <p:cNvSpPr/>
                    <p:nvPr/>
                  </p:nvSpPr>
                  <p:spPr>
                    <a:xfrm flipV="1" rot="16200000">
                      <a:off x="19122120" y="17606880"/>
                      <a:ext cx="8280" cy="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3" h="97">
                          <a:moveTo>
                            <a:pt x="0" y="0"/>
                          </a:moveTo>
                          <a:lnTo>
                            <a:pt x="78" y="97"/>
                          </a:lnTo>
                          <a:lnTo>
                            <a:pt x="201" y="93"/>
                          </a:lnTo>
                          <a:lnTo>
                            <a:pt x="203" y="93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9" name=""/>
                    <p:cNvSpPr/>
                    <p:nvPr/>
                  </p:nvSpPr>
                  <p:spPr>
                    <a:xfrm flipV="1" rot="16200000">
                      <a:off x="19134720" y="17607240"/>
                      <a:ext cx="4320" cy="16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496">
                          <a:moveTo>
                            <a:pt x="109" y="496"/>
                          </a:move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880" bIns="-29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0" name=""/>
                    <p:cNvSpPr/>
                    <p:nvPr/>
                  </p:nvSpPr>
                  <p:spPr>
                    <a:xfrm flipV="1" rot="16200000">
                      <a:off x="19147680" y="17613000"/>
                      <a:ext cx="2880" cy="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" h="160">
                          <a:moveTo>
                            <a:pt x="84" y="0"/>
                          </a:moveTo>
                          <a:lnTo>
                            <a:pt x="13" y="64"/>
                          </a:lnTo>
                          <a:lnTo>
                            <a:pt x="0" y="160"/>
                          </a:lnTo>
                          <a:lnTo>
                            <a:pt x="1" y="16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1" name=""/>
                    <p:cNvSpPr/>
                    <p:nvPr/>
                  </p:nvSpPr>
                  <p:spPr>
                    <a:xfrm flipV="1" rot="16200000">
                      <a:off x="19147680" y="17494200"/>
                      <a:ext cx="2880" cy="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" h="159">
                          <a:moveTo>
                            <a:pt x="84" y="159"/>
                          </a:moveTo>
                          <a:lnTo>
                            <a:pt x="71" y="64"/>
                          </a:ln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2" name=""/>
                    <p:cNvSpPr/>
                    <p:nvPr/>
                  </p:nvSpPr>
                  <p:spPr>
                    <a:xfrm flipV="1" rot="16200000">
                      <a:off x="19135080" y="17489880"/>
                      <a:ext cx="3960" cy="16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496">
                          <a:moveTo>
                            <a:pt x="109" y="0"/>
                          </a:moveTo>
                          <a:lnTo>
                            <a:pt x="0" y="496"/>
                          </a:lnTo>
                          <a:lnTo>
                            <a:pt x="1" y="496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880" bIns="-29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3" name=""/>
                    <p:cNvSpPr/>
                    <p:nvPr/>
                  </p:nvSpPr>
                  <p:spPr>
                    <a:xfrm flipV="1" rot="16200000">
                      <a:off x="19122120" y="17502480"/>
                      <a:ext cx="8280" cy="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2" h="98">
                          <a:moveTo>
                            <a:pt x="0" y="94"/>
                          </a:moveTo>
                          <a:lnTo>
                            <a:pt x="124" y="98"/>
                          </a:lnTo>
                          <a:lnTo>
                            <a:pt x="201" y="0"/>
                          </a:lnTo>
                          <a:lnTo>
                            <a:pt x="202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4" name=""/>
                    <p:cNvSpPr/>
                    <p:nvPr/>
                  </p:nvSpPr>
                  <p:spPr>
                    <a:xfrm flipV="1" rot="16200000">
                      <a:off x="19112760" y="17521920"/>
                      <a:ext cx="35640" cy="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21" h="297">
                          <a:moveTo>
                            <a:pt x="1021" y="297"/>
                          </a:moveTo>
                          <a:lnTo>
                            <a:pt x="525" y="97"/>
                          </a:ln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775" name=""/>
                  <p:cNvSpPr/>
                  <p:nvPr/>
                </p:nvSpPr>
                <p:spPr>
                  <a:xfrm flipV="1" rot="16200000">
                    <a:off x="18872280" y="17525880"/>
                    <a:ext cx="218520" cy="7020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76" name=""/>
                  <p:cNvGrpSpPr/>
                  <p:nvPr/>
                </p:nvGrpSpPr>
                <p:grpSpPr>
                  <a:xfrm>
                    <a:off x="18956520" y="17500680"/>
                    <a:ext cx="48600" cy="131400"/>
                    <a:chOff x="18956520" y="17500680"/>
                    <a:chExt cx="48600" cy="131400"/>
                  </a:xfrm>
                </p:grpSpPr>
                <p:sp>
                  <p:nvSpPr>
                    <p:cNvPr id="1777" name=""/>
                    <p:cNvSpPr/>
                    <p:nvPr/>
                  </p:nvSpPr>
                  <p:spPr>
                    <a:xfrm flipV="1" rot="16200000">
                      <a:off x="18915120" y="17541720"/>
                      <a:ext cx="131400" cy="486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800" bIns="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8" name=""/>
                    <p:cNvSpPr/>
                    <p:nvPr/>
                  </p:nvSpPr>
                  <p:spPr>
                    <a:xfrm flipV="1" rot="16200000">
                      <a:off x="18972360" y="17602560"/>
                      <a:ext cx="15840" cy="324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400" bIns="-144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9" name=""/>
                    <p:cNvSpPr/>
                    <p:nvPr/>
                  </p:nvSpPr>
                  <p:spPr>
                    <a:xfrm flipV="1" rot="16200000">
                      <a:off x="18931680" y="17538840"/>
                      <a:ext cx="97200" cy="324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400" bIns="-144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780" name=""/>
                  <p:cNvSpPr/>
                  <p:nvPr/>
                </p:nvSpPr>
                <p:spPr>
                  <a:xfrm flipV="1" rot="16200000">
                    <a:off x="18648720" y="17439120"/>
                    <a:ext cx="355680" cy="24300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1" name=""/>
                  <p:cNvSpPr/>
                  <p:nvPr/>
                </p:nvSpPr>
                <p:spPr>
                  <a:xfrm flipV="1" rot="14448600">
                    <a:off x="18887400" y="17663040"/>
                    <a:ext cx="22320" cy="32400"/>
                  </a:xfrm>
                  <a:prstGeom prst="ellipse">
                    <a:avLst/>
                  </a:prstGeom>
                  <a:noFill/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760" bIns="-23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2" name=""/>
                  <p:cNvSpPr/>
                  <p:nvPr/>
                </p:nvSpPr>
                <p:spPr>
                  <a:xfrm flipV="1" rot="16200000">
                    <a:off x="18862200" y="17650080"/>
                    <a:ext cx="66960" cy="67320"/>
                  </a:xfrm>
                  <a:prstGeom prst="rect">
                    <a:avLst/>
                  </a:prstGeom>
                  <a:noFill/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520" bIns="20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83" name=""/>
                  <p:cNvGrpSpPr/>
                  <p:nvPr/>
                </p:nvGrpSpPr>
                <p:grpSpPr>
                  <a:xfrm>
                    <a:off x="18780120" y="17482320"/>
                    <a:ext cx="145440" cy="132480"/>
                    <a:chOff x="18780120" y="17482320"/>
                    <a:chExt cx="145440" cy="132480"/>
                  </a:xfrm>
                </p:grpSpPr>
                <p:sp>
                  <p:nvSpPr>
                    <p:cNvPr id="1784" name=""/>
                    <p:cNvSpPr/>
                    <p:nvPr/>
                  </p:nvSpPr>
                  <p:spPr>
                    <a:xfrm flipV="1" rot="16200000">
                      <a:off x="18786600" y="17475840"/>
                      <a:ext cx="132480" cy="1454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785" name=""/>
                    <p:cNvGrpSpPr/>
                    <p:nvPr/>
                  </p:nvGrpSpPr>
                  <p:grpSpPr>
                    <a:xfrm>
                      <a:off x="18789480" y="17491320"/>
                      <a:ext cx="116280" cy="116640"/>
                      <a:chOff x="18789480" y="17491320"/>
                      <a:chExt cx="116280" cy="116640"/>
                    </a:xfrm>
                  </p:grpSpPr>
                  <p:sp>
                    <p:nvSpPr>
                      <p:cNvPr id="1786" name=""/>
                      <p:cNvSpPr/>
                      <p:nvPr/>
                    </p:nvSpPr>
                    <p:spPr>
                      <a:xfrm flipV="1" rot="16200000">
                        <a:off x="18806400" y="17574840"/>
                        <a:ext cx="252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" h="35">
                            <a:moveTo>
                              <a:pt x="0" y="35"/>
                            </a:moveTo>
                            <a:lnTo>
                              <a:pt x="5" y="29"/>
                            </a:lnTo>
                            <a:lnTo>
                              <a:pt x="11" y="23"/>
                            </a:lnTo>
                            <a:lnTo>
                              <a:pt x="17" y="17"/>
                            </a:lnTo>
                            <a:lnTo>
                              <a:pt x="22" y="12"/>
                            </a:lnTo>
                            <a:lnTo>
                              <a:pt x="26" y="8"/>
                            </a:lnTo>
                            <a:lnTo>
                              <a:pt x="30" y="5"/>
                            </a:lnTo>
                            <a:lnTo>
                              <a:pt x="32" y="2"/>
                            </a:lnTo>
                            <a:lnTo>
                              <a:pt x="34" y="1"/>
                            </a:lnTo>
                            <a:lnTo>
                              <a:pt x="34" y="0"/>
                            </a:lnTo>
                            <a:lnTo>
                              <a:pt x="35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6633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87" name=""/>
                      <p:cNvSpPr/>
                      <p:nvPr/>
                    </p:nvSpPr>
                    <p:spPr>
                      <a:xfrm flipV="1" rot="16200000">
                        <a:off x="18806400" y="17574840"/>
                        <a:ext cx="252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" h="35">
                            <a:moveTo>
                              <a:pt x="0" y="35"/>
                            </a:moveTo>
                            <a:lnTo>
                              <a:pt x="5" y="29"/>
                            </a:lnTo>
                            <a:lnTo>
                              <a:pt x="11" y="23"/>
                            </a:lnTo>
                            <a:lnTo>
                              <a:pt x="17" y="17"/>
                            </a:lnTo>
                            <a:lnTo>
                              <a:pt x="22" y="12"/>
                            </a:lnTo>
                            <a:lnTo>
                              <a:pt x="26" y="8"/>
                            </a:lnTo>
                            <a:lnTo>
                              <a:pt x="30" y="5"/>
                            </a:lnTo>
                            <a:lnTo>
                              <a:pt x="32" y="2"/>
                            </a:lnTo>
                            <a:lnTo>
                              <a:pt x="34" y="1"/>
                            </a:lnTo>
                            <a:lnTo>
                              <a:pt x="34" y="0"/>
                            </a:lnTo>
                            <a:lnTo>
                              <a:pt x="35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6633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88" name=""/>
                      <p:cNvSpPr/>
                      <p:nvPr/>
                    </p:nvSpPr>
                    <p:spPr>
                      <a:xfrm flipV="1" rot="16200000">
                        <a:off x="18822600" y="17524800"/>
                        <a:ext cx="116640" cy="49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520" bIns="2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89" name=""/>
                      <p:cNvSpPr/>
                      <p:nvPr/>
                    </p:nvSpPr>
                    <p:spPr>
                      <a:xfrm flipV="1" rot="16200000">
                        <a:off x="18771840" y="17516160"/>
                        <a:ext cx="100440" cy="65160"/>
                      </a:xfrm>
                      <a:custGeom>
                        <a:avLst/>
                        <a:gdLst>
                          <a:gd name="textAreaLeft" fmla="*/ 21960 w 100440"/>
                          <a:gd name="textAreaRight" fmla="*/ 78480 w 100440"/>
                          <a:gd name="textAreaTop" fmla="*/ 14400 h 65160"/>
                          <a:gd name="textAreaBottom" fmla="*/ 50760 h 6516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21600" y="0"/>
                            </a:lnTo>
                            <a:lnTo>
                              <a:pt x="16200" y="21600"/>
                            </a:lnTo>
                            <a:lnTo>
                              <a:pt x="5400" y="2160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0440" bIns="-10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790" name=""/>
                <p:cNvGrpSpPr/>
                <p:nvPr/>
              </p:nvGrpSpPr>
              <p:grpSpPr>
                <a:xfrm>
                  <a:off x="19444680" y="18100800"/>
                  <a:ext cx="162000" cy="161280"/>
                  <a:chOff x="19444680" y="18100800"/>
                  <a:chExt cx="162000" cy="161280"/>
                </a:xfrm>
              </p:grpSpPr>
              <p:sp>
                <p:nvSpPr>
                  <p:cNvPr id="1791" name=""/>
                  <p:cNvSpPr/>
                  <p:nvPr/>
                </p:nvSpPr>
                <p:spPr>
                  <a:xfrm rot="10800000">
                    <a:off x="19457640" y="18123840"/>
                    <a:ext cx="36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2" name=""/>
                  <p:cNvSpPr/>
                  <p:nvPr/>
                </p:nvSpPr>
                <p:spPr>
                  <a:xfrm rot="10800000">
                    <a:off x="19444680" y="18123840"/>
                    <a:ext cx="36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3" name=""/>
                  <p:cNvSpPr/>
                  <p:nvPr/>
                </p:nvSpPr>
                <p:spPr>
                  <a:xfrm rot="10800000">
                    <a:off x="19605600" y="18123840"/>
                    <a:ext cx="108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4" name=""/>
                  <p:cNvSpPr/>
                  <p:nvPr/>
                </p:nvSpPr>
                <p:spPr>
                  <a:xfrm rot="10800000">
                    <a:off x="19592640" y="18123840"/>
                    <a:ext cx="144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5" name=""/>
                  <p:cNvSpPr/>
                  <p:nvPr/>
                </p:nvSpPr>
                <p:spPr>
                  <a:xfrm rot="10800000">
                    <a:off x="19586520" y="18126360"/>
                    <a:ext cx="36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925">
                        <a:moveTo>
                          <a:pt x="0" y="0"/>
                        </a:moveTo>
                        <a:lnTo>
                          <a:pt x="18" y="1925"/>
                        </a:lnTo>
                        <a:lnTo>
                          <a:pt x="19" y="1925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6" name=""/>
                  <p:cNvSpPr/>
                  <p:nvPr/>
                </p:nvSpPr>
                <p:spPr>
                  <a:xfrm rot="10800000">
                    <a:off x="19567080" y="18103680"/>
                    <a:ext cx="1980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8" h="605">
                        <a:moveTo>
                          <a:pt x="0" y="0"/>
                        </a:moveTo>
                        <a:lnTo>
                          <a:pt x="184" y="396"/>
                        </a:lnTo>
                        <a:lnTo>
                          <a:pt x="567" y="605"/>
                        </a:lnTo>
                        <a:lnTo>
                          <a:pt x="568" y="605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7" name=""/>
                  <p:cNvSpPr/>
                  <p:nvPr/>
                </p:nvSpPr>
                <p:spPr>
                  <a:xfrm rot="10800000">
                    <a:off x="19485720" y="18100800"/>
                    <a:ext cx="8136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269" h="103">
                        <a:moveTo>
                          <a:pt x="0" y="2"/>
                        </a:moveTo>
                        <a:lnTo>
                          <a:pt x="1135" y="103"/>
                        </a:lnTo>
                        <a:lnTo>
                          <a:pt x="2268" y="0"/>
                        </a:lnTo>
                        <a:lnTo>
                          <a:pt x="2269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8" name=""/>
                  <p:cNvSpPr/>
                  <p:nvPr/>
                </p:nvSpPr>
                <p:spPr>
                  <a:xfrm rot="10800000">
                    <a:off x="19465560" y="18103680"/>
                    <a:ext cx="1980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8" h="605">
                        <a:moveTo>
                          <a:pt x="0" y="605"/>
                        </a:moveTo>
                        <a:lnTo>
                          <a:pt x="382" y="396"/>
                        </a:lnTo>
                        <a:lnTo>
                          <a:pt x="567" y="0"/>
                        </a:lnTo>
                        <a:lnTo>
                          <a:pt x="568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9" name=""/>
                  <p:cNvSpPr/>
                  <p:nvPr/>
                </p:nvSpPr>
                <p:spPr>
                  <a:xfrm rot="10800000">
                    <a:off x="19464840" y="18126360"/>
                    <a:ext cx="36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925">
                        <a:moveTo>
                          <a:pt x="0" y="1925"/>
                        </a:moveTo>
                        <a:lnTo>
                          <a:pt x="16" y="0"/>
                        </a:lnTo>
                        <a:lnTo>
                          <a:pt x="17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0" name=""/>
                  <p:cNvSpPr/>
                  <p:nvPr/>
                </p:nvSpPr>
                <p:spPr>
                  <a:xfrm rot="10800000">
                    <a:off x="19465560" y="18195120"/>
                    <a:ext cx="2556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745" h="787">
                        <a:moveTo>
                          <a:pt x="745" y="787"/>
                        </a:moveTo>
                        <a:lnTo>
                          <a:pt x="623" y="420"/>
                        </a:lnTo>
                        <a:lnTo>
                          <a:pt x="358" y="14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1" name=""/>
                  <p:cNvSpPr/>
                  <p:nvPr/>
                </p:nvSpPr>
                <p:spPr>
                  <a:xfrm rot="10800000">
                    <a:off x="19491120" y="18223560"/>
                    <a:ext cx="6984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1947" h="77">
                        <a:moveTo>
                          <a:pt x="1947" y="76"/>
                        </a:moveTo>
                        <a:lnTo>
                          <a:pt x="974" y="0"/>
                        </a:lnTo>
                        <a:lnTo>
                          <a:pt x="0" y="77"/>
                        </a:lnTo>
                        <a:lnTo>
                          <a:pt x="1" y="77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2" name=""/>
                  <p:cNvSpPr/>
                  <p:nvPr/>
                </p:nvSpPr>
                <p:spPr>
                  <a:xfrm rot="10800000">
                    <a:off x="19560960" y="18195120"/>
                    <a:ext cx="2592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744" h="788">
                        <a:moveTo>
                          <a:pt x="744" y="0"/>
                        </a:moveTo>
                        <a:lnTo>
                          <a:pt x="386" y="141"/>
                        </a:lnTo>
                        <a:lnTo>
                          <a:pt x="121" y="421"/>
                        </a:lnTo>
                        <a:lnTo>
                          <a:pt x="0" y="788"/>
                        </a:lnTo>
                        <a:lnTo>
                          <a:pt x="1" y="788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3" name=""/>
                  <p:cNvSpPr/>
                  <p:nvPr/>
                </p:nvSpPr>
                <p:spPr>
                  <a:xfrm rot="10800000">
                    <a:off x="19445040" y="18123120"/>
                    <a:ext cx="129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50" h="0">
                        <a:moveTo>
                          <a:pt x="0" y="0"/>
                        </a:moveTo>
                        <a:lnTo>
                          <a:pt x="349" y="0"/>
                        </a:lnTo>
                        <a:lnTo>
                          <a:pt x="350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4" name=""/>
                  <p:cNvSpPr/>
                  <p:nvPr/>
                </p:nvSpPr>
                <p:spPr>
                  <a:xfrm rot="10800000">
                    <a:off x="19594080" y="18123120"/>
                    <a:ext cx="1260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49" h="0">
                        <a:moveTo>
                          <a:pt x="349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5" name=""/>
                  <p:cNvSpPr/>
                  <p:nvPr/>
                </p:nvSpPr>
                <p:spPr>
                  <a:xfrm rot="10800000">
                    <a:off x="19445040" y="18222120"/>
                    <a:ext cx="129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50" h="0">
                        <a:moveTo>
                          <a:pt x="0" y="0"/>
                        </a:moveTo>
                        <a:lnTo>
                          <a:pt x="349" y="0"/>
                        </a:lnTo>
                        <a:lnTo>
                          <a:pt x="350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6" name=""/>
                  <p:cNvSpPr/>
                  <p:nvPr/>
                </p:nvSpPr>
                <p:spPr>
                  <a:xfrm rot="10800000">
                    <a:off x="19514160" y="18230400"/>
                    <a:ext cx="2412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8" h="0">
                        <a:moveTo>
                          <a:pt x="698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7" name=""/>
                  <p:cNvSpPr/>
                  <p:nvPr/>
                </p:nvSpPr>
                <p:spPr>
                  <a:xfrm rot="10800000">
                    <a:off x="19512720" y="18226800"/>
                    <a:ext cx="144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33">
                        <a:moveTo>
                          <a:pt x="0" y="133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8" name=""/>
                  <p:cNvSpPr/>
                  <p:nvPr/>
                </p:nvSpPr>
                <p:spPr>
                  <a:xfrm rot="10800000">
                    <a:off x="19537920" y="18226800"/>
                    <a:ext cx="36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34">
                        <a:moveTo>
                          <a:pt x="0" y="134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9" name=""/>
                  <p:cNvSpPr/>
                  <p:nvPr/>
                </p:nvSpPr>
                <p:spPr>
                  <a:xfrm rot="10800000">
                    <a:off x="19594080" y="18222120"/>
                    <a:ext cx="1260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49" h="0">
                        <a:moveTo>
                          <a:pt x="349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0" name=""/>
                  <p:cNvSpPr/>
                  <p:nvPr/>
                </p:nvSpPr>
                <p:spPr>
                  <a:xfrm rot="10800000">
                    <a:off x="19465200" y="18242280"/>
                    <a:ext cx="12168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3444" h="562">
                        <a:moveTo>
                          <a:pt x="3405" y="560"/>
                        </a:moveTo>
                        <a:lnTo>
                          <a:pt x="3444" y="429"/>
                        </a:lnTo>
                        <a:lnTo>
                          <a:pt x="3366" y="316"/>
                        </a:lnTo>
                        <a:lnTo>
                          <a:pt x="2559" y="78"/>
                        </a:lnTo>
                        <a:lnTo>
                          <a:pt x="1722" y="0"/>
                        </a:lnTo>
                        <a:lnTo>
                          <a:pt x="884" y="79"/>
                        </a:lnTo>
                        <a:lnTo>
                          <a:pt x="78" y="318"/>
                        </a:lnTo>
                        <a:lnTo>
                          <a:pt x="0" y="430"/>
                        </a:lnTo>
                        <a:lnTo>
                          <a:pt x="39" y="562"/>
                        </a:lnTo>
                        <a:lnTo>
                          <a:pt x="40" y="562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1" name=""/>
                  <p:cNvSpPr/>
                  <p:nvPr/>
                </p:nvSpPr>
                <p:spPr>
                  <a:xfrm rot="10800000">
                    <a:off x="19469880" y="18223920"/>
                    <a:ext cx="11268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52" h="740">
                        <a:moveTo>
                          <a:pt x="3152" y="738"/>
                        </a:moveTo>
                        <a:lnTo>
                          <a:pt x="3126" y="512"/>
                        </a:lnTo>
                        <a:lnTo>
                          <a:pt x="2966" y="350"/>
                        </a:lnTo>
                        <a:lnTo>
                          <a:pt x="2290" y="101"/>
                        </a:lnTo>
                        <a:lnTo>
                          <a:pt x="1576" y="0"/>
                        </a:lnTo>
                        <a:lnTo>
                          <a:pt x="862" y="102"/>
                        </a:lnTo>
                        <a:lnTo>
                          <a:pt x="186" y="352"/>
                        </a:lnTo>
                        <a:lnTo>
                          <a:pt x="26" y="514"/>
                        </a:lnTo>
                        <a:lnTo>
                          <a:pt x="0" y="740"/>
                        </a:lnTo>
                        <a:lnTo>
                          <a:pt x="1" y="74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2" name=""/>
                  <p:cNvSpPr/>
                  <p:nvPr/>
                </p:nvSpPr>
                <p:spPr>
                  <a:xfrm rot="10800000">
                    <a:off x="19538280" y="18221040"/>
                    <a:ext cx="3564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023" h="298">
                        <a:moveTo>
                          <a:pt x="1023" y="0"/>
                        </a:moveTo>
                        <a:lnTo>
                          <a:pt x="496" y="98"/>
                        </a:lnTo>
                        <a:lnTo>
                          <a:pt x="0" y="298"/>
                        </a:lnTo>
                        <a:lnTo>
                          <a:pt x="2" y="298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3" name=""/>
                  <p:cNvSpPr/>
                  <p:nvPr/>
                </p:nvSpPr>
                <p:spPr>
                  <a:xfrm rot="10800000">
                    <a:off x="19574280" y="18219600"/>
                    <a:ext cx="828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203" h="97">
                        <a:moveTo>
                          <a:pt x="0" y="0"/>
                        </a:moveTo>
                        <a:lnTo>
                          <a:pt x="78" y="97"/>
                        </a:lnTo>
                        <a:lnTo>
                          <a:pt x="201" y="93"/>
                        </a:lnTo>
                        <a:lnTo>
                          <a:pt x="203" y="9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4" name=""/>
                  <p:cNvSpPr/>
                  <p:nvPr/>
                </p:nvSpPr>
                <p:spPr>
                  <a:xfrm rot="10800000">
                    <a:off x="19582560" y="18223920"/>
                    <a:ext cx="432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496">
                        <a:moveTo>
                          <a:pt x="109" y="496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5" name=""/>
                  <p:cNvSpPr/>
                  <p:nvPr/>
                </p:nvSpPr>
                <p:spPr>
                  <a:xfrm rot="10800000">
                    <a:off x="19584000" y="18241200"/>
                    <a:ext cx="288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160">
                        <a:moveTo>
                          <a:pt x="84" y="0"/>
                        </a:moveTo>
                        <a:lnTo>
                          <a:pt x="13" y="64"/>
                        </a:lnTo>
                        <a:lnTo>
                          <a:pt x="0" y="160"/>
                        </a:lnTo>
                        <a:lnTo>
                          <a:pt x="1" y="16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6" name=""/>
                  <p:cNvSpPr/>
                  <p:nvPr/>
                </p:nvSpPr>
                <p:spPr>
                  <a:xfrm rot="10800000">
                    <a:off x="19465200" y="18241200"/>
                    <a:ext cx="288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159">
                        <a:moveTo>
                          <a:pt x="84" y="159"/>
                        </a:moveTo>
                        <a:lnTo>
                          <a:pt x="71" y="64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7" name=""/>
                  <p:cNvSpPr/>
                  <p:nvPr/>
                </p:nvSpPr>
                <p:spPr>
                  <a:xfrm rot="10800000">
                    <a:off x="19465560" y="18223920"/>
                    <a:ext cx="396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496">
                        <a:moveTo>
                          <a:pt x="109" y="0"/>
                        </a:moveTo>
                        <a:lnTo>
                          <a:pt x="0" y="496"/>
                        </a:lnTo>
                        <a:lnTo>
                          <a:pt x="1" y="496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8" name=""/>
                  <p:cNvSpPr/>
                  <p:nvPr/>
                </p:nvSpPr>
                <p:spPr>
                  <a:xfrm rot="10800000">
                    <a:off x="19469520" y="18219600"/>
                    <a:ext cx="828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202" h="98">
                        <a:moveTo>
                          <a:pt x="0" y="94"/>
                        </a:moveTo>
                        <a:lnTo>
                          <a:pt x="124" y="98"/>
                        </a:lnTo>
                        <a:lnTo>
                          <a:pt x="201" y="0"/>
                        </a:lnTo>
                        <a:lnTo>
                          <a:pt x="202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9" name=""/>
                  <p:cNvSpPr/>
                  <p:nvPr/>
                </p:nvSpPr>
                <p:spPr>
                  <a:xfrm rot="10800000">
                    <a:off x="19478160" y="18221040"/>
                    <a:ext cx="360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021" h="297">
                        <a:moveTo>
                          <a:pt x="1021" y="297"/>
                        </a:moveTo>
                        <a:lnTo>
                          <a:pt x="525" y="97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20" name=""/>
                <p:cNvSpPr/>
                <p:nvPr/>
              </p:nvSpPr>
              <p:spPr>
                <a:xfrm>
                  <a:off x="19031040" y="17740440"/>
                  <a:ext cx="576000" cy="287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1" name=""/>
              <p:cNvGrpSpPr/>
              <p:nvPr/>
            </p:nvGrpSpPr>
            <p:grpSpPr>
              <a:xfrm>
                <a:off x="17162280" y="17421120"/>
                <a:ext cx="901800" cy="879120"/>
                <a:chOff x="17162280" y="17421120"/>
                <a:chExt cx="901800" cy="879120"/>
              </a:xfrm>
            </p:grpSpPr>
            <p:grpSp>
              <p:nvGrpSpPr>
                <p:cNvPr id="1822" name=""/>
                <p:cNvGrpSpPr/>
                <p:nvPr/>
              </p:nvGrpSpPr>
              <p:grpSpPr>
                <a:xfrm>
                  <a:off x="17563680" y="18138960"/>
                  <a:ext cx="162360" cy="161280"/>
                  <a:chOff x="17563680" y="18138960"/>
                  <a:chExt cx="162360" cy="161280"/>
                </a:xfrm>
              </p:grpSpPr>
              <p:sp>
                <p:nvSpPr>
                  <p:cNvPr id="1823" name=""/>
                  <p:cNvSpPr/>
                  <p:nvPr/>
                </p:nvSpPr>
                <p:spPr>
                  <a:xfrm rot="10800000">
                    <a:off x="17577000" y="18162000"/>
                    <a:ext cx="36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4" name=""/>
                  <p:cNvSpPr/>
                  <p:nvPr/>
                </p:nvSpPr>
                <p:spPr>
                  <a:xfrm rot="10800000">
                    <a:off x="17563680" y="18162000"/>
                    <a:ext cx="36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5" name=""/>
                  <p:cNvSpPr/>
                  <p:nvPr/>
                </p:nvSpPr>
                <p:spPr>
                  <a:xfrm rot="10800000">
                    <a:off x="17724960" y="18162000"/>
                    <a:ext cx="108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6" name=""/>
                  <p:cNvSpPr/>
                  <p:nvPr/>
                </p:nvSpPr>
                <p:spPr>
                  <a:xfrm rot="10800000">
                    <a:off x="17712000" y="18162000"/>
                    <a:ext cx="144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7" name=""/>
                  <p:cNvSpPr/>
                  <p:nvPr/>
                </p:nvSpPr>
                <p:spPr>
                  <a:xfrm rot="10800000">
                    <a:off x="17705880" y="18164520"/>
                    <a:ext cx="36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925">
                        <a:moveTo>
                          <a:pt x="0" y="0"/>
                        </a:moveTo>
                        <a:lnTo>
                          <a:pt x="18" y="1925"/>
                        </a:lnTo>
                        <a:lnTo>
                          <a:pt x="19" y="1925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8" name=""/>
                  <p:cNvSpPr/>
                  <p:nvPr/>
                </p:nvSpPr>
                <p:spPr>
                  <a:xfrm rot="10800000">
                    <a:off x="17686080" y="18141840"/>
                    <a:ext cx="2016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8" h="605">
                        <a:moveTo>
                          <a:pt x="0" y="0"/>
                        </a:moveTo>
                        <a:lnTo>
                          <a:pt x="184" y="396"/>
                        </a:lnTo>
                        <a:lnTo>
                          <a:pt x="567" y="605"/>
                        </a:lnTo>
                        <a:lnTo>
                          <a:pt x="568" y="605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9" name=""/>
                  <p:cNvSpPr/>
                  <p:nvPr/>
                </p:nvSpPr>
                <p:spPr>
                  <a:xfrm rot="10800000">
                    <a:off x="17604720" y="18138960"/>
                    <a:ext cx="8136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269" h="103">
                        <a:moveTo>
                          <a:pt x="0" y="2"/>
                        </a:moveTo>
                        <a:lnTo>
                          <a:pt x="1135" y="103"/>
                        </a:lnTo>
                        <a:lnTo>
                          <a:pt x="2268" y="0"/>
                        </a:lnTo>
                        <a:lnTo>
                          <a:pt x="2269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0" name=""/>
                  <p:cNvSpPr/>
                  <p:nvPr/>
                </p:nvSpPr>
                <p:spPr>
                  <a:xfrm rot="10800000">
                    <a:off x="17584200" y="18141840"/>
                    <a:ext cx="2016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8" h="605">
                        <a:moveTo>
                          <a:pt x="0" y="605"/>
                        </a:moveTo>
                        <a:lnTo>
                          <a:pt x="382" y="396"/>
                        </a:lnTo>
                        <a:lnTo>
                          <a:pt x="567" y="0"/>
                        </a:lnTo>
                        <a:lnTo>
                          <a:pt x="568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1" name=""/>
                  <p:cNvSpPr/>
                  <p:nvPr/>
                </p:nvSpPr>
                <p:spPr>
                  <a:xfrm rot="10800000">
                    <a:off x="17583840" y="18164520"/>
                    <a:ext cx="36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925">
                        <a:moveTo>
                          <a:pt x="0" y="1925"/>
                        </a:moveTo>
                        <a:lnTo>
                          <a:pt x="16" y="0"/>
                        </a:lnTo>
                        <a:lnTo>
                          <a:pt x="17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2" name=""/>
                  <p:cNvSpPr/>
                  <p:nvPr/>
                </p:nvSpPr>
                <p:spPr>
                  <a:xfrm rot="10800000">
                    <a:off x="17584560" y="18233280"/>
                    <a:ext cx="2556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745" h="787">
                        <a:moveTo>
                          <a:pt x="745" y="787"/>
                        </a:moveTo>
                        <a:lnTo>
                          <a:pt x="623" y="420"/>
                        </a:lnTo>
                        <a:lnTo>
                          <a:pt x="358" y="14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3" name=""/>
                  <p:cNvSpPr/>
                  <p:nvPr/>
                </p:nvSpPr>
                <p:spPr>
                  <a:xfrm rot="10800000">
                    <a:off x="17610120" y="18261720"/>
                    <a:ext cx="7020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1947" h="77">
                        <a:moveTo>
                          <a:pt x="1947" y="76"/>
                        </a:moveTo>
                        <a:lnTo>
                          <a:pt x="974" y="0"/>
                        </a:lnTo>
                        <a:lnTo>
                          <a:pt x="0" y="77"/>
                        </a:lnTo>
                        <a:lnTo>
                          <a:pt x="1" y="77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4" name=""/>
                  <p:cNvSpPr/>
                  <p:nvPr/>
                </p:nvSpPr>
                <p:spPr>
                  <a:xfrm rot="10800000">
                    <a:off x="17680320" y="18233280"/>
                    <a:ext cx="2592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744" h="788">
                        <a:moveTo>
                          <a:pt x="744" y="0"/>
                        </a:moveTo>
                        <a:lnTo>
                          <a:pt x="386" y="141"/>
                        </a:lnTo>
                        <a:lnTo>
                          <a:pt x="121" y="421"/>
                        </a:lnTo>
                        <a:lnTo>
                          <a:pt x="0" y="788"/>
                        </a:lnTo>
                        <a:lnTo>
                          <a:pt x="1" y="788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5" name=""/>
                  <p:cNvSpPr/>
                  <p:nvPr/>
                </p:nvSpPr>
                <p:spPr>
                  <a:xfrm rot="10800000">
                    <a:off x="17564400" y="18161280"/>
                    <a:ext cx="129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50" h="0">
                        <a:moveTo>
                          <a:pt x="0" y="0"/>
                        </a:moveTo>
                        <a:lnTo>
                          <a:pt x="349" y="0"/>
                        </a:lnTo>
                        <a:lnTo>
                          <a:pt x="350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6" name=""/>
                  <p:cNvSpPr/>
                  <p:nvPr/>
                </p:nvSpPr>
                <p:spPr>
                  <a:xfrm rot="10800000">
                    <a:off x="17713440" y="18161280"/>
                    <a:ext cx="1260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49" h="0">
                        <a:moveTo>
                          <a:pt x="349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7" name=""/>
                  <p:cNvSpPr/>
                  <p:nvPr/>
                </p:nvSpPr>
                <p:spPr>
                  <a:xfrm rot="10800000">
                    <a:off x="17564400" y="18260280"/>
                    <a:ext cx="129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50" h="0">
                        <a:moveTo>
                          <a:pt x="0" y="0"/>
                        </a:moveTo>
                        <a:lnTo>
                          <a:pt x="349" y="0"/>
                        </a:lnTo>
                        <a:lnTo>
                          <a:pt x="350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8" name=""/>
                  <p:cNvSpPr/>
                  <p:nvPr/>
                </p:nvSpPr>
                <p:spPr>
                  <a:xfrm rot="10800000">
                    <a:off x="17633520" y="18268560"/>
                    <a:ext cx="2412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8" h="0">
                        <a:moveTo>
                          <a:pt x="698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9" name=""/>
                  <p:cNvSpPr/>
                  <p:nvPr/>
                </p:nvSpPr>
                <p:spPr>
                  <a:xfrm rot="10800000">
                    <a:off x="17631720" y="18264960"/>
                    <a:ext cx="144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33">
                        <a:moveTo>
                          <a:pt x="0" y="133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0" name=""/>
                  <p:cNvSpPr/>
                  <p:nvPr/>
                </p:nvSpPr>
                <p:spPr>
                  <a:xfrm rot="10800000">
                    <a:off x="17657280" y="18264960"/>
                    <a:ext cx="36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34">
                        <a:moveTo>
                          <a:pt x="0" y="134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1" name=""/>
                  <p:cNvSpPr/>
                  <p:nvPr/>
                </p:nvSpPr>
                <p:spPr>
                  <a:xfrm rot="10800000">
                    <a:off x="17713440" y="18260280"/>
                    <a:ext cx="1260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49" h="0">
                        <a:moveTo>
                          <a:pt x="349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2" name=""/>
                  <p:cNvSpPr/>
                  <p:nvPr/>
                </p:nvSpPr>
                <p:spPr>
                  <a:xfrm rot="10800000">
                    <a:off x="17584560" y="18280440"/>
                    <a:ext cx="12168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3444" h="562">
                        <a:moveTo>
                          <a:pt x="3405" y="560"/>
                        </a:moveTo>
                        <a:lnTo>
                          <a:pt x="3444" y="429"/>
                        </a:lnTo>
                        <a:lnTo>
                          <a:pt x="3366" y="316"/>
                        </a:lnTo>
                        <a:lnTo>
                          <a:pt x="2559" y="78"/>
                        </a:lnTo>
                        <a:lnTo>
                          <a:pt x="1722" y="0"/>
                        </a:lnTo>
                        <a:lnTo>
                          <a:pt x="884" y="79"/>
                        </a:lnTo>
                        <a:lnTo>
                          <a:pt x="78" y="318"/>
                        </a:lnTo>
                        <a:lnTo>
                          <a:pt x="0" y="430"/>
                        </a:lnTo>
                        <a:lnTo>
                          <a:pt x="39" y="562"/>
                        </a:lnTo>
                        <a:lnTo>
                          <a:pt x="40" y="562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3" name=""/>
                  <p:cNvSpPr/>
                  <p:nvPr/>
                </p:nvSpPr>
                <p:spPr>
                  <a:xfrm rot="10800000">
                    <a:off x="17588880" y="18262080"/>
                    <a:ext cx="11304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52" h="740">
                        <a:moveTo>
                          <a:pt x="3152" y="738"/>
                        </a:moveTo>
                        <a:lnTo>
                          <a:pt x="3126" y="512"/>
                        </a:lnTo>
                        <a:lnTo>
                          <a:pt x="2966" y="350"/>
                        </a:lnTo>
                        <a:lnTo>
                          <a:pt x="2290" y="101"/>
                        </a:lnTo>
                        <a:lnTo>
                          <a:pt x="1576" y="0"/>
                        </a:lnTo>
                        <a:lnTo>
                          <a:pt x="862" y="102"/>
                        </a:lnTo>
                        <a:lnTo>
                          <a:pt x="186" y="352"/>
                        </a:lnTo>
                        <a:lnTo>
                          <a:pt x="26" y="514"/>
                        </a:lnTo>
                        <a:lnTo>
                          <a:pt x="0" y="740"/>
                        </a:lnTo>
                        <a:lnTo>
                          <a:pt x="1" y="74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4" name=""/>
                  <p:cNvSpPr/>
                  <p:nvPr/>
                </p:nvSpPr>
                <p:spPr>
                  <a:xfrm rot="10800000">
                    <a:off x="17657640" y="18259200"/>
                    <a:ext cx="3564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023" h="298">
                        <a:moveTo>
                          <a:pt x="1023" y="0"/>
                        </a:moveTo>
                        <a:lnTo>
                          <a:pt x="496" y="98"/>
                        </a:lnTo>
                        <a:lnTo>
                          <a:pt x="0" y="298"/>
                        </a:lnTo>
                        <a:lnTo>
                          <a:pt x="2" y="298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5" name=""/>
                  <p:cNvSpPr/>
                  <p:nvPr/>
                </p:nvSpPr>
                <p:spPr>
                  <a:xfrm rot="10800000">
                    <a:off x="17693640" y="18257760"/>
                    <a:ext cx="828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203" h="97">
                        <a:moveTo>
                          <a:pt x="0" y="0"/>
                        </a:moveTo>
                        <a:lnTo>
                          <a:pt x="78" y="97"/>
                        </a:lnTo>
                        <a:lnTo>
                          <a:pt x="201" y="93"/>
                        </a:lnTo>
                        <a:lnTo>
                          <a:pt x="203" y="9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6" name=""/>
                  <p:cNvSpPr/>
                  <p:nvPr/>
                </p:nvSpPr>
                <p:spPr>
                  <a:xfrm rot="10800000">
                    <a:off x="17701920" y="18262080"/>
                    <a:ext cx="432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496">
                        <a:moveTo>
                          <a:pt x="109" y="496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7" name=""/>
                  <p:cNvSpPr/>
                  <p:nvPr/>
                </p:nvSpPr>
                <p:spPr>
                  <a:xfrm rot="10800000">
                    <a:off x="17703360" y="18279360"/>
                    <a:ext cx="288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160">
                        <a:moveTo>
                          <a:pt x="84" y="0"/>
                        </a:moveTo>
                        <a:lnTo>
                          <a:pt x="13" y="64"/>
                        </a:lnTo>
                        <a:lnTo>
                          <a:pt x="0" y="160"/>
                        </a:lnTo>
                        <a:lnTo>
                          <a:pt x="1" y="16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8" name=""/>
                  <p:cNvSpPr/>
                  <p:nvPr/>
                </p:nvSpPr>
                <p:spPr>
                  <a:xfrm rot="10800000">
                    <a:off x="17584560" y="18279360"/>
                    <a:ext cx="288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159">
                        <a:moveTo>
                          <a:pt x="84" y="159"/>
                        </a:moveTo>
                        <a:lnTo>
                          <a:pt x="71" y="64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9" name=""/>
                  <p:cNvSpPr/>
                  <p:nvPr/>
                </p:nvSpPr>
                <p:spPr>
                  <a:xfrm rot="10800000">
                    <a:off x="17584560" y="18262080"/>
                    <a:ext cx="396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496">
                        <a:moveTo>
                          <a:pt x="109" y="0"/>
                        </a:moveTo>
                        <a:lnTo>
                          <a:pt x="0" y="496"/>
                        </a:lnTo>
                        <a:lnTo>
                          <a:pt x="1" y="496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0" name=""/>
                  <p:cNvSpPr/>
                  <p:nvPr/>
                </p:nvSpPr>
                <p:spPr>
                  <a:xfrm rot="10800000">
                    <a:off x="17588880" y="18257760"/>
                    <a:ext cx="828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202" h="98">
                        <a:moveTo>
                          <a:pt x="0" y="94"/>
                        </a:moveTo>
                        <a:lnTo>
                          <a:pt x="124" y="98"/>
                        </a:lnTo>
                        <a:lnTo>
                          <a:pt x="201" y="0"/>
                        </a:lnTo>
                        <a:lnTo>
                          <a:pt x="202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1" name=""/>
                  <p:cNvSpPr/>
                  <p:nvPr/>
                </p:nvSpPr>
                <p:spPr>
                  <a:xfrm rot="10800000">
                    <a:off x="17597160" y="18259200"/>
                    <a:ext cx="360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021" h="297">
                        <a:moveTo>
                          <a:pt x="1021" y="297"/>
                        </a:moveTo>
                        <a:lnTo>
                          <a:pt x="525" y="97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52" name=""/>
                <p:cNvSpPr/>
                <p:nvPr/>
              </p:nvSpPr>
              <p:spPr>
                <a:xfrm>
                  <a:off x="17488080" y="17778600"/>
                  <a:ext cx="576000" cy="287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53" name=""/>
                <p:cNvGrpSpPr/>
                <p:nvPr/>
              </p:nvGrpSpPr>
              <p:grpSpPr>
                <a:xfrm>
                  <a:off x="17162280" y="17421120"/>
                  <a:ext cx="461520" cy="355680"/>
                  <a:chOff x="17162280" y="17421120"/>
                  <a:chExt cx="461520" cy="355680"/>
                </a:xfrm>
              </p:grpSpPr>
              <p:grpSp>
                <p:nvGrpSpPr>
                  <p:cNvPr id="1854" name=""/>
                  <p:cNvGrpSpPr/>
                  <p:nvPr/>
                </p:nvGrpSpPr>
                <p:grpSpPr>
                  <a:xfrm>
                    <a:off x="17462520" y="17514000"/>
                    <a:ext cx="161280" cy="161640"/>
                    <a:chOff x="17462520" y="17514000"/>
                    <a:chExt cx="161280" cy="161640"/>
                  </a:xfrm>
                </p:grpSpPr>
                <p:sp>
                  <p:nvSpPr>
                    <p:cNvPr id="1855" name=""/>
                    <p:cNvSpPr/>
                    <p:nvPr/>
                  </p:nvSpPr>
                  <p:spPr>
                    <a:xfrm flipV="1" rot="16200000">
                      <a:off x="17534520" y="17477280"/>
                      <a:ext cx="360" cy="9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733">
                          <a:moveTo>
                            <a:pt x="0" y="0"/>
                          </a:moveTo>
                          <a:lnTo>
                            <a:pt x="1" y="2733"/>
                          </a:lnTo>
                          <a:lnTo>
                            <a:pt x="2" y="2733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6" name=""/>
                    <p:cNvSpPr/>
                    <p:nvPr/>
                  </p:nvSpPr>
                  <p:spPr>
                    <a:xfrm flipV="1" rot="16200000">
                      <a:off x="17534520" y="17464320"/>
                      <a:ext cx="360" cy="9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733">
                          <a:moveTo>
                            <a:pt x="0" y="0"/>
                          </a:moveTo>
                          <a:lnTo>
                            <a:pt x="1" y="2733"/>
                          </a:lnTo>
                          <a:lnTo>
                            <a:pt x="2" y="2733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7" name=""/>
                    <p:cNvSpPr/>
                    <p:nvPr/>
                  </p:nvSpPr>
                  <p:spPr>
                    <a:xfrm flipV="1" rot="16200000">
                      <a:off x="17534160" y="17625240"/>
                      <a:ext cx="1080" cy="9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733">
                          <a:moveTo>
                            <a:pt x="0" y="0"/>
                          </a:moveTo>
                          <a:lnTo>
                            <a:pt x="1" y="2733"/>
                          </a:lnTo>
                          <a:lnTo>
                            <a:pt x="2" y="2733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8" name=""/>
                    <p:cNvSpPr/>
                    <p:nvPr/>
                  </p:nvSpPr>
                  <p:spPr>
                    <a:xfrm flipV="1" rot="16200000">
                      <a:off x="17534160" y="17613000"/>
                      <a:ext cx="1440" cy="9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733">
                          <a:moveTo>
                            <a:pt x="0" y="0"/>
                          </a:moveTo>
                          <a:lnTo>
                            <a:pt x="1" y="2733"/>
                          </a:lnTo>
                          <a:lnTo>
                            <a:pt x="2" y="2733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9" name=""/>
                    <p:cNvSpPr/>
                    <p:nvPr/>
                  </p:nvSpPr>
                  <p:spPr>
                    <a:xfrm flipV="1" rot="16200000">
                      <a:off x="17522280" y="17621280"/>
                      <a:ext cx="360" cy="6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1925">
                          <a:moveTo>
                            <a:pt x="0" y="0"/>
                          </a:moveTo>
                          <a:lnTo>
                            <a:pt x="18" y="1925"/>
                          </a:lnTo>
                          <a:lnTo>
                            <a:pt x="19" y="1925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960" bIns="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0" name=""/>
                    <p:cNvSpPr/>
                    <p:nvPr/>
                  </p:nvSpPr>
                  <p:spPr>
                    <a:xfrm flipV="1" rot="16200000">
                      <a:off x="17466840" y="17634600"/>
                      <a:ext cx="19800" cy="2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8" h="605">
                          <a:moveTo>
                            <a:pt x="0" y="0"/>
                          </a:moveTo>
                          <a:lnTo>
                            <a:pt x="184" y="396"/>
                          </a:lnTo>
                          <a:lnTo>
                            <a:pt x="567" y="605"/>
                          </a:lnTo>
                          <a:lnTo>
                            <a:pt x="568" y="605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1" name=""/>
                    <p:cNvSpPr/>
                    <p:nvPr/>
                  </p:nvSpPr>
                  <p:spPr>
                    <a:xfrm flipV="1" rot="16200000">
                      <a:off x="17423280" y="17593560"/>
                      <a:ext cx="81000" cy="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69" h="103">
                          <a:moveTo>
                            <a:pt x="0" y="2"/>
                          </a:moveTo>
                          <a:lnTo>
                            <a:pt x="1135" y="103"/>
                          </a:lnTo>
                          <a:lnTo>
                            <a:pt x="2268" y="0"/>
                          </a:lnTo>
                          <a:lnTo>
                            <a:pt x="2269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2" name=""/>
                    <p:cNvSpPr/>
                    <p:nvPr/>
                  </p:nvSpPr>
                  <p:spPr>
                    <a:xfrm flipV="1" rot="16200000">
                      <a:off x="17466840" y="17533080"/>
                      <a:ext cx="19800" cy="2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8" h="605">
                          <a:moveTo>
                            <a:pt x="0" y="605"/>
                          </a:moveTo>
                          <a:lnTo>
                            <a:pt x="382" y="396"/>
                          </a:lnTo>
                          <a:lnTo>
                            <a:pt x="567" y="0"/>
                          </a:lnTo>
                          <a:lnTo>
                            <a:pt x="568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3" name=""/>
                    <p:cNvSpPr/>
                    <p:nvPr/>
                  </p:nvSpPr>
                  <p:spPr>
                    <a:xfrm flipV="1" rot="16200000">
                      <a:off x="17522280" y="17499600"/>
                      <a:ext cx="360" cy="6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925">
                          <a:moveTo>
                            <a:pt x="0" y="1925"/>
                          </a:moveTo>
                          <a:lnTo>
                            <a:pt x="16" y="0"/>
                          </a:lnTo>
                          <a:lnTo>
                            <a:pt x="17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960" bIns="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4" name=""/>
                    <p:cNvSpPr/>
                    <p:nvPr/>
                  </p:nvSpPr>
                  <p:spPr>
                    <a:xfrm flipV="1" rot="16200000">
                      <a:off x="17558280" y="17532720"/>
                      <a:ext cx="2556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45" h="787">
                          <a:moveTo>
                            <a:pt x="745" y="787"/>
                          </a:moveTo>
                          <a:lnTo>
                            <a:pt x="623" y="420"/>
                          </a:lnTo>
                          <a:lnTo>
                            <a:pt x="358" y="140"/>
                          </a:ln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5" name=""/>
                    <p:cNvSpPr/>
                    <p:nvPr/>
                  </p:nvSpPr>
                  <p:spPr>
                    <a:xfrm flipV="1" rot="16200000">
                      <a:off x="17551800" y="17593920"/>
                      <a:ext cx="69840" cy="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47" h="77">
                          <a:moveTo>
                            <a:pt x="1947" y="76"/>
                          </a:moveTo>
                          <a:lnTo>
                            <a:pt x="974" y="0"/>
                          </a:lnTo>
                          <a:lnTo>
                            <a:pt x="0" y="77"/>
                          </a:lnTo>
                          <a:lnTo>
                            <a:pt x="1" y="77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6" name=""/>
                    <p:cNvSpPr/>
                    <p:nvPr/>
                  </p:nvSpPr>
                  <p:spPr>
                    <a:xfrm flipV="1" rot="16200000">
                      <a:off x="17558280" y="17628840"/>
                      <a:ext cx="2556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44" h="788">
                          <a:moveTo>
                            <a:pt x="744" y="0"/>
                          </a:moveTo>
                          <a:lnTo>
                            <a:pt x="386" y="141"/>
                          </a:lnTo>
                          <a:lnTo>
                            <a:pt x="121" y="421"/>
                          </a:lnTo>
                          <a:lnTo>
                            <a:pt x="0" y="788"/>
                          </a:lnTo>
                          <a:lnTo>
                            <a:pt x="1" y="788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7" name=""/>
                    <p:cNvSpPr/>
                    <p:nvPr/>
                  </p:nvSpPr>
                  <p:spPr>
                    <a:xfrm flipV="1" rot="16200000">
                      <a:off x="17478720" y="17520480"/>
                      <a:ext cx="1260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0" h="0">
                          <a:moveTo>
                            <a:pt x="0" y="0"/>
                          </a:moveTo>
                          <a:lnTo>
                            <a:pt x="349" y="0"/>
                          </a:lnTo>
                          <a:lnTo>
                            <a:pt x="350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8" name=""/>
                    <p:cNvSpPr/>
                    <p:nvPr/>
                  </p:nvSpPr>
                  <p:spPr>
                    <a:xfrm flipV="1" rot="16200000">
                      <a:off x="17478720" y="17668800"/>
                      <a:ext cx="1260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9" h="0">
                          <a:moveTo>
                            <a:pt x="349" y="0"/>
                          </a:move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9" name=""/>
                    <p:cNvSpPr/>
                    <p:nvPr/>
                  </p:nvSpPr>
                  <p:spPr>
                    <a:xfrm flipV="1" rot="16200000">
                      <a:off x="17577720" y="17520480"/>
                      <a:ext cx="1260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0" h="0">
                          <a:moveTo>
                            <a:pt x="0" y="0"/>
                          </a:moveTo>
                          <a:lnTo>
                            <a:pt x="349" y="0"/>
                          </a:lnTo>
                          <a:lnTo>
                            <a:pt x="350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0" name=""/>
                    <p:cNvSpPr/>
                    <p:nvPr/>
                  </p:nvSpPr>
                  <p:spPr>
                    <a:xfrm flipV="1" rot="16200000">
                      <a:off x="17580240" y="17595000"/>
                      <a:ext cx="2412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98" h="0">
                          <a:moveTo>
                            <a:pt x="698" y="0"/>
                          </a:move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1" name=""/>
                    <p:cNvSpPr/>
                    <p:nvPr/>
                  </p:nvSpPr>
                  <p:spPr>
                    <a:xfrm flipV="1" rot="16200000">
                      <a:off x="17589600" y="17580240"/>
                      <a:ext cx="1440" cy="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33">
                          <a:moveTo>
                            <a:pt x="0" y="133"/>
                          </a:move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2" name=""/>
                    <p:cNvSpPr/>
                    <p:nvPr/>
                  </p:nvSpPr>
                  <p:spPr>
                    <a:xfrm flipV="1" rot="16200000">
                      <a:off x="17590320" y="17605080"/>
                      <a:ext cx="360" cy="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34">
                          <a:moveTo>
                            <a:pt x="0" y="134"/>
                          </a:move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3" name=""/>
                    <p:cNvSpPr/>
                    <p:nvPr/>
                  </p:nvSpPr>
                  <p:spPr>
                    <a:xfrm flipV="1" rot="16200000">
                      <a:off x="17577720" y="17668800"/>
                      <a:ext cx="1260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9" h="0">
                          <a:moveTo>
                            <a:pt x="349" y="0"/>
                          </a:move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4" name=""/>
                    <p:cNvSpPr/>
                    <p:nvPr/>
                  </p:nvSpPr>
                  <p:spPr>
                    <a:xfrm flipV="1" rot="16200000">
                      <a:off x="17553240" y="17585280"/>
                      <a:ext cx="121320" cy="1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44" h="562">
                          <a:moveTo>
                            <a:pt x="3405" y="560"/>
                          </a:moveTo>
                          <a:lnTo>
                            <a:pt x="3444" y="429"/>
                          </a:lnTo>
                          <a:lnTo>
                            <a:pt x="3366" y="316"/>
                          </a:lnTo>
                          <a:lnTo>
                            <a:pt x="2559" y="78"/>
                          </a:lnTo>
                          <a:lnTo>
                            <a:pt x="1722" y="0"/>
                          </a:lnTo>
                          <a:lnTo>
                            <a:pt x="884" y="79"/>
                          </a:lnTo>
                          <a:lnTo>
                            <a:pt x="78" y="318"/>
                          </a:lnTo>
                          <a:lnTo>
                            <a:pt x="0" y="430"/>
                          </a:lnTo>
                          <a:lnTo>
                            <a:pt x="39" y="562"/>
                          </a:lnTo>
                          <a:lnTo>
                            <a:pt x="40" y="562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000" bIns="-27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5" name=""/>
                    <p:cNvSpPr/>
                    <p:nvPr/>
                  </p:nvSpPr>
                  <p:spPr>
                    <a:xfrm flipV="1" rot="16200000">
                      <a:off x="17543520" y="17580600"/>
                      <a:ext cx="11268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2" h="740">
                          <a:moveTo>
                            <a:pt x="3152" y="738"/>
                          </a:moveTo>
                          <a:lnTo>
                            <a:pt x="3126" y="512"/>
                          </a:lnTo>
                          <a:lnTo>
                            <a:pt x="2966" y="350"/>
                          </a:lnTo>
                          <a:lnTo>
                            <a:pt x="2290" y="101"/>
                          </a:lnTo>
                          <a:lnTo>
                            <a:pt x="1576" y="0"/>
                          </a:lnTo>
                          <a:lnTo>
                            <a:pt x="862" y="102"/>
                          </a:lnTo>
                          <a:lnTo>
                            <a:pt x="186" y="352"/>
                          </a:lnTo>
                          <a:lnTo>
                            <a:pt x="26" y="514"/>
                          </a:lnTo>
                          <a:lnTo>
                            <a:pt x="0" y="740"/>
                          </a:lnTo>
                          <a:lnTo>
                            <a:pt x="1" y="74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6" name=""/>
                    <p:cNvSpPr/>
                    <p:nvPr/>
                  </p:nvSpPr>
                  <p:spPr>
                    <a:xfrm flipV="1" rot="16200000">
                      <a:off x="17569800" y="17620560"/>
                      <a:ext cx="35280" cy="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23" h="298">
                          <a:moveTo>
                            <a:pt x="1023" y="0"/>
                          </a:moveTo>
                          <a:lnTo>
                            <a:pt x="496" y="98"/>
                          </a:lnTo>
                          <a:lnTo>
                            <a:pt x="0" y="298"/>
                          </a:lnTo>
                          <a:lnTo>
                            <a:pt x="2" y="298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7" name=""/>
                    <p:cNvSpPr/>
                    <p:nvPr/>
                  </p:nvSpPr>
                  <p:spPr>
                    <a:xfrm flipV="1" rot="16200000">
                      <a:off x="17579160" y="17645040"/>
                      <a:ext cx="8280" cy="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3" h="97">
                          <a:moveTo>
                            <a:pt x="0" y="0"/>
                          </a:moveTo>
                          <a:lnTo>
                            <a:pt x="78" y="97"/>
                          </a:lnTo>
                          <a:lnTo>
                            <a:pt x="201" y="93"/>
                          </a:lnTo>
                          <a:lnTo>
                            <a:pt x="203" y="93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8" name=""/>
                    <p:cNvSpPr/>
                    <p:nvPr/>
                  </p:nvSpPr>
                  <p:spPr>
                    <a:xfrm flipV="1" rot="16200000">
                      <a:off x="17591760" y="17645400"/>
                      <a:ext cx="4320" cy="16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496">
                          <a:moveTo>
                            <a:pt x="109" y="496"/>
                          </a:move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880" bIns="-29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9" name=""/>
                    <p:cNvSpPr/>
                    <p:nvPr/>
                  </p:nvSpPr>
                  <p:spPr>
                    <a:xfrm flipV="1" rot="16200000">
                      <a:off x="17604720" y="17651160"/>
                      <a:ext cx="2880" cy="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" h="160">
                          <a:moveTo>
                            <a:pt x="84" y="0"/>
                          </a:moveTo>
                          <a:lnTo>
                            <a:pt x="13" y="64"/>
                          </a:lnTo>
                          <a:lnTo>
                            <a:pt x="0" y="160"/>
                          </a:lnTo>
                          <a:lnTo>
                            <a:pt x="1" y="16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0" name=""/>
                    <p:cNvSpPr/>
                    <p:nvPr/>
                  </p:nvSpPr>
                  <p:spPr>
                    <a:xfrm flipV="1" rot="16200000">
                      <a:off x="17604720" y="17532360"/>
                      <a:ext cx="2880" cy="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" h="159">
                          <a:moveTo>
                            <a:pt x="84" y="159"/>
                          </a:moveTo>
                          <a:lnTo>
                            <a:pt x="71" y="64"/>
                          </a:ln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1" name=""/>
                    <p:cNvSpPr/>
                    <p:nvPr/>
                  </p:nvSpPr>
                  <p:spPr>
                    <a:xfrm flipV="1" rot="16200000">
                      <a:off x="17592120" y="17528040"/>
                      <a:ext cx="3960" cy="16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496">
                          <a:moveTo>
                            <a:pt x="109" y="0"/>
                          </a:moveTo>
                          <a:lnTo>
                            <a:pt x="0" y="496"/>
                          </a:lnTo>
                          <a:lnTo>
                            <a:pt x="1" y="496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880" bIns="-29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2" name=""/>
                    <p:cNvSpPr/>
                    <p:nvPr/>
                  </p:nvSpPr>
                  <p:spPr>
                    <a:xfrm flipV="1" rot="16200000">
                      <a:off x="17579160" y="17540640"/>
                      <a:ext cx="8280" cy="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2" h="98">
                          <a:moveTo>
                            <a:pt x="0" y="94"/>
                          </a:moveTo>
                          <a:lnTo>
                            <a:pt x="124" y="98"/>
                          </a:lnTo>
                          <a:lnTo>
                            <a:pt x="201" y="0"/>
                          </a:lnTo>
                          <a:lnTo>
                            <a:pt x="202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3" name=""/>
                    <p:cNvSpPr/>
                    <p:nvPr/>
                  </p:nvSpPr>
                  <p:spPr>
                    <a:xfrm flipV="1" rot="16200000">
                      <a:off x="17569800" y="17560080"/>
                      <a:ext cx="35640" cy="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21" h="297">
                          <a:moveTo>
                            <a:pt x="1021" y="297"/>
                          </a:moveTo>
                          <a:lnTo>
                            <a:pt x="525" y="97"/>
                          </a:ln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884" name=""/>
                  <p:cNvSpPr/>
                  <p:nvPr/>
                </p:nvSpPr>
                <p:spPr>
                  <a:xfrm flipV="1" rot="16200000">
                    <a:off x="17329320" y="17564040"/>
                    <a:ext cx="218520" cy="7020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885" name=""/>
                  <p:cNvGrpSpPr/>
                  <p:nvPr/>
                </p:nvGrpSpPr>
                <p:grpSpPr>
                  <a:xfrm>
                    <a:off x="17413560" y="17538840"/>
                    <a:ext cx="48600" cy="131400"/>
                    <a:chOff x="17413560" y="17538840"/>
                    <a:chExt cx="48600" cy="131400"/>
                  </a:xfrm>
                </p:grpSpPr>
                <p:sp>
                  <p:nvSpPr>
                    <p:cNvPr id="1886" name=""/>
                    <p:cNvSpPr/>
                    <p:nvPr/>
                  </p:nvSpPr>
                  <p:spPr>
                    <a:xfrm flipV="1" rot="16200000">
                      <a:off x="17372160" y="17579880"/>
                      <a:ext cx="131400" cy="486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800" bIns="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7" name=""/>
                    <p:cNvSpPr/>
                    <p:nvPr/>
                  </p:nvSpPr>
                  <p:spPr>
                    <a:xfrm flipV="1" rot="16200000">
                      <a:off x="17429400" y="17640720"/>
                      <a:ext cx="15840" cy="324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400" bIns="-144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8" name=""/>
                    <p:cNvSpPr/>
                    <p:nvPr/>
                  </p:nvSpPr>
                  <p:spPr>
                    <a:xfrm flipV="1" rot="16200000">
                      <a:off x="17388720" y="17577000"/>
                      <a:ext cx="97200" cy="324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400" bIns="-144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889" name=""/>
                  <p:cNvSpPr/>
                  <p:nvPr/>
                </p:nvSpPr>
                <p:spPr>
                  <a:xfrm flipV="1" rot="16200000">
                    <a:off x="17105760" y="17477280"/>
                    <a:ext cx="355680" cy="24300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0" name=""/>
                  <p:cNvSpPr/>
                  <p:nvPr/>
                </p:nvSpPr>
                <p:spPr>
                  <a:xfrm flipV="1" rot="14448600">
                    <a:off x="17344440" y="17701200"/>
                    <a:ext cx="22320" cy="32400"/>
                  </a:xfrm>
                  <a:prstGeom prst="ellipse">
                    <a:avLst/>
                  </a:prstGeom>
                  <a:noFill/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760" bIns="-23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1" name=""/>
                  <p:cNvSpPr/>
                  <p:nvPr/>
                </p:nvSpPr>
                <p:spPr>
                  <a:xfrm flipV="1" rot="16200000">
                    <a:off x="17319240" y="17688240"/>
                    <a:ext cx="66960" cy="67320"/>
                  </a:xfrm>
                  <a:prstGeom prst="rect">
                    <a:avLst/>
                  </a:prstGeom>
                  <a:noFill/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520" bIns="20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892" name=""/>
                  <p:cNvGrpSpPr/>
                  <p:nvPr/>
                </p:nvGrpSpPr>
                <p:grpSpPr>
                  <a:xfrm>
                    <a:off x="17237160" y="17520480"/>
                    <a:ext cx="145440" cy="132480"/>
                    <a:chOff x="17237160" y="17520480"/>
                    <a:chExt cx="145440" cy="132480"/>
                  </a:xfrm>
                </p:grpSpPr>
                <p:sp>
                  <p:nvSpPr>
                    <p:cNvPr id="1893" name=""/>
                    <p:cNvSpPr/>
                    <p:nvPr/>
                  </p:nvSpPr>
                  <p:spPr>
                    <a:xfrm flipV="1" rot="16200000">
                      <a:off x="17243640" y="17514000"/>
                      <a:ext cx="132480" cy="1454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894" name=""/>
                    <p:cNvGrpSpPr/>
                    <p:nvPr/>
                  </p:nvGrpSpPr>
                  <p:grpSpPr>
                    <a:xfrm>
                      <a:off x="17246520" y="17529480"/>
                      <a:ext cx="116280" cy="116640"/>
                      <a:chOff x="17246520" y="17529480"/>
                      <a:chExt cx="116280" cy="116640"/>
                    </a:xfrm>
                  </p:grpSpPr>
                  <p:sp>
                    <p:nvSpPr>
                      <p:cNvPr id="1895" name=""/>
                      <p:cNvSpPr/>
                      <p:nvPr/>
                    </p:nvSpPr>
                    <p:spPr>
                      <a:xfrm flipV="1" rot="16200000">
                        <a:off x="17263440" y="17613000"/>
                        <a:ext cx="252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" h="35">
                            <a:moveTo>
                              <a:pt x="0" y="35"/>
                            </a:moveTo>
                            <a:lnTo>
                              <a:pt x="5" y="29"/>
                            </a:lnTo>
                            <a:lnTo>
                              <a:pt x="11" y="23"/>
                            </a:lnTo>
                            <a:lnTo>
                              <a:pt x="17" y="17"/>
                            </a:lnTo>
                            <a:lnTo>
                              <a:pt x="22" y="12"/>
                            </a:lnTo>
                            <a:lnTo>
                              <a:pt x="26" y="8"/>
                            </a:lnTo>
                            <a:lnTo>
                              <a:pt x="30" y="5"/>
                            </a:lnTo>
                            <a:lnTo>
                              <a:pt x="32" y="2"/>
                            </a:lnTo>
                            <a:lnTo>
                              <a:pt x="34" y="1"/>
                            </a:lnTo>
                            <a:lnTo>
                              <a:pt x="34" y="0"/>
                            </a:lnTo>
                            <a:lnTo>
                              <a:pt x="35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6633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96" name=""/>
                      <p:cNvSpPr/>
                      <p:nvPr/>
                    </p:nvSpPr>
                    <p:spPr>
                      <a:xfrm flipV="1" rot="16200000">
                        <a:off x="17263440" y="17613000"/>
                        <a:ext cx="252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" h="35">
                            <a:moveTo>
                              <a:pt x="0" y="35"/>
                            </a:moveTo>
                            <a:lnTo>
                              <a:pt x="5" y="29"/>
                            </a:lnTo>
                            <a:lnTo>
                              <a:pt x="11" y="23"/>
                            </a:lnTo>
                            <a:lnTo>
                              <a:pt x="17" y="17"/>
                            </a:lnTo>
                            <a:lnTo>
                              <a:pt x="22" y="12"/>
                            </a:lnTo>
                            <a:lnTo>
                              <a:pt x="26" y="8"/>
                            </a:lnTo>
                            <a:lnTo>
                              <a:pt x="30" y="5"/>
                            </a:lnTo>
                            <a:lnTo>
                              <a:pt x="32" y="2"/>
                            </a:lnTo>
                            <a:lnTo>
                              <a:pt x="34" y="1"/>
                            </a:lnTo>
                            <a:lnTo>
                              <a:pt x="34" y="0"/>
                            </a:lnTo>
                            <a:lnTo>
                              <a:pt x="35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6633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97" name=""/>
                      <p:cNvSpPr/>
                      <p:nvPr/>
                    </p:nvSpPr>
                    <p:spPr>
                      <a:xfrm flipV="1" rot="16200000">
                        <a:off x="17279640" y="17562960"/>
                        <a:ext cx="116640" cy="49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520" bIns="2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98" name=""/>
                      <p:cNvSpPr/>
                      <p:nvPr/>
                    </p:nvSpPr>
                    <p:spPr>
                      <a:xfrm flipV="1" rot="16200000">
                        <a:off x="17228880" y="17554320"/>
                        <a:ext cx="100440" cy="65160"/>
                      </a:xfrm>
                      <a:custGeom>
                        <a:avLst/>
                        <a:gdLst>
                          <a:gd name="textAreaLeft" fmla="*/ 21960 w 100440"/>
                          <a:gd name="textAreaRight" fmla="*/ 78480 w 100440"/>
                          <a:gd name="textAreaTop" fmla="*/ 14400 h 65160"/>
                          <a:gd name="textAreaBottom" fmla="*/ 50760 h 6516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21600" y="0"/>
                            </a:lnTo>
                            <a:lnTo>
                              <a:pt x="16200" y="21600"/>
                            </a:lnTo>
                            <a:lnTo>
                              <a:pt x="5400" y="2160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0440" bIns="-10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899" name=""/>
                <p:cNvGrpSpPr/>
                <p:nvPr/>
              </p:nvGrpSpPr>
              <p:grpSpPr>
                <a:xfrm>
                  <a:off x="17901720" y="18138960"/>
                  <a:ext cx="162000" cy="161280"/>
                  <a:chOff x="17901720" y="18138960"/>
                  <a:chExt cx="162000" cy="161280"/>
                </a:xfrm>
              </p:grpSpPr>
              <p:sp>
                <p:nvSpPr>
                  <p:cNvPr id="1900" name=""/>
                  <p:cNvSpPr/>
                  <p:nvPr/>
                </p:nvSpPr>
                <p:spPr>
                  <a:xfrm rot="10800000">
                    <a:off x="17914680" y="18162000"/>
                    <a:ext cx="36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1" name=""/>
                  <p:cNvSpPr/>
                  <p:nvPr/>
                </p:nvSpPr>
                <p:spPr>
                  <a:xfrm rot="10800000">
                    <a:off x="17901720" y="18162000"/>
                    <a:ext cx="36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2" name=""/>
                  <p:cNvSpPr/>
                  <p:nvPr/>
                </p:nvSpPr>
                <p:spPr>
                  <a:xfrm rot="10800000">
                    <a:off x="18062640" y="18162000"/>
                    <a:ext cx="108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3" name=""/>
                  <p:cNvSpPr/>
                  <p:nvPr/>
                </p:nvSpPr>
                <p:spPr>
                  <a:xfrm rot="10800000">
                    <a:off x="18049680" y="18162000"/>
                    <a:ext cx="144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4" name=""/>
                  <p:cNvSpPr/>
                  <p:nvPr/>
                </p:nvSpPr>
                <p:spPr>
                  <a:xfrm rot="10800000">
                    <a:off x="18043560" y="18164520"/>
                    <a:ext cx="36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925">
                        <a:moveTo>
                          <a:pt x="0" y="0"/>
                        </a:moveTo>
                        <a:lnTo>
                          <a:pt x="18" y="1925"/>
                        </a:lnTo>
                        <a:lnTo>
                          <a:pt x="19" y="1925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5" name=""/>
                  <p:cNvSpPr/>
                  <p:nvPr/>
                </p:nvSpPr>
                <p:spPr>
                  <a:xfrm rot="10800000">
                    <a:off x="18024120" y="18141840"/>
                    <a:ext cx="1980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8" h="605">
                        <a:moveTo>
                          <a:pt x="0" y="0"/>
                        </a:moveTo>
                        <a:lnTo>
                          <a:pt x="184" y="396"/>
                        </a:lnTo>
                        <a:lnTo>
                          <a:pt x="567" y="605"/>
                        </a:lnTo>
                        <a:lnTo>
                          <a:pt x="568" y="605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6" name=""/>
                  <p:cNvSpPr/>
                  <p:nvPr/>
                </p:nvSpPr>
                <p:spPr>
                  <a:xfrm rot="10800000">
                    <a:off x="17942760" y="18138960"/>
                    <a:ext cx="8136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269" h="103">
                        <a:moveTo>
                          <a:pt x="0" y="2"/>
                        </a:moveTo>
                        <a:lnTo>
                          <a:pt x="1135" y="103"/>
                        </a:lnTo>
                        <a:lnTo>
                          <a:pt x="2268" y="0"/>
                        </a:lnTo>
                        <a:lnTo>
                          <a:pt x="2269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7" name=""/>
                  <p:cNvSpPr/>
                  <p:nvPr/>
                </p:nvSpPr>
                <p:spPr>
                  <a:xfrm rot="10800000">
                    <a:off x="17922600" y="18141840"/>
                    <a:ext cx="1980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8" h="605">
                        <a:moveTo>
                          <a:pt x="0" y="605"/>
                        </a:moveTo>
                        <a:lnTo>
                          <a:pt x="382" y="396"/>
                        </a:lnTo>
                        <a:lnTo>
                          <a:pt x="567" y="0"/>
                        </a:lnTo>
                        <a:lnTo>
                          <a:pt x="568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8" name=""/>
                  <p:cNvSpPr/>
                  <p:nvPr/>
                </p:nvSpPr>
                <p:spPr>
                  <a:xfrm rot="10800000">
                    <a:off x="17921880" y="18164520"/>
                    <a:ext cx="36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925">
                        <a:moveTo>
                          <a:pt x="0" y="1925"/>
                        </a:moveTo>
                        <a:lnTo>
                          <a:pt x="16" y="0"/>
                        </a:lnTo>
                        <a:lnTo>
                          <a:pt x="17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9" name=""/>
                  <p:cNvSpPr/>
                  <p:nvPr/>
                </p:nvSpPr>
                <p:spPr>
                  <a:xfrm rot="10800000">
                    <a:off x="17922600" y="18233280"/>
                    <a:ext cx="2556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745" h="787">
                        <a:moveTo>
                          <a:pt x="745" y="787"/>
                        </a:moveTo>
                        <a:lnTo>
                          <a:pt x="623" y="420"/>
                        </a:lnTo>
                        <a:lnTo>
                          <a:pt x="358" y="14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0" name=""/>
                  <p:cNvSpPr/>
                  <p:nvPr/>
                </p:nvSpPr>
                <p:spPr>
                  <a:xfrm rot="10800000">
                    <a:off x="17948160" y="18261720"/>
                    <a:ext cx="6984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1947" h="77">
                        <a:moveTo>
                          <a:pt x="1947" y="76"/>
                        </a:moveTo>
                        <a:lnTo>
                          <a:pt x="974" y="0"/>
                        </a:lnTo>
                        <a:lnTo>
                          <a:pt x="0" y="77"/>
                        </a:lnTo>
                        <a:lnTo>
                          <a:pt x="1" y="77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1" name=""/>
                  <p:cNvSpPr/>
                  <p:nvPr/>
                </p:nvSpPr>
                <p:spPr>
                  <a:xfrm rot="10800000">
                    <a:off x="18018000" y="18233280"/>
                    <a:ext cx="2592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744" h="788">
                        <a:moveTo>
                          <a:pt x="744" y="0"/>
                        </a:moveTo>
                        <a:lnTo>
                          <a:pt x="386" y="141"/>
                        </a:lnTo>
                        <a:lnTo>
                          <a:pt x="121" y="421"/>
                        </a:lnTo>
                        <a:lnTo>
                          <a:pt x="0" y="788"/>
                        </a:lnTo>
                        <a:lnTo>
                          <a:pt x="1" y="788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2" name=""/>
                  <p:cNvSpPr/>
                  <p:nvPr/>
                </p:nvSpPr>
                <p:spPr>
                  <a:xfrm rot="10800000">
                    <a:off x="17902080" y="18161280"/>
                    <a:ext cx="129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50" h="0">
                        <a:moveTo>
                          <a:pt x="0" y="0"/>
                        </a:moveTo>
                        <a:lnTo>
                          <a:pt x="349" y="0"/>
                        </a:lnTo>
                        <a:lnTo>
                          <a:pt x="350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3" name=""/>
                  <p:cNvSpPr/>
                  <p:nvPr/>
                </p:nvSpPr>
                <p:spPr>
                  <a:xfrm rot="10800000">
                    <a:off x="18051120" y="18161280"/>
                    <a:ext cx="1260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49" h="0">
                        <a:moveTo>
                          <a:pt x="349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4" name=""/>
                  <p:cNvSpPr/>
                  <p:nvPr/>
                </p:nvSpPr>
                <p:spPr>
                  <a:xfrm rot="10800000">
                    <a:off x="17902080" y="18260280"/>
                    <a:ext cx="129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50" h="0">
                        <a:moveTo>
                          <a:pt x="0" y="0"/>
                        </a:moveTo>
                        <a:lnTo>
                          <a:pt x="349" y="0"/>
                        </a:lnTo>
                        <a:lnTo>
                          <a:pt x="350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5" name=""/>
                  <p:cNvSpPr/>
                  <p:nvPr/>
                </p:nvSpPr>
                <p:spPr>
                  <a:xfrm rot="10800000">
                    <a:off x="17971200" y="18268560"/>
                    <a:ext cx="2412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8" h="0">
                        <a:moveTo>
                          <a:pt x="698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6" name=""/>
                  <p:cNvSpPr/>
                  <p:nvPr/>
                </p:nvSpPr>
                <p:spPr>
                  <a:xfrm rot="10800000">
                    <a:off x="17969760" y="18264960"/>
                    <a:ext cx="144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33">
                        <a:moveTo>
                          <a:pt x="0" y="133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7" name=""/>
                  <p:cNvSpPr/>
                  <p:nvPr/>
                </p:nvSpPr>
                <p:spPr>
                  <a:xfrm rot="10800000">
                    <a:off x="17994960" y="18264960"/>
                    <a:ext cx="36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34">
                        <a:moveTo>
                          <a:pt x="0" y="134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8" name=""/>
                  <p:cNvSpPr/>
                  <p:nvPr/>
                </p:nvSpPr>
                <p:spPr>
                  <a:xfrm rot="10800000">
                    <a:off x="18051120" y="18260280"/>
                    <a:ext cx="1260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49" h="0">
                        <a:moveTo>
                          <a:pt x="349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9" name=""/>
                  <p:cNvSpPr/>
                  <p:nvPr/>
                </p:nvSpPr>
                <p:spPr>
                  <a:xfrm rot="10800000">
                    <a:off x="17922240" y="18280440"/>
                    <a:ext cx="12168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3444" h="562">
                        <a:moveTo>
                          <a:pt x="3405" y="560"/>
                        </a:moveTo>
                        <a:lnTo>
                          <a:pt x="3444" y="429"/>
                        </a:lnTo>
                        <a:lnTo>
                          <a:pt x="3366" y="316"/>
                        </a:lnTo>
                        <a:lnTo>
                          <a:pt x="2559" y="78"/>
                        </a:lnTo>
                        <a:lnTo>
                          <a:pt x="1722" y="0"/>
                        </a:lnTo>
                        <a:lnTo>
                          <a:pt x="884" y="79"/>
                        </a:lnTo>
                        <a:lnTo>
                          <a:pt x="78" y="318"/>
                        </a:lnTo>
                        <a:lnTo>
                          <a:pt x="0" y="430"/>
                        </a:lnTo>
                        <a:lnTo>
                          <a:pt x="39" y="562"/>
                        </a:lnTo>
                        <a:lnTo>
                          <a:pt x="40" y="562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0" name=""/>
                  <p:cNvSpPr/>
                  <p:nvPr/>
                </p:nvSpPr>
                <p:spPr>
                  <a:xfrm rot="10800000">
                    <a:off x="17926920" y="18262080"/>
                    <a:ext cx="11268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52" h="740">
                        <a:moveTo>
                          <a:pt x="3152" y="738"/>
                        </a:moveTo>
                        <a:lnTo>
                          <a:pt x="3126" y="512"/>
                        </a:lnTo>
                        <a:lnTo>
                          <a:pt x="2966" y="350"/>
                        </a:lnTo>
                        <a:lnTo>
                          <a:pt x="2290" y="101"/>
                        </a:lnTo>
                        <a:lnTo>
                          <a:pt x="1576" y="0"/>
                        </a:lnTo>
                        <a:lnTo>
                          <a:pt x="862" y="102"/>
                        </a:lnTo>
                        <a:lnTo>
                          <a:pt x="186" y="352"/>
                        </a:lnTo>
                        <a:lnTo>
                          <a:pt x="26" y="514"/>
                        </a:lnTo>
                        <a:lnTo>
                          <a:pt x="0" y="740"/>
                        </a:lnTo>
                        <a:lnTo>
                          <a:pt x="1" y="74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1" name=""/>
                  <p:cNvSpPr/>
                  <p:nvPr/>
                </p:nvSpPr>
                <p:spPr>
                  <a:xfrm rot="10800000">
                    <a:off x="17995320" y="18259200"/>
                    <a:ext cx="3564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023" h="298">
                        <a:moveTo>
                          <a:pt x="1023" y="0"/>
                        </a:moveTo>
                        <a:lnTo>
                          <a:pt x="496" y="98"/>
                        </a:lnTo>
                        <a:lnTo>
                          <a:pt x="0" y="298"/>
                        </a:lnTo>
                        <a:lnTo>
                          <a:pt x="2" y="298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2" name=""/>
                  <p:cNvSpPr/>
                  <p:nvPr/>
                </p:nvSpPr>
                <p:spPr>
                  <a:xfrm rot="10800000">
                    <a:off x="18031320" y="18257760"/>
                    <a:ext cx="828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203" h="97">
                        <a:moveTo>
                          <a:pt x="0" y="0"/>
                        </a:moveTo>
                        <a:lnTo>
                          <a:pt x="78" y="97"/>
                        </a:lnTo>
                        <a:lnTo>
                          <a:pt x="201" y="93"/>
                        </a:lnTo>
                        <a:lnTo>
                          <a:pt x="203" y="9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3" name=""/>
                  <p:cNvSpPr/>
                  <p:nvPr/>
                </p:nvSpPr>
                <p:spPr>
                  <a:xfrm rot="10800000">
                    <a:off x="18039600" y="18262080"/>
                    <a:ext cx="432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496">
                        <a:moveTo>
                          <a:pt x="109" y="496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4" name=""/>
                  <p:cNvSpPr/>
                  <p:nvPr/>
                </p:nvSpPr>
                <p:spPr>
                  <a:xfrm rot="10800000">
                    <a:off x="18041040" y="18279360"/>
                    <a:ext cx="288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160">
                        <a:moveTo>
                          <a:pt x="84" y="0"/>
                        </a:moveTo>
                        <a:lnTo>
                          <a:pt x="13" y="64"/>
                        </a:lnTo>
                        <a:lnTo>
                          <a:pt x="0" y="160"/>
                        </a:lnTo>
                        <a:lnTo>
                          <a:pt x="1" y="16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5" name=""/>
                  <p:cNvSpPr/>
                  <p:nvPr/>
                </p:nvSpPr>
                <p:spPr>
                  <a:xfrm rot="10800000">
                    <a:off x="17922240" y="18279360"/>
                    <a:ext cx="288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159">
                        <a:moveTo>
                          <a:pt x="84" y="159"/>
                        </a:moveTo>
                        <a:lnTo>
                          <a:pt x="71" y="64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6" name=""/>
                  <p:cNvSpPr/>
                  <p:nvPr/>
                </p:nvSpPr>
                <p:spPr>
                  <a:xfrm rot="10800000">
                    <a:off x="17922600" y="18262080"/>
                    <a:ext cx="396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496">
                        <a:moveTo>
                          <a:pt x="109" y="0"/>
                        </a:moveTo>
                        <a:lnTo>
                          <a:pt x="0" y="496"/>
                        </a:lnTo>
                        <a:lnTo>
                          <a:pt x="1" y="496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7" name=""/>
                  <p:cNvSpPr/>
                  <p:nvPr/>
                </p:nvSpPr>
                <p:spPr>
                  <a:xfrm rot="10800000">
                    <a:off x="17926560" y="18257760"/>
                    <a:ext cx="828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202" h="98">
                        <a:moveTo>
                          <a:pt x="0" y="94"/>
                        </a:moveTo>
                        <a:lnTo>
                          <a:pt x="124" y="98"/>
                        </a:lnTo>
                        <a:lnTo>
                          <a:pt x="201" y="0"/>
                        </a:lnTo>
                        <a:lnTo>
                          <a:pt x="202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8" name=""/>
                  <p:cNvSpPr/>
                  <p:nvPr/>
                </p:nvSpPr>
                <p:spPr>
                  <a:xfrm rot="10800000">
                    <a:off x="17935200" y="18259200"/>
                    <a:ext cx="360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021" h="297">
                        <a:moveTo>
                          <a:pt x="1021" y="297"/>
                        </a:moveTo>
                        <a:lnTo>
                          <a:pt x="525" y="97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29" name=""/>
                <p:cNvSpPr/>
                <p:nvPr/>
              </p:nvSpPr>
              <p:spPr>
                <a:xfrm>
                  <a:off x="17488080" y="17778600"/>
                  <a:ext cx="576000" cy="287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0" name=""/>
              <p:cNvGrpSpPr/>
              <p:nvPr/>
            </p:nvGrpSpPr>
            <p:grpSpPr>
              <a:xfrm>
                <a:off x="17165160" y="18650160"/>
                <a:ext cx="885960" cy="641520"/>
                <a:chOff x="17165160" y="18650160"/>
                <a:chExt cx="885960" cy="641520"/>
              </a:xfrm>
            </p:grpSpPr>
            <p:grpSp>
              <p:nvGrpSpPr>
                <p:cNvPr id="1931" name=""/>
                <p:cNvGrpSpPr/>
                <p:nvPr/>
              </p:nvGrpSpPr>
              <p:grpSpPr>
                <a:xfrm>
                  <a:off x="17887680" y="18929880"/>
                  <a:ext cx="163440" cy="162360"/>
                  <a:chOff x="17887680" y="18929880"/>
                  <a:chExt cx="163440" cy="162360"/>
                </a:xfrm>
              </p:grpSpPr>
              <p:sp>
                <p:nvSpPr>
                  <p:cNvPr id="1932" name=""/>
                  <p:cNvSpPr/>
                  <p:nvPr/>
                </p:nvSpPr>
                <p:spPr>
                  <a:xfrm flipH="1" rot="5400000">
                    <a:off x="17961120" y="18892440"/>
                    <a:ext cx="36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3" name=""/>
                  <p:cNvSpPr/>
                  <p:nvPr/>
                </p:nvSpPr>
                <p:spPr>
                  <a:xfrm flipH="1" rot="5400000">
                    <a:off x="17961120" y="18879840"/>
                    <a:ext cx="36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4" name=""/>
                  <p:cNvSpPr/>
                  <p:nvPr/>
                </p:nvSpPr>
                <p:spPr>
                  <a:xfrm flipH="1" rot="5400000">
                    <a:off x="17960400" y="19041120"/>
                    <a:ext cx="180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5" name=""/>
                  <p:cNvSpPr/>
                  <p:nvPr/>
                </p:nvSpPr>
                <p:spPr>
                  <a:xfrm flipH="1" rot="5400000">
                    <a:off x="17960760" y="19027800"/>
                    <a:ext cx="144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6" name=""/>
                  <p:cNvSpPr/>
                  <p:nvPr/>
                </p:nvSpPr>
                <p:spPr>
                  <a:xfrm flipH="1" rot="5400000">
                    <a:off x="17947440" y="19036080"/>
                    <a:ext cx="36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925">
                        <a:moveTo>
                          <a:pt x="0" y="0"/>
                        </a:moveTo>
                        <a:lnTo>
                          <a:pt x="18" y="1925"/>
                        </a:lnTo>
                        <a:lnTo>
                          <a:pt x="19" y="1925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7" name=""/>
                  <p:cNvSpPr/>
                  <p:nvPr/>
                </p:nvSpPr>
                <p:spPr>
                  <a:xfrm flipH="1" rot="5400000">
                    <a:off x="17892000" y="19050840"/>
                    <a:ext cx="190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568" h="605">
                        <a:moveTo>
                          <a:pt x="0" y="0"/>
                        </a:moveTo>
                        <a:lnTo>
                          <a:pt x="184" y="396"/>
                        </a:lnTo>
                        <a:lnTo>
                          <a:pt x="567" y="605"/>
                        </a:lnTo>
                        <a:lnTo>
                          <a:pt x="568" y="605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8" name=""/>
                  <p:cNvSpPr/>
                  <p:nvPr/>
                </p:nvSpPr>
                <p:spPr>
                  <a:xfrm flipH="1" rot="5400000">
                    <a:off x="17847720" y="19009440"/>
                    <a:ext cx="824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269" h="103">
                        <a:moveTo>
                          <a:pt x="0" y="2"/>
                        </a:moveTo>
                        <a:lnTo>
                          <a:pt x="1135" y="103"/>
                        </a:lnTo>
                        <a:lnTo>
                          <a:pt x="2268" y="0"/>
                        </a:lnTo>
                        <a:lnTo>
                          <a:pt x="2269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9" name=""/>
                  <p:cNvSpPr/>
                  <p:nvPr/>
                </p:nvSpPr>
                <p:spPr>
                  <a:xfrm flipH="1" rot="5400000">
                    <a:off x="17892000" y="18949320"/>
                    <a:ext cx="190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568" h="605">
                        <a:moveTo>
                          <a:pt x="0" y="605"/>
                        </a:moveTo>
                        <a:lnTo>
                          <a:pt x="382" y="396"/>
                        </a:lnTo>
                        <a:lnTo>
                          <a:pt x="567" y="0"/>
                        </a:lnTo>
                        <a:lnTo>
                          <a:pt x="568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0" name=""/>
                  <p:cNvSpPr/>
                  <p:nvPr/>
                </p:nvSpPr>
                <p:spPr>
                  <a:xfrm flipH="1" rot="5400000">
                    <a:off x="17947440" y="18915480"/>
                    <a:ext cx="36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925">
                        <a:moveTo>
                          <a:pt x="0" y="1925"/>
                        </a:moveTo>
                        <a:lnTo>
                          <a:pt x="16" y="0"/>
                        </a:lnTo>
                        <a:lnTo>
                          <a:pt x="17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1" name=""/>
                  <p:cNvSpPr/>
                  <p:nvPr/>
                </p:nvSpPr>
                <p:spPr>
                  <a:xfrm flipH="1" rot="5400000">
                    <a:off x="17984160" y="18948960"/>
                    <a:ext cx="2556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745" h="787">
                        <a:moveTo>
                          <a:pt x="745" y="787"/>
                        </a:moveTo>
                        <a:lnTo>
                          <a:pt x="623" y="420"/>
                        </a:lnTo>
                        <a:lnTo>
                          <a:pt x="358" y="14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2" name=""/>
                  <p:cNvSpPr/>
                  <p:nvPr/>
                </p:nvSpPr>
                <p:spPr>
                  <a:xfrm flipH="1" rot="5400000">
                    <a:off x="17978760" y="19009800"/>
                    <a:ext cx="698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947" h="77">
                        <a:moveTo>
                          <a:pt x="1947" y="76"/>
                        </a:moveTo>
                        <a:lnTo>
                          <a:pt x="974" y="0"/>
                        </a:lnTo>
                        <a:lnTo>
                          <a:pt x="0" y="77"/>
                        </a:lnTo>
                        <a:lnTo>
                          <a:pt x="1" y="77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3" name=""/>
                  <p:cNvSpPr/>
                  <p:nvPr/>
                </p:nvSpPr>
                <p:spPr>
                  <a:xfrm flipH="1" rot="5400000">
                    <a:off x="17984520" y="19043640"/>
                    <a:ext cx="2520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744" h="788">
                        <a:moveTo>
                          <a:pt x="744" y="0"/>
                        </a:moveTo>
                        <a:lnTo>
                          <a:pt x="386" y="141"/>
                        </a:lnTo>
                        <a:lnTo>
                          <a:pt x="121" y="421"/>
                        </a:lnTo>
                        <a:lnTo>
                          <a:pt x="0" y="788"/>
                        </a:lnTo>
                        <a:lnTo>
                          <a:pt x="1" y="788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4" name=""/>
                  <p:cNvSpPr/>
                  <p:nvPr/>
                </p:nvSpPr>
                <p:spPr>
                  <a:xfrm flipH="1" rot="5400000">
                    <a:off x="17902800" y="18936360"/>
                    <a:ext cx="1260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50" h="0">
                        <a:moveTo>
                          <a:pt x="0" y="0"/>
                        </a:moveTo>
                        <a:lnTo>
                          <a:pt x="349" y="0"/>
                        </a:lnTo>
                        <a:lnTo>
                          <a:pt x="350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5" name=""/>
                  <p:cNvSpPr/>
                  <p:nvPr/>
                </p:nvSpPr>
                <p:spPr>
                  <a:xfrm flipH="1" rot="5400000">
                    <a:off x="17902440" y="19084680"/>
                    <a:ext cx="129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49" h="0">
                        <a:moveTo>
                          <a:pt x="349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6" name=""/>
                  <p:cNvSpPr/>
                  <p:nvPr/>
                </p:nvSpPr>
                <p:spPr>
                  <a:xfrm flipH="1" rot="5400000">
                    <a:off x="18002880" y="18936360"/>
                    <a:ext cx="1260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50" h="0">
                        <a:moveTo>
                          <a:pt x="0" y="0"/>
                        </a:moveTo>
                        <a:lnTo>
                          <a:pt x="349" y="0"/>
                        </a:lnTo>
                        <a:lnTo>
                          <a:pt x="350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7" name=""/>
                  <p:cNvSpPr/>
                  <p:nvPr/>
                </p:nvSpPr>
                <p:spPr>
                  <a:xfrm flipH="1" rot="5400000">
                    <a:off x="18004320" y="19010880"/>
                    <a:ext cx="255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8" h="0">
                        <a:moveTo>
                          <a:pt x="698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8" name=""/>
                  <p:cNvSpPr/>
                  <p:nvPr/>
                </p:nvSpPr>
                <p:spPr>
                  <a:xfrm flipH="1" rot="5400000">
                    <a:off x="18016200" y="18994320"/>
                    <a:ext cx="144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33">
                        <a:moveTo>
                          <a:pt x="0" y="133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9" name=""/>
                  <p:cNvSpPr/>
                  <p:nvPr/>
                </p:nvSpPr>
                <p:spPr>
                  <a:xfrm flipH="1" rot="5400000">
                    <a:off x="18016560" y="19020960"/>
                    <a:ext cx="36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34">
                        <a:moveTo>
                          <a:pt x="0" y="134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0" name=""/>
                  <p:cNvSpPr/>
                  <p:nvPr/>
                </p:nvSpPr>
                <p:spPr>
                  <a:xfrm flipH="1" rot="5400000">
                    <a:off x="18002520" y="19084680"/>
                    <a:ext cx="129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49" h="0">
                        <a:moveTo>
                          <a:pt x="349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1" name=""/>
                  <p:cNvSpPr/>
                  <p:nvPr/>
                </p:nvSpPr>
                <p:spPr>
                  <a:xfrm flipH="1" rot="5400000">
                    <a:off x="17980200" y="19000800"/>
                    <a:ext cx="12060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3444" h="562">
                        <a:moveTo>
                          <a:pt x="3405" y="560"/>
                        </a:moveTo>
                        <a:lnTo>
                          <a:pt x="3444" y="429"/>
                        </a:lnTo>
                        <a:lnTo>
                          <a:pt x="3366" y="316"/>
                        </a:lnTo>
                        <a:lnTo>
                          <a:pt x="2559" y="78"/>
                        </a:lnTo>
                        <a:lnTo>
                          <a:pt x="1722" y="0"/>
                        </a:lnTo>
                        <a:lnTo>
                          <a:pt x="884" y="79"/>
                        </a:lnTo>
                        <a:lnTo>
                          <a:pt x="78" y="318"/>
                        </a:lnTo>
                        <a:lnTo>
                          <a:pt x="0" y="430"/>
                        </a:lnTo>
                        <a:lnTo>
                          <a:pt x="39" y="562"/>
                        </a:lnTo>
                        <a:lnTo>
                          <a:pt x="40" y="562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2" name=""/>
                  <p:cNvSpPr/>
                  <p:nvPr/>
                </p:nvSpPr>
                <p:spPr>
                  <a:xfrm flipH="1" rot="5400000">
                    <a:off x="17968320" y="18996840"/>
                    <a:ext cx="11412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52" h="740">
                        <a:moveTo>
                          <a:pt x="3152" y="738"/>
                        </a:moveTo>
                        <a:lnTo>
                          <a:pt x="3126" y="512"/>
                        </a:lnTo>
                        <a:lnTo>
                          <a:pt x="2966" y="350"/>
                        </a:lnTo>
                        <a:lnTo>
                          <a:pt x="2290" y="101"/>
                        </a:lnTo>
                        <a:lnTo>
                          <a:pt x="1576" y="0"/>
                        </a:lnTo>
                        <a:lnTo>
                          <a:pt x="862" y="102"/>
                        </a:lnTo>
                        <a:lnTo>
                          <a:pt x="186" y="352"/>
                        </a:lnTo>
                        <a:lnTo>
                          <a:pt x="26" y="514"/>
                        </a:lnTo>
                        <a:lnTo>
                          <a:pt x="0" y="740"/>
                        </a:lnTo>
                        <a:lnTo>
                          <a:pt x="1" y="74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3" name=""/>
                  <p:cNvSpPr/>
                  <p:nvPr/>
                </p:nvSpPr>
                <p:spPr>
                  <a:xfrm flipH="1" rot="5400000">
                    <a:off x="17995320" y="19036440"/>
                    <a:ext cx="3492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023" h="298">
                        <a:moveTo>
                          <a:pt x="1023" y="0"/>
                        </a:moveTo>
                        <a:lnTo>
                          <a:pt x="496" y="98"/>
                        </a:lnTo>
                        <a:lnTo>
                          <a:pt x="0" y="298"/>
                        </a:lnTo>
                        <a:lnTo>
                          <a:pt x="2" y="298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4" name=""/>
                  <p:cNvSpPr/>
                  <p:nvPr/>
                </p:nvSpPr>
                <p:spPr>
                  <a:xfrm flipH="1" rot="5400000">
                    <a:off x="18005400" y="19060200"/>
                    <a:ext cx="93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03" h="97">
                        <a:moveTo>
                          <a:pt x="0" y="0"/>
                        </a:moveTo>
                        <a:lnTo>
                          <a:pt x="78" y="97"/>
                        </a:lnTo>
                        <a:lnTo>
                          <a:pt x="201" y="93"/>
                        </a:lnTo>
                        <a:lnTo>
                          <a:pt x="203" y="9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5" name=""/>
                  <p:cNvSpPr/>
                  <p:nvPr/>
                </p:nvSpPr>
                <p:spPr>
                  <a:xfrm flipH="1" rot="5400000">
                    <a:off x="18017640" y="19061640"/>
                    <a:ext cx="32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496">
                        <a:moveTo>
                          <a:pt x="109" y="496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6" name=""/>
                  <p:cNvSpPr/>
                  <p:nvPr/>
                </p:nvSpPr>
                <p:spPr>
                  <a:xfrm flipH="1" rot="5400000">
                    <a:off x="18032040" y="19065960"/>
                    <a:ext cx="14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160">
                        <a:moveTo>
                          <a:pt x="84" y="0"/>
                        </a:moveTo>
                        <a:lnTo>
                          <a:pt x="13" y="64"/>
                        </a:lnTo>
                        <a:lnTo>
                          <a:pt x="0" y="160"/>
                        </a:lnTo>
                        <a:lnTo>
                          <a:pt x="1" y="16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7" name=""/>
                  <p:cNvSpPr/>
                  <p:nvPr/>
                </p:nvSpPr>
                <p:spPr>
                  <a:xfrm flipH="1" rot="5400000">
                    <a:off x="18031680" y="18947520"/>
                    <a:ext cx="18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159">
                        <a:moveTo>
                          <a:pt x="84" y="159"/>
                        </a:moveTo>
                        <a:lnTo>
                          <a:pt x="71" y="64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8" name=""/>
                  <p:cNvSpPr/>
                  <p:nvPr/>
                </p:nvSpPr>
                <p:spPr>
                  <a:xfrm flipH="1" rot="5400000">
                    <a:off x="18017640" y="18944280"/>
                    <a:ext cx="32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496">
                        <a:moveTo>
                          <a:pt x="109" y="0"/>
                        </a:moveTo>
                        <a:lnTo>
                          <a:pt x="0" y="496"/>
                        </a:lnTo>
                        <a:lnTo>
                          <a:pt x="1" y="496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9" name=""/>
                  <p:cNvSpPr/>
                  <p:nvPr/>
                </p:nvSpPr>
                <p:spPr>
                  <a:xfrm flipH="1" rot="5400000">
                    <a:off x="18005400" y="18955440"/>
                    <a:ext cx="93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02" h="98">
                        <a:moveTo>
                          <a:pt x="0" y="94"/>
                        </a:moveTo>
                        <a:lnTo>
                          <a:pt x="124" y="98"/>
                        </a:lnTo>
                        <a:lnTo>
                          <a:pt x="201" y="0"/>
                        </a:lnTo>
                        <a:lnTo>
                          <a:pt x="202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0" name=""/>
                  <p:cNvSpPr/>
                  <p:nvPr/>
                </p:nvSpPr>
                <p:spPr>
                  <a:xfrm flipH="1" rot="5400000">
                    <a:off x="17995320" y="18975960"/>
                    <a:ext cx="3492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021" h="297">
                        <a:moveTo>
                          <a:pt x="1021" y="297"/>
                        </a:moveTo>
                        <a:lnTo>
                          <a:pt x="525" y="97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61" name=""/>
                <p:cNvSpPr/>
                <p:nvPr/>
              </p:nvSpPr>
              <p:spPr>
                <a:xfrm flipH="1" rot="16200000">
                  <a:off x="17456400" y="18932040"/>
                  <a:ext cx="431640" cy="287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2" name=""/>
                <p:cNvSpPr/>
                <p:nvPr/>
              </p:nvSpPr>
              <p:spPr>
                <a:xfrm flipH="1" flipV="1">
                  <a:off x="17274240" y="18943560"/>
                  <a:ext cx="360" cy="99720"/>
                </a:xfrm>
                <a:custGeom>
                  <a:avLst/>
                  <a:gdLst/>
                  <a:ahLst/>
                  <a:rect l="l" t="t" r="r" b="b"/>
                  <a:pathLst>
                    <a:path w="2" h="2733">
                      <a:moveTo>
                        <a:pt x="0" y="0"/>
                      </a:moveTo>
                      <a:lnTo>
                        <a:pt x="1" y="2733"/>
                      </a:lnTo>
                      <a:lnTo>
                        <a:pt x="2" y="2733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3" name=""/>
                <p:cNvSpPr/>
                <p:nvPr/>
              </p:nvSpPr>
              <p:spPr>
                <a:xfrm flipH="1" flipV="1">
                  <a:off x="17261280" y="18943560"/>
                  <a:ext cx="360" cy="99720"/>
                </a:xfrm>
                <a:custGeom>
                  <a:avLst/>
                  <a:gdLst/>
                  <a:ahLst/>
                  <a:rect l="l" t="t" r="r" b="b"/>
                  <a:pathLst>
                    <a:path w="2" h="2733">
                      <a:moveTo>
                        <a:pt x="0" y="0"/>
                      </a:moveTo>
                      <a:lnTo>
                        <a:pt x="1" y="2733"/>
                      </a:lnTo>
                      <a:lnTo>
                        <a:pt x="2" y="2733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4" name=""/>
                <p:cNvSpPr/>
                <p:nvPr/>
              </p:nvSpPr>
              <p:spPr>
                <a:xfrm flipH="1" flipV="1">
                  <a:off x="17422560" y="18943560"/>
                  <a:ext cx="1440" cy="99720"/>
                </a:xfrm>
                <a:custGeom>
                  <a:avLst/>
                  <a:gdLst/>
                  <a:ahLst/>
                  <a:rect l="l" t="t" r="r" b="b"/>
                  <a:pathLst>
                    <a:path w="2" h="2733">
                      <a:moveTo>
                        <a:pt x="0" y="0"/>
                      </a:moveTo>
                      <a:lnTo>
                        <a:pt x="1" y="2733"/>
                      </a:lnTo>
                      <a:lnTo>
                        <a:pt x="2" y="2733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5" name=""/>
                <p:cNvSpPr/>
                <p:nvPr/>
              </p:nvSpPr>
              <p:spPr>
                <a:xfrm flipH="1" flipV="1">
                  <a:off x="17409240" y="18943560"/>
                  <a:ext cx="1800" cy="99720"/>
                </a:xfrm>
                <a:custGeom>
                  <a:avLst/>
                  <a:gdLst/>
                  <a:ahLst/>
                  <a:rect l="l" t="t" r="r" b="b"/>
                  <a:pathLst>
                    <a:path w="2" h="2733">
                      <a:moveTo>
                        <a:pt x="0" y="0"/>
                      </a:moveTo>
                      <a:lnTo>
                        <a:pt x="1" y="2733"/>
                      </a:lnTo>
                      <a:lnTo>
                        <a:pt x="2" y="2733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6" name=""/>
                <p:cNvSpPr/>
                <p:nvPr/>
              </p:nvSpPr>
              <p:spPr>
                <a:xfrm flipH="1" flipV="1">
                  <a:off x="17402760" y="18946800"/>
                  <a:ext cx="360" cy="69840"/>
                </a:xfrm>
                <a:custGeom>
                  <a:avLst/>
                  <a:gdLst/>
                  <a:ahLst/>
                  <a:rect l="l" t="t" r="r" b="b"/>
                  <a:pathLst>
                    <a:path w="19" h="1925">
                      <a:moveTo>
                        <a:pt x="0" y="0"/>
                      </a:moveTo>
                      <a:lnTo>
                        <a:pt x="18" y="1925"/>
                      </a:lnTo>
                      <a:lnTo>
                        <a:pt x="19" y="1925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7" name=""/>
                <p:cNvSpPr/>
                <p:nvPr/>
              </p:nvSpPr>
              <p:spPr>
                <a:xfrm flipH="1" flipV="1">
                  <a:off x="17384040" y="1892448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w="568" h="605">
                      <a:moveTo>
                        <a:pt x="0" y="0"/>
                      </a:moveTo>
                      <a:lnTo>
                        <a:pt x="184" y="396"/>
                      </a:lnTo>
                      <a:lnTo>
                        <a:pt x="567" y="605"/>
                      </a:lnTo>
                      <a:lnTo>
                        <a:pt x="568" y="605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8" name=""/>
                <p:cNvSpPr/>
                <p:nvPr/>
              </p:nvSpPr>
              <p:spPr>
                <a:xfrm flipH="1" flipV="1">
                  <a:off x="17301600" y="18921240"/>
                  <a:ext cx="82440" cy="3240"/>
                </a:xfrm>
                <a:custGeom>
                  <a:avLst/>
                  <a:gdLst/>
                  <a:ahLst/>
                  <a:rect l="l" t="t" r="r" b="b"/>
                  <a:pathLst>
                    <a:path w="2269" h="103">
                      <a:moveTo>
                        <a:pt x="0" y="2"/>
                      </a:moveTo>
                      <a:lnTo>
                        <a:pt x="1135" y="103"/>
                      </a:lnTo>
                      <a:lnTo>
                        <a:pt x="2268" y="0"/>
                      </a:lnTo>
                      <a:lnTo>
                        <a:pt x="2269" y="0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9" name=""/>
                <p:cNvSpPr/>
                <p:nvPr/>
              </p:nvSpPr>
              <p:spPr>
                <a:xfrm flipH="1" flipV="1">
                  <a:off x="17282520" y="1892448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w="568" h="605">
                      <a:moveTo>
                        <a:pt x="0" y="605"/>
                      </a:moveTo>
                      <a:lnTo>
                        <a:pt x="382" y="396"/>
                      </a:lnTo>
                      <a:lnTo>
                        <a:pt x="567" y="0"/>
                      </a:lnTo>
                      <a:lnTo>
                        <a:pt x="568" y="0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0" name=""/>
                <p:cNvSpPr/>
                <p:nvPr/>
              </p:nvSpPr>
              <p:spPr>
                <a:xfrm flipH="1" flipV="1">
                  <a:off x="17282160" y="18946800"/>
                  <a:ext cx="360" cy="69840"/>
                </a:xfrm>
                <a:custGeom>
                  <a:avLst/>
                  <a:gdLst/>
                  <a:ahLst/>
                  <a:rect l="l" t="t" r="r" b="b"/>
                  <a:pathLst>
                    <a:path w="17" h="1925">
                      <a:moveTo>
                        <a:pt x="0" y="1925"/>
                      </a:moveTo>
                      <a:lnTo>
                        <a:pt x="16" y="0"/>
                      </a:lnTo>
                      <a:lnTo>
                        <a:pt x="17" y="0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1" name=""/>
                <p:cNvSpPr/>
                <p:nvPr/>
              </p:nvSpPr>
              <p:spPr>
                <a:xfrm flipH="1" flipV="1">
                  <a:off x="17282880" y="19016640"/>
                  <a:ext cx="25200" cy="28800"/>
                </a:xfrm>
                <a:custGeom>
                  <a:avLst/>
                  <a:gdLst/>
                  <a:ahLst/>
                  <a:rect l="l" t="t" r="r" b="b"/>
                  <a:pathLst>
                    <a:path w="745" h="787">
                      <a:moveTo>
                        <a:pt x="745" y="787"/>
                      </a:moveTo>
                      <a:lnTo>
                        <a:pt x="623" y="420"/>
                      </a:lnTo>
                      <a:lnTo>
                        <a:pt x="358" y="140"/>
                      </a:lnTo>
                      <a:lnTo>
                        <a:pt x="0" y="0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2" name=""/>
                <p:cNvSpPr/>
                <p:nvPr/>
              </p:nvSpPr>
              <p:spPr>
                <a:xfrm flipH="1" flipV="1">
                  <a:off x="17308080" y="19045440"/>
                  <a:ext cx="69840" cy="1440"/>
                </a:xfrm>
                <a:custGeom>
                  <a:avLst/>
                  <a:gdLst/>
                  <a:ahLst/>
                  <a:rect l="l" t="t" r="r" b="b"/>
                  <a:pathLst>
                    <a:path w="1947" h="77">
                      <a:moveTo>
                        <a:pt x="1947" y="76"/>
                      </a:moveTo>
                      <a:lnTo>
                        <a:pt x="974" y="0"/>
                      </a:lnTo>
                      <a:lnTo>
                        <a:pt x="0" y="77"/>
                      </a:lnTo>
                      <a:lnTo>
                        <a:pt x="1" y="77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3" name=""/>
                <p:cNvSpPr/>
                <p:nvPr/>
              </p:nvSpPr>
              <p:spPr>
                <a:xfrm flipH="1" flipV="1">
                  <a:off x="17377560" y="19016640"/>
                  <a:ext cx="25560" cy="28800"/>
                </a:xfrm>
                <a:custGeom>
                  <a:avLst/>
                  <a:gdLst/>
                  <a:ahLst/>
                  <a:rect l="l" t="t" r="r" b="b"/>
                  <a:pathLst>
                    <a:path w="744" h="788">
                      <a:moveTo>
                        <a:pt x="744" y="0"/>
                      </a:moveTo>
                      <a:lnTo>
                        <a:pt x="386" y="141"/>
                      </a:lnTo>
                      <a:lnTo>
                        <a:pt x="121" y="421"/>
                      </a:lnTo>
                      <a:lnTo>
                        <a:pt x="0" y="788"/>
                      </a:lnTo>
                      <a:lnTo>
                        <a:pt x="1" y="788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4" name=""/>
                <p:cNvSpPr/>
                <p:nvPr/>
              </p:nvSpPr>
              <p:spPr>
                <a:xfrm flipH="1" flipV="1">
                  <a:off x="17262000" y="18943200"/>
                  <a:ext cx="12960" cy="360"/>
                </a:xfrm>
                <a:custGeom>
                  <a:avLst/>
                  <a:gdLst/>
                  <a:ahLst/>
                  <a:rect l="l" t="t" r="r" b="b"/>
                  <a:pathLst>
                    <a:path w="350" h="0">
                      <a:moveTo>
                        <a:pt x="0" y="0"/>
                      </a:moveTo>
                      <a:lnTo>
                        <a:pt x="349" y="0"/>
                      </a:lnTo>
                      <a:lnTo>
                        <a:pt x="350" y="0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5" name=""/>
                <p:cNvSpPr/>
                <p:nvPr/>
              </p:nvSpPr>
              <p:spPr>
                <a:xfrm flipH="1" flipV="1">
                  <a:off x="17411040" y="18943200"/>
                  <a:ext cx="12600" cy="360"/>
                </a:xfrm>
                <a:custGeom>
                  <a:avLst/>
                  <a:gdLst/>
                  <a:ahLst/>
                  <a:rect l="l" t="t" r="r" b="b"/>
                  <a:pathLst>
                    <a:path w="349" h="0">
                      <a:moveTo>
                        <a:pt x="349" y="0"/>
                      </a:moveTo>
                      <a:lnTo>
                        <a:pt x="0" y="0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6" name=""/>
                <p:cNvSpPr/>
                <p:nvPr/>
              </p:nvSpPr>
              <p:spPr>
                <a:xfrm flipH="1" flipV="1">
                  <a:off x="17262000" y="19042920"/>
                  <a:ext cx="12960" cy="360"/>
                </a:xfrm>
                <a:custGeom>
                  <a:avLst/>
                  <a:gdLst/>
                  <a:ahLst/>
                  <a:rect l="l" t="t" r="r" b="b"/>
                  <a:pathLst>
                    <a:path w="350" h="0">
                      <a:moveTo>
                        <a:pt x="0" y="0"/>
                      </a:moveTo>
                      <a:lnTo>
                        <a:pt x="349" y="0"/>
                      </a:lnTo>
                      <a:lnTo>
                        <a:pt x="350" y="0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7" name=""/>
                <p:cNvSpPr/>
                <p:nvPr/>
              </p:nvSpPr>
              <p:spPr>
                <a:xfrm flipH="1" flipV="1">
                  <a:off x="17330400" y="19050840"/>
                  <a:ext cx="25200" cy="360"/>
                </a:xfrm>
                <a:custGeom>
                  <a:avLst/>
                  <a:gdLst/>
                  <a:ahLst/>
                  <a:rect l="l" t="t" r="r" b="b"/>
                  <a:pathLst>
                    <a:path w="698" h="0">
                      <a:moveTo>
                        <a:pt x="698" y="0"/>
                      </a:moveTo>
                      <a:lnTo>
                        <a:pt x="0" y="0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8" name=""/>
                <p:cNvSpPr/>
                <p:nvPr/>
              </p:nvSpPr>
              <p:spPr>
                <a:xfrm flipH="1" flipV="1">
                  <a:off x="17328240" y="19046520"/>
                  <a:ext cx="1800" cy="4680"/>
                </a:xfrm>
                <a:custGeom>
                  <a:avLst/>
                  <a:gdLst/>
                  <a:ahLst/>
                  <a:rect l="l" t="t" r="r" b="b"/>
                  <a:pathLst>
                    <a:path w="1" h="133">
                      <a:moveTo>
                        <a:pt x="0" y="133"/>
                      </a:moveTo>
                      <a:lnTo>
                        <a:pt x="0" y="0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9" name=""/>
                <p:cNvSpPr/>
                <p:nvPr/>
              </p:nvSpPr>
              <p:spPr>
                <a:xfrm flipH="1" flipV="1">
                  <a:off x="17354880" y="19046520"/>
                  <a:ext cx="360" cy="4680"/>
                </a:xfrm>
                <a:custGeom>
                  <a:avLst/>
                  <a:gdLst/>
                  <a:ahLst/>
                  <a:rect l="l" t="t" r="r" b="b"/>
                  <a:pathLst>
                    <a:path w="1" h="134">
                      <a:moveTo>
                        <a:pt x="0" y="134"/>
                      </a:moveTo>
                      <a:lnTo>
                        <a:pt x="0" y="0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0" name=""/>
                <p:cNvSpPr/>
                <p:nvPr/>
              </p:nvSpPr>
              <p:spPr>
                <a:xfrm flipH="1" flipV="1">
                  <a:off x="17411040" y="19042920"/>
                  <a:ext cx="12600" cy="360"/>
                </a:xfrm>
                <a:custGeom>
                  <a:avLst/>
                  <a:gdLst/>
                  <a:ahLst/>
                  <a:rect l="l" t="t" r="r" b="b"/>
                  <a:pathLst>
                    <a:path w="349" h="0">
                      <a:moveTo>
                        <a:pt x="349" y="0"/>
                      </a:moveTo>
                      <a:lnTo>
                        <a:pt x="0" y="0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1" name=""/>
                <p:cNvSpPr/>
                <p:nvPr/>
              </p:nvSpPr>
              <p:spPr>
                <a:xfrm flipH="1" flipV="1">
                  <a:off x="17282520" y="19062720"/>
                  <a:ext cx="120600" cy="20880"/>
                </a:xfrm>
                <a:custGeom>
                  <a:avLst/>
                  <a:gdLst/>
                  <a:ahLst/>
                  <a:rect l="l" t="t" r="r" b="b"/>
                  <a:pathLst>
                    <a:path w="3444" h="562">
                      <a:moveTo>
                        <a:pt x="3405" y="560"/>
                      </a:moveTo>
                      <a:lnTo>
                        <a:pt x="3444" y="429"/>
                      </a:lnTo>
                      <a:lnTo>
                        <a:pt x="3366" y="316"/>
                      </a:lnTo>
                      <a:lnTo>
                        <a:pt x="2559" y="78"/>
                      </a:lnTo>
                      <a:lnTo>
                        <a:pt x="1722" y="0"/>
                      </a:lnTo>
                      <a:lnTo>
                        <a:pt x="884" y="79"/>
                      </a:lnTo>
                      <a:lnTo>
                        <a:pt x="78" y="318"/>
                      </a:lnTo>
                      <a:lnTo>
                        <a:pt x="0" y="430"/>
                      </a:lnTo>
                      <a:lnTo>
                        <a:pt x="39" y="562"/>
                      </a:lnTo>
                      <a:lnTo>
                        <a:pt x="40" y="562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2" name=""/>
                <p:cNvSpPr/>
                <p:nvPr/>
              </p:nvSpPr>
              <p:spPr>
                <a:xfrm flipH="1" flipV="1">
                  <a:off x="17285760" y="19045080"/>
                  <a:ext cx="114480" cy="28440"/>
                </a:xfrm>
                <a:custGeom>
                  <a:avLst/>
                  <a:gdLst/>
                  <a:ahLst/>
                  <a:rect l="l" t="t" r="r" b="b"/>
                  <a:pathLst>
                    <a:path w="3152" h="740">
                      <a:moveTo>
                        <a:pt x="3152" y="738"/>
                      </a:moveTo>
                      <a:lnTo>
                        <a:pt x="3126" y="512"/>
                      </a:lnTo>
                      <a:lnTo>
                        <a:pt x="2966" y="350"/>
                      </a:lnTo>
                      <a:lnTo>
                        <a:pt x="2290" y="101"/>
                      </a:lnTo>
                      <a:lnTo>
                        <a:pt x="1576" y="0"/>
                      </a:lnTo>
                      <a:lnTo>
                        <a:pt x="862" y="102"/>
                      </a:lnTo>
                      <a:lnTo>
                        <a:pt x="186" y="352"/>
                      </a:lnTo>
                      <a:lnTo>
                        <a:pt x="26" y="514"/>
                      </a:lnTo>
                      <a:lnTo>
                        <a:pt x="0" y="740"/>
                      </a:lnTo>
                      <a:lnTo>
                        <a:pt x="1" y="740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3" name=""/>
                <p:cNvSpPr/>
                <p:nvPr/>
              </p:nvSpPr>
              <p:spPr>
                <a:xfrm flipH="1" flipV="1">
                  <a:off x="17355240" y="19042200"/>
                  <a:ext cx="34920" cy="9360"/>
                </a:xfrm>
                <a:custGeom>
                  <a:avLst/>
                  <a:gdLst/>
                  <a:ahLst/>
                  <a:rect l="l" t="t" r="r" b="b"/>
                  <a:pathLst>
                    <a:path w="1023" h="298">
                      <a:moveTo>
                        <a:pt x="1023" y="0"/>
                      </a:moveTo>
                      <a:lnTo>
                        <a:pt x="496" y="98"/>
                      </a:lnTo>
                      <a:lnTo>
                        <a:pt x="0" y="298"/>
                      </a:lnTo>
                      <a:lnTo>
                        <a:pt x="2" y="298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4" name=""/>
                <p:cNvSpPr/>
                <p:nvPr/>
              </p:nvSpPr>
              <p:spPr>
                <a:xfrm flipH="1" flipV="1">
                  <a:off x="17390160" y="19040400"/>
                  <a:ext cx="9720" cy="4680"/>
                </a:xfrm>
                <a:custGeom>
                  <a:avLst/>
                  <a:gdLst/>
                  <a:ahLst/>
                  <a:rect l="l" t="t" r="r" b="b"/>
                  <a:pathLst>
                    <a:path w="203" h="97">
                      <a:moveTo>
                        <a:pt x="0" y="0"/>
                      </a:moveTo>
                      <a:lnTo>
                        <a:pt x="78" y="97"/>
                      </a:lnTo>
                      <a:lnTo>
                        <a:pt x="201" y="93"/>
                      </a:lnTo>
                      <a:lnTo>
                        <a:pt x="203" y="93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5" name=""/>
                <p:cNvSpPr/>
                <p:nvPr/>
              </p:nvSpPr>
              <p:spPr>
                <a:xfrm flipH="1" flipV="1">
                  <a:off x="17399880" y="19045440"/>
                  <a:ext cx="3240" cy="15840"/>
                </a:xfrm>
                <a:custGeom>
                  <a:avLst/>
                  <a:gdLst/>
                  <a:ahLst/>
                  <a:rect l="l" t="t" r="r" b="b"/>
                  <a:pathLst>
                    <a:path w="109" h="496">
                      <a:moveTo>
                        <a:pt x="109" y="496"/>
                      </a:moveTo>
                      <a:lnTo>
                        <a:pt x="0" y="0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6" name=""/>
                <p:cNvSpPr/>
                <p:nvPr/>
              </p:nvSpPr>
              <p:spPr>
                <a:xfrm flipH="1" flipV="1">
                  <a:off x="17401320" y="19061280"/>
                  <a:ext cx="1800" cy="7920"/>
                </a:xfrm>
                <a:custGeom>
                  <a:avLst/>
                  <a:gdLst/>
                  <a:ahLst/>
                  <a:rect l="l" t="t" r="r" b="b"/>
                  <a:pathLst>
                    <a:path w="84" h="160">
                      <a:moveTo>
                        <a:pt x="84" y="0"/>
                      </a:moveTo>
                      <a:lnTo>
                        <a:pt x="13" y="64"/>
                      </a:lnTo>
                      <a:lnTo>
                        <a:pt x="0" y="160"/>
                      </a:lnTo>
                      <a:lnTo>
                        <a:pt x="1" y="160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7" name=""/>
                <p:cNvSpPr/>
                <p:nvPr/>
              </p:nvSpPr>
              <p:spPr>
                <a:xfrm flipH="1" flipV="1">
                  <a:off x="17282880" y="19061280"/>
                  <a:ext cx="1440" cy="7920"/>
                </a:xfrm>
                <a:custGeom>
                  <a:avLst/>
                  <a:gdLst/>
                  <a:ahLst/>
                  <a:rect l="l" t="t" r="r" b="b"/>
                  <a:pathLst>
                    <a:path w="84" h="159">
                      <a:moveTo>
                        <a:pt x="84" y="159"/>
                      </a:moveTo>
                      <a:lnTo>
                        <a:pt x="71" y="64"/>
                      </a:lnTo>
                      <a:lnTo>
                        <a:pt x="0" y="0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8" name=""/>
                <p:cNvSpPr/>
                <p:nvPr/>
              </p:nvSpPr>
              <p:spPr>
                <a:xfrm flipH="1" flipV="1">
                  <a:off x="17282880" y="19045440"/>
                  <a:ext cx="2880" cy="15840"/>
                </a:xfrm>
                <a:custGeom>
                  <a:avLst/>
                  <a:gdLst/>
                  <a:ahLst/>
                  <a:rect l="l" t="t" r="r" b="b"/>
                  <a:pathLst>
                    <a:path w="109" h="496">
                      <a:moveTo>
                        <a:pt x="109" y="0"/>
                      </a:moveTo>
                      <a:lnTo>
                        <a:pt x="0" y="496"/>
                      </a:lnTo>
                      <a:lnTo>
                        <a:pt x="1" y="496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9" name=""/>
                <p:cNvSpPr/>
                <p:nvPr/>
              </p:nvSpPr>
              <p:spPr>
                <a:xfrm flipH="1" flipV="1">
                  <a:off x="17285400" y="19040400"/>
                  <a:ext cx="9720" cy="4680"/>
                </a:xfrm>
                <a:custGeom>
                  <a:avLst/>
                  <a:gdLst/>
                  <a:ahLst/>
                  <a:rect l="l" t="t" r="r" b="b"/>
                  <a:pathLst>
                    <a:path w="202" h="98">
                      <a:moveTo>
                        <a:pt x="0" y="94"/>
                      </a:moveTo>
                      <a:lnTo>
                        <a:pt x="124" y="98"/>
                      </a:lnTo>
                      <a:lnTo>
                        <a:pt x="201" y="0"/>
                      </a:lnTo>
                      <a:lnTo>
                        <a:pt x="202" y="0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0" name=""/>
                <p:cNvSpPr/>
                <p:nvPr/>
              </p:nvSpPr>
              <p:spPr>
                <a:xfrm flipH="1" flipV="1">
                  <a:off x="17295120" y="19042200"/>
                  <a:ext cx="34920" cy="9360"/>
                </a:xfrm>
                <a:custGeom>
                  <a:avLst/>
                  <a:gdLst/>
                  <a:ahLst/>
                  <a:rect l="l" t="t" r="r" b="b"/>
                  <a:pathLst>
                    <a:path w="1021" h="297">
                      <a:moveTo>
                        <a:pt x="1021" y="297"/>
                      </a:moveTo>
                      <a:lnTo>
                        <a:pt x="525" y="97"/>
                      </a:lnTo>
                      <a:lnTo>
                        <a:pt x="0" y="0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1" name=""/>
                <p:cNvSpPr/>
                <p:nvPr/>
              </p:nvSpPr>
              <p:spPr>
                <a:xfrm flipH="1" flipV="1">
                  <a:off x="17237880" y="18862920"/>
                  <a:ext cx="219240" cy="6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2" name=""/>
                <p:cNvSpPr/>
                <p:nvPr/>
              </p:nvSpPr>
              <p:spPr>
                <a:xfrm flipH="1" flipV="1">
                  <a:off x="17287560" y="18873360"/>
                  <a:ext cx="131760" cy="4788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3" name=""/>
                <p:cNvSpPr/>
                <p:nvPr/>
              </p:nvSpPr>
              <p:spPr>
                <a:xfrm flipH="1" flipV="1">
                  <a:off x="17397000" y="18879840"/>
                  <a:ext cx="15840" cy="3348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4" name=""/>
                <p:cNvSpPr/>
                <p:nvPr/>
              </p:nvSpPr>
              <p:spPr>
                <a:xfrm flipH="1" flipV="1">
                  <a:off x="17293320" y="18879840"/>
                  <a:ext cx="96840" cy="3348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5" name=""/>
                <p:cNvSpPr/>
                <p:nvPr/>
              </p:nvSpPr>
              <p:spPr>
                <a:xfrm flipH="1" flipV="1">
                  <a:off x="17164800" y="18649800"/>
                  <a:ext cx="360360" cy="2156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6" name=""/>
                <p:cNvSpPr/>
                <p:nvPr/>
              </p:nvSpPr>
              <p:spPr>
                <a:xfrm flipH="1" flipV="1" rot="1751400">
                  <a:off x="17453880" y="18798840"/>
                  <a:ext cx="22320" cy="31680"/>
                </a:xfrm>
                <a:prstGeom prst="ellipse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7" name=""/>
                <p:cNvSpPr/>
                <p:nvPr/>
              </p:nvSpPr>
              <p:spPr>
                <a:xfrm flipH="1" flipV="1">
                  <a:off x="17436600" y="18778320"/>
                  <a:ext cx="68400" cy="6660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8" name=""/>
                <p:cNvSpPr/>
                <p:nvPr/>
              </p:nvSpPr>
              <p:spPr>
                <a:xfrm flipH="1" flipV="1">
                  <a:off x="17268480" y="18695880"/>
                  <a:ext cx="133200" cy="1458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99" name=""/>
                <p:cNvGrpSpPr/>
                <p:nvPr/>
              </p:nvGrpSpPr>
              <p:grpSpPr>
                <a:xfrm>
                  <a:off x="17276400" y="18704520"/>
                  <a:ext cx="117360" cy="117000"/>
                  <a:chOff x="17276400" y="18704520"/>
                  <a:chExt cx="117360" cy="117000"/>
                </a:xfrm>
              </p:grpSpPr>
              <p:sp>
                <p:nvSpPr>
                  <p:cNvPr id="2000" name=""/>
                  <p:cNvSpPr/>
                  <p:nvPr/>
                </p:nvSpPr>
                <p:spPr>
                  <a:xfrm flipH="1" flipV="1">
                    <a:off x="17359560" y="18721800"/>
                    <a:ext cx="252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35">
                        <a:moveTo>
                          <a:pt x="0" y="35"/>
                        </a:moveTo>
                        <a:lnTo>
                          <a:pt x="5" y="29"/>
                        </a:lnTo>
                        <a:lnTo>
                          <a:pt x="11" y="23"/>
                        </a:lnTo>
                        <a:lnTo>
                          <a:pt x="17" y="17"/>
                        </a:lnTo>
                        <a:lnTo>
                          <a:pt x="22" y="12"/>
                        </a:lnTo>
                        <a:lnTo>
                          <a:pt x="26" y="8"/>
                        </a:lnTo>
                        <a:lnTo>
                          <a:pt x="30" y="5"/>
                        </a:lnTo>
                        <a:lnTo>
                          <a:pt x="32" y="2"/>
                        </a:lnTo>
                        <a:lnTo>
                          <a:pt x="34" y="1"/>
                        </a:lnTo>
                        <a:lnTo>
                          <a:pt x="34" y="0"/>
                        </a:lnTo>
                        <a:lnTo>
                          <a:pt x="35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1" name=""/>
                  <p:cNvSpPr/>
                  <p:nvPr/>
                </p:nvSpPr>
                <p:spPr>
                  <a:xfrm flipH="1" flipV="1">
                    <a:off x="17359560" y="18721800"/>
                    <a:ext cx="252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35">
                        <a:moveTo>
                          <a:pt x="0" y="35"/>
                        </a:moveTo>
                        <a:lnTo>
                          <a:pt x="5" y="29"/>
                        </a:lnTo>
                        <a:lnTo>
                          <a:pt x="11" y="23"/>
                        </a:lnTo>
                        <a:lnTo>
                          <a:pt x="17" y="17"/>
                        </a:lnTo>
                        <a:lnTo>
                          <a:pt x="22" y="12"/>
                        </a:lnTo>
                        <a:lnTo>
                          <a:pt x="26" y="8"/>
                        </a:lnTo>
                        <a:lnTo>
                          <a:pt x="30" y="5"/>
                        </a:lnTo>
                        <a:lnTo>
                          <a:pt x="32" y="2"/>
                        </a:lnTo>
                        <a:lnTo>
                          <a:pt x="34" y="1"/>
                        </a:lnTo>
                        <a:lnTo>
                          <a:pt x="34" y="0"/>
                        </a:lnTo>
                        <a:lnTo>
                          <a:pt x="35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2" name=""/>
                  <p:cNvSpPr/>
                  <p:nvPr/>
                </p:nvSpPr>
                <p:spPr>
                  <a:xfrm flipH="1" flipV="1">
                    <a:off x="17276400" y="18771840"/>
                    <a:ext cx="117360" cy="4968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80" bIns="2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3" name=""/>
                  <p:cNvSpPr/>
                  <p:nvPr/>
                </p:nvSpPr>
                <p:spPr>
                  <a:xfrm flipH="1" flipV="1">
                    <a:off x="17283600" y="18704520"/>
                    <a:ext cx="101160" cy="65520"/>
                  </a:xfrm>
                  <a:custGeom>
                    <a:avLst/>
                    <a:gdLst>
                      <a:gd name="textAreaLeft" fmla="*/ 22320 w 101160"/>
                      <a:gd name="textAreaRight" fmla="*/ 78840 w 101160"/>
                      <a:gd name="textAreaTop" fmla="*/ 14400 h 65520"/>
                      <a:gd name="textAreaBottom" fmla="*/ 51120 h 655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080" bIns="-10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004" name=""/>
              <p:cNvSpPr/>
              <p:nvPr/>
            </p:nvSpPr>
            <p:spPr>
              <a:xfrm rot="5400000">
                <a:off x="9228240" y="17317800"/>
                <a:ext cx="209520" cy="324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5" name=""/>
              <p:cNvGrpSpPr/>
              <p:nvPr/>
            </p:nvGrpSpPr>
            <p:grpSpPr>
              <a:xfrm>
                <a:off x="13614480" y="17996040"/>
                <a:ext cx="355680" cy="460080"/>
                <a:chOff x="13614480" y="17996040"/>
                <a:chExt cx="355680" cy="460080"/>
              </a:xfrm>
            </p:grpSpPr>
            <p:sp>
              <p:nvSpPr>
                <p:cNvPr id="2006" name=""/>
                <p:cNvSpPr/>
                <p:nvPr/>
              </p:nvSpPr>
              <p:spPr>
                <a:xfrm flipV="1" rot="10800000">
                  <a:off x="13682880" y="18146880"/>
                  <a:ext cx="218880" cy="6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07" name=""/>
                <p:cNvGrpSpPr/>
                <p:nvPr/>
              </p:nvGrpSpPr>
              <p:grpSpPr>
                <a:xfrm>
                  <a:off x="13731840" y="18157680"/>
                  <a:ext cx="131760" cy="47880"/>
                  <a:chOff x="13731840" y="18157680"/>
                  <a:chExt cx="131760" cy="47880"/>
                </a:xfrm>
              </p:grpSpPr>
              <p:sp>
                <p:nvSpPr>
                  <p:cNvPr id="2008" name=""/>
                  <p:cNvSpPr/>
                  <p:nvPr/>
                </p:nvSpPr>
                <p:spPr>
                  <a:xfrm flipV="1" rot="10800000">
                    <a:off x="13731840" y="18157320"/>
                    <a:ext cx="131760" cy="47880"/>
                  </a:xfrm>
                  <a:prstGeom prst="rect">
                    <a:avLst/>
                  </a:prstGeom>
                  <a:noFill/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" bIns="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9" name=""/>
                  <p:cNvSpPr/>
                  <p:nvPr/>
                </p:nvSpPr>
                <p:spPr>
                  <a:xfrm flipV="1" rot="10800000">
                    <a:off x="13842360" y="18165600"/>
                    <a:ext cx="15840" cy="32040"/>
                  </a:xfrm>
                  <a:prstGeom prst="rect">
                    <a:avLst/>
                  </a:prstGeom>
                  <a:noFill/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760" bIns="-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0" name=""/>
                  <p:cNvSpPr/>
                  <p:nvPr/>
                </p:nvSpPr>
                <p:spPr>
                  <a:xfrm flipV="1" rot="10800000">
                    <a:off x="13737600" y="18165600"/>
                    <a:ext cx="97560" cy="32040"/>
                  </a:xfrm>
                  <a:prstGeom prst="rect">
                    <a:avLst/>
                  </a:prstGeom>
                  <a:noFill/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760" bIns="-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11" name=""/>
                <p:cNvSpPr/>
                <p:nvPr/>
              </p:nvSpPr>
              <p:spPr>
                <a:xfrm flipV="1" rot="10800000">
                  <a:off x="13614480" y="18213480"/>
                  <a:ext cx="355680" cy="2426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2" name=""/>
                <p:cNvSpPr/>
                <p:nvPr/>
              </p:nvSpPr>
              <p:spPr>
                <a:xfrm flipV="1" rot="9048600">
                  <a:off x="13898520" y="18247680"/>
                  <a:ext cx="22320" cy="31680"/>
                </a:xfrm>
                <a:prstGeom prst="ellipse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3" name=""/>
                <p:cNvSpPr/>
                <p:nvPr/>
              </p:nvSpPr>
              <p:spPr>
                <a:xfrm flipV="1" rot="10800000">
                  <a:off x="13880880" y="18232920"/>
                  <a:ext cx="68040" cy="6660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14" name=""/>
                <p:cNvGrpSpPr/>
                <p:nvPr/>
              </p:nvGrpSpPr>
              <p:grpSpPr>
                <a:xfrm>
                  <a:off x="13712400" y="18237240"/>
                  <a:ext cx="133560" cy="146160"/>
                  <a:chOff x="13712400" y="18237240"/>
                  <a:chExt cx="133560" cy="146160"/>
                </a:xfrm>
              </p:grpSpPr>
              <p:sp>
                <p:nvSpPr>
                  <p:cNvPr id="2015" name=""/>
                  <p:cNvSpPr/>
                  <p:nvPr/>
                </p:nvSpPr>
                <p:spPr>
                  <a:xfrm flipV="1" rot="10800000">
                    <a:off x="13712400" y="18237240"/>
                    <a:ext cx="133560" cy="14616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016" name=""/>
                  <p:cNvGrpSpPr/>
                  <p:nvPr/>
                </p:nvGrpSpPr>
                <p:grpSpPr>
                  <a:xfrm>
                    <a:off x="13721760" y="18257040"/>
                    <a:ext cx="117360" cy="116640"/>
                    <a:chOff x="13721760" y="18257040"/>
                    <a:chExt cx="117360" cy="116640"/>
                  </a:xfrm>
                </p:grpSpPr>
                <p:sp>
                  <p:nvSpPr>
                    <p:cNvPr id="2017" name=""/>
                    <p:cNvSpPr/>
                    <p:nvPr/>
                  </p:nvSpPr>
                  <p:spPr>
                    <a:xfrm flipV="1" rot="10800000">
                      <a:off x="13805280" y="18354600"/>
                      <a:ext cx="252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35">
                          <a:moveTo>
                            <a:pt x="0" y="35"/>
                          </a:moveTo>
                          <a:lnTo>
                            <a:pt x="5" y="29"/>
                          </a:lnTo>
                          <a:lnTo>
                            <a:pt x="11" y="23"/>
                          </a:lnTo>
                          <a:lnTo>
                            <a:pt x="17" y="17"/>
                          </a:lnTo>
                          <a:lnTo>
                            <a:pt x="22" y="12"/>
                          </a:lnTo>
                          <a:lnTo>
                            <a:pt x="26" y="8"/>
                          </a:lnTo>
                          <a:lnTo>
                            <a:pt x="30" y="5"/>
                          </a:lnTo>
                          <a:lnTo>
                            <a:pt x="32" y="2"/>
                          </a:lnTo>
                          <a:lnTo>
                            <a:pt x="34" y="1"/>
                          </a:lnTo>
                          <a:lnTo>
                            <a:pt x="34" y="0"/>
                          </a:lnTo>
                          <a:lnTo>
                            <a:pt x="3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8" name=""/>
                    <p:cNvSpPr/>
                    <p:nvPr/>
                  </p:nvSpPr>
                  <p:spPr>
                    <a:xfrm flipV="1" rot="10800000">
                      <a:off x="13805280" y="18354600"/>
                      <a:ext cx="252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35">
                          <a:moveTo>
                            <a:pt x="0" y="35"/>
                          </a:moveTo>
                          <a:lnTo>
                            <a:pt x="5" y="29"/>
                          </a:lnTo>
                          <a:lnTo>
                            <a:pt x="11" y="23"/>
                          </a:lnTo>
                          <a:lnTo>
                            <a:pt x="17" y="17"/>
                          </a:lnTo>
                          <a:lnTo>
                            <a:pt x="22" y="12"/>
                          </a:lnTo>
                          <a:lnTo>
                            <a:pt x="26" y="8"/>
                          </a:lnTo>
                          <a:lnTo>
                            <a:pt x="30" y="5"/>
                          </a:lnTo>
                          <a:lnTo>
                            <a:pt x="32" y="2"/>
                          </a:lnTo>
                          <a:lnTo>
                            <a:pt x="34" y="1"/>
                          </a:lnTo>
                          <a:lnTo>
                            <a:pt x="34" y="0"/>
                          </a:lnTo>
                          <a:lnTo>
                            <a:pt x="3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9" name=""/>
                    <p:cNvSpPr/>
                    <p:nvPr/>
                  </p:nvSpPr>
                  <p:spPr>
                    <a:xfrm flipV="1" rot="10800000">
                      <a:off x="13721760" y="18257040"/>
                      <a:ext cx="117360" cy="496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880" bIns="2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20" name=""/>
                    <p:cNvSpPr/>
                    <p:nvPr/>
                  </p:nvSpPr>
                  <p:spPr>
                    <a:xfrm flipV="1" rot="10800000">
                      <a:off x="13729320" y="18308160"/>
                      <a:ext cx="101160" cy="65520"/>
                    </a:xfrm>
                    <a:custGeom>
                      <a:avLst/>
                      <a:gdLst>
                        <a:gd name="textAreaLeft" fmla="*/ 22320 w 101160"/>
                        <a:gd name="textAreaRight" fmla="*/ 78840 w 101160"/>
                        <a:gd name="textAreaTop" fmla="*/ 14400 h 65520"/>
                        <a:gd name="textAreaBottom" fmla="*/ 51120 h 6552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16200" y="21600"/>
                          </a:lnTo>
                          <a:lnTo>
                            <a:pt x="5400" y="2160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080" bIns="-10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021" name=""/>
                <p:cNvGrpSpPr/>
                <p:nvPr/>
              </p:nvGrpSpPr>
              <p:grpSpPr>
                <a:xfrm>
                  <a:off x="13715640" y="17996040"/>
                  <a:ext cx="162360" cy="161280"/>
                  <a:chOff x="13715640" y="17996040"/>
                  <a:chExt cx="162360" cy="161280"/>
                </a:xfrm>
              </p:grpSpPr>
              <p:sp>
                <p:nvSpPr>
                  <p:cNvPr id="2022" name=""/>
                  <p:cNvSpPr/>
                  <p:nvPr/>
                </p:nvSpPr>
                <p:spPr>
                  <a:xfrm flipV="1" rot="10800000">
                    <a:off x="13728960" y="18035640"/>
                    <a:ext cx="36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3" name=""/>
                  <p:cNvSpPr/>
                  <p:nvPr/>
                </p:nvSpPr>
                <p:spPr>
                  <a:xfrm flipV="1" rot="10800000">
                    <a:off x="13715640" y="18035640"/>
                    <a:ext cx="36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4" name=""/>
                  <p:cNvSpPr/>
                  <p:nvPr/>
                </p:nvSpPr>
                <p:spPr>
                  <a:xfrm flipV="1" rot="10800000">
                    <a:off x="13876920" y="18035640"/>
                    <a:ext cx="108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5" name=""/>
                  <p:cNvSpPr/>
                  <p:nvPr/>
                </p:nvSpPr>
                <p:spPr>
                  <a:xfrm flipV="1" rot="10800000">
                    <a:off x="13863960" y="18035640"/>
                    <a:ext cx="144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6" name=""/>
                  <p:cNvSpPr/>
                  <p:nvPr/>
                </p:nvSpPr>
                <p:spPr>
                  <a:xfrm flipV="1" rot="10800000">
                    <a:off x="13857840" y="18062640"/>
                    <a:ext cx="36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925">
                        <a:moveTo>
                          <a:pt x="0" y="0"/>
                        </a:moveTo>
                        <a:lnTo>
                          <a:pt x="18" y="1925"/>
                        </a:lnTo>
                        <a:lnTo>
                          <a:pt x="19" y="1925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7" name=""/>
                  <p:cNvSpPr/>
                  <p:nvPr/>
                </p:nvSpPr>
                <p:spPr>
                  <a:xfrm flipV="1" rot="10800000">
                    <a:off x="13838040" y="18131400"/>
                    <a:ext cx="2016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8" h="605">
                        <a:moveTo>
                          <a:pt x="0" y="0"/>
                        </a:moveTo>
                        <a:lnTo>
                          <a:pt x="184" y="396"/>
                        </a:lnTo>
                        <a:lnTo>
                          <a:pt x="567" y="605"/>
                        </a:lnTo>
                        <a:lnTo>
                          <a:pt x="568" y="605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8" name=""/>
                  <p:cNvSpPr/>
                  <p:nvPr/>
                </p:nvSpPr>
                <p:spPr>
                  <a:xfrm flipV="1" rot="10800000">
                    <a:off x="13756680" y="18154440"/>
                    <a:ext cx="8136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269" h="103">
                        <a:moveTo>
                          <a:pt x="0" y="2"/>
                        </a:moveTo>
                        <a:lnTo>
                          <a:pt x="1135" y="103"/>
                        </a:lnTo>
                        <a:lnTo>
                          <a:pt x="2268" y="0"/>
                        </a:lnTo>
                        <a:lnTo>
                          <a:pt x="2269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9" name=""/>
                  <p:cNvSpPr/>
                  <p:nvPr/>
                </p:nvSpPr>
                <p:spPr>
                  <a:xfrm flipV="1" rot="10800000">
                    <a:off x="13736160" y="18131400"/>
                    <a:ext cx="2016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8" h="605">
                        <a:moveTo>
                          <a:pt x="0" y="605"/>
                        </a:moveTo>
                        <a:lnTo>
                          <a:pt x="382" y="396"/>
                        </a:lnTo>
                        <a:lnTo>
                          <a:pt x="567" y="0"/>
                        </a:lnTo>
                        <a:lnTo>
                          <a:pt x="568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0" name=""/>
                  <p:cNvSpPr/>
                  <p:nvPr/>
                </p:nvSpPr>
                <p:spPr>
                  <a:xfrm flipV="1" rot="10800000">
                    <a:off x="13735800" y="18062640"/>
                    <a:ext cx="36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925">
                        <a:moveTo>
                          <a:pt x="0" y="1925"/>
                        </a:moveTo>
                        <a:lnTo>
                          <a:pt x="16" y="0"/>
                        </a:lnTo>
                        <a:lnTo>
                          <a:pt x="17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1" name=""/>
                  <p:cNvSpPr/>
                  <p:nvPr/>
                </p:nvSpPr>
                <p:spPr>
                  <a:xfrm flipV="1" rot="10800000">
                    <a:off x="13736520" y="18034200"/>
                    <a:ext cx="2556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745" h="787">
                        <a:moveTo>
                          <a:pt x="745" y="787"/>
                        </a:moveTo>
                        <a:lnTo>
                          <a:pt x="623" y="420"/>
                        </a:lnTo>
                        <a:lnTo>
                          <a:pt x="358" y="14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2" name=""/>
                  <p:cNvSpPr/>
                  <p:nvPr/>
                </p:nvSpPr>
                <p:spPr>
                  <a:xfrm flipV="1" rot="10800000">
                    <a:off x="13762080" y="18031680"/>
                    <a:ext cx="7020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1947" h="77">
                        <a:moveTo>
                          <a:pt x="1947" y="76"/>
                        </a:moveTo>
                        <a:lnTo>
                          <a:pt x="974" y="0"/>
                        </a:lnTo>
                        <a:lnTo>
                          <a:pt x="0" y="77"/>
                        </a:lnTo>
                        <a:lnTo>
                          <a:pt x="1" y="77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3" name=""/>
                  <p:cNvSpPr/>
                  <p:nvPr/>
                </p:nvSpPr>
                <p:spPr>
                  <a:xfrm flipV="1" rot="10800000">
                    <a:off x="13832280" y="18034200"/>
                    <a:ext cx="2592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744" h="788">
                        <a:moveTo>
                          <a:pt x="744" y="0"/>
                        </a:moveTo>
                        <a:lnTo>
                          <a:pt x="386" y="141"/>
                        </a:lnTo>
                        <a:lnTo>
                          <a:pt x="121" y="421"/>
                        </a:lnTo>
                        <a:lnTo>
                          <a:pt x="0" y="788"/>
                        </a:lnTo>
                        <a:lnTo>
                          <a:pt x="1" y="788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4" name=""/>
                  <p:cNvSpPr/>
                  <p:nvPr/>
                </p:nvSpPr>
                <p:spPr>
                  <a:xfrm flipV="1" rot="10800000">
                    <a:off x="13716360" y="18134280"/>
                    <a:ext cx="129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50" h="0">
                        <a:moveTo>
                          <a:pt x="0" y="0"/>
                        </a:moveTo>
                        <a:lnTo>
                          <a:pt x="349" y="0"/>
                        </a:lnTo>
                        <a:lnTo>
                          <a:pt x="350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5" name=""/>
                  <p:cNvSpPr/>
                  <p:nvPr/>
                </p:nvSpPr>
                <p:spPr>
                  <a:xfrm flipV="1" rot="10800000">
                    <a:off x="13865400" y="18134280"/>
                    <a:ext cx="1260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49" h="0">
                        <a:moveTo>
                          <a:pt x="349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6" name=""/>
                  <p:cNvSpPr/>
                  <p:nvPr/>
                </p:nvSpPr>
                <p:spPr>
                  <a:xfrm flipV="1" rot="10800000">
                    <a:off x="13716360" y="18035280"/>
                    <a:ext cx="129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50" h="0">
                        <a:moveTo>
                          <a:pt x="0" y="0"/>
                        </a:moveTo>
                        <a:lnTo>
                          <a:pt x="349" y="0"/>
                        </a:lnTo>
                        <a:lnTo>
                          <a:pt x="350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7" name=""/>
                  <p:cNvSpPr/>
                  <p:nvPr/>
                </p:nvSpPr>
                <p:spPr>
                  <a:xfrm flipV="1" rot="10800000">
                    <a:off x="13785480" y="18027000"/>
                    <a:ext cx="2412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8" h="0">
                        <a:moveTo>
                          <a:pt x="698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8" name=""/>
                  <p:cNvSpPr/>
                  <p:nvPr/>
                </p:nvSpPr>
                <p:spPr>
                  <a:xfrm flipV="1" rot="10800000">
                    <a:off x="13783680" y="18027000"/>
                    <a:ext cx="144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33">
                        <a:moveTo>
                          <a:pt x="0" y="133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9" name=""/>
                  <p:cNvSpPr/>
                  <p:nvPr/>
                </p:nvSpPr>
                <p:spPr>
                  <a:xfrm flipV="1" rot="10800000">
                    <a:off x="13809240" y="18027000"/>
                    <a:ext cx="36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34">
                        <a:moveTo>
                          <a:pt x="0" y="134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0" name=""/>
                  <p:cNvSpPr/>
                  <p:nvPr/>
                </p:nvSpPr>
                <p:spPr>
                  <a:xfrm flipV="1" rot="10800000">
                    <a:off x="13865400" y="18035280"/>
                    <a:ext cx="1260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49" h="0">
                        <a:moveTo>
                          <a:pt x="349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1" name=""/>
                  <p:cNvSpPr/>
                  <p:nvPr/>
                </p:nvSpPr>
                <p:spPr>
                  <a:xfrm flipV="1" rot="10800000">
                    <a:off x="13736520" y="17995680"/>
                    <a:ext cx="12168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3444" h="562">
                        <a:moveTo>
                          <a:pt x="3405" y="560"/>
                        </a:moveTo>
                        <a:lnTo>
                          <a:pt x="3444" y="429"/>
                        </a:lnTo>
                        <a:lnTo>
                          <a:pt x="3366" y="316"/>
                        </a:lnTo>
                        <a:lnTo>
                          <a:pt x="2559" y="78"/>
                        </a:lnTo>
                        <a:lnTo>
                          <a:pt x="1722" y="0"/>
                        </a:lnTo>
                        <a:lnTo>
                          <a:pt x="884" y="79"/>
                        </a:lnTo>
                        <a:lnTo>
                          <a:pt x="78" y="318"/>
                        </a:lnTo>
                        <a:lnTo>
                          <a:pt x="0" y="430"/>
                        </a:lnTo>
                        <a:lnTo>
                          <a:pt x="39" y="562"/>
                        </a:lnTo>
                        <a:lnTo>
                          <a:pt x="40" y="562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2" name=""/>
                  <p:cNvSpPr/>
                  <p:nvPr/>
                </p:nvSpPr>
                <p:spPr>
                  <a:xfrm flipV="1" rot="10800000">
                    <a:off x="13740840" y="18005400"/>
                    <a:ext cx="11304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52" h="740">
                        <a:moveTo>
                          <a:pt x="3152" y="738"/>
                        </a:moveTo>
                        <a:lnTo>
                          <a:pt x="3126" y="512"/>
                        </a:lnTo>
                        <a:lnTo>
                          <a:pt x="2966" y="350"/>
                        </a:lnTo>
                        <a:lnTo>
                          <a:pt x="2290" y="101"/>
                        </a:lnTo>
                        <a:lnTo>
                          <a:pt x="1576" y="0"/>
                        </a:lnTo>
                        <a:lnTo>
                          <a:pt x="862" y="102"/>
                        </a:lnTo>
                        <a:lnTo>
                          <a:pt x="186" y="352"/>
                        </a:lnTo>
                        <a:lnTo>
                          <a:pt x="26" y="514"/>
                        </a:lnTo>
                        <a:lnTo>
                          <a:pt x="0" y="740"/>
                        </a:lnTo>
                        <a:lnTo>
                          <a:pt x="1" y="74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3" name=""/>
                  <p:cNvSpPr/>
                  <p:nvPr/>
                </p:nvSpPr>
                <p:spPr>
                  <a:xfrm flipV="1" rot="10800000">
                    <a:off x="13809600" y="18027000"/>
                    <a:ext cx="3564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023" h="298">
                        <a:moveTo>
                          <a:pt x="1023" y="0"/>
                        </a:moveTo>
                        <a:lnTo>
                          <a:pt x="496" y="98"/>
                        </a:lnTo>
                        <a:lnTo>
                          <a:pt x="0" y="298"/>
                        </a:lnTo>
                        <a:lnTo>
                          <a:pt x="2" y="298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4" name=""/>
                  <p:cNvSpPr/>
                  <p:nvPr/>
                </p:nvSpPr>
                <p:spPr>
                  <a:xfrm flipV="1" rot="10800000">
                    <a:off x="13845600" y="18034200"/>
                    <a:ext cx="828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203" h="97">
                        <a:moveTo>
                          <a:pt x="0" y="0"/>
                        </a:moveTo>
                        <a:lnTo>
                          <a:pt x="78" y="97"/>
                        </a:lnTo>
                        <a:lnTo>
                          <a:pt x="201" y="93"/>
                        </a:lnTo>
                        <a:lnTo>
                          <a:pt x="203" y="9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5" name=""/>
                  <p:cNvSpPr/>
                  <p:nvPr/>
                </p:nvSpPr>
                <p:spPr>
                  <a:xfrm flipV="1" rot="10800000">
                    <a:off x="13853880" y="18016920"/>
                    <a:ext cx="432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496">
                        <a:moveTo>
                          <a:pt x="109" y="496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6" name=""/>
                  <p:cNvSpPr/>
                  <p:nvPr/>
                </p:nvSpPr>
                <p:spPr>
                  <a:xfrm flipV="1" rot="10800000">
                    <a:off x="13855320" y="18009720"/>
                    <a:ext cx="288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160">
                        <a:moveTo>
                          <a:pt x="84" y="0"/>
                        </a:moveTo>
                        <a:lnTo>
                          <a:pt x="13" y="64"/>
                        </a:lnTo>
                        <a:lnTo>
                          <a:pt x="0" y="160"/>
                        </a:lnTo>
                        <a:lnTo>
                          <a:pt x="1" y="16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7" name=""/>
                  <p:cNvSpPr/>
                  <p:nvPr/>
                </p:nvSpPr>
                <p:spPr>
                  <a:xfrm flipV="1" rot="10800000">
                    <a:off x="13736520" y="18009720"/>
                    <a:ext cx="288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159">
                        <a:moveTo>
                          <a:pt x="84" y="159"/>
                        </a:moveTo>
                        <a:lnTo>
                          <a:pt x="71" y="64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8" name=""/>
                  <p:cNvSpPr/>
                  <p:nvPr/>
                </p:nvSpPr>
                <p:spPr>
                  <a:xfrm flipV="1" rot="10800000">
                    <a:off x="13736520" y="18016920"/>
                    <a:ext cx="396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496">
                        <a:moveTo>
                          <a:pt x="109" y="0"/>
                        </a:moveTo>
                        <a:lnTo>
                          <a:pt x="0" y="496"/>
                        </a:lnTo>
                        <a:lnTo>
                          <a:pt x="1" y="496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9" name=""/>
                  <p:cNvSpPr/>
                  <p:nvPr/>
                </p:nvSpPr>
                <p:spPr>
                  <a:xfrm flipV="1" rot="10800000">
                    <a:off x="13740840" y="18034200"/>
                    <a:ext cx="828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202" h="98">
                        <a:moveTo>
                          <a:pt x="0" y="94"/>
                        </a:moveTo>
                        <a:lnTo>
                          <a:pt x="124" y="98"/>
                        </a:lnTo>
                        <a:lnTo>
                          <a:pt x="201" y="0"/>
                        </a:lnTo>
                        <a:lnTo>
                          <a:pt x="202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0" name=""/>
                  <p:cNvSpPr/>
                  <p:nvPr/>
                </p:nvSpPr>
                <p:spPr>
                  <a:xfrm flipV="1" rot="10800000">
                    <a:off x="13749120" y="18027000"/>
                    <a:ext cx="360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021" h="297">
                        <a:moveTo>
                          <a:pt x="1021" y="297"/>
                        </a:moveTo>
                        <a:lnTo>
                          <a:pt x="525" y="97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51" name=""/>
              <p:cNvGrpSpPr/>
              <p:nvPr/>
            </p:nvGrpSpPr>
            <p:grpSpPr>
              <a:xfrm>
                <a:off x="13614480" y="18624600"/>
                <a:ext cx="355680" cy="460080"/>
                <a:chOff x="13614480" y="18624600"/>
                <a:chExt cx="355680" cy="460080"/>
              </a:xfrm>
            </p:grpSpPr>
            <p:sp>
              <p:nvSpPr>
                <p:cNvPr id="2052" name=""/>
                <p:cNvSpPr/>
                <p:nvPr/>
              </p:nvSpPr>
              <p:spPr>
                <a:xfrm flipV="1" rot="10800000">
                  <a:off x="13682880" y="18775440"/>
                  <a:ext cx="218880" cy="6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53" name=""/>
                <p:cNvGrpSpPr/>
                <p:nvPr/>
              </p:nvGrpSpPr>
              <p:grpSpPr>
                <a:xfrm>
                  <a:off x="13731840" y="18786240"/>
                  <a:ext cx="131760" cy="47880"/>
                  <a:chOff x="13731840" y="18786240"/>
                  <a:chExt cx="131760" cy="47880"/>
                </a:xfrm>
              </p:grpSpPr>
              <p:sp>
                <p:nvSpPr>
                  <p:cNvPr id="2054" name=""/>
                  <p:cNvSpPr/>
                  <p:nvPr/>
                </p:nvSpPr>
                <p:spPr>
                  <a:xfrm flipV="1" rot="10800000">
                    <a:off x="13731840" y="18785880"/>
                    <a:ext cx="131760" cy="47880"/>
                  </a:xfrm>
                  <a:prstGeom prst="rect">
                    <a:avLst/>
                  </a:prstGeom>
                  <a:noFill/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" bIns="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5" name=""/>
                  <p:cNvSpPr/>
                  <p:nvPr/>
                </p:nvSpPr>
                <p:spPr>
                  <a:xfrm flipV="1" rot="10800000">
                    <a:off x="13842360" y="18794160"/>
                    <a:ext cx="15840" cy="32040"/>
                  </a:xfrm>
                  <a:prstGeom prst="rect">
                    <a:avLst/>
                  </a:prstGeom>
                  <a:noFill/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760" bIns="-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6" name=""/>
                  <p:cNvSpPr/>
                  <p:nvPr/>
                </p:nvSpPr>
                <p:spPr>
                  <a:xfrm flipV="1" rot="10800000">
                    <a:off x="13737600" y="18794160"/>
                    <a:ext cx="97560" cy="32040"/>
                  </a:xfrm>
                  <a:prstGeom prst="rect">
                    <a:avLst/>
                  </a:prstGeom>
                  <a:noFill/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760" bIns="-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57" name=""/>
                <p:cNvSpPr/>
                <p:nvPr/>
              </p:nvSpPr>
              <p:spPr>
                <a:xfrm flipV="1" rot="10800000">
                  <a:off x="13614480" y="18842040"/>
                  <a:ext cx="355680" cy="2426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8" name=""/>
                <p:cNvSpPr/>
                <p:nvPr/>
              </p:nvSpPr>
              <p:spPr>
                <a:xfrm flipV="1" rot="9048600">
                  <a:off x="13898520" y="18876240"/>
                  <a:ext cx="22320" cy="31680"/>
                </a:xfrm>
                <a:prstGeom prst="ellipse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9" name=""/>
                <p:cNvSpPr/>
                <p:nvPr/>
              </p:nvSpPr>
              <p:spPr>
                <a:xfrm flipV="1" rot="10800000">
                  <a:off x="13880880" y="18861480"/>
                  <a:ext cx="68040" cy="6660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60" name=""/>
                <p:cNvGrpSpPr/>
                <p:nvPr/>
              </p:nvGrpSpPr>
              <p:grpSpPr>
                <a:xfrm>
                  <a:off x="13712400" y="18865800"/>
                  <a:ext cx="133560" cy="146160"/>
                  <a:chOff x="13712400" y="18865800"/>
                  <a:chExt cx="133560" cy="146160"/>
                </a:xfrm>
              </p:grpSpPr>
              <p:sp>
                <p:nvSpPr>
                  <p:cNvPr id="2061" name=""/>
                  <p:cNvSpPr/>
                  <p:nvPr/>
                </p:nvSpPr>
                <p:spPr>
                  <a:xfrm flipV="1" rot="10800000">
                    <a:off x="13712400" y="18865800"/>
                    <a:ext cx="133560" cy="14616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062" name=""/>
                  <p:cNvGrpSpPr/>
                  <p:nvPr/>
                </p:nvGrpSpPr>
                <p:grpSpPr>
                  <a:xfrm>
                    <a:off x="13721760" y="18885600"/>
                    <a:ext cx="117360" cy="116640"/>
                    <a:chOff x="13721760" y="18885600"/>
                    <a:chExt cx="117360" cy="116640"/>
                  </a:xfrm>
                </p:grpSpPr>
                <p:sp>
                  <p:nvSpPr>
                    <p:cNvPr id="2063" name=""/>
                    <p:cNvSpPr/>
                    <p:nvPr/>
                  </p:nvSpPr>
                  <p:spPr>
                    <a:xfrm flipV="1" rot="10800000">
                      <a:off x="13805280" y="18983160"/>
                      <a:ext cx="252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35">
                          <a:moveTo>
                            <a:pt x="0" y="35"/>
                          </a:moveTo>
                          <a:lnTo>
                            <a:pt x="5" y="29"/>
                          </a:lnTo>
                          <a:lnTo>
                            <a:pt x="11" y="23"/>
                          </a:lnTo>
                          <a:lnTo>
                            <a:pt x="17" y="17"/>
                          </a:lnTo>
                          <a:lnTo>
                            <a:pt x="22" y="12"/>
                          </a:lnTo>
                          <a:lnTo>
                            <a:pt x="26" y="8"/>
                          </a:lnTo>
                          <a:lnTo>
                            <a:pt x="30" y="5"/>
                          </a:lnTo>
                          <a:lnTo>
                            <a:pt x="32" y="2"/>
                          </a:lnTo>
                          <a:lnTo>
                            <a:pt x="34" y="1"/>
                          </a:lnTo>
                          <a:lnTo>
                            <a:pt x="34" y="0"/>
                          </a:lnTo>
                          <a:lnTo>
                            <a:pt x="3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4" name=""/>
                    <p:cNvSpPr/>
                    <p:nvPr/>
                  </p:nvSpPr>
                  <p:spPr>
                    <a:xfrm flipV="1" rot="10800000">
                      <a:off x="13805280" y="18983160"/>
                      <a:ext cx="252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35">
                          <a:moveTo>
                            <a:pt x="0" y="35"/>
                          </a:moveTo>
                          <a:lnTo>
                            <a:pt x="5" y="29"/>
                          </a:lnTo>
                          <a:lnTo>
                            <a:pt x="11" y="23"/>
                          </a:lnTo>
                          <a:lnTo>
                            <a:pt x="17" y="17"/>
                          </a:lnTo>
                          <a:lnTo>
                            <a:pt x="22" y="12"/>
                          </a:lnTo>
                          <a:lnTo>
                            <a:pt x="26" y="8"/>
                          </a:lnTo>
                          <a:lnTo>
                            <a:pt x="30" y="5"/>
                          </a:lnTo>
                          <a:lnTo>
                            <a:pt x="32" y="2"/>
                          </a:lnTo>
                          <a:lnTo>
                            <a:pt x="34" y="1"/>
                          </a:lnTo>
                          <a:lnTo>
                            <a:pt x="34" y="0"/>
                          </a:lnTo>
                          <a:lnTo>
                            <a:pt x="3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5" name=""/>
                    <p:cNvSpPr/>
                    <p:nvPr/>
                  </p:nvSpPr>
                  <p:spPr>
                    <a:xfrm flipV="1" rot="10800000">
                      <a:off x="13721760" y="18885600"/>
                      <a:ext cx="117360" cy="496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880" bIns="2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6" name=""/>
                    <p:cNvSpPr/>
                    <p:nvPr/>
                  </p:nvSpPr>
                  <p:spPr>
                    <a:xfrm flipV="1" rot="10800000">
                      <a:off x="13729320" y="18936720"/>
                      <a:ext cx="101160" cy="65520"/>
                    </a:xfrm>
                    <a:custGeom>
                      <a:avLst/>
                      <a:gdLst>
                        <a:gd name="textAreaLeft" fmla="*/ 22320 w 101160"/>
                        <a:gd name="textAreaRight" fmla="*/ 78840 w 101160"/>
                        <a:gd name="textAreaTop" fmla="*/ 14400 h 65520"/>
                        <a:gd name="textAreaBottom" fmla="*/ 51120 h 6552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16200" y="21600"/>
                          </a:lnTo>
                          <a:lnTo>
                            <a:pt x="5400" y="2160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080" bIns="-10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067" name=""/>
                <p:cNvGrpSpPr/>
                <p:nvPr/>
              </p:nvGrpSpPr>
              <p:grpSpPr>
                <a:xfrm>
                  <a:off x="13715640" y="18624600"/>
                  <a:ext cx="162360" cy="161280"/>
                  <a:chOff x="13715640" y="18624600"/>
                  <a:chExt cx="162360" cy="161280"/>
                </a:xfrm>
              </p:grpSpPr>
              <p:sp>
                <p:nvSpPr>
                  <p:cNvPr id="2068" name=""/>
                  <p:cNvSpPr/>
                  <p:nvPr/>
                </p:nvSpPr>
                <p:spPr>
                  <a:xfrm flipV="1" rot="10800000">
                    <a:off x="13728960" y="18664200"/>
                    <a:ext cx="36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9" name=""/>
                  <p:cNvSpPr/>
                  <p:nvPr/>
                </p:nvSpPr>
                <p:spPr>
                  <a:xfrm flipV="1" rot="10800000">
                    <a:off x="13715640" y="18664200"/>
                    <a:ext cx="36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0" name=""/>
                  <p:cNvSpPr/>
                  <p:nvPr/>
                </p:nvSpPr>
                <p:spPr>
                  <a:xfrm flipV="1" rot="10800000">
                    <a:off x="13876920" y="18664200"/>
                    <a:ext cx="108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1" name=""/>
                  <p:cNvSpPr/>
                  <p:nvPr/>
                </p:nvSpPr>
                <p:spPr>
                  <a:xfrm flipV="1" rot="10800000">
                    <a:off x="13863960" y="18664200"/>
                    <a:ext cx="144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2" name=""/>
                  <p:cNvSpPr/>
                  <p:nvPr/>
                </p:nvSpPr>
                <p:spPr>
                  <a:xfrm flipV="1" rot="10800000">
                    <a:off x="13857840" y="18691200"/>
                    <a:ext cx="36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925">
                        <a:moveTo>
                          <a:pt x="0" y="0"/>
                        </a:moveTo>
                        <a:lnTo>
                          <a:pt x="18" y="1925"/>
                        </a:lnTo>
                        <a:lnTo>
                          <a:pt x="19" y="1925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3" name=""/>
                  <p:cNvSpPr/>
                  <p:nvPr/>
                </p:nvSpPr>
                <p:spPr>
                  <a:xfrm flipV="1" rot="10800000">
                    <a:off x="13838040" y="18759960"/>
                    <a:ext cx="2016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8" h="605">
                        <a:moveTo>
                          <a:pt x="0" y="0"/>
                        </a:moveTo>
                        <a:lnTo>
                          <a:pt x="184" y="396"/>
                        </a:lnTo>
                        <a:lnTo>
                          <a:pt x="567" y="605"/>
                        </a:lnTo>
                        <a:lnTo>
                          <a:pt x="568" y="605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4" name=""/>
                  <p:cNvSpPr/>
                  <p:nvPr/>
                </p:nvSpPr>
                <p:spPr>
                  <a:xfrm flipV="1" rot="10800000">
                    <a:off x="13756680" y="18783000"/>
                    <a:ext cx="8136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269" h="103">
                        <a:moveTo>
                          <a:pt x="0" y="2"/>
                        </a:moveTo>
                        <a:lnTo>
                          <a:pt x="1135" y="103"/>
                        </a:lnTo>
                        <a:lnTo>
                          <a:pt x="2268" y="0"/>
                        </a:lnTo>
                        <a:lnTo>
                          <a:pt x="2269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5" name=""/>
                  <p:cNvSpPr/>
                  <p:nvPr/>
                </p:nvSpPr>
                <p:spPr>
                  <a:xfrm flipV="1" rot="10800000">
                    <a:off x="13736160" y="18759960"/>
                    <a:ext cx="2016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8" h="605">
                        <a:moveTo>
                          <a:pt x="0" y="605"/>
                        </a:moveTo>
                        <a:lnTo>
                          <a:pt x="382" y="396"/>
                        </a:lnTo>
                        <a:lnTo>
                          <a:pt x="567" y="0"/>
                        </a:lnTo>
                        <a:lnTo>
                          <a:pt x="568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6" name=""/>
                  <p:cNvSpPr/>
                  <p:nvPr/>
                </p:nvSpPr>
                <p:spPr>
                  <a:xfrm flipV="1" rot="10800000">
                    <a:off x="13735800" y="18691200"/>
                    <a:ext cx="36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925">
                        <a:moveTo>
                          <a:pt x="0" y="1925"/>
                        </a:moveTo>
                        <a:lnTo>
                          <a:pt x="16" y="0"/>
                        </a:lnTo>
                        <a:lnTo>
                          <a:pt x="17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7" name=""/>
                  <p:cNvSpPr/>
                  <p:nvPr/>
                </p:nvSpPr>
                <p:spPr>
                  <a:xfrm flipV="1" rot="10800000">
                    <a:off x="13736520" y="18662760"/>
                    <a:ext cx="2556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745" h="787">
                        <a:moveTo>
                          <a:pt x="745" y="787"/>
                        </a:moveTo>
                        <a:lnTo>
                          <a:pt x="623" y="420"/>
                        </a:lnTo>
                        <a:lnTo>
                          <a:pt x="358" y="14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8" name=""/>
                  <p:cNvSpPr/>
                  <p:nvPr/>
                </p:nvSpPr>
                <p:spPr>
                  <a:xfrm flipV="1" rot="10800000">
                    <a:off x="13762080" y="18660240"/>
                    <a:ext cx="7020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1947" h="77">
                        <a:moveTo>
                          <a:pt x="1947" y="76"/>
                        </a:moveTo>
                        <a:lnTo>
                          <a:pt x="974" y="0"/>
                        </a:lnTo>
                        <a:lnTo>
                          <a:pt x="0" y="77"/>
                        </a:lnTo>
                        <a:lnTo>
                          <a:pt x="1" y="77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9" name=""/>
                  <p:cNvSpPr/>
                  <p:nvPr/>
                </p:nvSpPr>
                <p:spPr>
                  <a:xfrm flipV="1" rot="10800000">
                    <a:off x="13832280" y="18662760"/>
                    <a:ext cx="2592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744" h="788">
                        <a:moveTo>
                          <a:pt x="744" y="0"/>
                        </a:moveTo>
                        <a:lnTo>
                          <a:pt x="386" y="141"/>
                        </a:lnTo>
                        <a:lnTo>
                          <a:pt x="121" y="421"/>
                        </a:lnTo>
                        <a:lnTo>
                          <a:pt x="0" y="788"/>
                        </a:lnTo>
                        <a:lnTo>
                          <a:pt x="1" y="788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0" name=""/>
                  <p:cNvSpPr/>
                  <p:nvPr/>
                </p:nvSpPr>
                <p:spPr>
                  <a:xfrm flipV="1" rot="10800000">
                    <a:off x="13716360" y="18762840"/>
                    <a:ext cx="129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50" h="0">
                        <a:moveTo>
                          <a:pt x="0" y="0"/>
                        </a:moveTo>
                        <a:lnTo>
                          <a:pt x="349" y="0"/>
                        </a:lnTo>
                        <a:lnTo>
                          <a:pt x="350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1" name=""/>
                  <p:cNvSpPr/>
                  <p:nvPr/>
                </p:nvSpPr>
                <p:spPr>
                  <a:xfrm flipV="1" rot="10800000">
                    <a:off x="13865400" y="18762840"/>
                    <a:ext cx="1260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49" h="0">
                        <a:moveTo>
                          <a:pt x="349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2" name=""/>
                  <p:cNvSpPr/>
                  <p:nvPr/>
                </p:nvSpPr>
                <p:spPr>
                  <a:xfrm flipV="1" rot="10800000">
                    <a:off x="13716360" y="18663840"/>
                    <a:ext cx="129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50" h="0">
                        <a:moveTo>
                          <a:pt x="0" y="0"/>
                        </a:moveTo>
                        <a:lnTo>
                          <a:pt x="349" y="0"/>
                        </a:lnTo>
                        <a:lnTo>
                          <a:pt x="350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3" name=""/>
                  <p:cNvSpPr/>
                  <p:nvPr/>
                </p:nvSpPr>
                <p:spPr>
                  <a:xfrm flipV="1" rot="10800000">
                    <a:off x="13785480" y="18655560"/>
                    <a:ext cx="2412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8" h="0">
                        <a:moveTo>
                          <a:pt x="698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4" name=""/>
                  <p:cNvSpPr/>
                  <p:nvPr/>
                </p:nvSpPr>
                <p:spPr>
                  <a:xfrm flipV="1" rot="10800000">
                    <a:off x="13783680" y="18655560"/>
                    <a:ext cx="144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33">
                        <a:moveTo>
                          <a:pt x="0" y="133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5" name=""/>
                  <p:cNvSpPr/>
                  <p:nvPr/>
                </p:nvSpPr>
                <p:spPr>
                  <a:xfrm flipV="1" rot="10800000">
                    <a:off x="13809240" y="18655560"/>
                    <a:ext cx="36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34">
                        <a:moveTo>
                          <a:pt x="0" y="134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6" name=""/>
                  <p:cNvSpPr/>
                  <p:nvPr/>
                </p:nvSpPr>
                <p:spPr>
                  <a:xfrm flipV="1" rot="10800000">
                    <a:off x="13865400" y="18663840"/>
                    <a:ext cx="1260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49" h="0">
                        <a:moveTo>
                          <a:pt x="349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7" name=""/>
                  <p:cNvSpPr/>
                  <p:nvPr/>
                </p:nvSpPr>
                <p:spPr>
                  <a:xfrm flipV="1" rot="10800000">
                    <a:off x="13736520" y="18624240"/>
                    <a:ext cx="12168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3444" h="562">
                        <a:moveTo>
                          <a:pt x="3405" y="560"/>
                        </a:moveTo>
                        <a:lnTo>
                          <a:pt x="3444" y="429"/>
                        </a:lnTo>
                        <a:lnTo>
                          <a:pt x="3366" y="316"/>
                        </a:lnTo>
                        <a:lnTo>
                          <a:pt x="2559" y="78"/>
                        </a:lnTo>
                        <a:lnTo>
                          <a:pt x="1722" y="0"/>
                        </a:lnTo>
                        <a:lnTo>
                          <a:pt x="884" y="79"/>
                        </a:lnTo>
                        <a:lnTo>
                          <a:pt x="78" y="318"/>
                        </a:lnTo>
                        <a:lnTo>
                          <a:pt x="0" y="430"/>
                        </a:lnTo>
                        <a:lnTo>
                          <a:pt x="39" y="562"/>
                        </a:lnTo>
                        <a:lnTo>
                          <a:pt x="40" y="562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8" name=""/>
                  <p:cNvSpPr/>
                  <p:nvPr/>
                </p:nvSpPr>
                <p:spPr>
                  <a:xfrm flipV="1" rot="10800000">
                    <a:off x="13740840" y="18633960"/>
                    <a:ext cx="11304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52" h="740">
                        <a:moveTo>
                          <a:pt x="3152" y="738"/>
                        </a:moveTo>
                        <a:lnTo>
                          <a:pt x="3126" y="512"/>
                        </a:lnTo>
                        <a:lnTo>
                          <a:pt x="2966" y="350"/>
                        </a:lnTo>
                        <a:lnTo>
                          <a:pt x="2290" y="101"/>
                        </a:lnTo>
                        <a:lnTo>
                          <a:pt x="1576" y="0"/>
                        </a:lnTo>
                        <a:lnTo>
                          <a:pt x="862" y="102"/>
                        </a:lnTo>
                        <a:lnTo>
                          <a:pt x="186" y="352"/>
                        </a:lnTo>
                        <a:lnTo>
                          <a:pt x="26" y="514"/>
                        </a:lnTo>
                        <a:lnTo>
                          <a:pt x="0" y="740"/>
                        </a:lnTo>
                        <a:lnTo>
                          <a:pt x="1" y="74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9" name=""/>
                  <p:cNvSpPr/>
                  <p:nvPr/>
                </p:nvSpPr>
                <p:spPr>
                  <a:xfrm flipV="1" rot="10800000">
                    <a:off x="13809600" y="18655560"/>
                    <a:ext cx="3564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023" h="298">
                        <a:moveTo>
                          <a:pt x="1023" y="0"/>
                        </a:moveTo>
                        <a:lnTo>
                          <a:pt x="496" y="98"/>
                        </a:lnTo>
                        <a:lnTo>
                          <a:pt x="0" y="298"/>
                        </a:lnTo>
                        <a:lnTo>
                          <a:pt x="2" y="298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0" name=""/>
                  <p:cNvSpPr/>
                  <p:nvPr/>
                </p:nvSpPr>
                <p:spPr>
                  <a:xfrm flipV="1" rot="10800000">
                    <a:off x="13845600" y="18662760"/>
                    <a:ext cx="828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203" h="97">
                        <a:moveTo>
                          <a:pt x="0" y="0"/>
                        </a:moveTo>
                        <a:lnTo>
                          <a:pt x="78" y="97"/>
                        </a:lnTo>
                        <a:lnTo>
                          <a:pt x="201" y="93"/>
                        </a:lnTo>
                        <a:lnTo>
                          <a:pt x="203" y="9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1" name=""/>
                  <p:cNvSpPr/>
                  <p:nvPr/>
                </p:nvSpPr>
                <p:spPr>
                  <a:xfrm flipV="1" rot="10800000">
                    <a:off x="13853880" y="18645480"/>
                    <a:ext cx="432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496">
                        <a:moveTo>
                          <a:pt x="109" y="496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2" name=""/>
                  <p:cNvSpPr/>
                  <p:nvPr/>
                </p:nvSpPr>
                <p:spPr>
                  <a:xfrm flipV="1" rot="10800000">
                    <a:off x="13855320" y="18638280"/>
                    <a:ext cx="288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160">
                        <a:moveTo>
                          <a:pt x="84" y="0"/>
                        </a:moveTo>
                        <a:lnTo>
                          <a:pt x="13" y="64"/>
                        </a:lnTo>
                        <a:lnTo>
                          <a:pt x="0" y="160"/>
                        </a:lnTo>
                        <a:lnTo>
                          <a:pt x="1" y="16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3" name=""/>
                  <p:cNvSpPr/>
                  <p:nvPr/>
                </p:nvSpPr>
                <p:spPr>
                  <a:xfrm flipV="1" rot="10800000">
                    <a:off x="13736520" y="18638280"/>
                    <a:ext cx="288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159">
                        <a:moveTo>
                          <a:pt x="84" y="159"/>
                        </a:moveTo>
                        <a:lnTo>
                          <a:pt x="71" y="64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4" name=""/>
                  <p:cNvSpPr/>
                  <p:nvPr/>
                </p:nvSpPr>
                <p:spPr>
                  <a:xfrm flipV="1" rot="10800000">
                    <a:off x="13736520" y="18645480"/>
                    <a:ext cx="396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496">
                        <a:moveTo>
                          <a:pt x="109" y="0"/>
                        </a:moveTo>
                        <a:lnTo>
                          <a:pt x="0" y="496"/>
                        </a:lnTo>
                        <a:lnTo>
                          <a:pt x="1" y="496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5" name=""/>
                  <p:cNvSpPr/>
                  <p:nvPr/>
                </p:nvSpPr>
                <p:spPr>
                  <a:xfrm flipV="1" rot="10800000">
                    <a:off x="13740840" y="18662760"/>
                    <a:ext cx="828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202" h="98">
                        <a:moveTo>
                          <a:pt x="0" y="94"/>
                        </a:moveTo>
                        <a:lnTo>
                          <a:pt x="124" y="98"/>
                        </a:lnTo>
                        <a:lnTo>
                          <a:pt x="201" y="0"/>
                        </a:lnTo>
                        <a:lnTo>
                          <a:pt x="202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6" name=""/>
                  <p:cNvSpPr/>
                  <p:nvPr/>
                </p:nvSpPr>
                <p:spPr>
                  <a:xfrm flipV="1" rot="10800000">
                    <a:off x="13749120" y="18655560"/>
                    <a:ext cx="360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021" h="297">
                        <a:moveTo>
                          <a:pt x="1021" y="297"/>
                        </a:moveTo>
                        <a:lnTo>
                          <a:pt x="525" y="97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97" name=""/>
              <p:cNvGrpSpPr/>
              <p:nvPr/>
            </p:nvGrpSpPr>
            <p:grpSpPr>
              <a:xfrm>
                <a:off x="14095440" y="18143280"/>
                <a:ext cx="460080" cy="355320"/>
                <a:chOff x="14095440" y="18143280"/>
                <a:chExt cx="460080" cy="355320"/>
              </a:xfrm>
            </p:grpSpPr>
            <p:sp>
              <p:nvSpPr>
                <p:cNvPr id="2098" name=""/>
                <p:cNvSpPr/>
                <p:nvPr/>
              </p:nvSpPr>
              <p:spPr>
                <a:xfrm flipH="1" flipV="1" rot="5400000">
                  <a:off x="14171760" y="18285120"/>
                  <a:ext cx="218520" cy="6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99" name=""/>
                <p:cNvGrpSpPr/>
                <p:nvPr/>
              </p:nvGrpSpPr>
              <p:grpSpPr>
                <a:xfrm>
                  <a:off x="14257080" y="18260280"/>
                  <a:ext cx="47880" cy="131400"/>
                  <a:chOff x="14257080" y="18260280"/>
                  <a:chExt cx="47880" cy="131400"/>
                </a:xfrm>
              </p:grpSpPr>
              <p:sp>
                <p:nvSpPr>
                  <p:cNvPr id="2100" name=""/>
                  <p:cNvSpPr/>
                  <p:nvPr/>
                </p:nvSpPr>
                <p:spPr>
                  <a:xfrm flipH="1" flipV="1" rot="5400000">
                    <a:off x="14214960" y="18301680"/>
                    <a:ext cx="131400" cy="47880"/>
                  </a:xfrm>
                  <a:prstGeom prst="rect">
                    <a:avLst/>
                  </a:prstGeom>
                  <a:noFill/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" bIns="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1" name=""/>
                  <p:cNvSpPr/>
                  <p:nvPr/>
                </p:nvSpPr>
                <p:spPr>
                  <a:xfrm flipH="1" flipV="1" rot="5400000">
                    <a:off x="14272920" y="18362160"/>
                    <a:ext cx="15840" cy="32040"/>
                  </a:xfrm>
                  <a:prstGeom prst="rect">
                    <a:avLst/>
                  </a:prstGeom>
                  <a:noFill/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760" bIns="-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2" name=""/>
                  <p:cNvSpPr/>
                  <p:nvPr/>
                </p:nvSpPr>
                <p:spPr>
                  <a:xfrm flipH="1" flipV="1" rot="5400000">
                    <a:off x="14232240" y="18298440"/>
                    <a:ext cx="97200" cy="32040"/>
                  </a:xfrm>
                  <a:prstGeom prst="rect">
                    <a:avLst/>
                  </a:prstGeom>
                  <a:noFill/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760" bIns="-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03" name=""/>
                <p:cNvSpPr/>
                <p:nvPr/>
              </p:nvSpPr>
              <p:spPr>
                <a:xfrm flipH="1" flipV="1" rot="5400000">
                  <a:off x="14256360" y="18199080"/>
                  <a:ext cx="355320" cy="2426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4" name=""/>
                <p:cNvSpPr/>
                <p:nvPr/>
              </p:nvSpPr>
              <p:spPr>
                <a:xfrm flipH="1" flipV="1" rot="7151400">
                  <a:off x="14351760" y="18421920"/>
                  <a:ext cx="21960" cy="31680"/>
                </a:xfrm>
                <a:prstGeom prst="ellipse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5" name=""/>
                <p:cNvSpPr/>
                <p:nvPr/>
              </p:nvSpPr>
              <p:spPr>
                <a:xfrm flipH="1" flipV="1" rot="5400000">
                  <a:off x="14331600" y="18410400"/>
                  <a:ext cx="67680" cy="6660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06" name=""/>
                <p:cNvGrpSpPr/>
                <p:nvPr/>
              </p:nvGrpSpPr>
              <p:grpSpPr>
                <a:xfrm>
                  <a:off x="14336640" y="18241560"/>
                  <a:ext cx="146160" cy="133200"/>
                  <a:chOff x="14336640" y="18241560"/>
                  <a:chExt cx="146160" cy="133200"/>
                </a:xfrm>
              </p:grpSpPr>
              <p:sp>
                <p:nvSpPr>
                  <p:cNvPr id="2107" name=""/>
                  <p:cNvSpPr/>
                  <p:nvPr/>
                </p:nvSpPr>
                <p:spPr>
                  <a:xfrm flipH="1" flipV="1" rot="5400000">
                    <a:off x="14343120" y="18235080"/>
                    <a:ext cx="133200" cy="14616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108" name=""/>
                  <p:cNvGrpSpPr/>
                  <p:nvPr/>
                </p:nvGrpSpPr>
                <p:grpSpPr>
                  <a:xfrm>
                    <a:off x="14356440" y="18250920"/>
                    <a:ext cx="116640" cy="117000"/>
                    <a:chOff x="14356440" y="18250920"/>
                    <a:chExt cx="116640" cy="117000"/>
                  </a:xfrm>
                </p:grpSpPr>
                <p:sp>
                  <p:nvSpPr>
                    <p:cNvPr id="2109" name=""/>
                    <p:cNvSpPr/>
                    <p:nvPr/>
                  </p:nvSpPr>
                  <p:spPr>
                    <a:xfrm flipH="1" flipV="1" rot="5400000">
                      <a:off x="14453280" y="18334800"/>
                      <a:ext cx="252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35">
                          <a:moveTo>
                            <a:pt x="0" y="35"/>
                          </a:moveTo>
                          <a:lnTo>
                            <a:pt x="5" y="29"/>
                          </a:lnTo>
                          <a:lnTo>
                            <a:pt x="11" y="23"/>
                          </a:lnTo>
                          <a:lnTo>
                            <a:pt x="17" y="17"/>
                          </a:lnTo>
                          <a:lnTo>
                            <a:pt x="22" y="12"/>
                          </a:lnTo>
                          <a:lnTo>
                            <a:pt x="26" y="8"/>
                          </a:lnTo>
                          <a:lnTo>
                            <a:pt x="30" y="5"/>
                          </a:lnTo>
                          <a:lnTo>
                            <a:pt x="32" y="2"/>
                          </a:lnTo>
                          <a:lnTo>
                            <a:pt x="34" y="1"/>
                          </a:lnTo>
                          <a:lnTo>
                            <a:pt x="34" y="0"/>
                          </a:lnTo>
                          <a:lnTo>
                            <a:pt x="3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10" name=""/>
                    <p:cNvSpPr/>
                    <p:nvPr/>
                  </p:nvSpPr>
                  <p:spPr>
                    <a:xfrm flipH="1" flipV="1" rot="5400000">
                      <a:off x="14453280" y="18334800"/>
                      <a:ext cx="252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35">
                          <a:moveTo>
                            <a:pt x="0" y="35"/>
                          </a:moveTo>
                          <a:lnTo>
                            <a:pt x="5" y="29"/>
                          </a:lnTo>
                          <a:lnTo>
                            <a:pt x="11" y="23"/>
                          </a:lnTo>
                          <a:lnTo>
                            <a:pt x="17" y="17"/>
                          </a:lnTo>
                          <a:lnTo>
                            <a:pt x="22" y="12"/>
                          </a:lnTo>
                          <a:lnTo>
                            <a:pt x="26" y="8"/>
                          </a:lnTo>
                          <a:lnTo>
                            <a:pt x="30" y="5"/>
                          </a:lnTo>
                          <a:lnTo>
                            <a:pt x="32" y="2"/>
                          </a:lnTo>
                          <a:lnTo>
                            <a:pt x="34" y="1"/>
                          </a:lnTo>
                          <a:lnTo>
                            <a:pt x="34" y="0"/>
                          </a:lnTo>
                          <a:lnTo>
                            <a:pt x="3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11" name=""/>
                    <p:cNvSpPr/>
                    <p:nvPr/>
                  </p:nvSpPr>
                  <p:spPr>
                    <a:xfrm flipH="1" flipV="1" rot="5400000">
                      <a:off x="14322600" y="18284040"/>
                      <a:ext cx="117000" cy="496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880" bIns="2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12" name=""/>
                    <p:cNvSpPr/>
                    <p:nvPr/>
                  </p:nvSpPr>
                  <p:spPr>
                    <a:xfrm flipH="1" flipV="1" rot="5400000">
                      <a:off x="14389920" y="18276120"/>
                      <a:ext cx="100800" cy="65520"/>
                    </a:xfrm>
                    <a:custGeom>
                      <a:avLst/>
                      <a:gdLst>
                        <a:gd name="textAreaLeft" fmla="*/ 21960 w 100800"/>
                        <a:gd name="textAreaRight" fmla="*/ 78840 w 100800"/>
                        <a:gd name="textAreaTop" fmla="*/ 14400 h 65520"/>
                        <a:gd name="textAreaBottom" fmla="*/ 51120 h 6552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16200" y="21600"/>
                          </a:lnTo>
                          <a:lnTo>
                            <a:pt x="5400" y="2160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080" bIns="-10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113" name=""/>
                <p:cNvGrpSpPr/>
                <p:nvPr/>
              </p:nvGrpSpPr>
              <p:grpSpPr>
                <a:xfrm>
                  <a:off x="14095440" y="18244080"/>
                  <a:ext cx="161280" cy="162000"/>
                  <a:chOff x="14095440" y="18244080"/>
                  <a:chExt cx="161280" cy="162000"/>
                </a:xfrm>
              </p:grpSpPr>
              <p:sp>
                <p:nvSpPr>
                  <p:cNvPr id="2114" name=""/>
                  <p:cNvSpPr/>
                  <p:nvPr/>
                </p:nvSpPr>
                <p:spPr>
                  <a:xfrm flipH="1" flipV="1" rot="5400000">
                    <a:off x="14184000" y="18207360"/>
                    <a:ext cx="36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5" name=""/>
                  <p:cNvSpPr/>
                  <p:nvPr/>
                </p:nvSpPr>
                <p:spPr>
                  <a:xfrm flipH="1" flipV="1" rot="5400000">
                    <a:off x="14184000" y="18194400"/>
                    <a:ext cx="36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6" name=""/>
                  <p:cNvSpPr/>
                  <p:nvPr/>
                </p:nvSpPr>
                <p:spPr>
                  <a:xfrm flipH="1" flipV="1" rot="5400000">
                    <a:off x="14183640" y="18355680"/>
                    <a:ext cx="108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7" name=""/>
                  <p:cNvSpPr/>
                  <p:nvPr/>
                </p:nvSpPr>
                <p:spPr>
                  <a:xfrm flipH="1" flipV="1" rot="5400000">
                    <a:off x="14183640" y="18343440"/>
                    <a:ext cx="144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8" name=""/>
                  <p:cNvSpPr/>
                  <p:nvPr/>
                </p:nvSpPr>
                <p:spPr>
                  <a:xfrm flipH="1" flipV="1" rot="5400000">
                    <a:off x="14196240" y="18351360"/>
                    <a:ext cx="36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925">
                        <a:moveTo>
                          <a:pt x="0" y="0"/>
                        </a:moveTo>
                        <a:lnTo>
                          <a:pt x="18" y="1925"/>
                        </a:lnTo>
                        <a:lnTo>
                          <a:pt x="19" y="1925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9" name=""/>
                  <p:cNvSpPr/>
                  <p:nvPr/>
                </p:nvSpPr>
                <p:spPr>
                  <a:xfrm flipH="1" flipV="1" rot="5400000">
                    <a:off x="14232240" y="18364680"/>
                    <a:ext cx="1980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8" h="605">
                        <a:moveTo>
                          <a:pt x="0" y="0"/>
                        </a:moveTo>
                        <a:lnTo>
                          <a:pt x="184" y="396"/>
                        </a:lnTo>
                        <a:lnTo>
                          <a:pt x="567" y="605"/>
                        </a:lnTo>
                        <a:lnTo>
                          <a:pt x="568" y="605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0" name=""/>
                  <p:cNvSpPr/>
                  <p:nvPr/>
                </p:nvSpPr>
                <p:spPr>
                  <a:xfrm flipH="1" flipV="1" rot="5400000">
                    <a:off x="14214600" y="18324360"/>
                    <a:ext cx="8136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269" h="103">
                        <a:moveTo>
                          <a:pt x="0" y="2"/>
                        </a:moveTo>
                        <a:lnTo>
                          <a:pt x="1135" y="103"/>
                        </a:lnTo>
                        <a:lnTo>
                          <a:pt x="2268" y="0"/>
                        </a:lnTo>
                        <a:lnTo>
                          <a:pt x="2269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1" name=""/>
                  <p:cNvSpPr/>
                  <p:nvPr/>
                </p:nvSpPr>
                <p:spPr>
                  <a:xfrm flipH="1" flipV="1" rot="5400000">
                    <a:off x="14232240" y="18263160"/>
                    <a:ext cx="1980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8" h="605">
                        <a:moveTo>
                          <a:pt x="0" y="605"/>
                        </a:moveTo>
                        <a:lnTo>
                          <a:pt x="382" y="396"/>
                        </a:lnTo>
                        <a:lnTo>
                          <a:pt x="567" y="0"/>
                        </a:lnTo>
                        <a:lnTo>
                          <a:pt x="568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2" name=""/>
                  <p:cNvSpPr/>
                  <p:nvPr/>
                </p:nvSpPr>
                <p:spPr>
                  <a:xfrm flipH="1" flipV="1" rot="5400000">
                    <a:off x="14196240" y="18229680"/>
                    <a:ext cx="36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925">
                        <a:moveTo>
                          <a:pt x="0" y="1925"/>
                        </a:moveTo>
                        <a:lnTo>
                          <a:pt x="16" y="0"/>
                        </a:lnTo>
                        <a:lnTo>
                          <a:pt x="17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3" name=""/>
                  <p:cNvSpPr/>
                  <p:nvPr/>
                </p:nvSpPr>
                <p:spPr>
                  <a:xfrm flipH="1" flipV="1" rot="5400000">
                    <a:off x="14135040" y="18263160"/>
                    <a:ext cx="2556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745" h="787">
                        <a:moveTo>
                          <a:pt x="745" y="787"/>
                        </a:moveTo>
                        <a:lnTo>
                          <a:pt x="623" y="420"/>
                        </a:lnTo>
                        <a:lnTo>
                          <a:pt x="358" y="14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4" name=""/>
                  <p:cNvSpPr/>
                  <p:nvPr/>
                </p:nvSpPr>
                <p:spPr>
                  <a:xfrm flipH="1" flipV="1" rot="5400000">
                    <a:off x="14097600" y="18324000"/>
                    <a:ext cx="6984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1947" h="77">
                        <a:moveTo>
                          <a:pt x="1947" y="76"/>
                        </a:moveTo>
                        <a:lnTo>
                          <a:pt x="974" y="0"/>
                        </a:lnTo>
                        <a:lnTo>
                          <a:pt x="0" y="77"/>
                        </a:lnTo>
                        <a:lnTo>
                          <a:pt x="1" y="77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5" name=""/>
                  <p:cNvSpPr/>
                  <p:nvPr/>
                </p:nvSpPr>
                <p:spPr>
                  <a:xfrm flipH="1" flipV="1" rot="5400000">
                    <a:off x="14134680" y="18358920"/>
                    <a:ext cx="2592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744" h="788">
                        <a:moveTo>
                          <a:pt x="744" y="0"/>
                        </a:moveTo>
                        <a:lnTo>
                          <a:pt x="386" y="141"/>
                        </a:lnTo>
                        <a:lnTo>
                          <a:pt x="121" y="421"/>
                        </a:lnTo>
                        <a:lnTo>
                          <a:pt x="0" y="788"/>
                        </a:lnTo>
                        <a:lnTo>
                          <a:pt x="1" y="788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6" name=""/>
                  <p:cNvSpPr/>
                  <p:nvPr/>
                </p:nvSpPr>
                <p:spPr>
                  <a:xfrm flipH="1" flipV="1" rot="5400000">
                    <a:off x="14227200" y="18250560"/>
                    <a:ext cx="129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50" h="0">
                        <a:moveTo>
                          <a:pt x="0" y="0"/>
                        </a:moveTo>
                        <a:lnTo>
                          <a:pt x="349" y="0"/>
                        </a:lnTo>
                        <a:lnTo>
                          <a:pt x="350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7" name=""/>
                  <p:cNvSpPr/>
                  <p:nvPr/>
                </p:nvSpPr>
                <p:spPr>
                  <a:xfrm flipH="1" flipV="1" rot="5400000">
                    <a:off x="14227560" y="18399240"/>
                    <a:ext cx="1260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49" h="0">
                        <a:moveTo>
                          <a:pt x="349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8" name=""/>
                  <p:cNvSpPr/>
                  <p:nvPr/>
                </p:nvSpPr>
                <p:spPr>
                  <a:xfrm flipH="1" flipV="1" rot="5400000">
                    <a:off x="14128200" y="18250560"/>
                    <a:ext cx="129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50" h="0">
                        <a:moveTo>
                          <a:pt x="0" y="0"/>
                        </a:moveTo>
                        <a:lnTo>
                          <a:pt x="349" y="0"/>
                        </a:lnTo>
                        <a:lnTo>
                          <a:pt x="350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9" name=""/>
                  <p:cNvSpPr/>
                  <p:nvPr/>
                </p:nvSpPr>
                <p:spPr>
                  <a:xfrm flipH="1" flipV="1" rot="5400000">
                    <a:off x="14114520" y="18325080"/>
                    <a:ext cx="2412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8" h="0">
                        <a:moveTo>
                          <a:pt x="698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0" name=""/>
                  <p:cNvSpPr/>
                  <p:nvPr/>
                </p:nvSpPr>
                <p:spPr>
                  <a:xfrm flipH="1" flipV="1" rot="5400000">
                    <a:off x="14127480" y="18310680"/>
                    <a:ext cx="144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33">
                        <a:moveTo>
                          <a:pt x="0" y="133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1" name=""/>
                  <p:cNvSpPr/>
                  <p:nvPr/>
                </p:nvSpPr>
                <p:spPr>
                  <a:xfrm flipH="1" flipV="1" rot="5400000">
                    <a:off x="14128200" y="18335160"/>
                    <a:ext cx="36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34">
                        <a:moveTo>
                          <a:pt x="0" y="134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2" name=""/>
                  <p:cNvSpPr/>
                  <p:nvPr/>
                </p:nvSpPr>
                <p:spPr>
                  <a:xfrm flipH="1" flipV="1" rot="5400000">
                    <a:off x="14128560" y="18399240"/>
                    <a:ext cx="1260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49" h="0">
                        <a:moveTo>
                          <a:pt x="349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3" name=""/>
                  <p:cNvSpPr/>
                  <p:nvPr/>
                </p:nvSpPr>
                <p:spPr>
                  <a:xfrm flipH="1" flipV="1" rot="5400000">
                    <a:off x="14043960" y="18315360"/>
                    <a:ext cx="12168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3444" h="562">
                        <a:moveTo>
                          <a:pt x="3405" y="560"/>
                        </a:moveTo>
                        <a:lnTo>
                          <a:pt x="3444" y="429"/>
                        </a:lnTo>
                        <a:lnTo>
                          <a:pt x="3366" y="316"/>
                        </a:lnTo>
                        <a:lnTo>
                          <a:pt x="2559" y="78"/>
                        </a:lnTo>
                        <a:lnTo>
                          <a:pt x="1722" y="0"/>
                        </a:lnTo>
                        <a:lnTo>
                          <a:pt x="884" y="79"/>
                        </a:lnTo>
                        <a:lnTo>
                          <a:pt x="78" y="318"/>
                        </a:lnTo>
                        <a:lnTo>
                          <a:pt x="0" y="430"/>
                        </a:lnTo>
                        <a:lnTo>
                          <a:pt x="39" y="562"/>
                        </a:lnTo>
                        <a:lnTo>
                          <a:pt x="40" y="562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4" name=""/>
                  <p:cNvSpPr/>
                  <p:nvPr/>
                </p:nvSpPr>
                <p:spPr>
                  <a:xfrm flipH="1" flipV="1" rot="5400000">
                    <a:off x="14062680" y="18311040"/>
                    <a:ext cx="11268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52" h="740">
                        <a:moveTo>
                          <a:pt x="3152" y="738"/>
                        </a:moveTo>
                        <a:lnTo>
                          <a:pt x="3126" y="512"/>
                        </a:lnTo>
                        <a:lnTo>
                          <a:pt x="2966" y="350"/>
                        </a:lnTo>
                        <a:lnTo>
                          <a:pt x="2290" y="101"/>
                        </a:lnTo>
                        <a:lnTo>
                          <a:pt x="1576" y="0"/>
                        </a:lnTo>
                        <a:lnTo>
                          <a:pt x="862" y="102"/>
                        </a:lnTo>
                        <a:lnTo>
                          <a:pt x="186" y="352"/>
                        </a:lnTo>
                        <a:lnTo>
                          <a:pt x="26" y="514"/>
                        </a:lnTo>
                        <a:lnTo>
                          <a:pt x="0" y="740"/>
                        </a:lnTo>
                        <a:lnTo>
                          <a:pt x="1" y="74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5" name=""/>
                  <p:cNvSpPr/>
                  <p:nvPr/>
                </p:nvSpPr>
                <p:spPr>
                  <a:xfrm flipH="1" flipV="1" rot="5400000">
                    <a:off x="14113440" y="18350280"/>
                    <a:ext cx="3564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023" h="298">
                        <a:moveTo>
                          <a:pt x="1023" y="0"/>
                        </a:moveTo>
                        <a:lnTo>
                          <a:pt x="496" y="98"/>
                        </a:lnTo>
                        <a:lnTo>
                          <a:pt x="0" y="298"/>
                        </a:lnTo>
                        <a:lnTo>
                          <a:pt x="2" y="298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6" name=""/>
                  <p:cNvSpPr/>
                  <p:nvPr/>
                </p:nvSpPr>
                <p:spPr>
                  <a:xfrm flipH="1" flipV="1" rot="5400000">
                    <a:off x="14131440" y="18375480"/>
                    <a:ext cx="828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203" h="97">
                        <a:moveTo>
                          <a:pt x="0" y="0"/>
                        </a:moveTo>
                        <a:lnTo>
                          <a:pt x="78" y="97"/>
                        </a:lnTo>
                        <a:lnTo>
                          <a:pt x="201" y="93"/>
                        </a:lnTo>
                        <a:lnTo>
                          <a:pt x="203" y="9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7" name=""/>
                  <p:cNvSpPr/>
                  <p:nvPr/>
                </p:nvSpPr>
                <p:spPr>
                  <a:xfrm flipH="1" flipV="1" rot="5400000">
                    <a:off x="14122440" y="18375480"/>
                    <a:ext cx="432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496">
                        <a:moveTo>
                          <a:pt x="109" y="496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8" name=""/>
                  <p:cNvSpPr/>
                  <p:nvPr/>
                </p:nvSpPr>
                <p:spPr>
                  <a:xfrm flipH="1" flipV="1" rot="5400000">
                    <a:off x="14110920" y="18381240"/>
                    <a:ext cx="288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160">
                        <a:moveTo>
                          <a:pt x="84" y="0"/>
                        </a:moveTo>
                        <a:lnTo>
                          <a:pt x="13" y="64"/>
                        </a:lnTo>
                        <a:lnTo>
                          <a:pt x="0" y="160"/>
                        </a:lnTo>
                        <a:lnTo>
                          <a:pt x="1" y="16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9" name=""/>
                  <p:cNvSpPr/>
                  <p:nvPr/>
                </p:nvSpPr>
                <p:spPr>
                  <a:xfrm flipH="1" flipV="1" rot="5400000">
                    <a:off x="14110920" y="18262440"/>
                    <a:ext cx="288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159">
                        <a:moveTo>
                          <a:pt x="84" y="159"/>
                        </a:moveTo>
                        <a:lnTo>
                          <a:pt x="71" y="64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0" name=""/>
                  <p:cNvSpPr/>
                  <p:nvPr/>
                </p:nvSpPr>
                <p:spPr>
                  <a:xfrm flipH="1" flipV="1" rot="5400000">
                    <a:off x="14122800" y="18258120"/>
                    <a:ext cx="396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496">
                        <a:moveTo>
                          <a:pt x="109" y="0"/>
                        </a:moveTo>
                        <a:lnTo>
                          <a:pt x="0" y="496"/>
                        </a:lnTo>
                        <a:lnTo>
                          <a:pt x="1" y="496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1" name=""/>
                  <p:cNvSpPr/>
                  <p:nvPr/>
                </p:nvSpPr>
                <p:spPr>
                  <a:xfrm flipH="1" flipV="1" rot="5400000">
                    <a:off x="14131440" y="18270720"/>
                    <a:ext cx="828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202" h="98">
                        <a:moveTo>
                          <a:pt x="0" y="94"/>
                        </a:moveTo>
                        <a:lnTo>
                          <a:pt x="124" y="98"/>
                        </a:lnTo>
                        <a:lnTo>
                          <a:pt x="201" y="0"/>
                        </a:lnTo>
                        <a:lnTo>
                          <a:pt x="202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2" name=""/>
                  <p:cNvSpPr/>
                  <p:nvPr/>
                </p:nvSpPr>
                <p:spPr>
                  <a:xfrm flipH="1" flipV="1" rot="5400000">
                    <a:off x="14113080" y="18290520"/>
                    <a:ext cx="360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021" h="297">
                        <a:moveTo>
                          <a:pt x="1021" y="297"/>
                        </a:moveTo>
                        <a:lnTo>
                          <a:pt x="525" y="97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43" name=""/>
              <p:cNvGrpSpPr/>
              <p:nvPr/>
            </p:nvGrpSpPr>
            <p:grpSpPr>
              <a:xfrm>
                <a:off x="13595400" y="19195920"/>
                <a:ext cx="355680" cy="460080"/>
                <a:chOff x="13595400" y="19195920"/>
                <a:chExt cx="355680" cy="460080"/>
              </a:xfrm>
            </p:grpSpPr>
            <p:sp>
              <p:nvSpPr>
                <p:cNvPr id="2144" name=""/>
                <p:cNvSpPr/>
                <p:nvPr/>
              </p:nvSpPr>
              <p:spPr>
                <a:xfrm flipV="1" rot="10800000">
                  <a:off x="13663800" y="19346760"/>
                  <a:ext cx="218880" cy="6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45" name=""/>
                <p:cNvGrpSpPr/>
                <p:nvPr/>
              </p:nvGrpSpPr>
              <p:grpSpPr>
                <a:xfrm>
                  <a:off x="13712760" y="19357560"/>
                  <a:ext cx="131760" cy="47880"/>
                  <a:chOff x="13712760" y="19357560"/>
                  <a:chExt cx="131760" cy="47880"/>
                </a:xfrm>
              </p:grpSpPr>
              <p:sp>
                <p:nvSpPr>
                  <p:cNvPr id="2146" name=""/>
                  <p:cNvSpPr/>
                  <p:nvPr/>
                </p:nvSpPr>
                <p:spPr>
                  <a:xfrm flipV="1" rot="10800000">
                    <a:off x="13712760" y="19357200"/>
                    <a:ext cx="131760" cy="47880"/>
                  </a:xfrm>
                  <a:prstGeom prst="rect">
                    <a:avLst/>
                  </a:prstGeom>
                  <a:noFill/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" bIns="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7" name=""/>
                  <p:cNvSpPr/>
                  <p:nvPr/>
                </p:nvSpPr>
                <p:spPr>
                  <a:xfrm flipV="1" rot="10800000">
                    <a:off x="13823280" y="19365480"/>
                    <a:ext cx="15840" cy="32040"/>
                  </a:xfrm>
                  <a:prstGeom prst="rect">
                    <a:avLst/>
                  </a:prstGeom>
                  <a:noFill/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760" bIns="-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8" name=""/>
                  <p:cNvSpPr/>
                  <p:nvPr/>
                </p:nvSpPr>
                <p:spPr>
                  <a:xfrm flipV="1" rot="10800000">
                    <a:off x="13718520" y="19365480"/>
                    <a:ext cx="97560" cy="32040"/>
                  </a:xfrm>
                  <a:prstGeom prst="rect">
                    <a:avLst/>
                  </a:prstGeom>
                  <a:noFill/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760" bIns="-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9" name=""/>
                <p:cNvSpPr/>
                <p:nvPr/>
              </p:nvSpPr>
              <p:spPr>
                <a:xfrm flipV="1" rot="10800000">
                  <a:off x="13595400" y="19413360"/>
                  <a:ext cx="355680" cy="2426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0" name=""/>
                <p:cNvSpPr/>
                <p:nvPr/>
              </p:nvSpPr>
              <p:spPr>
                <a:xfrm flipV="1" rot="9048600">
                  <a:off x="13879440" y="19447560"/>
                  <a:ext cx="22320" cy="31680"/>
                </a:xfrm>
                <a:prstGeom prst="ellipse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1" name=""/>
                <p:cNvSpPr/>
                <p:nvPr/>
              </p:nvSpPr>
              <p:spPr>
                <a:xfrm flipV="1" rot="10800000">
                  <a:off x="13861800" y="19432800"/>
                  <a:ext cx="68040" cy="6660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52" name=""/>
                <p:cNvGrpSpPr/>
                <p:nvPr/>
              </p:nvGrpSpPr>
              <p:grpSpPr>
                <a:xfrm>
                  <a:off x="13693320" y="19437120"/>
                  <a:ext cx="133560" cy="146160"/>
                  <a:chOff x="13693320" y="19437120"/>
                  <a:chExt cx="133560" cy="146160"/>
                </a:xfrm>
              </p:grpSpPr>
              <p:sp>
                <p:nvSpPr>
                  <p:cNvPr id="2153" name=""/>
                  <p:cNvSpPr/>
                  <p:nvPr/>
                </p:nvSpPr>
                <p:spPr>
                  <a:xfrm flipV="1" rot="10800000">
                    <a:off x="13693320" y="19437120"/>
                    <a:ext cx="133560" cy="14616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154" name=""/>
                  <p:cNvGrpSpPr/>
                  <p:nvPr/>
                </p:nvGrpSpPr>
                <p:grpSpPr>
                  <a:xfrm>
                    <a:off x="13702680" y="19456920"/>
                    <a:ext cx="117360" cy="116640"/>
                    <a:chOff x="13702680" y="19456920"/>
                    <a:chExt cx="117360" cy="116640"/>
                  </a:xfrm>
                </p:grpSpPr>
                <p:sp>
                  <p:nvSpPr>
                    <p:cNvPr id="2155" name=""/>
                    <p:cNvSpPr/>
                    <p:nvPr/>
                  </p:nvSpPr>
                  <p:spPr>
                    <a:xfrm flipV="1" rot="10800000">
                      <a:off x="13786200" y="19554480"/>
                      <a:ext cx="252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35">
                          <a:moveTo>
                            <a:pt x="0" y="35"/>
                          </a:moveTo>
                          <a:lnTo>
                            <a:pt x="5" y="29"/>
                          </a:lnTo>
                          <a:lnTo>
                            <a:pt x="11" y="23"/>
                          </a:lnTo>
                          <a:lnTo>
                            <a:pt x="17" y="17"/>
                          </a:lnTo>
                          <a:lnTo>
                            <a:pt x="22" y="12"/>
                          </a:lnTo>
                          <a:lnTo>
                            <a:pt x="26" y="8"/>
                          </a:lnTo>
                          <a:lnTo>
                            <a:pt x="30" y="5"/>
                          </a:lnTo>
                          <a:lnTo>
                            <a:pt x="32" y="2"/>
                          </a:lnTo>
                          <a:lnTo>
                            <a:pt x="34" y="1"/>
                          </a:lnTo>
                          <a:lnTo>
                            <a:pt x="34" y="0"/>
                          </a:lnTo>
                          <a:lnTo>
                            <a:pt x="3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6" name=""/>
                    <p:cNvSpPr/>
                    <p:nvPr/>
                  </p:nvSpPr>
                  <p:spPr>
                    <a:xfrm flipV="1" rot="10800000">
                      <a:off x="13786200" y="19554480"/>
                      <a:ext cx="252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35">
                          <a:moveTo>
                            <a:pt x="0" y="35"/>
                          </a:moveTo>
                          <a:lnTo>
                            <a:pt x="5" y="29"/>
                          </a:lnTo>
                          <a:lnTo>
                            <a:pt x="11" y="23"/>
                          </a:lnTo>
                          <a:lnTo>
                            <a:pt x="17" y="17"/>
                          </a:lnTo>
                          <a:lnTo>
                            <a:pt x="22" y="12"/>
                          </a:lnTo>
                          <a:lnTo>
                            <a:pt x="26" y="8"/>
                          </a:lnTo>
                          <a:lnTo>
                            <a:pt x="30" y="5"/>
                          </a:lnTo>
                          <a:lnTo>
                            <a:pt x="32" y="2"/>
                          </a:lnTo>
                          <a:lnTo>
                            <a:pt x="34" y="1"/>
                          </a:lnTo>
                          <a:lnTo>
                            <a:pt x="34" y="0"/>
                          </a:lnTo>
                          <a:lnTo>
                            <a:pt x="3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7" name=""/>
                    <p:cNvSpPr/>
                    <p:nvPr/>
                  </p:nvSpPr>
                  <p:spPr>
                    <a:xfrm flipV="1" rot="10800000">
                      <a:off x="13702680" y="19456920"/>
                      <a:ext cx="117360" cy="496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880" bIns="2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8" name=""/>
                    <p:cNvSpPr/>
                    <p:nvPr/>
                  </p:nvSpPr>
                  <p:spPr>
                    <a:xfrm flipV="1" rot="10800000">
                      <a:off x="13710240" y="19508040"/>
                      <a:ext cx="101160" cy="65520"/>
                    </a:xfrm>
                    <a:custGeom>
                      <a:avLst/>
                      <a:gdLst>
                        <a:gd name="textAreaLeft" fmla="*/ 22320 w 101160"/>
                        <a:gd name="textAreaRight" fmla="*/ 78840 w 101160"/>
                        <a:gd name="textAreaTop" fmla="*/ 14400 h 65520"/>
                        <a:gd name="textAreaBottom" fmla="*/ 51120 h 6552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16200" y="21600"/>
                          </a:lnTo>
                          <a:lnTo>
                            <a:pt x="5400" y="2160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080" bIns="-10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159" name=""/>
                <p:cNvGrpSpPr/>
                <p:nvPr/>
              </p:nvGrpSpPr>
              <p:grpSpPr>
                <a:xfrm>
                  <a:off x="13696560" y="19195920"/>
                  <a:ext cx="162360" cy="161280"/>
                  <a:chOff x="13696560" y="19195920"/>
                  <a:chExt cx="162360" cy="161280"/>
                </a:xfrm>
              </p:grpSpPr>
              <p:sp>
                <p:nvSpPr>
                  <p:cNvPr id="2160" name=""/>
                  <p:cNvSpPr/>
                  <p:nvPr/>
                </p:nvSpPr>
                <p:spPr>
                  <a:xfrm flipV="1" rot="10800000">
                    <a:off x="13709880" y="19235520"/>
                    <a:ext cx="36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1" name=""/>
                  <p:cNvSpPr/>
                  <p:nvPr/>
                </p:nvSpPr>
                <p:spPr>
                  <a:xfrm flipV="1" rot="10800000">
                    <a:off x="13696560" y="19235520"/>
                    <a:ext cx="36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2" name=""/>
                  <p:cNvSpPr/>
                  <p:nvPr/>
                </p:nvSpPr>
                <p:spPr>
                  <a:xfrm flipV="1" rot="10800000">
                    <a:off x="13857840" y="19235520"/>
                    <a:ext cx="108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3" name=""/>
                  <p:cNvSpPr/>
                  <p:nvPr/>
                </p:nvSpPr>
                <p:spPr>
                  <a:xfrm flipV="1" rot="10800000">
                    <a:off x="13844880" y="19235520"/>
                    <a:ext cx="144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4" name=""/>
                  <p:cNvSpPr/>
                  <p:nvPr/>
                </p:nvSpPr>
                <p:spPr>
                  <a:xfrm flipV="1" rot="10800000">
                    <a:off x="13838760" y="19262520"/>
                    <a:ext cx="36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925">
                        <a:moveTo>
                          <a:pt x="0" y="0"/>
                        </a:moveTo>
                        <a:lnTo>
                          <a:pt x="18" y="1925"/>
                        </a:lnTo>
                        <a:lnTo>
                          <a:pt x="19" y="1925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5" name=""/>
                  <p:cNvSpPr/>
                  <p:nvPr/>
                </p:nvSpPr>
                <p:spPr>
                  <a:xfrm flipV="1" rot="10800000">
                    <a:off x="13818960" y="19331280"/>
                    <a:ext cx="2016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8" h="605">
                        <a:moveTo>
                          <a:pt x="0" y="0"/>
                        </a:moveTo>
                        <a:lnTo>
                          <a:pt x="184" y="396"/>
                        </a:lnTo>
                        <a:lnTo>
                          <a:pt x="567" y="605"/>
                        </a:lnTo>
                        <a:lnTo>
                          <a:pt x="568" y="605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6" name=""/>
                  <p:cNvSpPr/>
                  <p:nvPr/>
                </p:nvSpPr>
                <p:spPr>
                  <a:xfrm flipV="1" rot="10800000">
                    <a:off x="13737600" y="19354320"/>
                    <a:ext cx="8136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269" h="103">
                        <a:moveTo>
                          <a:pt x="0" y="2"/>
                        </a:moveTo>
                        <a:lnTo>
                          <a:pt x="1135" y="103"/>
                        </a:lnTo>
                        <a:lnTo>
                          <a:pt x="2268" y="0"/>
                        </a:lnTo>
                        <a:lnTo>
                          <a:pt x="2269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7" name=""/>
                  <p:cNvSpPr/>
                  <p:nvPr/>
                </p:nvSpPr>
                <p:spPr>
                  <a:xfrm flipV="1" rot="10800000">
                    <a:off x="13717080" y="19331280"/>
                    <a:ext cx="2016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8" h="605">
                        <a:moveTo>
                          <a:pt x="0" y="605"/>
                        </a:moveTo>
                        <a:lnTo>
                          <a:pt x="382" y="396"/>
                        </a:lnTo>
                        <a:lnTo>
                          <a:pt x="567" y="0"/>
                        </a:lnTo>
                        <a:lnTo>
                          <a:pt x="568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8" name=""/>
                  <p:cNvSpPr/>
                  <p:nvPr/>
                </p:nvSpPr>
                <p:spPr>
                  <a:xfrm flipV="1" rot="10800000">
                    <a:off x="13716720" y="19262520"/>
                    <a:ext cx="36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925">
                        <a:moveTo>
                          <a:pt x="0" y="1925"/>
                        </a:moveTo>
                        <a:lnTo>
                          <a:pt x="16" y="0"/>
                        </a:lnTo>
                        <a:lnTo>
                          <a:pt x="17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9" name=""/>
                  <p:cNvSpPr/>
                  <p:nvPr/>
                </p:nvSpPr>
                <p:spPr>
                  <a:xfrm flipV="1" rot="10800000">
                    <a:off x="13717440" y="19234080"/>
                    <a:ext cx="2556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745" h="787">
                        <a:moveTo>
                          <a:pt x="745" y="787"/>
                        </a:moveTo>
                        <a:lnTo>
                          <a:pt x="623" y="420"/>
                        </a:lnTo>
                        <a:lnTo>
                          <a:pt x="358" y="14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0" name=""/>
                  <p:cNvSpPr/>
                  <p:nvPr/>
                </p:nvSpPr>
                <p:spPr>
                  <a:xfrm flipV="1" rot="10800000">
                    <a:off x="13743000" y="19231560"/>
                    <a:ext cx="7020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1947" h="77">
                        <a:moveTo>
                          <a:pt x="1947" y="76"/>
                        </a:moveTo>
                        <a:lnTo>
                          <a:pt x="974" y="0"/>
                        </a:lnTo>
                        <a:lnTo>
                          <a:pt x="0" y="77"/>
                        </a:lnTo>
                        <a:lnTo>
                          <a:pt x="1" y="77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1" name=""/>
                  <p:cNvSpPr/>
                  <p:nvPr/>
                </p:nvSpPr>
                <p:spPr>
                  <a:xfrm flipV="1" rot="10800000">
                    <a:off x="13813200" y="19234080"/>
                    <a:ext cx="2592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744" h="788">
                        <a:moveTo>
                          <a:pt x="744" y="0"/>
                        </a:moveTo>
                        <a:lnTo>
                          <a:pt x="386" y="141"/>
                        </a:lnTo>
                        <a:lnTo>
                          <a:pt x="121" y="421"/>
                        </a:lnTo>
                        <a:lnTo>
                          <a:pt x="0" y="788"/>
                        </a:lnTo>
                        <a:lnTo>
                          <a:pt x="1" y="788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2" name=""/>
                  <p:cNvSpPr/>
                  <p:nvPr/>
                </p:nvSpPr>
                <p:spPr>
                  <a:xfrm flipV="1" rot="10800000">
                    <a:off x="13697280" y="19334160"/>
                    <a:ext cx="129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50" h="0">
                        <a:moveTo>
                          <a:pt x="0" y="0"/>
                        </a:moveTo>
                        <a:lnTo>
                          <a:pt x="349" y="0"/>
                        </a:lnTo>
                        <a:lnTo>
                          <a:pt x="350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3" name=""/>
                  <p:cNvSpPr/>
                  <p:nvPr/>
                </p:nvSpPr>
                <p:spPr>
                  <a:xfrm flipV="1" rot="10800000">
                    <a:off x="13846320" y="19334160"/>
                    <a:ext cx="1260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49" h="0">
                        <a:moveTo>
                          <a:pt x="349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4" name=""/>
                  <p:cNvSpPr/>
                  <p:nvPr/>
                </p:nvSpPr>
                <p:spPr>
                  <a:xfrm flipV="1" rot="10800000">
                    <a:off x="13697280" y="19235160"/>
                    <a:ext cx="129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50" h="0">
                        <a:moveTo>
                          <a:pt x="0" y="0"/>
                        </a:moveTo>
                        <a:lnTo>
                          <a:pt x="349" y="0"/>
                        </a:lnTo>
                        <a:lnTo>
                          <a:pt x="350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5" name=""/>
                  <p:cNvSpPr/>
                  <p:nvPr/>
                </p:nvSpPr>
                <p:spPr>
                  <a:xfrm flipV="1" rot="10800000">
                    <a:off x="13766400" y="19226880"/>
                    <a:ext cx="2412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8" h="0">
                        <a:moveTo>
                          <a:pt x="698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6" name=""/>
                  <p:cNvSpPr/>
                  <p:nvPr/>
                </p:nvSpPr>
                <p:spPr>
                  <a:xfrm flipV="1" rot="10800000">
                    <a:off x="13764600" y="19226880"/>
                    <a:ext cx="144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33">
                        <a:moveTo>
                          <a:pt x="0" y="133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7" name=""/>
                  <p:cNvSpPr/>
                  <p:nvPr/>
                </p:nvSpPr>
                <p:spPr>
                  <a:xfrm flipV="1" rot="10800000">
                    <a:off x="13790160" y="19226880"/>
                    <a:ext cx="36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34">
                        <a:moveTo>
                          <a:pt x="0" y="134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8" name=""/>
                  <p:cNvSpPr/>
                  <p:nvPr/>
                </p:nvSpPr>
                <p:spPr>
                  <a:xfrm flipV="1" rot="10800000">
                    <a:off x="13846320" y="19235160"/>
                    <a:ext cx="1260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49" h="0">
                        <a:moveTo>
                          <a:pt x="349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9" name=""/>
                  <p:cNvSpPr/>
                  <p:nvPr/>
                </p:nvSpPr>
                <p:spPr>
                  <a:xfrm flipV="1" rot="10800000">
                    <a:off x="13717440" y="19195560"/>
                    <a:ext cx="12168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3444" h="562">
                        <a:moveTo>
                          <a:pt x="3405" y="560"/>
                        </a:moveTo>
                        <a:lnTo>
                          <a:pt x="3444" y="429"/>
                        </a:lnTo>
                        <a:lnTo>
                          <a:pt x="3366" y="316"/>
                        </a:lnTo>
                        <a:lnTo>
                          <a:pt x="2559" y="78"/>
                        </a:lnTo>
                        <a:lnTo>
                          <a:pt x="1722" y="0"/>
                        </a:lnTo>
                        <a:lnTo>
                          <a:pt x="884" y="79"/>
                        </a:lnTo>
                        <a:lnTo>
                          <a:pt x="78" y="318"/>
                        </a:lnTo>
                        <a:lnTo>
                          <a:pt x="0" y="430"/>
                        </a:lnTo>
                        <a:lnTo>
                          <a:pt x="39" y="562"/>
                        </a:lnTo>
                        <a:lnTo>
                          <a:pt x="40" y="562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0" name=""/>
                  <p:cNvSpPr/>
                  <p:nvPr/>
                </p:nvSpPr>
                <p:spPr>
                  <a:xfrm flipV="1" rot="10800000">
                    <a:off x="13721760" y="19205280"/>
                    <a:ext cx="11304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52" h="740">
                        <a:moveTo>
                          <a:pt x="3152" y="738"/>
                        </a:moveTo>
                        <a:lnTo>
                          <a:pt x="3126" y="512"/>
                        </a:lnTo>
                        <a:lnTo>
                          <a:pt x="2966" y="350"/>
                        </a:lnTo>
                        <a:lnTo>
                          <a:pt x="2290" y="101"/>
                        </a:lnTo>
                        <a:lnTo>
                          <a:pt x="1576" y="0"/>
                        </a:lnTo>
                        <a:lnTo>
                          <a:pt x="862" y="102"/>
                        </a:lnTo>
                        <a:lnTo>
                          <a:pt x="186" y="352"/>
                        </a:lnTo>
                        <a:lnTo>
                          <a:pt x="26" y="514"/>
                        </a:lnTo>
                        <a:lnTo>
                          <a:pt x="0" y="740"/>
                        </a:lnTo>
                        <a:lnTo>
                          <a:pt x="1" y="74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1" name=""/>
                  <p:cNvSpPr/>
                  <p:nvPr/>
                </p:nvSpPr>
                <p:spPr>
                  <a:xfrm flipV="1" rot="10800000">
                    <a:off x="13790520" y="19226880"/>
                    <a:ext cx="3564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023" h="298">
                        <a:moveTo>
                          <a:pt x="1023" y="0"/>
                        </a:moveTo>
                        <a:lnTo>
                          <a:pt x="496" y="98"/>
                        </a:lnTo>
                        <a:lnTo>
                          <a:pt x="0" y="298"/>
                        </a:lnTo>
                        <a:lnTo>
                          <a:pt x="2" y="298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2" name=""/>
                  <p:cNvSpPr/>
                  <p:nvPr/>
                </p:nvSpPr>
                <p:spPr>
                  <a:xfrm flipV="1" rot="10800000">
                    <a:off x="13826520" y="19234080"/>
                    <a:ext cx="828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203" h="97">
                        <a:moveTo>
                          <a:pt x="0" y="0"/>
                        </a:moveTo>
                        <a:lnTo>
                          <a:pt x="78" y="97"/>
                        </a:lnTo>
                        <a:lnTo>
                          <a:pt x="201" y="93"/>
                        </a:lnTo>
                        <a:lnTo>
                          <a:pt x="203" y="9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3" name=""/>
                  <p:cNvSpPr/>
                  <p:nvPr/>
                </p:nvSpPr>
                <p:spPr>
                  <a:xfrm flipV="1" rot="10800000">
                    <a:off x="13834800" y="19216800"/>
                    <a:ext cx="432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496">
                        <a:moveTo>
                          <a:pt x="109" y="496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4" name=""/>
                  <p:cNvSpPr/>
                  <p:nvPr/>
                </p:nvSpPr>
                <p:spPr>
                  <a:xfrm flipV="1" rot="10800000">
                    <a:off x="13836240" y="19209600"/>
                    <a:ext cx="288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160">
                        <a:moveTo>
                          <a:pt x="84" y="0"/>
                        </a:moveTo>
                        <a:lnTo>
                          <a:pt x="13" y="64"/>
                        </a:lnTo>
                        <a:lnTo>
                          <a:pt x="0" y="160"/>
                        </a:lnTo>
                        <a:lnTo>
                          <a:pt x="1" y="16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5" name=""/>
                  <p:cNvSpPr/>
                  <p:nvPr/>
                </p:nvSpPr>
                <p:spPr>
                  <a:xfrm flipV="1" rot="10800000">
                    <a:off x="13717440" y="19209600"/>
                    <a:ext cx="288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159">
                        <a:moveTo>
                          <a:pt x="84" y="159"/>
                        </a:moveTo>
                        <a:lnTo>
                          <a:pt x="71" y="64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6" name=""/>
                  <p:cNvSpPr/>
                  <p:nvPr/>
                </p:nvSpPr>
                <p:spPr>
                  <a:xfrm flipV="1" rot="10800000">
                    <a:off x="13717440" y="19216800"/>
                    <a:ext cx="396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496">
                        <a:moveTo>
                          <a:pt x="109" y="0"/>
                        </a:moveTo>
                        <a:lnTo>
                          <a:pt x="0" y="496"/>
                        </a:lnTo>
                        <a:lnTo>
                          <a:pt x="1" y="496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7" name=""/>
                  <p:cNvSpPr/>
                  <p:nvPr/>
                </p:nvSpPr>
                <p:spPr>
                  <a:xfrm flipV="1" rot="10800000">
                    <a:off x="13721760" y="19234080"/>
                    <a:ext cx="828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202" h="98">
                        <a:moveTo>
                          <a:pt x="0" y="94"/>
                        </a:moveTo>
                        <a:lnTo>
                          <a:pt x="124" y="98"/>
                        </a:lnTo>
                        <a:lnTo>
                          <a:pt x="201" y="0"/>
                        </a:lnTo>
                        <a:lnTo>
                          <a:pt x="202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8" name=""/>
                  <p:cNvSpPr/>
                  <p:nvPr/>
                </p:nvSpPr>
                <p:spPr>
                  <a:xfrm flipV="1" rot="10800000">
                    <a:off x="13730040" y="19226880"/>
                    <a:ext cx="360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021" h="297">
                        <a:moveTo>
                          <a:pt x="1021" y="297"/>
                        </a:moveTo>
                        <a:lnTo>
                          <a:pt x="525" y="97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89" name=""/>
              <p:cNvGrpSpPr/>
              <p:nvPr/>
            </p:nvGrpSpPr>
            <p:grpSpPr>
              <a:xfrm>
                <a:off x="9182160" y="17811360"/>
                <a:ext cx="801360" cy="630360"/>
                <a:chOff x="9182160" y="17811360"/>
                <a:chExt cx="801360" cy="630360"/>
              </a:xfrm>
            </p:grpSpPr>
            <p:grpSp>
              <p:nvGrpSpPr>
                <p:cNvPr id="2190" name=""/>
                <p:cNvGrpSpPr/>
                <p:nvPr/>
              </p:nvGrpSpPr>
              <p:grpSpPr>
                <a:xfrm>
                  <a:off x="9182160" y="17811360"/>
                  <a:ext cx="460080" cy="355680"/>
                  <a:chOff x="9182160" y="17811360"/>
                  <a:chExt cx="460080" cy="355680"/>
                </a:xfrm>
              </p:grpSpPr>
              <p:sp>
                <p:nvSpPr>
                  <p:cNvPr id="2191" name=""/>
                  <p:cNvSpPr/>
                  <p:nvPr/>
                </p:nvSpPr>
                <p:spPr>
                  <a:xfrm flipV="1" rot="16200000">
                    <a:off x="9347040" y="17954280"/>
                    <a:ext cx="218880" cy="6984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192" name=""/>
                  <p:cNvGrpSpPr/>
                  <p:nvPr/>
                </p:nvGrpSpPr>
                <p:grpSpPr>
                  <a:xfrm>
                    <a:off x="9432720" y="17928720"/>
                    <a:ext cx="47880" cy="131760"/>
                    <a:chOff x="9432720" y="17928720"/>
                    <a:chExt cx="47880" cy="131760"/>
                  </a:xfrm>
                </p:grpSpPr>
                <p:sp>
                  <p:nvSpPr>
                    <p:cNvPr id="2193" name=""/>
                    <p:cNvSpPr/>
                    <p:nvPr/>
                  </p:nvSpPr>
                  <p:spPr>
                    <a:xfrm flipV="1" rot="16200000">
                      <a:off x="9390600" y="17970480"/>
                      <a:ext cx="131760" cy="4788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080" bIns="1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4" name=""/>
                    <p:cNvSpPr/>
                    <p:nvPr/>
                  </p:nvSpPr>
                  <p:spPr>
                    <a:xfrm flipV="1" rot="16200000">
                      <a:off x="9448200" y="18030960"/>
                      <a:ext cx="15840" cy="3204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760" bIns="-147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5" name=""/>
                    <p:cNvSpPr/>
                    <p:nvPr/>
                  </p:nvSpPr>
                  <p:spPr>
                    <a:xfrm flipV="1" rot="16200000">
                      <a:off x="9407520" y="17966880"/>
                      <a:ext cx="97560" cy="3204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760" bIns="-147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196" name=""/>
                  <p:cNvSpPr/>
                  <p:nvPr/>
                </p:nvSpPr>
                <p:spPr>
                  <a:xfrm flipV="1" rot="16200000">
                    <a:off x="9125640" y="17867880"/>
                    <a:ext cx="355680" cy="24264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7" name=""/>
                  <p:cNvSpPr/>
                  <p:nvPr/>
                </p:nvSpPr>
                <p:spPr>
                  <a:xfrm flipV="1" rot="14448600">
                    <a:off x="9362880" y="18090360"/>
                    <a:ext cx="22320" cy="31680"/>
                  </a:xfrm>
                  <a:prstGeom prst="ellipse">
                    <a:avLst/>
                  </a:prstGeom>
                  <a:noFill/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8" name=""/>
                  <p:cNvSpPr/>
                  <p:nvPr/>
                </p:nvSpPr>
                <p:spPr>
                  <a:xfrm flipV="1" rot="16200000">
                    <a:off x="9337680" y="18078120"/>
                    <a:ext cx="68040" cy="66600"/>
                  </a:xfrm>
                  <a:prstGeom prst="rect">
                    <a:avLst/>
                  </a:prstGeom>
                  <a:noFill/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800" bIns="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199" name=""/>
                  <p:cNvGrpSpPr/>
                  <p:nvPr/>
                </p:nvGrpSpPr>
                <p:grpSpPr>
                  <a:xfrm>
                    <a:off x="9254880" y="17909280"/>
                    <a:ext cx="146160" cy="133560"/>
                    <a:chOff x="9254880" y="17909280"/>
                    <a:chExt cx="146160" cy="133560"/>
                  </a:xfrm>
                </p:grpSpPr>
                <p:sp>
                  <p:nvSpPr>
                    <p:cNvPr id="2200" name=""/>
                    <p:cNvSpPr/>
                    <p:nvPr/>
                  </p:nvSpPr>
                  <p:spPr>
                    <a:xfrm flipV="1" rot="16200000">
                      <a:off x="9261000" y="17902440"/>
                      <a:ext cx="133560" cy="1461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201" name=""/>
                    <p:cNvGrpSpPr/>
                    <p:nvPr/>
                  </p:nvGrpSpPr>
                  <p:grpSpPr>
                    <a:xfrm>
                      <a:off x="9264600" y="17918640"/>
                      <a:ext cx="116640" cy="117360"/>
                      <a:chOff x="9264600" y="17918640"/>
                      <a:chExt cx="116640" cy="117360"/>
                    </a:xfrm>
                  </p:grpSpPr>
                  <p:sp>
                    <p:nvSpPr>
                      <p:cNvPr id="2202" name=""/>
                      <p:cNvSpPr/>
                      <p:nvPr/>
                    </p:nvSpPr>
                    <p:spPr>
                      <a:xfrm flipV="1" rot="16200000">
                        <a:off x="9281520" y="18002520"/>
                        <a:ext cx="252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" h="35">
                            <a:moveTo>
                              <a:pt x="0" y="35"/>
                            </a:moveTo>
                            <a:lnTo>
                              <a:pt x="5" y="29"/>
                            </a:lnTo>
                            <a:lnTo>
                              <a:pt x="11" y="23"/>
                            </a:lnTo>
                            <a:lnTo>
                              <a:pt x="17" y="17"/>
                            </a:lnTo>
                            <a:lnTo>
                              <a:pt x="22" y="12"/>
                            </a:lnTo>
                            <a:lnTo>
                              <a:pt x="26" y="8"/>
                            </a:lnTo>
                            <a:lnTo>
                              <a:pt x="30" y="5"/>
                            </a:lnTo>
                            <a:lnTo>
                              <a:pt x="32" y="2"/>
                            </a:lnTo>
                            <a:lnTo>
                              <a:pt x="34" y="1"/>
                            </a:lnTo>
                            <a:lnTo>
                              <a:pt x="34" y="0"/>
                            </a:lnTo>
                            <a:lnTo>
                              <a:pt x="35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6633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03" name=""/>
                      <p:cNvSpPr/>
                      <p:nvPr/>
                    </p:nvSpPr>
                    <p:spPr>
                      <a:xfrm flipV="1" rot="16200000">
                        <a:off x="9281520" y="18002520"/>
                        <a:ext cx="252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" h="35">
                            <a:moveTo>
                              <a:pt x="0" y="35"/>
                            </a:moveTo>
                            <a:lnTo>
                              <a:pt x="5" y="29"/>
                            </a:lnTo>
                            <a:lnTo>
                              <a:pt x="11" y="23"/>
                            </a:lnTo>
                            <a:lnTo>
                              <a:pt x="17" y="17"/>
                            </a:lnTo>
                            <a:lnTo>
                              <a:pt x="22" y="12"/>
                            </a:lnTo>
                            <a:lnTo>
                              <a:pt x="26" y="8"/>
                            </a:lnTo>
                            <a:lnTo>
                              <a:pt x="30" y="5"/>
                            </a:lnTo>
                            <a:lnTo>
                              <a:pt x="32" y="2"/>
                            </a:lnTo>
                            <a:lnTo>
                              <a:pt x="34" y="1"/>
                            </a:lnTo>
                            <a:lnTo>
                              <a:pt x="34" y="0"/>
                            </a:lnTo>
                            <a:lnTo>
                              <a:pt x="35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6633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04" name=""/>
                      <p:cNvSpPr/>
                      <p:nvPr/>
                    </p:nvSpPr>
                    <p:spPr>
                      <a:xfrm flipV="1" rot="16200000">
                        <a:off x="9297720" y="17952480"/>
                        <a:ext cx="117360" cy="496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880" bIns="2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05" name=""/>
                      <p:cNvSpPr/>
                      <p:nvPr/>
                    </p:nvSpPr>
                    <p:spPr>
                      <a:xfrm flipV="1" rot="16200000">
                        <a:off x="9246600" y="17943480"/>
                        <a:ext cx="101160" cy="65520"/>
                      </a:xfrm>
                      <a:custGeom>
                        <a:avLst/>
                        <a:gdLst>
                          <a:gd name="textAreaLeft" fmla="*/ 22320 w 101160"/>
                          <a:gd name="textAreaRight" fmla="*/ 78840 w 101160"/>
                          <a:gd name="textAreaTop" fmla="*/ 14400 h 65520"/>
                          <a:gd name="textAreaBottom" fmla="*/ 51120 h 6552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21600" y="0"/>
                            </a:lnTo>
                            <a:lnTo>
                              <a:pt x="16200" y="21600"/>
                            </a:lnTo>
                            <a:lnTo>
                              <a:pt x="5400" y="2160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0080" bIns="-100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206" name=""/>
                  <p:cNvGrpSpPr/>
                  <p:nvPr/>
                </p:nvGrpSpPr>
                <p:grpSpPr>
                  <a:xfrm>
                    <a:off x="9480960" y="17912520"/>
                    <a:ext cx="161280" cy="162360"/>
                    <a:chOff x="9480960" y="17912520"/>
                    <a:chExt cx="161280" cy="162360"/>
                  </a:xfrm>
                </p:grpSpPr>
                <p:sp>
                  <p:nvSpPr>
                    <p:cNvPr id="2207" name=""/>
                    <p:cNvSpPr/>
                    <p:nvPr/>
                  </p:nvSpPr>
                  <p:spPr>
                    <a:xfrm flipV="1" rot="16200000">
                      <a:off x="9552960" y="17876160"/>
                      <a:ext cx="360" cy="9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733">
                          <a:moveTo>
                            <a:pt x="0" y="0"/>
                          </a:moveTo>
                          <a:lnTo>
                            <a:pt x="1" y="2733"/>
                          </a:lnTo>
                          <a:lnTo>
                            <a:pt x="2" y="2733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08" name=""/>
                    <p:cNvSpPr/>
                    <p:nvPr/>
                  </p:nvSpPr>
                  <p:spPr>
                    <a:xfrm flipV="1" rot="16200000">
                      <a:off x="9552960" y="17862840"/>
                      <a:ext cx="360" cy="9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733">
                          <a:moveTo>
                            <a:pt x="0" y="0"/>
                          </a:moveTo>
                          <a:lnTo>
                            <a:pt x="1" y="2733"/>
                          </a:lnTo>
                          <a:lnTo>
                            <a:pt x="2" y="2733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09" name=""/>
                    <p:cNvSpPr/>
                    <p:nvPr/>
                  </p:nvSpPr>
                  <p:spPr>
                    <a:xfrm flipV="1" rot="16200000">
                      <a:off x="9552600" y="18024480"/>
                      <a:ext cx="1080" cy="9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733">
                          <a:moveTo>
                            <a:pt x="0" y="0"/>
                          </a:moveTo>
                          <a:lnTo>
                            <a:pt x="1" y="2733"/>
                          </a:lnTo>
                          <a:lnTo>
                            <a:pt x="2" y="2733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0" name=""/>
                    <p:cNvSpPr/>
                    <p:nvPr/>
                  </p:nvSpPr>
                  <p:spPr>
                    <a:xfrm flipV="1" rot="16200000">
                      <a:off x="9552600" y="18012240"/>
                      <a:ext cx="1440" cy="9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733">
                          <a:moveTo>
                            <a:pt x="0" y="0"/>
                          </a:moveTo>
                          <a:lnTo>
                            <a:pt x="1" y="2733"/>
                          </a:lnTo>
                          <a:lnTo>
                            <a:pt x="2" y="2733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1" name=""/>
                    <p:cNvSpPr/>
                    <p:nvPr/>
                  </p:nvSpPr>
                  <p:spPr>
                    <a:xfrm flipV="1" rot="16200000">
                      <a:off x="9540720" y="18020160"/>
                      <a:ext cx="360" cy="6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1925">
                          <a:moveTo>
                            <a:pt x="0" y="0"/>
                          </a:moveTo>
                          <a:lnTo>
                            <a:pt x="18" y="1925"/>
                          </a:lnTo>
                          <a:lnTo>
                            <a:pt x="19" y="1925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960" bIns="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2" name=""/>
                    <p:cNvSpPr/>
                    <p:nvPr/>
                  </p:nvSpPr>
                  <p:spPr>
                    <a:xfrm flipV="1" rot="16200000">
                      <a:off x="9484920" y="18033480"/>
                      <a:ext cx="20160" cy="2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8" h="605">
                          <a:moveTo>
                            <a:pt x="0" y="0"/>
                          </a:moveTo>
                          <a:lnTo>
                            <a:pt x="184" y="396"/>
                          </a:lnTo>
                          <a:lnTo>
                            <a:pt x="567" y="605"/>
                          </a:lnTo>
                          <a:lnTo>
                            <a:pt x="568" y="605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3" name=""/>
                    <p:cNvSpPr/>
                    <p:nvPr/>
                  </p:nvSpPr>
                  <p:spPr>
                    <a:xfrm flipV="1" rot="16200000">
                      <a:off x="9441720" y="17992800"/>
                      <a:ext cx="81360" cy="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69" h="103">
                          <a:moveTo>
                            <a:pt x="0" y="2"/>
                          </a:moveTo>
                          <a:lnTo>
                            <a:pt x="1135" y="103"/>
                          </a:lnTo>
                          <a:lnTo>
                            <a:pt x="2268" y="0"/>
                          </a:lnTo>
                          <a:lnTo>
                            <a:pt x="2269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4" name=""/>
                    <p:cNvSpPr/>
                    <p:nvPr/>
                  </p:nvSpPr>
                  <p:spPr>
                    <a:xfrm flipV="1" rot="16200000">
                      <a:off x="9484920" y="17931600"/>
                      <a:ext cx="20160" cy="2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8" h="605">
                          <a:moveTo>
                            <a:pt x="0" y="605"/>
                          </a:moveTo>
                          <a:lnTo>
                            <a:pt x="382" y="396"/>
                          </a:lnTo>
                          <a:lnTo>
                            <a:pt x="567" y="0"/>
                          </a:lnTo>
                          <a:lnTo>
                            <a:pt x="568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5" name=""/>
                    <p:cNvSpPr/>
                    <p:nvPr/>
                  </p:nvSpPr>
                  <p:spPr>
                    <a:xfrm flipV="1" rot="16200000">
                      <a:off x="9540720" y="17898120"/>
                      <a:ext cx="360" cy="6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925">
                          <a:moveTo>
                            <a:pt x="0" y="1925"/>
                          </a:moveTo>
                          <a:lnTo>
                            <a:pt x="16" y="0"/>
                          </a:lnTo>
                          <a:lnTo>
                            <a:pt x="17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960" bIns="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6" name=""/>
                    <p:cNvSpPr/>
                    <p:nvPr/>
                  </p:nvSpPr>
                  <p:spPr>
                    <a:xfrm flipV="1" rot="16200000">
                      <a:off x="9576720" y="17931600"/>
                      <a:ext cx="2556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45" h="787">
                          <a:moveTo>
                            <a:pt x="745" y="787"/>
                          </a:moveTo>
                          <a:lnTo>
                            <a:pt x="623" y="420"/>
                          </a:lnTo>
                          <a:lnTo>
                            <a:pt x="358" y="140"/>
                          </a:ln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7" name=""/>
                    <p:cNvSpPr/>
                    <p:nvPr/>
                  </p:nvSpPr>
                  <p:spPr>
                    <a:xfrm flipV="1" rot="16200000">
                      <a:off x="9569880" y="17992080"/>
                      <a:ext cx="70200" cy="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47" h="77">
                          <a:moveTo>
                            <a:pt x="1947" y="76"/>
                          </a:moveTo>
                          <a:lnTo>
                            <a:pt x="974" y="0"/>
                          </a:lnTo>
                          <a:lnTo>
                            <a:pt x="0" y="77"/>
                          </a:lnTo>
                          <a:lnTo>
                            <a:pt x="1" y="77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8" name=""/>
                    <p:cNvSpPr/>
                    <p:nvPr/>
                  </p:nvSpPr>
                  <p:spPr>
                    <a:xfrm flipV="1" rot="16200000">
                      <a:off x="9576360" y="18027720"/>
                      <a:ext cx="2592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44" h="788">
                          <a:moveTo>
                            <a:pt x="744" y="0"/>
                          </a:moveTo>
                          <a:lnTo>
                            <a:pt x="386" y="141"/>
                          </a:lnTo>
                          <a:lnTo>
                            <a:pt x="121" y="421"/>
                          </a:lnTo>
                          <a:lnTo>
                            <a:pt x="0" y="788"/>
                          </a:lnTo>
                          <a:lnTo>
                            <a:pt x="1" y="788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9" name=""/>
                    <p:cNvSpPr/>
                    <p:nvPr/>
                  </p:nvSpPr>
                  <p:spPr>
                    <a:xfrm flipV="1" rot="16200000">
                      <a:off x="9496800" y="17919360"/>
                      <a:ext cx="1296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0" h="0">
                          <a:moveTo>
                            <a:pt x="0" y="0"/>
                          </a:moveTo>
                          <a:lnTo>
                            <a:pt x="349" y="0"/>
                          </a:lnTo>
                          <a:lnTo>
                            <a:pt x="350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20" name=""/>
                    <p:cNvSpPr/>
                    <p:nvPr/>
                  </p:nvSpPr>
                  <p:spPr>
                    <a:xfrm flipV="1" rot="16200000">
                      <a:off x="9497160" y="18068040"/>
                      <a:ext cx="1260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9" h="0">
                          <a:moveTo>
                            <a:pt x="349" y="0"/>
                          </a:move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21" name=""/>
                    <p:cNvSpPr/>
                    <p:nvPr/>
                  </p:nvSpPr>
                  <p:spPr>
                    <a:xfrm flipV="1" rot="16200000">
                      <a:off x="9595800" y="17919360"/>
                      <a:ext cx="1296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0" h="0">
                          <a:moveTo>
                            <a:pt x="0" y="0"/>
                          </a:moveTo>
                          <a:lnTo>
                            <a:pt x="349" y="0"/>
                          </a:lnTo>
                          <a:lnTo>
                            <a:pt x="350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22" name=""/>
                    <p:cNvSpPr/>
                    <p:nvPr/>
                  </p:nvSpPr>
                  <p:spPr>
                    <a:xfrm flipV="1" rot="16200000">
                      <a:off x="9598680" y="17993880"/>
                      <a:ext cx="2412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98" h="0">
                          <a:moveTo>
                            <a:pt x="698" y="0"/>
                          </a:move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23" name=""/>
                    <p:cNvSpPr/>
                    <p:nvPr/>
                  </p:nvSpPr>
                  <p:spPr>
                    <a:xfrm flipV="1" rot="16200000">
                      <a:off x="9608040" y="17979120"/>
                      <a:ext cx="1440" cy="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33">
                          <a:moveTo>
                            <a:pt x="0" y="133"/>
                          </a:move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24" name=""/>
                    <p:cNvSpPr/>
                    <p:nvPr/>
                  </p:nvSpPr>
                  <p:spPr>
                    <a:xfrm flipV="1" rot="16200000">
                      <a:off x="9608760" y="18003960"/>
                      <a:ext cx="360" cy="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34">
                          <a:moveTo>
                            <a:pt x="0" y="134"/>
                          </a:move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25" name=""/>
                    <p:cNvSpPr/>
                    <p:nvPr/>
                  </p:nvSpPr>
                  <p:spPr>
                    <a:xfrm flipV="1" rot="16200000">
                      <a:off x="9596160" y="18068040"/>
                      <a:ext cx="1260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9" h="0">
                          <a:moveTo>
                            <a:pt x="349" y="0"/>
                          </a:move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26" name=""/>
                    <p:cNvSpPr/>
                    <p:nvPr/>
                  </p:nvSpPr>
                  <p:spPr>
                    <a:xfrm flipV="1" rot="16200000">
                      <a:off x="9571320" y="17984160"/>
                      <a:ext cx="121680" cy="1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44" h="562">
                          <a:moveTo>
                            <a:pt x="3405" y="560"/>
                          </a:moveTo>
                          <a:lnTo>
                            <a:pt x="3444" y="429"/>
                          </a:lnTo>
                          <a:lnTo>
                            <a:pt x="3366" y="316"/>
                          </a:lnTo>
                          <a:lnTo>
                            <a:pt x="2559" y="78"/>
                          </a:lnTo>
                          <a:lnTo>
                            <a:pt x="1722" y="0"/>
                          </a:lnTo>
                          <a:lnTo>
                            <a:pt x="884" y="79"/>
                          </a:lnTo>
                          <a:lnTo>
                            <a:pt x="78" y="318"/>
                          </a:lnTo>
                          <a:lnTo>
                            <a:pt x="0" y="430"/>
                          </a:lnTo>
                          <a:lnTo>
                            <a:pt x="39" y="562"/>
                          </a:lnTo>
                          <a:lnTo>
                            <a:pt x="40" y="562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000" bIns="-27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27" name=""/>
                    <p:cNvSpPr/>
                    <p:nvPr/>
                  </p:nvSpPr>
                  <p:spPr>
                    <a:xfrm flipV="1" rot="16200000">
                      <a:off x="9561600" y="17979840"/>
                      <a:ext cx="11304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2" h="740">
                          <a:moveTo>
                            <a:pt x="3152" y="738"/>
                          </a:moveTo>
                          <a:lnTo>
                            <a:pt x="3126" y="512"/>
                          </a:lnTo>
                          <a:lnTo>
                            <a:pt x="2966" y="350"/>
                          </a:lnTo>
                          <a:lnTo>
                            <a:pt x="2290" y="101"/>
                          </a:lnTo>
                          <a:lnTo>
                            <a:pt x="1576" y="0"/>
                          </a:lnTo>
                          <a:lnTo>
                            <a:pt x="862" y="102"/>
                          </a:lnTo>
                          <a:lnTo>
                            <a:pt x="186" y="352"/>
                          </a:lnTo>
                          <a:lnTo>
                            <a:pt x="26" y="514"/>
                          </a:lnTo>
                          <a:lnTo>
                            <a:pt x="0" y="740"/>
                          </a:lnTo>
                          <a:lnTo>
                            <a:pt x="1" y="74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28" name=""/>
                    <p:cNvSpPr/>
                    <p:nvPr/>
                  </p:nvSpPr>
                  <p:spPr>
                    <a:xfrm flipV="1" rot="16200000">
                      <a:off x="9588240" y="18019080"/>
                      <a:ext cx="35640" cy="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23" h="298">
                          <a:moveTo>
                            <a:pt x="1023" y="0"/>
                          </a:moveTo>
                          <a:lnTo>
                            <a:pt x="496" y="98"/>
                          </a:lnTo>
                          <a:lnTo>
                            <a:pt x="0" y="298"/>
                          </a:lnTo>
                          <a:lnTo>
                            <a:pt x="2" y="298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29" name=""/>
                    <p:cNvSpPr/>
                    <p:nvPr/>
                  </p:nvSpPr>
                  <p:spPr>
                    <a:xfrm flipV="1" rot="16200000">
                      <a:off x="9597600" y="18044280"/>
                      <a:ext cx="8280" cy="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3" h="97">
                          <a:moveTo>
                            <a:pt x="0" y="0"/>
                          </a:moveTo>
                          <a:lnTo>
                            <a:pt x="78" y="97"/>
                          </a:lnTo>
                          <a:lnTo>
                            <a:pt x="201" y="93"/>
                          </a:lnTo>
                          <a:lnTo>
                            <a:pt x="203" y="93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0" name=""/>
                    <p:cNvSpPr/>
                    <p:nvPr/>
                  </p:nvSpPr>
                  <p:spPr>
                    <a:xfrm flipV="1" rot="16200000">
                      <a:off x="9610200" y="18044280"/>
                      <a:ext cx="4320" cy="16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496">
                          <a:moveTo>
                            <a:pt x="109" y="496"/>
                          </a:move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880" bIns="-29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1" name=""/>
                    <p:cNvSpPr/>
                    <p:nvPr/>
                  </p:nvSpPr>
                  <p:spPr>
                    <a:xfrm flipV="1" rot="16200000">
                      <a:off x="9623160" y="18050040"/>
                      <a:ext cx="2880" cy="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" h="160">
                          <a:moveTo>
                            <a:pt x="84" y="0"/>
                          </a:moveTo>
                          <a:lnTo>
                            <a:pt x="13" y="64"/>
                          </a:lnTo>
                          <a:lnTo>
                            <a:pt x="0" y="160"/>
                          </a:lnTo>
                          <a:lnTo>
                            <a:pt x="1" y="16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2" name=""/>
                    <p:cNvSpPr/>
                    <p:nvPr/>
                  </p:nvSpPr>
                  <p:spPr>
                    <a:xfrm flipV="1" rot="16200000">
                      <a:off x="9623160" y="17931240"/>
                      <a:ext cx="2880" cy="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" h="159">
                          <a:moveTo>
                            <a:pt x="84" y="159"/>
                          </a:moveTo>
                          <a:lnTo>
                            <a:pt x="71" y="64"/>
                          </a:ln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3" name=""/>
                    <p:cNvSpPr/>
                    <p:nvPr/>
                  </p:nvSpPr>
                  <p:spPr>
                    <a:xfrm flipV="1" rot="16200000">
                      <a:off x="9610560" y="17926560"/>
                      <a:ext cx="3960" cy="16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496">
                          <a:moveTo>
                            <a:pt x="109" y="0"/>
                          </a:moveTo>
                          <a:lnTo>
                            <a:pt x="0" y="496"/>
                          </a:lnTo>
                          <a:lnTo>
                            <a:pt x="1" y="496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880" bIns="-29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4" name=""/>
                    <p:cNvSpPr/>
                    <p:nvPr/>
                  </p:nvSpPr>
                  <p:spPr>
                    <a:xfrm flipV="1" rot="16200000">
                      <a:off x="9597600" y="17939520"/>
                      <a:ext cx="8280" cy="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2" h="98">
                          <a:moveTo>
                            <a:pt x="0" y="94"/>
                          </a:moveTo>
                          <a:lnTo>
                            <a:pt x="124" y="98"/>
                          </a:lnTo>
                          <a:lnTo>
                            <a:pt x="201" y="0"/>
                          </a:lnTo>
                          <a:lnTo>
                            <a:pt x="202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5" name=""/>
                    <p:cNvSpPr/>
                    <p:nvPr/>
                  </p:nvSpPr>
                  <p:spPr>
                    <a:xfrm flipV="1" rot="16200000">
                      <a:off x="9587880" y="17958960"/>
                      <a:ext cx="36000" cy="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21" h="297">
                          <a:moveTo>
                            <a:pt x="1021" y="297"/>
                          </a:moveTo>
                          <a:lnTo>
                            <a:pt x="525" y="97"/>
                          </a:ln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236" name=""/>
                <p:cNvSpPr/>
                <p:nvPr/>
              </p:nvSpPr>
              <p:spPr>
                <a:xfrm rot="10800000">
                  <a:off x="9443880" y="18154440"/>
                  <a:ext cx="539640" cy="287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37" name=""/>
              <p:cNvSpPr/>
              <p:nvPr/>
            </p:nvSpPr>
            <p:spPr>
              <a:xfrm>
                <a:off x="12592080" y="19069200"/>
                <a:ext cx="179280" cy="36036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12611160" y="19564200"/>
                <a:ext cx="179280" cy="36036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 rot="5400000">
                <a:off x="9209160" y="19527840"/>
                <a:ext cx="209520" cy="324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17282880" y="19981800"/>
                <a:ext cx="1121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ECRETÁRI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9810720" y="19488240"/>
                <a:ext cx="179280" cy="96984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13167360" y="19677240"/>
                <a:ext cx="478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CP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11607480" y="17681400"/>
                <a:ext cx="100512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SANITÁRI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( PROVÁVEL 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10915560" y="20383560"/>
                <a:ext cx="432000" cy="171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19964520" y="17868960"/>
                <a:ext cx="179280" cy="36036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19964520" y="17449920"/>
                <a:ext cx="179280" cy="36036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47" name=""/>
              <p:cNvGrpSpPr/>
              <p:nvPr/>
            </p:nvGrpSpPr>
            <p:grpSpPr>
              <a:xfrm>
                <a:off x="15617520" y="19005480"/>
                <a:ext cx="431640" cy="456480"/>
                <a:chOff x="15617520" y="19005480"/>
                <a:chExt cx="431640" cy="456480"/>
              </a:xfrm>
            </p:grpSpPr>
            <p:sp>
              <p:nvSpPr>
                <p:cNvPr id="2248" name=""/>
                <p:cNvSpPr/>
                <p:nvPr/>
              </p:nvSpPr>
              <p:spPr>
                <a:xfrm flipV="1" rot="10800000">
                  <a:off x="15617520" y="19173960"/>
                  <a:ext cx="431640" cy="2876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49" name=""/>
                <p:cNvGrpSpPr/>
                <p:nvPr/>
              </p:nvGrpSpPr>
              <p:grpSpPr>
                <a:xfrm>
                  <a:off x="15797880" y="19005480"/>
                  <a:ext cx="162000" cy="161280"/>
                  <a:chOff x="15797880" y="19005480"/>
                  <a:chExt cx="162000" cy="161280"/>
                </a:xfrm>
              </p:grpSpPr>
              <p:sp>
                <p:nvSpPr>
                  <p:cNvPr id="2250" name=""/>
                  <p:cNvSpPr/>
                  <p:nvPr/>
                </p:nvSpPr>
                <p:spPr>
                  <a:xfrm flipV="1" rot="10800000">
                    <a:off x="15810840" y="19045080"/>
                    <a:ext cx="36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1" name=""/>
                  <p:cNvSpPr/>
                  <p:nvPr/>
                </p:nvSpPr>
                <p:spPr>
                  <a:xfrm flipV="1" rot="10800000">
                    <a:off x="15797880" y="19045080"/>
                    <a:ext cx="36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2" name=""/>
                  <p:cNvSpPr/>
                  <p:nvPr/>
                </p:nvSpPr>
                <p:spPr>
                  <a:xfrm flipV="1" rot="10800000">
                    <a:off x="15958800" y="19045080"/>
                    <a:ext cx="108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3" name=""/>
                  <p:cNvSpPr/>
                  <p:nvPr/>
                </p:nvSpPr>
                <p:spPr>
                  <a:xfrm flipV="1" rot="10800000">
                    <a:off x="15945840" y="19045080"/>
                    <a:ext cx="144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4" name=""/>
                  <p:cNvSpPr/>
                  <p:nvPr/>
                </p:nvSpPr>
                <p:spPr>
                  <a:xfrm flipV="1" rot="10800000">
                    <a:off x="15939720" y="19072080"/>
                    <a:ext cx="36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925">
                        <a:moveTo>
                          <a:pt x="0" y="0"/>
                        </a:moveTo>
                        <a:lnTo>
                          <a:pt x="18" y="1925"/>
                        </a:lnTo>
                        <a:lnTo>
                          <a:pt x="19" y="1925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5" name=""/>
                  <p:cNvSpPr/>
                  <p:nvPr/>
                </p:nvSpPr>
                <p:spPr>
                  <a:xfrm flipV="1" rot="10800000">
                    <a:off x="15920280" y="19140840"/>
                    <a:ext cx="1980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8" h="605">
                        <a:moveTo>
                          <a:pt x="0" y="0"/>
                        </a:moveTo>
                        <a:lnTo>
                          <a:pt x="184" y="396"/>
                        </a:lnTo>
                        <a:lnTo>
                          <a:pt x="567" y="605"/>
                        </a:lnTo>
                        <a:lnTo>
                          <a:pt x="568" y="605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6" name=""/>
                  <p:cNvSpPr/>
                  <p:nvPr/>
                </p:nvSpPr>
                <p:spPr>
                  <a:xfrm flipV="1" rot="10800000">
                    <a:off x="15838920" y="19163880"/>
                    <a:ext cx="8136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269" h="103">
                        <a:moveTo>
                          <a:pt x="0" y="2"/>
                        </a:moveTo>
                        <a:lnTo>
                          <a:pt x="1135" y="103"/>
                        </a:lnTo>
                        <a:lnTo>
                          <a:pt x="2268" y="0"/>
                        </a:lnTo>
                        <a:lnTo>
                          <a:pt x="2269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7" name=""/>
                  <p:cNvSpPr/>
                  <p:nvPr/>
                </p:nvSpPr>
                <p:spPr>
                  <a:xfrm flipV="1" rot="10800000">
                    <a:off x="15818760" y="19140840"/>
                    <a:ext cx="1980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8" h="605">
                        <a:moveTo>
                          <a:pt x="0" y="605"/>
                        </a:moveTo>
                        <a:lnTo>
                          <a:pt x="382" y="396"/>
                        </a:lnTo>
                        <a:lnTo>
                          <a:pt x="567" y="0"/>
                        </a:lnTo>
                        <a:lnTo>
                          <a:pt x="568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8" name=""/>
                  <p:cNvSpPr/>
                  <p:nvPr/>
                </p:nvSpPr>
                <p:spPr>
                  <a:xfrm flipV="1" rot="10800000">
                    <a:off x="15818040" y="19072080"/>
                    <a:ext cx="36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925">
                        <a:moveTo>
                          <a:pt x="0" y="1925"/>
                        </a:moveTo>
                        <a:lnTo>
                          <a:pt x="16" y="0"/>
                        </a:lnTo>
                        <a:lnTo>
                          <a:pt x="17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9" name=""/>
                  <p:cNvSpPr/>
                  <p:nvPr/>
                </p:nvSpPr>
                <p:spPr>
                  <a:xfrm flipV="1" rot="10800000">
                    <a:off x="15818760" y="19043640"/>
                    <a:ext cx="2556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745" h="787">
                        <a:moveTo>
                          <a:pt x="745" y="787"/>
                        </a:moveTo>
                        <a:lnTo>
                          <a:pt x="623" y="420"/>
                        </a:lnTo>
                        <a:lnTo>
                          <a:pt x="358" y="14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0" name=""/>
                  <p:cNvSpPr/>
                  <p:nvPr/>
                </p:nvSpPr>
                <p:spPr>
                  <a:xfrm flipV="1" rot="10800000">
                    <a:off x="15844320" y="19041120"/>
                    <a:ext cx="6984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1947" h="77">
                        <a:moveTo>
                          <a:pt x="1947" y="76"/>
                        </a:moveTo>
                        <a:lnTo>
                          <a:pt x="974" y="0"/>
                        </a:lnTo>
                        <a:lnTo>
                          <a:pt x="0" y="77"/>
                        </a:lnTo>
                        <a:lnTo>
                          <a:pt x="1" y="77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1" name=""/>
                  <p:cNvSpPr/>
                  <p:nvPr/>
                </p:nvSpPr>
                <p:spPr>
                  <a:xfrm flipV="1" rot="10800000">
                    <a:off x="15914160" y="19043640"/>
                    <a:ext cx="2592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744" h="788">
                        <a:moveTo>
                          <a:pt x="744" y="0"/>
                        </a:moveTo>
                        <a:lnTo>
                          <a:pt x="386" y="141"/>
                        </a:lnTo>
                        <a:lnTo>
                          <a:pt x="121" y="421"/>
                        </a:lnTo>
                        <a:lnTo>
                          <a:pt x="0" y="788"/>
                        </a:lnTo>
                        <a:lnTo>
                          <a:pt x="1" y="788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2" name=""/>
                  <p:cNvSpPr/>
                  <p:nvPr/>
                </p:nvSpPr>
                <p:spPr>
                  <a:xfrm flipV="1" rot="10800000">
                    <a:off x="15798240" y="19143720"/>
                    <a:ext cx="129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50" h="0">
                        <a:moveTo>
                          <a:pt x="0" y="0"/>
                        </a:moveTo>
                        <a:lnTo>
                          <a:pt x="349" y="0"/>
                        </a:lnTo>
                        <a:lnTo>
                          <a:pt x="350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3" name=""/>
                  <p:cNvSpPr/>
                  <p:nvPr/>
                </p:nvSpPr>
                <p:spPr>
                  <a:xfrm flipV="1" rot="10800000">
                    <a:off x="15947280" y="19143720"/>
                    <a:ext cx="1260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49" h="0">
                        <a:moveTo>
                          <a:pt x="349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4" name=""/>
                  <p:cNvSpPr/>
                  <p:nvPr/>
                </p:nvSpPr>
                <p:spPr>
                  <a:xfrm flipV="1" rot="10800000">
                    <a:off x="15798240" y="19044720"/>
                    <a:ext cx="129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50" h="0">
                        <a:moveTo>
                          <a:pt x="0" y="0"/>
                        </a:moveTo>
                        <a:lnTo>
                          <a:pt x="349" y="0"/>
                        </a:lnTo>
                        <a:lnTo>
                          <a:pt x="350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5" name=""/>
                  <p:cNvSpPr/>
                  <p:nvPr/>
                </p:nvSpPr>
                <p:spPr>
                  <a:xfrm flipV="1" rot="10800000">
                    <a:off x="15867360" y="19036440"/>
                    <a:ext cx="2412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8" h="0">
                        <a:moveTo>
                          <a:pt x="698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6" name=""/>
                  <p:cNvSpPr/>
                  <p:nvPr/>
                </p:nvSpPr>
                <p:spPr>
                  <a:xfrm flipV="1" rot="10800000">
                    <a:off x="15865920" y="19036440"/>
                    <a:ext cx="144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33">
                        <a:moveTo>
                          <a:pt x="0" y="133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7" name=""/>
                  <p:cNvSpPr/>
                  <p:nvPr/>
                </p:nvSpPr>
                <p:spPr>
                  <a:xfrm flipV="1" rot="10800000">
                    <a:off x="15891120" y="19036440"/>
                    <a:ext cx="36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34">
                        <a:moveTo>
                          <a:pt x="0" y="134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8" name=""/>
                  <p:cNvSpPr/>
                  <p:nvPr/>
                </p:nvSpPr>
                <p:spPr>
                  <a:xfrm flipV="1" rot="10800000">
                    <a:off x="15947280" y="19044720"/>
                    <a:ext cx="1260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49" h="0">
                        <a:moveTo>
                          <a:pt x="349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9" name=""/>
                  <p:cNvSpPr/>
                  <p:nvPr/>
                </p:nvSpPr>
                <p:spPr>
                  <a:xfrm flipV="1" rot="10800000">
                    <a:off x="15818400" y="19005120"/>
                    <a:ext cx="12168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3444" h="562">
                        <a:moveTo>
                          <a:pt x="3405" y="560"/>
                        </a:moveTo>
                        <a:lnTo>
                          <a:pt x="3444" y="429"/>
                        </a:lnTo>
                        <a:lnTo>
                          <a:pt x="3366" y="316"/>
                        </a:lnTo>
                        <a:lnTo>
                          <a:pt x="2559" y="78"/>
                        </a:lnTo>
                        <a:lnTo>
                          <a:pt x="1722" y="0"/>
                        </a:lnTo>
                        <a:lnTo>
                          <a:pt x="884" y="79"/>
                        </a:lnTo>
                        <a:lnTo>
                          <a:pt x="78" y="318"/>
                        </a:lnTo>
                        <a:lnTo>
                          <a:pt x="0" y="430"/>
                        </a:lnTo>
                        <a:lnTo>
                          <a:pt x="39" y="562"/>
                        </a:lnTo>
                        <a:lnTo>
                          <a:pt x="40" y="562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0" name=""/>
                  <p:cNvSpPr/>
                  <p:nvPr/>
                </p:nvSpPr>
                <p:spPr>
                  <a:xfrm flipV="1" rot="10800000">
                    <a:off x="15823080" y="19014840"/>
                    <a:ext cx="11268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52" h="740">
                        <a:moveTo>
                          <a:pt x="3152" y="738"/>
                        </a:moveTo>
                        <a:lnTo>
                          <a:pt x="3126" y="512"/>
                        </a:lnTo>
                        <a:lnTo>
                          <a:pt x="2966" y="350"/>
                        </a:lnTo>
                        <a:lnTo>
                          <a:pt x="2290" y="101"/>
                        </a:lnTo>
                        <a:lnTo>
                          <a:pt x="1576" y="0"/>
                        </a:lnTo>
                        <a:lnTo>
                          <a:pt x="862" y="102"/>
                        </a:lnTo>
                        <a:lnTo>
                          <a:pt x="186" y="352"/>
                        </a:lnTo>
                        <a:lnTo>
                          <a:pt x="26" y="514"/>
                        </a:lnTo>
                        <a:lnTo>
                          <a:pt x="0" y="740"/>
                        </a:lnTo>
                        <a:lnTo>
                          <a:pt x="1" y="74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1" name=""/>
                  <p:cNvSpPr/>
                  <p:nvPr/>
                </p:nvSpPr>
                <p:spPr>
                  <a:xfrm flipV="1" rot="10800000">
                    <a:off x="15891480" y="19036440"/>
                    <a:ext cx="3564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023" h="298">
                        <a:moveTo>
                          <a:pt x="1023" y="0"/>
                        </a:moveTo>
                        <a:lnTo>
                          <a:pt x="496" y="98"/>
                        </a:lnTo>
                        <a:lnTo>
                          <a:pt x="0" y="298"/>
                        </a:lnTo>
                        <a:lnTo>
                          <a:pt x="2" y="298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2" name=""/>
                  <p:cNvSpPr/>
                  <p:nvPr/>
                </p:nvSpPr>
                <p:spPr>
                  <a:xfrm flipV="1" rot="10800000">
                    <a:off x="15927480" y="19043640"/>
                    <a:ext cx="828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203" h="97">
                        <a:moveTo>
                          <a:pt x="0" y="0"/>
                        </a:moveTo>
                        <a:lnTo>
                          <a:pt x="78" y="97"/>
                        </a:lnTo>
                        <a:lnTo>
                          <a:pt x="201" y="93"/>
                        </a:lnTo>
                        <a:lnTo>
                          <a:pt x="203" y="9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3" name=""/>
                  <p:cNvSpPr/>
                  <p:nvPr/>
                </p:nvSpPr>
                <p:spPr>
                  <a:xfrm flipV="1" rot="10800000">
                    <a:off x="15935760" y="19026360"/>
                    <a:ext cx="432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496">
                        <a:moveTo>
                          <a:pt x="109" y="496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4" name=""/>
                  <p:cNvSpPr/>
                  <p:nvPr/>
                </p:nvSpPr>
                <p:spPr>
                  <a:xfrm flipV="1" rot="10800000">
                    <a:off x="15937200" y="19019160"/>
                    <a:ext cx="288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160">
                        <a:moveTo>
                          <a:pt x="84" y="0"/>
                        </a:moveTo>
                        <a:lnTo>
                          <a:pt x="13" y="64"/>
                        </a:lnTo>
                        <a:lnTo>
                          <a:pt x="0" y="160"/>
                        </a:lnTo>
                        <a:lnTo>
                          <a:pt x="1" y="16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5" name=""/>
                  <p:cNvSpPr/>
                  <p:nvPr/>
                </p:nvSpPr>
                <p:spPr>
                  <a:xfrm flipV="1" rot="10800000">
                    <a:off x="15818400" y="19019160"/>
                    <a:ext cx="288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159">
                        <a:moveTo>
                          <a:pt x="84" y="159"/>
                        </a:moveTo>
                        <a:lnTo>
                          <a:pt x="71" y="64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6" name=""/>
                  <p:cNvSpPr/>
                  <p:nvPr/>
                </p:nvSpPr>
                <p:spPr>
                  <a:xfrm flipV="1" rot="10800000">
                    <a:off x="15818760" y="19026360"/>
                    <a:ext cx="396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496">
                        <a:moveTo>
                          <a:pt x="109" y="0"/>
                        </a:moveTo>
                        <a:lnTo>
                          <a:pt x="0" y="496"/>
                        </a:lnTo>
                        <a:lnTo>
                          <a:pt x="1" y="496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7" name=""/>
                  <p:cNvSpPr/>
                  <p:nvPr/>
                </p:nvSpPr>
                <p:spPr>
                  <a:xfrm flipV="1" rot="10800000">
                    <a:off x="15822720" y="19043640"/>
                    <a:ext cx="828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202" h="98">
                        <a:moveTo>
                          <a:pt x="0" y="94"/>
                        </a:moveTo>
                        <a:lnTo>
                          <a:pt x="124" y="98"/>
                        </a:lnTo>
                        <a:lnTo>
                          <a:pt x="201" y="0"/>
                        </a:lnTo>
                        <a:lnTo>
                          <a:pt x="202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8" name=""/>
                  <p:cNvSpPr/>
                  <p:nvPr/>
                </p:nvSpPr>
                <p:spPr>
                  <a:xfrm flipV="1" rot="10800000">
                    <a:off x="15831360" y="19036440"/>
                    <a:ext cx="360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021" h="297">
                        <a:moveTo>
                          <a:pt x="1021" y="297"/>
                        </a:moveTo>
                        <a:lnTo>
                          <a:pt x="525" y="97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79" name=""/>
                <p:cNvSpPr/>
                <p:nvPr/>
              </p:nvSpPr>
              <p:spPr>
                <a:xfrm flipV="1" rot="10800000">
                  <a:off x="15765120" y="19194120"/>
                  <a:ext cx="218880" cy="6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80" name=""/>
                <p:cNvGrpSpPr/>
                <p:nvPr/>
              </p:nvGrpSpPr>
              <p:grpSpPr>
                <a:xfrm>
                  <a:off x="15814080" y="19205280"/>
                  <a:ext cx="131400" cy="47880"/>
                  <a:chOff x="15814080" y="19205280"/>
                  <a:chExt cx="131400" cy="47880"/>
                </a:xfrm>
              </p:grpSpPr>
              <p:sp>
                <p:nvSpPr>
                  <p:cNvPr id="2281" name=""/>
                  <p:cNvSpPr/>
                  <p:nvPr/>
                </p:nvSpPr>
                <p:spPr>
                  <a:xfrm flipV="1" rot="10800000">
                    <a:off x="15814080" y="19204920"/>
                    <a:ext cx="131400" cy="47880"/>
                  </a:xfrm>
                  <a:prstGeom prst="rect">
                    <a:avLst/>
                  </a:prstGeom>
                  <a:noFill/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" bIns="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2" name=""/>
                  <p:cNvSpPr/>
                  <p:nvPr/>
                </p:nvSpPr>
                <p:spPr>
                  <a:xfrm flipV="1" rot="10800000">
                    <a:off x="15924240" y="19213200"/>
                    <a:ext cx="15840" cy="32040"/>
                  </a:xfrm>
                  <a:prstGeom prst="rect">
                    <a:avLst/>
                  </a:prstGeom>
                  <a:noFill/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760" bIns="-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3" name=""/>
                  <p:cNvSpPr/>
                  <p:nvPr/>
                </p:nvSpPr>
                <p:spPr>
                  <a:xfrm flipV="1" rot="10800000">
                    <a:off x="15819840" y="19213200"/>
                    <a:ext cx="97200" cy="32040"/>
                  </a:xfrm>
                  <a:prstGeom prst="rect">
                    <a:avLst/>
                  </a:prstGeom>
                  <a:noFill/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760" bIns="-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84" name=""/>
                <p:cNvSpPr/>
                <p:nvPr/>
              </p:nvSpPr>
              <p:spPr>
                <a:xfrm flipV="1" rot="9048600">
                  <a:off x="15980760" y="19294920"/>
                  <a:ext cx="21960" cy="31680"/>
                </a:xfrm>
                <a:prstGeom prst="ellipse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5" name=""/>
                <p:cNvSpPr/>
                <p:nvPr/>
              </p:nvSpPr>
              <p:spPr>
                <a:xfrm flipV="1" rot="10800000">
                  <a:off x="15963840" y="19280520"/>
                  <a:ext cx="67680" cy="6660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86" name=""/>
                <p:cNvGrpSpPr/>
                <p:nvPr/>
              </p:nvGrpSpPr>
              <p:grpSpPr>
                <a:xfrm>
                  <a:off x="15795360" y="19284840"/>
                  <a:ext cx="133200" cy="145800"/>
                  <a:chOff x="15795360" y="19284840"/>
                  <a:chExt cx="133200" cy="145800"/>
                </a:xfrm>
              </p:grpSpPr>
              <p:sp>
                <p:nvSpPr>
                  <p:cNvPr id="2287" name=""/>
                  <p:cNvSpPr/>
                  <p:nvPr/>
                </p:nvSpPr>
                <p:spPr>
                  <a:xfrm flipV="1" rot="10800000">
                    <a:off x="15795360" y="19284480"/>
                    <a:ext cx="133200" cy="14580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288" name=""/>
                  <p:cNvGrpSpPr/>
                  <p:nvPr/>
                </p:nvGrpSpPr>
                <p:grpSpPr>
                  <a:xfrm>
                    <a:off x="15804720" y="19304640"/>
                    <a:ext cx="117000" cy="116280"/>
                    <a:chOff x="15804720" y="19304640"/>
                    <a:chExt cx="117000" cy="116280"/>
                  </a:xfrm>
                </p:grpSpPr>
                <p:sp>
                  <p:nvSpPr>
                    <p:cNvPr id="2289" name=""/>
                    <p:cNvSpPr/>
                    <p:nvPr/>
                  </p:nvSpPr>
                  <p:spPr>
                    <a:xfrm flipV="1" rot="10800000">
                      <a:off x="15888240" y="19401840"/>
                      <a:ext cx="252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35">
                          <a:moveTo>
                            <a:pt x="0" y="35"/>
                          </a:moveTo>
                          <a:lnTo>
                            <a:pt x="5" y="29"/>
                          </a:lnTo>
                          <a:lnTo>
                            <a:pt x="11" y="23"/>
                          </a:lnTo>
                          <a:lnTo>
                            <a:pt x="17" y="17"/>
                          </a:lnTo>
                          <a:lnTo>
                            <a:pt x="22" y="12"/>
                          </a:lnTo>
                          <a:lnTo>
                            <a:pt x="26" y="8"/>
                          </a:lnTo>
                          <a:lnTo>
                            <a:pt x="30" y="5"/>
                          </a:lnTo>
                          <a:lnTo>
                            <a:pt x="32" y="2"/>
                          </a:lnTo>
                          <a:lnTo>
                            <a:pt x="34" y="1"/>
                          </a:lnTo>
                          <a:lnTo>
                            <a:pt x="34" y="0"/>
                          </a:lnTo>
                          <a:lnTo>
                            <a:pt x="3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0" name=""/>
                    <p:cNvSpPr/>
                    <p:nvPr/>
                  </p:nvSpPr>
                  <p:spPr>
                    <a:xfrm flipV="1" rot="10800000">
                      <a:off x="15888240" y="19401840"/>
                      <a:ext cx="252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35">
                          <a:moveTo>
                            <a:pt x="0" y="35"/>
                          </a:moveTo>
                          <a:lnTo>
                            <a:pt x="5" y="29"/>
                          </a:lnTo>
                          <a:lnTo>
                            <a:pt x="11" y="23"/>
                          </a:lnTo>
                          <a:lnTo>
                            <a:pt x="17" y="17"/>
                          </a:lnTo>
                          <a:lnTo>
                            <a:pt x="22" y="12"/>
                          </a:lnTo>
                          <a:lnTo>
                            <a:pt x="26" y="8"/>
                          </a:lnTo>
                          <a:lnTo>
                            <a:pt x="30" y="5"/>
                          </a:lnTo>
                          <a:lnTo>
                            <a:pt x="32" y="2"/>
                          </a:lnTo>
                          <a:lnTo>
                            <a:pt x="34" y="1"/>
                          </a:lnTo>
                          <a:lnTo>
                            <a:pt x="34" y="0"/>
                          </a:lnTo>
                          <a:lnTo>
                            <a:pt x="3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1" name=""/>
                    <p:cNvSpPr/>
                    <p:nvPr/>
                  </p:nvSpPr>
                  <p:spPr>
                    <a:xfrm flipV="1" rot="10800000">
                      <a:off x="15804720" y="19304280"/>
                      <a:ext cx="117000" cy="49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520" bIns="2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2" name=""/>
                    <p:cNvSpPr/>
                    <p:nvPr/>
                  </p:nvSpPr>
                  <p:spPr>
                    <a:xfrm flipV="1" rot="10800000">
                      <a:off x="15812280" y="19355400"/>
                      <a:ext cx="100800" cy="65160"/>
                    </a:xfrm>
                    <a:custGeom>
                      <a:avLst/>
                      <a:gdLst>
                        <a:gd name="textAreaLeft" fmla="*/ 21960 w 100800"/>
                        <a:gd name="textAreaRight" fmla="*/ 78840 w 100800"/>
                        <a:gd name="textAreaTop" fmla="*/ 14400 h 65160"/>
                        <a:gd name="textAreaBottom" fmla="*/ 50760 h 651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16200" y="21600"/>
                          </a:lnTo>
                          <a:lnTo>
                            <a:pt x="5400" y="2160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440" bIns="-10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293" name=""/>
              <p:cNvGrpSpPr/>
              <p:nvPr/>
            </p:nvGrpSpPr>
            <p:grpSpPr>
              <a:xfrm>
                <a:off x="14071680" y="18776880"/>
                <a:ext cx="355680" cy="460080"/>
                <a:chOff x="14071680" y="18776880"/>
                <a:chExt cx="355680" cy="460080"/>
              </a:xfrm>
            </p:grpSpPr>
            <p:sp>
              <p:nvSpPr>
                <p:cNvPr id="2294" name=""/>
                <p:cNvSpPr/>
                <p:nvPr/>
              </p:nvSpPr>
              <p:spPr>
                <a:xfrm>
                  <a:off x="14140080" y="18927720"/>
                  <a:ext cx="218880" cy="6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95" name=""/>
                <p:cNvGrpSpPr/>
                <p:nvPr/>
              </p:nvGrpSpPr>
              <p:grpSpPr>
                <a:xfrm>
                  <a:off x="14178240" y="18938520"/>
                  <a:ext cx="131760" cy="47880"/>
                  <a:chOff x="14178240" y="18938520"/>
                  <a:chExt cx="131760" cy="47880"/>
                </a:xfrm>
              </p:grpSpPr>
              <p:sp>
                <p:nvSpPr>
                  <p:cNvPr id="2296" name=""/>
                  <p:cNvSpPr/>
                  <p:nvPr/>
                </p:nvSpPr>
                <p:spPr>
                  <a:xfrm>
                    <a:off x="14178240" y="18938520"/>
                    <a:ext cx="131760" cy="47880"/>
                  </a:xfrm>
                  <a:prstGeom prst="rect">
                    <a:avLst/>
                  </a:prstGeom>
                  <a:noFill/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" bIns="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7" name=""/>
                  <p:cNvSpPr/>
                  <p:nvPr/>
                </p:nvSpPr>
                <p:spPr>
                  <a:xfrm>
                    <a:off x="14183640" y="18946800"/>
                    <a:ext cx="15840" cy="32040"/>
                  </a:xfrm>
                  <a:prstGeom prst="rect">
                    <a:avLst/>
                  </a:prstGeom>
                  <a:noFill/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760" bIns="-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8" name=""/>
                  <p:cNvSpPr/>
                  <p:nvPr/>
                </p:nvSpPr>
                <p:spPr>
                  <a:xfrm>
                    <a:off x="14206680" y="18946800"/>
                    <a:ext cx="97560" cy="32040"/>
                  </a:xfrm>
                  <a:prstGeom prst="rect">
                    <a:avLst/>
                  </a:prstGeom>
                  <a:noFill/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760" bIns="-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99" name=""/>
                <p:cNvSpPr/>
                <p:nvPr/>
              </p:nvSpPr>
              <p:spPr>
                <a:xfrm>
                  <a:off x="14071680" y="18994320"/>
                  <a:ext cx="355680" cy="2426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0" name=""/>
                <p:cNvSpPr/>
                <p:nvPr/>
              </p:nvSpPr>
              <p:spPr>
                <a:xfrm rot="1751400">
                  <a:off x="14120640" y="19028880"/>
                  <a:ext cx="22320" cy="31680"/>
                </a:xfrm>
                <a:prstGeom prst="ellipse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1" name=""/>
                <p:cNvSpPr/>
                <p:nvPr/>
              </p:nvSpPr>
              <p:spPr>
                <a:xfrm>
                  <a:off x="14092920" y="19014120"/>
                  <a:ext cx="68040" cy="6660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02" name=""/>
                <p:cNvGrpSpPr/>
                <p:nvPr/>
              </p:nvGrpSpPr>
              <p:grpSpPr>
                <a:xfrm>
                  <a:off x="14195880" y="19018080"/>
                  <a:ext cx="133560" cy="146160"/>
                  <a:chOff x="14195880" y="19018080"/>
                  <a:chExt cx="133560" cy="146160"/>
                </a:xfrm>
              </p:grpSpPr>
              <p:sp>
                <p:nvSpPr>
                  <p:cNvPr id="2303" name=""/>
                  <p:cNvSpPr/>
                  <p:nvPr/>
                </p:nvSpPr>
                <p:spPr>
                  <a:xfrm>
                    <a:off x="14195880" y="19018080"/>
                    <a:ext cx="133560" cy="14616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304" name=""/>
                  <p:cNvGrpSpPr/>
                  <p:nvPr/>
                </p:nvGrpSpPr>
                <p:grpSpPr>
                  <a:xfrm>
                    <a:off x="14202720" y="19037880"/>
                    <a:ext cx="117360" cy="116640"/>
                    <a:chOff x="14202720" y="19037880"/>
                    <a:chExt cx="117360" cy="116640"/>
                  </a:xfrm>
                </p:grpSpPr>
                <p:sp>
                  <p:nvSpPr>
                    <p:cNvPr id="2305" name=""/>
                    <p:cNvSpPr/>
                    <p:nvPr/>
                  </p:nvSpPr>
                  <p:spPr>
                    <a:xfrm>
                      <a:off x="14234040" y="19135800"/>
                      <a:ext cx="252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35">
                          <a:moveTo>
                            <a:pt x="0" y="35"/>
                          </a:moveTo>
                          <a:lnTo>
                            <a:pt x="5" y="29"/>
                          </a:lnTo>
                          <a:lnTo>
                            <a:pt x="11" y="23"/>
                          </a:lnTo>
                          <a:lnTo>
                            <a:pt x="17" y="17"/>
                          </a:lnTo>
                          <a:lnTo>
                            <a:pt x="22" y="12"/>
                          </a:lnTo>
                          <a:lnTo>
                            <a:pt x="26" y="8"/>
                          </a:lnTo>
                          <a:lnTo>
                            <a:pt x="30" y="5"/>
                          </a:lnTo>
                          <a:lnTo>
                            <a:pt x="32" y="2"/>
                          </a:lnTo>
                          <a:lnTo>
                            <a:pt x="34" y="1"/>
                          </a:lnTo>
                          <a:lnTo>
                            <a:pt x="34" y="0"/>
                          </a:lnTo>
                          <a:lnTo>
                            <a:pt x="3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6" name=""/>
                    <p:cNvSpPr/>
                    <p:nvPr/>
                  </p:nvSpPr>
                  <p:spPr>
                    <a:xfrm>
                      <a:off x="14234040" y="19135800"/>
                      <a:ext cx="252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35">
                          <a:moveTo>
                            <a:pt x="0" y="35"/>
                          </a:moveTo>
                          <a:lnTo>
                            <a:pt x="5" y="29"/>
                          </a:lnTo>
                          <a:lnTo>
                            <a:pt x="11" y="23"/>
                          </a:lnTo>
                          <a:lnTo>
                            <a:pt x="17" y="17"/>
                          </a:lnTo>
                          <a:lnTo>
                            <a:pt x="22" y="12"/>
                          </a:lnTo>
                          <a:lnTo>
                            <a:pt x="26" y="8"/>
                          </a:lnTo>
                          <a:lnTo>
                            <a:pt x="30" y="5"/>
                          </a:lnTo>
                          <a:lnTo>
                            <a:pt x="32" y="2"/>
                          </a:lnTo>
                          <a:lnTo>
                            <a:pt x="34" y="1"/>
                          </a:lnTo>
                          <a:lnTo>
                            <a:pt x="34" y="0"/>
                          </a:lnTo>
                          <a:lnTo>
                            <a:pt x="3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7" name=""/>
                    <p:cNvSpPr/>
                    <p:nvPr/>
                  </p:nvSpPr>
                  <p:spPr>
                    <a:xfrm>
                      <a:off x="14202720" y="19037880"/>
                      <a:ext cx="117360" cy="496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880" bIns="2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8" name=""/>
                    <p:cNvSpPr/>
                    <p:nvPr/>
                  </p:nvSpPr>
                  <p:spPr>
                    <a:xfrm>
                      <a:off x="14211360" y="19089000"/>
                      <a:ext cx="101160" cy="65520"/>
                    </a:xfrm>
                    <a:custGeom>
                      <a:avLst/>
                      <a:gdLst>
                        <a:gd name="textAreaLeft" fmla="*/ 22320 w 101160"/>
                        <a:gd name="textAreaRight" fmla="*/ 78840 w 101160"/>
                        <a:gd name="textAreaTop" fmla="*/ 14400 h 65520"/>
                        <a:gd name="textAreaBottom" fmla="*/ 51120 h 6552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16200" y="21600"/>
                          </a:lnTo>
                          <a:lnTo>
                            <a:pt x="5400" y="2160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080" bIns="-10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309" name=""/>
                <p:cNvGrpSpPr/>
                <p:nvPr/>
              </p:nvGrpSpPr>
              <p:grpSpPr>
                <a:xfrm>
                  <a:off x="14163840" y="18776880"/>
                  <a:ext cx="162360" cy="161280"/>
                  <a:chOff x="14163840" y="18776880"/>
                  <a:chExt cx="162360" cy="161280"/>
                </a:xfrm>
              </p:grpSpPr>
              <p:sp>
                <p:nvSpPr>
                  <p:cNvPr id="2310" name=""/>
                  <p:cNvSpPr/>
                  <p:nvPr/>
                </p:nvSpPr>
                <p:spPr>
                  <a:xfrm>
                    <a:off x="14312520" y="18816480"/>
                    <a:ext cx="36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1" name=""/>
                  <p:cNvSpPr/>
                  <p:nvPr/>
                </p:nvSpPr>
                <p:spPr>
                  <a:xfrm>
                    <a:off x="14325840" y="18816480"/>
                    <a:ext cx="36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2" name=""/>
                  <p:cNvSpPr/>
                  <p:nvPr/>
                </p:nvSpPr>
                <p:spPr>
                  <a:xfrm>
                    <a:off x="14163840" y="18816480"/>
                    <a:ext cx="108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3" name=""/>
                  <p:cNvSpPr/>
                  <p:nvPr/>
                </p:nvSpPr>
                <p:spPr>
                  <a:xfrm>
                    <a:off x="14176440" y="18816480"/>
                    <a:ext cx="144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4" name=""/>
                  <p:cNvSpPr/>
                  <p:nvPr/>
                </p:nvSpPr>
                <p:spPr>
                  <a:xfrm>
                    <a:off x="14183640" y="18843840"/>
                    <a:ext cx="36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925">
                        <a:moveTo>
                          <a:pt x="0" y="0"/>
                        </a:moveTo>
                        <a:lnTo>
                          <a:pt x="18" y="1925"/>
                        </a:lnTo>
                        <a:lnTo>
                          <a:pt x="19" y="1925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5" name=""/>
                  <p:cNvSpPr/>
                  <p:nvPr/>
                </p:nvSpPr>
                <p:spPr>
                  <a:xfrm>
                    <a:off x="14183640" y="18912600"/>
                    <a:ext cx="2016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8" h="605">
                        <a:moveTo>
                          <a:pt x="0" y="0"/>
                        </a:moveTo>
                        <a:lnTo>
                          <a:pt x="184" y="396"/>
                        </a:lnTo>
                        <a:lnTo>
                          <a:pt x="567" y="605"/>
                        </a:lnTo>
                        <a:lnTo>
                          <a:pt x="568" y="605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6" name=""/>
                  <p:cNvSpPr/>
                  <p:nvPr/>
                </p:nvSpPr>
                <p:spPr>
                  <a:xfrm>
                    <a:off x="14203800" y="18935280"/>
                    <a:ext cx="8136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269" h="103">
                        <a:moveTo>
                          <a:pt x="0" y="2"/>
                        </a:moveTo>
                        <a:lnTo>
                          <a:pt x="1135" y="103"/>
                        </a:lnTo>
                        <a:lnTo>
                          <a:pt x="2268" y="0"/>
                        </a:lnTo>
                        <a:lnTo>
                          <a:pt x="2269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7" name=""/>
                  <p:cNvSpPr/>
                  <p:nvPr/>
                </p:nvSpPr>
                <p:spPr>
                  <a:xfrm>
                    <a:off x="14285520" y="18912600"/>
                    <a:ext cx="2016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8" h="605">
                        <a:moveTo>
                          <a:pt x="0" y="605"/>
                        </a:moveTo>
                        <a:lnTo>
                          <a:pt x="382" y="396"/>
                        </a:lnTo>
                        <a:lnTo>
                          <a:pt x="567" y="0"/>
                        </a:lnTo>
                        <a:lnTo>
                          <a:pt x="568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8" name=""/>
                  <p:cNvSpPr/>
                  <p:nvPr/>
                </p:nvSpPr>
                <p:spPr>
                  <a:xfrm>
                    <a:off x="14305680" y="18843840"/>
                    <a:ext cx="36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925">
                        <a:moveTo>
                          <a:pt x="0" y="1925"/>
                        </a:moveTo>
                        <a:lnTo>
                          <a:pt x="16" y="0"/>
                        </a:lnTo>
                        <a:lnTo>
                          <a:pt x="17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9" name=""/>
                  <p:cNvSpPr/>
                  <p:nvPr/>
                </p:nvSpPr>
                <p:spPr>
                  <a:xfrm>
                    <a:off x="14279760" y="18815400"/>
                    <a:ext cx="2556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745" h="787">
                        <a:moveTo>
                          <a:pt x="745" y="787"/>
                        </a:moveTo>
                        <a:lnTo>
                          <a:pt x="623" y="420"/>
                        </a:lnTo>
                        <a:lnTo>
                          <a:pt x="358" y="14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0" name=""/>
                  <p:cNvSpPr/>
                  <p:nvPr/>
                </p:nvSpPr>
                <p:spPr>
                  <a:xfrm>
                    <a:off x="14209560" y="18812520"/>
                    <a:ext cx="7020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1947" h="77">
                        <a:moveTo>
                          <a:pt x="1947" y="76"/>
                        </a:moveTo>
                        <a:lnTo>
                          <a:pt x="974" y="0"/>
                        </a:lnTo>
                        <a:lnTo>
                          <a:pt x="0" y="77"/>
                        </a:lnTo>
                        <a:lnTo>
                          <a:pt x="1" y="77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1" name=""/>
                  <p:cNvSpPr/>
                  <p:nvPr/>
                </p:nvSpPr>
                <p:spPr>
                  <a:xfrm>
                    <a:off x="14183640" y="18815400"/>
                    <a:ext cx="2592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744" h="788">
                        <a:moveTo>
                          <a:pt x="744" y="0"/>
                        </a:moveTo>
                        <a:lnTo>
                          <a:pt x="386" y="141"/>
                        </a:lnTo>
                        <a:lnTo>
                          <a:pt x="121" y="421"/>
                        </a:lnTo>
                        <a:lnTo>
                          <a:pt x="0" y="788"/>
                        </a:lnTo>
                        <a:lnTo>
                          <a:pt x="1" y="788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2" name=""/>
                  <p:cNvSpPr/>
                  <p:nvPr/>
                </p:nvSpPr>
                <p:spPr>
                  <a:xfrm>
                    <a:off x="14312520" y="18915480"/>
                    <a:ext cx="129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50" h="0">
                        <a:moveTo>
                          <a:pt x="0" y="0"/>
                        </a:moveTo>
                        <a:lnTo>
                          <a:pt x="349" y="0"/>
                        </a:lnTo>
                        <a:lnTo>
                          <a:pt x="350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3" name=""/>
                  <p:cNvSpPr/>
                  <p:nvPr/>
                </p:nvSpPr>
                <p:spPr>
                  <a:xfrm>
                    <a:off x="14163840" y="18915480"/>
                    <a:ext cx="1260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49" h="0">
                        <a:moveTo>
                          <a:pt x="349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4" name=""/>
                  <p:cNvSpPr/>
                  <p:nvPr/>
                </p:nvSpPr>
                <p:spPr>
                  <a:xfrm>
                    <a:off x="14312520" y="18816480"/>
                    <a:ext cx="129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50" h="0">
                        <a:moveTo>
                          <a:pt x="0" y="0"/>
                        </a:moveTo>
                        <a:lnTo>
                          <a:pt x="349" y="0"/>
                        </a:lnTo>
                        <a:lnTo>
                          <a:pt x="350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5" name=""/>
                  <p:cNvSpPr/>
                  <p:nvPr/>
                </p:nvSpPr>
                <p:spPr>
                  <a:xfrm>
                    <a:off x="14232240" y="18808200"/>
                    <a:ext cx="2412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8" h="0">
                        <a:moveTo>
                          <a:pt x="698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6" name=""/>
                  <p:cNvSpPr/>
                  <p:nvPr/>
                </p:nvSpPr>
                <p:spPr>
                  <a:xfrm>
                    <a:off x="14256720" y="18808200"/>
                    <a:ext cx="144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33">
                        <a:moveTo>
                          <a:pt x="0" y="133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7" name=""/>
                  <p:cNvSpPr/>
                  <p:nvPr/>
                </p:nvSpPr>
                <p:spPr>
                  <a:xfrm>
                    <a:off x="14232240" y="18808200"/>
                    <a:ext cx="36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34">
                        <a:moveTo>
                          <a:pt x="0" y="134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8" name=""/>
                  <p:cNvSpPr/>
                  <p:nvPr/>
                </p:nvSpPr>
                <p:spPr>
                  <a:xfrm>
                    <a:off x="14163840" y="18816480"/>
                    <a:ext cx="1260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49" h="0">
                        <a:moveTo>
                          <a:pt x="349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9" name=""/>
                  <p:cNvSpPr/>
                  <p:nvPr/>
                </p:nvSpPr>
                <p:spPr>
                  <a:xfrm>
                    <a:off x="14183640" y="18776880"/>
                    <a:ext cx="12168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3444" h="562">
                        <a:moveTo>
                          <a:pt x="3405" y="560"/>
                        </a:moveTo>
                        <a:lnTo>
                          <a:pt x="3444" y="429"/>
                        </a:lnTo>
                        <a:lnTo>
                          <a:pt x="3366" y="316"/>
                        </a:lnTo>
                        <a:lnTo>
                          <a:pt x="2559" y="78"/>
                        </a:lnTo>
                        <a:lnTo>
                          <a:pt x="1722" y="0"/>
                        </a:lnTo>
                        <a:lnTo>
                          <a:pt x="884" y="79"/>
                        </a:lnTo>
                        <a:lnTo>
                          <a:pt x="78" y="318"/>
                        </a:lnTo>
                        <a:lnTo>
                          <a:pt x="0" y="430"/>
                        </a:lnTo>
                        <a:lnTo>
                          <a:pt x="39" y="562"/>
                        </a:lnTo>
                        <a:lnTo>
                          <a:pt x="40" y="562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0" name=""/>
                  <p:cNvSpPr/>
                  <p:nvPr/>
                </p:nvSpPr>
                <p:spPr>
                  <a:xfrm>
                    <a:off x="14187960" y="18786600"/>
                    <a:ext cx="11304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52" h="740">
                        <a:moveTo>
                          <a:pt x="3152" y="738"/>
                        </a:moveTo>
                        <a:lnTo>
                          <a:pt x="3126" y="512"/>
                        </a:lnTo>
                        <a:lnTo>
                          <a:pt x="2966" y="350"/>
                        </a:lnTo>
                        <a:lnTo>
                          <a:pt x="2290" y="101"/>
                        </a:lnTo>
                        <a:lnTo>
                          <a:pt x="1576" y="0"/>
                        </a:lnTo>
                        <a:lnTo>
                          <a:pt x="862" y="102"/>
                        </a:lnTo>
                        <a:lnTo>
                          <a:pt x="186" y="352"/>
                        </a:lnTo>
                        <a:lnTo>
                          <a:pt x="26" y="514"/>
                        </a:lnTo>
                        <a:lnTo>
                          <a:pt x="0" y="740"/>
                        </a:lnTo>
                        <a:lnTo>
                          <a:pt x="1" y="74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1" name=""/>
                  <p:cNvSpPr/>
                  <p:nvPr/>
                </p:nvSpPr>
                <p:spPr>
                  <a:xfrm>
                    <a:off x="14196600" y="18808200"/>
                    <a:ext cx="3564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023" h="298">
                        <a:moveTo>
                          <a:pt x="1023" y="0"/>
                        </a:moveTo>
                        <a:lnTo>
                          <a:pt x="496" y="98"/>
                        </a:lnTo>
                        <a:lnTo>
                          <a:pt x="0" y="298"/>
                        </a:lnTo>
                        <a:lnTo>
                          <a:pt x="2" y="298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2" name=""/>
                  <p:cNvSpPr/>
                  <p:nvPr/>
                </p:nvSpPr>
                <p:spPr>
                  <a:xfrm>
                    <a:off x="14187960" y="18815400"/>
                    <a:ext cx="828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203" h="97">
                        <a:moveTo>
                          <a:pt x="0" y="0"/>
                        </a:moveTo>
                        <a:lnTo>
                          <a:pt x="78" y="97"/>
                        </a:lnTo>
                        <a:lnTo>
                          <a:pt x="201" y="93"/>
                        </a:lnTo>
                        <a:lnTo>
                          <a:pt x="203" y="9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3" name=""/>
                  <p:cNvSpPr/>
                  <p:nvPr/>
                </p:nvSpPr>
                <p:spPr>
                  <a:xfrm>
                    <a:off x="14183640" y="18798120"/>
                    <a:ext cx="432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496">
                        <a:moveTo>
                          <a:pt x="109" y="496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4" name=""/>
                  <p:cNvSpPr/>
                  <p:nvPr/>
                </p:nvSpPr>
                <p:spPr>
                  <a:xfrm>
                    <a:off x="14183640" y="18790920"/>
                    <a:ext cx="288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160">
                        <a:moveTo>
                          <a:pt x="84" y="0"/>
                        </a:moveTo>
                        <a:lnTo>
                          <a:pt x="13" y="64"/>
                        </a:lnTo>
                        <a:lnTo>
                          <a:pt x="0" y="160"/>
                        </a:lnTo>
                        <a:lnTo>
                          <a:pt x="1" y="16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5" name=""/>
                  <p:cNvSpPr/>
                  <p:nvPr/>
                </p:nvSpPr>
                <p:spPr>
                  <a:xfrm>
                    <a:off x="14302440" y="18790920"/>
                    <a:ext cx="288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159">
                        <a:moveTo>
                          <a:pt x="84" y="159"/>
                        </a:moveTo>
                        <a:lnTo>
                          <a:pt x="71" y="64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6" name=""/>
                  <p:cNvSpPr/>
                  <p:nvPr/>
                </p:nvSpPr>
                <p:spPr>
                  <a:xfrm>
                    <a:off x="14301360" y="18798120"/>
                    <a:ext cx="396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496">
                        <a:moveTo>
                          <a:pt x="109" y="0"/>
                        </a:moveTo>
                        <a:lnTo>
                          <a:pt x="0" y="496"/>
                        </a:lnTo>
                        <a:lnTo>
                          <a:pt x="1" y="496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7" name=""/>
                  <p:cNvSpPr/>
                  <p:nvPr/>
                </p:nvSpPr>
                <p:spPr>
                  <a:xfrm>
                    <a:off x="14292720" y="18815400"/>
                    <a:ext cx="828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202" h="98">
                        <a:moveTo>
                          <a:pt x="0" y="94"/>
                        </a:moveTo>
                        <a:lnTo>
                          <a:pt x="124" y="98"/>
                        </a:lnTo>
                        <a:lnTo>
                          <a:pt x="201" y="0"/>
                        </a:lnTo>
                        <a:lnTo>
                          <a:pt x="202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8" name=""/>
                  <p:cNvSpPr/>
                  <p:nvPr/>
                </p:nvSpPr>
                <p:spPr>
                  <a:xfrm>
                    <a:off x="14256720" y="18808200"/>
                    <a:ext cx="360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021" h="297">
                        <a:moveTo>
                          <a:pt x="1021" y="297"/>
                        </a:moveTo>
                        <a:lnTo>
                          <a:pt x="525" y="97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339" name=""/>
              <p:cNvSpPr/>
              <p:nvPr/>
            </p:nvSpPr>
            <p:spPr>
              <a:xfrm>
                <a:off x="16687800" y="20364480"/>
                <a:ext cx="419040" cy="171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 flipH="1">
                <a:off x="19011600" y="19335600"/>
                <a:ext cx="85716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41" name=""/>
              <p:cNvGrpSpPr/>
              <p:nvPr/>
            </p:nvGrpSpPr>
            <p:grpSpPr>
              <a:xfrm>
                <a:off x="19233720" y="18418320"/>
                <a:ext cx="658080" cy="738360"/>
                <a:chOff x="19233720" y="18418320"/>
                <a:chExt cx="658080" cy="738360"/>
              </a:xfrm>
            </p:grpSpPr>
            <p:sp>
              <p:nvSpPr>
                <p:cNvPr id="2342" name=""/>
                <p:cNvSpPr/>
                <p:nvPr/>
              </p:nvSpPr>
              <p:spPr>
                <a:xfrm rot="2700000">
                  <a:off x="19374120" y="18603720"/>
                  <a:ext cx="360000" cy="360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43" name=""/>
                <p:cNvGrpSpPr/>
                <p:nvPr/>
              </p:nvGrpSpPr>
              <p:grpSpPr>
                <a:xfrm>
                  <a:off x="19233720" y="18470880"/>
                  <a:ext cx="254160" cy="685800"/>
                  <a:chOff x="19233720" y="18470880"/>
                  <a:chExt cx="254160" cy="685800"/>
                </a:xfrm>
              </p:grpSpPr>
              <p:grpSp>
                <p:nvGrpSpPr>
                  <p:cNvPr id="2344" name=""/>
                  <p:cNvGrpSpPr/>
                  <p:nvPr/>
                </p:nvGrpSpPr>
                <p:grpSpPr>
                  <a:xfrm>
                    <a:off x="19233720" y="18470880"/>
                    <a:ext cx="199800" cy="200160"/>
                    <a:chOff x="19233720" y="18470880"/>
                    <a:chExt cx="199800" cy="200160"/>
                  </a:xfrm>
                </p:grpSpPr>
                <p:sp>
                  <p:nvSpPr>
                    <p:cNvPr id="2345" name=""/>
                    <p:cNvSpPr/>
                    <p:nvPr/>
                  </p:nvSpPr>
                  <p:spPr>
                    <a:xfrm flipV="1" rot="8100000">
                      <a:off x="19291320" y="18575280"/>
                      <a:ext cx="360" cy="10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733">
                          <a:moveTo>
                            <a:pt x="0" y="0"/>
                          </a:moveTo>
                          <a:lnTo>
                            <a:pt x="1" y="2733"/>
                          </a:lnTo>
                          <a:lnTo>
                            <a:pt x="2" y="2733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46" name=""/>
                    <p:cNvSpPr/>
                    <p:nvPr/>
                  </p:nvSpPr>
                  <p:spPr>
                    <a:xfrm flipV="1" rot="8100000">
                      <a:off x="19282320" y="18584280"/>
                      <a:ext cx="360" cy="10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733">
                          <a:moveTo>
                            <a:pt x="0" y="0"/>
                          </a:moveTo>
                          <a:lnTo>
                            <a:pt x="1" y="2733"/>
                          </a:lnTo>
                          <a:lnTo>
                            <a:pt x="2" y="2733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47" name=""/>
                    <p:cNvSpPr/>
                    <p:nvPr/>
                  </p:nvSpPr>
                  <p:spPr>
                    <a:xfrm flipV="1" rot="8100000">
                      <a:off x="19396080" y="18469440"/>
                      <a:ext cx="1800" cy="10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733">
                          <a:moveTo>
                            <a:pt x="0" y="0"/>
                          </a:moveTo>
                          <a:lnTo>
                            <a:pt x="1" y="2733"/>
                          </a:lnTo>
                          <a:lnTo>
                            <a:pt x="2" y="2733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48" name=""/>
                    <p:cNvSpPr/>
                    <p:nvPr/>
                  </p:nvSpPr>
                  <p:spPr>
                    <a:xfrm flipV="1" rot="8100000">
                      <a:off x="19386000" y="18479880"/>
                      <a:ext cx="1440" cy="10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733">
                          <a:moveTo>
                            <a:pt x="0" y="0"/>
                          </a:moveTo>
                          <a:lnTo>
                            <a:pt x="1" y="2733"/>
                          </a:lnTo>
                          <a:lnTo>
                            <a:pt x="2" y="2733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49" name=""/>
                    <p:cNvSpPr/>
                    <p:nvPr/>
                  </p:nvSpPr>
                  <p:spPr>
                    <a:xfrm flipV="1" rot="8100000">
                      <a:off x="19391760" y="18509040"/>
                      <a:ext cx="360" cy="69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1925">
                          <a:moveTo>
                            <a:pt x="0" y="0"/>
                          </a:moveTo>
                          <a:lnTo>
                            <a:pt x="18" y="1925"/>
                          </a:lnTo>
                          <a:lnTo>
                            <a:pt x="19" y="1925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0" name=""/>
                    <p:cNvSpPr/>
                    <p:nvPr/>
                  </p:nvSpPr>
                  <p:spPr>
                    <a:xfrm flipV="1" rot="8100000">
                      <a:off x="19407960" y="18572040"/>
                      <a:ext cx="19080" cy="2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8" h="605">
                          <a:moveTo>
                            <a:pt x="0" y="0"/>
                          </a:moveTo>
                          <a:lnTo>
                            <a:pt x="184" y="396"/>
                          </a:lnTo>
                          <a:lnTo>
                            <a:pt x="567" y="605"/>
                          </a:lnTo>
                          <a:lnTo>
                            <a:pt x="568" y="605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840" bIns="-24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1" name=""/>
                    <p:cNvSpPr/>
                    <p:nvPr/>
                  </p:nvSpPr>
                  <p:spPr>
                    <a:xfrm flipV="1" rot="8100000">
                      <a:off x="19349640" y="18626040"/>
                      <a:ext cx="824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69" h="103">
                          <a:moveTo>
                            <a:pt x="0" y="2"/>
                          </a:moveTo>
                          <a:lnTo>
                            <a:pt x="1135" y="103"/>
                          </a:lnTo>
                          <a:lnTo>
                            <a:pt x="2268" y="0"/>
                          </a:lnTo>
                          <a:lnTo>
                            <a:pt x="2269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2" name=""/>
                    <p:cNvSpPr/>
                    <p:nvPr/>
                  </p:nvSpPr>
                  <p:spPr>
                    <a:xfrm flipV="1" rot="8100000">
                      <a:off x="19336320" y="18643680"/>
                      <a:ext cx="19080" cy="2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8" h="605">
                          <a:moveTo>
                            <a:pt x="0" y="605"/>
                          </a:moveTo>
                          <a:lnTo>
                            <a:pt x="382" y="396"/>
                          </a:lnTo>
                          <a:lnTo>
                            <a:pt x="567" y="0"/>
                          </a:lnTo>
                          <a:lnTo>
                            <a:pt x="568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840" bIns="-24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3" name=""/>
                    <p:cNvSpPr/>
                    <p:nvPr/>
                  </p:nvSpPr>
                  <p:spPr>
                    <a:xfrm flipV="1" rot="8100000">
                      <a:off x="19306440" y="18594360"/>
                      <a:ext cx="360" cy="69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925">
                          <a:moveTo>
                            <a:pt x="0" y="1925"/>
                          </a:moveTo>
                          <a:lnTo>
                            <a:pt x="16" y="0"/>
                          </a:lnTo>
                          <a:lnTo>
                            <a:pt x="17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4" name=""/>
                    <p:cNvSpPr/>
                    <p:nvPr/>
                  </p:nvSpPr>
                  <p:spPr>
                    <a:xfrm flipV="1" rot="8100000">
                      <a:off x="19267920" y="18570600"/>
                      <a:ext cx="25560" cy="28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45" h="787">
                          <a:moveTo>
                            <a:pt x="745" y="787"/>
                          </a:moveTo>
                          <a:lnTo>
                            <a:pt x="623" y="420"/>
                          </a:lnTo>
                          <a:lnTo>
                            <a:pt x="358" y="140"/>
                          </a:ln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5" name=""/>
                    <p:cNvSpPr/>
                    <p:nvPr/>
                  </p:nvSpPr>
                  <p:spPr>
                    <a:xfrm flipV="1" rot="8100000">
                      <a:off x="19267200" y="18539280"/>
                      <a:ext cx="698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47" h="77">
                          <a:moveTo>
                            <a:pt x="1947" y="76"/>
                          </a:moveTo>
                          <a:lnTo>
                            <a:pt x="974" y="0"/>
                          </a:lnTo>
                          <a:lnTo>
                            <a:pt x="0" y="77"/>
                          </a:lnTo>
                          <a:lnTo>
                            <a:pt x="1" y="77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6" name=""/>
                    <p:cNvSpPr/>
                    <p:nvPr/>
                  </p:nvSpPr>
                  <p:spPr>
                    <a:xfrm flipV="1" rot="8100000">
                      <a:off x="19334880" y="18504000"/>
                      <a:ext cx="25200" cy="28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44" h="788">
                          <a:moveTo>
                            <a:pt x="744" y="0"/>
                          </a:moveTo>
                          <a:lnTo>
                            <a:pt x="386" y="141"/>
                          </a:lnTo>
                          <a:lnTo>
                            <a:pt x="121" y="421"/>
                          </a:lnTo>
                          <a:lnTo>
                            <a:pt x="0" y="788"/>
                          </a:lnTo>
                          <a:lnTo>
                            <a:pt x="1" y="788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7" name=""/>
                    <p:cNvSpPr/>
                    <p:nvPr/>
                  </p:nvSpPr>
                  <p:spPr>
                    <a:xfrm flipV="1" rot="8100000">
                      <a:off x="19317600" y="18666000"/>
                      <a:ext cx="1260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0" h="0">
                          <a:moveTo>
                            <a:pt x="0" y="0"/>
                          </a:moveTo>
                          <a:lnTo>
                            <a:pt x="349" y="0"/>
                          </a:lnTo>
                          <a:lnTo>
                            <a:pt x="350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8" name=""/>
                    <p:cNvSpPr/>
                    <p:nvPr/>
                  </p:nvSpPr>
                  <p:spPr>
                    <a:xfrm flipV="1" rot="8100000">
                      <a:off x="19422000" y="18561240"/>
                      <a:ext cx="1296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9" h="0">
                          <a:moveTo>
                            <a:pt x="349" y="0"/>
                          </a:move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9" name=""/>
                    <p:cNvSpPr/>
                    <p:nvPr/>
                  </p:nvSpPr>
                  <p:spPr>
                    <a:xfrm flipV="1" rot="8100000">
                      <a:off x="19246680" y="18595440"/>
                      <a:ext cx="1260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0" h="0">
                          <a:moveTo>
                            <a:pt x="0" y="0"/>
                          </a:moveTo>
                          <a:lnTo>
                            <a:pt x="349" y="0"/>
                          </a:lnTo>
                          <a:lnTo>
                            <a:pt x="350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0" name=""/>
                    <p:cNvSpPr/>
                    <p:nvPr/>
                  </p:nvSpPr>
                  <p:spPr>
                    <a:xfrm flipV="1" rot="8100000">
                      <a:off x="19287360" y="18536760"/>
                      <a:ext cx="2556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98" h="0">
                          <a:moveTo>
                            <a:pt x="698" y="0"/>
                          </a:move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1" name=""/>
                    <p:cNvSpPr/>
                    <p:nvPr/>
                  </p:nvSpPr>
                  <p:spPr>
                    <a:xfrm flipV="1" rot="8100000">
                      <a:off x="19289880" y="18544680"/>
                      <a:ext cx="144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33">
                          <a:moveTo>
                            <a:pt x="0" y="133"/>
                          </a:move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2" name=""/>
                    <p:cNvSpPr/>
                    <p:nvPr/>
                  </p:nvSpPr>
                  <p:spPr>
                    <a:xfrm flipV="1" rot="8100000">
                      <a:off x="19309320" y="18525600"/>
                      <a:ext cx="36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34">
                          <a:moveTo>
                            <a:pt x="0" y="134"/>
                          </a:move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3" name=""/>
                    <p:cNvSpPr/>
                    <p:nvPr/>
                  </p:nvSpPr>
                  <p:spPr>
                    <a:xfrm flipV="1" rot="8100000">
                      <a:off x="19351440" y="18490320"/>
                      <a:ext cx="1296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9" h="0">
                          <a:moveTo>
                            <a:pt x="349" y="0"/>
                          </a:move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4" name=""/>
                    <p:cNvSpPr/>
                    <p:nvPr/>
                  </p:nvSpPr>
                  <p:spPr>
                    <a:xfrm flipV="1" rot="8100000">
                      <a:off x="19223280" y="18509760"/>
                      <a:ext cx="120600" cy="2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44" h="562">
                          <a:moveTo>
                            <a:pt x="3405" y="560"/>
                          </a:moveTo>
                          <a:lnTo>
                            <a:pt x="3444" y="429"/>
                          </a:lnTo>
                          <a:lnTo>
                            <a:pt x="3366" y="316"/>
                          </a:lnTo>
                          <a:lnTo>
                            <a:pt x="2559" y="78"/>
                          </a:lnTo>
                          <a:lnTo>
                            <a:pt x="1722" y="0"/>
                          </a:lnTo>
                          <a:lnTo>
                            <a:pt x="884" y="79"/>
                          </a:lnTo>
                          <a:lnTo>
                            <a:pt x="78" y="318"/>
                          </a:lnTo>
                          <a:lnTo>
                            <a:pt x="0" y="430"/>
                          </a:lnTo>
                          <a:lnTo>
                            <a:pt x="39" y="562"/>
                          </a:lnTo>
                          <a:lnTo>
                            <a:pt x="40" y="562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280" bIns="-26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5" name=""/>
                    <p:cNvSpPr/>
                    <p:nvPr/>
                  </p:nvSpPr>
                  <p:spPr>
                    <a:xfrm flipV="1" rot="8100000">
                      <a:off x="19237320" y="18517320"/>
                      <a:ext cx="11412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2" h="740">
                          <a:moveTo>
                            <a:pt x="3152" y="738"/>
                          </a:moveTo>
                          <a:lnTo>
                            <a:pt x="3126" y="512"/>
                          </a:lnTo>
                          <a:lnTo>
                            <a:pt x="2966" y="350"/>
                          </a:lnTo>
                          <a:lnTo>
                            <a:pt x="2290" y="101"/>
                          </a:lnTo>
                          <a:lnTo>
                            <a:pt x="1576" y="0"/>
                          </a:lnTo>
                          <a:lnTo>
                            <a:pt x="862" y="102"/>
                          </a:lnTo>
                          <a:lnTo>
                            <a:pt x="186" y="352"/>
                          </a:lnTo>
                          <a:lnTo>
                            <a:pt x="26" y="514"/>
                          </a:lnTo>
                          <a:lnTo>
                            <a:pt x="0" y="740"/>
                          </a:lnTo>
                          <a:lnTo>
                            <a:pt x="1" y="74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6" name=""/>
                    <p:cNvSpPr/>
                    <p:nvPr/>
                  </p:nvSpPr>
                  <p:spPr>
                    <a:xfrm flipV="1" rot="8100000">
                      <a:off x="19307520" y="18513720"/>
                      <a:ext cx="34920" cy="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23" h="298">
                          <a:moveTo>
                            <a:pt x="1023" y="0"/>
                          </a:moveTo>
                          <a:lnTo>
                            <a:pt x="496" y="98"/>
                          </a:lnTo>
                          <a:lnTo>
                            <a:pt x="0" y="298"/>
                          </a:lnTo>
                          <a:lnTo>
                            <a:pt x="2" y="298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7" name=""/>
                    <p:cNvSpPr/>
                    <p:nvPr/>
                  </p:nvSpPr>
                  <p:spPr>
                    <a:xfrm flipV="1" rot="8100000">
                      <a:off x="19336680" y="18502560"/>
                      <a:ext cx="936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3" h="97">
                          <a:moveTo>
                            <a:pt x="0" y="0"/>
                          </a:moveTo>
                          <a:lnTo>
                            <a:pt x="78" y="97"/>
                          </a:lnTo>
                          <a:lnTo>
                            <a:pt x="201" y="93"/>
                          </a:lnTo>
                          <a:lnTo>
                            <a:pt x="203" y="93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8" name=""/>
                    <p:cNvSpPr/>
                    <p:nvPr/>
                  </p:nvSpPr>
                  <p:spPr>
                    <a:xfrm flipV="1" rot="8100000">
                      <a:off x="19338480" y="18486000"/>
                      <a:ext cx="3240" cy="1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496">
                          <a:moveTo>
                            <a:pt x="109" y="496"/>
                          </a:move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9" name=""/>
                    <p:cNvSpPr/>
                    <p:nvPr/>
                  </p:nvSpPr>
                  <p:spPr>
                    <a:xfrm flipV="1" rot="8100000">
                      <a:off x="19330200" y="18480600"/>
                      <a:ext cx="144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" h="160">
                          <a:moveTo>
                            <a:pt x="84" y="0"/>
                          </a:moveTo>
                          <a:lnTo>
                            <a:pt x="13" y="64"/>
                          </a:lnTo>
                          <a:lnTo>
                            <a:pt x="0" y="160"/>
                          </a:lnTo>
                          <a:lnTo>
                            <a:pt x="1" y="16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0" name=""/>
                    <p:cNvSpPr/>
                    <p:nvPr/>
                  </p:nvSpPr>
                  <p:spPr>
                    <a:xfrm flipV="1" rot="8100000">
                      <a:off x="19246680" y="18564480"/>
                      <a:ext cx="180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" h="159">
                          <a:moveTo>
                            <a:pt x="84" y="159"/>
                          </a:moveTo>
                          <a:lnTo>
                            <a:pt x="71" y="64"/>
                          </a:ln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1" name=""/>
                    <p:cNvSpPr/>
                    <p:nvPr/>
                  </p:nvSpPr>
                  <p:spPr>
                    <a:xfrm flipV="1" rot="8100000">
                      <a:off x="19255320" y="18569160"/>
                      <a:ext cx="3240" cy="1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496">
                          <a:moveTo>
                            <a:pt x="109" y="0"/>
                          </a:moveTo>
                          <a:lnTo>
                            <a:pt x="0" y="496"/>
                          </a:lnTo>
                          <a:lnTo>
                            <a:pt x="1" y="496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2" name=""/>
                    <p:cNvSpPr/>
                    <p:nvPr/>
                  </p:nvSpPr>
                  <p:spPr>
                    <a:xfrm flipV="1" rot="8100000">
                      <a:off x="19262520" y="18576720"/>
                      <a:ext cx="936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2" h="98">
                          <a:moveTo>
                            <a:pt x="0" y="94"/>
                          </a:moveTo>
                          <a:lnTo>
                            <a:pt x="124" y="98"/>
                          </a:lnTo>
                          <a:lnTo>
                            <a:pt x="201" y="0"/>
                          </a:lnTo>
                          <a:lnTo>
                            <a:pt x="202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3" name=""/>
                    <p:cNvSpPr/>
                    <p:nvPr/>
                  </p:nvSpPr>
                  <p:spPr>
                    <a:xfrm flipV="1" rot="8100000">
                      <a:off x="19264680" y="18556560"/>
                      <a:ext cx="34920" cy="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21" h="297">
                          <a:moveTo>
                            <a:pt x="1021" y="297"/>
                          </a:moveTo>
                          <a:lnTo>
                            <a:pt x="525" y="97"/>
                          </a:ln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74" name=""/>
                  <p:cNvGrpSpPr/>
                  <p:nvPr/>
                </p:nvGrpSpPr>
                <p:grpSpPr>
                  <a:xfrm>
                    <a:off x="19288080" y="18956520"/>
                    <a:ext cx="199800" cy="200160"/>
                    <a:chOff x="19288080" y="18956520"/>
                    <a:chExt cx="199800" cy="200160"/>
                  </a:xfrm>
                </p:grpSpPr>
                <p:sp>
                  <p:nvSpPr>
                    <p:cNvPr id="2375" name=""/>
                    <p:cNvSpPr/>
                    <p:nvPr/>
                  </p:nvSpPr>
                  <p:spPr>
                    <a:xfrm flipV="1" rot="2700000">
                      <a:off x="19441800" y="19048320"/>
                      <a:ext cx="360" cy="10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733">
                          <a:moveTo>
                            <a:pt x="0" y="0"/>
                          </a:moveTo>
                          <a:lnTo>
                            <a:pt x="1" y="2733"/>
                          </a:lnTo>
                          <a:lnTo>
                            <a:pt x="2" y="2733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6" name=""/>
                    <p:cNvSpPr/>
                    <p:nvPr/>
                  </p:nvSpPr>
                  <p:spPr>
                    <a:xfrm flipV="1" rot="2700000">
                      <a:off x="19450440" y="19057320"/>
                      <a:ext cx="360" cy="10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733">
                          <a:moveTo>
                            <a:pt x="0" y="0"/>
                          </a:moveTo>
                          <a:lnTo>
                            <a:pt x="1" y="2733"/>
                          </a:lnTo>
                          <a:lnTo>
                            <a:pt x="2" y="2733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7" name=""/>
                    <p:cNvSpPr/>
                    <p:nvPr/>
                  </p:nvSpPr>
                  <p:spPr>
                    <a:xfrm flipV="1" rot="2700000">
                      <a:off x="19336320" y="18943920"/>
                      <a:ext cx="1440" cy="10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733">
                          <a:moveTo>
                            <a:pt x="0" y="0"/>
                          </a:moveTo>
                          <a:lnTo>
                            <a:pt x="1" y="2733"/>
                          </a:lnTo>
                          <a:lnTo>
                            <a:pt x="2" y="2733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8" name=""/>
                    <p:cNvSpPr/>
                    <p:nvPr/>
                  </p:nvSpPr>
                  <p:spPr>
                    <a:xfrm flipV="1" rot="2700000">
                      <a:off x="19344960" y="18951840"/>
                      <a:ext cx="1080" cy="10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733">
                          <a:moveTo>
                            <a:pt x="0" y="0"/>
                          </a:moveTo>
                          <a:lnTo>
                            <a:pt x="1" y="2733"/>
                          </a:lnTo>
                          <a:lnTo>
                            <a:pt x="2" y="2733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9" name=""/>
                    <p:cNvSpPr/>
                    <p:nvPr/>
                  </p:nvSpPr>
                  <p:spPr>
                    <a:xfrm flipV="1" rot="2700000">
                      <a:off x="19360440" y="18963360"/>
                      <a:ext cx="360" cy="69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1925">
                          <a:moveTo>
                            <a:pt x="0" y="0"/>
                          </a:moveTo>
                          <a:lnTo>
                            <a:pt x="18" y="1925"/>
                          </a:lnTo>
                          <a:lnTo>
                            <a:pt x="19" y="1925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0" name=""/>
                    <p:cNvSpPr/>
                    <p:nvPr/>
                  </p:nvSpPr>
                  <p:spPr>
                    <a:xfrm flipV="1" rot="2700000">
                      <a:off x="19390320" y="18961560"/>
                      <a:ext cx="18720" cy="2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8" h="605">
                          <a:moveTo>
                            <a:pt x="0" y="0"/>
                          </a:moveTo>
                          <a:lnTo>
                            <a:pt x="184" y="396"/>
                          </a:lnTo>
                          <a:lnTo>
                            <a:pt x="567" y="605"/>
                          </a:lnTo>
                          <a:lnTo>
                            <a:pt x="568" y="605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840" bIns="-24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1" name=""/>
                    <p:cNvSpPr/>
                    <p:nvPr/>
                  </p:nvSpPr>
                  <p:spPr>
                    <a:xfrm flipV="1" rot="2700000">
                      <a:off x="19403640" y="18997920"/>
                      <a:ext cx="820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69" h="103">
                          <a:moveTo>
                            <a:pt x="0" y="2"/>
                          </a:moveTo>
                          <a:lnTo>
                            <a:pt x="1135" y="103"/>
                          </a:lnTo>
                          <a:lnTo>
                            <a:pt x="2268" y="0"/>
                          </a:lnTo>
                          <a:lnTo>
                            <a:pt x="2269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2" name=""/>
                    <p:cNvSpPr/>
                    <p:nvPr/>
                  </p:nvSpPr>
                  <p:spPr>
                    <a:xfrm flipV="1" rot="2700000">
                      <a:off x="19462320" y="19033200"/>
                      <a:ext cx="18720" cy="2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8" h="605">
                          <a:moveTo>
                            <a:pt x="0" y="605"/>
                          </a:moveTo>
                          <a:lnTo>
                            <a:pt x="382" y="396"/>
                          </a:lnTo>
                          <a:lnTo>
                            <a:pt x="567" y="0"/>
                          </a:lnTo>
                          <a:lnTo>
                            <a:pt x="568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840" bIns="-24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3" name=""/>
                    <p:cNvSpPr/>
                    <p:nvPr/>
                  </p:nvSpPr>
                  <p:spPr>
                    <a:xfrm flipV="1" rot="2700000">
                      <a:off x="19445760" y="19048680"/>
                      <a:ext cx="360" cy="69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925">
                          <a:moveTo>
                            <a:pt x="0" y="1925"/>
                          </a:moveTo>
                          <a:lnTo>
                            <a:pt x="16" y="0"/>
                          </a:lnTo>
                          <a:lnTo>
                            <a:pt x="17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4" name=""/>
                    <p:cNvSpPr/>
                    <p:nvPr/>
                  </p:nvSpPr>
                  <p:spPr>
                    <a:xfrm flipV="1" rot="2700000">
                      <a:off x="19389960" y="19094760"/>
                      <a:ext cx="25200" cy="28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45" h="787">
                          <a:moveTo>
                            <a:pt x="745" y="787"/>
                          </a:moveTo>
                          <a:lnTo>
                            <a:pt x="623" y="420"/>
                          </a:lnTo>
                          <a:lnTo>
                            <a:pt x="358" y="140"/>
                          </a:ln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5" name=""/>
                    <p:cNvSpPr/>
                    <p:nvPr/>
                  </p:nvSpPr>
                  <p:spPr>
                    <a:xfrm flipV="1" rot="2700000">
                      <a:off x="19321920" y="19085760"/>
                      <a:ext cx="6948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47" h="77">
                          <a:moveTo>
                            <a:pt x="1947" y="76"/>
                          </a:moveTo>
                          <a:lnTo>
                            <a:pt x="974" y="0"/>
                          </a:lnTo>
                          <a:lnTo>
                            <a:pt x="0" y="77"/>
                          </a:lnTo>
                          <a:lnTo>
                            <a:pt x="1" y="77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6" name=""/>
                    <p:cNvSpPr/>
                    <p:nvPr/>
                  </p:nvSpPr>
                  <p:spPr>
                    <a:xfrm flipV="1" rot="2700000">
                      <a:off x="19321920" y="19026720"/>
                      <a:ext cx="24840" cy="28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44" h="788">
                          <a:moveTo>
                            <a:pt x="744" y="0"/>
                          </a:moveTo>
                          <a:lnTo>
                            <a:pt x="386" y="141"/>
                          </a:lnTo>
                          <a:lnTo>
                            <a:pt x="121" y="421"/>
                          </a:lnTo>
                          <a:lnTo>
                            <a:pt x="0" y="788"/>
                          </a:lnTo>
                          <a:lnTo>
                            <a:pt x="1" y="788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7" name=""/>
                    <p:cNvSpPr/>
                    <p:nvPr/>
                  </p:nvSpPr>
                  <p:spPr>
                    <a:xfrm flipV="1" rot="2700000">
                      <a:off x="19477080" y="19065600"/>
                      <a:ext cx="1224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0" h="0">
                          <a:moveTo>
                            <a:pt x="0" y="0"/>
                          </a:moveTo>
                          <a:lnTo>
                            <a:pt x="349" y="0"/>
                          </a:lnTo>
                          <a:lnTo>
                            <a:pt x="350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8" name=""/>
                    <p:cNvSpPr/>
                    <p:nvPr/>
                  </p:nvSpPr>
                  <p:spPr>
                    <a:xfrm flipV="1" rot="2700000">
                      <a:off x="19371240" y="18960480"/>
                      <a:ext cx="1260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9" h="0">
                          <a:moveTo>
                            <a:pt x="349" y="0"/>
                          </a:move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9" name=""/>
                    <p:cNvSpPr/>
                    <p:nvPr/>
                  </p:nvSpPr>
                  <p:spPr>
                    <a:xfrm flipV="1" rot="2700000">
                      <a:off x="19406520" y="19136520"/>
                      <a:ext cx="1224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0" h="0">
                          <a:moveTo>
                            <a:pt x="0" y="0"/>
                          </a:moveTo>
                          <a:lnTo>
                            <a:pt x="349" y="0"/>
                          </a:lnTo>
                          <a:lnTo>
                            <a:pt x="350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90" name=""/>
                    <p:cNvSpPr/>
                    <p:nvPr/>
                  </p:nvSpPr>
                  <p:spPr>
                    <a:xfrm flipV="1" rot="2700000">
                      <a:off x="19342080" y="19090080"/>
                      <a:ext cx="2520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98" h="0">
                          <a:moveTo>
                            <a:pt x="698" y="0"/>
                          </a:move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91" name=""/>
                    <p:cNvSpPr/>
                    <p:nvPr/>
                  </p:nvSpPr>
                  <p:spPr>
                    <a:xfrm flipV="1" rot="2700000">
                      <a:off x="19363320" y="19096200"/>
                      <a:ext cx="108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33">
                          <a:moveTo>
                            <a:pt x="0" y="133"/>
                          </a:move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92" name=""/>
                    <p:cNvSpPr/>
                    <p:nvPr/>
                  </p:nvSpPr>
                  <p:spPr>
                    <a:xfrm flipV="1" rot="2700000">
                      <a:off x="19344960" y="19077480"/>
                      <a:ext cx="36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34">
                          <a:moveTo>
                            <a:pt x="0" y="134"/>
                          </a:move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93" name=""/>
                    <p:cNvSpPr/>
                    <p:nvPr/>
                  </p:nvSpPr>
                  <p:spPr>
                    <a:xfrm flipV="1" rot="2700000">
                      <a:off x="19300320" y="19031400"/>
                      <a:ext cx="1260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9" h="0">
                          <a:moveTo>
                            <a:pt x="349" y="0"/>
                          </a:move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94" name=""/>
                    <p:cNvSpPr/>
                    <p:nvPr/>
                  </p:nvSpPr>
                  <p:spPr>
                    <a:xfrm flipV="1" rot="2700000">
                      <a:off x="19277640" y="19096560"/>
                      <a:ext cx="120240" cy="2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44" h="562">
                          <a:moveTo>
                            <a:pt x="3405" y="560"/>
                          </a:moveTo>
                          <a:lnTo>
                            <a:pt x="3444" y="429"/>
                          </a:lnTo>
                          <a:lnTo>
                            <a:pt x="3366" y="316"/>
                          </a:lnTo>
                          <a:lnTo>
                            <a:pt x="2559" y="78"/>
                          </a:lnTo>
                          <a:lnTo>
                            <a:pt x="1722" y="0"/>
                          </a:lnTo>
                          <a:lnTo>
                            <a:pt x="884" y="79"/>
                          </a:lnTo>
                          <a:lnTo>
                            <a:pt x="78" y="318"/>
                          </a:lnTo>
                          <a:lnTo>
                            <a:pt x="0" y="430"/>
                          </a:lnTo>
                          <a:lnTo>
                            <a:pt x="39" y="562"/>
                          </a:lnTo>
                          <a:lnTo>
                            <a:pt x="40" y="562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280" bIns="-26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95" name=""/>
                    <p:cNvSpPr/>
                    <p:nvPr/>
                  </p:nvSpPr>
                  <p:spPr>
                    <a:xfrm flipV="1" rot="2700000">
                      <a:off x="19291680" y="19081440"/>
                      <a:ext cx="11376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2" h="740">
                          <a:moveTo>
                            <a:pt x="3152" y="738"/>
                          </a:moveTo>
                          <a:lnTo>
                            <a:pt x="3126" y="512"/>
                          </a:lnTo>
                          <a:lnTo>
                            <a:pt x="2966" y="350"/>
                          </a:lnTo>
                          <a:lnTo>
                            <a:pt x="2290" y="101"/>
                          </a:lnTo>
                          <a:lnTo>
                            <a:pt x="1576" y="0"/>
                          </a:lnTo>
                          <a:lnTo>
                            <a:pt x="862" y="102"/>
                          </a:lnTo>
                          <a:lnTo>
                            <a:pt x="186" y="352"/>
                          </a:lnTo>
                          <a:lnTo>
                            <a:pt x="26" y="514"/>
                          </a:lnTo>
                          <a:lnTo>
                            <a:pt x="0" y="740"/>
                          </a:lnTo>
                          <a:lnTo>
                            <a:pt x="1" y="74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96" name=""/>
                    <p:cNvSpPr/>
                    <p:nvPr/>
                  </p:nvSpPr>
                  <p:spPr>
                    <a:xfrm flipV="1" rot="2700000">
                      <a:off x="19318680" y="19061280"/>
                      <a:ext cx="34560" cy="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23" h="298">
                          <a:moveTo>
                            <a:pt x="1023" y="0"/>
                          </a:moveTo>
                          <a:lnTo>
                            <a:pt x="496" y="98"/>
                          </a:lnTo>
                          <a:lnTo>
                            <a:pt x="0" y="298"/>
                          </a:lnTo>
                          <a:lnTo>
                            <a:pt x="2" y="298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97" name=""/>
                    <p:cNvSpPr/>
                    <p:nvPr/>
                  </p:nvSpPr>
                  <p:spPr>
                    <a:xfrm flipV="1" rot="2700000">
                      <a:off x="19316880" y="19045440"/>
                      <a:ext cx="900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3" h="97">
                          <a:moveTo>
                            <a:pt x="0" y="0"/>
                          </a:moveTo>
                          <a:lnTo>
                            <a:pt x="78" y="97"/>
                          </a:lnTo>
                          <a:lnTo>
                            <a:pt x="201" y="93"/>
                          </a:lnTo>
                          <a:lnTo>
                            <a:pt x="203" y="93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98" name=""/>
                    <p:cNvSpPr/>
                    <p:nvPr/>
                  </p:nvSpPr>
                  <p:spPr>
                    <a:xfrm flipV="1" rot="2700000">
                      <a:off x="19309680" y="19041840"/>
                      <a:ext cx="2880" cy="1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496">
                          <a:moveTo>
                            <a:pt x="109" y="496"/>
                          </a:move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99" name=""/>
                    <p:cNvSpPr/>
                    <p:nvPr/>
                  </p:nvSpPr>
                  <p:spPr>
                    <a:xfrm flipV="1" rot="2700000">
                      <a:off x="19300320" y="19054080"/>
                      <a:ext cx="108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" h="160">
                          <a:moveTo>
                            <a:pt x="84" y="0"/>
                          </a:moveTo>
                          <a:lnTo>
                            <a:pt x="13" y="64"/>
                          </a:lnTo>
                          <a:lnTo>
                            <a:pt x="0" y="160"/>
                          </a:lnTo>
                          <a:lnTo>
                            <a:pt x="1" y="16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00" name=""/>
                    <p:cNvSpPr/>
                    <p:nvPr/>
                  </p:nvSpPr>
                  <p:spPr>
                    <a:xfrm flipV="1" rot="2700000">
                      <a:off x="19384560" y="19139400"/>
                      <a:ext cx="144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" h="159">
                          <a:moveTo>
                            <a:pt x="84" y="159"/>
                          </a:moveTo>
                          <a:lnTo>
                            <a:pt x="71" y="64"/>
                          </a:ln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01" name=""/>
                    <p:cNvSpPr/>
                    <p:nvPr/>
                  </p:nvSpPr>
                  <p:spPr>
                    <a:xfrm flipV="1" rot="2700000">
                      <a:off x="19392840" y="19124640"/>
                      <a:ext cx="2880" cy="1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496">
                          <a:moveTo>
                            <a:pt x="109" y="0"/>
                          </a:moveTo>
                          <a:lnTo>
                            <a:pt x="0" y="496"/>
                          </a:lnTo>
                          <a:lnTo>
                            <a:pt x="1" y="496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02" name=""/>
                    <p:cNvSpPr/>
                    <p:nvPr/>
                  </p:nvSpPr>
                  <p:spPr>
                    <a:xfrm flipV="1" rot="2700000">
                      <a:off x="19390680" y="19119240"/>
                      <a:ext cx="900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2" h="98">
                          <a:moveTo>
                            <a:pt x="0" y="94"/>
                          </a:moveTo>
                          <a:lnTo>
                            <a:pt x="124" y="98"/>
                          </a:lnTo>
                          <a:lnTo>
                            <a:pt x="201" y="0"/>
                          </a:lnTo>
                          <a:lnTo>
                            <a:pt x="202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03" name=""/>
                    <p:cNvSpPr/>
                    <p:nvPr/>
                  </p:nvSpPr>
                  <p:spPr>
                    <a:xfrm flipV="1" rot="2700000">
                      <a:off x="19361520" y="19104120"/>
                      <a:ext cx="34560" cy="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21" h="297">
                          <a:moveTo>
                            <a:pt x="1021" y="297"/>
                          </a:moveTo>
                          <a:lnTo>
                            <a:pt x="525" y="97"/>
                          </a:ln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404" name=""/>
                <p:cNvGrpSpPr/>
                <p:nvPr/>
              </p:nvGrpSpPr>
              <p:grpSpPr>
                <a:xfrm>
                  <a:off x="19636920" y="18418320"/>
                  <a:ext cx="254880" cy="684720"/>
                  <a:chOff x="19636920" y="18418320"/>
                  <a:chExt cx="254880" cy="684720"/>
                </a:xfrm>
              </p:grpSpPr>
              <p:grpSp>
                <p:nvGrpSpPr>
                  <p:cNvPr id="2405" name=""/>
                  <p:cNvGrpSpPr/>
                  <p:nvPr/>
                </p:nvGrpSpPr>
                <p:grpSpPr>
                  <a:xfrm>
                    <a:off x="19691640" y="18902880"/>
                    <a:ext cx="200160" cy="200160"/>
                    <a:chOff x="19691640" y="18902880"/>
                    <a:chExt cx="200160" cy="200160"/>
                  </a:xfrm>
                </p:grpSpPr>
                <p:sp>
                  <p:nvSpPr>
                    <p:cNvPr id="2406" name=""/>
                    <p:cNvSpPr/>
                    <p:nvPr/>
                  </p:nvSpPr>
                  <p:spPr>
                    <a:xfrm flipH="1" rot="8100000">
                      <a:off x="19833120" y="18898920"/>
                      <a:ext cx="360" cy="10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733">
                          <a:moveTo>
                            <a:pt x="0" y="0"/>
                          </a:moveTo>
                          <a:lnTo>
                            <a:pt x="1" y="2733"/>
                          </a:lnTo>
                          <a:lnTo>
                            <a:pt x="2" y="2733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07" name=""/>
                    <p:cNvSpPr/>
                    <p:nvPr/>
                  </p:nvSpPr>
                  <p:spPr>
                    <a:xfrm flipH="1" rot="8100000">
                      <a:off x="19842120" y="18890280"/>
                      <a:ext cx="360" cy="10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733">
                          <a:moveTo>
                            <a:pt x="0" y="0"/>
                          </a:moveTo>
                          <a:lnTo>
                            <a:pt x="1" y="2733"/>
                          </a:lnTo>
                          <a:lnTo>
                            <a:pt x="2" y="2733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08" name=""/>
                    <p:cNvSpPr/>
                    <p:nvPr/>
                  </p:nvSpPr>
                  <p:spPr>
                    <a:xfrm flipH="1" rot="8100000">
                      <a:off x="19728000" y="19003680"/>
                      <a:ext cx="1440" cy="10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733">
                          <a:moveTo>
                            <a:pt x="0" y="0"/>
                          </a:moveTo>
                          <a:lnTo>
                            <a:pt x="1" y="2733"/>
                          </a:lnTo>
                          <a:lnTo>
                            <a:pt x="2" y="2733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09" name=""/>
                    <p:cNvSpPr/>
                    <p:nvPr/>
                  </p:nvSpPr>
                  <p:spPr>
                    <a:xfrm flipH="1" rot="8100000">
                      <a:off x="19736280" y="18995040"/>
                      <a:ext cx="1080" cy="10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733">
                          <a:moveTo>
                            <a:pt x="0" y="0"/>
                          </a:moveTo>
                          <a:lnTo>
                            <a:pt x="1" y="2733"/>
                          </a:lnTo>
                          <a:lnTo>
                            <a:pt x="2" y="2733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0" name=""/>
                    <p:cNvSpPr/>
                    <p:nvPr/>
                  </p:nvSpPr>
                  <p:spPr>
                    <a:xfrm flipH="1" rot="8100000">
                      <a:off x="19732680" y="18995400"/>
                      <a:ext cx="360" cy="69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1925">
                          <a:moveTo>
                            <a:pt x="0" y="0"/>
                          </a:moveTo>
                          <a:lnTo>
                            <a:pt x="18" y="1925"/>
                          </a:lnTo>
                          <a:lnTo>
                            <a:pt x="19" y="1925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1" name=""/>
                    <p:cNvSpPr/>
                    <p:nvPr/>
                  </p:nvSpPr>
                  <p:spPr>
                    <a:xfrm flipH="1" rot="8100000">
                      <a:off x="19698480" y="18979920"/>
                      <a:ext cx="18720" cy="2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8" h="605">
                          <a:moveTo>
                            <a:pt x="0" y="0"/>
                          </a:moveTo>
                          <a:lnTo>
                            <a:pt x="184" y="396"/>
                          </a:lnTo>
                          <a:lnTo>
                            <a:pt x="567" y="605"/>
                          </a:lnTo>
                          <a:lnTo>
                            <a:pt x="568" y="605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840" bIns="-24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2" name=""/>
                    <p:cNvSpPr/>
                    <p:nvPr/>
                  </p:nvSpPr>
                  <p:spPr>
                    <a:xfrm flipH="1" rot="8100000">
                      <a:off x="19693080" y="18943920"/>
                      <a:ext cx="820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69" h="103">
                          <a:moveTo>
                            <a:pt x="0" y="2"/>
                          </a:moveTo>
                          <a:lnTo>
                            <a:pt x="1135" y="103"/>
                          </a:lnTo>
                          <a:lnTo>
                            <a:pt x="2268" y="0"/>
                          </a:lnTo>
                          <a:lnTo>
                            <a:pt x="2269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3" name=""/>
                    <p:cNvSpPr/>
                    <p:nvPr/>
                  </p:nvSpPr>
                  <p:spPr>
                    <a:xfrm flipH="1" rot="8100000">
                      <a:off x="19770120" y="18907920"/>
                      <a:ext cx="18720" cy="2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8" h="605">
                          <a:moveTo>
                            <a:pt x="0" y="605"/>
                          </a:moveTo>
                          <a:lnTo>
                            <a:pt x="382" y="396"/>
                          </a:lnTo>
                          <a:lnTo>
                            <a:pt x="567" y="0"/>
                          </a:lnTo>
                          <a:lnTo>
                            <a:pt x="568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840" bIns="-24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4" name=""/>
                    <p:cNvSpPr/>
                    <p:nvPr/>
                  </p:nvSpPr>
                  <p:spPr>
                    <a:xfrm flipH="1" rot="8100000">
                      <a:off x="19818000" y="18910080"/>
                      <a:ext cx="360" cy="69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925">
                          <a:moveTo>
                            <a:pt x="0" y="1925"/>
                          </a:moveTo>
                          <a:lnTo>
                            <a:pt x="16" y="0"/>
                          </a:lnTo>
                          <a:lnTo>
                            <a:pt x="17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5" name=""/>
                    <p:cNvSpPr/>
                    <p:nvPr/>
                  </p:nvSpPr>
                  <p:spPr>
                    <a:xfrm flipH="1" rot="8100000">
                      <a:off x="19831680" y="18973800"/>
                      <a:ext cx="25200" cy="28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45" h="787">
                          <a:moveTo>
                            <a:pt x="745" y="787"/>
                          </a:moveTo>
                          <a:lnTo>
                            <a:pt x="623" y="420"/>
                          </a:lnTo>
                          <a:lnTo>
                            <a:pt x="358" y="140"/>
                          </a:ln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6" name=""/>
                    <p:cNvSpPr/>
                    <p:nvPr/>
                  </p:nvSpPr>
                  <p:spPr>
                    <a:xfrm flipH="1" rot="8100000">
                      <a:off x="19786680" y="19033560"/>
                      <a:ext cx="6948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47" h="77">
                          <a:moveTo>
                            <a:pt x="1947" y="76"/>
                          </a:moveTo>
                          <a:lnTo>
                            <a:pt x="974" y="0"/>
                          </a:lnTo>
                          <a:lnTo>
                            <a:pt x="0" y="77"/>
                          </a:lnTo>
                          <a:lnTo>
                            <a:pt x="1" y="77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7" name=""/>
                    <p:cNvSpPr/>
                    <p:nvPr/>
                  </p:nvSpPr>
                  <p:spPr>
                    <a:xfrm flipH="1" rot="8100000">
                      <a:off x="19764000" y="19042200"/>
                      <a:ext cx="24840" cy="28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44" h="788">
                          <a:moveTo>
                            <a:pt x="744" y="0"/>
                          </a:moveTo>
                          <a:lnTo>
                            <a:pt x="386" y="141"/>
                          </a:lnTo>
                          <a:lnTo>
                            <a:pt x="121" y="421"/>
                          </a:lnTo>
                          <a:lnTo>
                            <a:pt x="0" y="788"/>
                          </a:lnTo>
                          <a:lnTo>
                            <a:pt x="1" y="788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8" name=""/>
                    <p:cNvSpPr/>
                    <p:nvPr/>
                  </p:nvSpPr>
                  <p:spPr>
                    <a:xfrm flipH="1" rot="8100000">
                      <a:off x="19794960" y="18907200"/>
                      <a:ext cx="1224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0" h="0">
                          <a:moveTo>
                            <a:pt x="0" y="0"/>
                          </a:moveTo>
                          <a:lnTo>
                            <a:pt x="349" y="0"/>
                          </a:lnTo>
                          <a:lnTo>
                            <a:pt x="350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9" name=""/>
                    <p:cNvSpPr/>
                    <p:nvPr/>
                  </p:nvSpPr>
                  <p:spPr>
                    <a:xfrm flipH="1" rot="8100000">
                      <a:off x="19689480" y="19013040"/>
                      <a:ext cx="1260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9" h="0">
                          <a:moveTo>
                            <a:pt x="349" y="0"/>
                          </a:move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0" name=""/>
                    <p:cNvSpPr/>
                    <p:nvPr/>
                  </p:nvSpPr>
                  <p:spPr>
                    <a:xfrm flipH="1" rot="8100000">
                      <a:off x="19865880" y="18978120"/>
                      <a:ext cx="1224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0" h="0">
                          <a:moveTo>
                            <a:pt x="0" y="0"/>
                          </a:moveTo>
                          <a:lnTo>
                            <a:pt x="349" y="0"/>
                          </a:lnTo>
                          <a:lnTo>
                            <a:pt x="350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1" name=""/>
                    <p:cNvSpPr/>
                    <p:nvPr/>
                  </p:nvSpPr>
                  <p:spPr>
                    <a:xfrm flipH="1" rot="8100000">
                      <a:off x="19812240" y="19036080"/>
                      <a:ext cx="2520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98" h="0">
                          <a:moveTo>
                            <a:pt x="698" y="0"/>
                          </a:move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2" name=""/>
                    <p:cNvSpPr/>
                    <p:nvPr/>
                  </p:nvSpPr>
                  <p:spPr>
                    <a:xfrm flipH="1" rot="8100000">
                      <a:off x="19833120" y="19024200"/>
                      <a:ext cx="108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33">
                          <a:moveTo>
                            <a:pt x="0" y="133"/>
                          </a:move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3" name=""/>
                    <p:cNvSpPr/>
                    <p:nvPr/>
                  </p:nvSpPr>
                  <p:spPr>
                    <a:xfrm flipH="1" rot="8100000">
                      <a:off x="19815120" y="19042920"/>
                      <a:ext cx="36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34">
                          <a:moveTo>
                            <a:pt x="0" y="134"/>
                          </a:move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4" name=""/>
                    <p:cNvSpPr/>
                    <p:nvPr/>
                  </p:nvSpPr>
                  <p:spPr>
                    <a:xfrm flipH="1" rot="8100000">
                      <a:off x="19760040" y="19083600"/>
                      <a:ext cx="1260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9" h="0">
                          <a:moveTo>
                            <a:pt x="349" y="0"/>
                          </a:move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5" name=""/>
                    <p:cNvSpPr/>
                    <p:nvPr/>
                  </p:nvSpPr>
                  <p:spPr>
                    <a:xfrm flipH="1" rot="8100000">
                      <a:off x="19782000" y="19042920"/>
                      <a:ext cx="120240" cy="2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44" h="562">
                          <a:moveTo>
                            <a:pt x="3405" y="560"/>
                          </a:moveTo>
                          <a:lnTo>
                            <a:pt x="3444" y="429"/>
                          </a:lnTo>
                          <a:lnTo>
                            <a:pt x="3366" y="316"/>
                          </a:lnTo>
                          <a:lnTo>
                            <a:pt x="2559" y="78"/>
                          </a:lnTo>
                          <a:lnTo>
                            <a:pt x="1722" y="0"/>
                          </a:lnTo>
                          <a:lnTo>
                            <a:pt x="884" y="79"/>
                          </a:lnTo>
                          <a:lnTo>
                            <a:pt x="78" y="318"/>
                          </a:lnTo>
                          <a:lnTo>
                            <a:pt x="0" y="430"/>
                          </a:lnTo>
                          <a:lnTo>
                            <a:pt x="39" y="562"/>
                          </a:lnTo>
                          <a:lnTo>
                            <a:pt x="40" y="562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280" bIns="-26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6" name=""/>
                    <p:cNvSpPr/>
                    <p:nvPr/>
                  </p:nvSpPr>
                  <p:spPr>
                    <a:xfrm flipH="1" rot="8100000">
                      <a:off x="19773720" y="19027800"/>
                      <a:ext cx="11376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2" h="740">
                          <a:moveTo>
                            <a:pt x="3152" y="738"/>
                          </a:moveTo>
                          <a:lnTo>
                            <a:pt x="3126" y="512"/>
                          </a:lnTo>
                          <a:lnTo>
                            <a:pt x="2966" y="350"/>
                          </a:lnTo>
                          <a:lnTo>
                            <a:pt x="2290" y="101"/>
                          </a:lnTo>
                          <a:lnTo>
                            <a:pt x="1576" y="0"/>
                          </a:lnTo>
                          <a:lnTo>
                            <a:pt x="862" y="102"/>
                          </a:lnTo>
                          <a:lnTo>
                            <a:pt x="186" y="352"/>
                          </a:lnTo>
                          <a:lnTo>
                            <a:pt x="26" y="514"/>
                          </a:lnTo>
                          <a:lnTo>
                            <a:pt x="0" y="740"/>
                          </a:lnTo>
                          <a:lnTo>
                            <a:pt x="1" y="74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7" name=""/>
                    <p:cNvSpPr/>
                    <p:nvPr/>
                  </p:nvSpPr>
                  <p:spPr>
                    <a:xfrm flipH="1" rot="8100000">
                      <a:off x="19783440" y="19049760"/>
                      <a:ext cx="34560" cy="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23" h="298">
                          <a:moveTo>
                            <a:pt x="1023" y="0"/>
                          </a:moveTo>
                          <a:lnTo>
                            <a:pt x="496" y="98"/>
                          </a:lnTo>
                          <a:lnTo>
                            <a:pt x="0" y="298"/>
                          </a:lnTo>
                          <a:lnTo>
                            <a:pt x="2" y="298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8" name=""/>
                    <p:cNvSpPr/>
                    <p:nvPr/>
                  </p:nvSpPr>
                  <p:spPr>
                    <a:xfrm flipH="1" rot="8100000">
                      <a:off x="19778040" y="19067040"/>
                      <a:ext cx="900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3" h="97">
                          <a:moveTo>
                            <a:pt x="0" y="0"/>
                          </a:moveTo>
                          <a:lnTo>
                            <a:pt x="78" y="97"/>
                          </a:lnTo>
                          <a:lnTo>
                            <a:pt x="201" y="93"/>
                          </a:lnTo>
                          <a:lnTo>
                            <a:pt x="203" y="93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9" name=""/>
                    <p:cNvSpPr/>
                    <p:nvPr/>
                  </p:nvSpPr>
                  <p:spPr>
                    <a:xfrm flipH="1" rot="8100000">
                      <a:off x="19783080" y="19071360"/>
                      <a:ext cx="2880" cy="1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496">
                          <a:moveTo>
                            <a:pt x="109" y="496"/>
                          </a:move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0" name=""/>
                    <p:cNvSpPr/>
                    <p:nvPr/>
                  </p:nvSpPr>
                  <p:spPr>
                    <a:xfrm flipH="1" rot="8100000">
                      <a:off x="19792800" y="19086120"/>
                      <a:ext cx="108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" h="160">
                          <a:moveTo>
                            <a:pt x="84" y="0"/>
                          </a:moveTo>
                          <a:lnTo>
                            <a:pt x="13" y="64"/>
                          </a:lnTo>
                          <a:lnTo>
                            <a:pt x="0" y="160"/>
                          </a:lnTo>
                          <a:lnTo>
                            <a:pt x="1" y="16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1" name=""/>
                    <p:cNvSpPr/>
                    <p:nvPr/>
                  </p:nvSpPr>
                  <p:spPr>
                    <a:xfrm flipH="1" rot="8100000">
                      <a:off x="19877400" y="19001160"/>
                      <a:ext cx="144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" h="159">
                          <a:moveTo>
                            <a:pt x="84" y="159"/>
                          </a:moveTo>
                          <a:lnTo>
                            <a:pt x="71" y="64"/>
                          </a:ln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2" name=""/>
                    <p:cNvSpPr/>
                    <p:nvPr/>
                  </p:nvSpPr>
                  <p:spPr>
                    <a:xfrm flipH="1" rot="8100000">
                      <a:off x="19866240" y="18988560"/>
                      <a:ext cx="2880" cy="1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496">
                          <a:moveTo>
                            <a:pt x="109" y="0"/>
                          </a:moveTo>
                          <a:lnTo>
                            <a:pt x="0" y="496"/>
                          </a:lnTo>
                          <a:lnTo>
                            <a:pt x="1" y="496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3" name=""/>
                    <p:cNvSpPr/>
                    <p:nvPr/>
                  </p:nvSpPr>
                  <p:spPr>
                    <a:xfrm flipH="1" rot="8100000">
                      <a:off x="19852200" y="18992880"/>
                      <a:ext cx="900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2" h="98">
                          <a:moveTo>
                            <a:pt x="0" y="94"/>
                          </a:moveTo>
                          <a:lnTo>
                            <a:pt x="124" y="98"/>
                          </a:lnTo>
                          <a:lnTo>
                            <a:pt x="201" y="0"/>
                          </a:lnTo>
                          <a:lnTo>
                            <a:pt x="202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4" name=""/>
                    <p:cNvSpPr/>
                    <p:nvPr/>
                  </p:nvSpPr>
                  <p:spPr>
                    <a:xfrm flipH="1" rot="8100000">
                      <a:off x="19826280" y="19007280"/>
                      <a:ext cx="34560" cy="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21" h="297">
                          <a:moveTo>
                            <a:pt x="1021" y="297"/>
                          </a:moveTo>
                          <a:lnTo>
                            <a:pt x="525" y="97"/>
                          </a:ln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35" name=""/>
                  <p:cNvGrpSpPr/>
                  <p:nvPr/>
                </p:nvGrpSpPr>
                <p:grpSpPr>
                  <a:xfrm>
                    <a:off x="19636920" y="18418320"/>
                    <a:ext cx="199800" cy="199800"/>
                    <a:chOff x="19636920" y="18418320"/>
                    <a:chExt cx="199800" cy="199800"/>
                  </a:xfrm>
                </p:grpSpPr>
                <p:sp>
                  <p:nvSpPr>
                    <p:cNvPr id="2436" name=""/>
                    <p:cNvSpPr/>
                    <p:nvPr/>
                  </p:nvSpPr>
                  <p:spPr>
                    <a:xfrm flipH="1" rot="2700000">
                      <a:off x="19682280" y="18425880"/>
                      <a:ext cx="360" cy="9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733">
                          <a:moveTo>
                            <a:pt x="0" y="0"/>
                          </a:moveTo>
                          <a:lnTo>
                            <a:pt x="1" y="2733"/>
                          </a:lnTo>
                          <a:lnTo>
                            <a:pt x="2" y="2733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7" name=""/>
                    <p:cNvSpPr/>
                    <p:nvPr/>
                  </p:nvSpPr>
                  <p:spPr>
                    <a:xfrm flipH="1" rot="2700000">
                      <a:off x="19673280" y="18416880"/>
                      <a:ext cx="360" cy="9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733">
                          <a:moveTo>
                            <a:pt x="0" y="0"/>
                          </a:moveTo>
                          <a:lnTo>
                            <a:pt x="1" y="2733"/>
                          </a:lnTo>
                          <a:lnTo>
                            <a:pt x="2" y="2733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8" name=""/>
                    <p:cNvSpPr/>
                    <p:nvPr/>
                  </p:nvSpPr>
                  <p:spPr>
                    <a:xfrm flipH="1" rot="2700000">
                      <a:off x="19786320" y="18530280"/>
                      <a:ext cx="1440" cy="9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733">
                          <a:moveTo>
                            <a:pt x="0" y="0"/>
                          </a:moveTo>
                          <a:lnTo>
                            <a:pt x="1" y="2733"/>
                          </a:lnTo>
                          <a:lnTo>
                            <a:pt x="2" y="2733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9" name=""/>
                    <p:cNvSpPr/>
                    <p:nvPr/>
                  </p:nvSpPr>
                  <p:spPr>
                    <a:xfrm flipH="1" rot="2700000">
                      <a:off x="19778760" y="18522000"/>
                      <a:ext cx="1080" cy="9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733">
                          <a:moveTo>
                            <a:pt x="0" y="0"/>
                          </a:moveTo>
                          <a:lnTo>
                            <a:pt x="1" y="2733"/>
                          </a:lnTo>
                          <a:lnTo>
                            <a:pt x="2" y="2733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0" name=""/>
                    <p:cNvSpPr/>
                    <p:nvPr/>
                  </p:nvSpPr>
                  <p:spPr>
                    <a:xfrm flipH="1" rot="2700000">
                      <a:off x="19764000" y="18541440"/>
                      <a:ext cx="360" cy="69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1925">
                          <a:moveTo>
                            <a:pt x="0" y="0"/>
                          </a:moveTo>
                          <a:lnTo>
                            <a:pt x="18" y="1925"/>
                          </a:lnTo>
                          <a:lnTo>
                            <a:pt x="19" y="1925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2680" bIns="22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1" name=""/>
                    <p:cNvSpPr/>
                    <p:nvPr/>
                  </p:nvSpPr>
                  <p:spPr>
                    <a:xfrm flipH="1" rot="2700000">
                      <a:off x="19715040" y="18590760"/>
                      <a:ext cx="18720" cy="2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8" h="605">
                          <a:moveTo>
                            <a:pt x="0" y="0"/>
                          </a:moveTo>
                          <a:lnTo>
                            <a:pt x="184" y="396"/>
                          </a:lnTo>
                          <a:lnTo>
                            <a:pt x="567" y="605"/>
                          </a:lnTo>
                          <a:lnTo>
                            <a:pt x="568" y="605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0" bIns="-25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2" name=""/>
                    <p:cNvSpPr/>
                    <p:nvPr/>
                  </p:nvSpPr>
                  <p:spPr>
                    <a:xfrm flipH="1" rot="2700000">
                      <a:off x="19638360" y="18573120"/>
                      <a:ext cx="82080" cy="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69" h="103">
                          <a:moveTo>
                            <a:pt x="0" y="2"/>
                          </a:moveTo>
                          <a:lnTo>
                            <a:pt x="1135" y="103"/>
                          </a:lnTo>
                          <a:lnTo>
                            <a:pt x="2268" y="0"/>
                          </a:lnTo>
                          <a:lnTo>
                            <a:pt x="2269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3" name=""/>
                    <p:cNvSpPr/>
                    <p:nvPr/>
                  </p:nvSpPr>
                  <p:spPr>
                    <a:xfrm flipH="1" rot="2700000">
                      <a:off x="19643400" y="18519120"/>
                      <a:ext cx="18720" cy="2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8" h="605">
                          <a:moveTo>
                            <a:pt x="0" y="605"/>
                          </a:moveTo>
                          <a:lnTo>
                            <a:pt x="382" y="396"/>
                          </a:lnTo>
                          <a:lnTo>
                            <a:pt x="567" y="0"/>
                          </a:lnTo>
                          <a:lnTo>
                            <a:pt x="568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0" bIns="-25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4" name=""/>
                    <p:cNvSpPr/>
                    <p:nvPr/>
                  </p:nvSpPr>
                  <p:spPr>
                    <a:xfrm flipH="1" rot="2700000">
                      <a:off x="19678680" y="18456120"/>
                      <a:ext cx="360" cy="69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925">
                          <a:moveTo>
                            <a:pt x="0" y="1925"/>
                          </a:moveTo>
                          <a:lnTo>
                            <a:pt x="16" y="0"/>
                          </a:lnTo>
                          <a:lnTo>
                            <a:pt x="17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2680" bIns="22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5" name=""/>
                    <p:cNvSpPr/>
                    <p:nvPr/>
                  </p:nvSpPr>
                  <p:spPr>
                    <a:xfrm flipH="1" rot="2700000">
                      <a:off x="19709640" y="18450360"/>
                      <a:ext cx="2520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45" h="787">
                          <a:moveTo>
                            <a:pt x="745" y="787"/>
                          </a:moveTo>
                          <a:lnTo>
                            <a:pt x="623" y="420"/>
                          </a:lnTo>
                          <a:lnTo>
                            <a:pt x="358" y="140"/>
                          </a:ln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6" name=""/>
                    <p:cNvSpPr/>
                    <p:nvPr/>
                  </p:nvSpPr>
                  <p:spPr>
                    <a:xfrm flipH="1" rot="2700000">
                      <a:off x="19733760" y="18486720"/>
                      <a:ext cx="6948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47" h="77">
                          <a:moveTo>
                            <a:pt x="1947" y="76"/>
                          </a:moveTo>
                          <a:lnTo>
                            <a:pt x="974" y="0"/>
                          </a:lnTo>
                          <a:lnTo>
                            <a:pt x="0" y="77"/>
                          </a:lnTo>
                          <a:lnTo>
                            <a:pt x="1" y="77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7" name=""/>
                    <p:cNvSpPr/>
                    <p:nvPr/>
                  </p:nvSpPr>
                  <p:spPr>
                    <a:xfrm flipH="1" rot="2700000">
                      <a:off x="19777320" y="18518760"/>
                      <a:ext cx="2484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44" h="788">
                          <a:moveTo>
                            <a:pt x="744" y="0"/>
                          </a:moveTo>
                          <a:lnTo>
                            <a:pt x="386" y="141"/>
                          </a:lnTo>
                          <a:lnTo>
                            <a:pt x="121" y="421"/>
                          </a:lnTo>
                          <a:lnTo>
                            <a:pt x="0" y="788"/>
                          </a:lnTo>
                          <a:lnTo>
                            <a:pt x="1" y="788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8" name=""/>
                    <p:cNvSpPr/>
                    <p:nvPr/>
                  </p:nvSpPr>
                  <p:spPr>
                    <a:xfrm flipH="1" rot="2700000">
                      <a:off x="19634760" y="18507600"/>
                      <a:ext cx="1224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0" h="0">
                          <a:moveTo>
                            <a:pt x="0" y="0"/>
                          </a:moveTo>
                          <a:lnTo>
                            <a:pt x="349" y="0"/>
                          </a:lnTo>
                          <a:lnTo>
                            <a:pt x="350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9" name=""/>
                    <p:cNvSpPr/>
                    <p:nvPr/>
                  </p:nvSpPr>
                  <p:spPr>
                    <a:xfrm flipH="1" rot="2700000">
                      <a:off x="19740960" y="18613440"/>
                      <a:ext cx="1260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9" h="0">
                          <a:moveTo>
                            <a:pt x="349" y="0"/>
                          </a:move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0" name=""/>
                    <p:cNvSpPr/>
                    <p:nvPr/>
                  </p:nvSpPr>
                  <p:spPr>
                    <a:xfrm flipH="1" rot="2700000">
                      <a:off x="19705680" y="18436680"/>
                      <a:ext cx="1224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0" h="0">
                          <a:moveTo>
                            <a:pt x="0" y="0"/>
                          </a:moveTo>
                          <a:lnTo>
                            <a:pt x="349" y="0"/>
                          </a:lnTo>
                          <a:lnTo>
                            <a:pt x="350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1" name=""/>
                    <p:cNvSpPr/>
                    <p:nvPr/>
                  </p:nvSpPr>
                  <p:spPr>
                    <a:xfrm flipH="1" rot="2700000">
                      <a:off x="19757880" y="18483840"/>
                      <a:ext cx="2520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98" h="0">
                          <a:moveTo>
                            <a:pt x="698" y="0"/>
                          </a:move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2" name=""/>
                    <p:cNvSpPr/>
                    <p:nvPr/>
                  </p:nvSpPr>
                  <p:spPr>
                    <a:xfrm flipH="1" rot="2700000">
                      <a:off x="19760400" y="18473040"/>
                      <a:ext cx="108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33">
                          <a:moveTo>
                            <a:pt x="0" y="133"/>
                          </a:move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3" name=""/>
                    <p:cNvSpPr/>
                    <p:nvPr/>
                  </p:nvSpPr>
                  <p:spPr>
                    <a:xfrm flipH="1" rot="2700000">
                      <a:off x="19779480" y="18491400"/>
                      <a:ext cx="36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34">
                          <a:moveTo>
                            <a:pt x="0" y="134"/>
                          </a:move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4" name=""/>
                    <p:cNvSpPr/>
                    <p:nvPr/>
                  </p:nvSpPr>
                  <p:spPr>
                    <a:xfrm flipH="1" rot="2700000">
                      <a:off x="19811520" y="18542520"/>
                      <a:ext cx="1260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9" h="0">
                          <a:moveTo>
                            <a:pt x="349" y="0"/>
                          </a:move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5" name=""/>
                    <p:cNvSpPr/>
                    <p:nvPr/>
                  </p:nvSpPr>
                  <p:spPr>
                    <a:xfrm flipH="1" rot="2700000">
                      <a:off x="19726560" y="18457560"/>
                      <a:ext cx="120240" cy="20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44" h="562">
                          <a:moveTo>
                            <a:pt x="3405" y="560"/>
                          </a:moveTo>
                          <a:lnTo>
                            <a:pt x="3444" y="429"/>
                          </a:lnTo>
                          <a:lnTo>
                            <a:pt x="3366" y="316"/>
                          </a:lnTo>
                          <a:lnTo>
                            <a:pt x="2559" y="78"/>
                          </a:lnTo>
                          <a:lnTo>
                            <a:pt x="1722" y="0"/>
                          </a:lnTo>
                          <a:lnTo>
                            <a:pt x="884" y="79"/>
                          </a:lnTo>
                          <a:lnTo>
                            <a:pt x="78" y="318"/>
                          </a:lnTo>
                          <a:lnTo>
                            <a:pt x="0" y="430"/>
                          </a:lnTo>
                          <a:lnTo>
                            <a:pt x="39" y="562"/>
                          </a:lnTo>
                          <a:lnTo>
                            <a:pt x="40" y="562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6" name=""/>
                    <p:cNvSpPr/>
                    <p:nvPr/>
                  </p:nvSpPr>
                  <p:spPr>
                    <a:xfrm flipH="1" rot="2700000">
                      <a:off x="19719720" y="18463680"/>
                      <a:ext cx="113760" cy="28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2" h="740">
                          <a:moveTo>
                            <a:pt x="3152" y="738"/>
                          </a:moveTo>
                          <a:lnTo>
                            <a:pt x="3126" y="512"/>
                          </a:lnTo>
                          <a:lnTo>
                            <a:pt x="2966" y="350"/>
                          </a:lnTo>
                          <a:lnTo>
                            <a:pt x="2290" y="101"/>
                          </a:lnTo>
                          <a:lnTo>
                            <a:pt x="1576" y="0"/>
                          </a:lnTo>
                          <a:lnTo>
                            <a:pt x="862" y="102"/>
                          </a:lnTo>
                          <a:lnTo>
                            <a:pt x="186" y="352"/>
                          </a:lnTo>
                          <a:lnTo>
                            <a:pt x="26" y="514"/>
                          </a:lnTo>
                          <a:lnTo>
                            <a:pt x="0" y="740"/>
                          </a:lnTo>
                          <a:lnTo>
                            <a:pt x="1" y="74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720" bIns="-18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7" name=""/>
                    <p:cNvSpPr/>
                    <p:nvPr/>
                  </p:nvSpPr>
                  <p:spPr>
                    <a:xfrm flipH="1" rot="2700000">
                      <a:off x="19771200" y="18504000"/>
                      <a:ext cx="345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23" h="298">
                          <a:moveTo>
                            <a:pt x="1023" y="0"/>
                          </a:moveTo>
                          <a:lnTo>
                            <a:pt x="496" y="98"/>
                          </a:lnTo>
                          <a:lnTo>
                            <a:pt x="0" y="298"/>
                          </a:lnTo>
                          <a:lnTo>
                            <a:pt x="2" y="298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8" name=""/>
                    <p:cNvSpPr/>
                    <p:nvPr/>
                  </p:nvSpPr>
                  <p:spPr>
                    <a:xfrm flipH="1" rot="2700000">
                      <a:off x="19798920" y="18524160"/>
                      <a:ext cx="900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3" h="97">
                          <a:moveTo>
                            <a:pt x="0" y="0"/>
                          </a:moveTo>
                          <a:lnTo>
                            <a:pt x="78" y="97"/>
                          </a:lnTo>
                          <a:lnTo>
                            <a:pt x="201" y="93"/>
                          </a:lnTo>
                          <a:lnTo>
                            <a:pt x="203" y="93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9" name=""/>
                    <p:cNvSpPr/>
                    <p:nvPr/>
                  </p:nvSpPr>
                  <p:spPr>
                    <a:xfrm flipH="1" rot="2700000">
                      <a:off x="19812240" y="18516240"/>
                      <a:ext cx="2880" cy="1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496">
                          <a:moveTo>
                            <a:pt x="109" y="496"/>
                          </a:move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320" bIns="-31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0" name=""/>
                    <p:cNvSpPr/>
                    <p:nvPr/>
                  </p:nvSpPr>
                  <p:spPr>
                    <a:xfrm flipH="1" rot="2700000">
                      <a:off x="19823040" y="18511920"/>
                      <a:ext cx="1080" cy="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" h="160">
                          <a:moveTo>
                            <a:pt x="84" y="0"/>
                          </a:moveTo>
                          <a:lnTo>
                            <a:pt x="13" y="64"/>
                          </a:lnTo>
                          <a:lnTo>
                            <a:pt x="0" y="160"/>
                          </a:lnTo>
                          <a:lnTo>
                            <a:pt x="1" y="16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1" name=""/>
                    <p:cNvSpPr/>
                    <p:nvPr/>
                  </p:nvSpPr>
                  <p:spPr>
                    <a:xfrm flipH="1" rot="2700000">
                      <a:off x="19738440" y="18427320"/>
                      <a:ext cx="1440" cy="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" h="159">
                          <a:moveTo>
                            <a:pt x="84" y="159"/>
                          </a:moveTo>
                          <a:lnTo>
                            <a:pt x="71" y="64"/>
                          </a:ln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2" name=""/>
                    <p:cNvSpPr/>
                    <p:nvPr/>
                  </p:nvSpPr>
                  <p:spPr>
                    <a:xfrm flipH="1" rot="2700000">
                      <a:off x="19729440" y="18433440"/>
                      <a:ext cx="2880" cy="1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496">
                          <a:moveTo>
                            <a:pt x="109" y="0"/>
                          </a:moveTo>
                          <a:lnTo>
                            <a:pt x="0" y="496"/>
                          </a:lnTo>
                          <a:lnTo>
                            <a:pt x="1" y="496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320" bIns="-31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3" name=""/>
                    <p:cNvSpPr/>
                    <p:nvPr/>
                  </p:nvSpPr>
                  <p:spPr>
                    <a:xfrm flipH="1" rot="2700000">
                      <a:off x="19724760" y="18450360"/>
                      <a:ext cx="900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2" h="98">
                          <a:moveTo>
                            <a:pt x="0" y="94"/>
                          </a:moveTo>
                          <a:lnTo>
                            <a:pt x="124" y="98"/>
                          </a:lnTo>
                          <a:lnTo>
                            <a:pt x="201" y="0"/>
                          </a:lnTo>
                          <a:lnTo>
                            <a:pt x="202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4" name=""/>
                    <p:cNvSpPr/>
                    <p:nvPr/>
                  </p:nvSpPr>
                  <p:spPr>
                    <a:xfrm flipH="1" rot="2700000">
                      <a:off x="19728360" y="18461160"/>
                      <a:ext cx="345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21" h="297">
                          <a:moveTo>
                            <a:pt x="1021" y="297"/>
                          </a:moveTo>
                          <a:lnTo>
                            <a:pt x="525" y="97"/>
                          </a:ln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2465" name=""/>
              <p:cNvSpPr/>
              <p:nvPr/>
            </p:nvSpPr>
            <p:spPr>
              <a:xfrm flipH="1">
                <a:off x="15601680" y="18840600"/>
                <a:ext cx="148572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>
                <a:off x="18421200" y="17411760"/>
                <a:ext cx="179640" cy="36036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16903800" y="19303920"/>
                <a:ext cx="179280" cy="36036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68" name=""/>
              <p:cNvGrpSpPr/>
              <p:nvPr/>
            </p:nvGrpSpPr>
            <p:grpSpPr>
              <a:xfrm>
                <a:off x="15655680" y="19952280"/>
                <a:ext cx="431640" cy="456480"/>
                <a:chOff x="15655680" y="19952280"/>
                <a:chExt cx="431640" cy="456480"/>
              </a:xfrm>
            </p:grpSpPr>
            <p:sp>
              <p:nvSpPr>
                <p:cNvPr id="2469" name=""/>
                <p:cNvSpPr/>
                <p:nvPr/>
              </p:nvSpPr>
              <p:spPr>
                <a:xfrm rot="10800000">
                  <a:off x="15655680" y="19952280"/>
                  <a:ext cx="431640" cy="2876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70" name=""/>
                <p:cNvGrpSpPr/>
                <p:nvPr/>
              </p:nvGrpSpPr>
              <p:grpSpPr>
                <a:xfrm>
                  <a:off x="15836040" y="20247480"/>
                  <a:ext cx="162000" cy="161280"/>
                  <a:chOff x="15836040" y="20247480"/>
                  <a:chExt cx="162000" cy="161280"/>
                </a:xfrm>
              </p:grpSpPr>
              <p:sp>
                <p:nvSpPr>
                  <p:cNvPr id="2471" name=""/>
                  <p:cNvSpPr/>
                  <p:nvPr/>
                </p:nvSpPr>
                <p:spPr>
                  <a:xfrm rot="10800000">
                    <a:off x="15849000" y="20270520"/>
                    <a:ext cx="36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2" name=""/>
                  <p:cNvSpPr/>
                  <p:nvPr/>
                </p:nvSpPr>
                <p:spPr>
                  <a:xfrm rot="10800000">
                    <a:off x="15836040" y="20270520"/>
                    <a:ext cx="36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3" name=""/>
                  <p:cNvSpPr/>
                  <p:nvPr/>
                </p:nvSpPr>
                <p:spPr>
                  <a:xfrm rot="10800000">
                    <a:off x="15996960" y="20270520"/>
                    <a:ext cx="108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4" name=""/>
                  <p:cNvSpPr/>
                  <p:nvPr/>
                </p:nvSpPr>
                <p:spPr>
                  <a:xfrm rot="10800000">
                    <a:off x="15984000" y="20270520"/>
                    <a:ext cx="144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5" name=""/>
                  <p:cNvSpPr/>
                  <p:nvPr/>
                </p:nvSpPr>
                <p:spPr>
                  <a:xfrm rot="10800000">
                    <a:off x="15977880" y="20273040"/>
                    <a:ext cx="36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925">
                        <a:moveTo>
                          <a:pt x="0" y="0"/>
                        </a:moveTo>
                        <a:lnTo>
                          <a:pt x="18" y="1925"/>
                        </a:lnTo>
                        <a:lnTo>
                          <a:pt x="19" y="1925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6" name=""/>
                  <p:cNvSpPr/>
                  <p:nvPr/>
                </p:nvSpPr>
                <p:spPr>
                  <a:xfrm rot="10800000">
                    <a:off x="15958440" y="20250360"/>
                    <a:ext cx="1980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8" h="605">
                        <a:moveTo>
                          <a:pt x="0" y="0"/>
                        </a:moveTo>
                        <a:lnTo>
                          <a:pt x="184" y="396"/>
                        </a:lnTo>
                        <a:lnTo>
                          <a:pt x="567" y="605"/>
                        </a:lnTo>
                        <a:lnTo>
                          <a:pt x="568" y="605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7" name=""/>
                  <p:cNvSpPr/>
                  <p:nvPr/>
                </p:nvSpPr>
                <p:spPr>
                  <a:xfrm rot="10800000">
                    <a:off x="15877080" y="20247480"/>
                    <a:ext cx="8136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269" h="103">
                        <a:moveTo>
                          <a:pt x="0" y="2"/>
                        </a:moveTo>
                        <a:lnTo>
                          <a:pt x="1135" y="103"/>
                        </a:lnTo>
                        <a:lnTo>
                          <a:pt x="2268" y="0"/>
                        </a:lnTo>
                        <a:lnTo>
                          <a:pt x="2269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8" name=""/>
                  <p:cNvSpPr/>
                  <p:nvPr/>
                </p:nvSpPr>
                <p:spPr>
                  <a:xfrm rot="10800000">
                    <a:off x="15856920" y="20250360"/>
                    <a:ext cx="1980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8" h="605">
                        <a:moveTo>
                          <a:pt x="0" y="605"/>
                        </a:moveTo>
                        <a:lnTo>
                          <a:pt x="382" y="396"/>
                        </a:lnTo>
                        <a:lnTo>
                          <a:pt x="567" y="0"/>
                        </a:lnTo>
                        <a:lnTo>
                          <a:pt x="568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9" name=""/>
                  <p:cNvSpPr/>
                  <p:nvPr/>
                </p:nvSpPr>
                <p:spPr>
                  <a:xfrm rot="10800000">
                    <a:off x="15856200" y="20273040"/>
                    <a:ext cx="36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925">
                        <a:moveTo>
                          <a:pt x="0" y="1925"/>
                        </a:moveTo>
                        <a:lnTo>
                          <a:pt x="16" y="0"/>
                        </a:lnTo>
                        <a:lnTo>
                          <a:pt x="17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0" name=""/>
                  <p:cNvSpPr/>
                  <p:nvPr/>
                </p:nvSpPr>
                <p:spPr>
                  <a:xfrm rot="10800000">
                    <a:off x="15856920" y="20341800"/>
                    <a:ext cx="2556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745" h="787">
                        <a:moveTo>
                          <a:pt x="745" y="787"/>
                        </a:moveTo>
                        <a:lnTo>
                          <a:pt x="623" y="420"/>
                        </a:lnTo>
                        <a:lnTo>
                          <a:pt x="358" y="14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1" name=""/>
                  <p:cNvSpPr/>
                  <p:nvPr/>
                </p:nvSpPr>
                <p:spPr>
                  <a:xfrm rot="10800000">
                    <a:off x="15882480" y="20370240"/>
                    <a:ext cx="6984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1947" h="77">
                        <a:moveTo>
                          <a:pt x="1947" y="76"/>
                        </a:moveTo>
                        <a:lnTo>
                          <a:pt x="974" y="0"/>
                        </a:lnTo>
                        <a:lnTo>
                          <a:pt x="0" y="77"/>
                        </a:lnTo>
                        <a:lnTo>
                          <a:pt x="1" y="77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2" name=""/>
                  <p:cNvSpPr/>
                  <p:nvPr/>
                </p:nvSpPr>
                <p:spPr>
                  <a:xfrm rot="10800000">
                    <a:off x="15952320" y="20341800"/>
                    <a:ext cx="2592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744" h="788">
                        <a:moveTo>
                          <a:pt x="744" y="0"/>
                        </a:moveTo>
                        <a:lnTo>
                          <a:pt x="386" y="141"/>
                        </a:lnTo>
                        <a:lnTo>
                          <a:pt x="121" y="421"/>
                        </a:lnTo>
                        <a:lnTo>
                          <a:pt x="0" y="788"/>
                        </a:lnTo>
                        <a:lnTo>
                          <a:pt x="1" y="788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3" name=""/>
                  <p:cNvSpPr/>
                  <p:nvPr/>
                </p:nvSpPr>
                <p:spPr>
                  <a:xfrm rot="10800000">
                    <a:off x="15836400" y="20269800"/>
                    <a:ext cx="129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50" h="0">
                        <a:moveTo>
                          <a:pt x="0" y="0"/>
                        </a:moveTo>
                        <a:lnTo>
                          <a:pt x="349" y="0"/>
                        </a:lnTo>
                        <a:lnTo>
                          <a:pt x="350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4" name=""/>
                  <p:cNvSpPr/>
                  <p:nvPr/>
                </p:nvSpPr>
                <p:spPr>
                  <a:xfrm rot="10800000">
                    <a:off x="15985440" y="20269800"/>
                    <a:ext cx="1260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49" h="0">
                        <a:moveTo>
                          <a:pt x="349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5" name=""/>
                  <p:cNvSpPr/>
                  <p:nvPr/>
                </p:nvSpPr>
                <p:spPr>
                  <a:xfrm rot="10800000">
                    <a:off x="15836400" y="20368800"/>
                    <a:ext cx="129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50" h="0">
                        <a:moveTo>
                          <a:pt x="0" y="0"/>
                        </a:moveTo>
                        <a:lnTo>
                          <a:pt x="349" y="0"/>
                        </a:lnTo>
                        <a:lnTo>
                          <a:pt x="350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6" name=""/>
                  <p:cNvSpPr/>
                  <p:nvPr/>
                </p:nvSpPr>
                <p:spPr>
                  <a:xfrm rot="10800000">
                    <a:off x="15905520" y="20377080"/>
                    <a:ext cx="2412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8" h="0">
                        <a:moveTo>
                          <a:pt x="698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7" name=""/>
                  <p:cNvSpPr/>
                  <p:nvPr/>
                </p:nvSpPr>
                <p:spPr>
                  <a:xfrm rot="10800000">
                    <a:off x="15904080" y="20373480"/>
                    <a:ext cx="144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33">
                        <a:moveTo>
                          <a:pt x="0" y="133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8" name=""/>
                  <p:cNvSpPr/>
                  <p:nvPr/>
                </p:nvSpPr>
                <p:spPr>
                  <a:xfrm rot="10800000">
                    <a:off x="15929280" y="20373480"/>
                    <a:ext cx="36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34">
                        <a:moveTo>
                          <a:pt x="0" y="134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9" name=""/>
                  <p:cNvSpPr/>
                  <p:nvPr/>
                </p:nvSpPr>
                <p:spPr>
                  <a:xfrm rot="10800000">
                    <a:off x="15985440" y="20368800"/>
                    <a:ext cx="1260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49" h="0">
                        <a:moveTo>
                          <a:pt x="349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0" name=""/>
                  <p:cNvSpPr/>
                  <p:nvPr/>
                </p:nvSpPr>
                <p:spPr>
                  <a:xfrm rot="10800000">
                    <a:off x="15856560" y="20388960"/>
                    <a:ext cx="12168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3444" h="562">
                        <a:moveTo>
                          <a:pt x="3405" y="560"/>
                        </a:moveTo>
                        <a:lnTo>
                          <a:pt x="3444" y="429"/>
                        </a:lnTo>
                        <a:lnTo>
                          <a:pt x="3366" y="316"/>
                        </a:lnTo>
                        <a:lnTo>
                          <a:pt x="2559" y="78"/>
                        </a:lnTo>
                        <a:lnTo>
                          <a:pt x="1722" y="0"/>
                        </a:lnTo>
                        <a:lnTo>
                          <a:pt x="884" y="79"/>
                        </a:lnTo>
                        <a:lnTo>
                          <a:pt x="78" y="318"/>
                        </a:lnTo>
                        <a:lnTo>
                          <a:pt x="0" y="430"/>
                        </a:lnTo>
                        <a:lnTo>
                          <a:pt x="39" y="562"/>
                        </a:lnTo>
                        <a:lnTo>
                          <a:pt x="40" y="562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1" name=""/>
                  <p:cNvSpPr/>
                  <p:nvPr/>
                </p:nvSpPr>
                <p:spPr>
                  <a:xfrm rot="10800000">
                    <a:off x="15861240" y="20370600"/>
                    <a:ext cx="11268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52" h="740">
                        <a:moveTo>
                          <a:pt x="3152" y="738"/>
                        </a:moveTo>
                        <a:lnTo>
                          <a:pt x="3126" y="512"/>
                        </a:lnTo>
                        <a:lnTo>
                          <a:pt x="2966" y="350"/>
                        </a:lnTo>
                        <a:lnTo>
                          <a:pt x="2290" y="101"/>
                        </a:lnTo>
                        <a:lnTo>
                          <a:pt x="1576" y="0"/>
                        </a:lnTo>
                        <a:lnTo>
                          <a:pt x="862" y="102"/>
                        </a:lnTo>
                        <a:lnTo>
                          <a:pt x="186" y="352"/>
                        </a:lnTo>
                        <a:lnTo>
                          <a:pt x="26" y="514"/>
                        </a:lnTo>
                        <a:lnTo>
                          <a:pt x="0" y="740"/>
                        </a:lnTo>
                        <a:lnTo>
                          <a:pt x="1" y="74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2" name=""/>
                  <p:cNvSpPr/>
                  <p:nvPr/>
                </p:nvSpPr>
                <p:spPr>
                  <a:xfrm rot="10800000">
                    <a:off x="15929640" y="20367720"/>
                    <a:ext cx="3564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023" h="298">
                        <a:moveTo>
                          <a:pt x="1023" y="0"/>
                        </a:moveTo>
                        <a:lnTo>
                          <a:pt x="496" y="98"/>
                        </a:lnTo>
                        <a:lnTo>
                          <a:pt x="0" y="298"/>
                        </a:lnTo>
                        <a:lnTo>
                          <a:pt x="2" y="298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3" name=""/>
                  <p:cNvSpPr/>
                  <p:nvPr/>
                </p:nvSpPr>
                <p:spPr>
                  <a:xfrm rot="10800000">
                    <a:off x="15965640" y="20366280"/>
                    <a:ext cx="828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203" h="97">
                        <a:moveTo>
                          <a:pt x="0" y="0"/>
                        </a:moveTo>
                        <a:lnTo>
                          <a:pt x="78" y="97"/>
                        </a:lnTo>
                        <a:lnTo>
                          <a:pt x="201" y="93"/>
                        </a:lnTo>
                        <a:lnTo>
                          <a:pt x="203" y="9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4" name=""/>
                  <p:cNvSpPr/>
                  <p:nvPr/>
                </p:nvSpPr>
                <p:spPr>
                  <a:xfrm rot="10800000">
                    <a:off x="15973920" y="20370600"/>
                    <a:ext cx="432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496">
                        <a:moveTo>
                          <a:pt x="109" y="496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5" name=""/>
                  <p:cNvSpPr/>
                  <p:nvPr/>
                </p:nvSpPr>
                <p:spPr>
                  <a:xfrm rot="10800000">
                    <a:off x="15975360" y="20387880"/>
                    <a:ext cx="288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160">
                        <a:moveTo>
                          <a:pt x="84" y="0"/>
                        </a:moveTo>
                        <a:lnTo>
                          <a:pt x="13" y="64"/>
                        </a:lnTo>
                        <a:lnTo>
                          <a:pt x="0" y="160"/>
                        </a:lnTo>
                        <a:lnTo>
                          <a:pt x="1" y="16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6" name=""/>
                  <p:cNvSpPr/>
                  <p:nvPr/>
                </p:nvSpPr>
                <p:spPr>
                  <a:xfrm rot="10800000">
                    <a:off x="15856560" y="20387880"/>
                    <a:ext cx="288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159">
                        <a:moveTo>
                          <a:pt x="84" y="159"/>
                        </a:moveTo>
                        <a:lnTo>
                          <a:pt x="71" y="64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7" name=""/>
                  <p:cNvSpPr/>
                  <p:nvPr/>
                </p:nvSpPr>
                <p:spPr>
                  <a:xfrm rot="10800000">
                    <a:off x="15856920" y="20370600"/>
                    <a:ext cx="396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496">
                        <a:moveTo>
                          <a:pt x="109" y="0"/>
                        </a:moveTo>
                        <a:lnTo>
                          <a:pt x="0" y="496"/>
                        </a:lnTo>
                        <a:lnTo>
                          <a:pt x="1" y="496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8" name=""/>
                  <p:cNvSpPr/>
                  <p:nvPr/>
                </p:nvSpPr>
                <p:spPr>
                  <a:xfrm rot="10800000">
                    <a:off x="15860880" y="20366280"/>
                    <a:ext cx="828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202" h="98">
                        <a:moveTo>
                          <a:pt x="0" y="94"/>
                        </a:moveTo>
                        <a:lnTo>
                          <a:pt x="124" y="98"/>
                        </a:lnTo>
                        <a:lnTo>
                          <a:pt x="201" y="0"/>
                        </a:lnTo>
                        <a:lnTo>
                          <a:pt x="202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9" name=""/>
                  <p:cNvSpPr/>
                  <p:nvPr/>
                </p:nvSpPr>
                <p:spPr>
                  <a:xfrm rot="10800000">
                    <a:off x="15869520" y="20367720"/>
                    <a:ext cx="360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021" h="297">
                        <a:moveTo>
                          <a:pt x="1021" y="297"/>
                        </a:moveTo>
                        <a:lnTo>
                          <a:pt x="525" y="97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00" name=""/>
                <p:cNvSpPr/>
                <p:nvPr/>
              </p:nvSpPr>
              <p:spPr>
                <a:xfrm rot="10800000">
                  <a:off x="15803280" y="20150280"/>
                  <a:ext cx="218880" cy="6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01" name=""/>
                <p:cNvGrpSpPr/>
                <p:nvPr/>
              </p:nvGrpSpPr>
              <p:grpSpPr>
                <a:xfrm>
                  <a:off x="15852240" y="20161080"/>
                  <a:ext cx="131400" cy="47880"/>
                  <a:chOff x="15852240" y="20161080"/>
                  <a:chExt cx="131400" cy="47880"/>
                </a:xfrm>
              </p:grpSpPr>
              <p:sp>
                <p:nvSpPr>
                  <p:cNvPr id="2502" name=""/>
                  <p:cNvSpPr/>
                  <p:nvPr/>
                </p:nvSpPr>
                <p:spPr>
                  <a:xfrm rot="10800000">
                    <a:off x="15852240" y="20161080"/>
                    <a:ext cx="131400" cy="47880"/>
                  </a:xfrm>
                  <a:prstGeom prst="rect">
                    <a:avLst/>
                  </a:prstGeom>
                  <a:noFill/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" bIns="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3" name=""/>
                  <p:cNvSpPr/>
                  <p:nvPr/>
                </p:nvSpPr>
                <p:spPr>
                  <a:xfrm rot="10800000">
                    <a:off x="15962400" y="20168640"/>
                    <a:ext cx="15840" cy="32040"/>
                  </a:xfrm>
                  <a:prstGeom prst="rect">
                    <a:avLst/>
                  </a:prstGeom>
                  <a:noFill/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760" bIns="-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4" name=""/>
                  <p:cNvSpPr/>
                  <p:nvPr/>
                </p:nvSpPr>
                <p:spPr>
                  <a:xfrm rot="10800000">
                    <a:off x="15858000" y="20168640"/>
                    <a:ext cx="97200" cy="32040"/>
                  </a:xfrm>
                  <a:prstGeom prst="rect">
                    <a:avLst/>
                  </a:prstGeom>
                  <a:noFill/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760" bIns="-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05" name=""/>
                <p:cNvSpPr/>
                <p:nvPr/>
              </p:nvSpPr>
              <p:spPr>
                <a:xfrm rot="12551400">
                  <a:off x="16018920" y="20086920"/>
                  <a:ext cx="21960" cy="31680"/>
                </a:xfrm>
                <a:prstGeom prst="ellipse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6" name=""/>
                <p:cNvSpPr/>
                <p:nvPr/>
              </p:nvSpPr>
              <p:spPr>
                <a:xfrm rot="10800000">
                  <a:off x="16002000" y="20066760"/>
                  <a:ext cx="67680" cy="6660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07" name=""/>
                <p:cNvGrpSpPr/>
                <p:nvPr/>
              </p:nvGrpSpPr>
              <p:grpSpPr>
                <a:xfrm>
                  <a:off x="15833520" y="19983600"/>
                  <a:ext cx="133200" cy="145800"/>
                  <a:chOff x="15833520" y="19983600"/>
                  <a:chExt cx="133200" cy="145800"/>
                </a:xfrm>
              </p:grpSpPr>
              <p:sp>
                <p:nvSpPr>
                  <p:cNvPr id="2508" name=""/>
                  <p:cNvSpPr/>
                  <p:nvPr/>
                </p:nvSpPr>
                <p:spPr>
                  <a:xfrm rot="10800000">
                    <a:off x="15833520" y="19983600"/>
                    <a:ext cx="133200" cy="14580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509" name=""/>
                  <p:cNvGrpSpPr/>
                  <p:nvPr/>
                </p:nvGrpSpPr>
                <p:grpSpPr>
                  <a:xfrm>
                    <a:off x="15842880" y="19993320"/>
                    <a:ext cx="117000" cy="116280"/>
                    <a:chOff x="15842880" y="19993320"/>
                    <a:chExt cx="117000" cy="116280"/>
                  </a:xfrm>
                </p:grpSpPr>
                <p:sp>
                  <p:nvSpPr>
                    <p:cNvPr id="2510" name=""/>
                    <p:cNvSpPr/>
                    <p:nvPr/>
                  </p:nvSpPr>
                  <p:spPr>
                    <a:xfrm rot="10800000">
                      <a:off x="15926400" y="20010960"/>
                      <a:ext cx="252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35">
                          <a:moveTo>
                            <a:pt x="0" y="35"/>
                          </a:moveTo>
                          <a:lnTo>
                            <a:pt x="5" y="29"/>
                          </a:lnTo>
                          <a:lnTo>
                            <a:pt x="11" y="23"/>
                          </a:lnTo>
                          <a:lnTo>
                            <a:pt x="17" y="17"/>
                          </a:lnTo>
                          <a:lnTo>
                            <a:pt x="22" y="12"/>
                          </a:lnTo>
                          <a:lnTo>
                            <a:pt x="26" y="8"/>
                          </a:lnTo>
                          <a:lnTo>
                            <a:pt x="30" y="5"/>
                          </a:lnTo>
                          <a:lnTo>
                            <a:pt x="32" y="2"/>
                          </a:lnTo>
                          <a:lnTo>
                            <a:pt x="34" y="1"/>
                          </a:lnTo>
                          <a:lnTo>
                            <a:pt x="34" y="0"/>
                          </a:lnTo>
                          <a:lnTo>
                            <a:pt x="3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1" name=""/>
                    <p:cNvSpPr/>
                    <p:nvPr/>
                  </p:nvSpPr>
                  <p:spPr>
                    <a:xfrm rot="10800000">
                      <a:off x="15926400" y="20010960"/>
                      <a:ext cx="252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35">
                          <a:moveTo>
                            <a:pt x="0" y="35"/>
                          </a:moveTo>
                          <a:lnTo>
                            <a:pt x="5" y="29"/>
                          </a:lnTo>
                          <a:lnTo>
                            <a:pt x="11" y="23"/>
                          </a:lnTo>
                          <a:lnTo>
                            <a:pt x="17" y="17"/>
                          </a:lnTo>
                          <a:lnTo>
                            <a:pt x="22" y="12"/>
                          </a:lnTo>
                          <a:lnTo>
                            <a:pt x="26" y="8"/>
                          </a:lnTo>
                          <a:lnTo>
                            <a:pt x="30" y="5"/>
                          </a:lnTo>
                          <a:lnTo>
                            <a:pt x="32" y="2"/>
                          </a:lnTo>
                          <a:lnTo>
                            <a:pt x="34" y="1"/>
                          </a:lnTo>
                          <a:lnTo>
                            <a:pt x="34" y="0"/>
                          </a:lnTo>
                          <a:lnTo>
                            <a:pt x="3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2" name=""/>
                    <p:cNvSpPr/>
                    <p:nvPr/>
                  </p:nvSpPr>
                  <p:spPr>
                    <a:xfrm rot="10800000">
                      <a:off x="15842880" y="20060280"/>
                      <a:ext cx="117000" cy="49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520" bIns="2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3" name=""/>
                    <p:cNvSpPr/>
                    <p:nvPr/>
                  </p:nvSpPr>
                  <p:spPr>
                    <a:xfrm rot="10800000">
                      <a:off x="15850440" y="19993320"/>
                      <a:ext cx="100800" cy="65160"/>
                    </a:xfrm>
                    <a:custGeom>
                      <a:avLst/>
                      <a:gdLst>
                        <a:gd name="textAreaLeft" fmla="*/ 21960 w 100800"/>
                        <a:gd name="textAreaRight" fmla="*/ 78840 w 100800"/>
                        <a:gd name="textAreaTop" fmla="*/ 14400 h 65160"/>
                        <a:gd name="textAreaBottom" fmla="*/ 50760 h 651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16200" y="21600"/>
                          </a:lnTo>
                          <a:lnTo>
                            <a:pt x="5400" y="2160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440" bIns="-10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514" name=""/>
              <p:cNvGrpSpPr/>
              <p:nvPr/>
            </p:nvGrpSpPr>
            <p:grpSpPr>
              <a:xfrm>
                <a:off x="16220880" y="19933200"/>
                <a:ext cx="431640" cy="456480"/>
                <a:chOff x="16220880" y="19933200"/>
                <a:chExt cx="431640" cy="456480"/>
              </a:xfrm>
            </p:grpSpPr>
            <p:sp>
              <p:nvSpPr>
                <p:cNvPr id="2515" name=""/>
                <p:cNvSpPr/>
                <p:nvPr/>
              </p:nvSpPr>
              <p:spPr>
                <a:xfrm rot="10800000">
                  <a:off x="16220880" y="19933200"/>
                  <a:ext cx="431640" cy="2876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16" name=""/>
                <p:cNvGrpSpPr/>
                <p:nvPr/>
              </p:nvGrpSpPr>
              <p:grpSpPr>
                <a:xfrm>
                  <a:off x="16401240" y="20228400"/>
                  <a:ext cx="162000" cy="161280"/>
                  <a:chOff x="16401240" y="20228400"/>
                  <a:chExt cx="162000" cy="161280"/>
                </a:xfrm>
              </p:grpSpPr>
              <p:sp>
                <p:nvSpPr>
                  <p:cNvPr id="2517" name=""/>
                  <p:cNvSpPr/>
                  <p:nvPr/>
                </p:nvSpPr>
                <p:spPr>
                  <a:xfrm rot="10800000">
                    <a:off x="16414200" y="20251440"/>
                    <a:ext cx="36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8" name=""/>
                  <p:cNvSpPr/>
                  <p:nvPr/>
                </p:nvSpPr>
                <p:spPr>
                  <a:xfrm rot="10800000">
                    <a:off x="16401240" y="20251440"/>
                    <a:ext cx="36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9" name=""/>
                  <p:cNvSpPr/>
                  <p:nvPr/>
                </p:nvSpPr>
                <p:spPr>
                  <a:xfrm rot="10800000">
                    <a:off x="16562160" y="20251440"/>
                    <a:ext cx="108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0" name=""/>
                  <p:cNvSpPr/>
                  <p:nvPr/>
                </p:nvSpPr>
                <p:spPr>
                  <a:xfrm rot="10800000">
                    <a:off x="16549200" y="20251440"/>
                    <a:ext cx="144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1" name=""/>
                  <p:cNvSpPr/>
                  <p:nvPr/>
                </p:nvSpPr>
                <p:spPr>
                  <a:xfrm rot="10800000">
                    <a:off x="16543080" y="20253960"/>
                    <a:ext cx="36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925">
                        <a:moveTo>
                          <a:pt x="0" y="0"/>
                        </a:moveTo>
                        <a:lnTo>
                          <a:pt x="18" y="1925"/>
                        </a:lnTo>
                        <a:lnTo>
                          <a:pt x="19" y="1925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2" name=""/>
                  <p:cNvSpPr/>
                  <p:nvPr/>
                </p:nvSpPr>
                <p:spPr>
                  <a:xfrm rot="10800000">
                    <a:off x="16523640" y="20231280"/>
                    <a:ext cx="1980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8" h="605">
                        <a:moveTo>
                          <a:pt x="0" y="0"/>
                        </a:moveTo>
                        <a:lnTo>
                          <a:pt x="184" y="396"/>
                        </a:lnTo>
                        <a:lnTo>
                          <a:pt x="567" y="605"/>
                        </a:lnTo>
                        <a:lnTo>
                          <a:pt x="568" y="605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3" name=""/>
                  <p:cNvSpPr/>
                  <p:nvPr/>
                </p:nvSpPr>
                <p:spPr>
                  <a:xfrm rot="10800000">
                    <a:off x="16442280" y="20228400"/>
                    <a:ext cx="8136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269" h="103">
                        <a:moveTo>
                          <a:pt x="0" y="2"/>
                        </a:moveTo>
                        <a:lnTo>
                          <a:pt x="1135" y="103"/>
                        </a:lnTo>
                        <a:lnTo>
                          <a:pt x="2268" y="0"/>
                        </a:lnTo>
                        <a:lnTo>
                          <a:pt x="2269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4" name=""/>
                  <p:cNvSpPr/>
                  <p:nvPr/>
                </p:nvSpPr>
                <p:spPr>
                  <a:xfrm rot="10800000">
                    <a:off x="16422120" y="20231280"/>
                    <a:ext cx="1980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8" h="605">
                        <a:moveTo>
                          <a:pt x="0" y="605"/>
                        </a:moveTo>
                        <a:lnTo>
                          <a:pt x="382" y="396"/>
                        </a:lnTo>
                        <a:lnTo>
                          <a:pt x="567" y="0"/>
                        </a:lnTo>
                        <a:lnTo>
                          <a:pt x="568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5" name=""/>
                  <p:cNvSpPr/>
                  <p:nvPr/>
                </p:nvSpPr>
                <p:spPr>
                  <a:xfrm rot="10800000">
                    <a:off x="16421400" y="20253960"/>
                    <a:ext cx="36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925">
                        <a:moveTo>
                          <a:pt x="0" y="1925"/>
                        </a:moveTo>
                        <a:lnTo>
                          <a:pt x="16" y="0"/>
                        </a:lnTo>
                        <a:lnTo>
                          <a:pt x="17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6" name=""/>
                  <p:cNvSpPr/>
                  <p:nvPr/>
                </p:nvSpPr>
                <p:spPr>
                  <a:xfrm rot="10800000">
                    <a:off x="16422120" y="20322720"/>
                    <a:ext cx="2556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745" h="787">
                        <a:moveTo>
                          <a:pt x="745" y="787"/>
                        </a:moveTo>
                        <a:lnTo>
                          <a:pt x="623" y="420"/>
                        </a:lnTo>
                        <a:lnTo>
                          <a:pt x="358" y="14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7" name=""/>
                  <p:cNvSpPr/>
                  <p:nvPr/>
                </p:nvSpPr>
                <p:spPr>
                  <a:xfrm rot="10800000">
                    <a:off x="16447680" y="20351160"/>
                    <a:ext cx="6984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1947" h="77">
                        <a:moveTo>
                          <a:pt x="1947" y="76"/>
                        </a:moveTo>
                        <a:lnTo>
                          <a:pt x="974" y="0"/>
                        </a:lnTo>
                        <a:lnTo>
                          <a:pt x="0" y="77"/>
                        </a:lnTo>
                        <a:lnTo>
                          <a:pt x="1" y="77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8" name=""/>
                  <p:cNvSpPr/>
                  <p:nvPr/>
                </p:nvSpPr>
                <p:spPr>
                  <a:xfrm rot="10800000">
                    <a:off x="16517520" y="20322720"/>
                    <a:ext cx="2592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744" h="788">
                        <a:moveTo>
                          <a:pt x="744" y="0"/>
                        </a:moveTo>
                        <a:lnTo>
                          <a:pt x="386" y="141"/>
                        </a:lnTo>
                        <a:lnTo>
                          <a:pt x="121" y="421"/>
                        </a:lnTo>
                        <a:lnTo>
                          <a:pt x="0" y="788"/>
                        </a:lnTo>
                        <a:lnTo>
                          <a:pt x="1" y="788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9" name=""/>
                  <p:cNvSpPr/>
                  <p:nvPr/>
                </p:nvSpPr>
                <p:spPr>
                  <a:xfrm rot="10800000">
                    <a:off x="16401600" y="20250720"/>
                    <a:ext cx="129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50" h="0">
                        <a:moveTo>
                          <a:pt x="0" y="0"/>
                        </a:moveTo>
                        <a:lnTo>
                          <a:pt x="349" y="0"/>
                        </a:lnTo>
                        <a:lnTo>
                          <a:pt x="350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0" name=""/>
                  <p:cNvSpPr/>
                  <p:nvPr/>
                </p:nvSpPr>
                <p:spPr>
                  <a:xfrm rot="10800000">
                    <a:off x="16550640" y="20250720"/>
                    <a:ext cx="1260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49" h="0">
                        <a:moveTo>
                          <a:pt x="349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1" name=""/>
                  <p:cNvSpPr/>
                  <p:nvPr/>
                </p:nvSpPr>
                <p:spPr>
                  <a:xfrm rot="10800000">
                    <a:off x="16401600" y="20349720"/>
                    <a:ext cx="129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50" h="0">
                        <a:moveTo>
                          <a:pt x="0" y="0"/>
                        </a:moveTo>
                        <a:lnTo>
                          <a:pt x="349" y="0"/>
                        </a:lnTo>
                        <a:lnTo>
                          <a:pt x="350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2" name=""/>
                  <p:cNvSpPr/>
                  <p:nvPr/>
                </p:nvSpPr>
                <p:spPr>
                  <a:xfrm rot="10800000">
                    <a:off x="16470720" y="20358000"/>
                    <a:ext cx="2412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8" h="0">
                        <a:moveTo>
                          <a:pt x="698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3" name=""/>
                  <p:cNvSpPr/>
                  <p:nvPr/>
                </p:nvSpPr>
                <p:spPr>
                  <a:xfrm rot="10800000">
                    <a:off x="16469280" y="20354400"/>
                    <a:ext cx="144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33">
                        <a:moveTo>
                          <a:pt x="0" y="133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4" name=""/>
                  <p:cNvSpPr/>
                  <p:nvPr/>
                </p:nvSpPr>
                <p:spPr>
                  <a:xfrm rot="10800000">
                    <a:off x="16494480" y="20354400"/>
                    <a:ext cx="36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34">
                        <a:moveTo>
                          <a:pt x="0" y="134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5" name=""/>
                  <p:cNvSpPr/>
                  <p:nvPr/>
                </p:nvSpPr>
                <p:spPr>
                  <a:xfrm rot="10800000">
                    <a:off x="16550640" y="20349720"/>
                    <a:ext cx="1260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49" h="0">
                        <a:moveTo>
                          <a:pt x="349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6" name=""/>
                  <p:cNvSpPr/>
                  <p:nvPr/>
                </p:nvSpPr>
                <p:spPr>
                  <a:xfrm rot="10800000">
                    <a:off x="16421760" y="20369880"/>
                    <a:ext cx="12168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3444" h="562">
                        <a:moveTo>
                          <a:pt x="3405" y="560"/>
                        </a:moveTo>
                        <a:lnTo>
                          <a:pt x="3444" y="429"/>
                        </a:lnTo>
                        <a:lnTo>
                          <a:pt x="3366" y="316"/>
                        </a:lnTo>
                        <a:lnTo>
                          <a:pt x="2559" y="78"/>
                        </a:lnTo>
                        <a:lnTo>
                          <a:pt x="1722" y="0"/>
                        </a:lnTo>
                        <a:lnTo>
                          <a:pt x="884" y="79"/>
                        </a:lnTo>
                        <a:lnTo>
                          <a:pt x="78" y="318"/>
                        </a:lnTo>
                        <a:lnTo>
                          <a:pt x="0" y="430"/>
                        </a:lnTo>
                        <a:lnTo>
                          <a:pt x="39" y="562"/>
                        </a:lnTo>
                        <a:lnTo>
                          <a:pt x="40" y="562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7" name=""/>
                  <p:cNvSpPr/>
                  <p:nvPr/>
                </p:nvSpPr>
                <p:spPr>
                  <a:xfrm rot="10800000">
                    <a:off x="16426440" y="20351520"/>
                    <a:ext cx="11268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52" h="740">
                        <a:moveTo>
                          <a:pt x="3152" y="738"/>
                        </a:moveTo>
                        <a:lnTo>
                          <a:pt x="3126" y="512"/>
                        </a:lnTo>
                        <a:lnTo>
                          <a:pt x="2966" y="350"/>
                        </a:lnTo>
                        <a:lnTo>
                          <a:pt x="2290" y="101"/>
                        </a:lnTo>
                        <a:lnTo>
                          <a:pt x="1576" y="0"/>
                        </a:lnTo>
                        <a:lnTo>
                          <a:pt x="862" y="102"/>
                        </a:lnTo>
                        <a:lnTo>
                          <a:pt x="186" y="352"/>
                        </a:lnTo>
                        <a:lnTo>
                          <a:pt x="26" y="514"/>
                        </a:lnTo>
                        <a:lnTo>
                          <a:pt x="0" y="740"/>
                        </a:lnTo>
                        <a:lnTo>
                          <a:pt x="1" y="74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8" name=""/>
                  <p:cNvSpPr/>
                  <p:nvPr/>
                </p:nvSpPr>
                <p:spPr>
                  <a:xfrm rot="10800000">
                    <a:off x="16494840" y="20348640"/>
                    <a:ext cx="3564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023" h="298">
                        <a:moveTo>
                          <a:pt x="1023" y="0"/>
                        </a:moveTo>
                        <a:lnTo>
                          <a:pt x="496" y="98"/>
                        </a:lnTo>
                        <a:lnTo>
                          <a:pt x="0" y="298"/>
                        </a:lnTo>
                        <a:lnTo>
                          <a:pt x="2" y="298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9" name=""/>
                  <p:cNvSpPr/>
                  <p:nvPr/>
                </p:nvSpPr>
                <p:spPr>
                  <a:xfrm rot="10800000">
                    <a:off x="16530840" y="20347200"/>
                    <a:ext cx="828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203" h="97">
                        <a:moveTo>
                          <a:pt x="0" y="0"/>
                        </a:moveTo>
                        <a:lnTo>
                          <a:pt x="78" y="97"/>
                        </a:lnTo>
                        <a:lnTo>
                          <a:pt x="201" y="93"/>
                        </a:lnTo>
                        <a:lnTo>
                          <a:pt x="203" y="9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0" name=""/>
                  <p:cNvSpPr/>
                  <p:nvPr/>
                </p:nvSpPr>
                <p:spPr>
                  <a:xfrm rot="10800000">
                    <a:off x="16539120" y="20351520"/>
                    <a:ext cx="432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496">
                        <a:moveTo>
                          <a:pt x="109" y="496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1" name=""/>
                  <p:cNvSpPr/>
                  <p:nvPr/>
                </p:nvSpPr>
                <p:spPr>
                  <a:xfrm rot="10800000">
                    <a:off x="16540560" y="20368800"/>
                    <a:ext cx="288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160">
                        <a:moveTo>
                          <a:pt x="84" y="0"/>
                        </a:moveTo>
                        <a:lnTo>
                          <a:pt x="13" y="64"/>
                        </a:lnTo>
                        <a:lnTo>
                          <a:pt x="0" y="160"/>
                        </a:lnTo>
                        <a:lnTo>
                          <a:pt x="1" y="16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2" name=""/>
                  <p:cNvSpPr/>
                  <p:nvPr/>
                </p:nvSpPr>
                <p:spPr>
                  <a:xfrm rot="10800000">
                    <a:off x="16421760" y="20368800"/>
                    <a:ext cx="288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159">
                        <a:moveTo>
                          <a:pt x="84" y="159"/>
                        </a:moveTo>
                        <a:lnTo>
                          <a:pt x="71" y="64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3" name=""/>
                  <p:cNvSpPr/>
                  <p:nvPr/>
                </p:nvSpPr>
                <p:spPr>
                  <a:xfrm rot="10800000">
                    <a:off x="16422120" y="20351520"/>
                    <a:ext cx="396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496">
                        <a:moveTo>
                          <a:pt x="109" y="0"/>
                        </a:moveTo>
                        <a:lnTo>
                          <a:pt x="0" y="496"/>
                        </a:lnTo>
                        <a:lnTo>
                          <a:pt x="1" y="496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4" name=""/>
                  <p:cNvSpPr/>
                  <p:nvPr/>
                </p:nvSpPr>
                <p:spPr>
                  <a:xfrm rot="10800000">
                    <a:off x="16426080" y="20347200"/>
                    <a:ext cx="828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202" h="98">
                        <a:moveTo>
                          <a:pt x="0" y="94"/>
                        </a:moveTo>
                        <a:lnTo>
                          <a:pt x="124" y="98"/>
                        </a:lnTo>
                        <a:lnTo>
                          <a:pt x="201" y="0"/>
                        </a:lnTo>
                        <a:lnTo>
                          <a:pt x="202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5" name=""/>
                  <p:cNvSpPr/>
                  <p:nvPr/>
                </p:nvSpPr>
                <p:spPr>
                  <a:xfrm rot="10800000">
                    <a:off x="16434720" y="20348640"/>
                    <a:ext cx="360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021" h="297">
                        <a:moveTo>
                          <a:pt x="1021" y="297"/>
                        </a:moveTo>
                        <a:lnTo>
                          <a:pt x="525" y="97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46" name=""/>
                <p:cNvSpPr/>
                <p:nvPr/>
              </p:nvSpPr>
              <p:spPr>
                <a:xfrm rot="10800000">
                  <a:off x="16368480" y="20131200"/>
                  <a:ext cx="218880" cy="6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47" name=""/>
                <p:cNvGrpSpPr/>
                <p:nvPr/>
              </p:nvGrpSpPr>
              <p:grpSpPr>
                <a:xfrm>
                  <a:off x="16417440" y="20142000"/>
                  <a:ext cx="131400" cy="47880"/>
                  <a:chOff x="16417440" y="20142000"/>
                  <a:chExt cx="131400" cy="47880"/>
                </a:xfrm>
              </p:grpSpPr>
              <p:sp>
                <p:nvSpPr>
                  <p:cNvPr id="2548" name=""/>
                  <p:cNvSpPr/>
                  <p:nvPr/>
                </p:nvSpPr>
                <p:spPr>
                  <a:xfrm rot="10800000">
                    <a:off x="16417440" y="20142000"/>
                    <a:ext cx="131400" cy="47880"/>
                  </a:xfrm>
                  <a:prstGeom prst="rect">
                    <a:avLst/>
                  </a:prstGeom>
                  <a:noFill/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" bIns="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9" name=""/>
                  <p:cNvSpPr/>
                  <p:nvPr/>
                </p:nvSpPr>
                <p:spPr>
                  <a:xfrm rot="10800000">
                    <a:off x="16527600" y="20149560"/>
                    <a:ext cx="15840" cy="32040"/>
                  </a:xfrm>
                  <a:prstGeom prst="rect">
                    <a:avLst/>
                  </a:prstGeom>
                  <a:noFill/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760" bIns="-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0" name=""/>
                  <p:cNvSpPr/>
                  <p:nvPr/>
                </p:nvSpPr>
                <p:spPr>
                  <a:xfrm rot="10800000">
                    <a:off x="16423200" y="20149560"/>
                    <a:ext cx="97200" cy="32040"/>
                  </a:xfrm>
                  <a:prstGeom prst="rect">
                    <a:avLst/>
                  </a:prstGeom>
                  <a:noFill/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760" bIns="-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51" name=""/>
                <p:cNvSpPr/>
                <p:nvPr/>
              </p:nvSpPr>
              <p:spPr>
                <a:xfrm rot="12551400">
                  <a:off x="16584120" y="20067840"/>
                  <a:ext cx="21960" cy="31680"/>
                </a:xfrm>
                <a:prstGeom prst="ellipse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2" name=""/>
                <p:cNvSpPr/>
                <p:nvPr/>
              </p:nvSpPr>
              <p:spPr>
                <a:xfrm rot="10800000">
                  <a:off x="16567200" y="20047680"/>
                  <a:ext cx="67680" cy="6660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53" name=""/>
                <p:cNvGrpSpPr/>
                <p:nvPr/>
              </p:nvGrpSpPr>
              <p:grpSpPr>
                <a:xfrm>
                  <a:off x="16398720" y="19964520"/>
                  <a:ext cx="133200" cy="145800"/>
                  <a:chOff x="16398720" y="19964520"/>
                  <a:chExt cx="133200" cy="145800"/>
                </a:xfrm>
              </p:grpSpPr>
              <p:sp>
                <p:nvSpPr>
                  <p:cNvPr id="2554" name=""/>
                  <p:cNvSpPr/>
                  <p:nvPr/>
                </p:nvSpPr>
                <p:spPr>
                  <a:xfrm rot="10800000">
                    <a:off x="16398720" y="19964520"/>
                    <a:ext cx="133200" cy="14580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555" name=""/>
                  <p:cNvGrpSpPr/>
                  <p:nvPr/>
                </p:nvGrpSpPr>
                <p:grpSpPr>
                  <a:xfrm>
                    <a:off x="16408080" y="19974240"/>
                    <a:ext cx="117000" cy="116280"/>
                    <a:chOff x="16408080" y="19974240"/>
                    <a:chExt cx="117000" cy="116280"/>
                  </a:xfrm>
                </p:grpSpPr>
                <p:sp>
                  <p:nvSpPr>
                    <p:cNvPr id="2556" name=""/>
                    <p:cNvSpPr/>
                    <p:nvPr/>
                  </p:nvSpPr>
                  <p:spPr>
                    <a:xfrm rot="10800000">
                      <a:off x="16491600" y="19991880"/>
                      <a:ext cx="252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35">
                          <a:moveTo>
                            <a:pt x="0" y="35"/>
                          </a:moveTo>
                          <a:lnTo>
                            <a:pt x="5" y="29"/>
                          </a:lnTo>
                          <a:lnTo>
                            <a:pt x="11" y="23"/>
                          </a:lnTo>
                          <a:lnTo>
                            <a:pt x="17" y="17"/>
                          </a:lnTo>
                          <a:lnTo>
                            <a:pt x="22" y="12"/>
                          </a:lnTo>
                          <a:lnTo>
                            <a:pt x="26" y="8"/>
                          </a:lnTo>
                          <a:lnTo>
                            <a:pt x="30" y="5"/>
                          </a:lnTo>
                          <a:lnTo>
                            <a:pt x="32" y="2"/>
                          </a:lnTo>
                          <a:lnTo>
                            <a:pt x="34" y="1"/>
                          </a:lnTo>
                          <a:lnTo>
                            <a:pt x="34" y="0"/>
                          </a:lnTo>
                          <a:lnTo>
                            <a:pt x="3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57" name=""/>
                    <p:cNvSpPr/>
                    <p:nvPr/>
                  </p:nvSpPr>
                  <p:spPr>
                    <a:xfrm rot="10800000">
                      <a:off x="16491600" y="19991880"/>
                      <a:ext cx="252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35">
                          <a:moveTo>
                            <a:pt x="0" y="35"/>
                          </a:moveTo>
                          <a:lnTo>
                            <a:pt x="5" y="29"/>
                          </a:lnTo>
                          <a:lnTo>
                            <a:pt x="11" y="23"/>
                          </a:lnTo>
                          <a:lnTo>
                            <a:pt x="17" y="17"/>
                          </a:lnTo>
                          <a:lnTo>
                            <a:pt x="22" y="12"/>
                          </a:lnTo>
                          <a:lnTo>
                            <a:pt x="26" y="8"/>
                          </a:lnTo>
                          <a:lnTo>
                            <a:pt x="30" y="5"/>
                          </a:lnTo>
                          <a:lnTo>
                            <a:pt x="32" y="2"/>
                          </a:lnTo>
                          <a:lnTo>
                            <a:pt x="34" y="1"/>
                          </a:lnTo>
                          <a:lnTo>
                            <a:pt x="34" y="0"/>
                          </a:lnTo>
                          <a:lnTo>
                            <a:pt x="3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58" name=""/>
                    <p:cNvSpPr/>
                    <p:nvPr/>
                  </p:nvSpPr>
                  <p:spPr>
                    <a:xfrm rot="10800000">
                      <a:off x="16408080" y="20041200"/>
                      <a:ext cx="117000" cy="49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520" bIns="2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59" name=""/>
                    <p:cNvSpPr/>
                    <p:nvPr/>
                  </p:nvSpPr>
                  <p:spPr>
                    <a:xfrm rot="10800000">
                      <a:off x="16415640" y="19974240"/>
                      <a:ext cx="100800" cy="65160"/>
                    </a:xfrm>
                    <a:custGeom>
                      <a:avLst/>
                      <a:gdLst>
                        <a:gd name="textAreaLeft" fmla="*/ 21960 w 100800"/>
                        <a:gd name="textAreaRight" fmla="*/ 78840 w 100800"/>
                        <a:gd name="textAreaTop" fmla="*/ 14400 h 65160"/>
                        <a:gd name="textAreaBottom" fmla="*/ 50760 h 651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16200" y="21600"/>
                          </a:lnTo>
                          <a:lnTo>
                            <a:pt x="5400" y="2160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440" bIns="-10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560" name=""/>
              <p:cNvGrpSpPr/>
              <p:nvPr/>
            </p:nvGrpSpPr>
            <p:grpSpPr>
              <a:xfrm>
                <a:off x="16119360" y="19005480"/>
                <a:ext cx="432000" cy="456480"/>
                <a:chOff x="16119360" y="19005480"/>
                <a:chExt cx="432000" cy="456480"/>
              </a:xfrm>
            </p:grpSpPr>
            <p:sp>
              <p:nvSpPr>
                <p:cNvPr id="2561" name=""/>
                <p:cNvSpPr/>
                <p:nvPr/>
              </p:nvSpPr>
              <p:spPr>
                <a:xfrm flipV="1" rot="10800000">
                  <a:off x="16119360" y="19173960"/>
                  <a:ext cx="432000" cy="2876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62" name=""/>
                <p:cNvGrpSpPr/>
                <p:nvPr/>
              </p:nvGrpSpPr>
              <p:grpSpPr>
                <a:xfrm>
                  <a:off x="16300080" y="19005480"/>
                  <a:ext cx="162360" cy="161280"/>
                  <a:chOff x="16300080" y="19005480"/>
                  <a:chExt cx="162360" cy="161280"/>
                </a:xfrm>
              </p:grpSpPr>
              <p:sp>
                <p:nvSpPr>
                  <p:cNvPr id="2563" name=""/>
                  <p:cNvSpPr/>
                  <p:nvPr/>
                </p:nvSpPr>
                <p:spPr>
                  <a:xfrm flipV="1" rot="10800000">
                    <a:off x="16313400" y="19045080"/>
                    <a:ext cx="36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4" name=""/>
                  <p:cNvSpPr/>
                  <p:nvPr/>
                </p:nvSpPr>
                <p:spPr>
                  <a:xfrm flipV="1" rot="10800000">
                    <a:off x="16300080" y="19045080"/>
                    <a:ext cx="36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5" name=""/>
                  <p:cNvSpPr/>
                  <p:nvPr/>
                </p:nvSpPr>
                <p:spPr>
                  <a:xfrm flipV="1" rot="10800000">
                    <a:off x="16461360" y="19045080"/>
                    <a:ext cx="108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6" name=""/>
                  <p:cNvSpPr/>
                  <p:nvPr/>
                </p:nvSpPr>
                <p:spPr>
                  <a:xfrm flipV="1" rot="10800000">
                    <a:off x="16448400" y="19045080"/>
                    <a:ext cx="144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7" name=""/>
                  <p:cNvSpPr/>
                  <p:nvPr/>
                </p:nvSpPr>
                <p:spPr>
                  <a:xfrm flipV="1" rot="10800000">
                    <a:off x="16442280" y="19072080"/>
                    <a:ext cx="36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925">
                        <a:moveTo>
                          <a:pt x="0" y="0"/>
                        </a:moveTo>
                        <a:lnTo>
                          <a:pt x="18" y="1925"/>
                        </a:lnTo>
                        <a:lnTo>
                          <a:pt x="19" y="1925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8" name=""/>
                  <p:cNvSpPr/>
                  <p:nvPr/>
                </p:nvSpPr>
                <p:spPr>
                  <a:xfrm flipV="1" rot="10800000">
                    <a:off x="16422480" y="19140840"/>
                    <a:ext cx="2016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8" h="605">
                        <a:moveTo>
                          <a:pt x="0" y="0"/>
                        </a:moveTo>
                        <a:lnTo>
                          <a:pt x="184" y="396"/>
                        </a:lnTo>
                        <a:lnTo>
                          <a:pt x="567" y="605"/>
                        </a:lnTo>
                        <a:lnTo>
                          <a:pt x="568" y="605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9" name=""/>
                  <p:cNvSpPr/>
                  <p:nvPr/>
                </p:nvSpPr>
                <p:spPr>
                  <a:xfrm flipV="1" rot="10800000">
                    <a:off x="16341120" y="19163880"/>
                    <a:ext cx="8136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269" h="103">
                        <a:moveTo>
                          <a:pt x="0" y="2"/>
                        </a:moveTo>
                        <a:lnTo>
                          <a:pt x="1135" y="103"/>
                        </a:lnTo>
                        <a:lnTo>
                          <a:pt x="2268" y="0"/>
                        </a:lnTo>
                        <a:lnTo>
                          <a:pt x="2269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0" name=""/>
                  <p:cNvSpPr/>
                  <p:nvPr/>
                </p:nvSpPr>
                <p:spPr>
                  <a:xfrm flipV="1" rot="10800000">
                    <a:off x="16320600" y="19140840"/>
                    <a:ext cx="2016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8" h="605">
                        <a:moveTo>
                          <a:pt x="0" y="605"/>
                        </a:moveTo>
                        <a:lnTo>
                          <a:pt x="382" y="396"/>
                        </a:lnTo>
                        <a:lnTo>
                          <a:pt x="567" y="0"/>
                        </a:lnTo>
                        <a:lnTo>
                          <a:pt x="568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1" name=""/>
                  <p:cNvSpPr/>
                  <p:nvPr/>
                </p:nvSpPr>
                <p:spPr>
                  <a:xfrm flipV="1" rot="10800000">
                    <a:off x="16320240" y="19072080"/>
                    <a:ext cx="36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925">
                        <a:moveTo>
                          <a:pt x="0" y="1925"/>
                        </a:moveTo>
                        <a:lnTo>
                          <a:pt x="16" y="0"/>
                        </a:lnTo>
                        <a:lnTo>
                          <a:pt x="17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2" name=""/>
                  <p:cNvSpPr/>
                  <p:nvPr/>
                </p:nvSpPr>
                <p:spPr>
                  <a:xfrm flipV="1" rot="10800000">
                    <a:off x="16320960" y="19043640"/>
                    <a:ext cx="2556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745" h="787">
                        <a:moveTo>
                          <a:pt x="745" y="787"/>
                        </a:moveTo>
                        <a:lnTo>
                          <a:pt x="623" y="420"/>
                        </a:lnTo>
                        <a:lnTo>
                          <a:pt x="358" y="14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3" name=""/>
                  <p:cNvSpPr/>
                  <p:nvPr/>
                </p:nvSpPr>
                <p:spPr>
                  <a:xfrm flipV="1" rot="10800000">
                    <a:off x="16346520" y="19041120"/>
                    <a:ext cx="7020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1947" h="77">
                        <a:moveTo>
                          <a:pt x="1947" y="76"/>
                        </a:moveTo>
                        <a:lnTo>
                          <a:pt x="974" y="0"/>
                        </a:lnTo>
                        <a:lnTo>
                          <a:pt x="0" y="77"/>
                        </a:lnTo>
                        <a:lnTo>
                          <a:pt x="1" y="77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4" name=""/>
                  <p:cNvSpPr/>
                  <p:nvPr/>
                </p:nvSpPr>
                <p:spPr>
                  <a:xfrm flipV="1" rot="10800000">
                    <a:off x="16416720" y="19043640"/>
                    <a:ext cx="2592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744" h="788">
                        <a:moveTo>
                          <a:pt x="744" y="0"/>
                        </a:moveTo>
                        <a:lnTo>
                          <a:pt x="386" y="141"/>
                        </a:lnTo>
                        <a:lnTo>
                          <a:pt x="121" y="421"/>
                        </a:lnTo>
                        <a:lnTo>
                          <a:pt x="0" y="788"/>
                        </a:lnTo>
                        <a:lnTo>
                          <a:pt x="1" y="788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5" name=""/>
                  <p:cNvSpPr/>
                  <p:nvPr/>
                </p:nvSpPr>
                <p:spPr>
                  <a:xfrm flipV="1" rot="10800000">
                    <a:off x="16300800" y="19143720"/>
                    <a:ext cx="129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50" h="0">
                        <a:moveTo>
                          <a:pt x="0" y="0"/>
                        </a:moveTo>
                        <a:lnTo>
                          <a:pt x="349" y="0"/>
                        </a:lnTo>
                        <a:lnTo>
                          <a:pt x="350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6" name=""/>
                  <p:cNvSpPr/>
                  <p:nvPr/>
                </p:nvSpPr>
                <p:spPr>
                  <a:xfrm flipV="1" rot="10800000">
                    <a:off x="16449840" y="19143720"/>
                    <a:ext cx="1260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49" h="0">
                        <a:moveTo>
                          <a:pt x="349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7" name=""/>
                  <p:cNvSpPr/>
                  <p:nvPr/>
                </p:nvSpPr>
                <p:spPr>
                  <a:xfrm flipV="1" rot="10800000">
                    <a:off x="16300800" y="19044720"/>
                    <a:ext cx="129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50" h="0">
                        <a:moveTo>
                          <a:pt x="0" y="0"/>
                        </a:moveTo>
                        <a:lnTo>
                          <a:pt x="349" y="0"/>
                        </a:lnTo>
                        <a:lnTo>
                          <a:pt x="350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8" name=""/>
                  <p:cNvSpPr/>
                  <p:nvPr/>
                </p:nvSpPr>
                <p:spPr>
                  <a:xfrm flipV="1" rot="10800000">
                    <a:off x="16369920" y="19036440"/>
                    <a:ext cx="2412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8" h="0">
                        <a:moveTo>
                          <a:pt x="698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9" name=""/>
                  <p:cNvSpPr/>
                  <p:nvPr/>
                </p:nvSpPr>
                <p:spPr>
                  <a:xfrm flipV="1" rot="10800000">
                    <a:off x="16368120" y="19036440"/>
                    <a:ext cx="144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33">
                        <a:moveTo>
                          <a:pt x="0" y="133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0" name=""/>
                  <p:cNvSpPr/>
                  <p:nvPr/>
                </p:nvSpPr>
                <p:spPr>
                  <a:xfrm flipV="1" rot="10800000">
                    <a:off x="16393680" y="19036440"/>
                    <a:ext cx="36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34">
                        <a:moveTo>
                          <a:pt x="0" y="134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1" name=""/>
                  <p:cNvSpPr/>
                  <p:nvPr/>
                </p:nvSpPr>
                <p:spPr>
                  <a:xfrm flipV="1" rot="10800000">
                    <a:off x="16449840" y="19044720"/>
                    <a:ext cx="1260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49" h="0">
                        <a:moveTo>
                          <a:pt x="349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2" name=""/>
                  <p:cNvSpPr/>
                  <p:nvPr/>
                </p:nvSpPr>
                <p:spPr>
                  <a:xfrm flipV="1" rot="10800000">
                    <a:off x="16320960" y="19005120"/>
                    <a:ext cx="12168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3444" h="562">
                        <a:moveTo>
                          <a:pt x="3405" y="560"/>
                        </a:moveTo>
                        <a:lnTo>
                          <a:pt x="3444" y="429"/>
                        </a:lnTo>
                        <a:lnTo>
                          <a:pt x="3366" y="316"/>
                        </a:lnTo>
                        <a:lnTo>
                          <a:pt x="2559" y="78"/>
                        </a:lnTo>
                        <a:lnTo>
                          <a:pt x="1722" y="0"/>
                        </a:lnTo>
                        <a:lnTo>
                          <a:pt x="884" y="79"/>
                        </a:lnTo>
                        <a:lnTo>
                          <a:pt x="78" y="318"/>
                        </a:lnTo>
                        <a:lnTo>
                          <a:pt x="0" y="430"/>
                        </a:lnTo>
                        <a:lnTo>
                          <a:pt x="39" y="562"/>
                        </a:lnTo>
                        <a:lnTo>
                          <a:pt x="40" y="562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3" name=""/>
                  <p:cNvSpPr/>
                  <p:nvPr/>
                </p:nvSpPr>
                <p:spPr>
                  <a:xfrm flipV="1" rot="10800000">
                    <a:off x="16325280" y="19014840"/>
                    <a:ext cx="11304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52" h="740">
                        <a:moveTo>
                          <a:pt x="3152" y="738"/>
                        </a:moveTo>
                        <a:lnTo>
                          <a:pt x="3126" y="512"/>
                        </a:lnTo>
                        <a:lnTo>
                          <a:pt x="2966" y="350"/>
                        </a:lnTo>
                        <a:lnTo>
                          <a:pt x="2290" y="101"/>
                        </a:lnTo>
                        <a:lnTo>
                          <a:pt x="1576" y="0"/>
                        </a:lnTo>
                        <a:lnTo>
                          <a:pt x="862" y="102"/>
                        </a:lnTo>
                        <a:lnTo>
                          <a:pt x="186" y="352"/>
                        </a:lnTo>
                        <a:lnTo>
                          <a:pt x="26" y="514"/>
                        </a:lnTo>
                        <a:lnTo>
                          <a:pt x="0" y="740"/>
                        </a:lnTo>
                        <a:lnTo>
                          <a:pt x="1" y="74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4" name=""/>
                  <p:cNvSpPr/>
                  <p:nvPr/>
                </p:nvSpPr>
                <p:spPr>
                  <a:xfrm flipV="1" rot="10800000">
                    <a:off x="16394040" y="19036440"/>
                    <a:ext cx="3564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023" h="298">
                        <a:moveTo>
                          <a:pt x="1023" y="0"/>
                        </a:moveTo>
                        <a:lnTo>
                          <a:pt x="496" y="98"/>
                        </a:lnTo>
                        <a:lnTo>
                          <a:pt x="0" y="298"/>
                        </a:lnTo>
                        <a:lnTo>
                          <a:pt x="2" y="298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5" name=""/>
                  <p:cNvSpPr/>
                  <p:nvPr/>
                </p:nvSpPr>
                <p:spPr>
                  <a:xfrm flipV="1" rot="10800000">
                    <a:off x="16430040" y="19043640"/>
                    <a:ext cx="828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203" h="97">
                        <a:moveTo>
                          <a:pt x="0" y="0"/>
                        </a:moveTo>
                        <a:lnTo>
                          <a:pt x="78" y="97"/>
                        </a:lnTo>
                        <a:lnTo>
                          <a:pt x="201" y="93"/>
                        </a:lnTo>
                        <a:lnTo>
                          <a:pt x="203" y="9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6" name=""/>
                  <p:cNvSpPr/>
                  <p:nvPr/>
                </p:nvSpPr>
                <p:spPr>
                  <a:xfrm flipV="1" rot="10800000">
                    <a:off x="16438320" y="19026360"/>
                    <a:ext cx="432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496">
                        <a:moveTo>
                          <a:pt x="109" y="496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7" name=""/>
                  <p:cNvSpPr/>
                  <p:nvPr/>
                </p:nvSpPr>
                <p:spPr>
                  <a:xfrm flipV="1" rot="10800000">
                    <a:off x="16439760" y="19019160"/>
                    <a:ext cx="288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160">
                        <a:moveTo>
                          <a:pt x="84" y="0"/>
                        </a:moveTo>
                        <a:lnTo>
                          <a:pt x="13" y="64"/>
                        </a:lnTo>
                        <a:lnTo>
                          <a:pt x="0" y="160"/>
                        </a:lnTo>
                        <a:lnTo>
                          <a:pt x="1" y="16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8" name=""/>
                  <p:cNvSpPr/>
                  <p:nvPr/>
                </p:nvSpPr>
                <p:spPr>
                  <a:xfrm flipV="1" rot="10800000">
                    <a:off x="16320960" y="19019160"/>
                    <a:ext cx="288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159">
                        <a:moveTo>
                          <a:pt x="84" y="159"/>
                        </a:moveTo>
                        <a:lnTo>
                          <a:pt x="71" y="64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9" name=""/>
                  <p:cNvSpPr/>
                  <p:nvPr/>
                </p:nvSpPr>
                <p:spPr>
                  <a:xfrm flipV="1" rot="10800000">
                    <a:off x="16320960" y="19026360"/>
                    <a:ext cx="396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496">
                        <a:moveTo>
                          <a:pt x="109" y="0"/>
                        </a:moveTo>
                        <a:lnTo>
                          <a:pt x="0" y="496"/>
                        </a:lnTo>
                        <a:lnTo>
                          <a:pt x="1" y="496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0" name=""/>
                  <p:cNvSpPr/>
                  <p:nvPr/>
                </p:nvSpPr>
                <p:spPr>
                  <a:xfrm flipV="1" rot="10800000">
                    <a:off x="16325280" y="19043640"/>
                    <a:ext cx="828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202" h="98">
                        <a:moveTo>
                          <a:pt x="0" y="94"/>
                        </a:moveTo>
                        <a:lnTo>
                          <a:pt x="124" y="98"/>
                        </a:lnTo>
                        <a:lnTo>
                          <a:pt x="201" y="0"/>
                        </a:lnTo>
                        <a:lnTo>
                          <a:pt x="202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1" name=""/>
                  <p:cNvSpPr/>
                  <p:nvPr/>
                </p:nvSpPr>
                <p:spPr>
                  <a:xfrm flipV="1" rot="10800000">
                    <a:off x="16333560" y="19036440"/>
                    <a:ext cx="360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021" h="297">
                        <a:moveTo>
                          <a:pt x="1021" y="297"/>
                        </a:moveTo>
                        <a:lnTo>
                          <a:pt x="525" y="97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92" name=""/>
                <p:cNvSpPr/>
                <p:nvPr/>
              </p:nvSpPr>
              <p:spPr>
                <a:xfrm flipV="1" rot="10800000">
                  <a:off x="16266600" y="19194120"/>
                  <a:ext cx="219240" cy="6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93" name=""/>
                <p:cNvGrpSpPr/>
                <p:nvPr/>
              </p:nvGrpSpPr>
              <p:grpSpPr>
                <a:xfrm>
                  <a:off x="16316280" y="19205280"/>
                  <a:ext cx="131760" cy="47880"/>
                  <a:chOff x="16316280" y="19205280"/>
                  <a:chExt cx="131760" cy="47880"/>
                </a:xfrm>
              </p:grpSpPr>
              <p:sp>
                <p:nvSpPr>
                  <p:cNvPr id="2594" name=""/>
                  <p:cNvSpPr/>
                  <p:nvPr/>
                </p:nvSpPr>
                <p:spPr>
                  <a:xfrm flipV="1" rot="10800000">
                    <a:off x="16316280" y="19204920"/>
                    <a:ext cx="131760" cy="47880"/>
                  </a:xfrm>
                  <a:prstGeom prst="rect">
                    <a:avLst/>
                  </a:prstGeom>
                  <a:noFill/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" bIns="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5" name=""/>
                  <p:cNvSpPr/>
                  <p:nvPr/>
                </p:nvSpPr>
                <p:spPr>
                  <a:xfrm flipV="1" rot="10800000">
                    <a:off x="16426800" y="19213200"/>
                    <a:ext cx="15840" cy="32040"/>
                  </a:xfrm>
                  <a:prstGeom prst="rect">
                    <a:avLst/>
                  </a:prstGeom>
                  <a:noFill/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760" bIns="-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6" name=""/>
                  <p:cNvSpPr/>
                  <p:nvPr/>
                </p:nvSpPr>
                <p:spPr>
                  <a:xfrm flipV="1" rot="10800000">
                    <a:off x="16322040" y="19213200"/>
                    <a:ext cx="97560" cy="32040"/>
                  </a:xfrm>
                  <a:prstGeom prst="rect">
                    <a:avLst/>
                  </a:prstGeom>
                  <a:noFill/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760" bIns="-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97" name=""/>
                <p:cNvSpPr/>
                <p:nvPr/>
              </p:nvSpPr>
              <p:spPr>
                <a:xfrm flipV="1" rot="9048600">
                  <a:off x="16482960" y="19295280"/>
                  <a:ext cx="22320" cy="31680"/>
                </a:xfrm>
                <a:prstGeom prst="ellipse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8" name=""/>
                <p:cNvSpPr/>
                <p:nvPr/>
              </p:nvSpPr>
              <p:spPr>
                <a:xfrm flipV="1" rot="10800000">
                  <a:off x="16465320" y="19280520"/>
                  <a:ext cx="68040" cy="6660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99" name=""/>
                <p:cNvGrpSpPr/>
                <p:nvPr/>
              </p:nvGrpSpPr>
              <p:grpSpPr>
                <a:xfrm>
                  <a:off x="16296840" y="19284840"/>
                  <a:ext cx="133560" cy="145800"/>
                  <a:chOff x="16296840" y="19284840"/>
                  <a:chExt cx="133560" cy="145800"/>
                </a:xfrm>
              </p:grpSpPr>
              <p:sp>
                <p:nvSpPr>
                  <p:cNvPr id="2600" name=""/>
                  <p:cNvSpPr/>
                  <p:nvPr/>
                </p:nvSpPr>
                <p:spPr>
                  <a:xfrm flipV="1" rot="10800000">
                    <a:off x="16296840" y="19284480"/>
                    <a:ext cx="133560" cy="14580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601" name=""/>
                  <p:cNvGrpSpPr/>
                  <p:nvPr/>
                </p:nvGrpSpPr>
                <p:grpSpPr>
                  <a:xfrm>
                    <a:off x="16306200" y="19304640"/>
                    <a:ext cx="117360" cy="116280"/>
                    <a:chOff x="16306200" y="19304640"/>
                    <a:chExt cx="117360" cy="116280"/>
                  </a:xfrm>
                </p:grpSpPr>
                <p:sp>
                  <p:nvSpPr>
                    <p:cNvPr id="2602" name=""/>
                    <p:cNvSpPr/>
                    <p:nvPr/>
                  </p:nvSpPr>
                  <p:spPr>
                    <a:xfrm flipV="1" rot="10800000">
                      <a:off x="16389720" y="19401840"/>
                      <a:ext cx="252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35">
                          <a:moveTo>
                            <a:pt x="0" y="35"/>
                          </a:moveTo>
                          <a:lnTo>
                            <a:pt x="5" y="29"/>
                          </a:lnTo>
                          <a:lnTo>
                            <a:pt x="11" y="23"/>
                          </a:lnTo>
                          <a:lnTo>
                            <a:pt x="17" y="17"/>
                          </a:lnTo>
                          <a:lnTo>
                            <a:pt x="22" y="12"/>
                          </a:lnTo>
                          <a:lnTo>
                            <a:pt x="26" y="8"/>
                          </a:lnTo>
                          <a:lnTo>
                            <a:pt x="30" y="5"/>
                          </a:lnTo>
                          <a:lnTo>
                            <a:pt x="32" y="2"/>
                          </a:lnTo>
                          <a:lnTo>
                            <a:pt x="34" y="1"/>
                          </a:lnTo>
                          <a:lnTo>
                            <a:pt x="34" y="0"/>
                          </a:lnTo>
                          <a:lnTo>
                            <a:pt x="3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3" name=""/>
                    <p:cNvSpPr/>
                    <p:nvPr/>
                  </p:nvSpPr>
                  <p:spPr>
                    <a:xfrm flipV="1" rot="10800000">
                      <a:off x="16389720" y="19401840"/>
                      <a:ext cx="252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35">
                          <a:moveTo>
                            <a:pt x="0" y="35"/>
                          </a:moveTo>
                          <a:lnTo>
                            <a:pt x="5" y="29"/>
                          </a:lnTo>
                          <a:lnTo>
                            <a:pt x="11" y="23"/>
                          </a:lnTo>
                          <a:lnTo>
                            <a:pt x="17" y="17"/>
                          </a:lnTo>
                          <a:lnTo>
                            <a:pt x="22" y="12"/>
                          </a:lnTo>
                          <a:lnTo>
                            <a:pt x="26" y="8"/>
                          </a:lnTo>
                          <a:lnTo>
                            <a:pt x="30" y="5"/>
                          </a:lnTo>
                          <a:lnTo>
                            <a:pt x="32" y="2"/>
                          </a:lnTo>
                          <a:lnTo>
                            <a:pt x="34" y="1"/>
                          </a:lnTo>
                          <a:lnTo>
                            <a:pt x="34" y="0"/>
                          </a:lnTo>
                          <a:lnTo>
                            <a:pt x="3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4" name=""/>
                    <p:cNvSpPr/>
                    <p:nvPr/>
                  </p:nvSpPr>
                  <p:spPr>
                    <a:xfrm flipV="1" rot="10800000">
                      <a:off x="16306200" y="19304280"/>
                      <a:ext cx="117360" cy="49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520" bIns="2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5" name=""/>
                    <p:cNvSpPr/>
                    <p:nvPr/>
                  </p:nvSpPr>
                  <p:spPr>
                    <a:xfrm flipV="1" rot="10800000">
                      <a:off x="16313760" y="19355400"/>
                      <a:ext cx="101160" cy="65160"/>
                    </a:xfrm>
                    <a:custGeom>
                      <a:avLst/>
                      <a:gdLst>
                        <a:gd name="textAreaLeft" fmla="*/ 22320 w 101160"/>
                        <a:gd name="textAreaRight" fmla="*/ 78840 w 101160"/>
                        <a:gd name="textAreaTop" fmla="*/ 14400 h 65160"/>
                        <a:gd name="textAreaBottom" fmla="*/ 50760 h 651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16200" y="21600"/>
                          </a:lnTo>
                          <a:lnTo>
                            <a:pt x="5400" y="2160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440" bIns="-10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2606" name=""/>
              <p:cNvSpPr/>
              <p:nvPr/>
            </p:nvSpPr>
            <p:spPr>
              <a:xfrm>
                <a:off x="16897320" y="18884880"/>
                <a:ext cx="179280" cy="36036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 flipH="1">
                <a:off x="17125920" y="18612000"/>
                <a:ext cx="112392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08" name=""/>
              <p:cNvGrpSpPr/>
              <p:nvPr/>
            </p:nvGrpSpPr>
            <p:grpSpPr>
              <a:xfrm>
                <a:off x="18425520" y="18999360"/>
                <a:ext cx="611280" cy="630360"/>
                <a:chOff x="18425520" y="18999360"/>
                <a:chExt cx="611280" cy="630360"/>
              </a:xfrm>
            </p:grpSpPr>
            <p:sp>
              <p:nvSpPr>
                <p:cNvPr id="2609" name=""/>
                <p:cNvSpPr/>
                <p:nvPr/>
              </p:nvSpPr>
              <p:spPr>
                <a:xfrm>
                  <a:off x="18425520" y="19018080"/>
                  <a:ext cx="611280" cy="611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0" name=""/>
                <p:cNvSpPr/>
                <p:nvPr/>
              </p:nvSpPr>
              <p:spPr>
                <a:xfrm flipV="1">
                  <a:off x="18713160" y="18999360"/>
                  <a:ext cx="0" cy="34272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1" name=""/>
              <p:cNvGrpSpPr/>
              <p:nvPr/>
            </p:nvGrpSpPr>
            <p:grpSpPr>
              <a:xfrm>
                <a:off x="18303480" y="19082520"/>
                <a:ext cx="630720" cy="612000"/>
                <a:chOff x="18303480" y="19082520"/>
                <a:chExt cx="630720" cy="612000"/>
              </a:xfrm>
            </p:grpSpPr>
            <p:sp>
              <p:nvSpPr>
                <p:cNvPr id="2612" name=""/>
                <p:cNvSpPr/>
                <p:nvPr/>
              </p:nvSpPr>
              <p:spPr>
                <a:xfrm flipV="1" rot="5400000">
                  <a:off x="18321840" y="19082160"/>
                  <a:ext cx="612000" cy="612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3" name=""/>
                <p:cNvSpPr/>
                <p:nvPr/>
              </p:nvSpPr>
              <p:spPr>
                <a:xfrm flipH="1">
                  <a:off x="18303480" y="19370520"/>
                  <a:ext cx="343080" cy="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14" name=""/>
              <p:cNvSpPr/>
              <p:nvPr/>
            </p:nvSpPr>
            <p:spPr>
              <a:xfrm>
                <a:off x="17320680" y="18305640"/>
                <a:ext cx="881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ADJUNT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15" name=""/>
              <p:cNvGrpSpPr/>
              <p:nvPr/>
            </p:nvGrpSpPr>
            <p:grpSpPr>
              <a:xfrm>
                <a:off x="12552480" y="20067480"/>
                <a:ext cx="460080" cy="355680"/>
                <a:chOff x="12552480" y="20067480"/>
                <a:chExt cx="460080" cy="355680"/>
              </a:xfrm>
            </p:grpSpPr>
            <p:sp>
              <p:nvSpPr>
                <p:cNvPr id="2616" name=""/>
                <p:cNvSpPr/>
                <p:nvPr/>
              </p:nvSpPr>
              <p:spPr>
                <a:xfrm flipV="1" rot="5400000">
                  <a:off x="12628800" y="20210400"/>
                  <a:ext cx="218880" cy="6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17" name=""/>
                <p:cNvGrpSpPr/>
                <p:nvPr/>
              </p:nvGrpSpPr>
              <p:grpSpPr>
                <a:xfrm>
                  <a:off x="12714120" y="20174040"/>
                  <a:ext cx="47880" cy="131760"/>
                  <a:chOff x="12714120" y="20174040"/>
                  <a:chExt cx="47880" cy="131760"/>
                </a:xfrm>
              </p:grpSpPr>
              <p:sp>
                <p:nvSpPr>
                  <p:cNvPr id="2618" name=""/>
                  <p:cNvSpPr/>
                  <p:nvPr/>
                </p:nvSpPr>
                <p:spPr>
                  <a:xfrm flipV="1" rot="5400000">
                    <a:off x="12672000" y="20215800"/>
                    <a:ext cx="131760" cy="47880"/>
                  </a:xfrm>
                  <a:prstGeom prst="rect">
                    <a:avLst/>
                  </a:prstGeom>
                  <a:noFill/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" bIns="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9" name=""/>
                  <p:cNvSpPr/>
                  <p:nvPr/>
                </p:nvSpPr>
                <p:spPr>
                  <a:xfrm flipV="1" rot="5400000">
                    <a:off x="12730320" y="20171160"/>
                    <a:ext cx="15840" cy="32040"/>
                  </a:xfrm>
                  <a:prstGeom prst="rect">
                    <a:avLst/>
                  </a:prstGeom>
                  <a:noFill/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760" bIns="-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0" name=""/>
                  <p:cNvSpPr/>
                  <p:nvPr/>
                </p:nvSpPr>
                <p:spPr>
                  <a:xfrm flipV="1" rot="5400000">
                    <a:off x="12689640" y="20234880"/>
                    <a:ext cx="97560" cy="32040"/>
                  </a:xfrm>
                  <a:prstGeom prst="rect">
                    <a:avLst/>
                  </a:prstGeom>
                  <a:noFill/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760" bIns="-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21" name=""/>
                <p:cNvSpPr/>
                <p:nvPr/>
              </p:nvSpPr>
              <p:spPr>
                <a:xfrm flipV="1" rot="5400000">
                  <a:off x="12713400" y="20124000"/>
                  <a:ext cx="355680" cy="2426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2" name=""/>
                <p:cNvSpPr/>
                <p:nvPr/>
              </p:nvSpPr>
              <p:spPr>
                <a:xfrm flipV="1" rot="3648600">
                  <a:off x="12809160" y="20111400"/>
                  <a:ext cx="22320" cy="31680"/>
                </a:xfrm>
                <a:prstGeom prst="ellipse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3" name=""/>
                <p:cNvSpPr/>
                <p:nvPr/>
              </p:nvSpPr>
              <p:spPr>
                <a:xfrm flipV="1" rot="5400000">
                  <a:off x="12789000" y="20089080"/>
                  <a:ext cx="68040" cy="6660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24" name=""/>
                <p:cNvGrpSpPr/>
                <p:nvPr/>
              </p:nvGrpSpPr>
              <p:grpSpPr>
                <a:xfrm>
                  <a:off x="12793680" y="20191680"/>
                  <a:ext cx="146160" cy="133560"/>
                  <a:chOff x="12793680" y="20191680"/>
                  <a:chExt cx="146160" cy="133560"/>
                </a:xfrm>
              </p:grpSpPr>
              <p:sp>
                <p:nvSpPr>
                  <p:cNvPr id="2625" name=""/>
                  <p:cNvSpPr/>
                  <p:nvPr/>
                </p:nvSpPr>
                <p:spPr>
                  <a:xfrm flipV="1" rot="5400000">
                    <a:off x="12799800" y="20184840"/>
                    <a:ext cx="133560" cy="14616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626" name=""/>
                  <p:cNvGrpSpPr/>
                  <p:nvPr/>
                </p:nvGrpSpPr>
                <p:grpSpPr>
                  <a:xfrm>
                    <a:off x="12813480" y="20198520"/>
                    <a:ext cx="116640" cy="117360"/>
                    <a:chOff x="12813480" y="20198520"/>
                    <a:chExt cx="116640" cy="117360"/>
                  </a:xfrm>
                </p:grpSpPr>
                <p:sp>
                  <p:nvSpPr>
                    <p:cNvPr id="2627" name=""/>
                    <p:cNvSpPr/>
                    <p:nvPr/>
                  </p:nvSpPr>
                  <p:spPr>
                    <a:xfrm flipV="1" rot="5400000">
                      <a:off x="12910680" y="20230200"/>
                      <a:ext cx="252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35">
                          <a:moveTo>
                            <a:pt x="0" y="35"/>
                          </a:moveTo>
                          <a:lnTo>
                            <a:pt x="5" y="29"/>
                          </a:lnTo>
                          <a:lnTo>
                            <a:pt x="11" y="23"/>
                          </a:lnTo>
                          <a:lnTo>
                            <a:pt x="17" y="17"/>
                          </a:lnTo>
                          <a:lnTo>
                            <a:pt x="22" y="12"/>
                          </a:lnTo>
                          <a:lnTo>
                            <a:pt x="26" y="8"/>
                          </a:lnTo>
                          <a:lnTo>
                            <a:pt x="30" y="5"/>
                          </a:lnTo>
                          <a:lnTo>
                            <a:pt x="32" y="2"/>
                          </a:lnTo>
                          <a:lnTo>
                            <a:pt x="34" y="1"/>
                          </a:lnTo>
                          <a:lnTo>
                            <a:pt x="34" y="0"/>
                          </a:lnTo>
                          <a:lnTo>
                            <a:pt x="3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8" name=""/>
                    <p:cNvSpPr/>
                    <p:nvPr/>
                  </p:nvSpPr>
                  <p:spPr>
                    <a:xfrm flipV="1" rot="5400000">
                      <a:off x="12910680" y="20230200"/>
                      <a:ext cx="252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35">
                          <a:moveTo>
                            <a:pt x="0" y="35"/>
                          </a:moveTo>
                          <a:lnTo>
                            <a:pt x="5" y="29"/>
                          </a:lnTo>
                          <a:lnTo>
                            <a:pt x="11" y="23"/>
                          </a:lnTo>
                          <a:lnTo>
                            <a:pt x="17" y="17"/>
                          </a:lnTo>
                          <a:lnTo>
                            <a:pt x="22" y="12"/>
                          </a:lnTo>
                          <a:lnTo>
                            <a:pt x="26" y="8"/>
                          </a:lnTo>
                          <a:lnTo>
                            <a:pt x="30" y="5"/>
                          </a:lnTo>
                          <a:lnTo>
                            <a:pt x="32" y="2"/>
                          </a:lnTo>
                          <a:lnTo>
                            <a:pt x="34" y="1"/>
                          </a:lnTo>
                          <a:lnTo>
                            <a:pt x="34" y="0"/>
                          </a:lnTo>
                          <a:lnTo>
                            <a:pt x="3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9" name=""/>
                    <p:cNvSpPr/>
                    <p:nvPr/>
                  </p:nvSpPr>
                  <p:spPr>
                    <a:xfrm flipV="1" rot="5400000">
                      <a:off x="12779640" y="20232360"/>
                      <a:ext cx="117360" cy="496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880" bIns="2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0" name=""/>
                    <p:cNvSpPr/>
                    <p:nvPr/>
                  </p:nvSpPr>
                  <p:spPr>
                    <a:xfrm flipV="1" rot="5400000">
                      <a:off x="12846600" y="20224440"/>
                      <a:ext cx="101160" cy="65520"/>
                    </a:xfrm>
                    <a:custGeom>
                      <a:avLst/>
                      <a:gdLst>
                        <a:gd name="textAreaLeft" fmla="*/ 22320 w 101160"/>
                        <a:gd name="textAreaRight" fmla="*/ 78840 w 101160"/>
                        <a:gd name="textAreaTop" fmla="*/ 14400 h 65520"/>
                        <a:gd name="textAreaBottom" fmla="*/ 51120 h 6552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16200" y="21600"/>
                          </a:lnTo>
                          <a:lnTo>
                            <a:pt x="5400" y="2160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080" bIns="-10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631" name=""/>
                <p:cNvGrpSpPr/>
                <p:nvPr/>
              </p:nvGrpSpPr>
              <p:grpSpPr>
                <a:xfrm>
                  <a:off x="12552480" y="20159640"/>
                  <a:ext cx="161280" cy="162360"/>
                  <a:chOff x="12552480" y="20159640"/>
                  <a:chExt cx="161280" cy="162360"/>
                </a:xfrm>
              </p:grpSpPr>
              <p:sp>
                <p:nvSpPr>
                  <p:cNvPr id="2632" name=""/>
                  <p:cNvSpPr/>
                  <p:nvPr/>
                </p:nvSpPr>
                <p:spPr>
                  <a:xfrm flipV="1" rot="5400000">
                    <a:off x="12641040" y="20258640"/>
                    <a:ext cx="36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3" name=""/>
                  <p:cNvSpPr/>
                  <p:nvPr/>
                </p:nvSpPr>
                <p:spPr>
                  <a:xfrm flipV="1" rot="5400000">
                    <a:off x="12641040" y="20271960"/>
                    <a:ext cx="36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4" name=""/>
                  <p:cNvSpPr/>
                  <p:nvPr/>
                </p:nvSpPr>
                <p:spPr>
                  <a:xfrm flipV="1" rot="5400000">
                    <a:off x="12640680" y="20110320"/>
                    <a:ext cx="108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5" name=""/>
                  <p:cNvSpPr/>
                  <p:nvPr/>
                </p:nvSpPr>
                <p:spPr>
                  <a:xfrm flipV="1" rot="5400000">
                    <a:off x="12640680" y="20123640"/>
                    <a:ext cx="144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6" name=""/>
                  <p:cNvSpPr/>
                  <p:nvPr/>
                </p:nvSpPr>
                <p:spPr>
                  <a:xfrm flipV="1" rot="5400000">
                    <a:off x="12653640" y="20144880"/>
                    <a:ext cx="36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925">
                        <a:moveTo>
                          <a:pt x="0" y="0"/>
                        </a:moveTo>
                        <a:lnTo>
                          <a:pt x="18" y="1925"/>
                        </a:lnTo>
                        <a:lnTo>
                          <a:pt x="19" y="1925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7" name=""/>
                  <p:cNvSpPr/>
                  <p:nvPr/>
                </p:nvSpPr>
                <p:spPr>
                  <a:xfrm flipV="1" rot="5400000">
                    <a:off x="12689280" y="20178000"/>
                    <a:ext cx="2016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8" h="605">
                        <a:moveTo>
                          <a:pt x="0" y="0"/>
                        </a:moveTo>
                        <a:lnTo>
                          <a:pt x="184" y="396"/>
                        </a:lnTo>
                        <a:lnTo>
                          <a:pt x="567" y="605"/>
                        </a:lnTo>
                        <a:lnTo>
                          <a:pt x="568" y="605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8" name=""/>
                  <p:cNvSpPr/>
                  <p:nvPr/>
                </p:nvSpPr>
                <p:spPr>
                  <a:xfrm flipV="1" rot="5400000">
                    <a:off x="12671640" y="20238840"/>
                    <a:ext cx="8136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269" h="103">
                        <a:moveTo>
                          <a:pt x="0" y="2"/>
                        </a:moveTo>
                        <a:lnTo>
                          <a:pt x="1135" y="103"/>
                        </a:lnTo>
                        <a:lnTo>
                          <a:pt x="2268" y="0"/>
                        </a:lnTo>
                        <a:lnTo>
                          <a:pt x="2269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9" name=""/>
                  <p:cNvSpPr/>
                  <p:nvPr/>
                </p:nvSpPr>
                <p:spPr>
                  <a:xfrm flipV="1" rot="5400000">
                    <a:off x="12689280" y="20279880"/>
                    <a:ext cx="2016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8" h="605">
                        <a:moveTo>
                          <a:pt x="0" y="605"/>
                        </a:moveTo>
                        <a:lnTo>
                          <a:pt x="382" y="396"/>
                        </a:lnTo>
                        <a:lnTo>
                          <a:pt x="567" y="0"/>
                        </a:lnTo>
                        <a:lnTo>
                          <a:pt x="568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0" name=""/>
                  <p:cNvSpPr/>
                  <p:nvPr/>
                </p:nvSpPr>
                <p:spPr>
                  <a:xfrm flipV="1" rot="5400000">
                    <a:off x="12653640" y="20266920"/>
                    <a:ext cx="36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925">
                        <a:moveTo>
                          <a:pt x="0" y="1925"/>
                        </a:moveTo>
                        <a:lnTo>
                          <a:pt x="16" y="0"/>
                        </a:lnTo>
                        <a:lnTo>
                          <a:pt x="17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1" name=""/>
                  <p:cNvSpPr/>
                  <p:nvPr/>
                </p:nvSpPr>
                <p:spPr>
                  <a:xfrm flipV="1" rot="5400000">
                    <a:off x="12592440" y="20273760"/>
                    <a:ext cx="2556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745" h="787">
                        <a:moveTo>
                          <a:pt x="745" y="787"/>
                        </a:moveTo>
                        <a:lnTo>
                          <a:pt x="623" y="420"/>
                        </a:lnTo>
                        <a:lnTo>
                          <a:pt x="358" y="14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2" name=""/>
                  <p:cNvSpPr/>
                  <p:nvPr/>
                </p:nvSpPr>
                <p:spPr>
                  <a:xfrm flipV="1" rot="5400000">
                    <a:off x="12554280" y="20238480"/>
                    <a:ext cx="7020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1947" h="77">
                        <a:moveTo>
                          <a:pt x="1947" y="76"/>
                        </a:moveTo>
                        <a:lnTo>
                          <a:pt x="974" y="0"/>
                        </a:lnTo>
                        <a:lnTo>
                          <a:pt x="0" y="77"/>
                        </a:lnTo>
                        <a:lnTo>
                          <a:pt x="1" y="77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3" name=""/>
                  <p:cNvSpPr/>
                  <p:nvPr/>
                </p:nvSpPr>
                <p:spPr>
                  <a:xfrm flipV="1" rot="5400000">
                    <a:off x="12592080" y="20178000"/>
                    <a:ext cx="2592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744" h="788">
                        <a:moveTo>
                          <a:pt x="744" y="0"/>
                        </a:moveTo>
                        <a:lnTo>
                          <a:pt x="386" y="141"/>
                        </a:lnTo>
                        <a:lnTo>
                          <a:pt x="121" y="421"/>
                        </a:lnTo>
                        <a:lnTo>
                          <a:pt x="0" y="788"/>
                        </a:lnTo>
                        <a:lnTo>
                          <a:pt x="1" y="788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4" name=""/>
                  <p:cNvSpPr/>
                  <p:nvPr/>
                </p:nvSpPr>
                <p:spPr>
                  <a:xfrm flipV="1" rot="5400000">
                    <a:off x="12684600" y="20314440"/>
                    <a:ext cx="129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50" h="0">
                        <a:moveTo>
                          <a:pt x="0" y="0"/>
                        </a:moveTo>
                        <a:lnTo>
                          <a:pt x="349" y="0"/>
                        </a:lnTo>
                        <a:lnTo>
                          <a:pt x="350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5" name=""/>
                  <p:cNvSpPr/>
                  <p:nvPr/>
                </p:nvSpPr>
                <p:spPr>
                  <a:xfrm flipV="1" rot="5400000">
                    <a:off x="12684960" y="20165400"/>
                    <a:ext cx="1260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49" h="0">
                        <a:moveTo>
                          <a:pt x="349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6" name=""/>
                  <p:cNvSpPr/>
                  <p:nvPr/>
                </p:nvSpPr>
                <p:spPr>
                  <a:xfrm flipV="1" rot="5400000">
                    <a:off x="12585600" y="20314440"/>
                    <a:ext cx="129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50" h="0">
                        <a:moveTo>
                          <a:pt x="0" y="0"/>
                        </a:moveTo>
                        <a:lnTo>
                          <a:pt x="349" y="0"/>
                        </a:lnTo>
                        <a:lnTo>
                          <a:pt x="350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7" name=""/>
                  <p:cNvSpPr/>
                  <p:nvPr/>
                </p:nvSpPr>
                <p:spPr>
                  <a:xfrm flipV="1" rot="5400000">
                    <a:off x="12571920" y="20239560"/>
                    <a:ext cx="2412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8" h="0">
                        <a:moveTo>
                          <a:pt x="698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8" name=""/>
                  <p:cNvSpPr/>
                  <p:nvPr/>
                </p:nvSpPr>
                <p:spPr>
                  <a:xfrm flipV="1" rot="5400000">
                    <a:off x="12584880" y="20251080"/>
                    <a:ext cx="144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33">
                        <a:moveTo>
                          <a:pt x="0" y="133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9" name=""/>
                  <p:cNvSpPr/>
                  <p:nvPr/>
                </p:nvSpPr>
                <p:spPr>
                  <a:xfrm flipV="1" rot="5400000">
                    <a:off x="12585600" y="20225880"/>
                    <a:ext cx="36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34">
                        <a:moveTo>
                          <a:pt x="0" y="134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0" name=""/>
                  <p:cNvSpPr/>
                  <p:nvPr/>
                </p:nvSpPr>
                <p:spPr>
                  <a:xfrm flipV="1" rot="5400000">
                    <a:off x="12585960" y="20165400"/>
                    <a:ext cx="1260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49" h="0">
                        <a:moveTo>
                          <a:pt x="349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1" name=""/>
                  <p:cNvSpPr/>
                  <p:nvPr/>
                </p:nvSpPr>
                <p:spPr>
                  <a:xfrm flipV="1" rot="5400000">
                    <a:off x="12501360" y="20230200"/>
                    <a:ext cx="12168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3444" h="562">
                        <a:moveTo>
                          <a:pt x="3405" y="560"/>
                        </a:moveTo>
                        <a:lnTo>
                          <a:pt x="3444" y="429"/>
                        </a:lnTo>
                        <a:lnTo>
                          <a:pt x="3366" y="316"/>
                        </a:lnTo>
                        <a:lnTo>
                          <a:pt x="2559" y="78"/>
                        </a:lnTo>
                        <a:lnTo>
                          <a:pt x="1722" y="0"/>
                        </a:lnTo>
                        <a:lnTo>
                          <a:pt x="884" y="79"/>
                        </a:lnTo>
                        <a:lnTo>
                          <a:pt x="78" y="318"/>
                        </a:lnTo>
                        <a:lnTo>
                          <a:pt x="0" y="430"/>
                        </a:lnTo>
                        <a:lnTo>
                          <a:pt x="39" y="562"/>
                        </a:lnTo>
                        <a:lnTo>
                          <a:pt x="40" y="562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2" name=""/>
                  <p:cNvSpPr/>
                  <p:nvPr/>
                </p:nvSpPr>
                <p:spPr>
                  <a:xfrm flipV="1" rot="5400000">
                    <a:off x="12519720" y="20225880"/>
                    <a:ext cx="11304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52" h="740">
                        <a:moveTo>
                          <a:pt x="3152" y="738"/>
                        </a:moveTo>
                        <a:lnTo>
                          <a:pt x="3126" y="512"/>
                        </a:lnTo>
                        <a:lnTo>
                          <a:pt x="2966" y="350"/>
                        </a:lnTo>
                        <a:lnTo>
                          <a:pt x="2290" y="101"/>
                        </a:lnTo>
                        <a:lnTo>
                          <a:pt x="1576" y="0"/>
                        </a:lnTo>
                        <a:lnTo>
                          <a:pt x="862" y="102"/>
                        </a:lnTo>
                        <a:lnTo>
                          <a:pt x="186" y="352"/>
                        </a:lnTo>
                        <a:lnTo>
                          <a:pt x="26" y="514"/>
                        </a:lnTo>
                        <a:lnTo>
                          <a:pt x="0" y="740"/>
                        </a:lnTo>
                        <a:lnTo>
                          <a:pt x="1" y="74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3" name=""/>
                  <p:cNvSpPr/>
                  <p:nvPr/>
                </p:nvSpPr>
                <p:spPr>
                  <a:xfrm flipV="1" rot="5400000">
                    <a:off x="12570840" y="20205000"/>
                    <a:ext cx="3564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023" h="298">
                        <a:moveTo>
                          <a:pt x="1023" y="0"/>
                        </a:moveTo>
                        <a:lnTo>
                          <a:pt x="496" y="98"/>
                        </a:lnTo>
                        <a:lnTo>
                          <a:pt x="0" y="298"/>
                        </a:lnTo>
                        <a:lnTo>
                          <a:pt x="2" y="298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4" name=""/>
                  <p:cNvSpPr/>
                  <p:nvPr/>
                </p:nvSpPr>
                <p:spPr>
                  <a:xfrm flipV="1" rot="5400000">
                    <a:off x="12588840" y="20185560"/>
                    <a:ext cx="828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203" h="97">
                        <a:moveTo>
                          <a:pt x="0" y="0"/>
                        </a:moveTo>
                        <a:lnTo>
                          <a:pt x="78" y="97"/>
                        </a:lnTo>
                        <a:lnTo>
                          <a:pt x="201" y="93"/>
                        </a:lnTo>
                        <a:lnTo>
                          <a:pt x="203" y="9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5" name=""/>
                  <p:cNvSpPr/>
                  <p:nvPr/>
                </p:nvSpPr>
                <p:spPr>
                  <a:xfrm flipV="1" rot="5400000">
                    <a:off x="12579840" y="20172960"/>
                    <a:ext cx="432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496">
                        <a:moveTo>
                          <a:pt x="109" y="496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6" name=""/>
                  <p:cNvSpPr/>
                  <p:nvPr/>
                </p:nvSpPr>
                <p:spPr>
                  <a:xfrm flipV="1" rot="5400000">
                    <a:off x="12568320" y="20177280"/>
                    <a:ext cx="288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160">
                        <a:moveTo>
                          <a:pt x="84" y="0"/>
                        </a:moveTo>
                        <a:lnTo>
                          <a:pt x="13" y="64"/>
                        </a:lnTo>
                        <a:lnTo>
                          <a:pt x="0" y="160"/>
                        </a:lnTo>
                        <a:lnTo>
                          <a:pt x="1" y="16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7" name=""/>
                  <p:cNvSpPr/>
                  <p:nvPr/>
                </p:nvSpPr>
                <p:spPr>
                  <a:xfrm flipV="1" rot="5400000">
                    <a:off x="12568320" y="20296080"/>
                    <a:ext cx="288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159">
                        <a:moveTo>
                          <a:pt x="84" y="159"/>
                        </a:moveTo>
                        <a:lnTo>
                          <a:pt x="71" y="64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8" name=""/>
                  <p:cNvSpPr/>
                  <p:nvPr/>
                </p:nvSpPr>
                <p:spPr>
                  <a:xfrm flipV="1" rot="5400000">
                    <a:off x="12580200" y="20290320"/>
                    <a:ext cx="396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496">
                        <a:moveTo>
                          <a:pt x="109" y="0"/>
                        </a:moveTo>
                        <a:lnTo>
                          <a:pt x="0" y="496"/>
                        </a:lnTo>
                        <a:lnTo>
                          <a:pt x="1" y="496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9" name=""/>
                  <p:cNvSpPr/>
                  <p:nvPr/>
                </p:nvSpPr>
                <p:spPr>
                  <a:xfrm flipV="1" rot="5400000">
                    <a:off x="12588840" y="20290320"/>
                    <a:ext cx="828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202" h="98">
                        <a:moveTo>
                          <a:pt x="0" y="94"/>
                        </a:moveTo>
                        <a:lnTo>
                          <a:pt x="124" y="98"/>
                        </a:lnTo>
                        <a:lnTo>
                          <a:pt x="201" y="0"/>
                        </a:lnTo>
                        <a:lnTo>
                          <a:pt x="202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0" name=""/>
                  <p:cNvSpPr/>
                  <p:nvPr/>
                </p:nvSpPr>
                <p:spPr>
                  <a:xfrm flipV="1" rot="5400000">
                    <a:off x="12570480" y="20265480"/>
                    <a:ext cx="360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021" h="297">
                        <a:moveTo>
                          <a:pt x="1021" y="297"/>
                        </a:moveTo>
                        <a:lnTo>
                          <a:pt x="525" y="97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61" name=""/>
              <p:cNvGrpSpPr/>
              <p:nvPr/>
            </p:nvGrpSpPr>
            <p:grpSpPr>
              <a:xfrm>
                <a:off x="13768200" y="19865880"/>
                <a:ext cx="630360" cy="612000"/>
                <a:chOff x="13768200" y="19865880"/>
                <a:chExt cx="630360" cy="612000"/>
              </a:xfrm>
            </p:grpSpPr>
            <p:sp>
              <p:nvSpPr>
                <p:cNvPr id="2662" name=""/>
                <p:cNvSpPr/>
                <p:nvPr/>
              </p:nvSpPr>
              <p:spPr>
                <a:xfrm flipH="1" rot="5400000">
                  <a:off x="13767480" y="19865880"/>
                  <a:ext cx="612000" cy="611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3" name=""/>
                <p:cNvSpPr/>
                <p:nvPr/>
              </p:nvSpPr>
              <p:spPr>
                <a:xfrm>
                  <a:off x="14055840" y="20189880"/>
                  <a:ext cx="342720" cy="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4" name=""/>
              <p:cNvGrpSpPr/>
              <p:nvPr/>
            </p:nvGrpSpPr>
            <p:grpSpPr>
              <a:xfrm>
                <a:off x="14090760" y="19348560"/>
                <a:ext cx="355320" cy="460080"/>
                <a:chOff x="14090760" y="19348560"/>
                <a:chExt cx="355320" cy="460080"/>
              </a:xfrm>
            </p:grpSpPr>
            <p:sp>
              <p:nvSpPr>
                <p:cNvPr id="2665" name=""/>
                <p:cNvSpPr/>
                <p:nvPr/>
              </p:nvSpPr>
              <p:spPr>
                <a:xfrm>
                  <a:off x="14159520" y="19499400"/>
                  <a:ext cx="218520" cy="6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66" name=""/>
                <p:cNvGrpSpPr/>
                <p:nvPr/>
              </p:nvGrpSpPr>
              <p:grpSpPr>
                <a:xfrm>
                  <a:off x="14197680" y="19510200"/>
                  <a:ext cx="131400" cy="47880"/>
                  <a:chOff x="14197680" y="19510200"/>
                  <a:chExt cx="131400" cy="47880"/>
                </a:xfrm>
              </p:grpSpPr>
              <p:sp>
                <p:nvSpPr>
                  <p:cNvPr id="2667" name=""/>
                  <p:cNvSpPr/>
                  <p:nvPr/>
                </p:nvSpPr>
                <p:spPr>
                  <a:xfrm>
                    <a:off x="14197680" y="19510200"/>
                    <a:ext cx="131400" cy="47880"/>
                  </a:xfrm>
                  <a:prstGeom prst="rect">
                    <a:avLst/>
                  </a:prstGeom>
                  <a:noFill/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" bIns="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8" name=""/>
                  <p:cNvSpPr/>
                  <p:nvPr/>
                </p:nvSpPr>
                <p:spPr>
                  <a:xfrm>
                    <a:off x="14203080" y="19518480"/>
                    <a:ext cx="15840" cy="32040"/>
                  </a:xfrm>
                  <a:prstGeom prst="rect">
                    <a:avLst/>
                  </a:prstGeom>
                  <a:noFill/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760" bIns="-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9" name=""/>
                  <p:cNvSpPr/>
                  <p:nvPr/>
                </p:nvSpPr>
                <p:spPr>
                  <a:xfrm>
                    <a:off x="14226120" y="19518480"/>
                    <a:ext cx="97200" cy="32040"/>
                  </a:xfrm>
                  <a:prstGeom prst="rect">
                    <a:avLst/>
                  </a:prstGeom>
                  <a:noFill/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760" bIns="-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70" name=""/>
                <p:cNvSpPr/>
                <p:nvPr/>
              </p:nvSpPr>
              <p:spPr>
                <a:xfrm>
                  <a:off x="14090760" y="19566000"/>
                  <a:ext cx="355320" cy="2426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1" name=""/>
                <p:cNvSpPr/>
                <p:nvPr/>
              </p:nvSpPr>
              <p:spPr>
                <a:xfrm rot="1751400">
                  <a:off x="14140080" y="19600200"/>
                  <a:ext cx="21960" cy="31680"/>
                </a:xfrm>
                <a:prstGeom prst="ellipse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2" name=""/>
                <p:cNvSpPr/>
                <p:nvPr/>
              </p:nvSpPr>
              <p:spPr>
                <a:xfrm>
                  <a:off x="14111640" y="19585800"/>
                  <a:ext cx="67680" cy="6660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73" name=""/>
                <p:cNvGrpSpPr/>
                <p:nvPr/>
              </p:nvGrpSpPr>
              <p:grpSpPr>
                <a:xfrm>
                  <a:off x="14214600" y="19589760"/>
                  <a:ext cx="133200" cy="146160"/>
                  <a:chOff x="14214600" y="19589760"/>
                  <a:chExt cx="133200" cy="146160"/>
                </a:xfrm>
              </p:grpSpPr>
              <p:sp>
                <p:nvSpPr>
                  <p:cNvPr id="2674" name=""/>
                  <p:cNvSpPr/>
                  <p:nvPr/>
                </p:nvSpPr>
                <p:spPr>
                  <a:xfrm>
                    <a:off x="14214600" y="19589760"/>
                    <a:ext cx="133200" cy="14616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675" name=""/>
                  <p:cNvGrpSpPr/>
                  <p:nvPr/>
                </p:nvGrpSpPr>
                <p:grpSpPr>
                  <a:xfrm>
                    <a:off x="14221440" y="19609560"/>
                    <a:ext cx="117000" cy="116640"/>
                    <a:chOff x="14221440" y="19609560"/>
                    <a:chExt cx="117000" cy="116640"/>
                  </a:xfrm>
                </p:grpSpPr>
                <p:sp>
                  <p:nvSpPr>
                    <p:cNvPr id="2676" name=""/>
                    <p:cNvSpPr/>
                    <p:nvPr/>
                  </p:nvSpPr>
                  <p:spPr>
                    <a:xfrm>
                      <a:off x="14252400" y="19707480"/>
                      <a:ext cx="252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35">
                          <a:moveTo>
                            <a:pt x="0" y="35"/>
                          </a:moveTo>
                          <a:lnTo>
                            <a:pt x="5" y="29"/>
                          </a:lnTo>
                          <a:lnTo>
                            <a:pt x="11" y="23"/>
                          </a:lnTo>
                          <a:lnTo>
                            <a:pt x="17" y="17"/>
                          </a:lnTo>
                          <a:lnTo>
                            <a:pt x="22" y="12"/>
                          </a:lnTo>
                          <a:lnTo>
                            <a:pt x="26" y="8"/>
                          </a:lnTo>
                          <a:lnTo>
                            <a:pt x="30" y="5"/>
                          </a:lnTo>
                          <a:lnTo>
                            <a:pt x="32" y="2"/>
                          </a:lnTo>
                          <a:lnTo>
                            <a:pt x="34" y="1"/>
                          </a:lnTo>
                          <a:lnTo>
                            <a:pt x="34" y="0"/>
                          </a:lnTo>
                          <a:lnTo>
                            <a:pt x="3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77" name=""/>
                    <p:cNvSpPr/>
                    <p:nvPr/>
                  </p:nvSpPr>
                  <p:spPr>
                    <a:xfrm>
                      <a:off x="14252400" y="19707480"/>
                      <a:ext cx="252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35">
                          <a:moveTo>
                            <a:pt x="0" y="35"/>
                          </a:moveTo>
                          <a:lnTo>
                            <a:pt x="5" y="29"/>
                          </a:lnTo>
                          <a:lnTo>
                            <a:pt x="11" y="23"/>
                          </a:lnTo>
                          <a:lnTo>
                            <a:pt x="17" y="17"/>
                          </a:lnTo>
                          <a:lnTo>
                            <a:pt x="22" y="12"/>
                          </a:lnTo>
                          <a:lnTo>
                            <a:pt x="26" y="8"/>
                          </a:lnTo>
                          <a:lnTo>
                            <a:pt x="30" y="5"/>
                          </a:lnTo>
                          <a:lnTo>
                            <a:pt x="32" y="2"/>
                          </a:lnTo>
                          <a:lnTo>
                            <a:pt x="34" y="1"/>
                          </a:lnTo>
                          <a:lnTo>
                            <a:pt x="34" y="0"/>
                          </a:lnTo>
                          <a:lnTo>
                            <a:pt x="3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78" name=""/>
                    <p:cNvSpPr/>
                    <p:nvPr/>
                  </p:nvSpPr>
                  <p:spPr>
                    <a:xfrm>
                      <a:off x="14221440" y="19609560"/>
                      <a:ext cx="117000" cy="496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880" bIns="2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79" name=""/>
                    <p:cNvSpPr/>
                    <p:nvPr/>
                  </p:nvSpPr>
                  <p:spPr>
                    <a:xfrm>
                      <a:off x="14230080" y="19660680"/>
                      <a:ext cx="100800" cy="65520"/>
                    </a:xfrm>
                    <a:custGeom>
                      <a:avLst/>
                      <a:gdLst>
                        <a:gd name="textAreaLeft" fmla="*/ 21960 w 100800"/>
                        <a:gd name="textAreaRight" fmla="*/ 78840 w 100800"/>
                        <a:gd name="textAreaTop" fmla="*/ 14400 h 65520"/>
                        <a:gd name="textAreaBottom" fmla="*/ 51120 h 6552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16200" y="21600"/>
                          </a:lnTo>
                          <a:lnTo>
                            <a:pt x="5400" y="2160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080" bIns="-10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680" name=""/>
                <p:cNvGrpSpPr/>
                <p:nvPr/>
              </p:nvGrpSpPr>
              <p:grpSpPr>
                <a:xfrm>
                  <a:off x="14183280" y="19348560"/>
                  <a:ext cx="162000" cy="161280"/>
                  <a:chOff x="14183280" y="19348560"/>
                  <a:chExt cx="162000" cy="161280"/>
                </a:xfrm>
              </p:grpSpPr>
              <p:sp>
                <p:nvSpPr>
                  <p:cNvPr id="2681" name=""/>
                  <p:cNvSpPr/>
                  <p:nvPr/>
                </p:nvSpPr>
                <p:spPr>
                  <a:xfrm>
                    <a:off x="14331960" y="19388160"/>
                    <a:ext cx="36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2" name=""/>
                  <p:cNvSpPr/>
                  <p:nvPr/>
                </p:nvSpPr>
                <p:spPr>
                  <a:xfrm>
                    <a:off x="14344920" y="19388160"/>
                    <a:ext cx="36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3" name=""/>
                  <p:cNvSpPr/>
                  <p:nvPr/>
                </p:nvSpPr>
                <p:spPr>
                  <a:xfrm>
                    <a:off x="14183280" y="19388160"/>
                    <a:ext cx="108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4" name=""/>
                  <p:cNvSpPr/>
                  <p:nvPr/>
                </p:nvSpPr>
                <p:spPr>
                  <a:xfrm>
                    <a:off x="14195880" y="19388160"/>
                    <a:ext cx="144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5" name=""/>
                  <p:cNvSpPr/>
                  <p:nvPr/>
                </p:nvSpPr>
                <p:spPr>
                  <a:xfrm>
                    <a:off x="14203080" y="19415520"/>
                    <a:ext cx="36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925">
                        <a:moveTo>
                          <a:pt x="0" y="0"/>
                        </a:moveTo>
                        <a:lnTo>
                          <a:pt x="18" y="1925"/>
                        </a:lnTo>
                        <a:lnTo>
                          <a:pt x="19" y="1925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6" name=""/>
                  <p:cNvSpPr/>
                  <p:nvPr/>
                </p:nvSpPr>
                <p:spPr>
                  <a:xfrm>
                    <a:off x="14203080" y="19484280"/>
                    <a:ext cx="1980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8" h="605">
                        <a:moveTo>
                          <a:pt x="0" y="0"/>
                        </a:moveTo>
                        <a:lnTo>
                          <a:pt x="184" y="396"/>
                        </a:lnTo>
                        <a:lnTo>
                          <a:pt x="567" y="605"/>
                        </a:lnTo>
                        <a:lnTo>
                          <a:pt x="568" y="605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7" name=""/>
                  <p:cNvSpPr/>
                  <p:nvPr/>
                </p:nvSpPr>
                <p:spPr>
                  <a:xfrm>
                    <a:off x="14222880" y="19506960"/>
                    <a:ext cx="8136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269" h="103">
                        <a:moveTo>
                          <a:pt x="0" y="2"/>
                        </a:moveTo>
                        <a:lnTo>
                          <a:pt x="1135" y="103"/>
                        </a:lnTo>
                        <a:lnTo>
                          <a:pt x="2268" y="0"/>
                        </a:lnTo>
                        <a:lnTo>
                          <a:pt x="2269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8" name=""/>
                  <p:cNvSpPr/>
                  <p:nvPr/>
                </p:nvSpPr>
                <p:spPr>
                  <a:xfrm>
                    <a:off x="14304600" y="19484280"/>
                    <a:ext cx="1980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8" h="605">
                        <a:moveTo>
                          <a:pt x="0" y="605"/>
                        </a:moveTo>
                        <a:lnTo>
                          <a:pt x="382" y="396"/>
                        </a:lnTo>
                        <a:lnTo>
                          <a:pt x="567" y="0"/>
                        </a:lnTo>
                        <a:lnTo>
                          <a:pt x="568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9" name=""/>
                  <p:cNvSpPr/>
                  <p:nvPr/>
                </p:nvSpPr>
                <p:spPr>
                  <a:xfrm>
                    <a:off x="14324760" y="19415520"/>
                    <a:ext cx="36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925">
                        <a:moveTo>
                          <a:pt x="0" y="1925"/>
                        </a:moveTo>
                        <a:lnTo>
                          <a:pt x="16" y="0"/>
                        </a:lnTo>
                        <a:lnTo>
                          <a:pt x="17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0" name=""/>
                  <p:cNvSpPr/>
                  <p:nvPr/>
                </p:nvSpPr>
                <p:spPr>
                  <a:xfrm>
                    <a:off x="14298840" y="19387080"/>
                    <a:ext cx="2556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745" h="787">
                        <a:moveTo>
                          <a:pt x="745" y="787"/>
                        </a:moveTo>
                        <a:lnTo>
                          <a:pt x="623" y="420"/>
                        </a:lnTo>
                        <a:lnTo>
                          <a:pt x="358" y="14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1" name=""/>
                  <p:cNvSpPr/>
                  <p:nvPr/>
                </p:nvSpPr>
                <p:spPr>
                  <a:xfrm>
                    <a:off x="14229000" y="19384200"/>
                    <a:ext cx="6984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1947" h="77">
                        <a:moveTo>
                          <a:pt x="1947" y="76"/>
                        </a:moveTo>
                        <a:lnTo>
                          <a:pt x="974" y="0"/>
                        </a:lnTo>
                        <a:lnTo>
                          <a:pt x="0" y="77"/>
                        </a:lnTo>
                        <a:lnTo>
                          <a:pt x="1" y="77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2" name=""/>
                  <p:cNvSpPr/>
                  <p:nvPr/>
                </p:nvSpPr>
                <p:spPr>
                  <a:xfrm>
                    <a:off x="14203080" y="19387080"/>
                    <a:ext cx="2592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744" h="788">
                        <a:moveTo>
                          <a:pt x="744" y="0"/>
                        </a:moveTo>
                        <a:lnTo>
                          <a:pt x="386" y="141"/>
                        </a:lnTo>
                        <a:lnTo>
                          <a:pt x="121" y="421"/>
                        </a:lnTo>
                        <a:lnTo>
                          <a:pt x="0" y="788"/>
                        </a:lnTo>
                        <a:lnTo>
                          <a:pt x="1" y="788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3" name=""/>
                  <p:cNvSpPr/>
                  <p:nvPr/>
                </p:nvSpPr>
                <p:spPr>
                  <a:xfrm>
                    <a:off x="14331960" y="19487160"/>
                    <a:ext cx="129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50" h="0">
                        <a:moveTo>
                          <a:pt x="0" y="0"/>
                        </a:moveTo>
                        <a:lnTo>
                          <a:pt x="349" y="0"/>
                        </a:lnTo>
                        <a:lnTo>
                          <a:pt x="350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4" name=""/>
                  <p:cNvSpPr/>
                  <p:nvPr/>
                </p:nvSpPr>
                <p:spPr>
                  <a:xfrm>
                    <a:off x="14183280" y="19487160"/>
                    <a:ext cx="1260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49" h="0">
                        <a:moveTo>
                          <a:pt x="349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5" name=""/>
                  <p:cNvSpPr/>
                  <p:nvPr/>
                </p:nvSpPr>
                <p:spPr>
                  <a:xfrm>
                    <a:off x="14331960" y="19388160"/>
                    <a:ext cx="129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50" h="0">
                        <a:moveTo>
                          <a:pt x="0" y="0"/>
                        </a:moveTo>
                        <a:lnTo>
                          <a:pt x="349" y="0"/>
                        </a:lnTo>
                        <a:lnTo>
                          <a:pt x="350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6" name=""/>
                  <p:cNvSpPr/>
                  <p:nvPr/>
                </p:nvSpPr>
                <p:spPr>
                  <a:xfrm>
                    <a:off x="14251680" y="19379880"/>
                    <a:ext cx="2412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8" h="0">
                        <a:moveTo>
                          <a:pt x="698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7" name=""/>
                  <p:cNvSpPr/>
                  <p:nvPr/>
                </p:nvSpPr>
                <p:spPr>
                  <a:xfrm>
                    <a:off x="14275800" y="19379880"/>
                    <a:ext cx="144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33">
                        <a:moveTo>
                          <a:pt x="0" y="133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8" name=""/>
                  <p:cNvSpPr/>
                  <p:nvPr/>
                </p:nvSpPr>
                <p:spPr>
                  <a:xfrm>
                    <a:off x="14251680" y="19379880"/>
                    <a:ext cx="36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34">
                        <a:moveTo>
                          <a:pt x="0" y="134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9" name=""/>
                  <p:cNvSpPr/>
                  <p:nvPr/>
                </p:nvSpPr>
                <p:spPr>
                  <a:xfrm>
                    <a:off x="14183280" y="19388160"/>
                    <a:ext cx="1260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49" h="0">
                        <a:moveTo>
                          <a:pt x="349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0" name=""/>
                  <p:cNvSpPr/>
                  <p:nvPr/>
                </p:nvSpPr>
                <p:spPr>
                  <a:xfrm>
                    <a:off x="14203080" y="19348560"/>
                    <a:ext cx="12168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3444" h="562">
                        <a:moveTo>
                          <a:pt x="3405" y="560"/>
                        </a:moveTo>
                        <a:lnTo>
                          <a:pt x="3444" y="429"/>
                        </a:lnTo>
                        <a:lnTo>
                          <a:pt x="3366" y="316"/>
                        </a:lnTo>
                        <a:lnTo>
                          <a:pt x="2559" y="78"/>
                        </a:lnTo>
                        <a:lnTo>
                          <a:pt x="1722" y="0"/>
                        </a:lnTo>
                        <a:lnTo>
                          <a:pt x="884" y="79"/>
                        </a:lnTo>
                        <a:lnTo>
                          <a:pt x="78" y="318"/>
                        </a:lnTo>
                        <a:lnTo>
                          <a:pt x="0" y="430"/>
                        </a:lnTo>
                        <a:lnTo>
                          <a:pt x="39" y="562"/>
                        </a:lnTo>
                        <a:lnTo>
                          <a:pt x="40" y="562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1" name=""/>
                  <p:cNvSpPr/>
                  <p:nvPr/>
                </p:nvSpPr>
                <p:spPr>
                  <a:xfrm>
                    <a:off x="14207400" y="19358280"/>
                    <a:ext cx="11268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52" h="740">
                        <a:moveTo>
                          <a:pt x="3152" y="738"/>
                        </a:moveTo>
                        <a:lnTo>
                          <a:pt x="3126" y="512"/>
                        </a:lnTo>
                        <a:lnTo>
                          <a:pt x="2966" y="350"/>
                        </a:lnTo>
                        <a:lnTo>
                          <a:pt x="2290" y="101"/>
                        </a:lnTo>
                        <a:lnTo>
                          <a:pt x="1576" y="0"/>
                        </a:lnTo>
                        <a:lnTo>
                          <a:pt x="862" y="102"/>
                        </a:lnTo>
                        <a:lnTo>
                          <a:pt x="186" y="352"/>
                        </a:lnTo>
                        <a:lnTo>
                          <a:pt x="26" y="514"/>
                        </a:lnTo>
                        <a:lnTo>
                          <a:pt x="0" y="740"/>
                        </a:lnTo>
                        <a:lnTo>
                          <a:pt x="1" y="74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2" name=""/>
                  <p:cNvSpPr/>
                  <p:nvPr/>
                </p:nvSpPr>
                <p:spPr>
                  <a:xfrm>
                    <a:off x="14216040" y="19379880"/>
                    <a:ext cx="3564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023" h="298">
                        <a:moveTo>
                          <a:pt x="1023" y="0"/>
                        </a:moveTo>
                        <a:lnTo>
                          <a:pt x="496" y="98"/>
                        </a:lnTo>
                        <a:lnTo>
                          <a:pt x="0" y="298"/>
                        </a:lnTo>
                        <a:lnTo>
                          <a:pt x="2" y="298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3" name=""/>
                  <p:cNvSpPr/>
                  <p:nvPr/>
                </p:nvSpPr>
                <p:spPr>
                  <a:xfrm>
                    <a:off x="14207400" y="19387080"/>
                    <a:ext cx="828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203" h="97">
                        <a:moveTo>
                          <a:pt x="0" y="0"/>
                        </a:moveTo>
                        <a:lnTo>
                          <a:pt x="78" y="97"/>
                        </a:lnTo>
                        <a:lnTo>
                          <a:pt x="201" y="93"/>
                        </a:lnTo>
                        <a:lnTo>
                          <a:pt x="203" y="9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4" name=""/>
                  <p:cNvSpPr/>
                  <p:nvPr/>
                </p:nvSpPr>
                <p:spPr>
                  <a:xfrm>
                    <a:off x="14203080" y="19369800"/>
                    <a:ext cx="432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496">
                        <a:moveTo>
                          <a:pt x="109" y="496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5" name=""/>
                  <p:cNvSpPr/>
                  <p:nvPr/>
                </p:nvSpPr>
                <p:spPr>
                  <a:xfrm>
                    <a:off x="14203080" y="19362600"/>
                    <a:ext cx="288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160">
                        <a:moveTo>
                          <a:pt x="84" y="0"/>
                        </a:moveTo>
                        <a:lnTo>
                          <a:pt x="13" y="64"/>
                        </a:lnTo>
                        <a:lnTo>
                          <a:pt x="0" y="160"/>
                        </a:lnTo>
                        <a:lnTo>
                          <a:pt x="1" y="16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6" name=""/>
                  <p:cNvSpPr/>
                  <p:nvPr/>
                </p:nvSpPr>
                <p:spPr>
                  <a:xfrm>
                    <a:off x="14321880" y="19362600"/>
                    <a:ext cx="288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159">
                        <a:moveTo>
                          <a:pt x="84" y="159"/>
                        </a:moveTo>
                        <a:lnTo>
                          <a:pt x="71" y="64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7" name=""/>
                  <p:cNvSpPr/>
                  <p:nvPr/>
                </p:nvSpPr>
                <p:spPr>
                  <a:xfrm>
                    <a:off x="14320440" y="19369800"/>
                    <a:ext cx="396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496">
                        <a:moveTo>
                          <a:pt x="109" y="0"/>
                        </a:moveTo>
                        <a:lnTo>
                          <a:pt x="0" y="496"/>
                        </a:lnTo>
                        <a:lnTo>
                          <a:pt x="1" y="496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8" name=""/>
                  <p:cNvSpPr/>
                  <p:nvPr/>
                </p:nvSpPr>
                <p:spPr>
                  <a:xfrm>
                    <a:off x="14312160" y="19387080"/>
                    <a:ext cx="828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202" h="98">
                        <a:moveTo>
                          <a:pt x="0" y="94"/>
                        </a:moveTo>
                        <a:lnTo>
                          <a:pt x="124" y="98"/>
                        </a:lnTo>
                        <a:lnTo>
                          <a:pt x="201" y="0"/>
                        </a:lnTo>
                        <a:lnTo>
                          <a:pt x="202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9" name=""/>
                  <p:cNvSpPr/>
                  <p:nvPr/>
                </p:nvSpPr>
                <p:spPr>
                  <a:xfrm>
                    <a:off x="14275800" y="19379880"/>
                    <a:ext cx="360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021" h="297">
                        <a:moveTo>
                          <a:pt x="1021" y="297"/>
                        </a:moveTo>
                        <a:lnTo>
                          <a:pt x="525" y="97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710" name=""/>
              <p:cNvSpPr/>
              <p:nvPr/>
            </p:nvSpPr>
            <p:spPr>
              <a:xfrm>
                <a:off x="15373440" y="17361000"/>
                <a:ext cx="179280" cy="36036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15373440" y="17735400"/>
                <a:ext cx="179280" cy="36036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14729400" y="19695960"/>
                <a:ext cx="478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CP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13" name=""/>
              <p:cNvGrpSpPr/>
              <p:nvPr/>
            </p:nvGrpSpPr>
            <p:grpSpPr>
              <a:xfrm>
                <a:off x="13103280" y="20040480"/>
                <a:ext cx="456480" cy="432000"/>
                <a:chOff x="13103280" y="20040480"/>
                <a:chExt cx="456480" cy="432000"/>
              </a:xfrm>
            </p:grpSpPr>
            <p:sp>
              <p:nvSpPr>
                <p:cNvPr id="2714" name=""/>
                <p:cNvSpPr/>
                <p:nvPr/>
              </p:nvSpPr>
              <p:spPr>
                <a:xfrm flipV="1" rot="5400000">
                  <a:off x="13199760" y="20112480"/>
                  <a:ext cx="432000" cy="2876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15" name=""/>
                <p:cNvGrpSpPr/>
                <p:nvPr/>
              </p:nvGrpSpPr>
              <p:grpSpPr>
                <a:xfrm>
                  <a:off x="13103280" y="20129400"/>
                  <a:ext cx="161280" cy="162360"/>
                  <a:chOff x="13103280" y="20129400"/>
                  <a:chExt cx="161280" cy="162360"/>
                </a:xfrm>
              </p:grpSpPr>
              <p:sp>
                <p:nvSpPr>
                  <p:cNvPr id="2716" name=""/>
                  <p:cNvSpPr/>
                  <p:nvPr/>
                </p:nvSpPr>
                <p:spPr>
                  <a:xfrm flipV="1" rot="5400000">
                    <a:off x="13191840" y="20228400"/>
                    <a:ext cx="36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7" name=""/>
                  <p:cNvSpPr/>
                  <p:nvPr/>
                </p:nvSpPr>
                <p:spPr>
                  <a:xfrm flipV="1" rot="5400000">
                    <a:off x="13191840" y="20241720"/>
                    <a:ext cx="36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8" name=""/>
                  <p:cNvSpPr/>
                  <p:nvPr/>
                </p:nvSpPr>
                <p:spPr>
                  <a:xfrm flipV="1" rot="5400000">
                    <a:off x="13191480" y="20080080"/>
                    <a:ext cx="108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9" name=""/>
                  <p:cNvSpPr/>
                  <p:nvPr/>
                </p:nvSpPr>
                <p:spPr>
                  <a:xfrm flipV="1" rot="5400000">
                    <a:off x="13191480" y="20093400"/>
                    <a:ext cx="144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0" name=""/>
                  <p:cNvSpPr/>
                  <p:nvPr/>
                </p:nvSpPr>
                <p:spPr>
                  <a:xfrm flipV="1" rot="5400000">
                    <a:off x="13204440" y="20114640"/>
                    <a:ext cx="36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925">
                        <a:moveTo>
                          <a:pt x="0" y="0"/>
                        </a:moveTo>
                        <a:lnTo>
                          <a:pt x="18" y="1925"/>
                        </a:lnTo>
                        <a:lnTo>
                          <a:pt x="19" y="1925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1" name=""/>
                  <p:cNvSpPr/>
                  <p:nvPr/>
                </p:nvSpPr>
                <p:spPr>
                  <a:xfrm flipV="1" rot="5400000">
                    <a:off x="13240080" y="20147760"/>
                    <a:ext cx="2016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8" h="605">
                        <a:moveTo>
                          <a:pt x="0" y="0"/>
                        </a:moveTo>
                        <a:lnTo>
                          <a:pt x="184" y="396"/>
                        </a:lnTo>
                        <a:lnTo>
                          <a:pt x="567" y="605"/>
                        </a:lnTo>
                        <a:lnTo>
                          <a:pt x="568" y="605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2" name=""/>
                  <p:cNvSpPr/>
                  <p:nvPr/>
                </p:nvSpPr>
                <p:spPr>
                  <a:xfrm flipV="1" rot="5400000">
                    <a:off x="13222440" y="20208600"/>
                    <a:ext cx="8136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269" h="103">
                        <a:moveTo>
                          <a:pt x="0" y="2"/>
                        </a:moveTo>
                        <a:lnTo>
                          <a:pt x="1135" y="103"/>
                        </a:lnTo>
                        <a:lnTo>
                          <a:pt x="2268" y="0"/>
                        </a:lnTo>
                        <a:lnTo>
                          <a:pt x="2269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3" name=""/>
                  <p:cNvSpPr/>
                  <p:nvPr/>
                </p:nvSpPr>
                <p:spPr>
                  <a:xfrm flipV="1" rot="5400000">
                    <a:off x="13240080" y="20249640"/>
                    <a:ext cx="2016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8" h="605">
                        <a:moveTo>
                          <a:pt x="0" y="605"/>
                        </a:moveTo>
                        <a:lnTo>
                          <a:pt x="382" y="396"/>
                        </a:lnTo>
                        <a:lnTo>
                          <a:pt x="567" y="0"/>
                        </a:lnTo>
                        <a:lnTo>
                          <a:pt x="568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4" name=""/>
                  <p:cNvSpPr/>
                  <p:nvPr/>
                </p:nvSpPr>
                <p:spPr>
                  <a:xfrm flipV="1" rot="5400000">
                    <a:off x="13204440" y="20236680"/>
                    <a:ext cx="36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925">
                        <a:moveTo>
                          <a:pt x="0" y="1925"/>
                        </a:moveTo>
                        <a:lnTo>
                          <a:pt x="16" y="0"/>
                        </a:lnTo>
                        <a:lnTo>
                          <a:pt x="17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5" name=""/>
                  <p:cNvSpPr/>
                  <p:nvPr/>
                </p:nvSpPr>
                <p:spPr>
                  <a:xfrm flipV="1" rot="5400000">
                    <a:off x="13143240" y="20243520"/>
                    <a:ext cx="2556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745" h="787">
                        <a:moveTo>
                          <a:pt x="745" y="787"/>
                        </a:moveTo>
                        <a:lnTo>
                          <a:pt x="623" y="420"/>
                        </a:lnTo>
                        <a:lnTo>
                          <a:pt x="358" y="14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6" name=""/>
                  <p:cNvSpPr/>
                  <p:nvPr/>
                </p:nvSpPr>
                <p:spPr>
                  <a:xfrm flipV="1" rot="5400000">
                    <a:off x="13105080" y="20208240"/>
                    <a:ext cx="7020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1947" h="77">
                        <a:moveTo>
                          <a:pt x="1947" y="76"/>
                        </a:moveTo>
                        <a:lnTo>
                          <a:pt x="974" y="0"/>
                        </a:lnTo>
                        <a:lnTo>
                          <a:pt x="0" y="77"/>
                        </a:lnTo>
                        <a:lnTo>
                          <a:pt x="1" y="77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7" name=""/>
                  <p:cNvSpPr/>
                  <p:nvPr/>
                </p:nvSpPr>
                <p:spPr>
                  <a:xfrm flipV="1" rot="5400000">
                    <a:off x="13142880" y="20147760"/>
                    <a:ext cx="2592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744" h="788">
                        <a:moveTo>
                          <a:pt x="744" y="0"/>
                        </a:moveTo>
                        <a:lnTo>
                          <a:pt x="386" y="141"/>
                        </a:lnTo>
                        <a:lnTo>
                          <a:pt x="121" y="421"/>
                        </a:lnTo>
                        <a:lnTo>
                          <a:pt x="0" y="788"/>
                        </a:lnTo>
                        <a:lnTo>
                          <a:pt x="1" y="788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8" name=""/>
                  <p:cNvSpPr/>
                  <p:nvPr/>
                </p:nvSpPr>
                <p:spPr>
                  <a:xfrm flipV="1" rot="5400000">
                    <a:off x="13235400" y="20284200"/>
                    <a:ext cx="129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50" h="0">
                        <a:moveTo>
                          <a:pt x="0" y="0"/>
                        </a:moveTo>
                        <a:lnTo>
                          <a:pt x="349" y="0"/>
                        </a:lnTo>
                        <a:lnTo>
                          <a:pt x="350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9" name=""/>
                  <p:cNvSpPr/>
                  <p:nvPr/>
                </p:nvSpPr>
                <p:spPr>
                  <a:xfrm flipV="1" rot="5400000">
                    <a:off x="13235760" y="20135160"/>
                    <a:ext cx="1260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49" h="0">
                        <a:moveTo>
                          <a:pt x="349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0" name=""/>
                  <p:cNvSpPr/>
                  <p:nvPr/>
                </p:nvSpPr>
                <p:spPr>
                  <a:xfrm flipV="1" rot="5400000">
                    <a:off x="13136400" y="20284200"/>
                    <a:ext cx="129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50" h="0">
                        <a:moveTo>
                          <a:pt x="0" y="0"/>
                        </a:moveTo>
                        <a:lnTo>
                          <a:pt x="349" y="0"/>
                        </a:lnTo>
                        <a:lnTo>
                          <a:pt x="350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1" name=""/>
                  <p:cNvSpPr/>
                  <p:nvPr/>
                </p:nvSpPr>
                <p:spPr>
                  <a:xfrm flipV="1" rot="5400000">
                    <a:off x="13122720" y="20209320"/>
                    <a:ext cx="2412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8" h="0">
                        <a:moveTo>
                          <a:pt x="698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2" name=""/>
                  <p:cNvSpPr/>
                  <p:nvPr/>
                </p:nvSpPr>
                <p:spPr>
                  <a:xfrm flipV="1" rot="5400000">
                    <a:off x="13135680" y="20220840"/>
                    <a:ext cx="144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33">
                        <a:moveTo>
                          <a:pt x="0" y="133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3" name=""/>
                  <p:cNvSpPr/>
                  <p:nvPr/>
                </p:nvSpPr>
                <p:spPr>
                  <a:xfrm flipV="1" rot="5400000">
                    <a:off x="13136400" y="20195640"/>
                    <a:ext cx="36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34">
                        <a:moveTo>
                          <a:pt x="0" y="134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4" name=""/>
                  <p:cNvSpPr/>
                  <p:nvPr/>
                </p:nvSpPr>
                <p:spPr>
                  <a:xfrm flipV="1" rot="5400000">
                    <a:off x="13136760" y="20135160"/>
                    <a:ext cx="1260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49" h="0">
                        <a:moveTo>
                          <a:pt x="349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5" name=""/>
                  <p:cNvSpPr/>
                  <p:nvPr/>
                </p:nvSpPr>
                <p:spPr>
                  <a:xfrm flipV="1" rot="5400000">
                    <a:off x="13052160" y="20199960"/>
                    <a:ext cx="12168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3444" h="562">
                        <a:moveTo>
                          <a:pt x="3405" y="560"/>
                        </a:moveTo>
                        <a:lnTo>
                          <a:pt x="3444" y="429"/>
                        </a:lnTo>
                        <a:lnTo>
                          <a:pt x="3366" y="316"/>
                        </a:lnTo>
                        <a:lnTo>
                          <a:pt x="2559" y="78"/>
                        </a:lnTo>
                        <a:lnTo>
                          <a:pt x="1722" y="0"/>
                        </a:lnTo>
                        <a:lnTo>
                          <a:pt x="884" y="79"/>
                        </a:lnTo>
                        <a:lnTo>
                          <a:pt x="78" y="318"/>
                        </a:lnTo>
                        <a:lnTo>
                          <a:pt x="0" y="430"/>
                        </a:lnTo>
                        <a:lnTo>
                          <a:pt x="39" y="562"/>
                        </a:lnTo>
                        <a:lnTo>
                          <a:pt x="40" y="562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6" name=""/>
                  <p:cNvSpPr/>
                  <p:nvPr/>
                </p:nvSpPr>
                <p:spPr>
                  <a:xfrm flipV="1" rot="5400000">
                    <a:off x="13070520" y="20195640"/>
                    <a:ext cx="11304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52" h="740">
                        <a:moveTo>
                          <a:pt x="3152" y="738"/>
                        </a:moveTo>
                        <a:lnTo>
                          <a:pt x="3126" y="512"/>
                        </a:lnTo>
                        <a:lnTo>
                          <a:pt x="2966" y="350"/>
                        </a:lnTo>
                        <a:lnTo>
                          <a:pt x="2290" y="101"/>
                        </a:lnTo>
                        <a:lnTo>
                          <a:pt x="1576" y="0"/>
                        </a:lnTo>
                        <a:lnTo>
                          <a:pt x="862" y="102"/>
                        </a:lnTo>
                        <a:lnTo>
                          <a:pt x="186" y="352"/>
                        </a:lnTo>
                        <a:lnTo>
                          <a:pt x="26" y="514"/>
                        </a:lnTo>
                        <a:lnTo>
                          <a:pt x="0" y="740"/>
                        </a:lnTo>
                        <a:lnTo>
                          <a:pt x="1" y="74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7" name=""/>
                  <p:cNvSpPr/>
                  <p:nvPr/>
                </p:nvSpPr>
                <p:spPr>
                  <a:xfrm flipV="1" rot="5400000">
                    <a:off x="13121640" y="20174760"/>
                    <a:ext cx="3564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023" h="298">
                        <a:moveTo>
                          <a:pt x="1023" y="0"/>
                        </a:moveTo>
                        <a:lnTo>
                          <a:pt x="496" y="98"/>
                        </a:lnTo>
                        <a:lnTo>
                          <a:pt x="0" y="298"/>
                        </a:lnTo>
                        <a:lnTo>
                          <a:pt x="2" y="298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8" name=""/>
                  <p:cNvSpPr/>
                  <p:nvPr/>
                </p:nvSpPr>
                <p:spPr>
                  <a:xfrm flipV="1" rot="5400000">
                    <a:off x="13139640" y="20155320"/>
                    <a:ext cx="828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203" h="97">
                        <a:moveTo>
                          <a:pt x="0" y="0"/>
                        </a:moveTo>
                        <a:lnTo>
                          <a:pt x="78" y="97"/>
                        </a:lnTo>
                        <a:lnTo>
                          <a:pt x="201" y="93"/>
                        </a:lnTo>
                        <a:lnTo>
                          <a:pt x="203" y="9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9" name=""/>
                  <p:cNvSpPr/>
                  <p:nvPr/>
                </p:nvSpPr>
                <p:spPr>
                  <a:xfrm flipV="1" rot="5400000">
                    <a:off x="13130640" y="20142720"/>
                    <a:ext cx="432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496">
                        <a:moveTo>
                          <a:pt x="109" y="496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0" name=""/>
                  <p:cNvSpPr/>
                  <p:nvPr/>
                </p:nvSpPr>
                <p:spPr>
                  <a:xfrm flipV="1" rot="5400000">
                    <a:off x="13119120" y="20147040"/>
                    <a:ext cx="288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160">
                        <a:moveTo>
                          <a:pt x="84" y="0"/>
                        </a:moveTo>
                        <a:lnTo>
                          <a:pt x="13" y="64"/>
                        </a:lnTo>
                        <a:lnTo>
                          <a:pt x="0" y="160"/>
                        </a:lnTo>
                        <a:lnTo>
                          <a:pt x="1" y="16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1" name=""/>
                  <p:cNvSpPr/>
                  <p:nvPr/>
                </p:nvSpPr>
                <p:spPr>
                  <a:xfrm flipV="1" rot="5400000">
                    <a:off x="13119120" y="20265840"/>
                    <a:ext cx="288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159">
                        <a:moveTo>
                          <a:pt x="84" y="159"/>
                        </a:moveTo>
                        <a:lnTo>
                          <a:pt x="71" y="64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2" name=""/>
                  <p:cNvSpPr/>
                  <p:nvPr/>
                </p:nvSpPr>
                <p:spPr>
                  <a:xfrm flipV="1" rot="5400000">
                    <a:off x="13131000" y="20260080"/>
                    <a:ext cx="396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496">
                        <a:moveTo>
                          <a:pt x="109" y="0"/>
                        </a:moveTo>
                        <a:lnTo>
                          <a:pt x="0" y="496"/>
                        </a:lnTo>
                        <a:lnTo>
                          <a:pt x="1" y="496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3" name=""/>
                  <p:cNvSpPr/>
                  <p:nvPr/>
                </p:nvSpPr>
                <p:spPr>
                  <a:xfrm flipV="1" rot="5400000">
                    <a:off x="13139640" y="20260080"/>
                    <a:ext cx="828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202" h="98">
                        <a:moveTo>
                          <a:pt x="0" y="94"/>
                        </a:moveTo>
                        <a:lnTo>
                          <a:pt x="124" y="98"/>
                        </a:lnTo>
                        <a:lnTo>
                          <a:pt x="201" y="0"/>
                        </a:lnTo>
                        <a:lnTo>
                          <a:pt x="202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4" name=""/>
                  <p:cNvSpPr/>
                  <p:nvPr/>
                </p:nvSpPr>
                <p:spPr>
                  <a:xfrm flipV="1" rot="5400000">
                    <a:off x="13121280" y="20235240"/>
                    <a:ext cx="360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021" h="297">
                        <a:moveTo>
                          <a:pt x="1021" y="297"/>
                        </a:moveTo>
                        <a:lnTo>
                          <a:pt x="525" y="97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45" name=""/>
                <p:cNvSpPr/>
                <p:nvPr/>
              </p:nvSpPr>
              <p:spPr>
                <a:xfrm flipV="1" rot="5400000">
                  <a:off x="13217040" y="20180160"/>
                  <a:ext cx="219240" cy="6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46" name=""/>
                <p:cNvGrpSpPr/>
                <p:nvPr/>
              </p:nvGrpSpPr>
              <p:grpSpPr>
                <a:xfrm>
                  <a:off x="13303080" y="20143800"/>
                  <a:ext cx="47880" cy="131760"/>
                  <a:chOff x="13303080" y="20143800"/>
                  <a:chExt cx="47880" cy="131760"/>
                </a:xfrm>
              </p:grpSpPr>
              <p:sp>
                <p:nvSpPr>
                  <p:cNvPr id="2747" name=""/>
                  <p:cNvSpPr/>
                  <p:nvPr/>
                </p:nvSpPr>
                <p:spPr>
                  <a:xfrm flipV="1" rot="5400000">
                    <a:off x="13260960" y="20185560"/>
                    <a:ext cx="131760" cy="47880"/>
                  </a:xfrm>
                  <a:prstGeom prst="rect">
                    <a:avLst/>
                  </a:prstGeom>
                  <a:noFill/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" bIns="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8" name=""/>
                  <p:cNvSpPr/>
                  <p:nvPr/>
                </p:nvSpPr>
                <p:spPr>
                  <a:xfrm flipV="1" rot="5400000">
                    <a:off x="13319280" y="20140920"/>
                    <a:ext cx="15840" cy="32040"/>
                  </a:xfrm>
                  <a:prstGeom prst="rect">
                    <a:avLst/>
                  </a:prstGeom>
                  <a:noFill/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760" bIns="-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9" name=""/>
                  <p:cNvSpPr/>
                  <p:nvPr/>
                </p:nvSpPr>
                <p:spPr>
                  <a:xfrm flipV="1" rot="5400000">
                    <a:off x="13278600" y="20204640"/>
                    <a:ext cx="97560" cy="32040"/>
                  </a:xfrm>
                  <a:prstGeom prst="rect">
                    <a:avLst/>
                  </a:prstGeom>
                  <a:noFill/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760" bIns="-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50" name=""/>
                <p:cNvSpPr/>
                <p:nvPr/>
              </p:nvSpPr>
              <p:spPr>
                <a:xfrm flipV="1" rot="3648600">
                  <a:off x="13398120" y="20081160"/>
                  <a:ext cx="22320" cy="31680"/>
                </a:xfrm>
                <a:prstGeom prst="ellipse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1" name=""/>
                <p:cNvSpPr/>
                <p:nvPr/>
              </p:nvSpPr>
              <p:spPr>
                <a:xfrm flipV="1" rot="5400000">
                  <a:off x="13377960" y="20058840"/>
                  <a:ext cx="68040" cy="6660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52" name=""/>
                <p:cNvGrpSpPr/>
                <p:nvPr/>
              </p:nvGrpSpPr>
              <p:grpSpPr>
                <a:xfrm>
                  <a:off x="13382640" y="20161440"/>
                  <a:ext cx="145800" cy="133560"/>
                  <a:chOff x="13382640" y="20161440"/>
                  <a:chExt cx="145800" cy="133560"/>
                </a:xfrm>
              </p:grpSpPr>
              <p:sp>
                <p:nvSpPr>
                  <p:cNvPr id="2753" name=""/>
                  <p:cNvSpPr/>
                  <p:nvPr/>
                </p:nvSpPr>
                <p:spPr>
                  <a:xfrm flipV="1" rot="5400000">
                    <a:off x="13388760" y="20154960"/>
                    <a:ext cx="133560" cy="14580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754" name=""/>
                  <p:cNvGrpSpPr/>
                  <p:nvPr/>
                </p:nvGrpSpPr>
                <p:grpSpPr>
                  <a:xfrm>
                    <a:off x="13402440" y="20168280"/>
                    <a:ext cx="116280" cy="117360"/>
                    <a:chOff x="13402440" y="20168280"/>
                    <a:chExt cx="116280" cy="117360"/>
                  </a:xfrm>
                </p:grpSpPr>
                <p:sp>
                  <p:nvSpPr>
                    <p:cNvPr id="2755" name=""/>
                    <p:cNvSpPr/>
                    <p:nvPr/>
                  </p:nvSpPr>
                  <p:spPr>
                    <a:xfrm flipV="1" rot="5400000">
                      <a:off x="13499280" y="20199960"/>
                      <a:ext cx="252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35">
                          <a:moveTo>
                            <a:pt x="0" y="35"/>
                          </a:moveTo>
                          <a:lnTo>
                            <a:pt x="5" y="29"/>
                          </a:lnTo>
                          <a:lnTo>
                            <a:pt x="11" y="23"/>
                          </a:lnTo>
                          <a:lnTo>
                            <a:pt x="17" y="17"/>
                          </a:lnTo>
                          <a:lnTo>
                            <a:pt x="22" y="12"/>
                          </a:lnTo>
                          <a:lnTo>
                            <a:pt x="26" y="8"/>
                          </a:lnTo>
                          <a:lnTo>
                            <a:pt x="30" y="5"/>
                          </a:lnTo>
                          <a:lnTo>
                            <a:pt x="32" y="2"/>
                          </a:lnTo>
                          <a:lnTo>
                            <a:pt x="34" y="1"/>
                          </a:lnTo>
                          <a:lnTo>
                            <a:pt x="34" y="0"/>
                          </a:lnTo>
                          <a:lnTo>
                            <a:pt x="3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6" name=""/>
                    <p:cNvSpPr/>
                    <p:nvPr/>
                  </p:nvSpPr>
                  <p:spPr>
                    <a:xfrm flipV="1" rot="5400000">
                      <a:off x="13499280" y="20199960"/>
                      <a:ext cx="252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35">
                          <a:moveTo>
                            <a:pt x="0" y="35"/>
                          </a:moveTo>
                          <a:lnTo>
                            <a:pt x="5" y="29"/>
                          </a:lnTo>
                          <a:lnTo>
                            <a:pt x="11" y="23"/>
                          </a:lnTo>
                          <a:lnTo>
                            <a:pt x="17" y="17"/>
                          </a:lnTo>
                          <a:lnTo>
                            <a:pt x="22" y="12"/>
                          </a:lnTo>
                          <a:lnTo>
                            <a:pt x="26" y="8"/>
                          </a:lnTo>
                          <a:lnTo>
                            <a:pt x="30" y="5"/>
                          </a:lnTo>
                          <a:lnTo>
                            <a:pt x="32" y="2"/>
                          </a:lnTo>
                          <a:lnTo>
                            <a:pt x="34" y="1"/>
                          </a:lnTo>
                          <a:lnTo>
                            <a:pt x="34" y="0"/>
                          </a:lnTo>
                          <a:lnTo>
                            <a:pt x="3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7" name=""/>
                    <p:cNvSpPr/>
                    <p:nvPr/>
                  </p:nvSpPr>
                  <p:spPr>
                    <a:xfrm flipV="1" rot="5400000">
                      <a:off x="13368240" y="20202120"/>
                      <a:ext cx="117360" cy="49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520" bIns="2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8" name=""/>
                    <p:cNvSpPr/>
                    <p:nvPr/>
                  </p:nvSpPr>
                  <p:spPr>
                    <a:xfrm flipV="1" rot="5400000">
                      <a:off x="13435560" y="20194560"/>
                      <a:ext cx="101160" cy="65160"/>
                    </a:xfrm>
                    <a:custGeom>
                      <a:avLst/>
                      <a:gdLst>
                        <a:gd name="textAreaLeft" fmla="*/ 22320 w 101160"/>
                        <a:gd name="textAreaRight" fmla="*/ 78840 w 101160"/>
                        <a:gd name="textAreaTop" fmla="*/ 14400 h 65160"/>
                        <a:gd name="textAreaBottom" fmla="*/ 50760 h 651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16200" y="21600"/>
                          </a:lnTo>
                          <a:lnTo>
                            <a:pt x="5400" y="2160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440" bIns="-10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2759" name=""/>
              <p:cNvSpPr/>
              <p:nvPr/>
            </p:nvSpPr>
            <p:spPr>
              <a:xfrm>
                <a:off x="15681960" y="19562760"/>
                <a:ext cx="1163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ASSISTENT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>
                <a:off x="9949680" y="19715040"/>
                <a:ext cx="1287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ATENDIMENT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61" name=""/>
              <p:cNvGrpSpPr/>
              <p:nvPr/>
            </p:nvGrpSpPr>
            <p:grpSpPr>
              <a:xfrm>
                <a:off x="10972800" y="19106640"/>
                <a:ext cx="612000" cy="630720"/>
                <a:chOff x="10972800" y="19106640"/>
                <a:chExt cx="612000" cy="630720"/>
              </a:xfrm>
            </p:grpSpPr>
            <p:sp>
              <p:nvSpPr>
                <p:cNvPr id="2762" name=""/>
                <p:cNvSpPr/>
                <p:nvPr/>
              </p:nvSpPr>
              <p:spPr>
                <a:xfrm flipH="1">
                  <a:off x="10972800" y="19125000"/>
                  <a:ext cx="612000" cy="612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3" name=""/>
                <p:cNvSpPr/>
                <p:nvPr/>
              </p:nvSpPr>
              <p:spPr>
                <a:xfrm flipV="1">
                  <a:off x="11296800" y="19106640"/>
                  <a:ext cx="0" cy="34308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64" name=""/>
              <p:cNvSpPr/>
              <p:nvPr/>
            </p:nvSpPr>
            <p:spPr>
              <a:xfrm>
                <a:off x="8896320" y="18237240"/>
                <a:ext cx="179280" cy="36036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>
                <a:off x="8896320" y="17811720"/>
                <a:ext cx="179280" cy="36036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66" name=""/>
              <p:cNvGrpSpPr/>
              <p:nvPr/>
            </p:nvGrpSpPr>
            <p:grpSpPr>
              <a:xfrm>
                <a:off x="6687720" y="18135360"/>
                <a:ext cx="885960" cy="641520"/>
                <a:chOff x="6687720" y="18135360"/>
                <a:chExt cx="885960" cy="641520"/>
              </a:xfrm>
            </p:grpSpPr>
            <p:grpSp>
              <p:nvGrpSpPr>
                <p:cNvPr id="2767" name=""/>
                <p:cNvGrpSpPr/>
                <p:nvPr/>
              </p:nvGrpSpPr>
              <p:grpSpPr>
                <a:xfrm>
                  <a:off x="7410240" y="18334800"/>
                  <a:ext cx="163440" cy="162360"/>
                  <a:chOff x="7410240" y="18334800"/>
                  <a:chExt cx="163440" cy="162360"/>
                </a:xfrm>
              </p:grpSpPr>
              <p:sp>
                <p:nvSpPr>
                  <p:cNvPr id="2768" name=""/>
                  <p:cNvSpPr/>
                  <p:nvPr/>
                </p:nvSpPr>
                <p:spPr>
                  <a:xfrm flipH="1" flipV="1" rot="16200000">
                    <a:off x="7483680" y="18433800"/>
                    <a:ext cx="36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9" name=""/>
                  <p:cNvSpPr/>
                  <p:nvPr/>
                </p:nvSpPr>
                <p:spPr>
                  <a:xfrm flipH="1" flipV="1" rot="16200000">
                    <a:off x="7483680" y="18446400"/>
                    <a:ext cx="36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0" name=""/>
                  <p:cNvSpPr/>
                  <p:nvPr/>
                </p:nvSpPr>
                <p:spPr>
                  <a:xfrm flipH="1" flipV="1" rot="16200000">
                    <a:off x="7482960" y="18285120"/>
                    <a:ext cx="180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1" name=""/>
                  <p:cNvSpPr/>
                  <p:nvPr/>
                </p:nvSpPr>
                <p:spPr>
                  <a:xfrm flipH="1" flipV="1" rot="16200000">
                    <a:off x="7483320" y="18299160"/>
                    <a:ext cx="144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2" name=""/>
                  <p:cNvSpPr/>
                  <p:nvPr/>
                </p:nvSpPr>
                <p:spPr>
                  <a:xfrm flipH="1" flipV="1" rot="16200000">
                    <a:off x="7470000" y="18320400"/>
                    <a:ext cx="36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925">
                        <a:moveTo>
                          <a:pt x="0" y="0"/>
                        </a:moveTo>
                        <a:lnTo>
                          <a:pt x="18" y="1925"/>
                        </a:lnTo>
                        <a:lnTo>
                          <a:pt x="19" y="1925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3" name=""/>
                  <p:cNvSpPr/>
                  <p:nvPr/>
                </p:nvSpPr>
                <p:spPr>
                  <a:xfrm flipH="1" flipV="1" rot="16200000">
                    <a:off x="7414560" y="18353880"/>
                    <a:ext cx="190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568" h="605">
                        <a:moveTo>
                          <a:pt x="0" y="0"/>
                        </a:moveTo>
                        <a:lnTo>
                          <a:pt x="184" y="396"/>
                        </a:lnTo>
                        <a:lnTo>
                          <a:pt x="567" y="605"/>
                        </a:lnTo>
                        <a:lnTo>
                          <a:pt x="568" y="605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4" name=""/>
                  <p:cNvSpPr/>
                  <p:nvPr/>
                </p:nvSpPr>
                <p:spPr>
                  <a:xfrm flipH="1" flipV="1" rot="16200000">
                    <a:off x="7370280" y="18414000"/>
                    <a:ext cx="824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269" h="103">
                        <a:moveTo>
                          <a:pt x="0" y="2"/>
                        </a:moveTo>
                        <a:lnTo>
                          <a:pt x="1135" y="103"/>
                        </a:lnTo>
                        <a:lnTo>
                          <a:pt x="2268" y="0"/>
                        </a:lnTo>
                        <a:lnTo>
                          <a:pt x="2269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5" name=""/>
                  <p:cNvSpPr/>
                  <p:nvPr/>
                </p:nvSpPr>
                <p:spPr>
                  <a:xfrm flipH="1" flipV="1" rot="16200000">
                    <a:off x="7414560" y="18455400"/>
                    <a:ext cx="190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568" h="605">
                        <a:moveTo>
                          <a:pt x="0" y="605"/>
                        </a:moveTo>
                        <a:lnTo>
                          <a:pt x="382" y="396"/>
                        </a:lnTo>
                        <a:lnTo>
                          <a:pt x="567" y="0"/>
                        </a:lnTo>
                        <a:lnTo>
                          <a:pt x="568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6" name=""/>
                  <p:cNvSpPr/>
                  <p:nvPr/>
                </p:nvSpPr>
                <p:spPr>
                  <a:xfrm flipH="1" flipV="1" rot="16200000">
                    <a:off x="7470000" y="18441000"/>
                    <a:ext cx="36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925">
                        <a:moveTo>
                          <a:pt x="0" y="1925"/>
                        </a:moveTo>
                        <a:lnTo>
                          <a:pt x="16" y="0"/>
                        </a:lnTo>
                        <a:lnTo>
                          <a:pt x="17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7" name=""/>
                  <p:cNvSpPr/>
                  <p:nvPr/>
                </p:nvSpPr>
                <p:spPr>
                  <a:xfrm flipH="1" flipV="1" rot="16200000">
                    <a:off x="7506720" y="18448560"/>
                    <a:ext cx="2556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745" h="787">
                        <a:moveTo>
                          <a:pt x="745" y="787"/>
                        </a:moveTo>
                        <a:lnTo>
                          <a:pt x="623" y="420"/>
                        </a:lnTo>
                        <a:lnTo>
                          <a:pt x="358" y="14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8" name=""/>
                  <p:cNvSpPr/>
                  <p:nvPr/>
                </p:nvSpPr>
                <p:spPr>
                  <a:xfrm flipH="1" flipV="1" rot="16200000">
                    <a:off x="7501320" y="18415800"/>
                    <a:ext cx="698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947" h="77">
                        <a:moveTo>
                          <a:pt x="1947" y="76"/>
                        </a:moveTo>
                        <a:lnTo>
                          <a:pt x="974" y="0"/>
                        </a:lnTo>
                        <a:lnTo>
                          <a:pt x="0" y="77"/>
                        </a:lnTo>
                        <a:lnTo>
                          <a:pt x="1" y="77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9" name=""/>
                  <p:cNvSpPr/>
                  <p:nvPr/>
                </p:nvSpPr>
                <p:spPr>
                  <a:xfrm flipH="1" flipV="1" rot="16200000">
                    <a:off x="7507080" y="18354600"/>
                    <a:ext cx="2520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744" h="788">
                        <a:moveTo>
                          <a:pt x="744" y="0"/>
                        </a:moveTo>
                        <a:lnTo>
                          <a:pt x="386" y="141"/>
                        </a:lnTo>
                        <a:lnTo>
                          <a:pt x="121" y="421"/>
                        </a:lnTo>
                        <a:lnTo>
                          <a:pt x="0" y="788"/>
                        </a:lnTo>
                        <a:lnTo>
                          <a:pt x="1" y="788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0" name=""/>
                  <p:cNvSpPr/>
                  <p:nvPr/>
                </p:nvSpPr>
                <p:spPr>
                  <a:xfrm flipH="1" flipV="1" rot="16200000">
                    <a:off x="7425360" y="18489960"/>
                    <a:ext cx="1260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50" h="0">
                        <a:moveTo>
                          <a:pt x="0" y="0"/>
                        </a:moveTo>
                        <a:lnTo>
                          <a:pt x="349" y="0"/>
                        </a:lnTo>
                        <a:lnTo>
                          <a:pt x="350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1" name=""/>
                  <p:cNvSpPr/>
                  <p:nvPr/>
                </p:nvSpPr>
                <p:spPr>
                  <a:xfrm flipH="1" flipV="1" rot="16200000">
                    <a:off x="7425000" y="18341640"/>
                    <a:ext cx="129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49" h="0">
                        <a:moveTo>
                          <a:pt x="349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2" name=""/>
                  <p:cNvSpPr/>
                  <p:nvPr/>
                </p:nvSpPr>
                <p:spPr>
                  <a:xfrm flipH="1" flipV="1" rot="16200000">
                    <a:off x="7525440" y="18489960"/>
                    <a:ext cx="1260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50" h="0">
                        <a:moveTo>
                          <a:pt x="0" y="0"/>
                        </a:moveTo>
                        <a:lnTo>
                          <a:pt x="349" y="0"/>
                        </a:lnTo>
                        <a:lnTo>
                          <a:pt x="350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3" name=""/>
                  <p:cNvSpPr/>
                  <p:nvPr/>
                </p:nvSpPr>
                <p:spPr>
                  <a:xfrm flipH="1" flipV="1" rot="16200000">
                    <a:off x="7526880" y="18415440"/>
                    <a:ext cx="255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8" h="0">
                        <a:moveTo>
                          <a:pt x="698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4" name=""/>
                  <p:cNvSpPr/>
                  <p:nvPr/>
                </p:nvSpPr>
                <p:spPr>
                  <a:xfrm flipH="1" flipV="1" rot="16200000">
                    <a:off x="7538760" y="18427680"/>
                    <a:ext cx="144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33">
                        <a:moveTo>
                          <a:pt x="0" y="133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5" name=""/>
                  <p:cNvSpPr/>
                  <p:nvPr/>
                </p:nvSpPr>
                <p:spPr>
                  <a:xfrm flipH="1" flipV="1" rot="16200000">
                    <a:off x="7539120" y="18400320"/>
                    <a:ext cx="36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34">
                        <a:moveTo>
                          <a:pt x="0" y="134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6" name=""/>
                  <p:cNvSpPr/>
                  <p:nvPr/>
                </p:nvSpPr>
                <p:spPr>
                  <a:xfrm flipH="1" flipV="1" rot="16200000">
                    <a:off x="7525080" y="18341640"/>
                    <a:ext cx="129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49" h="0">
                        <a:moveTo>
                          <a:pt x="349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7" name=""/>
                  <p:cNvSpPr/>
                  <p:nvPr/>
                </p:nvSpPr>
                <p:spPr>
                  <a:xfrm flipH="1" flipV="1" rot="16200000">
                    <a:off x="7502760" y="18405360"/>
                    <a:ext cx="12060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3444" h="562">
                        <a:moveTo>
                          <a:pt x="3405" y="560"/>
                        </a:moveTo>
                        <a:lnTo>
                          <a:pt x="3444" y="429"/>
                        </a:lnTo>
                        <a:lnTo>
                          <a:pt x="3366" y="316"/>
                        </a:lnTo>
                        <a:lnTo>
                          <a:pt x="2559" y="78"/>
                        </a:lnTo>
                        <a:lnTo>
                          <a:pt x="1722" y="0"/>
                        </a:lnTo>
                        <a:lnTo>
                          <a:pt x="884" y="79"/>
                        </a:lnTo>
                        <a:lnTo>
                          <a:pt x="78" y="318"/>
                        </a:lnTo>
                        <a:lnTo>
                          <a:pt x="0" y="430"/>
                        </a:lnTo>
                        <a:lnTo>
                          <a:pt x="39" y="562"/>
                        </a:lnTo>
                        <a:lnTo>
                          <a:pt x="40" y="562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8" name=""/>
                  <p:cNvSpPr/>
                  <p:nvPr/>
                </p:nvSpPr>
                <p:spPr>
                  <a:xfrm flipH="1" flipV="1" rot="16200000">
                    <a:off x="7490880" y="18401400"/>
                    <a:ext cx="11412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52" h="740">
                        <a:moveTo>
                          <a:pt x="3152" y="738"/>
                        </a:moveTo>
                        <a:lnTo>
                          <a:pt x="3126" y="512"/>
                        </a:lnTo>
                        <a:lnTo>
                          <a:pt x="2966" y="350"/>
                        </a:lnTo>
                        <a:lnTo>
                          <a:pt x="2290" y="101"/>
                        </a:lnTo>
                        <a:lnTo>
                          <a:pt x="1576" y="0"/>
                        </a:lnTo>
                        <a:lnTo>
                          <a:pt x="862" y="102"/>
                        </a:lnTo>
                        <a:lnTo>
                          <a:pt x="186" y="352"/>
                        </a:lnTo>
                        <a:lnTo>
                          <a:pt x="26" y="514"/>
                        </a:lnTo>
                        <a:lnTo>
                          <a:pt x="0" y="740"/>
                        </a:lnTo>
                        <a:lnTo>
                          <a:pt x="1" y="74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9" name=""/>
                  <p:cNvSpPr/>
                  <p:nvPr/>
                </p:nvSpPr>
                <p:spPr>
                  <a:xfrm flipH="1" flipV="1" rot="16200000">
                    <a:off x="7517880" y="18380520"/>
                    <a:ext cx="3492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023" h="298">
                        <a:moveTo>
                          <a:pt x="1023" y="0"/>
                        </a:moveTo>
                        <a:lnTo>
                          <a:pt x="496" y="98"/>
                        </a:lnTo>
                        <a:lnTo>
                          <a:pt x="0" y="298"/>
                        </a:lnTo>
                        <a:lnTo>
                          <a:pt x="2" y="298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0" name=""/>
                  <p:cNvSpPr/>
                  <p:nvPr/>
                </p:nvSpPr>
                <p:spPr>
                  <a:xfrm flipH="1" flipV="1" rot="16200000">
                    <a:off x="7527960" y="18361800"/>
                    <a:ext cx="93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03" h="97">
                        <a:moveTo>
                          <a:pt x="0" y="0"/>
                        </a:moveTo>
                        <a:lnTo>
                          <a:pt x="78" y="97"/>
                        </a:lnTo>
                        <a:lnTo>
                          <a:pt x="201" y="93"/>
                        </a:lnTo>
                        <a:lnTo>
                          <a:pt x="203" y="9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1" name=""/>
                  <p:cNvSpPr/>
                  <p:nvPr/>
                </p:nvSpPr>
                <p:spPr>
                  <a:xfrm flipH="1" flipV="1" rot="16200000">
                    <a:off x="7540200" y="18348840"/>
                    <a:ext cx="32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496">
                        <a:moveTo>
                          <a:pt x="109" y="496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2" name=""/>
                  <p:cNvSpPr/>
                  <p:nvPr/>
                </p:nvSpPr>
                <p:spPr>
                  <a:xfrm flipH="1" flipV="1" rot="16200000">
                    <a:off x="7554600" y="18353160"/>
                    <a:ext cx="14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160">
                        <a:moveTo>
                          <a:pt x="84" y="0"/>
                        </a:moveTo>
                        <a:lnTo>
                          <a:pt x="13" y="64"/>
                        </a:lnTo>
                        <a:lnTo>
                          <a:pt x="0" y="160"/>
                        </a:lnTo>
                        <a:lnTo>
                          <a:pt x="1" y="16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3" name=""/>
                  <p:cNvSpPr/>
                  <p:nvPr/>
                </p:nvSpPr>
                <p:spPr>
                  <a:xfrm flipH="1" flipV="1" rot="16200000">
                    <a:off x="7554240" y="18470880"/>
                    <a:ext cx="18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159">
                        <a:moveTo>
                          <a:pt x="84" y="159"/>
                        </a:moveTo>
                        <a:lnTo>
                          <a:pt x="71" y="64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4" name=""/>
                  <p:cNvSpPr/>
                  <p:nvPr/>
                </p:nvSpPr>
                <p:spPr>
                  <a:xfrm flipH="1" flipV="1" rot="16200000">
                    <a:off x="7540200" y="18466200"/>
                    <a:ext cx="32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496">
                        <a:moveTo>
                          <a:pt x="109" y="0"/>
                        </a:moveTo>
                        <a:lnTo>
                          <a:pt x="0" y="496"/>
                        </a:lnTo>
                        <a:lnTo>
                          <a:pt x="1" y="496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5" name=""/>
                  <p:cNvSpPr/>
                  <p:nvPr/>
                </p:nvSpPr>
                <p:spPr>
                  <a:xfrm flipH="1" flipV="1" rot="16200000">
                    <a:off x="7527960" y="18466560"/>
                    <a:ext cx="93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02" h="98">
                        <a:moveTo>
                          <a:pt x="0" y="94"/>
                        </a:moveTo>
                        <a:lnTo>
                          <a:pt x="124" y="98"/>
                        </a:lnTo>
                        <a:lnTo>
                          <a:pt x="201" y="0"/>
                        </a:lnTo>
                        <a:lnTo>
                          <a:pt x="202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6" name=""/>
                  <p:cNvSpPr/>
                  <p:nvPr/>
                </p:nvSpPr>
                <p:spPr>
                  <a:xfrm flipH="1" flipV="1" rot="16200000">
                    <a:off x="7517880" y="18441000"/>
                    <a:ext cx="3492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021" h="297">
                        <a:moveTo>
                          <a:pt x="1021" y="297"/>
                        </a:moveTo>
                        <a:lnTo>
                          <a:pt x="525" y="97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97" name=""/>
                <p:cNvSpPr/>
                <p:nvPr/>
              </p:nvSpPr>
              <p:spPr>
                <a:xfrm flipH="1" flipV="1" rot="5400000">
                  <a:off x="6978960" y="18207000"/>
                  <a:ext cx="431640" cy="287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8" name=""/>
                <p:cNvSpPr/>
                <p:nvPr/>
              </p:nvSpPr>
              <p:spPr>
                <a:xfrm flipH="1">
                  <a:off x="6796800" y="18383400"/>
                  <a:ext cx="360" cy="99720"/>
                </a:xfrm>
                <a:custGeom>
                  <a:avLst/>
                  <a:gdLst/>
                  <a:ahLst/>
                  <a:rect l="l" t="t" r="r" b="b"/>
                  <a:pathLst>
                    <a:path w="2" h="2733">
                      <a:moveTo>
                        <a:pt x="0" y="0"/>
                      </a:moveTo>
                      <a:lnTo>
                        <a:pt x="1" y="2733"/>
                      </a:lnTo>
                      <a:lnTo>
                        <a:pt x="2" y="2733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9" name=""/>
                <p:cNvSpPr/>
                <p:nvPr/>
              </p:nvSpPr>
              <p:spPr>
                <a:xfrm flipH="1">
                  <a:off x="6783840" y="18383400"/>
                  <a:ext cx="360" cy="99720"/>
                </a:xfrm>
                <a:custGeom>
                  <a:avLst/>
                  <a:gdLst/>
                  <a:ahLst/>
                  <a:rect l="l" t="t" r="r" b="b"/>
                  <a:pathLst>
                    <a:path w="2" h="2733">
                      <a:moveTo>
                        <a:pt x="0" y="0"/>
                      </a:moveTo>
                      <a:lnTo>
                        <a:pt x="1" y="2733"/>
                      </a:lnTo>
                      <a:lnTo>
                        <a:pt x="2" y="2733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0" name=""/>
                <p:cNvSpPr/>
                <p:nvPr/>
              </p:nvSpPr>
              <p:spPr>
                <a:xfrm flipH="1">
                  <a:off x="6945120" y="18383400"/>
                  <a:ext cx="1440" cy="99720"/>
                </a:xfrm>
                <a:custGeom>
                  <a:avLst/>
                  <a:gdLst/>
                  <a:ahLst/>
                  <a:rect l="l" t="t" r="r" b="b"/>
                  <a:pathLst>
                    <a:path w="2" h="2733">
                      <a:moveTo>
                        <a:pt x="0" y="0"/>
                      </a:moveTo>
                      <a:lnTo>
                        <a:pt x="1" y="2733"/>
                      </a:lnTo>
                      <a:lnTo>
                        <a:pt x="2" y="2733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1" name=""/>
                <p:cNvSpPr/>
                <p:nvPr/>
              </p:nvSpPr>
              <p:spPr>
                <a:xfrm flipH="1">
                  <a:off x="6931800" y="18383400"/>
                  <a:ext cx="1800" cy="99720"/>
                </a:xfrm>
                <a:custGeom>
                  <a:avLst/>
                  <a:gdLst/>
                  <a:ahLst/>
                  <a:rect l="l" t="t" r="r" b="b"/>
                  <a:pathLst>
                    <a:path w="2" h="2733">
                      <a:moveTo>
                        <a:pt x="0" y="0"/>
                      </a:moveTo>
                      <a:lnTo>
                        <a:pt x="1" y="2733"/>
                      </a:lnTo>
                      <a:lnTo>
                        <a:pt x="2" y="2733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2" name=""/>
                <p:cNvSpPr/>
                <p:nvPr/>
              </p:nvSpPr>
              <p:spPr>
                <a:xfrm flipH="1">
                  <a:off x="6925320" y="18410400"/>
                  <a:ext cx="360" cy="69840"/>
                </a:xfrm>
                <a:custGeom>
                  <a:avLst/>
                  <a:gdLst/>
                  <a:ahLst/>
                  <a:rect l="l" t="t" r="r" b="b"/>
                  <a:pathLst>
                    <a:path w="19" h="1925">
                      <a:moveTo>
                        <a:pt x="0" y="0"/>
                      </a:moveTo>
                      <a:lnTo>
                        <a:pt x="18" y="1925"/>
                      </a:lnTo>
                      <a:lnTo>
                        <a:pt x="19" y="1925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3" name=""/>
                <p:cNvSpPr/>
                <p:nvPr/>
              </p:nvSpPr>
              <p:spPr>
                <a:xfrm flipH="1">
                  <a:off x="6906600" y="1848024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w="568" h="605">
                      <a:moveTo>
                        <a:pt x="0" y="0"/>
                      </a:moveTo>
                      <a:lnTo>
                        <a:pt x="184" y="396"/>
                      </a:lnTo>
                      <a:lnTo>
                        <a:pt x="567" y="605"/>
                      </a:lnTo>
                      <a:lnTo>
                        <a:pt x="568" y="605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4" name=""/>
                <p:cNvSpPr/>
                <p:nvPr/>
              </p:nvSpPr>
              <p:spPr>
                <a:xfrm flipH="1">
                  <a:off x="6824160" y="18502200"/>
                  <a:ext cx="82440" cy="3240"/>
                </a:xfrm>
                <a:custGeom>
                  <a:avLst/>
                  <a:gdLst/>
                  <a:ahLst/>
                  <a:rect l="l" t="t" r="r" b="b"/>
                  <a:pathLst>
                    <a:path w="2269" h="103">
                      <a:moveTo>
                        <a:pt x="0" y="2"/>
                      </a:moveTo>
                      <a:lnTo>
                        <a:pt x="1135" y="103"/>
                      </a:lnTo>
                      <a:lnTo>
                        <a:pt x="2268" y="0"/>
                      </a:lnTo>
                      <a:lnTo>
                        <a:pt x="2269" y="0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5" name=""/>
                <p:cNvSpPr/>
                <p:nvPr/>
              </p:nvSpPr>
              <p:spPr>
                <a:xfrm flipH="1">
                  <a:off x="6805080" y="1848024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w="568" h="605">
                      <a:moveTo>
                        <a:pt x="0" y="605"/>
                      </a:moveTo>
                      <a:lnTo>
                        <a:pt x="382" y="396"/>
                      </a:lnTo>
                      <a:lnTo>
                        <a:pt x="567" y="0"/>
                      </a:lnTo>
                      <a:lnTo>
                        <a:pt x="568" y="0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6" name=""/>
                <p:cNvSpPr/>
                <p:nvPr/>
              </p:nvSpPr>
              <p:spPr>
                <a:xfrm flipH="1">
                  <a:off x="6804720" y="18410400"/>
                  <a:ext cx="360" cy="69840"/>
                </a:xfrm>
                <a:custGeom>
                  <a:avLst/>
                  <a:gdLst/>
                  <a:ahLst/>
                  <a:rect l="l" t="t" r="r" b="b"/>
                  <a:pathLst>
                    <a:path w="17" h="1925">
                      <a:moveTo>
                        <a:pt x="0" y="1925"/>
                      </a:moveTo>
                      <a:lnTo>
                        <a:pt x="16" y="0"/>
                      </a:lnTo>
                      <a:lnTo>
                        <a:pt x="17" y="0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7" name=""/>
                <p:cNvSpPr/>
                <p:nvPr/>
              </p:nvSpPr>
              <p:spPr>
                <a:xfrm flipH="1">
                  <a:off x="6805440" y="18381600"/>
                  <a:ext cx="25200" cy="28800"/>
                </a:xfrm>
                <a:custGeom>
                  <a:avLst/>
                  <a:gdLst/>
                  <a:ahLst/>
                  <a:rect l="l" t="t" r="r" b="b"/>
                  <a:pathLst>
                    <a:path w="745" h="787">
                      <a:moveTo>
                        <a:pt x="745" y="787"/>
                      </a:moveTo>
                      <a:lnTo>
                        <a:pt x="623" y="420"/>
                      </a:lnTo>
                      <a:lnTo>
                        <a:pt x="358" y="140"/>
                      </a:lnTo>
                      <a:lnTo>
                        <a:pt x="0" y="0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8" name=""/>
                <p:cNvSpPr/>
                <p:nvPr/>
              </p:nvSpPr>
              <p:spPr>
                <a:xfrm flipH="1">
                  <a:off x="6830640" y="18380160"/>
                  <a:ext cx="69840" cy="1440"/>
                </a:xfrm>
                <a:custGeom>
                  <a:avLst/>
                  <a:gdLst/>
                  <a:ahLst/>
                  <a:rect l="l" t="t" r="r" b="b"/>
                  <a:pathLst>
                    <a:path w="1947" h="77">
                      <a:moveTo>
                        <a:pt x="1947" y="76"/>
                      </a:moveTo>
                      <a:lnTo>
                        <a:pt x="974" y="0"/>
                      </a:lnTo>
                      <a:lnTo>
                        <a:pt x="0" y="77"/>
                      </a:lnTo>
                      <a:lnTo>
                        <a:pt x="1" y="77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9" name=""/>
                <p:cNvSpPr/>
                <p:nvPr/>
              </p:nvSpPr>
              <p:spPr>
                <a:xfrm flipH="1">
                  <a:off x="6900120" y="18381600"/>
                  <a:ext cx="25560" cy="28800"/>
                </a:xfrm>
                <a:custGeom>
                  <a:avLst/>
                  <a:gdLst/>
                  <a:ahLst/>
                  <a:rect l="l" t="t" r="r" b="b"/>
                  <a:pathLst>
                    <a:path w="744" h="788">
                      <a:moveTo>
                        <a:pt x="744" y="0"/>
                      </a:moveTo>
                      <a:lnTo>
                        <a:pt x="386" y="141"/>
                      </a:lnTo>
                      <a:lnTo>
                        <a:pt x="121" y="421"/>
                      </a:lnTo>
                      <a:lnTo>
                        <a:pt x="0" y="788"/>
                      </a:lnTo>
                      <a:lnTo>
                        <a:pt x="1" y="788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0" name=""/>
                <p:cNvSpPr/>
                <p:nvPr/>
              </p:nvSpPr>
              <p:spPr>
                <a:xfrm flipH="1">
                  <a:off x="6784560" y="18483120"/>
                  <a:ext cx="12960" cy="360"/>
                </a:xfrm>
                <a:custGeom>
                  <a:avLst/>
                  <a:gdLst/>
                  <a:ahLst/>
                  <a:rect l="l" t="t" r="r" b="b"/>
                  <a:pathLst>
                    <a:path w="350" h="0">
                      <a:moveTo>
                        <a:pt x="0" y="0"/>
                      </a:moveTo>
                      <a:lnTo>
                        <a:pt x="349" y="0"/>
                      </a:lnTo>
                      <a:lnTo>
                        <a:pt x="350" y="0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1" name=""/>
                <p:cNvSpPr/>
                <p:nvPr/>
              </p:nvSpPr>
              <p:spPr>
                <a:xfrm flipH="1">
                  <a:off x="6933600" y="18483120"/>
                  <a:ext cx="12600" cy="360"/>
                </a:xfrm>
                <a:custGeom>
                  <a:avLst/>
                  <a:gdLst/>
                  <a:ahLst/>
                  <a:rect l="l" t="t" r="r" b="b"/>
                  <a:pathLst>
                    <a:path w="349" h="0">
                      <a:moveTo>
                        <a:pt x="349" y="0"/>
                      </a:moveTo>
                      <a:lnTo>
                        <a:pt x="0" y="0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2" name=""/>
                <p:cNvSpPr/>
                <p:nvPr/>
              </p:nvSpPr>
              <p:spPr>
                <a:xfrm flipH="1">
                  <a:off x="6784560" y="18383400"/>
                  <a:ext cx="12960" cy="360"/>
                </a:xfrm>
                <a:custGeom>
                  <a:avLst/>
                  <a:gdLst/>
                  <a:ahLst/>
                  <a:rect l="l" t="t" r="r" b="b"/>
                  <a:pathLst>
                    <a:path w="350" h="0">
                      <a:moveTo>
                        <a:pt x="0" y="0"/>
                      </a:moveTo>
                      <a:lnTo>
                        <a:pt x="349" y="0"/>
                      </a:lnTo>
                      <a:lnTo>
                        <a:pt x="350" y="0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3" name=""/>
                <p:cNvSpPr/>
                <p:nvPr/>
              </p:nvSpPr>
              <p:spPr>
                <a:xfrm flipH="1">
                  <a:off x="6852960" y="18375480"/>
                  <a:ext cx="25200" cy="360"/>
                </a:xfrm>
                <a:custGeom>
                  <a:avLst/>
                  <a:gdLst/>
                  <a:ahLst/>
                  <a:rect l="l" t="t" r="r" b="b"/>
                  <a:pathLst>
                    <a:path w="698" h="0">
                      <a:moveTo>
                        <a:pt x="698" y="0"/>
                      </a:moveTo>
                      <a:lnTo>
                        <a:pt x="0" y="0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4" name=""/>
                <p:cNvSpPr/>
                <p:nvPr/>
              </p:nvSpPr>
              <p:spPr>
                <a:xfrm flipH="1">
                  <a:off x="6850800" y="18375480"/>
                  <a:ext cx="1800" cy="4680"/>
                </a:xfrm>
                <a:custGeom>
                  <a:avLst/>
                  <a:gdLst/>
                  <a:ahLst/>
                  <a:rect l="l" t="t" r="r" b="b"/>
                  <a:pathLst>
                    <a:path w="1" h="133">
                      <a:moveTo>
                        <a:pt x="0" y="133"/>
                      </a:moveTo>
                      <a:lnTo>
                        <a:pt x="0" y="0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5" name=""/>
                <p:cNvSpPr/>
                <p:nvPr/>
              </p:nvSpPr>
              <p:spPr>
                <a:xfrm flipH="1">
                  <a:off x="6877440" y="18375480"/>
                  <a:ext cx="360" cy="4680"/>
                </a:xfrm>
                <a:custGeom>
                  <a:avLst/>
                  <a:gdLst/>
                  <a:ahLst/>
                  <a:rect l="l" t="t" r="r" b="b"/>
                  <a:pathLst>
                    <a:path w="1" h="134">
                      <a:moveTo>
                        <a:pt x="0" y="134"/>
                      </a:moveTo>
                      <a:lnTo>
                        <a:pt x="0" y="0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6" name=""/>
                <p:cNvSpPr/>
                <p:nvPr/>
              </p:nvSpPr>
              <p:spPr>
                <a:xfrm flipH="1">
                  <a:off x="6933600" y="18383400"/>
                  <a:ext cx="12600" cy="360"/>
                </a:xfrm>
                <a:custGeom>
                  <a:avLst/>
                  <a:gdLst/>
                  <a:ahLst/>
                  <a:rect l="l" t="t" r="r" b="b"/>
                  <a:pathLst>
                    <a:path w="349" h="0">
                      <a:moveTo>
                        <a:pt x="349" y="0"/>
                      </a:moveTo>
                      <a:lnTo>
                        <a:pt x="0" y="0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7" name=""/>
                <p:cNvSpPr/>
                <p:nvPr/>
              </p:nvSpPr>
              <p:spPr>
                <a:xfrm flipH="1">
                  <a:off x="6805080" y="18343440"/>
                  <a:ext cx="120600" cy="20880"/>
                </a:xfrm>
                <a:custGeom>
                  <a:avLst/>
                  <a:gdLst/>
                  <a:ahLst/>
                  <a:rect l="l" t="t" r="r" b="b"/>
                  <a:pathLst>
                    <a:path w="3444" h="562">
                      <a:moveTo>
                        <a:pt x="3405" y="560"/>
                      </a:moveTo>
                      <a:lnTo>
                        <a:pt x="3444" y="429"/>
                      </a:lnTo>
                      <a:lnTo>
                        <a:pt x="3366" y="316"/>
                      </a:lnTo>
                      <a:lnTo>
                        <a:pt x="2559" y="78"/>
                      </a:lnTo>
                      <a:lnTo>
                        <a:pt x="1722" y="0"/>
                      </a:lnTo>
                      <a:lnTo>
                        <a:pt x="884" y="79"/>
                      </a:lnTo>
                      <a:lnTo>
                        <a:pt x="78" y="318"/>
                      </a:lnTo>
                      <a:lnTo>
                        <a:pt x="0" y="430"/>
                      </a:lnTo>
                      <a:lnTo>
                        <a:pt x="39" y="562"/>
                      </a:lnTo>
                      <a:lnTo>
                        <a:pt x="40" y="562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8" name=""/>
                <p:cNvSpPr/>
                <p:nvPr/>
              </p:nvSpPr>
              <p:spPr>
                <a:xfrm flipH="1">
                  <a:off x="6808320" y="18353160"/>
                  <a:ext cx="114480" cy="28440"/>
                </a:xfrm>
                <a:custGeom>
                  <a:avLst/>
                  <a:gdLst/>
                  <a:ahLst/>
                  <a:rect l="l" t="t" r="r" b="b"/>
                  <a:pathLst>
                    <a:path w="3152" h="740">
                      <a:moveTo>
                        <a:pt x="3152" y="738"/>
                      </a:moveTo>
                      <a:lnTo>
                        <a:pt x="3126" y="512"/>
                      </a:lnTo>
                      <a:lnTo>
                        <a:pt x="2966" y="350"/>
                      </a:lnTo>
                      <a:lnTo>
                        <a:pt x="2290" y="101"/>
                      </a:lnTo>
                      <a:lnTo>
                        <a:pt x="1576" y="0"/>
                      </a:lnTo>
                      <a:lnTo>
                        <a:pt x="862" y="102"/>
                      </a:lnTo>
                      <a:lnTo>
                        <a:pt x="186" y="352"/>
                      </a:lnTo>
                      <a:lnTo>
                        <a:pt x="26" y="514"/>
                      </a:lnTo>
                      <a:lnTo>
                        <a:pt x="0" y="740"/>
                      </a:lnTo>
                      <a:lnTo>
                        <a:pt x="1" y="740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9" name=""/>
                <p:cNvSpPr/>
                <p:nvPr/>
              </p:nvSpPr>
              <p:spPr>
                <a:xfrm flipH="1">
                  <a:off x="6877800" y="18375480"/>
                  <a:ext cx="34920" cy="9360"/>
                </a:xfrm>
                <a:custGeom>
                  <a:avLst/>
                  <a:gdLst/>
                  <a:ahLst/>
                  <a:rect l="l" t="t" r="r" b="b"/>
                  <a:pathLst>
                    <a:path w="1023" h="298">
                      <a:moveTo>
                        <a:pt x="1023" y="0"/>
                      </a:moveTo>
                      <a:lnTo>
                        <a:pt x="496" y="98"/>
                      </a:lnTo>
                      <a:lnTo>
                        <a:pt x="0" y="298"/>
                      </a:lnTo>
                      <a:lnTo>
                        <a:pt x="2" y="298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0" name=""/>
                <p:cNvSpPr/>
                <p:nvPr/>
              </p:nvSpPr>
              <p:spPr>
                <a:xfrm flipH="1">
                  <a:off x="6912720" y="18381600"/>
                  <a:ext cx="9720" cy="4680"/>
                </a:xfrm>
                <a:custGeom>
                  <a:avLst/>
                  <a:gdLst/>
                  <a:ahLst/>
                  <a:rect l="l" t="t" r="r" b="b"/>
                  <a:pathLst>
                    <a:path w="203" h="97">
                      <a:moveTo>
                        <a:pt x="0" y="0"/>
                      </a:moveTo>
                      <a:lnTo>
                        <a:pt x="78" y="97"/>
                      </a:lnTo>
                      <a:lnTo>
                        <a:pt x="201" y="93"/>
                      </a:lnTo>
                      <a:lnTo>
                        <a:pt x="203" y="93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1" name=""/>
                <p:cNvSpPr/>
                <p:nvPr/>
              </p:nvSpPr>
              <p:spPr>
                <a:xfrm flipH="1">
                  <a:off x="6922440" y="18365760"/>
                  <a:ext cx="3240" cy="15840"/>
                </a:xfrm>
                <a:custGeom>
                  <a:avLst/>
                  <a:gdLst/>
                  <a:ahLst/>
                  <a:rect l="l" t="t" r="r" b="b"/>
                  <a:pathLst>
                    <a:path w="109" h="496">
                      <a:moveTo>
                        <a:pt x="109" y="496"/>
                      </a:moveTo>
                      <a:lnTo>
                        <a:pt x="0" y="0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2" name=""/>
                <p:cNvSpPr/>
                <p:nvPr/>
              </p:nvSpPr>
              <p:spPr>
                <a:xfrm flipH="1">
                  <a:off x="6923880" y="18357840"/>
                  <a:ext cx="1800" cy="7920"/>
                </a:xfrm>
                <a:custGeom>
                  <a:avLst/>
                  <a:gdLst/>
                  <a:ahLst/>
                  <a:rect l="l" t="t" r="r" b="b"/>
                  <a:pathLst>
                    <a:path w="84" h="160">
                      <a:moveTo>
                        <a:pt x="84" y="0"/>
                      </a:moveTo>
                      <a:lnTo>
                        <a:pt x="13" y="64"/>
                      </a:lnTo>
                      <a:lnTo>
                        <a:pt x="0" y="160"/>
                      </a:lnTo>
                      <a:lnTo>
                        <a:pt x="1" y="160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3" name=""/>
                <p:cNvSpPr/>
                <p:nvPr/>
              </p:nvSpPr>
              <p:spPr>
                <a:xfrm flipH="1">
                  <a:off x="6805440" y="18357840"/>
                  <a:ext cx="1440" cy="7920"/>
                </a:xfrm>
                <a:custGeom>
                  <a:avLst/>
                  <a:gdLst/>
                  <a:ahLst/>
                  <a:rect l="l" t="t" r="r" b="b"/>
                  <a:pathLst>
                    <a:path w="84" h="159">
                      <a:moveTo>
                        <a:pt x="84" y="159"/>
                      </a:moveTo>
                      <a:lnTo>
                        <a:pt x="71" y="64"/>
                      </a:lnTo>
                      <a:lnTo>
                        <a:pt x="0" y="0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4" name=""/>
                <p:cNvSpPr/>
                <p:nvPr/>
              </p:nvSpPr>
              <p:spPr>
                <a:xfrm flipH="1">
                  <a:off x="6805440" y="18365760"/>
                  <a:ext cx="2880" cy="15840"/>
                </a:xfrm>
                <a:custGeom>
                  <a:avLst/>
                  <a:gdLst/>
                  <a:ahLst/>
                  <a:rect l="l" t="t" r="r" b="b"/>
                  <a:pathLst>
                    <a:path w="109" h="496">
                      <a:moveTo>
                        <a:pt x="109" y="0"/>
                      </a:moveTo>
                      <a:lnTo>
                        <a:pt x="0" y="496"/>
                      </a:lnTo>
                      <a:lnTo>
                        <a:pt x="1" y="496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5" name=""/>
                <p:cNvSpPr/>
                <p:nvPr/>
              </p:nvSpPr>
              <p:spPr>
                <a:xfrm flipH="1">
                  <a:off x="6807960" y="18381600"/>
                  <a:ext cx="9720" cy="4680"/>
                </a:xfrm>
                <a:custGeom>
                  <a:avLst/>
                  <a:gdLst/>
                  <a:ahLst/>
                  <a:rect l="l" t="t" r="r" b="b"/>
                  <a:pathLst>
                    <a:path w="202" h="98">
                      <a:moveTo>
                        <a:pt x="0" y="94"/>
                      </a:moveTo>
                      <a:lnTo>
                        <a:pt x="124" y="98"/>
                      </a:lnTo>
                      <a:lnTo>
                        <a:pt x="201" y="0"/>
                      </a:lnTo>
                      <a:lnTo>
                        <a:pt x="202" y="0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6" name=""/>
                <p:cNvSpPr/>
                <p:nvPr/>
              </p:nvSpPr>
              <p:spPr>
                <a:xfrm flipH="1">
                  <a:off x="6817680" y="18375480"/>
                  <a:ext cx="34920" cy="9360"/>
                </a:xfrm>
                <a:custGeom>
                  <a:avLst/>
                  <a:gdLst/>
                  <a:ahLst/>
                  <a:rect l="l" t="t" r="r" b="b"/>
                  <a:pathLst>
                    <a:path w="1021" h="297">
                      <a:moveTo>
                        <a:pt x="1021" y="297"/>
                      </a:moveTo>
                      <a:lnTo>
                        <a:pt x="525" y="97"/>
                      </a:lnTo>
                      <a:lnTo>
                        <a:pt x="0" y="0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7" name=""/>
                <p:cNvSpPr/>
                <p:nvPr/>
              </p:nvSpPr>
              <p:spPr>
                <a:xfrm flipH="1">
                  <a:off x="6760440" y="18494280"/>
                  <a:ext cx="219240" cy="6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8" name=""/>
                <p:cNvSpPr/>
                <p:nvPr/>
              </p:nvSpPr>
              <p:spPr>
                <a:xfrm flipH="1">
                  <a:off x="6810120" y="18505440"/>
                  <a:ext cx="131760" cy="4788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9" name=""/>
                <p:cNvSpPr/>
                <p:nvPr/>
              </p:nvSpPr>
              <p:spPr>
                <a:xfrm flipH="1">
                  <a:off x="6919560" y="18513360"/>
                  <a:ext cx="15840" cy="3348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0" name=""/>
                <p:cNvSpPr/>
                <p:nvPr/>
              </p:nvSpPr>
              <p:spPr>
                <a:xfrm flipH="1">
                  <a:off x="6815880" y="18513360"/>
                  <a:ext cx="96840" cy="3348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1" name=""/>
                <p:cNvSpPr/>
                <p:nvPr/>
              </p:nvSpPr>
              <p:spPr>
                <a:xfrm flipH="1">
                  <a:off x="6687360" y="18561240"/>
                  <a:ext cx="360360" cy="2156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2" name=""/>
                <p:cNvSpPr/>
                <p:nvPr/>
              </p:nvSpPr>
              <p:spPr>
                <a:xfrm flipH="1" rot="19848600">
                  <a:off x="6976440" y="18595800"/>
                  <a:ext cx="22320" cy="31680"/>
                </a:xfrm>
                <a:prstGeom prst="ellipse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3" name=""/>
                <p:cNvSpPr/>
                <p:nvPr/>
              </p:nvSpPr>
              <p:spPr>
                <a:xfrm flipH="1">
                  <a:off x="6959160" y="18581760"/>
                  <a:ext cx="68400" cy="6660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4" name=""/>
                <p:cNvSpPr/>
                <p:nvPr/>
              </p:nvSpPr>
              <p:spPr>
                <a:xfrm flipH="1">
                  <a:off x="6791040" y="18585000"/>
                  <a:ext cx="133200" cy="1458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35" name=""/>
                <p:cNvGrpSpPr/>
                <p:nvPr/>
              </p:nvGrpSpPr>
              <p:grpSpPr>
                <a:xfrm>
                  <a:off x="6798960" y="18605520"/>
                  <a:ext cx="117360" cy="117000"/>
                  <a:chOff x="6798960" y="18605520"/>
                  <a:chExt cx="117360" cy="117000"/>
                </a:xfrm>
              </p:grpSpPr>
              <p:sp>
                <p:nvSpPr>
                  <p:cNvPr id="2836" name=""/>
                  <p:cNvSpPr/>
                  <p:nvPr/>
                </p:nvSpPr>
                <p:spPr>
                  <a:xfrm flipH="1">
                    <a:off x="6882120" y="18703800"/>
                    <a:ext cx="252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35">
                        <a:moveTo>
                          <a:pt x="0" y="35"/>
                        </a:moveTo>
                        <a:lnTo>
                          <a:pt x="5" y="29"/>
                        </a:lnTo>
                        <a:lnTo>
                          <a:pt x="11" y="23"/>
                        </a:lnTo>
                        <a:lnTo>
                          <a:pt x="17" y="17"/>
                        </a:lnTo>
                        <a:lnTo>
                          <a:pt x="22" y="12"/>
                        </a:lnTo>
                        <a:lnTo>
                          <a:pt x="26" y="8"/>
                        </a:lnTo>
                        <a:lnTo>
                          <a:pt x="30" y="5"/>
                        </a:lnTo>
                        <a:lnTo>
                          <a:pt x="32" y="2"/>
                        </a:lnTo>
                        <a:lnTo>
                          <a:pt x="34" y="1"/>
                        </a:lnTo>
                        <a:lnTo>
                          <a:pt x="34" y="0"/>
                        </a:lnTo>
                        <a:lnTo>
                          <a:pt x="35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7" name=""/>
                  <p:cNvSpPr/>
                  <p:nvPr/>
                </p:nvSpPr>
                <p:spPr>
                  <a:xfrm flipH="1">
                    <a:off x="6882120" y="18703800"/>
                    <a:ext cx="252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35">
                        <a:moveTo>
                          <a:pt x="0" y="35"/>
                        </a:moveTo>
                        <a:lnTo>
                          <a:pt x="5" y="29"/>
                        </a:lnTo>
                        <a:lnTo>
                          <a:pt x="11" y="23"/>
                        </a:lnTo>
                        <a:lnTo>
                          <a:pt x="17" y="17"/>
                        </a:lnTo>
                        <a:lnTo>
                          <a:pt x="22" y="12"/>
                        </a:lnTo>
                        <a:lnTo>
                          <a:pt x="26" y="8"/>
                        </a:lnTo>
                        <a:lnTo>
                          <a:pt x="30" y="5"/>
                        </a:lnTo>
                        <a:lnTo>
                          <a:pt x="32" y="2"/>
                        </a:lnTo>
                        <a:lnTo>
                          <a:pt x="34" y="1"/>
                        </a:lnTo>
                        <a:lnTo>
                          <a:pt x="34" y="0"/>
                        </a:lnTo>
                        <a:lnTo>
                          <a:pt x="35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8" name=""/>
                  <p:cNvSpPr/>
                  <p:nvPr/>
                </p:nvSpPr>
                <p:spPr>
                  <a:xfrm flipH="1">
                    <a:off x="6798960" y="18605520"/>
                    <a:ext cx="117360" cy="4968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80" bIns="2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9" name=""/>
                  <p:cNvSpPr/>
                  <p:nvPr/>
                </p:nvSpPr>
                <p:spPr>
                  <a:xfrm flipH="1">
                    <a:off x="6806160" y="18657000"/>
                    <a:ext cx="101160" cy="65520"/>
                  </a:xfrm>
                  <a:custGeom>
                    <a:avLst/>
                    <a:gdLst>
                      <a:gd name="textAreaLeft" fmla="*/ 22320 w 101160"/>
                      <a:gd name="textAreaRight" fmla="*/ 78840 w 101160"/>
                      <a:gd name="textAreaTop" fmla="*/ 14400 h 65520"/>
                      <a:gd name="textAreaBottom" fmla="*/ 51120 h 655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080" bIns="-10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40" name=""/>
              <p:cNvGrpSpPr/>
              <p:nvPr/>
            </p:nvGrpSpPr>
            <p:grpSpPr>
              <a:xfrm>
                <a:off x="6687720" y="18821160"/>
                <a:ext cx="885960" cy="641520"/>
                <a:chOff x="6687720" y="18821160"/>
                <a:chExt cx="885960" cy="641520"/>
              </a:xfrm>
            </p:grpSpPr>
            <p:grpSp>
              <p:nvGrpSpPr>
                <p:cNvPr id="2841" name=""/>
                <p:cNvGrpSpPr/>
                <p:nvPr/>
              </p:nvGrpSpPr>
              <p:grpSpPr>
                <a:xfrm>
                  <a:off x="7410240" y="19100880"/>
                  <a:ext cx="163440" cy="162360"/>
                  <a:chOff x="7410240" y="19100880"/>
                  <a:chExt cx="163440" cy="162360"/>
                </a:xfrm>
              </p:grpSpPr>
              <p:sp>
                <p:nvSpPr>
                  <p:cNvPr id="2842" name=""/>
                  <p:cNvSpPr/>
                  <p:nvPr/>
                </p:nvSpPr>
                <p:spPr>
                  <a:xfrm flipH="1" rot="5400000">
                    <a:off x="7483680" y="19063440"/>
                    <a:ext cx="36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3" name=""/>
                  <p:cNvSpPr/>
                  <p:nvPr/>
                </p:nvSpPr>
                <p:spPr>
                  <a:xfrm flipH="1" rot="5400000">
                    <a:off x="7483680" y="19050840"/>
                    <a:ext cx="36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4" name=""/>
                  <p:cNvSpPr/>
                  <p:nvPr/>
                </p:nvSpPr>
                <p:spPr>
                  <a:xfrm flipH="1" rot="5400000">
                    <a:off x="7482960" y="19212120"/>
                    <a:ext cx="180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5" name=""/>
                  <p:cNvSpPr/>
                  <p:nvPr/>
                </p:nvSpPr>
                <p:spPr>
                  <a:xfrm flipH="1" rot="5400000">
                    <a:off x="7483320" y="19198800"/>
                    <a:ext cx="144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6" name=""/>
                  <p:cNvSpPr/>
                  <p:nvPr/>
                </p:nvSpPr>
                <p:spPr>
                  <a:xfrm flipH="1" rot="5400000">
                    <a:off x="7470000" y="19207080"/>
                    <a:ext cx="36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925">
                        <a:moveTo>
                          <a:pt x="0" y="0"/>
                        </a:moveTo>
                        <a:lnTo>
                          <a:pt x="18" y="1925"/>
                        </a:lnTo>
                        <a:lnTo>
                          <a:pt x="19" y="1925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7" name=""/>
                  <p:cNvSpPr/>
                  <p:nvPr/>
                </p:nvSpPr>
                <p:spPr>
                  <a:xfrm flipH="1" rot="5400000">
                    <a:off x="7414560" y="19221840"/>
                    <a:ext cx="190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568" h="605">
                        <a:moveTo>
                          <a:pt x="0" y="0"/>
                        </a:moveTo>
                        <a:lnTo>
                          <a:pt x="184" y="396"/>
                        </a:lnTo>
                        <a:lnTo>
                          <a:pt x="567" y="605"/>
                        </a:lnTo>
                        <a:lnTo>
                          <a:pt x="568" y="605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8" name=""/>
                  <p:cNvSpPr/>
                  <p:nvPr/>
                </p:nvSpPr>
                <p:spPr>
                  <a:xfrm flipH="1" rot="5400000">
                    <a:off x="7370280" y="19180440"/>
                    <a:ext cx="824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269" h="103">
                        <a:moveTo>
                          <a:pt x="0" y="2"/>
                        </a:moveTo>
                        <a:lnTo>
                          <a:pt x="1135" y="103"/>
                        </a:lnTo>
                        <a:lnTo>
                          <a:pt x="2268" y="0"/>
                        </a:lnTo>
                        <a:lnTo>
                          <a:pt x="2269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9" name=""/>
                  <p:cNvSpPr/>
                  <p:nvPr/>
                </p:nvSpPr>
                <p:spPr>
                  <a:xfrm flipH="1" rot="5400000">
                    <a:off x="7414560" y="19120320"/>
                    <a:ext cx="190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568" h="605">
                        <a:moveTo>
                          <a:pt x="0" y="605"/>
                        </a:moveTo>
                        <a:lnTo>
                          <a:pt x="382" y="396"/>
                        </a:lnTo>
                        <a:lnTo>
                          <a:pt x="567" y="0"/>
                        </a:lnTo>
                        <a:lnTo>
                          <a:pt x="568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0" name=""/>
                  <p:cNvSpPr/>
                  <p:nvPr/>
                </p:nvSpPr>
                <p:spPr>
                  <a:xfrm flipH="1" rot="5400000">
                    <a:off x="7470000" y="19086480"/>
                    <a:ext cx="36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925">
                        <a:moveTo>
                          <a:pt x="0" y="1925"/>
                        </a:moveTo>
                        <a:lnTo>
                          <a:pt x="16" y="0"/>
                        </a:lnTo>
                        <a:lnTo>
                          <a:pt x="17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1" name=""/>
                  <p:cNvSpPr/>
                  <p:nvPr/>
                </p:nvSpPr>
                <p:spPr>
                  <a:xfrm flipH="1" rot="5400000">
                    <a:off x="7506720" y="19119960"/>
                    <a:ext cx="2556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745" h="787">
                        <a:moveTo>
                          <a:pt x="745" y="787"/>
                        </a:moveTo>
                        <a:lnTo>
                          <a:pt x="623" y="420"/>
                        </a:lnTo>
                        <a:lnTo>
                          <a:pt x="358" y="14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2" name=""/>
                  <p:cNvSpPr/>
                  <p:nvPr/>
                </p:nvSpPr>
                <p:spPr>
                  <a:xfrm flipH="1" rot="5400000">
                    <a:off x="7501320" y="19180800"/>
                    <a:ext cx="698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947" h="77">
                        <a:moveTo>
                          <a:pt x="1947" y="76"/>
                        </a:moveTo>
                        <a:lnTo>
                          <a:pt x="974" y="0"/>
                        </a:lnTo>
                        <a:lnTo>
                          <a:pt x="0" y="77"/>
                        </a:lnTo>
                        <a:lnTo>
                          <a:pt x="1" y="77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3" name=""/>
                  <p:cNvSpPr/>
                  <p:nvPr/>
                </p:nvSpPr>
                <p:spPr>
                  <a:xfrm flipH="1" rot="5400000">
                    <a:off x="7507080" y="19214640"/>
                    <a:ext cx="2520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744" h="788">
                        <a:moveTo>
                          <a:pt x="744" y="0"/>
                        </a:moveTo>
                        <a:lnTo>
                          <a:pt x="386" y="141"/>
                        </a:lnTo>
                        <a:lnTo>
                          <a:pt x="121" y="421"/>
                        </a:lnTo>
                        <a:lnTo>
                          <a:pt x="0" y="788"/>
                        </a:lnTo>
                        <a:lnTo>
                          <a:pt x="1" y="788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4" name=""/>
                  <p:cNvSpPr/>
                  <p:nvPr/>
                </p:nvSpPr>
                <p:spPr>
                  <a:xfrm flipH="1" rot="5400000">
                    <a:off x="7425360" y="19107360"/>
                    <a:ext cx="1260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50" h="0">
                        <a:moveTo>
                          <a:pt x="0" y="0"/>
                        </a:moveTo>
                        <a:lnTo>
                          <a:pt x="349" y="0"/>
                        </a:lnTo>
                        <a:lnTo>
                          <a:pt x="350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5" name=""/>
                  <p:cNvSpPr/>
                  <p:nvPr/>
                </p:nvSpPr>
                <p:spPr>
                  <a:xfrm flipH="1" rot="5400000">
                    <a:off x="7425000" y="19255680"/>
                    <a:ext cx="129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49" h="0">
                        <a:moveTo>
                          <a:pt x="349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6" name=""/>
                  <p:cNvSpPr/>
                  <p:nvPr/>
                </p:nvSpPr>
                <p:spPr>
                  <a:xfrm flipH="1" rot="5400000">
                    <a:off x="7525440" y="19107360"/>
                    <a:ext cx="1260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50" h="0">
                        <a:moveTo>
                          <a:pt x="0" y="0"/>
                        </a:moveTo>
                        <a:lnTo>
                          <a:pt x="349" y="0"/>
                        </a:lnTo>
                        <a:lnTo>
                          <a:pt x="350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7" name=""/>
                  <p:cNvSpPr/>
                  <p:nvPr/>
                </p:nvSpPr>
                <p:spPr>
                  <a:xfrm flipH="1" rot="5400000">
                    <a:off x="7526880" y="19181880"/>
                    <a:ext cx="255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8" h="0">
                        <a:moveTo>
                          <a:pt x="698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8" name=""/>
                  <p:cNvSpPr/>
                  <p:nvPr/>
                </p:nvSpPr>
                <p:spPr>
                  <a:xfrm flipH="1" rot="5400000">
                    <a:off x="7538760" y="19165320"/>
                    <a:ext cx="144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33">
                        <a:moveTo>
                          <a:pt x="0" y="133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9" name=""/>
                  <p:cNvSpPr/>
                  <p:nvPr/>
                </p:nvSpPr>
                <p:spPr>
                  <a:xfrm flipH="1" rot="5400000">
                    <a:off x="7539120" y="19191960"/>
                    <a:ext cx="36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34">
                        <a:moveTo>
                          <a:pt x="0" y="134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0" name=""/>
                  <p:cNvSpPr/>
                  <p:nvPr/>
                </p:nvSpPr>
                <p:spPr>
                  <a:xfrm flipH="1" rot="5400000">
                    <a:off x="7525080" y="19255680"/>
                    <a:ext cx="129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49" h="0">
                        <a:moveTo>
                          <a:pt x="349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1" name=""/>
                  <p:cNvSpPr/>
                  <p:nvPr/>
                </p:nvSpPr>
                <p:spPr>
                  <a:xfrm flipH="1" rot="5400000">
                    <a:off x="7502760" y="19171800"/>
                    <a:ext cx="12060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3444" h="562">
                        <a:moveTo>
                          <a:pt x="3405" y="560"/>
                        </a:moveTo>
                        <a:lnTo>
                          <a:pt x="3444" y="429"/>
                        </a:lnTo>
                        <a:lnTo>
                          <a:pt x="3366" y="316"/>
                        </a:lnTo>
                        <a:lnTo>
                          <a:pt x="2559" y="78"/>
                        </a:lnTo>
                        <a:lnTo>
                          <a:pt x="1722" y="0"/>
                        </a:lnTo>
                        <a:lnTo>
                          <a:pt x="884" y="79"/>
                        </a:lnTo>
                        <a:lnTo>
                          <a:pt x="78" y="318"/>
                        </a:lnTo>
                        <a:lnTo>
                          <a:pt x="0" y="430"/>
                        </a:lnTo>
                        <a:lnTo>
                          <a:pt x="39" y="562"/>
                        </a:lnTo>
                        <a:lnTo>
                          <a:pt x="40" y="562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2" name=""/>
                  <p:cNvSpPr/>
                  <p:nvPr/>
                </p:nvSpPr>
                <p:spPr>
                  <a:xfrm flipH="1" rot="5400000">
                    <a:off x="7490880" y="19167840"/>
                    <a:ext cx="11412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52" h="740">
                        <a:moveTo>
                          <a:pt x="3152" y="738"/>
                        </a:moveTo>
                        <a:lnTo>
                          <a:pt x="3126" y="512"/>
                        </a:lnTo>
                        <a:lnTo>
                          <a:pt x="2966" y="350"/>
                        </a:lnTo>
                        <a:lnTo>
                          <a:pt x="2290" y="101"/>
                        </a:lnTo>
                        <a:lnTo>
                          <a:pt x="1576" y="0"/>
                        </a:lnTo>
                        <a:lnTo>
                          <a:pt x="862" y="102"/>
                        </a:lnTo>
                        <a:lnTo>
                          <a:pt x="186" y="352"/>
                        </a:lnTo>
                        <a:lnTo>
                          <a:pt x="26" y="514"/>
                        </a:lnTo>
                        <a:lnTo>
                          <a:pt x="0" y="740"/>
                        </a:lnTo>
                        <a:lnTo>
                          <a:pt x="1" y="74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3" name=""/>
                  <p:cNvSpPr/>
                  <p:nvPr/>
                </p:nvSpPr>
                <p:spPr>
                  <a:xfrm flipH="1" rot="5400000">
                    <a:off x="7517880" y="19207440"/>
                    <a:ext cx="3492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023" h="298">
                        <a:moveTo>
                          <a:pt x="1023" y="0"/>
                        </a:moveTo>
                        <a:lnTo>
                          <a:pt x="496" y="98"/>
                        </a:lnTo>
                        <a:lnTo>
                          <a:pt x="0" y="298"/>
                        </a:lnTo>
                        <a:lnTo>
                          <a:pt x="2" y="298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4" name=""/>
                  <p:cNvSpPr/>
                  <p:nvPr/>
                </p:nvSpPr>
                <p:spPr>
                  <a:xfrm flipH="1" rot="5400000">
                    <a:off x="7527960" y="19231200"/>
                    <a:ext cx="93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03" h="97">
                        <a:moveTo>
                          <a:pt x="0" y="0"/>
                        </a:moveTo>
                        <a:lnTo>
                          <a:pt x="78" y="97"/>
                        </a:lnTo>
                        <a:lnTo>
                          <a:pt x="201" y="93"/>
                        </a:lnTo>
                        <a:lnTo>
                          <a:pt x="203" y="9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5" name=""/>
                  <p:cNvSpPr/>
                  <p:nvPr/>
                </p:nvSpPr>
                <p:spPr>
                  <a:xfrm flipH="1" rot="5400000">
                    <a:off x="7540200" y="19232640"/>
                    <a:ext cx="32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496">
                        <a:moveTo>
                          <a:pt x="109" y="496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6" name=""/>
                  <p:cNvSpPr/>
                  <p:nvPr/>
                </p:nvSpPr>
                <p:spPr>
                  <a:xfrm flipH="1" rot="5400000">
                    <a:off x="7554600" y="19236960"/>
                    <a:ext cx="14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160">
                        <a:moveTo>
                          <a:pt x="84" y="0"/>
                        </a:moveTo>
                        <a:lnTo>
                          <a:pt x="13" y="64"/>
                        </a:lnTo>
                        <a:lnTo>
                          <a:pt x="0" y="160"/>
                        </a:lnTo>
                        <a:lnTo>
                          <a:pt x="1" y="16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7" name=""/>
                  <p:cNvSpPr/>
                  <p:nvPr/>
                </p:nvSpPr>
                <p:spPr>
                  <a:xfrm flipH="1" rot="5400000">
                    <a:off x="7554240" y="19118520"/>
                    <a:ext cx="18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159">
                        <a:moveTo>
                          <a:pt x="84" y="159"/>
                        </a:moveTo>
                        <a:lnTo>
                          <a:pt x="71" y="64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8" name=""/>
                  <p:cNvSpPr/>
                  <p:nvPr/>
                </p:nvSpPr>
                <p:spPr>
                  <a:xfrm flipH="1" rot="5400000">
                    <a:off x="7540200" y="19115280"/>
                    <a:ext cx="32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496">
                        <a:moveTo>
                          <a:pt x="109" y="0"/>
                        </a:moveTo>
                        <a:lnTo>
                          <a:pt x="0" y="496"/>
                        </a:lnTo>
                        <a:lnTo>
                          <a:pt x="1" y="496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9" name=""/>
                  <p:cNvSpPr/>
                  <p:nvPr/>
                </p:nvSpPr>
                <p:spPr>
                  <a:xfrm flipH="1" rot="5400000">
                    <a:off x="7527960" y="19126440"/>
                    <a:ext cx="93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02" h="98">
                        <a:moveTo>
                          <a:pt x="0" y="94"/>
                        </a:moveTo>
                        <a:lnTo>
                          <a:pt x="124" y="98"/>
                        </a:lnTo>
                        <a:lnTo>
                          <a:pt x="201" y="0"/>
                        </a:lnTo>
                        <a:lnTo>
                          <a:pt x="202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0" name=""/>
                  <p:cNvSpPr/>
                  <p:nvPr/>
                </p:nvSpPr>
                <p:spPr>
                  <a:xfrm flipH="1" rot="5400000">
                    <a:off x="7517880" y="19146960"/>
                    <a:ext cx="3492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021" h="297">
                        <a:moveTo>
                          <a:pt x="1021" y="297"/>
                        </a:moveTo>
                        <a:lnTo>
                          <a:pt x="525" y="97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71" name=""/>
                <p:cNvSpPr/>
                <p:nvPr/>
              </p:nvSpPr>
              <p:spPr>
                <a:xfrm flipH="1" rot="16200000">
                  <a:off x="6978960" y="19103040"/>
                  <a:ext cx="431640" cy="287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2" name=""/>
                <p:cNvSpPr/>
                <p:nvPr/>
              </p:nvSpPr>
              <p:spPr>
                <a:xfrm flipH="1" flipV="1">
                  <a:off x="6796800" y="19114560"/>
                  <a:ext cx="360" cy="99720"/>
                </a:xfrm>
                <a:custGeom>
                  <a:avLst/>
                  <a:gdLst/>
                  <a:ahLst/>
                  <a:rect l="l" t="t" r="r" b="b"/>
                  <a:pathLst>
                    <a:path w="2" h="2733">
                      <a:moveTo>
                        <a:pt x="0" y="0"/>
                      </a:moveTo>
                      <a:lnTo>
                        <a:pt x="1" y="2733"/>
                      </a:lnTo>
                      <a:lnTo>
                        <a:pt x="2" y="2733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3" name=""/>
                <p:cNvSpPr/>
                <p:nvPr/>
              </p:nvSpPr>
              <p:spPr>
                <a:xfrm flipH="1" flipV="1">
                  <a:off x="6783840" y="19114560"/>
                  <a:ext cx="360" cy="99720"/>
                </a:xfrm>
                <a:custGeom>
                  <a:avLst/>
                  <a:gdLst/>
                  <a:ahLst/>
                  <a:rect l="l" t="t" r="r" b="b"/>
                  <a:pathLst>
                    <a:path w="2" h="2733">
                      <a:moveTo>
                        <a:pt x="0" y="0"/>
                      </a:moveTo>
                      <a:lnTo>
                        <a:pt x="1" y="2733"/>
                      </a:lnTo>
                      <a:lnTo>
                        <a:pt x="2" y="2733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4" name=""/>
                <p:cNvSpPr/>
                <p:nvPr/>
              </p:nvSpPr>
              <p:spPr>
                <a:xfrm flipH="1" flipV="1">
                  <a:off x="6945120" y="19114560"/>
                  <a:ext cx="1440" cy="99720"/>
                </a:xfrm>
                <a:custGeom>
                  <a:avLst/>
                  <a:gdLst/>
                  <a:ahLst/>
                  <a:rect l="l" t="t" r="r" b="b"/>
                  <a:pathLst>
                    <a:path w="2" h="2733">
                      <a:moveTo>
                        <a:pt x="0" y="0"/>
                      </a:moveTo>
                      <a:lnTo>
                        <a:pt x="1" y="2733"/>
                      </a:lnTo>
                      <a:lnTo>
                        <a:pt x="2" y="2733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5" name=""/>
                <p:cNvSpPr/>
                <p:nvPr/>
              </p:nvSpPr>
              <p:spPr>
                <a:xfrm flipH="1" flipV="1">
                  <a:off x="6931800" y="19114560"/>
                  <a:ext cx="1800" cy="99720"/>
                </a:xfrm>
                <a:custGeom>
                  <a:avLst/>
                  <a:gdLst/>
                  <a:ahLst/>
                  <a:rect l="l" t="t" r="r" b="b"/>
                  <a:pathLst>
                    <a:path w="2" h="2733">
                      <a:moveTo>
                        <a:pt x="0" y="0"/>
                      </a:moveTo>
                      <a:lnTo>
                        <a:pt x="1" y="2733"/>
                      </a:lnTo>
                      <a:lnTo>
                        <a:pt x="2" y="2733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6" name=""/>
                <p:cNvSpPr/>
                <p:nvPr/>
              </p:nvSpPr>
              <p:spPr>
                <a:xfrm flipH="1" flipV="1">
                  <a:off x="6925320" y="19117800"/>
                  <a:ext cx="360" cy="69840"/>
                </a:xfrm>
                <a:custGeom>
                  <a:avLst/>
                  <a:gdLst/>
                  <a:ahLst/>
                  <a:rect l="l" t="t" r="r" b="b"/>
                  <a:pathLst>
                    <a:path w="19" h="1925">
                      <a:moveTo>
                        <a:pt x="0" y="0"/>
                      </a:moveTo>
                      <a:lnTo>
                        <a:pt x="18" y="1925"/>
                      </a:lnTo>
                      <a:lnTo>
                        <a:pt x="19" y="1925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7" name=""/>
                <p:cNvSpPr/>
                <p:nvPr/>
              </p:nvSpPr>
              <p:spPr>
                <a:xfrm flipH="1" flipV="1">
                  <a:off x="6906600" y="1909548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w="568" h="605">
                      <a:moveTo>
                        <a:pt x="0" y="0"/>
                      </a:moveTo>
                      <a:lnTo>
                        <a:pt x="184" y="396"/>
                      </a:lnTo>
                      <a:lnTo>
                        <a:pt x="567" y="605"/>
                      </a:lnTo>
                      <a:lnTo>
                        <a:pt x="568" y="605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8" name=""/>
                <p:cNvSpPr/>
                <p:nvPr/>
              </p:nvSpPr>
              <p:spPr>
                <a:xfrm flipH="1" flipV="1">
                  <a:off x="6824160" y="19092240"/>
                  <a:ext cx="82440" cy="3240"/>
                </a:xfrm>
                <a:custGeom>
                  <a:avLst/>
                  <a:gdLst/>
                  <a:ahLst/>
                  <a:rect l="l" t="t" r="r" b="b"/>
                  <a:pathLst>
                    <a:path w="2269" h="103">
                      <a:moveTo>
                        <a:pt x="0" y="2"/>
                      </a:moveTo>
                      <a:lnTo>
                        <a:pt x="1135" y="103"/>
                      </a:lnTo>
                      <a:lnTo>
                        <a:pt x="2268" y="0"/>
                      </a:lnTo>
                      <a:lnTo>
                        <a:pt x="2269" y="0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9" name=""/>
                <p:cNvSpPr/>
                <p:nvPr/>
              </p:nvSpPr>
              <p:spPr>
                <a:xfrm flipH="1" flipV="1">
                  <a:off x="6805080" y="1909548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w="568" h="605">
                      <a:moveTo>
                        <a:pt x="0" y="605"/>
                      </a:moveTo>
                      <a:lnTo>
                        <a:pt x="382" y="396"/>
                      </a:lnTo>
                      <a:lnTo>
                        <a:pt x="567" y="0"/>
                      </a:lnTo>
                      <a:lnTo>
                        <a:pt x="568" y="0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0" name=""/>
                <p:cNvSpPr/>
                <p:nvPr/>
              </p:nvSpPr>
              <p:spPr>
                <a:xfrm flipH="1" flipV="1">
                  <a:off x="6804720" y="19117800"/>
                  <a:ext cx="360" cy="69840"/>
                </a:xfrm>
                <a:custGeom>
                  <a:avLst/>
                  <a:gdLst/>
                  <a:ahLst/>
                  <a:rect l="l" t="t" r="r" b="b"/>
                  <a:pathLst>
                    <a:path w="17" h="1925">
                      <a:moveTo>
                        <a:pt x="0" y="1925"/>
                      </a:moveTo>
                      <a:lnTo>
                        <a:pt x="16" y="0"/>
                      </a:lnTo>
                      <a:lnTo>
                        <a:pt x="17" y="0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1" name=""/>
                <p:cNvSpPr/>
                <p:nvPr/>
              </p:nvSpPr>
              <p:spPr>
                <a:xfrm flipH="1" flipV="1">
                  <a:off x="6805440" y="19187640"/>
                  <a:ext cx="25200" cy="28800"/>
                </a:xfrm>
                <a:custGeom>
                  <a:avLst/>
                  <a:gdLst/>
                  <a:ahLst/>
                  <a:rect l="l" t="t" r="r" b="b"/>
                  <a:pathLst>
                    <a:path w="745" h="787">
                      <a:moveTo>
                        <a:pt x="745" y="787"/>
                      </a:moveTo>
                      <a:lnTo>
                        <a:pt x="623" y="420"/>
                      </a:lnTo>
                      <a:lnTo>
                        <a:pt x="358" y="140"/>
                      </a:lnTo>
                      <a:lnTo>
                        <a:pt x="0" y="0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2" name=""/>
                <p:cNvSpPr/>
                <p:nvPr/>
              </p:nvSpPr>
              <p:spPr>
                <a:xfrm flipH="1" flipV="1">
                  <a:off x="6830640" y="19216440"/>
                  <a:ext cx="69840" cy="1440"/>
                </a:xfrm>
                <a:custGeom>
                  <a:avLst/>
                  <a:gdLst/>
                  <a:ahLst/>
                  <a:rect l="l" t="t" r="r" b="b"/>
                  <a:pathLst>
                    <a:path w="1947" h="77">
                      <a:moveTo>
                        <a:pt x="1947" y="76"/>
                      </a:moveTo>
                      <a:lnTo>
                        <a:pt x="974" y="0"/>
                      </a:lnTo>
                      <a:lnTo>
                        <a:pt x="0" y="77"/>
                      </a:lnTo>
                      <a:lnTo>
                        <a:pt x="1" y="77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3" name=""/>
                <p:cNvSpPr/>
                <p:nvPr/>
              </p:nvSpPr>
              <p:spPr>
                <a:xfrm flipH="1" flipV="1">
                  <a:off x="6900120" y="19187640"/>
                  <a:ext cx="25560" cy="28800"/>
                </a:xfrm>
                <a:custGeom>
                  <a:avLst/>
                  <a:gdLst/>
                  <a:ahLst/>
                  <a:rect l="l" t="t" r="r" b="b"/>
                  <a:pathLst>
                    <a:path w="744" h="788">
                      <a:moveTo>
                        <a:pt x="744" y="0"/>
                      </a:moveTo>
                      <a:lnTo>
                        <a:pt x="386" y="141"/>
                      </a:lnTo>
                      <a:lnTo>
                        <a:pt x="121" y="421"/>
                      </a:lnTo>
                      <a:lnTo>
                        <a:pt x="0" y="788"/>
                      </a:lnTo>
                      <a:lnTo>
                        <a:pt x="1" y="788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4" name=""/>
                <p:cNvSpPr/>
                <p:nvPr/>
              </p:nvSpPr>
              <p:spPr>
                <a:xfrm flipH="1" flipV="1">
                  <a:off x="6784560" y="19114200"/>
                  <a:ext cx="12960" cy="360"/>
                </a:xfrm>
                <a:custGeom>
                  <a:avLst/>
                  <a:gdLst/>
                  <a:ahLst/>
                  <a:rect l="l" t="t" r="r" b="b"/>
                  <a:pathLst>
                    <a:path w="350" h="0">
                      <a:moveTo>
                        <a:pt x="0" y="0"/>
                      </a:moveTo>
                      <a:lnTo>
                        <a:pt x="349" y="0"/>
                      </a:lnTo>
                      <a:lnTo>
                        <a:pt x="350" y="0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5" name=""/>
                <p:cNvSpPr/>
                <p:nvPr/>
              </p:nvSpPr>
              <p:spPr>
                <a:xfrm flipH="1" flipV="1">
                  <a:off x="6933600" y="19114200"/>
                  <a:ext cx="12600" cy="360"/>
                </a:xfrm>
                <a:custGeom>
                  <a:avLst/>
                  <a:gdLst/>
                  <a:ahLst/>
                  <a:rect l="l" t="t" r="r" b="b"/>
                  <a:pathLst>
                    <a:path w="349" h="0">
                      <a:moveTo>
                        <a:pt x="349" y="0"/>
                      </a:moveTo>
                      <a:lnTo>
                        <a:pt x="0" y="0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6" name=""/>
                <p:cNvSpPr/>
                <p:nvPr/>
              </p:nvSpPr>
              <p:spPr>
                <a:xfrm flipH="1" flipV="1">
                  <a:off x="6784560" y="19213920"/>
                  <a:ext cx="12960" cy="360"/>
                </a:xfrm>
                <a:custGeom>
                  <a:avLst/>
                  <a:gdLst/>
                  <a:ahLst/>
                  <a:rect l="l" t="t" r="r" b="b"/>
                  <a:pathLst>
                    <a:path w="350" h="0">
                      <a:moveTo>
                        <a:pt x="0" y="0"/>
                      </a:moveTo>
                      <a:lnTo>
                        <a:pt x="349" y="0"/>
                      </a:lnTo>
                      <a:lnTo>
                        <a:pt x="350" y="0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7" name=""/>
                <p:cNvSpPr/>
                <p:nvPr/>
              </p:nvSpPr>
              <p:spPr>
                <a:xfrm flipH="1" flipV="1">
                  <a:off x="6852960" y="19221840"/>
                  <a:ext cx="25200" cy="360"/>
                </a:xfrm>
                <a:custGeom>
                  <a:avLst/>
                  <a:gdLst/>
                  <a:ahLst/>
                  <a:rect l="l" t="t" r="r" b="b"/>
                  <a:pathLst>
                    <a:path w="698" h="0">
                      <a:moveTo>
                        <a:pt x="698" y="0"/>
                      </a:moveTo>
                      <a:lnTo>
                        <a:pt x="0" y="0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8" name=""/>
                <p:cNvSpPr/>
                <p:nvPr/>
              </p:nvSpPr>
              <p:spPr>
                <a:xfrm flipH="1" flipV="1">
                  <a:off x="6850800" y="19217520"/>
                  <a:ext cx="1800" cy="4680"/>
                </a:xfrm>
                <a:custGeom>
                  <a:avLst/>
                  <a:gdLst/>
                  <a:ahLst/>
                  <a:rect l="l" t="t" r="r" b="b"/>
                  <a:pathLst>
                    <a:path w="1" h="133">
                      <a:moveTo>
                        <a:pt x="0" y="133"/>
                      </a:moveTo>
                      <a:lnTo>
                        <a:pt x="0" y="0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9" name=""/>
                <p:cNvSpPr/>
                <p:nvPr/>
              </p:nvSpPr>
              <p:spPr>
                <a:xfrm flipH="1" flipV="1">
                  <a:off x="6877440" y="19217520"/>
                  <a:ext cx="360" cy="4680"/>
                </a:xfrm>
                <a:custGeom>
                  <a:avLst/>
                  <a:gdLst/>
                  <a:ahLst/>
                  <a:rect l="l" t="t" r="r" b="b"/>
                  <a:pathLst>
                    <a:path w="1" h="134">
                      <a:moveTo>
                        <a:pt x="0" y="134"/>
                      </a:moveTo>
                      <a:lnTo>
                        <a:pt x="0" y="0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0" name=""/>
                <p:cNvSpPr/>
                <p:nvPr/>
              </p:nvSpPr>
              <p:spPr>
                <a:xfrm flipH="1" flipV="1">
                  <a:off x="6933600" y="19213920"/>
                  <a:ext cx="12600" cy="360"/>
                </a:xfrm>
                <a:custGeom>
                  <a:avLst/>
                  <a:gdLst/>
                  <a:ahLst/>
                  <a:rect l="l" t="t" r="r" b="b"/>
                  <a:pathLst>
                    <a:path w="349" h="0">
                      <a:moveTo>
                        <a:pt x="349" y="0"/>
                      </a:moveTo>
                      <a:lnTo>
                        <a:pt x="0" y="0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1" name=""/>
                <p:cNvSpPr/>
                <p:nvPr/>
              </p:nvSpPr>
              <p:spPr>
                <a:xfrm flipH="1" flipV="1">
                  <a:off x="6805080" y="19233720"/>
                  <a:ext cx="120600" cy="20880"/>
                </a:xfrm>
                <a:custGeom>
                  <a:avLst/>
                  <a:gdLst/>
                  <a:ahLst/>
                  <a:rect l="l" t="t" r="r" b="b"/>
                  <a:pathLst>
                    <a:path w="3444" h="562">
                      <a:moveTo>
                        <a:pt x="3405" y="560"/>
                      </a:moveTo>
                      <a:lnTo>
                        <a:pt x="3444" y="429"/>
                      </a:lnTo>
                      <a:lnTo>
                        <a:pt x="3366" y="316"/>
                      </a:lnTo>
                      <a:lnTo>
                        <a:pt x="2559" y="78"/>
                      </a:lnTo>
                      <a:lnTo>
                        <a:pt x="1722" y="0"/>
                      </a:lnTo>
                      <a:lnTo>
                        <a:pt x="884" y="79"/>
                      </a:lnTo>
                      <a:lnTo>
                        <a:pt x="78" y="318"/>
                      </a:lnTo>
                      <a:lnTo>
                        <a:pt x="0" y="430"/>
                      </a:lnTo>
                      <a:lnTo>
                        <a:pt x="39" y="562"/>
                      </a:lnTo>
                      <a:lnTo>
                        <a:pt x="40" y="562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2" name=""/>
                <p:cNvSpPr/>
                <p:nvPr/>
              </p:nvSpPr>
              <p:spPr>
                <a:xfrm flipH="1" flipV="1">
                  <a:off x="6808320" y="19216080"/>
                  <a:ext cx="114480" cy="28440"/>
                </a:xfrm>
                <a:custGeom>
                  <a:avLst/>
                  <a:gdLst/>
                  <a:ahLst/>
                  <a:rect l="l" t="t" r="r" b="b"/>
                  <a:pathLst>
                    <a:path w="3152" h="740">
                      <a:moveTo>
                        <a:pt x="3152" y="738"/>
                      </a:moveTo>
                      <a:lnTo>
                        <a:pt x="3126" y="512"/>
                      </a:lnTo>
                      <a:lnTo>
                        <a:pt x="2966" y="350"/>
                      </a:lnTo>
                      <a:lnTo>
                        <a:pt x="2290" y="101"/>
                      </a:lnTo>
                      <a:lnTo>
                        <a:pt x="1576" y="0"/>
                      </a:lnTo>
                      <a:lnTo>
                        <a:pt x="862" y="102"/>
                      </a:lnTo>
                      <a:lnTo>
                        <a:pt x="186" y="352"/>
                      </a:lnTo>
                      <a:lnTo>
                        <a:pt x="26" y="514"/>
                      </a:lnTo>
                      <a:lnTo>
                        <a:pt x="0" y="740"/>
                      </a:lnTo>
                      <a:lnTo>
                        <a:pt x="1" y="740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3" name=""/>
                <p:cNvSpPr/>
                <p:nvPr/>
              </p:nvSpPr>
              <p:spPr>
                <a:xfrm flipH="1" flipV="1">
                  <a:off x="6877800" y="19213200"/>
                  <a:ext cx="34920" cy="9360"/>
                </a:xfrm>
                <a:custGeom>
                  <a:avLst/>
                  <a:gdLst/>
                  <a:ahLst/>
                  <a:rect l="l" t="t" r="r" b="b"/>
                  <a:pathLst>
                    <a:path w="1023" h="298">
                      <a:moveTo>
                        <a:pt x="1023" y="0"/>
                      </a:moveTo>
                      <a:lnTo>
                        <a:pt x="496" y="98"/>
                      </a:lnTo>
                      <a:lnTo>
                        <a:pt x="0" y="298"/>
                      </a:lnTo>
                      <a:lnTo>
                        <a:pt x="2" y="298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4" name=""/>
                <p:cNvSpPr/>
                <p:nvPr/>
              </p:nvSpPr>
              <p:spPr>
                <a:xfrm flipH="1" flipV="1">
                  <a:off x="6912720" y="19211400"/>
                  <a:ext cx="9720" cy="4680"/>
                </a:xfrm>
                <a:custGeom>
                  <a:avLst/>
                  <a:gdLst/>
                  <a:ahLst/>
                  <a:rect l="l" t="t" r="r" b="b"/>
                  <a:pathLst>
                    <a:path w="203" h="97">
                      <a:moveTo>
                        <a:pt x="0" y="0"/>
                      </a:moveTo>
                      <a:lnTo>
                        <a:pt x="78" y="97"/>
                      </a:lnTo>
                      <a:lnTo>
                        <a:pt x="201" y="93"/>
                      </a:lnTo>
                      <a:lnTo>
                        <a:pt x="203" y="93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5" name=""/>
                <p:cNvSpPr/>
                <p:nvPr/>
              </p:nvSpPr>
              <p:spPr>
                <a:xfrm flipH="1" flipV="1">
                  <a:off x="6922440" y="19216440"/>
                  <a:ext cx="3240" cy="15840"/>
                </a:xfrm>
                <a:custGeom>
                  <a:avLst/>
                  <a:gdLst/>
                  <a:ahLst/>
                  <a:rect l="l" t="t" r="r" b="b"/>
                  <a:pathLst>
                    <a:path w="109" h="496">
                      <a:moveTo>
                        <a:pt x="109" y="496"/>
                      </a:moveTo>
                      <a:lnTo>
                        <a:pt x="0" y="0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6" name=""/>
                <p:cNvSpPr/>
                <p:nvPr/>
              </p:nvSpPr>
              <p:spPr>
                <a:xfrm flipH="1" flipV="1">
                  <a:off x="6923880" y="19232280"/>
                  <a:ext cx="1800" cy="7920"/>
                </a:xfrm>
                <a:custGeom>
                  <a:avLst/>
                  <a:gdLst/>
                  <a:ahLst/>
                  <a:rect l="l" t="t" r="r" b="b"/>
                  <a:pathLst>
                    <a:path w="84" h="160">
                      <a:moveTo>
                        <a:pt x="84" y="0"/>
                      </a:moveTo>
                      <a:lnTo>
                        <a:pt x="13" y="64"/>
                      </a:lnTo>
                      <a:lnTo>
                        <a:pt x="0" y="160"/>
                      </a:lnTo>
                      <a:lnTo>
                        <a:pt x="1" y="160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7" name=""/>
                <p:cNvSpPr/>
                <p:nvPr/>
              </p:nvSpPr>
              <p:spPr>
                <a:xfrm flipH="1" flipV="1">
                  <a:off x="6805440" y="19232280"/>
                  <a:ext cx="1440" cy="7920"/>
                </a:xfrm>
                <a:custGeom>
                  <a:avLst/>
                  <a:gdLst/>
                  <a:ahLst/>
                  <a:rect l="l" t="t" r="r" b="b"/>
                  <a:pathLst>
                    <a:path w="84" h="159">
                      <a:moveTo>
                        <a:pt x="84" y="159"/>
                      </a:moveTo>
                      <a:lnTo>
                        <a:pt x="71" y="64"/>
                      </a:lnTo>
                      <a:lnTo>
                        <a:pt x="0" y="0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8" name=""/>
                <p:cNvSpPr/>
                <p:nvPr/>
              </p:nvSpPr>
              <p:spPr>
                <a:xfrm flipH="1" flipV="1">
                  <a:off x="6805440" y="19216440"/>
                  <a:ext cx="2880" cy="15840"/>
                </a:xfrm>
                <a:custGeom>
                  <a:avLst/>
                  <a:gdLst/>
                  <a:ahLst/>
                  <a:rect l="l" t="t" r="r" b="b"/>
                  <a:pathLst>
                    <a:path w="109" h="496">
                      <a:moveTo>
                        <a:pt x="109" y="0"/>
                      </a:moveTo>
                      <a:lnTo>
                        <a:pt x="0" y="496"/>
                      </a:lnTo>
                      <a:lnTo>
                        <a:pt x="1" y="496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9" name=""/>
                <p:cNvSpPr/>
                <p:nvPr/>
              </p:nvSpPr>
              <p:spPr>
                <a:xfrm flipH="1" flipV="1">
                  <a:off x="6807960" y="19211400"/>
                  <a:ext cx="9720" cy="4680"/>
                </a:xfrm>
                <a:custGeom>
                  <a:avLst/>
                  <a:gdLst/>
                  <a:ahLst/>
                  <a:rect l="l" t="t" r="r" b="b"/>
                  <a:pathLst>
                    <a:path w="202" h="98">
                      <a:moveTo>
                        <a:pt x="0" y="94"/>
                      </a:moveTo>
                      <a:lnTo>
                        <a:pt x="124" y="98"/>
                      </a:lnTo>
                      <a:lnTo>
                        <a:pt x="201" y="0"/>
                      </a:lnTo>
                      <a:lnTo>
                        <a:pt x="202" y="0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0" name=""/>
                <p:cNvSpPr/>
                <p:nvPr/>
              </p:nvSpPr>
              <p:spPr>
                <a:xfrm flipH="1" flipV="1">
                  <a:off x="6817680" y="19213200"/>
                  <a:ext cx="34920" cy="9360"/>
                </a:xfrm>
                <a:custGeom>
                  <a:avLst/>
                  <a:gdLst/>
                  <a:ahLst/>
                  <a:rect l="l" t="t" r="r" b="b"/>
                  <a:pathLst>
                    <a:path w="1021" h="297">
                      <a:moveTo>
                        <a:pt x="1021" y="297"/>
                      </a:moveTo>
                      <a:lnTo>
                        <a:pt x="525" y="97"/>
                      </a:lnTo>
                      <a:lnTo>
                        <a:pt x="0" y="0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1" name=""/>
                <p:cNvSpPr/>
                <p:nvPr/>
              </p:nvSpPr>
              <p:spPr>
                <a:xfrm flipH="1" flipV="1">
                  <a:off x="6760440" y="19033920"/>
                  <a:ext cx="219240" cy="6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2" name=""/>
                <p:cNvSpPr/>
                <p:nvPr/>
              </p:nvSpPr>
              <p:spPr>
                <a:xfrm flipH="1" flipV="1">
                  <a:off x="6810120" y="19044360"/>
                  <a:ext cx="131760" cy="4788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3" name=""/>
                <p:cNvSpPr/>
                <p:nvPr/>
              </p:nvSpPr>
              <p:spPr>
                <a:xfrm flipH="1" flipV="1">
                  <a:off x="6919560" y="19050840"/>
                  <a:ext cx="15840" cy="3348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4" name=""/>
                <p:cNvSpPr/>
                <p:nvPr/>
              </p:nvSpPr>
              <p:spPr>
                <a:xfrm flipH="1" flipV="1">
                  <a:off x="6815880" y="19050840"/>
                  <a:ext cx="96840" cy="3348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5" name=""/>
                <p:cNvSpPr/>
                <p:nvPr/>
              </p:nvSpPr>
              <p:spPr>
                <a:xfrm flipH="1" flipV="1">
                  <a:off x="6687360" y="18820800"/>
                  <a:ext cx="360360" cy="2156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6" name=""/>
                <p:cNvSpPr/>
                <p:nvPr/>
              </p:nvSpPr>
              <p:spPr>
                <a:xfrm flipH="1" flipV="1" rot="1751400">
                  <a:off x="6976440" y="18969840"/>
                  <a:ext cx="22320" cy="31680"/>
                </a:xfrm>
                <a:prstGeom prst="ellipse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7" name=""/>
                <p:cNvSpPr/>
                <p:nvPr/>
              </p:nvSpPr>
              <p:spPr>
                <a:xfrm flipH="1" flipV="1">
                  <a:off x="6959160" y="18949320"/>
                  <a:ext cx="68400" cy="6660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8" name=""/>
                <p:cNvSpPr/>
                <p:nvPr/>
              </p:nvSpPr>
              <p:spPr>
                <a:xfrm flipH="1" flipV="1">
                  <a:off x="6791040" y="18866880"/>
                  <a:ext cx="133200" cy="1458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09" name=""/>
                <p:cNvGrpSpPr/>
                <p:nvPr/>
              </p:nvGrpSpPr>
              <p:grpSpPr>
                <a:xfrm>
                  <a:off x="6798960" y="18875520"/>
                  <a:ext cx="117360" cy="117000"/>
                  <a:chOff x="6798960" y="18875520"/>
                  <a:chExt cx="117360" cy="117000"/>
                </a:xfrm>
              </p:grpSpPr>
              <p:sp>
                <p:nvSpPr>
                  <p:cNvPr id="2910" name=""/>
                  <p:cNvSpPr/>
                  <p:nvPr/>
                </p:nvSpPr>
                <p:spPr>
                  <a:xfrm flipH="1" flipV="1">
                    <a:off x="6882120" y="18892800"/>
                    <a:ext cx="252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35">
                        <a:moveTo>
                          <a:pt x="0" y="35"/>
                        </a:moveTo>
                        <a:lnTo>
                          <a:pt x="5" y="29"/>
                        </a:lnTo>
                        <a:lnTo>
                          <a:pt x="11" y="23"/>
                        </a:lnTo>
                        <a:lnTo>
                          <a:pt x="17" y="17"/>
                        </a:lnTo>
                        <a:lnTo>
                          <a:pt x="22" y="12"/>
                        </a:lnTo>
                        <a:lnTo>
                          <a:pt x="26" y="8"/>
                        </a:lnTo>
                        <a:lnTo>
                          <a:pt x="30" y="5"/>
                        </a:lnTo>
                        <a:lnTo>
                          <a:pt x="32" y="2"/>
                        </a:lnTo>
                        <a:lnTo>
                          <a:pt x="34" y="1"/>
                        </a:lnTo>
                        <a:lnTo>
                          <a:pt x="34" y="0"/>
                        </a:lnTo>
                        <a:lnTo>
                          <a:pt x="35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1" name=""/>
                  <p:cNvSpPr/>
                  <p:nvPr/>
                </p:nvSpPr>
                <p:spPr>
                  <a:xfrm flipH="1" flipV="1">
                    <a:off x="6882120" y="18892800"/>
                    <a:ext cx="252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35">
                        <a:moveTo>
                          <a:pt x="0" y="35"/>
                        </a:moveTo>
                        <a:lnTo>
                          <a:pt x="5" y="29"/>
                        </a:lnTo>
                        <a:lnTo>
                          <a:pt x="11" y="23"/>
                        </a:lnTo>
                        <a:lnTo>
                          <a:pt x="17" y="17"/>
                        </a:lnTo>
                        <a:lnTo>
                          <a:pt x="22" y="12"/>
                        </a:lnTo>
                        <a:lnTo>
                          <a:pt x="26" y="8"/>
                        </a:lnTo>
                        <a:lnTo>
                          <a:pt x="30" y="5"/>
                        </a:lnTo>
                        <a:lnTo>
                          <a:pt x="32" y="2"/>
                        </a:lnTo>
                        <a:lnTo>
                          <a:pt x="34" y="1"/>
                        </a:lnTo>
                        <a:lnTo>
                          <a:pt x="34" y="0"/>
                        </a:lnTo>
                        <a:lnTo>
                          <a:pt x="35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2" name=""/>
                  <p:cNvSpPr/>
                  <p:nvPr/>
                </p:nvSpPr>
                <p:spPr>
                  <a:xfrm flipH="1" flipV="1">
                    <a:off x="6798960" y="18942840"/>
                    <a:ext cx="117360" cy="4968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80" bIns="2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3" name=""/>
                  <p:cNvSpPr/>
                  <p:nvPr/>
                </p:nvSpPr>
                <p:spPr>
                  <a:xfrm flipH="1" flipV="1">
                    <a:off x="6806160" y="18875520"/>
                    <a:ext cx="101160" cy="65520"/>
                  </a:xfrm>
                  <a:custGeom>
                    <a:avLst/>
                    <a:gdLst>
                      <a:gd name="textAreaLeft" fmla="*/ 22320 w 101160"/>
                      <a:gd name="textAreaRight" fmla="*/ 78840 w 101160"/>
                      <a:gd name="textAreaTop" fmla="*/ 14400 h 65520"/>
                      <a:gd name="textAreaBottom" fmla="*/ 51120 h 655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080" bIns="-10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14" name=""/>
              <p:cNvGrpSpPr/>
              <p:nvPr/>
            </p:nvGrpSpPr>
            <p:grpSpPr>
              <a:xfrm>
                <a:off x="8740800" y="17101440"/>
                <a:ext cx="630360" cy="612000"/>
                <a:chOff x="8740800" y="17101440"/>
                <a:chExt cx="630360" cy="612000"/>
              </a:xfrm>
            </p:grpSpPr>
            <p:sp>
              <p:nvSpPr>
                <p:cNvPr id="2915" name=""/>
                <p:cNvSpPr/>
                <p:nvPr/>
              </p:nvSpPr>
              <p:spPr>
                <a:xfrm flipV="1" rot="5400000">
                  <a:off x="8759160" y="17101440"/>
                  <a:ext cx="612000" cy="611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6" name=""/>
                <p:cNvSpPr/>
                <p:nvPr/>
              </p:nvSpPr>
              <p:spPr>
                <a:xfrm flipH="1">
                  <a:off x="8740800" y="17389440"/>
                  <a:ext cx="342720" cy="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7" name=""/>
              <p:cNvGrpSpPr/>
              <p:nvPr/>
            </p:nvGrpSpPr>
            <p:grpSpPr>
              <a:xfrm>
                <a:off x="9945720" y="18725760"/>
                <a:ext cx="885960" cy="641520"/>
                <a:chOff x="9945720" y="18725760"/>
                <a:chExt cx="885960" cy="641520"/>
              </a:xfrm>
            </p:grpSpPr>
            <p:grpSp>
              <p:nvGrpSpPr>
                <p:cNvPr id="2918" name=""/>
                <p:cNvGrpSpPr/>
                <p:nvPr/>
              </p:nvGrpSpPr>
              <p:grpSpPr>
                <a:xfrm>
                  <a:off x="9945720" y="18925200"/>
                  <a:ext cx="163440" cy="162360"/>
                  <a:chOff x="9945720" y="18925200"/>
                  <a:chExt cx="163440" cy="162360"/>
                </a:xfrm>
              </p:grpSpPr>
              <p:sp>
                <p:nvSpPr>
                  <p:cNvPr id="2919" name=""/>
                  <p:cNvSpPr/>
                  <p:nvPr/>
                </p:nvSpPr>
                <p:spPr>
                  <a:xfrm flipV="1" rot="5400000">
                    <a:off x="10035000" y="19024200"/>
                    <a:ext cx="36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0" name=""/>
                  <p:cNvSpPr/>
                  <p:nvPr/>
                </p:nvSpPr>
                <p:spPr>
                  <a:xfrm flipV="1" rot="5400000">
                    <a:off x="10035000" y="19036800"/>
                    <a:ext cx="36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1" name=""/>
                  <p:cNvSpPr/>
                  <p:nvPr/>
                </p:nvSpPr>
                <p:spPr>
                  <a:xfrm flipV="1" rot="5400000">
                    <a:off x="10034280" y="18875520"/>
                    <a:ext cx="180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2" name=""/>
                  <p:cNvSpPr/>
                  <p:nvPr/>
                </p:nvSpPr>
                <p:spPr>
                  <a:xfrm flipV="1" rot="5400000">
                    <a:off x="10034640" y="18889560"/>
                    <a:ext cx="144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3" name=""/>
                  <p:cNvSpPr/>
                  <p:nvPr/>
                </p:nvSpPr>
                <p:spPr>
                  <a:xfrm flipV="1" rot="5400000">
                    <a:off x="10048680" y="18910800"/>
                    <a:ext cx="36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925">
                        <a:moveTo>
                          <a:pt x="0" y="0"/>
                        </a:moveTo>
                        <a:lnTo>
                          <a:pt x="18" y="1925"/>
                        </a:lnTo>
                        <a:lnTo>
                          <a:pt x="19" y="1925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4" name=""/>
                  <p:cNvSpPr/>
                  <p:nvPr/>
                </p:nvSpPr>
                <p:spPr>
                  <a:xfrm flipV="1" rot="5400000">
                    <a:off x="10085400" y="18944280"/>
                    <a:ext cx="190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568" h="605">
                        <a:moveTo>
                          <a:pt x="0" y="0"/>
                        </a:moveTo>
                        <a:lnTo>
                          <a:pt x="184" y="396"/>
                        </a:lnTo>
                        <a:lnTo>
                          <a:pt x="567" y="605"/>
                        </a:lnTo>
                        <a:lnTo>
                          <a:pt x="568" y="605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5" name=""/>
                  <p:cNvSpPr/>
                  <p:nvPr/>
                </p:nvSpPr>
                <p:spPr>
                  <a:xfrm flipV="1" rot="5400000">
                    <a:off x="10066320" y="19004400"/>
                    <a:ext cx="824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269" h="103">
                        <a:moveTo>
                          <a:pt x="0" y="2"/>
                        </a:moveTo>
                        <a:lnTo>
                          <a:pt x="1135" y="103"/>
                        </a:lnTo>
                        <a:lnTo>
                          <a:pt x="2268" y="0"/>
                        </a:lnTo>
                        <a:lnTo>
                          <a:pt x="2269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6" name=""/>
                  <p:cNvSpPr/>
                  <p:nvPr/>
                </p:nvSpPr>
                <p:spPr>
                  <a:xfrm flipV="1" rot="5400000">
                    <a:off x="10085400" y="19045800"/>
                    <a:ext cx="190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568" h="605">
                        <a:moveTo>
                          <a:pt x="0" y="605"/>
                        </a:moveTo>
                        <a:lnTo>
                          <a:pt x="382" y="396"/>
                        </a:lnTo>
                        <a:lnTo>
                          <a:pt x="567" y="0"/>
                        </a:lnTo>
                        <a:lnTo>
                          <a:pt x="568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7" name=""/>
                  <p:cNvSpPr/>
                  <p:nvPr/>
                </p:nvSpPr>
                <p:spPr>
                  <a:xfrm flipV="1" rot="5400000">
                    <a:off x="10048680" y="19031400"/>
                    <a:ext cx="36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925">
                        <a:moveTo>
                          <a:pt x="0" y="1925"/>
                        </a:moveTo>
                        <a:lnTo>
                          <a:pt x="16" y="0"/>
                        </a:lnTo>
                        <a:lnTo>
                          <a:pt x="17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8" name=""/>
                  <p:cNvSpPr/>
                  <p:nvPr/>
                </p:nvSpPr>
                <p:spPr>
                  <a:xfrm flipV="1" rot="5400000">
                    <a:off x="9986760" y="19038960"/>
                    <a:ext cx="2556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745" h="787">
                        <a:moveTo>
                          <a:pt x="745" y="787"/>
                        </a:moveTo>
                        <a:lnTo>
                          <a:pt x="623" y="420"/>
                        </a:lnTo>
                        <a:lnTo>
                          <a:pt x="358" y="14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9" name=""/>
                  <p:cNvSpPr/>
                  <p:nvPr/>
                </p:nvSpPr>
                <p:spPr>
                  <a:xfrm flipV="1" rot="5400000">
                    <a:off x="9948240" y="19006200"/>
                    <a:ext cx="698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947" h="77">
                        <a:moveTo>
                          <a:pt x="1947" y="76"/>
                        </a:moveTo>
                        <a:lnTo>
                          <a:pt x="974" y="0"/>
                        </a:lnTo>
                        <a:lnTo>
                          <a:pt x="0" y="77"/>
                        </a:lnTo>
                        <a:lnTo>
                          <a:pt x="1" y="77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0" name=""/>
                  <p:cNvSpPr/>
                  <p:nvPr/>
                </p:nvSpPr>
                <p:spPr>
                  <a:xfrm flipV="1" rot="5400000">
                    <a:off x="9987120" y="18945000"/>
                    <a:ext cx="2520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744" h="788">
                        <a:moveTo>
                          <a:pt x="744" y="0"/>
                        </a:moveTo>
                        <a:lnTo>
                          <a:pt x="386" y="141"/>
                        </a:lnTo>
                        <a:lnTo>
                          <a:pt x="121" y="421"/>
                        </a:lnTo>
                        <a:lnTo>
                          <a:pt x="0" y="788"/>
                        </a:lnTo>
                        <a:lnTo>
                          <a:pt x="1" y="788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1" name=""/>
                  <p:cNvSpPr/>
                  <p:nvPr/>
                </p:nvSpPr>
                <p:spPr>
                  <a:xfrm flipV="1" rot="5400000">
                    <a:off x="10081080" y="19080360"/>
                    <a:ext cx="1260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50" h="0">
                        <a:moveTo>
                          <a:pt x="0" y="0"/>
                        </a:moveTo>
                        <a:lnTo>
                          <a:pt x="349" y="0"/>
                        </a:lnTo>
                        <a:lnTo>
                          <a:pt x="350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2" name=""/>
                  <p:cNvSpPr/>
                  <p:nvPr/>
                </p:nvSpPr>
                <p:spPr>
                  <a:xfrm flipV="1" rot="5400000">
                    <a:off x="10080720" y="18932040"/>
                    <a:ext cx="129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49" h="0">
                        <a:moveTo>
                          <a:pt x="349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3" name=""/>
                  <p:cNvSpPr/>
                  <p:nvPr/>
                </p:nvSpPr>
                <p:spPr>
                  <a:xfrm flipV="1" rot="5400000">
                    <a:off x="9981000" y="19080360"/>
                    <a:ext cx="1260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50" h="0">
                        <a:moveTo>
                          <a:pt x="0" y="0"/>
                        </a:moveTo>
                        <a:lnTo>
                          <a:pt x="349" y="0"/>
                        </a:lnTo>
                        <a:lnTo>
                          <a:pt x="350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4" name=""/>
                  <p:cNvSpPr/>
                  <p:nvPr/>
                </p:nvSpPr>
                <p:spPr>
                  <a:xfrm flipV="1" rot="5400000">
                    <a:off x="9966600" y="19005840"/>
                    <a:ext cx="255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8" h="0">
                        <a:moveTo>
                          <a:pt x="698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5" name=""/>
                  <p:cNvSpPr/>
                  <p:nvPr/>
                </p:nvSpPr>
                <p:spPr>
                  <a:xfrm flipV="1" rot="5400000">
                    <a:off x="9979200" y="19018080"/>
                    <a:ext cx="144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33">
                        <a:moveTo>
                          <a:pt x="0" y="133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6" name=""/>
                  <p:cNvSpPr/>
                  <p:nvPr/>
                </p:nvSpPr>
                <p:spPr>
                  <a:xfrm flipV="1" rot="5400000">
                    <a:off x="9979560" y="18990720"/>
                    <a:ext cx="36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34">
                        <a:moveTo>
                          <a:pt x="0" y="134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7" name=""/>
                  <p:cNvSpPr/>
                  <p:nvPr/>
                </p:nvSpPr>
                <p:spPr>
                  <a:xfrm flipV="1" rot="5400000">
                    <a:off x="9980640" y="18932040"/>
                    <a:ext cx="129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49" h="0">
                        <a:moveTo>
                          <a:pt x="349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8" name=""/>
                  <p:cNvSpPr/>
                  <p:nvPr/>
                </p:nvSpPr>
                <p:spPr>
                  <a:xfrm flipV="1" rot="5400000">
                    <a:off x="9895680" y="18995760"/>
                    <a:ext cx="12060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3444" h="562">
                        <a:moveTo>
                          <a:pt x="3405" y="560"/>
                        </a:moveTo>
                        <a:lnTo>
                          <a:pt x="3444" y="429"/>
                        </a:lnTo>
                        <a:lnTo>
                          <a:pt x="3366" y="316"/>
                        </a:lnTo>
                        <a:lnTo>
                          <a:pt x="2559" y="78"/>
                        </a:lnTo>
                        <a:lnTo>
                          <a:pt x="1722" y="0"/>
                        </a:lnTo>
                        <a:lnTo>
                          <a:pt x="884" y="79"/>
                        </a:lnTo>
                        <a:lnTo>
                          <a:pt x="78" y="318"/>
                        </a:lnTo>
                        <a:lnTo>
                          <a:pt x="0" y="430"/>
                        </a:lnTo>
                        <a:lnTo>
                          <a:pt x="39" y="562"/>
                        </a:lnTo>
                        <a:lnTo>
                          <a:pt x="40" y="562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9" name=""/>
                  <p:cNvSpPr/>
                  <p:nvPr/>
                </p:nvSpPr>
                <p:spPr>
                  <a:xfrm flipV="1" rot="5400000">
                    <a:off x="9914040" y="18991800"/>
                    <a:ext cx="11412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52" h="740">
                        <a:moveTo>
                          <a:pt x="3152" y="738"/>
                        </a:moveTo>
                        <a:lnTo>
                          <a:pt x="3126" y="512"/>
                        </a:lnTo>
                        <a:lnTo>
                          <a:pt x="2966" y="350"/>
                        </a:lnTo>
                        <a:lnTo>
                          <a:pt x="2290" y="101"/>
                        </a:lnTo>
                        <a:lnTo>
                          <a:pt x="1576" y="0"/>
                        </a:lnTo>
                        <a:lnTo>
                          <a:pt x="862" y="102"/>
                        </a:lnTo>
                        <a:lnTo>
                          <a:pt x="186" y="352"/>
                        </a:lnTo>
                        <a:lnTo>
                          <a:pt x="26" y="514"/>
                        </a:lnTo>
                        <a:lnTo>
                          <a:pt x="0" y="740"/>
                        </a:lnTo>
                        <a:lnTo>
                          <a:pt x="1" y="74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0" name=""/>
                  <p:cNvSpPr/>
                  <p:nvPr/>
                </p:nvSpPr>
                <p:spPr>
                  <a:xfrm flipV="1" rot="5400000">
                    <a:off x="9966240" y="18970920"/>
                    <a:ext cx="3492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023" h="298">
                        <a:moveTo>
                          <a:pt x="1023" y="0"/>
                        </a:moveTo>
                        <a:lnTo>
                          <a:pt x="496" y="98"/>
                        </a:lnTo>
                        <a:lnTo>
                          <a:pt x="0" y="298"/>
                        </a:lnTo>
                        <a:lnTo>
                          <a:pt x="2" y="298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1" name=""/>
                  <p:cNvSpPr/>
                  <p:nvPr/>
                </p:nvSpPr>
                <p:spPr>
                  <a:xfrm flipV="1" rot="5400000">
                    <a:off x="9981360" y="18952200"/>
                    <a:ext cx="93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03" h="97">
                        <a:moveTo>
                          <a:pt x="0" y="0"/>
                        </a:moveTo>
                        <a:lnTo>
                          <a:pt x="78" y="97"/>
                        </a:lnTo>
                        <a:lnTo>
                          <a:pt x="201" y="93"/>
                        </a:lnTo>
                        <a:lnTo>
                          <a:pt x="203" y="9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2" name=""/>
                  <p:cNvSpPr/>
                  <p:nvPr/>
                </p:nvSpPr>
                <p:spPr>
                  <a:xfrm flipV="1" rot="5400000">
                    <a:off x="9975600" y="18939240"/>
                    <a:ext cx="32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496">
                        <a:moveTo>
                          <a:pt x="109" y="496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3" name=""/>
                  <p:cNvSpPr/>
                  <p:nvPr/>
                </p:nvSpPr>
                <p:spPr>
                  <a:xfrm flipV="1" rot="5400000">
                    <a:off x="9963360" y="18943560"/>
                    <a:ext cx="14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160">
                        <a:moveTo>
                          <a:pt x="84" y="0"/>
                        </a:moveTo>
                        <a:lnTo>
                          <a:pt x="13" y="64"/>
                        </a:lnTo>
                        <a:lnTo>
                          <a:pt x="0" y="160"/>
                        </a:lnTo>
                        <a:lnTo>
                          <a:pt x="1" y="16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4" name=""/>
                  <p:cNvSpPr/>
                  <p:nvPr/>
                </p:nvSpPr>
                <p:spPr>
                  <a:xfrm flipV="1" rot="5400000">
                    <a:off x="9963000" y="19061280"/>
                    <a:ext cx="18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159">
                        <a:moveTo>
                          <a:pt x="84" y="159"/>
                        </a:moveTo>
                        <a:lnTo>
                          <a:pt x="71" y="64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5" name=""/>
                  <p:cNvSpPr/>
                  <p:nvPr/>
                </p:nvSpPr>
                <p:spPr>
                  <a:xfrm flipV="1" rot="5400000">
                    <a:off x="9975600" y="19056600"/>
                    <a:ext cx="32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496">
                        <a:moveTo>
                          <a:pt x="109" y="0"/>
                        </a:moveTo>
                        <a:lnTo>
                          <a:pt x="0" y="496"/>
                        </a:lnTo>
                        <a:lnTo>
                          <a:pt x="1" y="496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6" name=""/>
                  <p:cNvSpPr/>
                  <p:nvPr/>
                </p:nvSpPr>
                <p:spPr>
                  <a:xfrm flipV="1" rot="5400000">
                    <a:off x="9981360" y="19056960"/>
                    <a:ext cx="93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02" h="98">
                        <a:moveTo>
                          <a:pt x="0" y="94"/>
                        </a:moveTo>
                        <a:lnTo>
                          <a:pt x="124" y="98"/>
                        </a:lnTo>
                        <a:lnTo>
                          <a:pt x="201" y="0"/>
                        </a:lnTo>
                        <a:lnTo>
                          <a:pt x="202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7" name=""/>
                  <p:cNvSpPr/>
                  <p:nvPr/>
                </p:nvSpPr>
                <p:spPr>
                  <a:xfrm flipV="1" rot="5400000">
                    <a:off x="9966240" y="19031400"/>
                    <a:ext cx="3492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021" h="297">
                        <a:moveTo>
                          <a:pt x="1021" y="297"/>
                        </a:moveTo>
                        <a:lnTo>
                          <a:pt x="525" y="97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48" name=""/>
                <p:cNvSpPr/>
                <p:nvPr/>
              </p:nvSpPr>
              <p:spPr>
                <a:xfrm flipV="1" rot="16200000">
                  <a:off x="10108440" y="18797400"/>
                  <a:ext cx="431640" cy="287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9" name=""/>
                <p:cNvSpPr/>
                <p:nvPr/>
              </p:nvSpPr>
              <p:spPr>
                <a:xfrm>
                  <a:off x="10721880" y="18973800"/>
                  <a:ext cx="360" cy="99720"/>
                </a:xfrm>
                <a:custGeom>
                  <a:avLst/>
                  <a:gdLst/>
                  <a:ahLst/>
                  <a:rect l="l" t="t" r="r" b="b"/>
                  <a:pathLst>
                    <a:path w="2" h="2733">
                      <a:moveTo>
                        <a:pt x="0" y="0"/>
                      </a:moveTo>
                      <a:lnTo>
                        <a:pt x="1" y="2733"/>
                      </a:lnTo>
                      <a:lnTo>
                        <a:pt x="2" y="2733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0" name=""/>
                <p:cNvSpPr/>
                <p:nvPr/>
              </p:nvSpPr>
              <p:spPr>
                <a:xfrm>
                  <a:off x="10734840" y="18973800"/>
                  <a:ext cx="360" cy="99720"/>
                </a:xfrm>
                <a:custGeom>
                  <a:avLst/>
                  <a:gdLst/>
                  <a:ahLst/>
                  <a:rect l="l" t="t" r="r" b="b"/>
                  <a:pathLst>
                    <a:path w="2" h="2733">
                      <a:moveTo>
                        <a:pt x="0" y="0"/>
                      </a:moveTo>
                      <a:lnTo>
                        <a:pt x="1" y="2733"/>
                      </a:lnTo>
                      <a:lnTo>
                        <a:pt x="2" y="2733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1" name=""/>
                <p:cNvSpPr/>
                <p:nvPr/>
              </p:nvSpPr>
              <p:spPr>
                <a:xfrm>
                  <a:off x="10572840" y="18973800"/>
                  <a:ext cx="1440" cy="99720"/>
                </a:xfrm>
                <a:custGeom>
                  <a:avLst/>
                  <a:gdLst/>
                  <a:ahLst/>
                  <a:rect l="l" t="t" r="r" b="b"/>
                  <a:pathLst>
                    <a:path w="2" h="2733">
                      <a:moveTo>
                        <a:pt x="0" y="0"/>
                      </a:moveTo>
                      <a:lnTo>
                        <a:pt x="1" y="2733"/>
                      </a:lnTo>
                      <a:lnTo>
                        <a:pt x="2" y="2733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2" name=""/>
                <p:cNvSpPr/>
                <p:nvPr/>
              </p:nvSpPr>
              <p:spPr>
                <a:xfrm>
                  <a:off x="10585440" y="18973800"/>
                  <a:ext cx="1800" cy="99720"/>
                </a:xfrm>
                <a:custGeom>
                  <a:avLst/>
                  <a:gdLst/>
                  <a:ahLst/>
                  <a:rect l="l" t="t" r="r" b="b"/>
                  <a:pathLst>
                    <a:path w="2" h="2733">
                      <a:moveTo>
                        <a:pt x="0" y="0"/>
                      </a:moveTo>
                      <a:lnTo>
                        <a:pt x="1" y="2733"/>
                      </a:lnTo>
                      <a:lnTo>
                        <a:pt x="2" y="2733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3" name=""/>
                <p:cNvSpPr/>
                <p:nvPr/>
              </p:nvSpPr>
              <p:spPr>
                <a:xfrm>
                  <a:off x="10593360" y="19000800"/>
                  <a:ext cx="360" cy="69840"/>
                </a:xfrm>
                <a:custGeom>
                  <a:avLst/>
                  <a:gdLst/>
                  <a:ahLst/>
                  <a:rect l="l" t="t" r="r" b="b"/>
                  <a:pathLst>
                    <a:path w="19" h="1925">
                      <a:moveTo>
                        <a:pt x="0" y="0"/>
                      </a:moveTo>
                      <a:lnTo>
                        <a:pt x="18" y="1925"/>
                      </a:lnTo>
                      <a:lnTo>
                        <a:pt x="19" y="1925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4" name=""/>
                <p:cNvSpPr/>
                <p:nvPr/>
              </p:nvSpPr>
              <p:spPr>
                <a:xfrm>
                  <a:off x="10593360" y="1907064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w="568" h="605">
                      <a:moveTo>
                        <a:pt x="0" y="0"/>
                      </a:moveTo>
                      <a:lnTo>
                        <a:pt x="184" y="396"/>
                      </a:lnTo>
                      <a:lnTo>
                        <a:pt x="567" y="605"/>
                      </a:lnTo>
                      <a:lnTo>
                        <a:pt x="568" y="605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5" name=""/>
                <p:cNvSpPr/>
                <p:nvPr/>
              </p:nvSpPr>
              <p:spPr>
                <a:xfrm>
                  <a:off x="10612440" y="19092600"/>
                  <a:ext cx="82440" cy="3240"/>
                </a:xfrm>
                <a:custGeom>
                  <a:avLst/>
                  <a:gdLst/>
                  <a:ahLst/>
                  <a:rect l="l" t="t" r="r" b="b"/>
                  <a:pathLst>
                    <a:path w="2269" h="103">
                      <a:moveTo>
                        <a:pt x="0" y="2"/>
                      </a:moveTo>
                      <a:lnTo>
                        <a:pt x="1135" y="103"/>
                      </a:lnTo>
                      <a:lnTo>
                        <a:pt x="2268" y="0"/>
                      </a:lnTo>
                      <a:lnTo>
                        <a:pt x="2269" y="0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6" name=""/>
                <p:cNvSpPr/>
                <p:nvPr/>
              </p:nvSpPr>
              <p:spPr>
                <a:xfrm>
                  <a:off x="10694880" y="1907064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w="568" h="605">
                      <a:moveTo>
                        <a:pt x="0" y="605"/>
                      </a:moveTo>
                      <a:lnTo>
                        <a:pt x="382" y="396"/>
                      </a:lnTo>
                      <a:lnTo>
                        <a:pt x="567" y="0"/>
                      </a:lnTo>
                      <a:lnTo>
                        <a:pt x="568" y="0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7" name=""/>
                <p:cNvSpPr/>
                <p:nvPr/>
              </p:nvSpPr>
              <p:spPr>
                <a:xfrm>
                  <a:off x="10713960" y="19000800"/>
                  <a:ext cx="360" cy="69840"/>
                </a:xfrm>
                <a:custGeom>
                  <a:avLst/>
                  <a:gdLst/>
                  <a:ahLst/>
                  <a:rect l="l" t="t" r="r" b="b"/>
                  <a:pathLst>
                    <a:path w="17" h="1925">
                      <a:moveTo>
                        <a:pt x="0" y="1925"/>
                      </a:moveTo>
                      <a:lnTo>
                        <a:pt x="16" y="0"/>
                      </a:lnTo>
                      <a:lnTo>
                        <a:pt x="17" y="0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8" name=""/>
                <p:cNvSpPr/>
                <p:nvPr/>
              </p:nvSpPr>
              <p:spPr>
                <a:xfrm>
                  <a:off x="10688760" y="18972000"/>
                  <a:ext cx="25200" cy="28800"/>
                </a:xfrm>
                <a:custGeom>
                  <a:avLst/>
                  <a:gdLst/>
                  <a:ahLst/>
                  <a:rect l="l" t="t" r="r" b="b"/>
                  <a:pathLst>
                    <a:path w="745" h="787">
                      <a:moveTo>
                        <a:pt x="745" y="787"/>
                      </a:moveTo>
                      <a:lnTo>
                        <a:pt x="623" y="420"/>
                      </a:lnTo>
                      <a:lnTo>
                        <a:pt x="358" y="140"/>
                      </a:lnTo>
                      <a:lnTo>
                        <a:pt x="0" y="0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9" name=""/>
                <p:cNvSpPr/>
                <p:nvPr/>
              </p:nvSpPr>
              <p:spPr>
                <a:xfrm>
                  <a:off x="10618920" y="18970560"/>
                  <a:ext cx="69840" cy="1440"/>
                </a:xfrm>
                <a:custGeom>
                  <a:avLst/>
                  <a:gdLst/>
                  <a:ahLst/>
                  <a:rect l="l" t="t" r="r" b="b"/>
                  <a:pathLst>
                    <a:path w="1947" h="77">
                      <a:moveTo>
                        <a:pt x="1947" y="76"/>
                      </a:moveTo>
                      <a:lnTo>
                        <a:pt x="974" y="0"/>
                      </a:lnTo>
                      <a:lnTo>
                        <a:pt x="0" y="77"/>
                      </a:lnTo>
                      <a:lnTo>
                        <a:pt x="1" y="77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0" name=""/>
                <p:cNvSpPr/>
                <p:nvPr/>
              </p:nvSpPr>
              <p:spPr>
                <a:xfrm>
                  <a:off x="10593360" y="18972000"/>
                  <a:ext cx="25560" cy="28800"/>
                </a:xfrm>
                <a:custGeom>
                  <a:avLst/>
                  <a:gdLst/>
                  <a:ahLst/>
                  <a:rect l="l" t="t" r="r" b="b"/>
                  <a:pathLst>
                    <a:path w="744" h="788">
                      <a:moveTo>
                        <a:pt x="744" y="0"/>
                      </a:moveTo>
                      <a:lnTo>
                        <a:pt x="386" y="141"/>
                      </a:lnTo>
                      <a:lnTo>
                        <a:pt x="121" y="421"/>
                      </a:lnTo>
                      <a:lnTo>
                        <a:pt x="0" y="788"/>
                      </a:lnTo>
                      <a:lnTo>
                        <a:pt x="1" y="788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1" name=""/>
                <p:cNvSpPr/>
                <p:nvPr/>
              </p:nvSpPr>
              <p:spPr>
                <a:xfrm>
                  <a:off x="10721880" y="19073520"/>
                  <a:ext cx="12960" cy="360"/>
                </a:xfrm>
                <a:custGeom>
                  <a:avLst/>
                  <a:gdLst/>
                  <a:ahLst/>
                  <a:rect l="l" t="t" r="r" b="b"/>
                  <a:pathLst>
                    <a:path w="350" h="0">
                      <a:moveTo>
                        <a:pt x="0" y="0"/>
                      </a:moveTo>
                      <a:lnTo>
                        <a:pt x="349" y="0"/>
                      </a:lnTo>
                      <a:lnTo>
                        <a:pt x="350" y="0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2" name=""/>
                <p:cNvSpPr/>
                <p:nvPr/>
              </p:nvSpPr>
              <p:spPr>
                <a:xfrm>
                  <a:off x="10572840" y="19073520"/>
                  <a:ext cx="12600" cy="360"/>
                </a:xfrm>
                <a:custGeom>
                  <a:avLst/>
                  <a:gdLst/>
                  <a:ahLst/>
                  <a:rect l="l" t="t" r="r" b="b"/>
                  <a:pathLst>
                    <a:path w="349" h="0">
                      <a:moveTo>
                        <a:pt x="349" y="0"/>
                      </a:moveTo>
                      <a:lnTo>
                        <a:pt x="0" y="0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3" name=""/>
                <p:cNvSpPr/>
                <p:nvPr/>
              </p:nvSpPr>
              <p:spPr>
                <a:xfrm>
                  <a:off x="10721880" y="18973800"/>
                  <a:ext cx="12960" cy="360"/>
                </a:xfrm>
                <a:custGeom>
                  <a:avLst/>
                  <a:gdLst/>
                  <a:ahLst/>
                  <a:rect l="l" t="t" r="r" b="b"/>
                  <a:pathLst>
                    <a:path w="350" h="0">
                      <a:moveTo>
                        <a:pt x="0" y="0"/>
                      </a:moveTo>
                      <a:lnTo>
                        <a:pt x="349" y="0"/>
                      </a:lnTo>
                      <a:lnTo>
                        <a:pt x="350" y="0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4" name=""/>
                <p:cNvSpPr/>
                <p:nvPr/>
              </p:nvSpPr>
              <p:spPr>
                <a:xfrm>
                  <a:off x="10641240" y="18965880"/>
                  <a:ext cx="25200" cy="360"/>
                </a:xfrm>
                <a:custGeom>
                  <a:avLst/>
                  <a:gdLst/>
                  <a:ahLst/>
                  <a:rect l="l" t="t" r="r" b="b"/>
                  <a:pathLst>
                    <a:path w="698" h="0">
                      <a:moveTo>
                        <a:pt x="698" y="0"/>
                      </a:moveTo>
                      <a:lnTo>
                        <a:pt x="0" y="0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5" name=""/>
                <p:cNvSpPr/>
                <p:nvPr/>
              </p:nvSpPr>
              <p:spPr>
                <a:xfrm>
                  <a:off x="10666440" y="18965880"/>
                  <a:ext cx="1800" cy="4680"/>
                </a:xfrm>
                <a:custGeom>
                  <a:avLst/>
                  <a:gdLst/>
                  <a:ahLst/>
                  <a:rect l="l" t="t" r="r" b="b"/>
                  <a:pathLst>
                    <a:path w="1" h="133">
                      <a:moveTo>
                        <a:pt x="0" y="133"/>
                      </a:moveTo>
                      <a:lnTo>
                        <a:pt x="0" y="0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6" name=""/>
                <p:cNvSpPr/>
                <p:nvPr/>
              </p:nvSpPr>
              <p:spPr>
                <a:xfrm>
                  <a:off x="10641240" y="18965880"/>
                  <a:ext cx="360" cy="4680"/>
                </a:xfrm>
                <a:custGeom>
                  <a:avLst/>
                  <a:gdLst/>
                  <a:ahLst/>
                  <a:rect l="l" t="t" r="r" b="b"/>
                  <a:pathLst>
                    <a:path w="1" h="134">
                      <a:moveTo>
                        <a:pt x="0" y="134"/>
                      </a:moveTo>
                      <a:lnTo>
                        <a:pt x="0" y="0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7" name=""/>
                <p:cNvSpPr/>
                <p:nvPr/>
              </p:nvSpPr>
              <p:spPr>
                <a:xfrm>
                  <a:off x="10572840" y="18973800"/>
                  <a:ext cx="12600" cy="360"/>
                </a:xfrm>
                <a:custGeom>
                  <a:avLst/>
                  <a:gdLst/>
                  <a:ahLst/>
                  <a:rect l="l" t="t" r="r" b="b"/>
                  <a:pathLst>
                    <a:path w="349" h="0">
                      <a:moveTo>
                        <a:pt x="349" y="0"/>
                      </a:moveTo>
                      <a:lnTo>
                        <a:pt x="0" y="0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8" name=""/>
                <p:cNvSpPr/>
                <p:nvPr/>
              </p:nvSpPr>
              <p:spPr>
                <a:xfrm>
                  <a:off x="10593360" y="18933840"/>
                  <a:ext cx="120600" cy="20880"/>
                </a:xfrm>
                <a:custGeom>
                  <a:avLst/>
                  <a:gdLst/>
                  <a:ahLst/>
                  <a:rect l="l" t="t" r="r" b="b"/>
                  <a:pathLst>
                    <a:path w="3444" h="562">
                      <a:moveTo>
                        <a:pt x="3405" y="560"/>
                      </a:moveTo>
                      <a:lnTo>
                        <a:pt x="3444" y="429"/>
                      </a:lnTo>
                      <a:lnTo>
                        <a:pt x="3366" y="316"/>
                      </a:lnTo>
                      <a:lnTo>
                        <a:pt x="2559" y="78"/>
                      </a:lnTo>
                      <a:lnTo>
                        <a:pt x="1722" y="0"/>
                      </a:lnTo>
                      <a:lnTo>
                        <a:pt x="884" y="79"/>
                      </a:lnTo>
                      <a:lnTo>
                        <a:pt x="78" y="318"/>
                      </a:lnTo>
                      <a:lnTo>
                        <a:pt x="0" y="430"/>
                      </a:lnTo>
                      <a:lnTo>
                        <a:pt x="39" y="562"/>
                      </a:lnTo>
                      <a:lnTo>
                        <a:pt x="40" y="562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9" name=""/>
                <p:cNvSpPr/>
                <p:nvPr/>
              </p:nvSpPr>
              <p:spPr>
                <a:xfrm>
                  <a:off x="10596600" y="18943560"/>
                  <a:ext cx="114480" cy="28440"/>
                </a:xfrm>
                <a:custGeom>
                  <a:avLst/>
                  <a:gdLst/>
                  <a:ahLst/>
                  <a:rect l="l" t="t" r="r" b="b"/>
                  <a:pathLst>
                    <a:path w="3152" h="740">
                      <a:moveTo>
                        <a:pt x="3152" y="738"/>
                      </a:moveTo>
                      <a:lnTo>
                        <a:pt x="3126" y="512"/>
                      </a:lnTo>
                      <a:lnTo>
                        <a:pt x="2966" y="350"/>
                      </a:lnTo>
                      <a:lnTo>
                        <a:pt x="2290" y="101"/>
                      </a:lnTo>
                      <a:lnTo>
                        <a:pt x="1576" y="0"/>
                      </a:lnTo>
                      <a:lnTo>
                        <a:pt x="862" y="102"/>
                      </a:lnTo>
                      <a:lnTo>
                        <a:pt x="186" y="352"/>
                      </a:lnTo>
                      <a:lnTo>
                        <a:pt x="26" y="514"/>
                      </a:lnTo>
                      <a:lnTo>
                        <a:pt x="0" y="740"/>
                      </a:lnTo>
                      <a:lnTo>
                        <a:pt x="1" y="740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0" name=""/>
                <p:cNvSpPr/>
                <p:nvPr/>
              </p:nvSpPr>
              <p:spPr>
                <a:xfrm>
                  <a:off x="10606320" y="18965880"/>
                  <a:ext cx="34920" cy="9360"/>
                </a:xfrm>
                <a:custGeom>
                  <a:avLst/>
                  <a:gdLst/>
                  <a:ahLst/>
                  <a:rect l="l" t="t" r="r" b="b"/>
                  <a:pathLst>
                    <a:path w="1023" h="298">
                      <a:moveTo>
                        <a:pt x="1023" y="0"/>
                      </a:moveTo>
                      <a:lnTo>
                        <a:pt x="496" y="98"/>
                      </a:lnTo>
                      <a:lnTo>
                        <a:pt x="0" y="298"/>
                      </a:lnTo>
                      <a:lnTo>
                        <a:pt x="2" y="298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1" name=""/>
                <p:cNvSpPr/>
                <p:nvPr/>
              </p:nvSpPr>
              <p:spPr>
                <a:xfrm>
                  <a:off x="10596600" y="18972000"/>
                  <a:ext cx="9720" cy="4680"/>
                </a:xfrm>
                <a:custGeom>
                  <a:avLst/>
                  <a:gdLst/>
                  <a:ahLst/>
                  <a:rect l="l" t="t" r="r" b="b"/>
                  <a:pathLst>
                    <a:path w="203" h="97">
                      <a:moveTo>
                        <a:pt x="0" y="0"/>
                      </a:moveTo>
                      <a:lnTo>
                        <a:pt x="78" y="97"/>
                      </a:lnTo>
                      <a:lnTo>
                        <a:pt x="201" y="93"/>
                      </a:lnTo>
                      <a:lnTo>
                        <a:pt x="203" y="93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2" name=""/>
                <p:cNvSpPr/>
                <p:nvPr/>
              </p:nvSpPr>
              <p:spPr>
                <a:xfrm>
                  <a:off x="10593360" y="18956160"/>
                  <a:ext cx="3240" cy="15840"/>
                </a:xfrm>
                <a:custGeom>
                  <a:avLst/>
                  <a:gdLst/>
                  <a:ahLst/>
                  <a:rect l="l" t="t" r="r" b="b"/>
                  <a:pathLst>
                    <a:path w="109" h="496">
                      <a:moveTo>
                        <a:pt x="109" y="496"/>
                      </a:moveTo>
                      <a:lnTo>
                        <a:pt x="0" y="0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3" name=""/>
                <p:cNvSpPr/>
                <p:nvPr/>
              </p:nvSpPr>
              <p:spPr>
                <a:xfrm>
                  <a:off x="10593360" y="18948240"/>
                  <a:ext cx="1800" cy="7920"/>
                </a:xfrm>
                <a:custGeom>
                  <a:avLst/>
                  <a:gdLst/>
                  <a:ahLst/>
                  <a:rect l="l" t="t" r="r" b="b"/>
                  <a:pathLst>
                    <a:path w="84" h="160">
                      <a:moveTo>
                        <a:pt x="84" y="0"/>
                      </a:moveTo>
                      <a:lnTo>
                        <a:pt x="13" y="64"/>
                      </a:lnTo>
                      <a:lnTo>
                        <a:pt x="0" y="160"/>
                      </a:lnTo>
                      <a:lnTo>
                        <a:pt x="1" y="160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4" name=""/>
                <p:cNvSpPr/>
                <p:nvPr/>
              </p:nvSpPr>
              <p:spPr>
                <a:xfrm>
                  <a:off x="10712520" y="18948240"/>
                  <a:ext cx="1440" cy="7920"/>
                </a:xfrm>
                <a:custGeom>
                  <a:avLst/>
                  <a:gdLst/>
                  <a:ahLst/>
                  <a:rect l="l" t="t" r="r" b="b"/>
                  <a:pathLst>
                    <a:path w="84" h="159">
                      <a:moveTo>
                        <a:pt x="84" y="159"/>
                      </a:moveTo>
                      <a:lnTo>
                        <a:pt x="71" y="64"/>
                      </a:lnTo>
                      <a:lnTo>
                        <a:pt x="0" y="0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5" name=""/>
                <p:cNvSpPr/>
                <p:nvPr/>
              </p:nvSpPr>
              <p:spPr>
                <a:xfrm>
                  <a:off x="10711080" y="18956160"/>
                  <a:ext cx="2880" cy="15840"/>
                </a:xfrm>
                <a:custGeom>
                  <a:avLst/>
                  <a:gdLst/>
                  <a:ahLst/>
                  <a:rect l="l" t="t" r="r" b="b"/>
                  <a:pathLst>
                    <a:path w="109" h="496">
                      <a:moveTo>
                        <a:pt x="109" y="0"/>
                      </a:moveTo>
                      <a:lnTo>
                        <a:pt x="0" y="496"/>
                      </a:lnTo>
                      <a:lnTo>
                        <a:pt x="1" y="496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6" name=""/>
                <p:cNvSpPr/>
                <p:nvPr/>
              </p:nvSpPr>
              <p:spPr>
                <a:xfrm>
                  <a:off x="10701360" y="18972000"/>
                  <a:ext cx="9720" cy="4680"/>
                </a:xfrm>
                <a:custGeom>
                  <a:avLst/>
                  <a:gdLst/>
                  <a:ahLst/>
                  <a:rect l="l" t="t" r="r" b="b"/>
                  <a:pathLst>
                    <a:path w="202" h="98">
                      <a:moveTo>
                        <a:pt x="0" y="94"/>
                      </a:moveTo>
                      <a:lnTo>
                        <a:pt x="124" y="98"/>
                      </a:lnTo>
                      <a:lnTo>
                        <a:pt x="201" y="0"/>
                      </a:lnTo>
                      <a:lnTo>
                        <a:pt x="202" y="0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7" name=""/>
                <p:cNvSpPr/>
                <p:nvPr/>
              </p:nvSpPr>
              <p:spPr>
                <a:xfrm>
                  <a:off x="10666440" y="18965880"/>
                  <a:ext cx="34920" cy="9360"/>
                </a:xfrm>
                <a:custGeom>
                  <a:avLst/>
                  <a:gdLst/>
                  <a:ahLst/>
                  <a:rect l="l" t="t" r="r" b="b"/>
                  <a:pathLst>
                    <a:path w="1021" h="297">
                      <a:moveTo>
                        <a:pt x="1021" y="297"/>
                      </a:moveTo>
                      <a:lnTo>
                        <a:pt x="525" y="97"/>
                      </a:lnTo>
                      <a:lnTo>
                        <a:pt x="0" y="0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8" name=""/>
                <p:cNvSpPr/>
                <p:nvPr/>
              </p:nvSpPr>
              <p:spPr>
                <a:xfrm>
                  <a:off x="10539360" y="19084680"/>
                  <a:ext cx="219240" cy="6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9" name=""/>
                <p:cNvSpPr/>
                <p:nvPr/>
              </p:nvSpPr>
              <p:spPr>
                <a:xfrm>
                  <a:off x="10577520" y="19095840"/>
                  <a:ext cx="131760" cy="4788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0" name=""/>
                <p:cNvSpPr/>
                <p:nvPr/>
              </p:nvSpPr>
              <p:spPr>
                <a:xfrm>
                  <a:off x="10584000" y="19103760"/>
                  <a:ext cx="15840" cy="3348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1" name=""/>
                <p:cNvSpPr/>
                <p:nvPr/>
              </p:nvSpPr>
              <p:spPr>
                <a:xfrm>
                  <a:off x="10606320" y="19103760"/>
                  <a:ext cx="96840" cy="3348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2" name=""/>
                <p:cNvSpPr/>
                <p:nvPr/>
              </p:nvSpPr>
              <p:spPr>
                <a:xfrm>
                  <a:off x="10471320" y="19151640"/>
                  <a:ext cx="360360" cy="2156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3" name=""/>
                <p:cNvSpPr/>
                <p:nvPr/>
              </p:nvSpPr>
              <p:spPr>
                <a:xfrm rot="1751400">
                  <a:off x="10519920" y="19186200"/>
                  <a:ext cx="22320" cy="31680"/>
                </a:xfrm>
                <a:prstGeom prst="ellipse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4" name=""/>
                <p:cNvSpPr/>
                <p:nvPr/>
              </p:nvSpPr>
              <p:spPr>
                <a:xfrm>
                  <a:off x="10491840" y="19172160"/>
                  <a:ext cx="68400" cy="6660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5" name=""/>
                <p:cNvSpPr/>
                <p:nvPr/>
              </p:nvSpPr>
              <p:spPr>
                <a:xfrm>
                  <a:off x="10595160" y="19175400"/>
                  <a:ext cx="133200" cy="1458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86" name=""/>
                <p:cNvGrpSpPr/>
                <p:nvPr/>
              </p:nvGrpSpPr>
              <p:grpSpPr>
                <a:xfrm>
                  <a:off x="10603080" y="19195920"/>
                  <a:ext cx="117360" cy="117000"/>
                  <a:chOff x="10603080" y="19195920"/>
                  <a:chExt cx="117360" cy="117000"/>
                </a:xfrm>
              </p:grpSpPr>
              <p:sp>
                <p:nvSpPr>
                  <p:cNvPr id="2987" name=""/>
                  <p:cNvSpPr/>
                  <p:nvPr/>
                </p:nvSpPr>
                <p:spPr>
                  <a:xfrm>
                    <a:off x="10634400" y="19294200"/>
                    <a:ext cx="252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35">
                        <a:moveTo>
                          <a:pt x="0" y="35"/>
                        </a:moveTo>
                        <a:lnTo>
                          <a:pt x="5" y="29"/>
                        </a:lnTo>
                        <a:lnTo>
                          <a:pt x="11" y="23"/>
                        </a:lnTo>
                        <a:lnTo>
                          <a:pt x="17" y="17"/>
                        </a:lnTo>
                        <a:lnTo>
                          <a:pt x="22" y="12"/>
                        </a:lnTo>
                        <a:lnTo>
                          <a:pt x="26" y="8"/>
                        </a:lnTo>
                        <a:lnTo>
                          <a:pt x="30" y="5"/>
                        </a:lnTo>
                        <a:lnTo>
                          <a:pt x="32" y="2"/>
                        </a:lnTo>
                        <a:lnTo>
                          <a:pt x="34" y="1"/>
                        </a:lnTo>
                        <a:lnTo>
                          <a:pt x="34" y="0"/>
                        </a:lnTo>
                        <a:lnTo>
                          <a:pt x="35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8" name=""/>
                  <p:cNvSpPr/>
                  <p:nvPr/>
                </p:nvSpPr>
                <p:spPr>
                  <a:xfrm>
                    <a:off x="10634400" y="19294200"/>
                    <a:ext cx="252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35">
                        <a:moveTo>
                          <a:pt x="0" y="35"/>
                        </a:moveTo>
                        <a:lnTo>
                          <a:pt x="5" y="29"/>
                        </a:lnTo>
                        <a:lnTo>
                          <a:pt x="11" y="23"/>
                        </a:lnTo>
                        <a:lnTo>
                          <a:pt x="17" y="17"/>
                        </a:lnTo>
                        <a:lnTo>
                          <a:pt x="22" y="12"/>
                        </a:lnTo>
                        <a:lnTo>
                          <a:pt x="26" y="8"/>
                        </a:lnTo>
                        <a:lnTo>
                          <a:pt x="30" y="5"/>
                        </a:lnTo>
                        <a:lnTo>
                          <a:pt x="32" y="2"/>
                        </a:lnTo>
                        <a:lnTo>
                          <a:pt x="34" y="1"/>
                        </a:lnTo>
                        <a:lnTo>
                          <a:pt x="34" y="0"/>
                        </a:lnTo>
                        <a:lnTo>
                          <a:pt x="35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9" name=""/>
                  <p:cNvSpPr/>
                  <p:nvPr/>
                </p:nvSpPr>
                <p:spPr>
                  <a:xfrm>
                    <a:off x="10603080" y="19195920"/>
                    <a:ext cx="117360" cy="4968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80" bIns="2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0" name=""/>
                  <p:cNvSpPr/>
                  <p:nvPr/>
                </p:nvSpPr>
                <p:spPr>
                  <a:xfrm>
                    <a:off x="10611720" y="19247400"/>
                    <a:ext cx="101160" cy="65520"/>
                  </a:xfrm>
                  <a:custGeom>
                    <a:avLst/>
                    <a:gdLst>
                      <a:gd name="textAreaLeft" fmla="*/ 22320 w 101160"/>
                      <a:gd name="textAreaRight" fmla="*/ 78840 w 101160"/>
                      <a:gd name="textAreaTop" fmla="*/ 14400 h 65520"/>
                      <a:gd name="textAreaBottom" fmla="*/ 51120 h 655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080" bIns="-10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91" name=""/>
              <p:cNvGrpSpPr/>
              <p:nvPr/>
            </p:nvGrpSpPr>
            <p:grpSpPr>
              <a:xfrm>
                <a:off x="6649560" y="20154600"/>
                <a:ext cx="885960" cy="641520"/>
                <a:chOff x="6649560" y="20154600"/>
                <a:chExt cx="885960" cy="641520"/>
              </a:xfrm>
            </p:grpSpPr>
            <p:grpSp>
              <p:nvGrpSpPr>
                <p:cNvPr id="2992" name=""/>
                <p:cNvGrpSpPr/>
                <p:nvPr/>
              </p:nvGrpSpPr>
              <p:grpSpPr>
                <a:xfrm>
                  <a:off x="7372080" y="20434320"/>
                  <a:ext cx="163440" cy="162360"/>
                  <a:chOff x="7372080" y="20434320"/>
                  <a:chExt cx="163440" cy="162360"/>
                </a:xfrm>
              </p:grpSpPr>
              <p:sp>
                <p:nvSpPr>
                  <p:cNvPr id="2993" name=""/>
                  <p:cNvSpPr/>
                  <p:nvPr/>
                </p:nvSpPr>
                <p:spPr>
                  <a:xfrm flipH="1" rot="5400000">
                    <a:off x="7445520" y="20396880"/>
                    <a:ext cx="36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4" name=""/>
                  <p:cNvSpPr/>
                  <p:nvPr/>
                </p:nvSpPr>
                <p:spPr>
                  <a:xfrm flipH="1" rot="5400000">
                    <a:off x="7445520" y="20384280"/>
                    <a:ext cx="36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5" name=""/>
                  <p:cNvSpPr/>
                  <p:nvPr/>
                </p:nvSpPr>
                <p:spPr>
                  <a:xfrm flipH="1" rot="5400000">
                    <a:off x="7444800" y="20545560"/>
                    <a:ext cx="180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6" name=""/>
                  <p:cNvSpPr/>
                  <p:nvPr/>
                </p:nvSpPr>
                <p:spPr>
                  <a:xfrm flipH="1" rot="5400000">
                    <a:off x="7445160" y="20532240"/>
                    <a:ext cx="144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7" name=""/>
                  <p:cNvSpPr/>
                  <p:nvPr/>
                </p:nvSpPr>
                <p:spPr>
                  <a:xfrm flipH="1" rot="5400000">
                    <a:off x="7431840" y="20540520"/>
                    <a:ext cx="36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925">
                        <a:moveTo>
                          <a:pt x="0" y="0"/>
                        </a:moveTo>
                        <a:lnTo>
                          <a:pt x="18" y="1925"/>
                        </a:lnTo>
                        <a:lnTo>
                          <a:pt x="19" y="1925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8" name=""/>
                  <p:cNvSpPr/>
                  <p:nvPr/>
                </p:nvSpPr>
                <p:spPr>
                  <a:xfrm flipH="1" rot="5400000">
                    <a:off x="7376400" y="20555280"/>
                    <a:ext cx="190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568" h="605">
                        <a:moveTo>
                          <a:pt x="0" y="0"/>
                        </a:moveTo>
                        <a:lnTo>
                          <a:pt x="184" y="396"/>
                        </a:lnTo>
                        <a:lnTo>
                          <a:pt x="567" y="605"/>
                        </a:lnTo>
                        <a:lnTo>
                          <a:pt x="568" y="605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9" name=""/>
                  <p:cNvSpPr/>
                  <p:nvPr/>
                </p:nvSpPr>
                <p:spPr>
                  <a:xfrm flipH="1" rot="5400000">
                    <a:off x="7332120" y="20513880"/>
                    <a:ext cx="824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269" h="103">
                        <a:moveTo>
                          <a:pt x="0" y="2"/>
                        </a:moveTo>
                        <a:lnTo>
                          <a:pt x="1135" y="103"/>
                        </a:lnTo>
                        <a:lnTo>
                          <a:pt x="2268" y="0"/>
                        </a:lnTo>
                        <a:lnTo>
                          <a:pt x="2269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0" name=""/>
                  <p:cNvSpPr/>
                  <p:nvPr/>
                </p:nvSpPr>
                <p:spPr>
                  <a:xfrm flipH="1" rot="5400000">
                    <a:off x="7376400" y="20453760"/>
                    <a:ext cx="190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568" h="605">
                        <a:moveTo>
                          <a:pt x="0" y="605"/>
                        </a:moveTo>
                        <a:lnTo>
                          <a:pt x="382" y="396"/>
                        </a:lnTo>
                        <a:lnTo>
                          <a:pt x="567" y="0"/>
                        </a:lnTo>
                        <a:lnTo>
                          <a:pt x="568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1" name=""/>
                  <p:cNvSpPr/>
                  <p:nvPr/>
                </p:nvSpPr>
                <p:spPr>
                  <a:xfrm flipH="1" rot="5400000">
                    <a:off x="7431840" y="20419920"/>
                    <a:ext cx="36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925">
                        <a:moveTo>
                          <a:pt x="0" y="1925"/>
                        </a:moveTo>
                        <a:lnTo>
                          <a:pt x="16" y="0"/>
                        </a:lnTo>
                        <a:lnTo>
                          <a:pt x="17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2" name=""/>
                  <p:cNvSpPr/>
                  <p:nvPr/>
                </p:nvSpPr>
                <p:spPr>
                  <a:xfrm flipH="1" rot="5400000">
                    <a:off x="7468560" y="20453400"/>
                    <a:ext cx="2556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745" h="787">
                        <a:moveTo>
                          <a:pt x="745" y="787"/>
                        </a:moveTo>
                        <a:lnTo>
                          <a:pt x="623" y="420"/>
                        </a:lnTo>
                        <a:lnTo>
                          <a:pt x="358" y="14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3" name=""/>
                  <p:cNvSpPr/>
                  <p:nvPr/>
                </p:nvSpPr>
                <p:spPr>
                  <a:xfrm flipH="1" rot="5400000">
                    <a:off x="7463160" y="20514240"/>
                    <a:ext cx="698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947" h="77">
                        <a:moveTo>
                          <a:pt x="1947" y="76"/>
                        </a:moveTo>
                        <a:lnTo>
                          <a:pt x="974" y="0"/>
                        </a:lnTo>
                        <a:lnTo>
                          <a:pt x="0" y="77"/>
                        </a:lnTo>
                        <a:lnTo>
                          <a:pt x="1" y="77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4" name=""/>
                  <p:cNvSpPr/>
                  <p:nvPr/>
                </p:nvSpPr>
                <p:spPr>
                  <a:xfrm flipH="1" rot="5400000">
                    <a:off x="7468920" y="20548080"/>
                    <a:ext cx="2520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744" h="788">
                        <a:moveTo>
                          <a:pt x="744" y="0"/>
                        </a:moveTo>
                        <a:lnTo>
                          <a:pt x="386" y="141"/>
                        </a:lnTo>
                        <a:lnTo>
                          <a:pt x="121" y="421"/>
                        </a:lnTo>
                        <a:lnTo>
                          <a:pt x="0" y="788"/>
                        </a:lnTo>
                        <a:lnTo>
                          <a:pt x="1" y="788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5" name=""/>
                  <p:cNvSpPr/>
                  <p:nvPr/>
                </p:nvSpPr>
                <p:spPr>
                  <a:xfrm flipH="1" rot="5400000">
                    <a:off x="7387200" y="20440800"/>
                    <a:ext cx="1260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50" h="0">
                        <a:moveTo>
                          <a:pt x="0" y="0"/>
                        </a:moveTo>
                        <a:lnTo>
                          <a:pt x="349" y="0"/>
                        </a:lnTo>
                        <a:lnTo>
                          <a:pt x="350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6" name=""/>
                  <p:cNvSpPr/>
                  <p:nvPr/>
                </p:nvSpPr>
                <p:spPr>
                  <a:xfrm flipH="1" rot="5400000">
                    <a:off x="7386840" y="20589120"/>
                    <a:ext cx="129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49" h="0">
                        <a:moveTo>
                          <a:pt x="349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7" name=""/>
                  <p:cNvSpPr/>
                  <p:nvPr/>
                </p:nvSpPr>
                <p:spPr>
                  <a:xfrm flipH="1" rot="5400000">
                    <a:off x="7487280" y="20440800"/>
                    <a:ext cx="1260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50" h="0">
                        <a:moveTo>
                          <a:pt x="0" y="0"/>
                        </a:moveTo>
                        <a:lnTo>
                          <a:pt x="349" y="0"/>
                        </a:lnTo>
                        <a:lnTo>
                          <a:pt x="350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8" name=""/>
                  <p:cNvSpPr/>
                  <p:nvPr/>
                </p:nvSpPr>
                <p:spPr>
                  <a:xfrm flipH="1" rot="5400000">
                    <a:off x="7488720" y="20515320"/>
                    <a:ext cx="255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8" h="0">
                        <a:moveTo>
                          <a:pt x="698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9" name=""/>
                  <p:cNvSpPr/>
                  <p:nvPr/>
                </p:nvSpPr>
                <p:spPr>
                  <a:xfrm flipH="1" rot="5400000">
                    <a:off x="7500600" y="20498760"/>
                    <a:ext cx="144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33">
                        <a:moveTo>
                          <a:pt x="0" y="133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0" name=""/>
                  <p:cNvSpPr/>
                  <p:nvPr/>
                </p:nvSpPr>
                <p:spPr>
                  <a:xfrm flipH="1" rot="5400000">
                    <a:off x="7500960" y="20525400"/>
                    <a:ext cx="36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34">
                        <a:moveTo>
                          <a:pt x="0" y="134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1" name=""/>
                  <p:cNvSpPr/>
                  <p:nvPr/>
                </p:nvSpPr>
                <p:spPr>
                  <a:xfrm flipH="1" rot="5400000">
                    <a:off x="7486920" y="20589120"/>
                    <a:ext cx="129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49" h="0">
                        <a:moveTo>
                          <a:pt x="349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2" name=""/>
                  <p:cNvSpPr/>
                  <p:nvPr/>
                </p:nvSpPr>
                <p:spPr>
                  <a:xfrm flipH="1" rot="5400000">
                    <a:off x="7464600" y="20505240"/>
                    <a:ext cx="12060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3444" h="562">
                        <a:moveTo>
                          <a:pt x="3405" y="560"/>
                        </a:moveTo>
                        <a:lnTo>
                          <a:pt x="3444" y="429"/>
                        </a:lnTo>
                        <a:lnTo>
                          <a:pt x="3366" y="316"/>
                        </a:lnTo>
                        <a:lnTo>
                          <a:pt x="2559" y="78"/>
                        </a:lnTo>
                        <a:lnTo>
                          <a:pt x="1722" y="0"/>
                        </a:lnTo>
                        <a:lnTo>
                          <a:pt x="884" y="79"/>
                        </a:lnTo>
                        <a:lnTo>
                          <a:pt x="78" y="318"/>
                        </a:lnTo>
                        <a:lnTo>
                          <a:pt x="0" y="430"/>
                        </a:lnTo>
                        <a:lnTo>
                          <a:pt x="39" y="562"/>
                        </a:lnTo>
                        <a:lnTo>
                          <a:pt x="40" y="562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3" name=""/>
                  <p:cNvSpPr/>
                  <p:nvPr/>
                </p:nvSpPr>
                <p:spPr>
                  <a:xfrm flipH="1" rot="5400000">
                    <a:off x="7452720" y="20501280"/>
                    <a:ext cx="11412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52" h="740">
                        <a:moveTo>
                          <a:pt x="3152" y="738"/>
                        </a:moveTo>
                        <a:lnTo>
                          <a:pt x="3126" y="512"/>
                        </a:lnTo>
                        <a:lnTo>
                          <a:pt x="2966" y="350"/>
                        </a:lnTo>
                        <a:lnTo>
                          <a:pt x="2290" y="101"/>
                        </a:lnTo>
                        <a:lnTo>
                          <a:pt x="1576" y="0"/>
                        </a:lnTo>
                        <a:lnTo>
                          <a:pt x="862" y="102"/>
                        </a:lnTo>
                        <a:lnTo>
                          <a:pt x="186" y="352"/>
                        </a:lnTo>
                        <a:lnTo>
                          <a:pt x="26" y="514"/>
                        </a:lnTo>
                        <a:lnTo>
                          <a:pt x="0" y="740"/>
                        </a:lnTo>
                        <a:lnTo>
                          <a:pt x="1" y="74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4" name=""/>
                  <p:cNvSpPr/>
                  <p:nvPr/>
                </p:nvSpPr>
                <p:spPr>
                  <a:xfrm flipH="1" rot="5400000">
                    <a:off x="7479720" y="20540880"/>
                    <a:ext cx="3492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023" h="298">
                        <a:moveTo>
                          <a:pt x="1023" y="0"/>
                        </a:moveTo>
                        <a:lnTo>
                          <a:pt x="496" y="98"/>
                        </a:lnTo>
                        <a:lnTo>
                          <a:pt x="0" y="298"/>
                        </a:lnTo>
                        <a:lnTo>
                          <a:pt x="2" y="298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5" name=""/>
                  <p:cNvSpPr/>
                  <p:nvPr/>
                </p:nvSpPr>
                <p:spPr>
                  <a:xfrm flipH="1" rot="5400000">
                    <a:off x="7489800" y="20564640"/>
                    <a:ext cx="93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03" h="97">
                        <a:moveTo>
                          <a:pt x="0" y="0"/>
                        </a:moveTo>
                        <a:lnTo>
                          <a:pt x="78" y="97"/>
                        </a:lnTo>
                        <a:lnTo>
                          <a:pt x="201" y="93"/>
                        </a:lnTo>
                        <a:lnTo>
                          <a:pt x="203" y="9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6" name=""/>
                  <p:cNvSpPr/>
                  <p:nvPr/>
                </p:nvSpPr>
                <p:spPr>
                  <a:xfrm flipH="1" rot="5400000">
                    <a:off x="7502040" y="20566080"/>
                    <a:ext cx="32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496">
                        <a:moveTo>
                          <a:pt x="109" y="496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7" name=""/>
                  <p:cNvSpPr/>
                  <p:nvPr/>
                </p:nvSpPr>
                <p:spPr>
                  <a:xfrm flipH="1" rot="5400000">
                    <a:off x="7516440" y="20570400"/>
                    <a:ext cx="14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160">
                        <a:moveTo>
                          <a:pt x="84" y="0"/>
                        </a:moveTo>
                        <a:lnTo>
                          <a:pt x="13" y="64"/>
                        </a:lnTo>
                        <a:lnTo>
                          <a:pt x="0" y="160"/>
                        </a:lnTo>
                        <a:lnTo>
                          <a:pt x="1" y="16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8" name=""/>
                  <p:cNvSpPr/>
                  <p:nvPr/>
                </p:nvSpPr>
                <p:spPr>
                  <a:xfrm flipH="1" rot="5400000">
                    <a:off x="7516080" y="20451960"/>
                    <a:ext cx="18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159">
                        <a:moveTo>
                          <a:pt x="84" y="159"/>
                        </a:moveTo>
                        <a:lnTo>
                          <a:pt x="71" y="64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9" name=""/>
                  <p:cNvSpPr/>
                  <p:nvPr/>
                </p:nvSpPr>
                <p:spPr>
                  <a:xfrm flipH="1" rot="5400000">
                    <a:off x="7502040" y="20448720"/>
                    <a:ext cx="32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496">
                        <a:moveTo>
                          <a:pt x="109" y="0"/>
                        </a:moveTo>
                        <a:lnTo>
                          <a:pt x="0" y="496"/>
                        </a:lnTo>
                        <a:lnTo>
                          <a:pt x="1" y="496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0" name=""/>
                  <p:cNvSpPr/>
                  <p:nvPr/>
                </p:nvSpPr>
                <p:spPr>
                  <a:xfrm flipH="1" rot="5400000">
                    <a:off x="7489800" y="20459880"/>
                    <a:ext cx="93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02" h="98">
                        <a:moveTo>
                          <a:pt x="0" y="94"/>
                        </a:moveTo>
                        <a:lnTo>
                          <a:pt x="124" y="98"/>
                        </a:lnTo>
                        <a:lnTo>
                          <a:pt x="201" y="0"/>
                        </a:lnTo>
                        <a:lnTo>
                          <a:pt x="202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1" name=""/>
                  <p:cNvSpPr/>
                  <p:nvPr/>
                </p:nvSpPr>
                <p:spPr>
                  <a:xfrm flipH="1" rot="5400000">
                    <a:off x="7479720" y="20480400"/>
                    <a:ext cx="3492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021" h="297">
                        <a:moveTo>
                          <a:pt x="1021" y="297"/>
                        </a:moveTo>
                        <a:lnTo>
                          <a:pt x="525" y="97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022" name=""/>
                <p:cNvSpPr/>
                <p:nvPr/>
              </p:nvSpPr>
              <p:spPr>
                <a:xfrm flipH="1" rot="16200000">
                  <a:off x="6940800" y="20436480"/>
                  <a:ext cx="431640" cy="287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3" name=""/>
                <p:cNvSpPr/>
                <p:nvPr/>
              </p:nvSpPr>
              <p:spPr>
                <a:xfrm flipH="1" flipV="1">
                  <a:off x="6758640" y="20448000"/>
                  <a:ext cx="360" cy="99720"/>
                </a:xfrm>
                <a:custGeom>
                  <a:avLst/>
                  <a:gdLst/>
                  <a:ahLst/>
                  <a:rect l="l" t="t" r="r" b="b"/>
                  <a:pathLst>
                    <a:path w="2" h="2733">
                      <a:moveTo>
                        <a:pt x="0" y="0"/>
                      </a:moveTo>
                      <a:lnTo>
                        <a:pt x="1" y="2733"/>
                      </a:lnTo>
                      <a:lnTo>
                        <a:pt x="2" y="2733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4" name=""/>
                <p:cNvSpPr/>
                <p:nvPr/>
              </p:nvSpPr>
              <p:spPr>
                <a:xfrm flipH="1" flipV="1">
                  <a:off x="6745680" y="20448000"/>
                  <a:ext cx="360" cy="99720"/>
                </a:xfrm>
                <a:custGeom>
                  <a:avLst/>
                  <a:gdLst/>
                  <a:ahLst/>
                  <a:rect l="l" t="t" r="r" b="b"/>
                  <a:pathLst>
                    <a:path w="2" h="2733">
                      <a:moveTo>
                        <a:pt x="0" y="0"/>
                      </a:moveTo>
                      <a:lnTo>
                        <a:pt x="1" y="2733"/>
                      </a:lnTo>
                      <a:lnTo>
                        <a:pt x="2" y="2733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5" name=""/>
                <p:cNvSpPr/>
                <p:nvPr/>
              </p:nvSpPr>
              <p:spPr>
                <a:xfrm flipH="1" flipV="1">
                  <a:off x="6906960" y="20448000"/>
                  <a:ext cx="1440" cy="99720"/>
                </a:xfrm>
                <a:custGeom>
                  <a:avLst/>
                  <a:gdLst/>
                  <a:ahLst/>
                  <a:rect l="l" t="t" r="r" b="b"/>
                  <a:pathLst>
                    <a:path w="2" h="2733">
                      <a:moveTo>
                        <a:pt x="0" y="0"/>
                      </a:moveTo>
                      <a:lnTo>
                        <a:pt x="1" y="2733"/>
                      </a:lnTo>
                      <a:lnTo>
                        <a:pt x="2" y="2733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6" name=""/>
                <p:cNvSpPr/>
                <p:nvPr/>
              </p:nvSpPr>
              <p:spPr>
                <a:xfrm flipH="1" flipV="1">
                  <a:off x="6893640" y="20448000"/>
                  <a:ext cx="1800" cy="99720"/>
                </a:xfrm>
                <a:custGeom>
                  <a:avLst/>
                  <a:gdLst/>
                  <a:ahLst/>
                  <a:rect l="l" t="t" r="r" b="b"/>
                  <a:pathLst>
                    <a:path w="2" h="2733">
                      <a:moveTo>
                        <a:pt x="0" y="0"/>
                      </a:moveTo>
                      <a:lnTo>
                        <a:pt x="1" y="2733"/>
                      </a:lnTo>
                      <a:lnTo>
                        <a:pt x="2" y="2733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7" name=""/>
                <p:cNvSpPr/>
                <p:nvPr/>
              </p:nvSpPr>
              <p:spPr>
                <a:xfrm flipH="1" flipV="1">
                  <a:off x="6887160" y="20451240"/>
                  <a:ext cx="360" cy="69840"/>
                </a:xfrm>
                <a:custGeom>
                  <a:avLst/>
                  <a:gdLst/>
                  <a:ahLst/>
                  <a:rect l="l" t="t" r="r" b="b"/>
                  <a:pathLst>
                    <a:path w="19" h="1925">
                      <a:moveTo>
                        <a:pt x="0" y="0"/>
                      </a:moveTo>
                      <a:lnTo>
                        <a:pt x="18" y="1925"/>
                      </a:lnTo>
                      <a:lnTo>
                        <a:pt x="19" y="1925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8" name=""/>
                <p:cNvSpPr/>
                <p:nvPr/>
              </p:nvSpPr>
              <p:spPr>
                <a:xfrm flipH="1" flipV="1">
                  <a:off x="6868440" y="2042892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w="568" h="605">
                      <a:moveTo>
                        <a:pt x="0" y="0"/>
                      </a:moveTo>
                      <a:lnTo>
                        <a:pt x="184" y="396"/>
                      </a:lnTo>
                      <a:lnTo>
                        <a:pt x="567" y="605"/>
                      </a:lnTo>
                      <a:lnTo>
                        <a:pt x="568" y="605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9" name=""/>
                <p:cNvSpPr/>
                <p:nvPr/>
              </p:nvSpPr>
              <p:spPr>
                <a:xfrm flipH="1" flipV="1">
                  <a:off x="6786000" y="20425680"/>
                  <a:ext cx="82440" cy="3240"/>
                </a:xfrm>
                <a:custGeom>
                  <a:avLst/>
                  <a:gdLst/>
                  <a:ahLst/>
                  <a:rect l="l" t="t" r="r" b="b"/>
                  <a:pathLst>
                    <a:path w="2269" h="103">
                      <a:moveTo>
                        <a:pt x="0" y="2"/>
                      </a:moveTo>
                      <a:lnTo>
                        <a:pt x="1135" y="103"/>
                      </a:lnTo>
                      <a:lnTo>
                        <a:pt x="2268" y="0"/>
                      </a:lnTo>
                      <a:lnTo>
                        <a:pt x="2269" y="0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0" name=""/>
                <p:cNvSpPr/>
                <p:nvPr/>
              </p:nvSpPr>
              <p:spPr>
                <a:xfrm flipH="1" flipV="1">
                  <a:off x="6766920" y="2042892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w="568" h="605">
                      <a:moveTo>
                        <a:pt x="0" y="605"/>
                      </a:moveTo>
                      <a:lnTo>
                        <a:pt x="382" y="396"/>
                      </a:lnTo>
                      <a:lnTo>
                        <a:pt x="567" y="0"/>
                      </a:lnTo>
                      <a:lnTo>
                        <a:pt x="568" y="0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1" name=""/>
                <p:cNvSpPr/>
                <p:nvPr/>
              </p:nvSpPr>
              <p:spPr>
                <a:xfrm flipH="1" flipV="1">
                  <a:off x="6766560" y="20451240"/>
                  <a:ext cx="360" cy="69840"/>
                </a:xfrm>
                <a:custGeom>
                  <a:avLst/>
                  <a:gdLst/>
                  <a:ahLst/>
                  <a:rect l="l" t="t" r="r" b="b"/>
                  <a:pathLst>
                    <a:path w="17" h="1925">
                      <a:moveTo>
                        <a:pt x="0" y="1925"/>
                      </a:moveTo>
                      <a:lnTo>
                        <a:pt x="16" y="0"/>
                      </a:lnTo>
                      <a:lnTo>
                        <a:pt x="17" y="0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2" name=""/>
                <p:cNvSpPr/>
                <p:nvPr/>
              </p:nvSpPr>
              <p:spPr>
                <a:xfrm flipH="1" flipV="1">
                  <a:off x="6767280" y="20521080"/>
                  <a:ext cx="25200" cy="28800"/>
                </a:xfrm>
                <a:custGeom>
                  <a:avLst/>
                  <a:gdLst/>
                  <a:ahLst/>
                  <a:rect l="l" t="t" r="r" b="b"/>
                  <a:pathLst>
                    <a:path w="745" h="787">
                      <a:moveTo>
                        <a:pt x="745" y="787"/>
                      </a:moveTo>
                      <a:lnTo>
                        <a:pt x="623" y="420"/>
                      </a:lnTo>
                      <a:lnTo>
                        <a:pt x="358" y="140"/>
                      </a:lnTo>
                      <a:lnTo>
                        <a:pt x="0" y="0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3" name=""/>
                <p:cNvSpPr/>
                <p:nvPr/>
              </p:nvSpPr>
              <p:spPr>
                <a:xfrm flipH="1" flipV="1">
                  <a:off x="6792480" y="20549880"/>
                  <a:ext cx="69840" cy="1440"/>
                </a:xfrm>
                <a:custGeom>
                  <a:avLst/>
                  <a:gdLst/>
                  <a:ahLst/>
                  <a:rect l="l" t="t" r="r" b="b"/>
                  <a:pathLst>
                    <a:path w="1947" h="77">
                      <a:moveTo>
                        <a:pt x="1947" y="76"/>
                      </a:moveTo>
                      <a:lnTo>
                        <a:pt x="974" y="0"/>
                      </a:lnTo>
                      <a:lnTo>
                        <a:pt x="0" y="77"/>
                      </a:lnTo>
                      <a:lnTo>
                        <a:pt x="1" y="77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4" name=""/>
                <p:cNvSpPr/>
                <p:nvPr/>
              </p:nvSpPr>
              <p:spPr>
                <a:xfrm flipH="1" flipV="1">
                  <a:off x="6861960" y="20521080"/>
                  <a:ext cx="25560" cy="28800"/>
                </a:xfrm>
                <a:custGeom>
                  <a:avLst/>
                  <a:gdLst/>
                  <a:ahLst/>
                  <a:rect l="l" t="t" r="r" b="b"/>
                  <a:pathLst>
                    <a:path w="744" h="788">
                      <a:moveTo>
                        <a:pt x="744" y="0"/>
                      </a:moveTo>
                      <a:lnTo>
                        <a:pt x="386" y="141"/>
                      </a:lnTo>
                      <a:lnTo>
                        <a:pt x="121" y="421"/>
                      </a:lnTo>
                      <a:lnTo>
                        <a:pt x="0" y="788"/>
                      </a:lnTo>
                      <a:lnTo>
                        <a:pt x="1" y="788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5" name=""/>
                <p:cNvSpPr/>
                <p:nvPr/>
              </p:nvSpPr>
              <p:spPr>
                <a:xfrm flipH="1" flipV="1">
                  <a:off x="6746400" y="20447640"/>
                  <a:ext cx="12960" cy="360"/>
                </a:xfrm>
                <a:custGeom>
                  <a:avLst/>
                  <a:gdLst/>
                  <a:ahLst/>
                  <a:rect l="l" t="t" r="r" b="b"/>
                  <a:pathLst>
                    <a:path w="350" h="0">
                      <a:moveTo>
                        <a:pt x="0" y="0"/>
                      </a:moveTo>
                      <a:lnTo>
                        <a:pt x="349" y="0"/>
                      </a:lnTo>
                      <a:lnTo>
                        <a:pt x="350" y="0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6" name=""/>
                <p:cNvSpPr/>
                <p:nvPr/>
              </p:nvSpPr>
              <p:spPr>
                <a:xfrm flipH="1" flipV="1">
                  <a:off x="6895440" y="20447640"/>
                  <a:ext cx="12600" cy="360"/>
                </a:xfrm>
                <a:custGeom>
                  <a:avLst/>
                  <a:gdLst/>
                  <a:ahLst/>
                  <a:rect l="l" t="t" r="r" b="b"/>
                  <a:pathLst>
                    <a:path w="349" h="0">
                      <a:moveTo>
                        <a:pt x="349" y="0"/>
                      </a:moveTo>
                      <a:lnTo>
                        <a:pt x="0" y="0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7" name=""/>
                <p:cNvSpPr/>
                <p:nvPr/>
              </p:nvSpPr>
              <p:spPr>
                <a:xfrm flipH="1" flipV="1">
                  <a:off x="6746400" y="20547360"/>
                  <a:ext cx="12960" cy="360"/>
                </a:xfrm>
                <a:custGeom>
                  <a:avLst/>
                  <a:gdLst/>
                  <a:ahLst/>
                  <a:rect l="l" t="t" r="r" b="b"/>
                  <a:pathLst>
                    <a:path w="350" h="0">
                      <a:moveTo>
                        <a:pt x="0" y="0"/>
                      </a:moveTo>
                      <a:lnTo>
                        <a:pt x="349" y="0"/>
                      </a:lnTo>
                      <a:lnTo>
                        <a:pt x="350" y="0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8" name=""/>
                <p:cNvSpPr/>
                <p:nvPr/>
              </p:nvSpPr>
              <p:spPr>
                <a:xfrm flipH="1" flipV="1">
                  <a:off x="6814800" y="20555280"/>
                  <a:ext cx="25200" cy="360"/>
                </a:xfrm>
                <a:custGeom>
                  <a:avLst/>
                  <a:gdLst/>
                  <a:ahLst/>
                  <a:rect l="l" t="t" r="r" b="b"/>
                  <a:pathLst>
                    <a:path w="698" h="0">
                      <a:moveTo>
                        <a:pt x="698" y="0"/>
                      </a:moveTo>
                      <a:lnTo>
                        <a:pt x="0" y="0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9" name=""/>
                <p:cNvSpPr/>
                <p:nvPr/>
              </p:nvSpPr>
              <p:spPr>
                <a:xfrm flipH="1" flipV="1">
                  <a:off x="6812640" y="20550960"/>
                  <a:ext cx="1800" cy="4680"/>
                </a:xfrm>
                <a:custGeom>
                  <a:avLst/>
                  <a:gdLst/>
                  <a:ahLst/>
                  <a:rect l="l" t="t" r="r" b="b"/>
                  <a:pathLst>
                    <a:path w="1" h="133">
                      <a:moveTo>
                        <a:pt x="0" y="133"/>
                      </a:moveTo>
                      <a:lnTo>
                        <a:pt x="0" y="0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0" name=""/>
                <p:cNvSpPr/>
                <p:nvPr/>
              </p:nvSpPr>
              <p:spPr>
                <a:xfrm flipH="1" flipV="1">
                  <a:off x="6839280" y="20550960"/>
                  <a:ext cx="360" cy="4680"/>
                </a:xfrm>
                <a:custGeom>
                  <a:avLst/>
                  <a:gdLst/>
                  <a:ahLst/>
                  <a:rect l="l" t="t" r="r" b="b"/>
                  <a:pathLst>
                    <a:path w="1" h="134">
                      <a:moveTo>
                        <a:pt x="0" y="134"/>
                      </a:moveTo>
                      <a:lnTo>
                        <a:pt x="0" y="0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1" name=""/>
                <p:cNvSpPr/>
                <p:nvPr/>
              </p:nvSpPr>
              <p:spPr>
                <a:xfrm flipH="1" flipV="1">
                  <a:off x="6895440" y="20547360"/>
                  <a:ext cx="12600" cy="360"/>
                </a:xfrm>
                <a:custGeom>
                  <a:avLst/>
                  <a:gdLst/>
                  <a:ahLst/>
                  <a:rect l="l" t="t" r="r" b="b"/>
                  <a:pathLst>
                    <a:path w="349" h="0">
                      <a:moveTo>
                        <a:pt x="349" y="0"/>
                      </a:moveTo>
                      <a:lnTo>
                        <a:pt x="0" y="0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2" name=""/>
                <p:cNvSpPr/>
                <p:nvPr/>
              </p:nvSpPr>
              <p:spPr>
                <a:xfrm flipH="1" flipV="1">
                  <a:off x="6766920" y="20567160"/>
                  <a:ext cx="120600" cy="20880"/>
                </a:xfrm>
                <a:custGeom>
                  <a:avLst/>
                  <a:gdLst/>
                  <a:ahLst/>
                  <a:rect l="l" t="t" r="r" b="b"/>
                  <a:pathLst>
                    <a:path w="3444" h="562">
                      <a:moveTo>
                        <a:pt x="3405" y="560"/>
                      </a:moveTo>
                      <a:lnTo>
                        <a:pt x="3444" y="429"/>
                      </a:lnTo>
                      <a:lnTo>
                        <a:pt x="3366" y="316"/>
                      </a:lnTo>
                      <a:lnTo>
                        <a:pt x="2559" y="78"/>
                      </a:lnTo>
                      <a:lnTo>
                        <a:pt x="1722" y="0"/>
                      </a:lnTo>
                      <a:lnTo>
                        <a:pt x="884" y="79"/>
                      </a:lnTo>
                      <a:lnTo>
                        <a:pt x="78" y="318"/>
                      </a:lnTo>
                      <a:lnTo>
                        <a:pt x="0" y="430"/>
                      </a:lnTo>
                      <a:lnTo>
                        <a:pt x="39" y="562"/>
                      </a:lnTo>
                      <a:lnTo>
                        <a:pt x="40" y="562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3" name=""/>
                <p:cNvSpPr/>
                <p:nvPr/>
              </p:nvSpPr>
              <p:spPr>
                <a:xfrm flipH="1" flipV="1">
                  <a:off x="6770160" y="20549520"/>
                  <a:ext cx="114480" cy="28440"/>
                </a:xfrm>
                <a:custGeom>
                  <a:avLst/>
                  <a:gdLst/>
                  <a:ahLst/>
                  <a:rect l="l" t="t" r="r" b="b"/>
                  <a:pathLst>
                    <a:path w="3152" h="740">
                      <a:moveTo>
                        <a:pt x="3152" y="738"/>
                      </a:moveTo>
                      <a:lnTo>
                        <a:pt x="3126" y="512"/>
                      </a:lnTo>
                      <a:lnTo>
                        <a:pt x="2966" y="350"/>
                      </a:lnTo>
                      <a:lnTo>
                        <a:pt x="2290" y="101"/>
                      </a:lnTo>
                      <a:lnTo>
                        <a:pt x="1576" y="0"/>
                      </a:lnTo>
                      <a:lnTo>
                        <a:pt x="862" y="102"/>
                      </a:lnTo>
                      <a:lnTo>
                        <a:pt x="186" y="352"/>
                      </a:lnTo>
                      <a:lnTo>
                        <a:pt x="26" y="514"/>
                      </a:lnTo>
                      <a:lnTo>
                        <a:pt x="0" y="740"/>
                      </a:lnTo>
                      <a:lnTo>
                        <a:pt x="1" y="740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4" name=""/>
                <p:cNvSpPr/>
                <p:nvPr/>
              </p:nvSpPr>
              <p:spPr>
                <a:xfrm flipH="1" flipV="1">
                  <a:off x="6839640" y="20546640"/>
                  <a:ext cx="34920" cy="9360"/>
                </a:xfrm>
                <a:custGeom>
                  <a:avLst/>
                  <a:gdLst/>
                  <a:ahLst/>
                  <a:rect l="l" t="t" r="r" b="b"/>
                  <a:pathLst>
                    <a:path w="1023" h="298">
                      <a:moveTo>
                        <a:pt x="1023" y="0"/>
                      </a:moveTo>
                      <a:lnTo>
                        <a:pt x="496" y="98"/>
                      </a:lnTo>
                      <a:lnTo>
                        <a:pt x="0" y="298"/>
                      </a:lnTo>
                      <a:lnTo>
                        <a:pt x="2" y="298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5" name=""/>
                <p:cNvSpPr/>
                <p:nvPr/>
              </p:nvSpPr>
              <p:spPr>
                <a:xfrm flipH="1" flipV="1">
                  <a:off x="6874560" y="20544840"/>
                  <a:ext cx="9720" cy="4680"/>
                </a:xfrm>
                <a:custGeom>
                  <a:avLst/>
                  <a:gdLst/>
                  <a:ahLst/>
                  <a:rect l="l" t="t" r="r" b="b"/>
                  <a:pathLst>
                    <a:path w="203" h="97">
                      <a:moveTo>
                        <a:pt x="0" y="0"/>
                      </a:moveTo>
                      <a:lnTo>
                        <a:pt x="78" y="97"/>
                      </a:lnTo>
                      <a:lnTo>
                        <a:pt x="201" y="93"/>
                      </a:lnTo>
                      <a:lnTo>
                        <a:pt x="203" y="93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6" name=""/>
                <p:cNvSpPr/>
                <p:nvPr/>
              </p:nvSpPr>
              <p:spPr>
                <a:xfrm flipH="1" flipV="1">
                  <a:off x="6884280" y="20549880"/>
                  <a:ext cx="3240" cy="15840"/>
                </a:xfrm>
                <a:custGeom>
                  <a:avLst/>
                  <a:gdLst/>
                  <a:ahLst/>
                  <a:rect l="l" t="t" r="r" b="b"/>
                  <a:pathLst>
                    <a:path w="109" h="496">
                      <a:moveTo>
                        <a:pt x="109" y="496"/>
                      </a:moveTo>
                      <a:lnTo>
                        <a:pt x="0" y="0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7" name=""/>
                <p:cNvSpPr/>
                <p:nvPr/>
              </p:nvSpPr>
              <p:spPr>
                <a:xfrm flipH="1" flipV="1">
                  <a:off x="6885720" y="20565720"/>
                  <a:ext cx="1800" cy="7920"/>
                </a:xfrm>
                <a:custGeom>
                  <a:avLst/>
                  <a:gdLst/>
                  <a:ahLst/>
                  <a:rect l="l" t="t" r="r" b="b"/>
                  <a:pathLst>
                    <a:path w="84" h="160">
                      <a:moveTo>
                        <a:pt x="84" y="0"/>
                      </a:moveTo>
                      <a:lnTo>
                        <a:pt x="13" y="64"/>
                      </a:lnTo>
                      <a:lnTo>
                        <a:pt x="0" y="160"/>
                      </a:lnTo>
                      <a:lnTo>
                        <a:pt x="1" y="160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8" name=""/>
                <p:cNvSpPr/>
                <p:nvPr/>
              </p:nvSpPr>
              <p:spPr>
                <a:xfrm flipH="1" flipV="1">
                  <a:off x="6767280" y="20565720"/>
                  <a:ext cx="1440" cy="7920"/>
                </a:xfrm>
                <a:custGeom>
                  <a:avLst/>
                  <a:gdLst/>
                  <a:ahLst/>
                  <a:rect l="l" t="t" r="r" b="b"/>
                  <a:pathLst>
                    <a:path w="84" h="159">
                      <a:moveTo>
                        <a:pt x="84" y="159"/>
                      </a:moveTo>
                      <a:lnTo>
                        <a:pt x="71" y="64"/>
                      </a:lnTo>
                      <a:lnTo>
                        <a:pt x="0" y="0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9" name=""/>
                <p:cNvSpPr/>
                <p:nvPr/>
              </p:nvSpPr>
              <p:spPr>
                <a:xfrm flipH="1" flipV="1">
                  <a:off x="6767280" y="20549880"/>
                  <a:ext cx="2880" cy="15840"/>
                </a:xfrm>
                <a:custGeom>
                  <a:avLst/>
                  <a:gdLst/>
                  <a:ahLst/>
                  <a:rect l="l" t="t" r="r" b="b"/>
                  <a:pathLst>
                    <a:path w="109" h="496">
                      <a:moveTo>
                        <a:pt x="109" y="0"/>
                      </a:moveTo>
                      <a:lnTo>
                        <a:pt x="0" y="496"/>
                      </a:lnTo>
                      <a:lnTo>
                        <a:pt x="1" y="496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0" name=""/>
                <p:cNvSpPr/>
                <p:nvPr/>
              </p:nvSpPr>
              <p:spPr>
                <a:xfrm flipH="1" flipV="1">
                  <a:off x="6769800" y="20544840"/>
                  <a:ext cx="9720" cy="4680"/>
                </a:xfrm>
                <a:custGeom>
                  <a:avLst/>
                  <a:gdLst/>
                  <a:ahLst/>
                  <a:rect l="l" t="t" r="r" b="b"/>
                  <a:pathLst>
                    <a:path w="202" h="98">
                      <a:moveTo>
                        <a:pt x="0" y="94"/>
                      </a:moveTo>
                      <a:lnTo>
                        <a:pt x="124" y="98"/>
                      </a:lnTo>
                      <a:lnTo>
                        <a:pt x="201" y="0"/>
                      </a:lnTo>
                      <a:lnTo>
                        <a:pt x="202" y="0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1" name=""/>
                <p:cNvSpPr/>
                <p:nvPr/>
              </p:nvSpPr>
              <p:spPr>
                <a:xfrm flipH="1" flipV="1">
                  <a:off x="6779520" y="20546640"/>
                  <a:ext cx="34920" cy="9360"/>
                </a:xfrm>
                <a:custGeom>
                  <a:avLst/>
                  <a:gdLst/>
                  <a:ahLst/>
                  <a:rect l="l" t="t" r="r" b="b"/>
                  <a:pathLst>
                    <a:path w="1021" h="297">
                      <a:moveTo>
                        <a:pt x="1021" y="297"/>
                      </a:moveTo>
                      <a:lnTo>
                        <a:pt x="525" y="97"/>
                      </a:lnTo>
                      <a:lnTo>
                        <a:pt x="0" y="0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2" name=""/>
                <p:cNvSpPr/>
                <p:nvPr/>
              </p:nvSpPr>
              <p:spPr>
                <a:xfrm flipH="1" flipV="1">
                  <a:off x="6722280" y="20367360"/>
                  <a:ext cx="219240" cy="6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3" name=""/>
                <p:cNvSpPr/>
                <p:nvPr/>
              </p:nvSpPr>
              <p:spPr>
                <a:xfrm flipH="1" flipV="1">
                  <a:off x="6771960" y="20377800"/>
                  <a:ext cx="131760" cy="4788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4" name=""/>
                <p:cNvSpPr/>
                <p:nvPr/>
              </p:nvSpPr>
              <p:spPr>
                <a:xfrm flipH="1" flipV="1">
                  <a:off x="6881400" y="20384280"/>
                  <a:ext cx="15840" cy="3348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5" name=""/>
                <p:cNvSpPr/>
                <p:nvPr/>
              </p:nvSpPr>
              <p:spPr>
                <a:xfrm flipH="1" flipV="1">
                  <a:off x="6777720" y="20384280"/>
                  <a:ext cx="96840" cy="3348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6" name=""/>
                <p:cNvSpPr/>
                <p:nvPr/>
              </p:nvSpPr>
              <p:spPr>
                <a:xfrm flipH="1" flipV="1">
                  <a:off x="6649200" y="20154240"/>
                  <a:ext cx="360360" cy="2156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7" name=""/>
                <p:cNvSpPr/>
                <p:nvPr/>
              </p:nvSpPr>
              <p:spPr>
                <a:xfrm flipH="1" flipV="1" rot="1751400">
                  <a:off x="6938280" y="20303280"/>
                  <a:ext cx="22320" cy="31680"/>
                </a:xfrm>
                <a:prstGeom prst="ellipse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8" name=""/>
                <p:cNvSpPr/>
                <p:nvPr/>
              </p:nvSpPr>
              <p:spPr>
                <a:xfrm flipH="1" flipV="1">
                  <a:off x="6921000" y="20282760"/>
                  <a:ext cx="68400" cy="6660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9" name=""/>
                <p:cNvSpPr/>
                <p:nvPr/>
              </p:nvSpPr>
              <p:spPr>
                <a:xfrm flipH="1" flipV="1">
                  <a:off x="6752880" y="20200320"/>
                  <a:ext cx="133200" cy="1458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60" name=""/>
                <p:cNvGrpSpPr/>
                <p:nvPr/>
              </p:nvGrpSpPr>
              <p:grpSpPr>
                <a:xfrm>
                  <a:off x="6760800" y="20208960"/>
                  <a:ext cx="117360" cy="117000"/>
                  <a:chOff x="6760800" y="20208960"/>
                  <a:chExt cx="117360" cy="117000"/>
                </a:xfrm>
              </p:grpSpPr>
              <p:sp>
                <p:nvSpPr>
                  <p:cNvPr id="3061" name=""/>
                  <p:cNvSpPr/>
                  <p:nvPr/>
                </p:nvSpPr>
                <p:spPr>
                  <a:xfrm flipH="1" flipV="1">
                    <a:off x="6843960" y="20226240"/>
                    <a:ext cx="252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35">
                        <a:moveTo>
                          <a:pt x="0" y="35"/>
                        </a:moveTo>
                        <a:lnTo>
                          <a:pt x="5" y="29"/>
                        </a:lnTo>
                        <a:lnTo>
                          <a:pt x="11" y="23"/>
                        </a:lnTo>
                        <a:lnTo>
                          <a:pt x="17" y="17"/>
                        </a:lnTo>
                        <a:lnTo>
                          <a:pt x="22" y="12"/>
                        </a:lnTo>
                        <a:lnTo>
                          <a:pt x="26" y="8"/>
                        </a:lnTo>
                        <a:lnTo>
                          <a:pt x="30" y="5"/>
                        </a:lnTo>
                        <a:lnTo>
                          <a:pt x="32" y="2"/>
                        </a:lnTo>
                        <a:lnTo>
                          <a:pt x="34" y="1"/>
                        </a:lnTo>
                        <a:lnTo>
                          <a:pt x="34" y="0"/>
                        </a:lnTo>
                        <a:lnTo>
                          <a:pt x="35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2" name=""/>
                  <p:cNvSpPr/>
                  <p:nvPr/>
                </p:nvSpPr>
                <p:spPr>
                  <a:xfrm flipH="1" flipV="1">
                    <a:off x="6843960" y="20226240"/>
                    <a:ext cx="252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35">
                        <a:moveTo>
                          <a:pt x="0" y="35"/>
                        </a:moveTo>
                        <a:lnTo>
                          <a:pt x="5" y="29"/>
                        </a:lnTo>
                        <a:lnTo>
                          <a:pt x="11" y="23"/>
                        </a:lnTo>
                        <a:lnTo>
                          <a:pt x="17" y="17"/>
                        </a:lnTo>
                        <a:lnTo>
                          <a:pt x="22" y="12"/>
                        </a:lnTo>
                        <a:lnTo>
                          <a:pt x="26" y="8"/>
                        </a:lnTo>
                        <a:lnTo>
                          <a:pt x="30" y="5"/>
                        </a:lnTo>
                        <a:lnTo>
                          <a:pt x="32" y="2"/>
                        </a:lnTo>
                        <a:lnTo>
                          <a:pt x="34" y="1"/>
                        </a:lnTo>
                        <a:lnTo>
                          <a:pt x="34" y="0"/>
                        </a:lnTo>
                        <a:lnTo>
                          <a:pt x="35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3" name=""/>
                  <p:cNvSpPr/>
                  <p:nvPr/>
                </p:nvSpPr>
                <p:spPr>
                  <a:xfrm flipH="1" flipV="1">
                    <a:off x="6760800" y="20276280"/>
                    <a:ext cx="117360" cy="4968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80" bIns="2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4" name=""/>
                  <p:cNvSpPr/>
                  <p:nvPr/>
                </p:nvSpPr>
                <p:spPr>
                  <a:xfrm flipH="1" flipV="1">
                    <a:off x="6768000" y="20208960"/>
                    <a:ext cx="101160" cy="65520"/>
                  </a:xfrm>
                  <a:custGeom>
                    <a:avLst/>
                    <a:gdLst>
                      <a:gd name="textAreaLeft" fmla="*/ 22320 w 101160"/>
                      <a:gd name="textAreaRight" fmla="*/ 78840 w 101160"/>
                      <a:gd name="textAreaTop" fmla="*/ 14400 h 65520"/>
                      <a:gd name="textAreaBottom" fmla="*/ 51120 h 655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080" bIns="-10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065" name=""/>
              <p:cNvSpPr/>
              <p:nvPr/>
            </p:nvSpPr>
            <p:spPr>
              <a:xfrm rot="16200000">
                <a:off x="7581600" y="20993040"/>
                <a:ext cx="179280" cy="36036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 rot="16200000">
                <a:off x="7162560" y="20993040"/>
                <a:ext cx="179280" cy="36036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67" name=""/>
              <p:cNvGrpSpPr/>
              <p:nvPr/>
            </p:nvGrpSpPr>
            <p:grpSpPr>
              <a:xfrm>
                <a:off x="14115960" y="17392320"/>
                <a:ext cx="801360" cy="630360"/>
                <a:chOff x="14115960" y="17392320"/>
                <a:chExt cx="801360" cy="630360"/>
              </a:xfrm>
            </p:grpSpPr>
            <p:grpSp>
              <p:nvGrpSpPr>
                <p:cNvPr id="3068" name=""/>
                <p:cNvGrpSpPr/>
                <p:nvPr/>
              </p:nvGrpSpPr>
              <p:grpSpPr>
                <a:xfrm>
                  <a:off x="14115960" y="17392320"/>
                  <a:ext cx="460080" cy="355680"/>
                  <a:chOff x="14115960" y="17392320"/>
                  <a:chExt cx="460080" cy="355680"/>
                </a:xfrm>
              </p:grpSpPr>
              <p:sp>
                <p:nvSpPr>
                  <p:cNvPr id="3069" name=""/>
                  <p:cNvSpPr/>
                  <p:nvPr/>
                </p:nvSpPr>
                <p:spPr>
                  <a:xfrm flipV="1" rot="16200000">
                    <a:off x="14280840" y="17535240"/>
                    <a:ext cx="218880" cy="6984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070" name=""/>
                  <p:cNvGrpSpPr/>
                  <p:nvPr/>
                </p:nvGrpSpPr>
                <p:grpSpPr>
                  <a:xfrm>
                    <a:off x="14366520" y="17509680"/>
                    <a:ext cx="47880" cy="131760"/>
                    <a:chOff x="14366520" y="17509680"/>
                    <a:chExt cx="47880" cy="131760"/>
                  </a:xfrm>
                </p:grpSpPr>
                <p:sp>
                  <p:nvSpPr>
                    <p:cNvPr id="3071" name=""/>
                    <p:cNvSpPr/>
                    <p:nvPr/>
                  </p:nvSpPr>
                  <p:spPr>
                    <a:xfrm flipV="1" rot="16200000">
                      <a:off x="14324400" y="17551440"/>
                      <a:ext cx="131760" cy="4788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080" bIns="1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72" name=""/>
                    <p:cNvSpPr/>
                    <p:nvPr/>
                  </p:nvSpPr>
                  <p:spPr>
                    <a:xfrm flipV="1" rot="16200000">
                      <a:off x="14382000" y="17611920"/>
                      <a:ext cx="15840" cy="3204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760" bIns="-147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73" name=""/>
                    <p:cNvSpPr/>
                    <p:nvPr/>
                  </p:nvSpPr>
                  <p:spPr>
                    <a:xfrm flipV="1" rot="16200000">
                      <a:off x="14341320" y="17547840"/>
                      <a:ext cx="97560" cy="3204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760" bIns="-147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074" name=""/>
                  <p:cNvSpPr/>
                  <p:nvPr/>
                </p:nvSpPr>
                <p:spPr>
                  <a:xfrm flipV="1" rot="16200000">
                    <a:off x="14059440" y="17448840"/>
                    <a:ext cx="355680" cy="24264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5" name=""/>
                  <p:cNvSpPr/>
                  <p:nvPr/>
                </p:nvSpPr>
                <p:spPr>
                  <a:xfrm flipV="1" rot="14448600">
                    <a:off x="14296680" y="17671320"/>
                    <a:ext cx="22320" cy="31680"/>
                  </a:xfrm>
                  <a:prstGeom prst="ellipse">
                    <a:avLst/>
                  </a:prstGeom>
                  <a:noFill/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6" name=""/>
                  <p:cNvSpPr/>
                  <p:nvPr/>
                </p:nvSpPr>
                <p:spPr>
                  <a:xfrm flipV="1" rot="16200000">
                    <a:off x="14271480" y="17659080"/>
                    <a:ext cx="68040" cy="66600"/>
                  </a:xfrm>
                  <a:prstGeom prst="rect">
                    <a:avLst/>
                  </a:prstGeom>
                  <a:noFill/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800" bIns="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077" name=""/>
                  <p:cNvGrpSpPr/>
                  <p:nvPr/>
                </p:nvGrpSpPr>
                <p:grpSpPr>
                  <a:xfrm>
                    <a:off x="14188680" y="17490240"/>
                    <a:ext cx="146160" cy="133560"/>
                    <a:chOff x="14188680" y="17490240"/>
                    <a:chExt cx="146160" cy="133560"/>
                  </a:xfrm>
                </p:grpSpPr>
                <p:sp>
                  <p:nvSpPr>
                    <p:cNvPr id="3078" name=""/>
                    <p:cNvSpPr/>
                    <p:nvPr/>
                  </p:nvSpPr>
                  <p:spPr>
                    <a:xfrm flipV="1" rot="16200000">
                      <a:off x="14194800" y="17483400"/>
                      <a:ext cx="133560" cy="1461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079" name=""/>
                    <p:cNvGrpSpPr/>
                    <p:nvPr/>
                  </p:nvGrpSpPr>
                  <p:grpSpPr>
                    <a:xfrm>
                      <a:off x="14198400" y="17499600"/>
                      <a:ext cx="116640" cy="117360"/>
                      <a:chOff x="14198400" y="17499600"/>
                      <a:chExt cx="116640" cy="117360"/>
                    </a:xfrm>
                  </p:grpSpPr>
                  <p:sp>
                    <p:nvSpPr>
                      <p:cNvPr id="3080" name=""/>
                      <p:cNvSpPr/>
                      <p:nvPr/>
                    </p:nvSpPr>
                    <p:spPr>
                      <a:xfrm flipV="1" rot="16200000">
                        <a:off x="14215320" y="17583480"/>
                        <a:ext cx="252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" h="35">
                            <a:moveTo>
                              <a:pt x="0" y="35"/>
                            </a:moveTo>
                            <a:lnTo>
                              <a:pt x="5" y="29"/>
                            </a:lnTo>
                            <a:lnTo>
                              <a:pt x="11" y="23"/>
                            </a:lnTo>
                            <a:lnTo>
                              <a:pt x="17" y="17"/>
                            </a:lnTo>
                            <a:lnTo>
                              <a:pt x="22" y="12"/>
                            </a:lnTo>
                            <a:lnTo>
                              <a:pt x="26" y="8"/>
                            </a:lnTo>
                            <a:lnTo>
                              <a:pt x="30" y="5"/>
                            </a:lnTo>
                            <a:lnTo>
                              <a:pt x="32" y="2"/>
                            </a:lnTo>
                            <a:lnTo>
                              <a:pt x="34" y="1"/>
                            </a:lnTo>
                            <a:lnTo>
                              <a:pt x="34" y="0"/>
                            </a:lnTo>
                            <a:lnTo>
                              <a:pt x="35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6633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81" name=""/>
                      <p:cNvSpPr/>
                      <p:nvPr/>
                    </p:nvSpPr>
                    <p:spPr>
                      <a:xfrm flipV="1" rot="16200000">
                        <a:off x="14215320" y="17583480"/>
                        <a:ext cx="252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" h="35">
                            <a:moveTo>
                              <a:pt x="0" y="35"/>
                            </a:moveTo>
                            <a:lnTo>
                              <a:pt x="5" y="29"/>
                            </a:lnTo>
                            <a:lnTo>
                              <a:pt x="11" y="23"/>
                            </a:lnTo>
                            <a:lnTo>
                              <a:pt x="17" y="17"/>
                            </a:lnTo>
                            <a:lnTo>
                              <a:pt x="22" y="12"/>
                            </a:lnTo>
                            <a:lnTo>
                              <a:pt x="26" y="8"/>
                            </a:lnTo>
                            <a:lnTo>
                              <a:pt x="30" y="5"/>
                            </a:lnTo>
                            <a:lnTo>
                              <a:pt x="32" y="2"/>
                            </a:lnTo>
                            <a:lnTo>
                              <a:pt x="34" y="1"/>
                            </a:lnTo>
                            <a:lnTo>
                              <a:pt x="34" y="0"/>
                            </a:lnTo>
                            <a:lnTo>
                              <a:pt x="35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6633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82" name=""/>
                      <p:cNvSpPr/>
                      <p:nvPr/>
                    </p:nvSpPr>
                    <p:spPr>
                      <a:xfrm flipV="1" rot="16200000">
                        <a:off x="14231520" y="17533440"/>
                        <a:ext cx="117360" cy="496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880" bIns="2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83" name=""/>
                      <p:cNvSpPr/>
                      <p:nvPr/>
                    </p:nvSpPr>
                    <p:spPr>
                      <a:xfrm flipV="1" rot="16200000">
                        <a:off x="14180400" y="17524440"/>
                        <a:ext cx="101160" cy="65520"/>
                      </a:xfrm>
                      <a:custGeom>
                        <a:avLst/>
                        <a:gdLst>
                          <a:gd name="textAreaLeft" fmla="*/ 22320 w 101160"/>
                          <a:gd name="textAreaRight" fmla="*/ 78840 w 101160"/>
                          <a:gd name="textAreaTop" fmla="*/ 14400 h 65520"/>
                          <a:gd name="textAreaBottom" fmla="*/ 51120 h 6552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21600" y="0"/>
                            </a:lnTo>
                            <a:lnTo>
                              <a:pt x="16200" y="21600"/>
                            </a:lnTo>
                            <a:lnTo>
                              <a:pt x="5400" y="2160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0080" bIns="-100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3084" name=""/>
                  <p:cNvGrpSpPr/>
                  <p:nvPr/>
                </p:nvGrpSpPr>
                <p:grpSpPr>
                  <a:xfrm>
                    <a:off x="14414760" y="17493480"/>
                    <a:ext cx="161280" cy="162360"/>
                    <a:chOff x="14414760" y="17493480"/>
                    <a:chExt cx="161280" cy="162360"/>
                  </a:xfrm>
                </p:grpSpPr>
                <p:sp>
                  <p:nvSpPr>
                    <p:cNvPr id="3085" name=""/>
                    <p:cNvSpPr/>
                    <p:nvPr/>
                  </p:nvSpPr>
                  <p:spPr>
                    <a:xfrm flipV="1" rot="16200000">
                      <a:off x="14486760" y="17457120"/>
                      <a:ext cx="360" cy="9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733">
                          <a:moveTo>
                            <a:pt x="0" y="0"/>
                          </a:moveTo>
                          <a:lnTo>
                            <a:pt x="1" y="2733"/>
                          </a:lnTo>
                          <a:lnTo>
                            <a:pt x="2" y="2733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86" name=""/>
                    <p:cNvSpPr/>
                    <p:nvPr/>
                  </p:nvSpPr>
                  <p:spPr>
                    <a:xfrm flipV="1" rot="16200000">
                      <a:off x="14486760" y="17443800"/>
                      <a:ext cx="360" cy="9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733">
                          <a:moveTo>
                            <a:pt x="0" y="0"/>
                          </a:moveTo>
                          <a:lnTo>
                            <a:pt x="1" y="2733"/>
                          </a:lnTo>
                          <a:lnTo>
                            <a:pt x="2" y="2733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87" name=""/>
                    <p:cNvSpPr/>
                    <p:nvPr/>
                  </p:nvSpPr>
                  <p:spPr>
                    <a:xfrm flipV="1" rot="16200000">
                      <a:off x="14486400" y="17605440"/>
                      <a:ext cx="1080" cy="9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733">
                          <a:moveTo>
                            <a:pt x="0" y="0"/>
                          </a:moveTo>
                          <a:lnTo>
                            <a:pt x="1" y="2733"/>
                          </a:lnTo>
                          <a:lnTo>
                            <a:pt x="2" y="2733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88" name=""/>
                    <p:cNvSpPr/>
                    <p:nvPr/>
                  </p:nvSpPr>
                  <p:spPr>
                    <a:xfrm flipV="1" rot="16200000">
                      <a:off x="14486400" y="17593200"/>
                      <a:ext cx="1440" cy="9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733">
                          <a:moveTo>
                            <a:pt x="0" y="0"/>
                          </a:moveTo>
                          <a:lnTo>
                            <a:pt x="1" y="2733"/>
                          </a:lnTo>
                          <a:lnTo>
                            <a:pt x="2" y="2733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89" name=""/>
                    <p:cNvSpPr/>
                    <p:nvPr/>
                  </p:nvSpPr>
                  <p:spPr>
                    <a:xfrm flipV="1" rot="16200000">
                      <a:off x="14474520" y="17601120"/>
                      <a:ext cx="360" cy="6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1925">
                          <a:moveTo>
                            <a:pt x="0" y="0"/>
                          </a:moveTo>
                          <a:lnTo>
                            <a:pt x="18" y="1925"/>
                          </a:lnTo>
                          <a:lnTo>
                            <a:pt x="19" y="1925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960" bIns="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90" name=""/>
                    <p:cNvSpPr/>
                    <p:nvPr/>
                  </p:nvSpPr>
                  <p:spPr>
                    <a:xfrm flipV="1" rot="16200000">
                      <a:off x="14418720" y="17614440"/>
                      <a:ext cx="20160" cy="2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8" h="605">
                          <a:moveTo>
                            <a:pt x="0" y="0"/>
                          </a:moveTo>
                          <a:lnTo>
                            <a:pt x="184" y="396"/>
                          </a:lnTo>
                          <a:lnTo>
                            <a:pt x="567" y="605"/>
                          </a:lnTo>
                          <a:lnTo>
                            <a:pt x="568" y="605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91" name=""/>
                    <p:cNvSpPr/>
                    <p:nvPr/>
                  </p:nvSpPr>
                  <p:spPr>
                    <a:xfrm flipV="1" rot="16200000">
                      <a:off x="14375520" y="17573760"/>
                      <a:ext cx="81360" cy="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69" h="103">
                          <a:moveTo>
                            <a:pt x="0" y="2"/>
                          </a:moveTo>
                          <a:lnTo>
                            <a:pt x="1135" y="103"/>
                          </a:lnTo>
                          <a:lnTo>
                            <a:pt x="2268" y="0"/>
                          </a:lnTo>
                          <a:lnTo>
                            <a:pt x="2269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92" name=""/>
                    <p:cNvSpPr/>
                    <p:nvPr/>
                  </p:nvSpPr>
                  <p:spPr>
                    <a:xfrm flipV="1" rot="16200000">
                      <a:off x="14418720" y="17512560"/>
                      <a:ext cx="20160" cy="2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8" h="605">
                          <a:moveTo>
                            <a:pt x="0" y="605"/>
                          </a:moveTo>
                          <a:lnTo>
                            <a:pt x="382" y="396"/>
                          </a:lnTo>
                          <a:lnTo>
                            <a:pt x="567" y="0"/>
                          </a:lnTo>
                          <a:lnTo>
                            <a:pt x="568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93" name=""/>
                    <p:cNvSpPr/>
                    <p:nvPr/>
                  </p:nvSpPr>
                  <p:spPr>
                    <a:xfrm flipV="1" rot="16200000">
                      <a:off x="14474520" y="17479080"/>
                      <a:ext cx="360" cy="6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925">
                          <a:moveTo>
                            <a:pt x="0" y="1925"/>
                          </a:moveTo>
                          <a:lnTo>
                            <a:pt x="16" y="0"/>
                          </a:lnTo>
                          <a:lnTo>
                            <a:pt x="17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960" bIns="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94" name=""/>
                    <p:cNvSpPr/>
                    <p:nvPr/>
                  </p:nvSpPr>
                  <p:spPr>
                    <a:xfrm flipV="1" rot="16200000">
                      <a:off x="14510520" y="17512560"/>
                      <a:ext cx="2556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45" h="787">
                          <a:moveTo>
                            <a:pt x="745" y="787"/>
                          </a:moveTo>
                          <a:lnTo>
                            <a:pt x="623" y="420"/>
                          </a:lnTo>
                          <a:lnTo>
                            <a:pt x="358" y="140"/>
                          </a:ln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95" name=""/>
                    <p:cNvSpPr/>
                    <p:nvPr/>
                  </p:nvSpPr>
                  <p:spPr>
                    <a:xfrm flipV="1" rot="16200000">
                      <a:off x="14503680" y="17573040"/>
                      <a:ext cx="70200" cy="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47" h="77">
                          <a:moveTo>
                            <a:pt x="1947" y="76"/>
                          </a:moveTo>
                          <a:lnTo>
                            <a:pt x="974" y="0"/>
                          </a:lnTo>
                          <a:lnTo>
                            <a:pt x="0" y="77"/>
                          </a:lnTo>
                          <a:lnTo>
                            <a:pt x="1" y="77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96" name=""/>
                    <p:cNvSpPr/>
                    <p:nvPr/>
                  </p:nvSpPr>
                  <p:spPr>
                    <a:xfrm flipV="1" rot="16200000">
                      <a:off x="14510160" y="17608680"/>
                      <a:ext cx="2592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44" h="788">
                          <a:moveTo>
                            <a:pt x="744" y="0"/>
                          </a:moveTo>
                          <a:lnTo>
                            <a:pt x="386" y="141"/>
                          </a:lnTo>
                          <a:lnTo>
                            <a:pt x="121" y="421"/>
                          </a:lnTo>
                          <a:lnTo>
                            <a:pt x="0" y="788"/>
                          </a:lnTo>
                          <a:lnTo>
                            <a:pt x="1" y="788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97" name=""/>
                    <p:cNvSpPr/>
                    <p:nvPr/>
                  </p:nvSpPr>
                  <p:spPr>
                    <a:xfrm flipV="1" rot="16200000">
                      <a:off x="14430600" y="17500320"/>
                      <a:ext cx="1296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0" h="0">
                          <a:moveTo>
                            <a:pt x="0" y="0"/>
                          </a:moveTo>
                          <a:lnTo>
                            <a:pt x="349" y="0"/>
                          </a:lnTo>
                          <a:lnTo>
                            <a:pt x="350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98" name=""/>
                    <p:cNvSpPr/>
                    <p:nvPr/>
                  </p:nvSpPr>
                  <p:spPr>
                    <a:xfrm flipV="1" rot="16200000">
                      <a:off x="14430960" y="17649000"/>
                      <a:ext cx="1260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9" h="0">
                          <a:moveTo>
                            <a:pt x="349" y="0"/>
                          </a:move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99" name=""/>
                    <p:cNvSpPr/>
                    <p:nvPr/>
                  </p:nvSpPr>
                  <p:spPr>
                    <a:xfrm flipV="1" rot="16200000">
                      <a:off x="14529600" y="17500320"/>
                      <a:ext cx="1296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0" h="0">
                          <a:moveTo>
                            <a:pt x="0" y="0"/>
                          </a:moveTo>
                          <a:lnTo>
                            <a:pt x="349" y="0"/>
                          </a:lnTo>
                          <a:lnTo>
                            <a:pt x="350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00" name=""/>
                    <p:cNvSpPr/>
                    <p:nvPr/>
                  </p:nvSpPr>
                  <p:spPr>
                    <a:xfrm flipV="1" rot="16200000">
                      <a:off x="14532480" y="17574840"/>
                      <a:ext cx="2412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98" h="0">
                          <a:moveTo>
                            <a:pt x="698" y="0"/>
                          </a:move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01" name=""/>
                    <p:cNvSpPr/>
                    <p:nvPr/>
                  </p:nvSpPr>
                  <p:spPr>
                    <a:xfrm flipV="1" rot="16200000">
                      <a:off x="14541840" y="17560080"/>
                      <a:ext cx="1440" cy="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33">
                          <a:moveTo>
                            <a:pt x="0" y="133"/>
                          </a:move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02" name=""/>
                    <p:cNvSpPr/>
                    <p:nvPr/>
                  </p:nvSpPr>
                  <p:spPr>
                    <a:xfrm flipV="1" rot="16200000">
                      <a:off x="14542560" y="17584920"/>
                      <a:ext cx="360" cy="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34">
                          <a:moveTo>
                            <a:pt x="0" y="134"/>
                          </a:move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03" name=""/>
                    <p:cNvSpPr/>
                    <p:nvPr/>
                  </p:nvSpPr>
                  <p:spPr>
                    <a:xfrm flipV="1" rot="16200000">
                      <a:off x="14529960" y="17649000"/>
                      <a:ext cx="1260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9" h="0">
                          <a:moveTo>
                            <a:pt x="349" y="0"/>
                          </a:move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04" name=""/>
                    <p:cNvSpPr/>
                    <p:nvPr/>
                  </p:nvSpPr>
                  <p:spPr>
                    <a:xfrm flipV="1" rot="16200000">
                      <a:off x="14505120" y="17565120"/>
                      <a:ext cx="121680" cy="1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44" h="562">
                          <a:moveTo>
                            <a:pt x="3405" y="560"/>
                          </a:moveTo>
                          <a:lnTo>
                            <a:pt x="3444" y="429"/>
                          </a:lnTo>
                          <a:lnTo>
                            <a:pt x="3366" y="316"/>
                          </a:lnTo>
                          <a:lnTo>
                            <a:pt x="2559" y="78"/>
                          </a:lnTo>
                          <a:lnTo>
                            <a:pt x="1722" y="0"/>
                          </a:lnTo>
                          <a:lnTo>
                            <a:pt x="884" y="79"/>
                          </a:lnTo>
                          <a:lnTo>
                            <a:pt x="78" y="318"/>
                          </a:lnTo>
                          <a:lnTo>
                            <a:pt x="0" y="430"/>
                          </a:lnTo>
                          <a:lnTo>
                            <a:pt x="39" y="562"/>
                          </a:lnTo>
                          <a:lnTo>
                            <a:pt x="40" y="562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000" bIns="-27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05" name=""/>
                    <p:cNvSpPr/>
                    <p:nvPr/>
                  </p:nvSpPr>
                  <p:spPr>
                    <a:xfrm flipV="1" rot="16200000">
                      <a:off x="14495400" y="17560800"/>
                      <a:ext cx="11304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2" h="740">
                          <a:moveTo>
                            <a:pt x="3152" y="738"/>
                          </a:moveTo>
                          <a:lnTo>
                            <a:pt x="3126" y="512"/>
                          </a:lnTo>
                          <a:lnTo>
                            <a:pt x="2966" y="350"/>
                          </a:lnTo>
                          <a:lnTo>
                            <a:pt x="2290" y="101"/>
                          </a:lnTo>
                          <a:lnTo>
                            <a:pt x="1576" y="0"/>
                          </a:lnTo>
                          <a:lnTo>
                            <a:pt x="862" y="102"/>
                          </a:lnTo>
                          <a:lnTo>
                            <a:pt x="186" y="352"/>
                          </a:lnTo>
                          <a:lnTo>
                            <a:pt x="26" y="514"/>
                          </a:lnTo>
                          <a:lnTo>
                            <a:pt x="0" y="740"/>
                          </a:lnTo>
                          <a:lnTo>
                            <a:pt x="1" y="74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06" name=""/>
                    <p:cNvSpPr/>
                    <p:nvPr/>
                  </p:nvSpPr>
                  <p:spPr>
                    <a:xfrm flipV="1" rot="16200000">
                      <a:off x="14522040" y="17600040"/>
                      <a:ext cx="35640" cy="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23" h="298">
                          <a:moveTo>
                            <a:pt x="1023" y="0"/>
                          </a:moveTo>
                          <a:lnTo>
                            <a:pt x="496" y="98"/>
                          </a:lnTo>
                          <a:lnTo>
                            <a:pt x="0" y="298"/>
                          </a:lnTo>
                          <a:lnTo>
                            <a:pt x="2" y="298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07" name=""/>
                    <p:cNvSpPr/>
                    <p:nvPr/>
                  </p:nvSpPr>
                  <p:spPr>
                    <a:xfrm flipV="1" rot="16200000">
                      <a:off x="14531400" y="17625240"/>
                      <a:ext cx="8280" cy="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3" h="97">
                          <a:moveTo>
                            <a:pt x="0" y="0"/>
                          </a:moveTo>
                          <a:lnTo>
                            <a:pt x="78" y="97"/>
                          </a:lnTo>
                          <a:lnTo>
                            <a:pt x="201" y="93"/>
                          </a:lnTo>
                          <a:lnTo>
                            <a:pt x="203" y="93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08" name=""/>
                    <p:cNvSpPr/>
                    <p:nvPr/>
                  </p:nvSpPr>
                  <p:spPr>
                    <a:xfrm flipV="1" rot="16200000">
                      <a:off x="14544000" y="17625240"/>
                      <a:ext cx="4320" cy="16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496">
                          <a:moveTo>
                            <a:pt x="109" y="496"/>
                          </a:move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880" bIns="-29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09" name=""/>
                    <p:cNvSpPr/>
                    <p:nvPr/>
                  </p:nvSpPr>
                  <p:spPr>
                    <a:xfrm flipV="1" rot="16200000">
                      <a:off x="14556960" y="17631000"/>
                      <a:ext cx="2880" cy="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" h="160">
                          <a:moveTo>
                            <a:pt x="84" y="0"/>
                          </a:moveTo>
                          <a:lnTo>
                            <a:pt x="13" y="64"/>
                          </a:lnTo>
                          <a:lnTo>
                            <a:pt x="0" y="160"/>
                          </a:lnTo>
                          <a:lnTo>
                            <a:pt x="1" y="16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10" name=""/>
                    <p:cNvSpPr/>
                    <p:nvPr/>
                  </p:nvSpPr>
                  <p:spPr>
                    <a:xfrm flipV="1" rot="16200000">
                      <a:off x="14556960" y="17512200"/>
                      <a:ext cx="2880" cy="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" h="159">
                          <a:moveTo>
                            <a:pt x="84" y="159"/>
                          </a:moveTo>
                          <a:lnTo>
                            <a:pt x="71" y="64"/>
                          </a:ln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11" name=""/>
                    <p:cNvSpPr/>
                    <p:nvPr/>
                  </p:nvSpPr>
                  <p:spPr>
                    <a:xfrm flipV="1" rot="16200000">
                      <a:off x="14544360" y="17507520"/>
                      <a:ext cx="3960" cy="16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496">
                          <a:moveTo>
                            <a:pt x="109" y="0"/>
                          </a:moveTo>
                          <a:lnTo>
                            <a:pt x="0" y="496"/>
                          </a:lnTo>
                          <a:lnTo>
                            <a:pt x="1" y="496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880" bIns="-29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12" name=""/>
                    <p:cNvSpPr/>
                    <p:nvPr/>
                  </p:nvSpPr>
                  <p:spPr>
                    <a:xfrm flipV="1" rot="16200000">
                      <a:off x="14531400" y="17520480"/>
                      <a:ext cx="8280" cy="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2" h="98">
                          <a:moveTo>
                            <a:pt x="0" y="94"/>
                          </a:moveTo>
                          <a:lnTo>
                            <a:pt x="124" y="98"/>
                          </a:lnTo>
                          <a:lnTo>
                            <a:pt x="201" y="0"/>
                          </a:lnTo>
                          <a:lnTo>
                            <a:pt x="202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13" name=""/>
                    <p:cNvSpPr/>
                    <p:nvPr/>
                  </p:nvSpPr>
                  <p:spPr>
                    <a:xfrm flipV="1" rot="16200000">
                      <a:off x="14521680" y="17539920"/>
                      <a:ext cx="36000" cy="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21" h="297">
                          <a:moveTo>
                            <a:pt x="1021" y="297"/>
                          </a:moveTo>
                          <a:lnTo>
                            <a:pt x="525" y="97"/>
                          </a:ln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3114" name=""/>
                <p:cNvSpPr/>
                <p:nvPr/>
              </p:nvSpPr>
              <p:spPr>
                <a:xfrm rot="10800000">
                  <a:off x="14377680" y="17735400"/>
                  <a:ext cx="539640" cy="287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15" name=""/>
              <p:cNvSpPr/>
              <p:nvPr/>
            </p:nvSpPr>
            <p:spPr>
              <a:xfrm rot="16200000">
                <a:off x="6762600" y="20993040"/>
                <a:ext cx="179280" cy="36036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 rot="16200000">
                <a:off x="8020080" y="20993040"/>
                <a:ext cx="179280" cy="36036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17" name=""/>
              <p:cNvGrpSpPr/>
              <p:nvPr/>
            </p:nvGrpSpPr>
            <p:grpSpPr>
              <a:xfrm>
                <a:off x="8174160" y="19144800"/>
                <a:ext cx="885240" cy="641520"/>
                <a:chOff x="8174160" y="19144800"/>
                <a:chExt cx="885240" cy="641520"/>
              </a:xfrm>
            </p:grpSpPr>
            <p:grpSp>
              <p:nvGrpSpPr>
                <p:cNvPr id="3118" name=""/>
                <p:cNvGrpSpPr/>
                <p:nvPr/>
              </p:nvGrpSpPr>
              <p:grpSpPr>
                <a:xfrm>
                  <a:off x="8174160" y="19344240"/>
                  <a:ext cx="162720" cy="162360"/>
                  <a:chOff x="8174160" y="19344240"/>
                  <a:chExt cx="162720" cy="162360"/>
                </a:xfrm>
              </p:grpSpPr>
              <p:sp>
                <p:nvSpPr>
                  <p:cNvPr id="3119" name=""/>
                  <p:cNvSpPr/>
                  <p:nvPr/>
                </p:nvSpPr>
                <p:spPr>
                  <a:xfrm flipV="1" rot="5400000">
                    <a:off x="8263080" y="19443600"/>
                    <a:ext cx="36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0" name=""/>
                  <p:cNvSpPr/>
                  <p:nvPr/>
                </p:nvSpPr>
                <p:spPr>
                  <a:xfrm flipV="1" rot="5400000">
                    <a:off x="8263080" y="19456200"/>
                    <a:ext cx="36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1" name=""/>
                  <p:cNvSpPr/>
                  <p:nvPr/>
                </p:nvSpPr>
                <p:spPr>
                  <a:xfrm flipV="1" rot="5400000">
                    <a:off x="8262360" y="19294920"/>
                    <a:ext cx="180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2" name=""/>
                  <p:cNvSpPr/>
                  <p:nvPr/>
                </p:nvSpPr>
                <p:spPr>
                  <a:xfrm flipV="1" rot="5400000">
                    <a:off x="8262360" y="19308600"/>
                    <a:ext cx="144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3" name=""/>
                  <p:cNvSpPr/>
                  <p:nvPr/>
                </p:nvSpPr>
                <p:spPr>
                  <a:xfrm flipV="1" rot="5400000">
                    <a:off x="8276760" y="19330200"/>
                    <a:ext cx="360" cy="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925">
                        <a:moveTo>
                          <a:pt x="0" y="0"/>
                        </a:moveTo>
                        <a:lnTo>
                          <a:pt x="18" y="1925"/>
                        </a:lnTo>
                        <a:lnTo>
                          <a:pt x="19" y="1925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4" name=""/>
                  <p:cNvSpPr/>
                  <p:nvPr/>
                </p:nvSpPr>
                <p:spPr>
                  <a:xfrm flipV="1" rot="5400000">
                    <a:off x="8313120" y="19363320"/>
                    <a:ext cx="190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68" h="605">
                        <a:moveTo>
                          <a:pt x="0" y="0"/>
                        </a:moveTo>
                        <a:lnTo>
                          <a:pt x="184" y="396"/>
                        </a:lnTo>
                        <a:lnTo>
                          <a:pt x="567" y="605"/>
                        </a:lnTo>
                        <a:lnTo>
                          <a:pt x="568" y="605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5" name=""/>
                  <p:cNvSpPr/>
                  <p:nvPr/>
                </p:nvSpPr>
                <p:spPr>
                  <a:xfrm flipV="1" rot="5400000">
                    <a:off x="8294040" y="19423440"/>
                    <a:ext cx="8244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269" h="103">
                        <a:moveTo>
                          <a:pt x="0" y="2"/>
                        </a:moveTo>
                        <a:lnTo>
                          <a:pt x="1135" y="103"/>
                        </a:lnTo>
                        <a:lnTo>
                          <a:pt x="2268" y="0"/>
                        </a:lnTo>
                        <a:lnTo>
                          <a:pt x="2269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6" name=""/>
                  <p:cNvSpPr/>
                  <p:nvPr/>
                </p:nvSpPr>
                <p:spPr>
                  <a:xfrm flipV="1" rot="5400000">
                    <a:off x="8313120" y="19464840"/>
                    <a:ext cx="190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68" h="605">
                        <a:moveTo>
                          <a:pt x="0" y="605"/>
                        </a:moveTo>
                        <a:lnTo>
                          <a:pt x="382" y="396"/>
                        </a:lnTo>
                        <a:lnTo>
                          <a:pt x="567" y="0"/>
                        </a:lnTo>
                        <a:lnTo>
                          <a:pt x="568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7" name=""/>
                  <p:cNvSpPr/>
                  <p:nvPr/>
                </p:nvSpPr>
                <p:spPr>
                  <a:xfrm flipV="1" rot="5400000">
                    <a:off x="8276760" y="19450800"/>
                    <a:ext cx="360" cy="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925">
                        <a:moveTo>
                          <a:pt x="0" y="1925"/>
                        </a:moveTo>
                        <a:lnTo>
                          <a:pt x="16" y="0"/>
                        </a:lnTo>
                        <a:lnTo>
                          <a:pt x="17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8" name=""/>
                  <p:cNvSpPr/>
                  <p:nvPr/>
                </p:nvSpPr>
                <p:spPr>
                  <a:xfrm flipV="1" rot="5400000">
                    <a:off x="8214840" y="19458360"/>
                    <a:ext cx="2556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745" h="787">
                        <a:moveTo>
                          <a:pt x="745" y="787"/>
                        </a:moveTo>
                        <a:lnTo>
                          <a:pt x="623" y="420"/>
                        </a:lnTo>
                        <a:lnTo>
                          <a:pt x="358" y="14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9" name=""/>
                  <p:cNvSpPr/>
                  <p:nvPr/>
                </p:nvSpPr>
                <p:spPr>
                  <a:xfrm flipV="1" rot="5400000">
                    <a:off x="8175960" y="19425240"/>
                    <a:ext cx="6984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1947" h="77">
                        <a:moveTo>
                          <a:pt x="1947" y="76"/>
                        </a:moveTo>
                        <a:lnTo>
                          <a:pt x="974" y="0"/>
                        </a:lnTo>
                        <a:lnTo>
                          <a:pt x="0" y="77"/>
                        </a:lnTo>
                        <a:lnTo>
                          <a:pt x="1" y="77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0" name=""/>
                  <p:cNvSpPr/>
                  <p:nvPr/>
                </p:nvSpPr>
                <p:spPr>
                  <a:xfrm flipV="1" rot="5400000">
                    <a:off x="8214840" y="19364040"/>
                    <a:ext cx="2520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744" h="788">
                        <a:moveTo>
                          <a:pt x="744" y="0"/>
                        </a:moveTo>
                        <a:lnTo>
                          <a:pt x="386" y="141"/>
                        </a:lnTo>
                        <a:lnTo>
                          <a:pt x="121" y="421"/>
                        </a:lnTo>
                        <a:lnTo>
                          <a:pt x="0" y="788"/>
                        </a:lnTo>
                        <a:lnTo>
                          <a:pt x="1" y="788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1" name=""/>
                  <p:cNvSpPr/>
                  <p:nvPr/>
                </p:nvSpPr>
                <p:spPr>
                  <a:xfrm flipV="1" rot="5400000">
                    <a:off x="8309160" y="19499400"/>
                    <a:ext cx="1260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50" h="0">
                        <a:moveTo>
                          <a:pt x="0" y="0"/>
                        </a:moveTo>
                        <a:lnTo>
                          <a:pt x="349" y="0"/>
                        </a:lnTo>
                        <a:lnTo>
                          <a:pt x="350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2" name=""/>
                  <p:cNvSpPr/>
                  <p:nvPr/>
                </p:nvSpPr>
                <p:spPr>
                  <a:xfrm flipV="1" rot="5400000">
                    <a:off x="8308800" y="19351080"/>
                    <a:ext cx="129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49" h="0">
                        <a:moveTo>
                          <a:pt x="349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3" name=""/>
                  <p:cNvSpPr/>
                  <p:nvPr/>
                </p:nvSpPr>
                <p:spPr>
                  <a:xfrm flipV="1" rot="5400000">
                    <a:off x="8209080" y="19499400"/>
                    <a:ext cx="1260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50" h="0">
                        <a:moveTo>
                          <a:pt x="0" y="0"/>
                        </a:moveTo>
                        <a:lnTo>
                          <a:pt x="349" y="0"/>
                        </a:lnTo>
                        <a:lnTo>
                          <a:pt x="350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4" name=""/>
                  <p:cNvSpPr/>
                  <p:nvPr/>
                </p:nvSpPr>
                <p:spPr>
                  <a:xfrm flipV="1" rot="5400000">
                    <a:off x="8194680" y="19424880"/>
                    <a:ext cx="255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8" h="0">
                        <a:moveTo>
                          <a:pt x="698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5" name=""/>
                  <p:cNvSpPr/>
                  <p:nvPr/>
                </p:nvSpPr>
                <p:spPr>
                  <a:xfrm flipV="1" rot="5400000">
                    <a:off x="8206920" y="19437120"/>
                    <a:ext cx="14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33">
                        <a:moveTo>
                          <a:pt x="0" y="133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6" name=""/>
                  <p:cNvSpPr/>
                  <p:nvPr/>
                </p:nvSpPr>
                <p:spPr>
                  <a:xfrm flipV="1" rot="5400000">
                    <a:off x="8207640" y="19410120"/>
                    <a:ext cx="3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34">
                        <a:moveTo>
                          <a:pt x="0" y="134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7" name=""/>
                  <p:cNvSpPr/>
                  <p:nvPr/>
                </p:nvSpPr>
                <p:spPr>
                  <a:xfrm flipV="1" rot="5400000">
                    <a:off x="8208720" y="19351080"/>
                    <a:ext cx="129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49" h="0">
                        <a:moveTo>
                          <a:pt x="349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8" name=""/>
                  <p:cNvSpPr/>
                  <p:nvPr/>
                </p:nvSpPr>
                <p:spPr>
                  <a:xfrm flipV="1" rot="5400000">
                    <a:off x="8123760" y="19414800"/>
                    <a:ext cx="12060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3444" h="562">
                        <a:moveTo>
                          <a:pt x="3405" y="560"/>
                        </a:moveTo>
                        <a:lnTo>
                          <a:pt x="3444" y="429"/>
                        </a:lnTo>
                        <a:lnTo>
                          <a:pt x="3366" y="316"/>
                        </a:lnTo>
                        <a:lnTo>
                          <a:pt x="2559" y="78"/>
                        </a:lnTo>
                        <a:lnTo>
                          <a:pt x="1722" y="0"/>
                        </a:lnTo>
                        <a:lnTo>
                          <a:pt x="884" y="79"/>
                        </a:lnTo>
                        <a:lnTo>
                          <a:pt x="78" y="318"/>
                        </a:lnTo>
                        <a:lnTo>
                          <a:pt x="0" y="430"/>
                        </a:lnTo>
                        <a:lnTo>
                          <a:pt x="39" y="562"/>
                        </a:lnTo>
                        <a:lnTo>
                          <a:pt x="40" y="562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9" name=""/>
                  <p:cNvSpPr/>
                  <p:nvPr/>
                </p:nvSpPr>
                <p:spPr>
                  <a:xfrm flipV="1" rot="5400000">
                    <a:off x="8141760" y="19410840"/>
                    <a:ext cx="11412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152" h="740">
                        <a:moveTo>
                          <a:pt x="3152" y="738"/>
                        </a:moveTo>
                        <a:lnTo>
                          <a:pt x="3126" y="512"/>
                        </a:lnTo>
                        <a:lnTo>
                          <a:pt x="2966" y="350"/>
                        </a:lnTo>
                        <a:lnTo>
                          <a:pt x="2290" y="101"/>
                        </a:lnTo>
                        <a:lnTo>
                          <a:pt x="1576" y="0"/>
                        </a:lnTo>
                        <a:lnTo>
                          <a:pt x="862" y="102"/>
                        </a:lnTo>
                        <a:lnTo>
                          <a:pt x="186" y="352"/>
                        </a:lnTo>
                        <a:lnTo>
                          <a:pt x="26" y="514"/>
                        </a:lnTo>
                        <a:lnTo>
                          <a:pt x="0" y="740"/>
                        </a:lnTo>
                        <a:lnTo>
                          <a:pt x="1" y="74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720" bIns="-18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0" name=""/>
                  <p:cNvSpPr/>
                  <p:nvPr/>
                </p:nvSpPr>
                <p:spPr>
                  <a:xfrm flipV="1" rot="5400000">
                    <a:off x="8194320" y="19390320"/>
                    <a:ext cx="3492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023" h="298">
                        <a:moveTo>
                          <a:pt x="1023" y="0"/>
                        </a:moveTo>
                        <a:lnTo>
                          <a:pt x="496" y="98"/>
                        </a:lnTo>
                        <a:lnTo>
                          <a:pt x="0" y="298"/>
                        </a:lnTo>
                        <a:lnTo>
                          <a:pt x="2" y="298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1" name=""/>
                  <p:cNvSpPr/>
                  <p:nvPr/>
                </p:nvSpPr>
                <p:spPr>
                  <a:xfrm flipV="1" rot="5400000">
                    <a:off x="8209440" y="19371600"/>
                    <a:ext cx="936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03" h="97">
                        <a:moveTo>
                          <a:pt x="0" y="0"/>
                        </a:moveTo>
                        <a:lnTo>
                          <a:pt x="78" y="97"/>
                        </a:lnTo>
                        <a:lnTo>
                          <a:pt x="201" y="93"/>
                        </a:lnTo>
                        <a:lnTo>
                          <a:pt x="203" y="9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2" name=""/>
                  <p:cNvSpPr/>
                  <p:nvPr/>
                </p:nvSpPr>
                <p:spPr>
                  <a:xfrm flipV="1" rot="5400000">
                    <a:off x="8203680" y="19358640"/>
                    <a:ext cx="32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496">
                        <a:moveTo>
                          <a:pt x="109" y="496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3" name=""/>
                  <p:cNvSpPr/>
                  <p:nvPr/>
                </p:nvSpPr>
                <p:spPr>
                  <a:xfrm flipV="1" rot="5400000">
                    <a:off x="8191080" y="19362600"/>
                    <a:ext cx="14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160">
                        <a:moveTo>
                          <a:pt x="84" y="0"/>
                        </a:moveTo>
                        <a:lnTo>
                          <a:pt x="13" y="64"/>
                        </a:lnTo>
                        <a:lnTo>
                          <a:pt x="0" y="160"/>
                        </a:lnTo>
                        <a:lnTo>
                          <a:pt x="1" y="16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4" name=""/>
                  <p:cNvSpPr/>
                  <p:nvPr/>
                </p:nvSpPr>
                <p:spPr>
                  <a:xfrm flipV="1" rot="5400000">
                    <a:off x="8191080" y="19480680"/>
                    <a:ext cx="18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159">
                        <a:moveTo>
                          <a:pt x="84" y="159"/>
                        </a:moveTo>
                        <a:lnTo>
                          <a:pt x="71" y="64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5" name=""/>
                  <p:cNvSpPr/>
                  <p:nvPr/>
                </p:nvSpPr>
                <p:spPr>
                  <a:xfrm flipV="1" rot="5400000">
                    <a:off x="8203680" y="19476000"/>
                    <a:ext cx="32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496">
                        <a:moveTo>
                          <a:pt x="109" y="0"/>
                        </a:moveTo>
                        <a:lnTo>
                          <a:pt x="0" y="496"/>
                        </a:lnTo>
                        <a:lnTo>
                          <a:pt x="1" y="496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6" name=""/>
                  <p:cNvSpPr/>
                  <p:nvPr/>
                </p:nvSpPr>
                <p:spPr>
                  <a:xfrm flipV="1" rot="5400000">
                    <a:off x="8209440" y="19476360"/>
                    <a:ext cx="936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02" h="98">
                        <a:moveTo>
                          <a:pt x="0" y="94"/>
                        </a:moveTo>
                        <a:lnTo>
                          <a:pt x="124" y="98"/>
                        </a:lnTo>
                        <a:lnTo>
                          <a:pt x="201" y="0"/>
                        </a:lnTo>
                        <a:lnTo>
                          <a:pt x="202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7" name=""/>
                  <p:cNvSpPr/>
                  <p:nvPr/>
                </p:nvSpPr>
                <p:spPr>
                  <a:xfrm flipV="1" rot="5400000">
                    <a:off x="8194320" y="19450800"/>
                    <a:ext cx="3492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021" h="297">
                        <a:moveTo>
                          <a:pt x="1021" y="297"/>
                        </a:moveTo>
                        <a:lnTo>
                          <a:pt x="525" y="97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48" name=""/>
                <p:cNvSpPr/>
                <p:nvPr/>
              </p:nvSpPr>
              <p:spPr>
                <a:xfrm flipV="1" rot="16200000">
                  <a:off x="8336160" y="19216800"/>
                  <a:ext cx="431640" cy="286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9" name=""/>
                <p:cNvSpPr/>
                <p:nvPr/>
              </p:nvSpPr>
              <p:spPr>
                <a:xfrm>
                  <a:off x="8949960" y="19392840"/>
                  <a:ext cx="360" cy="99720"/>
                </a:xfrm>
                <a:custGeom>
                  <a:avLst/>
                  <a:gdLst/>
                  <a:ahLst/>
                  <a:rect l="l" t="t" r="r" b="b"/>
                  <a:pathLst>
                    <a:path w="2" h="2733">
                      <a:moveTo>
                        <a:pt x="0" y="0"/>
                      </a:moveTo>
                      <a:lnTo>
                        <a:pt x="1" y="2733"/>
                      </a:lnTo>
                      <a:lnTo>
                        <a:pt x="2" y="2733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0" name=""/>
                <p:cNvSpPr/>
                <p:nvPr/>
              </p:nvSpPr>
              <p:spPr>
                <a:xfrm>
                  <a:off x="8962920" y="19392840"/>
                  <a:ext cx="360" cy="99720"/>
                </a:xfrm>
                <a:custGeom>
                  <a:avLst/>
                  <a:gdLst/>
                  <a:ahLst/>
                  <a:rect l="l" t="t" r="r" b="b"/>
                  <a:pathLst>
                    <a:path w="2" h="2733">
                      <a:moveTo>
                        <a:pt x="0" y="0"/>
                      </a:moveTo>
                      <a:lnTo>
                        <a:pt x="1" y="2733"/>
                      </a:lnTo>
                      <a:lnTo>
                        <a:pt x="2" y="2733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1" name=""/>
                <p:cNvSpPr/>
                <p:nvPr/>
              </p:nvSpPr>
              <p:spPr>
                <a:xfrm>
                  <a:off x="8800920" y="19392840"/>
                  <a:ext cx="1080" cy="99720"/>
                </a:xfrm>
                <a:custGeom>
                  <a:avLst/>
                  <a:gdLst/>
                  <a:ahLst/>
                  <a:rect l="l" t="t" r="r" b="b"/>
                  <a:pathLst>
                    <a:path w="2" h="2733">
                      <a:moveTo>
                        <a:pt x="0" y="0"/>
                      </a:moveTo>
                      <a:lnTo>
                        <a:pt x="1" y="2733"/>
                      </a:lnTo>
                      <a:lnTo>
                        <a:pt x="2" y="2733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2" name=""/>
                <p:cNvSpPr/>
                <p:nvPr/>
              </p:nvSpPr>
              <p:spPr>
                <a:xfrm>
                  <a:off x="8813520" y="19392840"/>
                  <a:ext cx="1440" cy="99720"/>
                </a:xfrm>
                <a:custGeom>
                  <a:avLst/>
                  <a:gdLst/>
                  <a:ahLst/>
                  <a:rect l="l" t="t" r="r" b="b"/>
                  <a:pathLst>
                    <a:path w="2" h="2733">
                      <a:moveTo>
                        <a:pt x="0" y="0"/>
                      </a:moveTo>
                      <a:lnTo>
                        <a:pt x="1" y="2733"/>
                      </a:lnTo>
                      <a:lnTo>
                        <a:pt x="2" y="2733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3" name=""/>
                <p:cNvSpPr/>
                <p:nvPr/>
              </p:nvSpPr>
              <p:spPr>
                <a:xfrm>
                  <a:off x="8821440" y="19419840"/>
                  <a:ext cx="360" cy="69840"/>
                </a:xfrm>
                <a:custGeom>
                  <a:avLst/>
                  <a:gdLst/>
                  <a:ahLst/>
                  <a:rect l="l" t="t" r="r" b="b"/>
                  <a:pathLst>
                    <a:path w="19" h="1925">
                      <a:moveTo>
                        <a:pt x="0" y="0"/>
                      </a:moveTo>
                      <a:lnTo>
                        <a:pt x="18" y="1925"/>
                      </a:lnTo>
                      <a:lnTo>
                        <a:pt x="19" y="1925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4" name=""/>
                <p:cNvSpPr/>
                <p:nvPr/>
              </p:nvSpPr>
              <p:spPr>
                <a:xfrm>
                  <a:off x="8821440" y="19489680"/>
                  <a:ext cx="18720" cy="21960"/>
                </a:xfrm>
                <a:custGeom>
                  <a:avLst/>
                  <a:gdLst/>
                  <a:ahLst/>
                  <a:rect l="l" t="t" r="r" b="b"/>
                  <a:pathLst>
                    <a:path w="568" h="605">
                      <a:moveTo>
                        <a:pt x="0" y="0"/>
                      </a:moveTo>
                      <a:lnTo>
                        <a:pt x="184" y="396"/>
                      </a:lnTo>
                      <a:lnTo>
                        <a:pt x="567" y="605"/>
                      </a:lnTo>
                      <a:lnTo>
                        <a:pt x="568" y="605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5" name=""/>
                <p:cNvSpPr/>
                <p:nvPr/>
              </p:nvSpPr>
              <p:spPr>
                <a:xfrm>
                  <a:off x="8840520" y="19511640"/>
                  <a:ext cx="82080" cy="3240"/>
                </a:xfrm>
                <a:custGeom>
                  <a:avLst/>
                  <a:gdLst/>
                  <a:ahLst/>
                  <a:rect l="l" t="t" r="r" b="b"/>
                  <a:pathLst>
                    <a:path w="2269" h="103">
                      <a:moveTo>
                        <a:pt x="0" y="2"/>
                      </a:moveTo>
                      <a:lnTo>
                        <a:pt x="1135" y="103"/>
                      </a:lnTo>
                      <a:lnTo>
                        <a:pt x="2268" y="0"/>
                      </a:lnTo>
                      <a:lnTo>
                        <a:pt x="2269" y="0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6" name=""/>
                <p:cNvSpPr/>
                <p:nvPr/>
              </p:nvSpPr>
              <p:spPr>
                <a:xfrm>
                  <a:off x="8922960" y="19489680"/>
                  <a:ext cx="18720" cy="21960"/>
                </a:xfrm>
                <a:custGeom>
                  <a:avLst/>
                  <a:gdLst/>
                  <a:ahLst/>
                  <a:rect l="l" t="t" r="r" b="b"/>
                  <a:pathLst>
                    <a:path w="568" h="605">
                      <a:moveTo>
                        <a:pt x="0" y="605"/>
                      </a:moveTo>
                      <a:lnTo>
                        <a:pt x="382" y="396"/>
                      </a:lnTo>
                      <a:lnTo>
                        <a:pt x="567" y="0"/>
                      </a:lnTo>
                      <a:lnTo>
                        <a:pt x="568" y="0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7" name=""/>
                <p:cNvSpPr/>
                <p:nvPr/>
              </p:nvSpPr>
              <p:spPr>
                <a:xfrm>
                  <a:off x="8942040" y="19419840"/>
                  <a:ext cx="360" cy="69840"/>
                </a:xfrm>
                <a:custGeom>
                  <a:avLst/>
                  <a:gdLst/>
                  <a:ahLst/>
                  <a:rect l="l" t="t" r="r" b="b"/>
                  <a:pathLst>
                    <a:path w="17" h="1925">
                      <a:moveTo>
                        <a:pt x="0" y="1925"/>
                      </a:moveTo>
                      <a:lnTo>
                        <a:pt x="16" y="0"/>
                      </a:lnTo>
                      <a:lnTo>
                        <a:pt x="17" y="0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8" name=""/>
                <p:cNvSpPr/>
                <p:nvPr/>
              </p:nvSpPr>
              <p:spPr>
                <a:xfrm>
                  <a:off x="8916840" y="19391040"/>
                  <a:ext cx="24840" cy="28800"/>
                </a:xfrm>
                <a:custGeom>
                  <a:avLst/>
                  <a:gdLst/>
                  <a:ahLst/>
                  <a:rect l="l" t="t" r="r" b="b"/>
                  <a:pathLst>
                    <a:path w="745" h="787">
                      <a:moveTo>
                        <a:pt x="745" y="787"/>
                      </a:moveTo>
                      <a:lnTo>
                        <a:pt x="623" y="420"/>
                      </a:lnTo>
                      <a:lnTo>
                        <a:pt x="358" y="140"/>
                      </a:lnTo>
                      <a:lnTo>
                        <a:pt x="0" y="0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9" name=""/>
                <p:cNvSpPr/>
                <p:nvPr/>
              </p:nvSpPr>
              <p:spPr>
                <a:xfrm>
                  <a:off x="8847000" y="19389600"/>
                  <a:ext cx="69480" cy="1440"/>
                </a:xfrm>
                <a:custGeom>
                  <a:avLst/>
                  <a:gdLst/>
                  <a:ahLst/>
                  <a:rect l="l" t="t" r="r" b="b"/>
                  <a:pathLst>
                    <a:path w="1947" h="77">
                      <a:moveTo>
                        <a:pt x="1947" y="76"/>
                      </a:moveTo>
                      <a:lnTo>
                        <a:pt x="974" y="0"/>
                      </a:lnTo>
                      <a:lnTo>
                        <a:pt x="0" y="77"/>
                      </a:lnTo>
                      <a:lnTo>
                        <a:pt x="1" y="77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0" name=""/>
                <p:cNvSpPr/>
                <p:nvPr/>
              </p:nvSpPr>
              <p:spPr>
                <a:xfrm>
                  <a:off x="8821440" y="19391040"/>
                  <a:ext cx="25200" cy="28800"/>
                </a:xfrm>
                <a:custGeom>
                  <a:avLst/>
                  <a:gdLst/>
                  <a:ahLst/>
                  <a:rect l="l" t="t" r="r" b="b"/>
                  <a:pathLst>
                    <a:path w="744" h="788">
                      <a:moveTo>
                        <a:pt x="744" y="0"/>
                      </a:moveTo>
                      <a:lnTo>
                        <a:pt x="386" y="141"/>
                      </a:lnTo>
                      <a:lnTo>
                        <a:pt x="121" y="421"/>
                      </a:lnTo>
                      <a:lnTo>
                        <a:pt x="0" y="788"/>
                      </a:lnTo>
                      <a:lnTo>
                        <a:pt x="1" y="788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1" name=""/>
                <p:cNvSpPr/>
                <p:nvPr/>
              </p:nvSpPr>
              <p:spPr>
                <a:xfrm>
                  <a:off x="8949960" y="19492560"/>
                  <a:ext cx="12600" cy="360"/>
                </a:xfrm>
                <a:custGeom>
                  <a:avLst/>
                  <a:gdLst/>
                  <a:ahLst/>
                  <a:rect l="l" t="t" r="r" b="b"/>
                  <a:pathLst>
                    <a:path w="350" h="0">
                      <a:moveTo>
                        <a:pt x="0" y="0"/>
                      </a:moveTo>
                      <a:lnTo>
                        <a:pt x="349" y="0"/>
                      </a:lnTo>
                      <a:lnTo>
                        <a:pt x="350" y="0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2" name=""/>
                <p:cNvSpPr/>
                <p:nvPr/>
              </p:nvSpPr>
              <p:spPr>
                <a:xfrm>
                  <a:off x="8800920" y="19492560"/>
                  <a:ext cx="12240" cy="360"/>
                </a:xfrm>
                <a:custGeom>
                  <a:avLst/>
                  <a:gdLst/>
                  <a:ahLst/>
                  <a:rect l="l" t="t" r="r" b="b"/>
                  <a:pathLst>
                    <a:path w="349" h="0">
                      <a:moveTo>
                        <a:pt x="349" y="0"/>
                      </a:moveTo>
                      <a:lnTo>
                        <a:pt x="0" y="0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3" name=""/>
                <p:cNvSpPr/>
                <p:nvPr/>
              </p:nvSpPr>
              <p:spPr>
                <a:xfrm>
                  <a:off x="8949960" y="19392840"/>
                  <a:ext cx="12600" cy="360"/>
                </a:xfrm>
                <a:custGeom>
                  <a:avLst/>
                  <a:gdLst/>
                  <a:ahLst/>
                  <a:rect l="l" t="t" r="r" b="b"/>
                  <a:pathLst>
                    <a:path w="350" h="0">
                      <a:moveTo>
                        <a:pt x="0" y="0"/>
                      </a:moveTo>
                      <a:lnTo>
                        <a:pt x="349" y="0"/>
                      </a:lnTo>
                      <a:lnTo>
                        <a:pt x="350" y="0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4" name=""/>
                <p:cNvSpPr/>
                <p:nvPr/>
              </p:nvSpPr>
              <p:spPr>
                <a:xfrm>
                  <a:off x="8869320" y="19384920"/>
                  <a:ext cx="24840" cy="360"/>
                </a:xfrm>
                <a:custGeom>
                  <a:avLst/>
                  <a:gdLst/>
                  <a:ahLst/>
                  <a:rect l="l" t="t" r="r" b="b"/>
                  <a:pathLst>
                    <a:path w="698" h="0">
                      <a:moveTo>
                        <a:pt x="698" y="0"/>
                      </a:moveTo>
                      <a:lnTo>
                        <a:pt x="0" y="0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5" name=""/>
                <p:cNvSpPr/>
                <p:nvPr/>
              </p:nvSpPr>
              <p:spPr>
                <a:xfrm>
                  <a:off x="8894520" y="19384920"/>
                  <a:ext cx="1440" cy="4680"/>
                </a:xfrm>
                <a:custGeom>
                  <a:avLst/>
                  <a:gdLst/>
                  <a:ahLst/>
                  <a:rect l="l" t="t" r="r" b="b"/>
                  <a:pathLst>
                    <a:path w="1" h="133">
                      <a:moveTo>
                        <a:pt x="0" y="133"/>
                      </a:moveTo>
                      <a:lnTo>
                        <a:pt x="0" y="0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6" name=""/>
                <p:cNvSpPr/>
                <p:nvPr/>
              </p:nvSpPr>
              <p:spPr>
                <a:xfrm>
                  <a:off x="8869320" y="19384920"/>
                  <a:ext cx="360" cy="4680"/>
                </a:xfrm>
                <a:custGeom>
                  <a:avLst/>
                  <a:gdLst/>
                  <a:ahLst/>
                  <a:rect l="l" t="t" r="r" b="b"/>
                  <a:pathLst>
                    <a:path w="1" h="134">
                      <a:moveTo>
                        <a:pt x="0" y="134"/>
                      </a:moveTo>
                      <a:lnTo>
                        <a:pt x="0" y="0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7" name=""/>
                <p:cNvSpPr/>
                <p:nvPr/>
              </p:nvSpPr>
              <p:spPr>
                <a:xfrm>
                  <a:off x="8800920" y="19392840"/>
                  <a:ext cx="12240" cy="360"/>
                </a:xfrm>
                <a:custGeom>
                  <a:avLst/>
                  <a:gdLst/>
                  <a:ahLst/>
                  <a:rect l="l" t="t" r="r" b="b"/>
                  <a:pathLst>
                    <a:path w="349" h="0">
                      <a:moveTo>
                        <a:pt x="349" y="0"/>
                      </a:moveTo>
                      <a:lnTo>
                        <a:pt x="0" y="0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8" name=""/>
                <p:cNvSpPr/>
                <p:nvPr/>
              </p:nvSpPr>
              <p:spPr>
                <a:xfrm>
                  <a:off x="8821440" y="19352880"/>
                  <a:ext cx="120240" cy="20880"/>
                </a:xfrm>
                <a:custGeom>
                  <a:avLst/>
                  <a:gdLst/>
                  <a:ahLst/>
                  <a:rect l="l" t="t" r="r" b="b"/>
                  <a:pathLst>
                    <a:path w="3444" h="562">
                      <a:moveTo>
                        <a:pt x="3405" y="560"/>
                      </a:moveTo>
                      <a:lnTo>
                        <a:pt x="3444" y="429"/>
                      </a:lnTo>
                      <a:lnTo>
                        <a:pt x="3366" y="316"/>
                      </a:lnTo>
                      <a:lnTo>
                        <a:pt x="2559" y="78"/>
                      </a:lnTo>
                      <a:lnTo>
                        <a:pt x="1722" y="0"/>
                      </a:lnTo>
                      <a:lnTo>
                        <a:pt x="884" y="79"/>
                      </a:lnTo>
                      <a:lnTo>
                        <a:pt x="78" y="318"/>
                      </a:lnTo>
                      <a:lnTo>
                        <a:pt x="0" y="430"/>
                      </a:lnTo>
                      <a:lnTo>
                        <a:pt x="39" y="562"/>
                      </a:lnTo>
                      <a:lnTo>
                        <a:pt x="40" y="562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9" name=""/>
                <p:cNvSpPr/>
                <p:nvPr/>
              </p:nvSpPr>
              <p:spPr>
                <a:xfrm>
                  <a:off x="8824680" y="19362600"/>
                  <a:ext cx="114120" cy="28440"/>
                </a:xfrm>
                <a:custGeom>
                  <a:avLst/>
                  <a:gdLst/>
                  <a:ahLst/>
                  <a:rect l="l" t="t" r="r" b="b"/>
                  <a:pathLst>
                    <a:path w="3152" h="740">
                      <a:moveTo>
                        <a:pt x="3152" y="738"/>
                      </a:moveTo>
                      <a:lnTo>
                        <a:pt x="3126" y="512"/>
                      </a:lnTo>
                      <a:lnTo>
                        <a:pt x="2966" y="350"/>
                      </a:lnTo>
                      <a:lnTo>
                        <a:pt x="2290" y="101"/>
                      </a:lnTo>
                      <a:lnTo>
                        <a:pt x="1576" y="0"/>
                      </a:lnTo>
                      <a:lnTo>
                        <a:pt x="862" y="102"/>
                      </a:lnTo>
                      <a:lnTo>
                        <a:pt x="186" y="352"/>
                      </a:lnTo>
                      <a:lnTo>
                        <a:pt x="26" y="514"/>
                      </a:lnTo>
                      <a:lnTo>
                        <a:pt x="0" y="740"/>
                      </a:lnTo>
                      <a:lnTo>
                        <a:pt x="1" y="740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0" name=""/>
                <p:cNvSpPr/>
                <p:nvPr/>
              </p:nvSpPr>
              <p:spPr>
                <a:xfrm>
                  <a:off x="8834400" y="19384920"/>
                  <a:ext cx="34560" cy="9360"/>
                </a:xfrm>
                <a:custGeom>
                  <a:avLst/>
                  <a:gdLst/>
                  <a:ahLst/>
                  <a:rect l="l" t="t" r="r" b="b"/>
                  <a:pathLst>
                    <a:path w="1023" h="298">
                      <a:moveTo>
                        <a:pt x="1023" y="0"/>
                      </a:moveTo>
                      <a:lnTo>
                        <a:pt x="496" y="98"/>
                      </a:lnTo>
                      <a:lnTo>
                        <a:pt x="0" y="298"/>
                      </a:lnTo>
                      <a:lnTo>
                        <a:pt x="2" y="298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1" name=""/>
                <p:cNvSpPr/>
                <p:nvPr/>
              </p:nvSpPr>
              <p:spPr>
                <a:xfrm>
                  <a:off x="8824680" y="19391040"/>
                  <a:ext cx="9360" cy="4680"/>
                </a:xfrm>
                <a:custGeom>
                  <a:avLst/>
                  <a:gdLst/>
                  <a:ahLst/>
                  <a:rect l="l" t="t" r="r" b="b"/>
                  <a:pathLst>
                    <a:path w="203" h="97">
                      <a:moveTo>
                        <a:pt x="0" y="0"/>
                      </a:moveTo>
                      <a:lnTo>
                        <a:pt x="78" y="97"/>
                      </a:lnTo>
                      <a:lnTo>
                        <a:pt x="201" y="93"/>
                      </a:lnTo>
                      <a:lnTo>
                        <a:pt x="203" y="93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2" name=""/>
                <p:cNvSpPr/>
                <p:nvPr/>
              </p:nvSpPr>
              <p:spPr>
                <a:xfrm>
                  <a:off x="8821440" y="19375200"/>
                  <a:ext cx="2880" cy="15840"/>
                </a:xfrm>
                <a:custGeom>
                  <a:avLst/>
                  <a:gdLst/>
                  <a:ahLst/>
                  <a:rect l="l" t="t" r="r" b="b"/>
                  <a:pathLst>
                    <a:path w="109" h="496">
                      <a:moveTo>
                        <a:pt x="109" y="496"/>
                      </a:moveTo>
                      <a:lnTo>
                        <a:pt x="0" y="0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3" name=""/>
                <p:cNvSpPr/>
                <p:nvPr/>
              </p:nvSpPr>
              <p:spPr>
                <a:xfrm>
                  <a:off x="8821440" y="19367280"/>
                  <a:ext cx="1440" cy="7920"/>
                </a:xfrm>
                <a:custGeom>
                  <a:avLst/>
                  <a:gdLst/>
                  <a:ahLst/>
                  <a:rect l="l" t="t" r="r" b="b"/>
                  <a:pathLst>
                    <a:path w="84" h="160">
                      <a:moveTo>
                        <a:pt x="84" y="0"/>
                      </a:moveTo>
                      <a:lnTo>
                        <a:pt x="13" y="64"/>
                      </a:lnTo>
                      <a:lnTo>
                        <a:pt x="0" y="160"/>
                      </a:lnTo>
                      <a:lnTo>
                        <a:pt x="1" y="160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4" name=""/>
                <p:cNvSpPr/>
                <p:nvPr/>
              </p:nvSpPr>
              <p:spPr>
                <a:xfrm>
                  <a:off x="8940600" y="19367280"/>
                  <a:ext cx="1080" cy="7920"/>
                </a:xfrm>
                <a:custGeom>
                  <a:avLst/>
                  <a:gdLst/>
                  <a:ahLst/>
                  <a:rect l="l" t="t" r="r" b="b"/>
                  <a:pathLst>
                    <a:path w="84" h="159">
                      <a:moveTo>
                        <a:pt x="84" y="159"/>
                      </a:moveTo>
                      <a:lnTo>
                        <a:pt x="71" y="64"/>
                      </a:lnTo>
                      <a:lnTo>
                        <a:pt x="0" y="0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5" name=""/>
                <p:cNvSpPr/>
                <p:nvPr/>
              </p:nvSpPr>
              <p:spPr>
                <a:xfrm>
                  <a:off x="8939160" y="19375200"/>
                  <a:ext cx="2520" cy="15840"/>
                </a:xfrm>
                <a:custGeom>
                  <a:avLst/>
                  <a:gdLst/>
                  <a:ahLst/>
                  <a:rect l="l" t="t" r="r" b="b"/>
                  <a:pathLst>
                    <a:path w="109" h="496">
                      <a:moveTo>
                        <a:pt x="109" y="0"/>
                      </a:moveTo>
                      <a:lnTo>
                        <a:pt x="0" y="496"/>
                      </a:lnTo>
                      <a:lnTo>
                        <a:pt x="1" y="496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6" name=""/>
                <p:cNvSpPr/>
                <p:nvPr/>
              </p:nvSpPr>
              <p:spPr>
                <a:xfrm>
                  <a:off x="8929440" y="19391040"/>
                  <a:ext cx="9360" cy="4680"/>
                </a:xfrm>
                <a:custGeom>
                  <a:avLst/>
                  <a:gdLst/>
                  <a:ahLst/>
                  <a:rect l="l" t="t" r="r" b="b"/>
                  <a:pathLst>
                    <a:path w="202" h="98">
                      <a:moveTo>
                        <a:pt x="0" y="94"/>
                      </a:moveTo>
                      <a:lnTo>
                        <a:pt x="124" y="98"/>
                      </a:lnTo>
                      <a:lnTo>
                        <a:pt x="201" y="0"/>
                      </a:lnTo>
                      <a:lnTo>
                        <a:pt x="202" y="0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7" name=""/>
                <p:cNvSpPr/>
                <p:nvPr/>
              </p:nvSpPr>
              <p:spPr>
                <a:xfrm>
                  <a:off x="8894520" y="19384920"/>
                  <a:ext cx="34560" cy="9360"/>
                </a:xfrm>
                <a:custGeom>
                  <a:avLst/>
                  <a:gdLst/>
                  <a:ahLst/>
                  <a:rect l="l" t="t" r="r" b="b"/>
                  <a:pathLst>
                    <a:path w="1021" h="297">
                      <a:moveTo>
                        <a:pt x="1021" y="297"/>
                      </a:moveTo>
                      <a:lnTo>
                        <a:pt x="525" y="97"/>
                      </a:lnTo>
                      <a:lnTo>
                        <a:pt x="0" y="0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8" name=""/>
                <p:cNvSpPr/>
                <p:nvPr/>
              </p:nvSpPr>
              <p:spPr>
                <a:xfrm>
                  <a:off x="8767440" y="19503720"/>
                  <a:ext cx="218880" cy="6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9" name=""/>
                <p:cNvSpPr/>
                <p:nvPr/>
              </p:nvSpPr>
              <p:spPr>
                <a:xfrm>
                  <a:off x="8805600" y="19514880"/>
                  <a:ext cx="131400" cy="4788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0" name=""/>
                <p:cNvSpPr/>
                <p:nvPr/>
              </p:nvSpPr>
              <p:spPr>
                <a:xfrm>
                  <a:off x="8812080" y="19522800"/>
                  <a:ext cx="15480" cy="3348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1" name=""/>
                <p:cNvSpPr/>
                <p:nvPr/>
              </p:nvSpPr>
              <p:spPr>
                <a:xfrm>
                  <a:off x="8834400" y="19522800"/>
                  <a:ext cx="96480" cy="3348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2" name=""/>
                <p:cNvSpPr/>
                <p:nvPr/>
              </p:nvSpPr>
              <p:spPr>
                <a:xfrm>
                  <a:off x="8699400" y="19570680"/>
                  <a:ext cx="360000" cy="2156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3" name=""/>
                <p:cNvSpPr/>
                <p:nvPr/>
              </p:nvSpPr>
              <p:spPr>
                <a:xfrm rot="1751400">
                  <a:off x="8748000" y="19605600"/>
                  <a:ext cx="21960" cy="31680"/>
                </a:xfrm>
                <a:prstGeom prst="ellipse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4" name=""/>
                <p:cNvSpPr/>
                <p:nvPr/>
              </p:nvSpPr>
              <p:spPr>
                <a:xfrm>
                  <a:off x="8719920" y="19591200"/>
                  <a:ext cx="68040" cy="6660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5" name=""/>
                <p:cNvSpPr/>
                <p:nvPr/>
              </p:nvSpPr>
              <p:spPr>
                <a:xfrm>
                  <a:off x="8823240" y="19594440"/>
                  <a:ext cx="132840" cy="1458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86" name=""/>
                <p:cNvGrpSpPr/>
                <p:nvPr/>
              </p:nvGrpSpPr>
              <p:grpSpPr>
                <a:xfrm>
                  <a:off x="8831160" y="19614960"/>
                  <a:ext cx="117000" cy="117000"/>
                  <a:chOff x="8831160" y="19614960"/>
                  <a:chExt cx="117000" cy="117000"/>
                </a:xfrm>
              </p:grpSpPr>
              <p:sp>
                <p:nvSpPr>
                  <p:cNvPr id="3187" name=""/>
                  <p:cNvSpPr/>
                  <p:nvPr/>
                </p:nvSpPr>
                <p:spPr>
                  <a:xfrm>
                    <a:off x="8862120" y="19713240"/>
                    <a:ext cx="252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35">
                        <a:moveTo>
                          <a:pt x="0" y="35"/>
                        </a:moveTo>
                        <a:lnTo>
                          <a:pt x="5" y="29"/>
                        </a:lnTo>
                        <a:lnTo>
                          <a:pt x="11" y="23"/>
                        </a:lnTo>
                        <a:lnTo>
                          <a:pt x="17" y="17"/>
                        </a:lnTo>
                        <a:lnTo>
                          <a:pt x="22" y="12"/>
                        </a:lnTo>
                        <a:lnTo>
                          <a:pt x="26" y="8"/>
                        </a:lnTo>
                        <a:lnTo>
                          <a:pt x="30" y="5"/>
                        </a:lnTo>
                        <a:lnTo>
                          <a:pt x="32" y="2"/>
                        </a:lnTo>
                        <a:lnTo>
                          <a:pt x="34" y="1"/>
                        </a:lnTo>
                        <a:lnTo>
                          <a:pt x="34" y="0"/>
                        </a:lnTo>
                        <a:lnTo>
                          <a:pt x="35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8" name=""/>
                  <p:cNvSpPr/>
                  <p:nvPr/>
                </p:nvSpPr>
                <p:spPr>
                  <a:xfrm>
                    <a:off x="8862120" y="19713240"/>
                    <a:ext cx="252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35">
                        <a:moveTo>
                          <a:pt x="0" y="35"/>
                        </a:moveTo>
                        <a:lnTo>
                          <a:pt x="5" y="29"/>
                        </a:lnTo>
                        <a:lnTo>
                          <a:pt x="11" y="23"/>
                        </a:lnTo>
                        <a:lnTo>
                          <a:pt x="17" y="17"/>
                        </a:lnTo>
                        <a:lnTo>
                          <a:pt x="22" y="12"/>
                        </a:lnTo>
                        <a:lnTo>
                          <a:pt x="26" y="8"/>
                        </a:lnTo>
                        <a:lnTo>
                          <a:pt x="30" y="5"/>
                        </a:lnTo>
                        <a:lnTo>
                          <a:pt x="32" y="2"/>
                        </a:lnTo>
                        <a:lnTo>
                          <a:pt x="34" y="1"/>
                        </a:lnTo>
                        <a:lnTo>
                          <a:pt x="34" y="0"/>
                        </a:lnTo>
                        <a:lnTo>
                          <a:pt x="35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9" name=""/>
                  <p:cNvSpPr/>
                  <p:nvPr/>
                </p:nvSpPr>
                <p:spPr>
                  <a:xfrm>
                    <a:off x="8831160" y="19614960"/>
                    <a:ext cx="117000" cy="4968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80" bIns="2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0" name=""/>
                  <p:cNvSpPr/>
                  <p:nvPr/>
                </p:nvSpPr>
                <p:spPr>
                  <a:xfrm>
                    <a:off x="8839800" y="19666440"/>
                    <a:ext cx="100800" cy="65520"/>
                  </a:xfrm>
                  <a:custGeom>
                    <a:avLst/>
                    <a:gdLst>
                      <a:gd name="textAreaLeft" fmla="*/ 21960 w 100800"/>
                      <a:gd name="textAreaRight" fmla="*/ 78840 w 100800"/>
                      <a:gd name="textAreaTop" fmla="*/ 14400 h 65520"/>
                      <a:gd name="textAreaBottom" fmla="*/ 51120 h 655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080" bIns="-10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91" name=""/>
              <p:cNvGrpSpPr/>
              <p:nvPr/>
            </p:nvGrpSpPr>
            <p:grpSpPr>
              <a:xfrm>
                <a:off x="8174160" y="19831320"/>
                <a:ext cx="885240" cy="641520"/>
                <a:chOff x="8174160" y="19831320"/>
                <a:chExt cx="885240" cy="641520"/>
              </a:xfrm>
            </p:grpSpPr>
            <p:grpSp>
              <p:nvGrpSpPr>
                <p:cNvPr id="3192" name=""/>
                <p:cNvGrpSpPr/>
                <p:nvPr/>
              </p:nvGrpSpPr>
              <p:grpSpPr>
                <a:xfrm>
                  <a:off x="8174160" y="20111040"/>
                  <a:ext cx="162720" cy="162360"/>
                  <a:chOff x="8174160" y="20111040"/>
                  <a:chExt cx="162720" cy="162360"/>
                </a:xfrm>
              </p:grpSpPr>
              <p:sp>
                <p:nvSpPr>
                  <p:cNvPr id="3193" name=""/>
                  <p:cNvSpPr/>
                  <p:nvPr/>
                </p:nvSpPr>
                <p:spPr>
                  <a:xfrm rot="16200000">
                    <a:off x="8263080" y="20073960"/>
                    <a:ext cx="36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4" name=""/>
                  <p:cNvSpPr/>
                  <p:nvPr/>
                </p:nvSpPr>
                <p:spPr>
                  <a:xfrm rot="16200000">
                    <a:off x="8263080" y="20061360"/>
                    <a:ext cx="36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5" name=""/>
                  <p:cNvSpPr/>
                  <p:nvPr/>
                </p:nvSpPr>
                <p:spPr>
                  <a:xfrm rot="16200000">
                    <a:off x="8262360" y="20222640"/>
                    <a:ext cx="180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6" name=""/>
                  <p:cNvSpPr/>
                  <p:nvPr/>
                </p:nvSpPr>
                <p:spPr>
                  <a:xfrm rot="16200000">
                    <a:off x="8262360" y="20208960"/>
                    <a:ext cx="144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7" name=""/>
                  <p:cNvSpPr/>
                  <p:nvPr/>
                </p:nvSpPr>
                <p:spPr>
                  <a:xfrm rot="16200000">
                    <a:off x="8276760" y="20217600"/>
                    <a:ext cx="360" cy="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925">
                        <a:moveTo>
                          <a:pt x="0" y="0"/>
                        </a:moveTo>
                        <a:lnTo>
                          <a:pt x="18" y="1925"/>
                        </a:lnTo>
                        <a:lnTo>
                          <a:pt x="19" y="1925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8" name=""/>
                  <p:cNvSpPr/>
                  <p:nvPr/>
                </p:nvSpPr>
                <p:spPr>
                  <a:xfrm rot="16200000">
                    <a:off x="8313120" y="20232000"/>
                    <a:ext cx="190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68" h="605">
                        <a:moveTo>
                          <a:pt x="0" y="0"/>
                        </a:moveTo>
                        <a:lnTo>
                          <a:pt x="184" y="396"/>
                        </a:lnTo>
                        <a:lnTo>
                          <a:pt x="567" y="605"/>
                        </a:lnTo>
                        <a:lnTo>
                          <a:pt x="568" y="605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9" name=""/>
                  <p:cNvSpPr/>
                  <p:nvPr/>
                </p:nvSpPr>
                <p:spPr>
                  <a:xfrm rot="16200000">
                    <a:off x="8294040" y="20190600"/>
                    <a:ext cx="8244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269" h="103">
                        <a:moveTo>
                          <a:pt x="0" y="2"/>
                        </a:moveTo>
                        <a:lnTo>
                          <a:pt x="1135" y="103"/>
                        </a:lnTo>
                        <a:lnTo>
                          <a:pt x="2268" y="0"/>
                        </a:lnTo>
                        <a:lnTo>
                          <a:pt x="2269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0" name=""/>
                  <p:cNvSpPr/>
                  <p:nvPr/>
                </p:nvSpPr>
                <p:spPr>
                  <a:xfrm rot="16200000">
                    <a:off x="8313120" y="20130480"/>
                    <a:ext cx="190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68" h="605">
                        <a:moveTo>
                          <a:pt x="0" y="605"/>
                        </a:moveTo>
                        <a:lnTo>
                          <a:pt x="382" y="396"/>
                        </a:lnTo>
                        <a:lnTo>
                          <a:pt x="567" y="0"/>
                        </a:lnTo>
                        <a:lnTo>
                          <a:pt x="568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1" name=""/>
                  <p:cNvSpPr/>
                  <p:nvPr/>
                </p:nvSpPr>
                <p:spPr>
                  <a:xfrm rot="16200000">
                    <a:off x="8276760" y="20097000"/>
                    <a:ext cx="360" cy="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925">
                        <a:moveTo>
                          <a:pt x="0" y="1925"/>
                        </a:moveTo>
                        <a:lnTo>
                          <a:pt x="16" y="0"/>
                        </a:lnTo>
                        <a:lnTo>
                          <a:pt x="17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2" name=""/>
                  <p:cNvSpPr/>
                  <p:nvPr/>
                </p:nvSpPr>
                <p:spPr>
                  <a:xfrm rot="16200000">
                    <a:off x="8214840" y="20130480"/>
                    <a:ext cx="2556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745" h="787">
                        <a:moveTo>
                          <a:pt x="745" y="787"/>
                        </a:moveTo>
                        <a:lnTo>
                          <a:pt x="623" y="420"/>
                        </a:lnTo>
                        <a:lnTo>
                          <a:pt x="358" y="14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3" name=""/>
                  <p:cNvSpPr/>
                  <p:nvPr/>
                </p:nvSpPr>
                <p:spPr>
                  <a:xfrm rot="16200000">
                    <a:off x="8175960" y="20190960"/>
                    <a:ext cx="6984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1947" h="77">
                        <a:moveTo>
                          <a:pt x="1947" y="76"/>
                        </a:moveTo>
                        <a:lnTo>
                          <a:pt x="974" y="0"/>
                        </a:lnTo>
                        <a:lnTo>
                          <a:pt x="0" y="77"/>
                        </a:lnTo>
                        <a:lnTo>
                          <a:pt x="1" y="77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4" name=""/>
                  <p:cNvSpPr/>
                  <p:nvPr/>
                </p:nvSpPr>
                <p:spPr>
                  <a:xfrm rot="16200000">
                    <a:off x="8214840" y="20224800"/>
                    <a:ext cx="2520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744" h="788">
                        <a:moveTo>
                          <a:pt x="744" y="0"/>
                        </a:moveTo>
                        <a:lnTo>
                          <a:pt x="386" y="141"/>
                        </a:lnTo>
                        <a:lnTo>
                          <a:pt x="121" y="421"/>
                        </a:lnTo>
                        <a:lnTo>
                          <a:pt x="0" y="788"/>
                        </a:lnTo>
                        <a:lnTo>
                          <a:pt x="1" y="788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5" name=""/>
                  <p:cNvSpPr/>
                  <p:nvPr/>
                </p:nvSpPr>
                <p:spPr>
                  <a:xfrm rot="16200000">
                    <a:off x="8309160" y="20117520"/>
                    <a:ext cx="1260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50" h="0">
                        <a:moveTo>
                          <a:pt x="0" y="0"/>
                        </a:moveTo>
                        <a:lnTo>
                          <a:pt x="349" y="0"/>
                        </a:lnTo>
                        <a:lnTo>
                          <a:pt x="350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6" name=""/>
                  <p:cNvSpPr/>
                  <p:nvPr/>
                </p:nvSpPr>
                <p:spPr>
                  <a:xfrm rot="16200000">
                    <a:off x="8308800" y="20265840"/>
                    <a:ext cx="129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49" h="0">
                        <a:moveTo>
                          <a:pt x="349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7" name=""/>
                  <p:cNvSpPr/>
                  <p:nvPr/>
                </p:nvSpPr>
                <p:spPr>
                  <a:xfrm rot="16200000">
                    <a:off x="8209080" y="20117520"/>
                    <a:ext cx="1260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50" h="0">
                        <a:moveTo>
                          <a:pt x="0" y="0"/>
                        </a:moveTo>
                        <a:lnTo>
                          <a:pt x="349" y="0"/>
                        </a:lnTo>
                        <a:lnTo>
                          <a:pt x="350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8" name=""/>
                  <p:cNvSpPr/>
                  <p:nvPr/>
                </p:nvSpPr>
                <p:spPr>
                  <a:xfrm rot="16200000">
                    <a:off x="8194680" y="20192040"/>
                    <a:ext cx="255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8" h="0">
                        <a:moveTo>
                          <a:pt x="698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9" name=""/>
                  <p:cNvSpPr/>
                  <p:nvPr/>
                </p:nvSpPr>
                <p:spPr>
                  <a:xfrm rot="16200000">
                    <a:off x="8206920" y="20175480"/>
                    <a:ext cx="14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33">
                        <a:moveTo>
                          <a:pt x="0" y="133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0" name=""/>
                  <p:cNvSpPr/>
                  <p:nvPr/>
                </p:nvSpPr>
                <p:spPr>
                  <a:xfrm rot="16200000">
                    <a:off x="8207640" y="20202480"/>
                    <a:ext cx="3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34">
                        <a:moveTo>
                          <a:pt x="0" y="134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1" name=""/>
                  <p:cNvSpPr/>
                  <p:nvPr/>
                </p:nvSpPr>
                <p:spPr>
                  <a:xfrm rot="16200000">
                    <a:off x="8208720" y="20265840"/>
                    <a:ext cx="129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49" h="0">
                        <a:moveTo>
                          <a:pt x="349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2" name=""/>
                  <p:cNvSpPr/>
                  <p:nvPr/>
                </p:nvSpPr>
                <p:spPr>
                  <a:xfrm rot="16200000">
                    <a:off x="8123760" y="20181960"/>
                    <a:ext cx="12060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3444" h="562">
                        <a:moveTo>
                          <a:pt x="3405" y="560"/>
                        </a:moveTo>
                        <a:lnTo>
                          <a:pt x="3444" y="429"/>
                        </a:lnTo>
                        <a:lnTo>
                          <a:pt x="3366" y="316"/>
                        </a:lnTo>
                        <a:lnTo>
                          <a:pt x="2559" y="78"/>
                        </a:lnTo>
                        <a:lnTo>
                          <a:pt x="1722" y="0"/>
                        </a:lnTo>
                        <a:lnTo>
                          <a:pt x="884" y="79"/>
                        </a:lnTo>
                        <a:lnTo>
                          <a:pt x="78" y="318"/>
                        </a:lnTo>
                        <a:lnTo>
                          <a:pt x="0" y="430"/>
                        </a:lnTo>
                        <a:lnTo>
                          <a:pt x="39" y="562"/>
                        </a:lnTo>
                        <a:lnTo>
                          <a:pt x="40" y="562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3" name=""/>
                  <p:cNvSpPr/>
                  <p:nvPr/>
                </p:nvSpPr>
                <p:spPr>
                  <a:xfrm rot="16200000">
                    <a:off x="8141760" y="20178000"/>
                    <a:ext cx="11412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152" h="740">
                        <a:moveTo>
                          <a:pt x="3152" y="738"/>
                        </a:moveTo>
                        <a:lnTo>
                          <a:pt x="3126" y="512"/>
                        </a:lnTo>
                        <a:lnTo>
                          <a:pt x="2966" y="350"/>
                        </a:lnTo>
                        <a:lnTo>
                          <a:pt x="2290" y="101"/>
                        </a:lnTo>
                        <a:lnTo>
                          <a:pt x="1576" y="0"/>
                        </a:lnTo>
                        <a:lnTo>
                          <a:pt x="862" y="102"/>
                        </a:lnTo>
                        <a:lnTo>
                          <a:pt x="186" y="352"/>
                        </a:lnTo>
                        <a:lnTo>
                          <a:pt x="26" y="514"/>
                        </a:lnTo>
                        <a:lnTo>
                          <a:pt x="0" y="740"/>
                        </a:lnTo>
                        <a:lnTo>
                          <a:pt x="1" y="74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720" bIns="-18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4" name=""/>
                  <p:cNvSpPr/>
                  <p:nvPr/>
                </p:nvSpPr>
                <p:spPr>
                  <a:xfrm rot="16200000">
                    <a:off x="8194320" y="20217960"/>
                    <a:ext cx="3492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023" h="298">
                        <a:moveTo>
                          <a:pt x="1023" y="0"/>
                        </a:moveTo>
                        <a:lnTo>
                          <a:pt x="496" y="98"/>
                        </a:lnTo>
                        <a:lnTo>
                          <a:pt x="0" y="298"/>
                        </a:lnTo>
                        <a:lnTo>
                          <a:pt x="2" y="298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5" name=""/>
                  <p:cNvSpPr/>
                  <p:nvPr/>
                </p:nvSpPr>
                <p:spPr>
                  <a:xfrm rot="16200000">
                    <a:off x="8209440" y="20241720"/>
                    <a:ext cx="936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03" h="97">
                        <a:moveTo>
                          <a:pt x="0" y="0"/>
                        </a:moveTo>
                        <a:lnTo>
                          <a:pt x="78" y="97"/>
                        </a:lnTo>
                        <a:lnTo>
                          <a:pt x="201" y="93"/>
                        </a:lnTo>
                        <a:lnTo>
                          <a:pt x="203" y="9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6" name=""/>
                  <p:cNvSpPr/>
                  <p:nvPr/>
                </p:nvSpPr>
                <p:spPr>
                  <a:xfrm rot="16200000">
                    <a:off x="8203680" y="20243160"/>
                    <a:ext cx="32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496">
                        <a:moveTo>
                          <a:pt x="109" y="496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7" name=""/>
                  <p:cNvSpPr/>
                  <p:nvPr/>
                </p:nvSpPr>
                <p:spPr>
                  <a:xfrm rot="16200000">
                    <a:off x="8191080" y="20247120"/>
                    <a:ext cx="14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160">
                        <a:moveTo>
                          <a:pt x="84" y="0"/>
                        </a:moveTo>
                        <a:lnTo>
                          <a:pt x="13" y="64"/>
                        </a:lnTo>
                        <a:lnTo>
                          <a:pt x="0" y="160"/>
                        </a:lnTo>
                        <a:lnTo>
                          <a:pt x="1" y="16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8" name=""/>
                  <p:cNvSpPr/>
                  <p:nvPr/>
                </p:nvSpPr>
                <p:spPr>
                  <a:xfrm rot="16200000">
                    <a:off x="8191080" y="20129040"/>
                    <a:ext cx="18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159">
                        <a:moveTo>
                          <a:pt x="84" y="159"/>
                        </a:moveTo>
                        <a:lnTo>
                          <a:pt x="71" y="64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9" name=""/>
                  <p:cNvSpPr/>
                  <p:nvPr/>
                </p:nvSpPr>
                <p:spPr>
                  <a:xfrm rot="16200000">
                    <a:off x="8203680" y="20125800"/>
                    <a:ext cx="32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496">
                        <a:moveTo>
                          <a:pt x="109" y="0"/>
                        </a:moveTo>
                        <a:lnTo>
                          <a:pt x="0" y="496"/>
                        </a:lnTo>
                        <a:lnTo>
                          <a:pt x="1" y="496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0" name=""/>
                  <p:cNvSpPr/>
                  <p:nvPr/>
                </p:nvSpPr>
                <p:spPr>
                  <a:xfrm rot="16200000">
                    <a:off x="8209440" y="20136960"/>
                    <a:ext cx="936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02" h="98">
                        <a:moveTo>
                          <a:pt x="0" y="94"/>
                        </a:moveTo>
                        <a:lnTo>
                          <a:pt x="124" y="98"/>
                        </a:lnTo>
                        <a:lnTo>
                          <a:pt x="201" y="0"/>
                        </a:lnTo>
                        <a:lnTo>
                          <a:pt x="202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1" name=""/>
                  <p:cNvSpPr/>
                  <p:nvPr/>
                </p:nvSpPr>
                <p:spPr>
                  <a:xfrm rot="16200000">
                    <a:off x="8194320" y="20157480"/>
                    <a:ext cx="3492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021" h="297">
                        <a:moveTo>
                          <a:pt x="1021" y="297"/>
                        </a:moveTo>
                        <a:lnTo>
                          <a:pt x="525" y="97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22" name=""/>
                <p:cNvSpPr/>
                <p:nvPr/>
              </p:nvSpPr>
              <p:spPr>
                <a:xfrm rot="5400000">
                  <a:off x="8336160" y="20113560"/>
                  <a:ext cx="431640" cy="286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3" name=""/>
                <p:cNvSpPr/>
                <p:nvPr/>
              </p:nvSpPr>
              <p:spPr>
                <a:xfrm flipV="1">
                  <a:off x="8949960" y="20124720"/>
                  <a:ext cx="360" cy="99720"/>
                </a:xfrm>
                <a:custGeom>
                  <a:avLst/>
                  <a:gdLst/>
                  <a:ahLst/>
                  <a:rect l="l" t="t" r="r" b="b"/>
                  <a:pathLst>
                    <a:path w="2" h="2733">
                      <a:moveTo>
                        <a:pt x="0" y="0"/>
                      </a:moveTo>
                      <a:lnTo>
                        <a:pt x="1" y="2733"/>
                      </a:lnTo>
                      <a:lnTo>
                        <a:pt x="2" y="2733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4" name=""/>
                <p:cNvSpPr/>
                <p:nvPr/>
              </p:nvSpPr>
              <p:spPr>
                <a:xfrm flipV="1">
                  <a:off x="8962920" y="20124720"/>
                  <a:ext cx="360" cy="99720"/>
                </a:xfrm>
                <a:custGeom>
                  <a:avLst/>
                  <a:gdLst/>
                  <a:ahLst/>
                  <a:rect l="l" t="t" r="r" b="b"/>
                  <a:pathLst>
                    <a:path w="2" h="2733">
                      <a:moveTo>
                        <a:pt x="0" y="0"/>
                      </a:moveTo>
                      <a:lnTo>
                        <a:pt x="1" y="2733"/>
                      </a:lnTo>
                      <a:lnTo>
                        <a:pt x="2" y="2733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5" name=""/>
                <p:cNvSpPr/>
                <p:nvPr/>
              </p:nvSpPr>
              <p:spPr>
                <a:xfrm flipV="1">
                  <a:off x="8800920" y="20124720"/>
                  <a:ext cx="1080" cy="99720"/>
                </a:xfrm>
                <a:custGeom>
                  <a:avLst/>
                  <a:gdLst/>
                  <a:ahLst/>
                  <a:rect l="l" t="t" r="r" b="b"/>
                  <a:pathLst>
                    <a:path w="2" h="2733">
                      <a:moveTo>
                        <a:pt x="0" y="0"/>
                      </a:moveTo>
                      <a:lnTo>
                        <a:pt x="1" y="2733"/>
                      </a:lnTo>
                      <a:lnTo>
                        <a:pt x="2" y="2733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6" name=""/>
                <p:cNvSpPr/>
                <p:nvPr/>
              </p:nvSpPr>
              <p:spPr>
                <a:xfrm flipV="1">
                  <a:off x="8813520" y="20124720"/>
                  <a:ext cx="1440" cy="99720"/>
                </a:xfrm>
                <a:custGeom>
                  <a:avLst/>
                  <a:gdLst/>
                  <a:ahLst/>
                  <a:rect l="l" t="t" r="r" b="b"/>
                  <a:pathLst>
                    <a:path w="2" h="2733">
                      <a:moveTo>
                        <a:pt x="0" y="0"/>
                      </a:moveTo>
                      <a:lnTo>
                        <a:pt x="1" y="2733"/>
                      </a:lnTo>
                      <a:lnTo>
                        <a:pt x="2" y="2733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7" name=""/>
                <p:cNvSpPr/>
                <p:nvPr/>
              </p:nvSpPr>
              <p:spPr>
                <a:xfrm flipV="1">
                  <a:off x="8821440" y="20127960"/>
                  <a:ext cx="360" cy="69840"/>
                </a:xfrm>
                <a:custGeom>
                  <a:avLst/>
                  <a:gdLst/>
                  <a:ahLst/>
                  <a:rect l="l" t="t" r="r" b="b"/>
                  <a:pathLst>
                    <a:path w="19" h="1925">
                      <a:moveTo>
                        <a:pt x="0" y="0"/>
                      </a:moveTo>
                      <a:lnTo>
                        <a:pt x="18" y="1925"/>
                      </a:lnTo>
                      <a:lnTo>
                        <a:pt x="19" y="1925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8" name=""/>
                <p:cNvSpPr/>
                <p:nvPr/>
              </p:nvSpPr>
              <p:spPr>
                <a:xfrm flipV="1">
                  <a:off x="8821440" y="20105640"/>
                  <a:ext cx="18720" cy="21960"/>
                </a:xfrm>
                <a:custGeom>
                  <a:avLst/>
                  <a:gdLst/>
                  <a:ahLst/>
                  <a:rect l="l" t="t" r="r" b="b"/>
                  <a:pathLst>
                    <a:path w="568" h="605">
                      <a:moveTo>
                        <a:pt x="0" y="0"/>
                      </a:moveTo>
                      <a:lnTo>
                        <a:pt x="184" y="396"/>
                      </a:lnTo>
                      <a:lnTo>
                        <a:pt x="567" y="605"/>
                      </a:lnTo>
                      <a:lnTo>
                        <a:pt x="568" y="605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9" name=""/>
                <p:cNvSpPr/>
                <p:nvPr/>
              </p:nvSpPr>
              <p:spPr>
                <a:xfrm flipV="1">
                  <a:off x="8840520" y="20102400"/>
                  <a:ext cx="82080" cy="3240"/>
                </a:xfrm>
                <a:custGeom>
                  <a:avLst/>
                  <a:gdLst/>
                  <a:ahLst/>
                  <a:rect l="l" t="t" r="r" b="b"/>
                  <a:pathLst>
                    <a:path w="2269" h="103">
                      <a:moveTo>
                        <a:pt x="0" y="2"/>
                      </a:moveTo>
                      <a:lnTo>
                        <a:pt x="1135" y="103"/>
                      </a:lnTo>
                      <a:lnTo>
                        <a:pt x="2268" y="0"/>
                      </a:lnTo>
                      <a:lnTo>
                        <a:pt x="2269" y="0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0" name=""/>
                <p:cNvSpPr/>
                <p:nvPr/>
              </p:nvSpPr>
              <p:spPr>
                <a:xfrm flipV="1">
                  <a:off x="8922960" y="20105640"/>
                  <a:ext cx="18720" cy="21960"/>
                </a:xfrm>
                <a:custGeom>
                  <a:avLst/>
                  <a:gdLst/>
                  <a:ahLst/>
                  <a:rect l="l" t="t" r="r" b="b"/>
                  <a:pathLst>
                    <a:path w="568" h="605">
                      <a:moveTo>
                        <a:pt x="0" y="605"/>
                      </a:moveTo>
                      <a:lnTo>
                        <a:pt x="382" y="396"/>
                      </a:lnTo>
                      <a:lnTo>
                        <a:pt x="567" y="0"/>
                      </a:lnTo>
                      <a:lnTo>
                        <a:pt x="568" y="0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1" name=""/>
                <p:cNvSpPr/>
                <p:nvPr/>
              </p:nvSpPr>
              <p:spPr>
                <a:xfrm flipV="1">
                  <a:off x="8942040" y="20127960"/>
                  <a:ext cx="360" cy="69840"/>
                </a:xfrm>
                <a:custGeom>
                  <a:avLst/>
                  <a:gdLst/>
                  <a:ahLst/>
                  <a:rect l="l" t="t" r="r" b="b"/>
                  <a:pathLst>
                    <a:path w="17" h="1925">
                      <a:moveTo>
                        <a:pt x="0" y="1925"/>
                      </a:moveTo>
                      <a:lnTo>
                        <a:pt x="16" y="0"/>
                      </a:lnTo>
                      <a:lnTo>
                        <a:pt x="17" y="0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2" name=""/>
                <p:cNvSpPr/>
                <p:nvPr/>
              </p:nvSpPr>
              <p:spPr>
                <a:xfrm flipV="1">
                  <a:off x="8916840" y="20197800"/>
                  <a:ext cx="24840" cy="28800"/>
                </a:xfrm>
                <a:custGeom>
                  <a:avLst/>
                  <a:gdLst/>
                  <a:ahLst/>
                  <a:rect l="l" t="t" r="r" b="b"/>
                  <a:pathLst>
                    <a:path w="745" h="787">
                      <a:moveTo>
                        <a:pt x="745" y="787"/>
                      </a:moveTo>
                      <a:lnTo>
                        <a:pt x="623" y="420"/>
                      </a:lnTo>
                      <a:lnTo>
                        <a:pt x="358" y="140"/>
                      </a:lnTo>
                      <a:lnTo>
                        <a:pt x="0" y="0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3" name=""/>
                <p:cNvSpPr/>
                <p:nvPr/>
              </p:nvSpPr>
              <p:spPr>
                <a:xfrm flipV="1">
                  <a:off x="8847000" y="20226600"/>
                  <a:ext cx="69480" cy="1440"/>
                </a:xfrm>
                <a:custGeom>
                  <a:avLst/>
                  <a:gdLst/>
                  <a:ahLst/>
                  <a:rect l="l" t="t" r="r" b="b"/>
                  <a:pathLst>
                    <a:path w="1947" h="77">
                      <a:moveTo>
                        <a:pt x="1947" y="76"/>
                      </a:moveTo>
                      <a:lnTo>
                        <a:pt x="974" y="0"/>
                      </a:lnTo>
                      <a:lnTo>
                        <a:pt x="0" y="77"/>
                      </a:lnTo>
                      <a:lnTo>
                        <a:pt x="1" y="77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4" name=""/>
                <p:cNvSpPr/>
                <p:nvPr/>
              </p:nvSpPr>
              <p:spPr>
                <a:xfrm flipV="1">
                  <a:off x="8821440" y="20197800"/>
                  <a:ext cx="25200" cy="28800"/>
                </a:xfrm>
                <a:custGeom>
                  <a:avLst/>
                  <a:gdLst/>
                  <a:ahLst/>
                  <a:rect l="l" t="t" r="r" b="b"/>
                  <a:pathLst>
                    <a:path w="744" h="788">
                      <a:moveTo>
                        <a:pt x="744" y="0"/>
                      </a:moveTo>
                      <a:lnTo>
                        <a:pt x="386" y="141"/>
                      </a:lnTo>
                      <a:lnTo>
                        <a:pt x="121" y="421"/>
                      </a:lnTo>
                      <a:lnTo>
                        <a:pt x="0" y="788"/>
                      </a:lnTo>
                      <a:lnTo>
                        <a:pt x="1" y="788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5" name=""/>
                <p:cNvSpPr/>
                <p:nvPr/>
              </p:nvSpPr>
              <p:spPr>
                <a:xfrm flipV="1">
                  <a:off x="8949960" y="20124360"/>
                  <a:ext cx="12600" cy="360"/>
                </a:xfrm>
                <a:custGeom>
                  <a:avLst/>
                  <a:gdLst/>
                  <a:ahLst/>
                  <a:rect l="l" t="t" r="r" b="b"/>
                  <a:pathLst>
                    <a:path w="350" h="0">
                      <a:moveTo>
                        <a:pt x="0" y="0"/>
                      </a:moveTo>
                      <a:lnTo>
                        <a:pt x="349" y="0"/>
                      </a:lnTo>
                      <a:lnTo>
                        <a:pt x="350" y="0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6" name=""/>
                <p:cNvSpPr/>
                <p:nvPr/>
              </p:nvSpPr>
              <p:spPr>
                <a:xfrm flipV="1">
                  <a:off x="8800920" y="20124360"/>
                  <a:ext cx="12240" cy="360"/>
                </a:xfrm>
                <a:custGeom>
                  <a:avLst/>
                  <a:gdLst/>
                  <a:ahLst/>
                  <a:rect l="l" t="t" r="r" b="b"/>
                  <a:pathLst>
                    <a:path w="349" h="0">
                      <a:moveTo>
                        <a:pt x="349" y="0"/>
                      </a:moveTo>
                      <a:lnTo>
                        <a:pt x="0" y="0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7" name=""/>
                <p:cNvSpPr/>
                <p:nvPr/>
              </p:nvSpPr>
              <p:spPr>
                <a:xfrm flipV="1">
                  <a:off x="8949960" y="20224080"/>
                  <a:ext cx="12600" cy="360"/>
                </a:xfrm>
                <a:custGeom>
                  <a:avLst/>
                  <a:gdLst/>
                  <a:ahLst/>
                  <a:rect l="l" t="t" r="r" b="b"/>
                  <a:pathLst>
                    <a:path w="350" h="0">
                      <a:moveTo>
                        <a:pt x="0" y="0"/>
                      </a:moveTo>
                      <a:lnTo>
                        <a:pt x="349" y="0"/>
                      </a:lnTo>
                      <a:lnTo>
                        <a:pt x="350" y="0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8" name=""/>
                <p:cNvSpPr/>
                <p:nvPr/>
              </p:nvSpPr>
              <p:spPr>
                <a:xfrm flipV="1">
                  <a:off x="8869320" y="20232000"/>
                  <a:ext cx="24840" cy="360"/>
                </a:xfrm>
                <a:custGeom>
                  <a:avLst/>
                  <a:gdLst/>
                  <a:ahLst/>
                  <a:rect l="l" t="t" r="r" b="b"/>
                  <a:pathLst>
                    <a:path w="698" h="0">
                      <a:moveTo>
                        <a:pt x="698" y="0"/>
                      </a:moveTo>
                      <a:lnTo>
                        <a:pt x="0" y="0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9" name=""/>
                <p:cNvSpPr/>
                <p:nvPr/>
              </p:nvSpPr>
              <p:spPr>
                <a:xfrm flipV="1">
                  <a:off x="8894520" y="20227680"/>
                  <a:ext cx="1440" cy="4680"/>
                </a:xfrm>
                <a:custGeom>
                  <a:avLst/>
                  <a:gdLst/>
                  <a:ahLst/>
                  <a:rect l="l" t="t" r="r" b="b"/>
                  <a:pathLst>
                    <a:path w="1" h="133">
                      <a:moveTo>
                        <a:pt x="0" y="133"/>
                      </a:moveTo>
                      <a:lnTo>
                        <a:pt x="0" y="0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0" name=""/>
                <p:cNvSpPr/>
                <p:nvPr/>
              </p:nvSpPr>
              <p:spPr>
                <a:xfrm flipV="1">
                  <a:off x="8869320" y="20227680"/>
                  <a:ext cx="360" cy="4680"/>
                </a:xfrm>
                <a:custGeom>
                  <a:avLst/>
                  <a:gdLst/>
                  <a:ahLst/>
                  <a:rect l="l" t="t" r="r" b="b"/>
                  <a:pathLst>
                    <a:path w="1" h="134">
                      <a:moveTo>
                        <a:pt x="0" y="134"/>
                      </a:moveTo>
                      <a:lnTo>
                        <a:pt x="0" y="0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1" name=""/>
                <p:cNvSpPr/>
                <p:nvPr/>
              </p:nvSpPr>
              <p:spPr>
                <a:xfrm flipV="1">
                  <a:off x="8800920" y="20224080"/>
                  <a:ext cx="12240" cy="360"/>
                </a:xfrm>
                <a:custGeom>
                  <a:avLst/>
                  <a:gdLst/>
                  <a:ahLst/>
                  <a:rect l="l" t="t" r="r" b="b"/>
                  <a:pathLst>
                    <a:path w="349" h="0">
                      <a:moveTo>
                        <a:pt x="349" y="0"/>
                      </a:moveTo>
                      <a:lnTo>
                        <a:pt x="0" y="0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2" name=""/>
                <p:cNvSpPr/>
                <p:nvPr/>
              </p:nvSpPr>
              <p:spPr>
                <a:xfrm flipV="1">
                  <a:off x="8821440" y="20243880"/>
                  <a:ext cx="120240" cy="20880"/>
                </a:xfrm>
                <a:custGeom>
                  <a:avLst/>
                  <a:gdLst/>
                  <a:ahLst/>
                  <a:rect l="l" t="t" r="r" b="b"/>
                  <a:pathLst>
                    <a:path w="3444" h="562">
                      <a:moveTo>
                        <a:pt x="3405" y="560"/>
                      </a:moveTo>
                      <a:lnTo>
                        <a:pt x="3444" y="429"/>
                      </a:lnTo>
                      <a:lnTo>
                        <a:pt x="3366" y="316"/>
                      </a:lnTo>
                      <a:lnTo>
                        <a:pt x="2559" y="78"/>
                      </a:lnTo>
                      <a:lnTo>
                        <a:pt x="1722" y="0"/>
                      </a:lnTo>
                      <a:lnTo>
                        <a:pt x="884" y="79"/>
                      </a:lnTo>
                      <a:lnTo>
                        <a:pt x="78" y="318"/>
                      </a:lnTo>
                      <a:lnTo>
                        <a:pt x="0" y="430"/>
                      </a:lnTo>
                      <a:lnTo>
                        <a:pt x="39" y="562"/>
                      </a:lnTo>
                      <a:lnTo>
                        <a:pt x="40" y="562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3" name=""/>
                <p:cNvSpPr/>
                <p:nvPr/>
              </p:nvSpPr>
              <p:spPr>
                <a:xfrm flipV="1">
                  <a:off x="8824680" y="20226240"/>
                  <a:ext cx="114120" cy="28440"/>
                </a:xfrm>
                <a:custGeom>
                  <a:avLst/>
                  <a:gdLst/>
                  <a:ahLst/>
                  <a:rect l="l" t="t" r="r" b="b"/>
                  <a:pathLst>
                    <a:path w="3152" h="740">
                      <a:moveTo>
                        <a:pt x="3152" y="738"/>
                      </a:moveTo>
                      <a:lnTo>
                        <a:pt x="3126" y="512"/>
                      </a:lnTo>
                      <a:lnTo>
                        <a:pt x="2966" y="350"/>
                      </a:lnTo>
                      <a:lnTo>
                        <a:pt x="2290" y="101"/>
                      </a:lnTo>
                      <a:lnTo>
                        <a:pt x="1576" y="0"/>
                      </a:lnTo>
                      <a:lnTo>
                        <a:pt x="862" y="102"/>
                      </a:lnTo>
                      <a:lnTo>
                        <a:pt x="186" y="352"/>
                      </a:lnTo>
                      <a:lnTo>
                        <a:pt x="26" y="514"/>
                      </a:lnTo>
                      <a:lnTo>
                        <a:pt x="0" y="740"/>
                      </a:lnTo>
                      <a:lnTo>
                        <a:pt x="1" y="740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4" name=""/>
                <p:cNvSpPr/>
                <p:nvPr/>
              </p:nvSpPr>
              <p:spPr>
                <a:xfrm flipV="1">
                  <a:off x="8834400" y="20223360"/>
                  <a:ext cx="34560" cy="9360"/>
                </a:xfrm>
                <a:custGeom>
                  <a:avLst/>
                  <a:gdLst/>
                  <a:ahLst/>
                  <a:rect l="l" t="t" r="r" b="b"/>
                  <a:pathLst>
                    <a:path w="1023" h="298">
                      <a:moveTo>
                        <a:pt x="1023" y="0"/>
                      </a:moveTo>
                      <a:lnTo>
                        <a:pt x="496" y="98"/>
                      </a:lnTo>
                      <a:lnTo>
                        <a:pt x="0" y="298"/>
                      </a:lnTo>
                      <a:lnTo>
                        <a:pt x="2" y="298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5" name=""/>
                <p:cNvSpPr/>
                <p:nvPr/>
              </p:nvSpPr>
              <p:spPr>
                <a:xfrm flipV="1">
                  <a:off x="8824680" y="20221560"/>
                  <a:ext cx="9360" cy="4680"/>
                </a:xfrm>
                <a:custGeom>
                  <a:avLst/>
                  <a:gdLst/>
                  <a:ahLst/>
                  <a:rect l="l" t="t" r="r" b="b"/>
                  <a:pathLst>
                    <a:path w="203" h="97">
                      <a:moveTo>
                        <a:pt x="0" y="0"/>
                      </a:moveTo>
                      <a:lnTo>
                        <a:pt x="78" y="97"/>
                      </a:lnTo>
                      <a:lnTo>
                        <a:pt x="201" y="93"/>
                      </a:lnTo>
                      <a:lnTo>
                        <a:pt x="203" y="93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6" name=""/>
                <p:cNvSpPr/>
                <p:nvPr/>
              </p:nvSpPr>
              <p:spPr>
                <a:xfrm flipV="1">
                  <a:off x="8821440" y="20226600"/>
                  <a:ext cx="2880" cy="15840"/>
                </a:xfrm>
                <a:custGeom>
                  <a:avLst/>
                  <a:gdLst/>
                  <a:ahLst/>
                  <a:rect l="l" t="t" r="r" b="b"/>
                  <a:pathLst>
                    <a:path w="109" h="496">
                      <a:moveTo>
                        <a:pt x="109" y="496"/>
                      </a:moveTo>
                      <a:lnTo>
                        <a:pt x="0" y="0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7" name=""/>
                <p:cNvSpPr/>
                <p:nvPr/>
              </p:nvSpPr>
              <p:spPr>
                <a:xfrm flipV="1">
                  <a:off x="8821440" y="20242440"/>
                  <a:ext cx="1440" cy="7920"/>
                </a:xfrm>
                <a:custGeom>
                  <a:avLst/>
                  <a:gdLst/>
                  <a:ahLst/>
                  <a:rect l="l" t="t" r="r" b="b"/>
                  <a:pathLst>
                    <a:path w="84" h="160">
                      <a:moveTo>
                        <a:pt x="84" y="0"/>
                      </a:moveTo>
                      <a:lnTo>
                        <a:pt x="13" y="64"/>
                      </a:lnTo>
                      <a:lnTo>
                        <a:pt x="0" y="160"/>
                      </a:lnTo>
                      <a:lnTo>
                        <a:pt x="1" y="160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8" name=""/>
                <p:cNvSpPr/>
                <p:nvPr/>
              </p:nvSpPr>
              <p:spPr>
                <a:xfrm flipV="1">
                  <a:off x="8940600" y="20242440"/>
                  <a:ext cx="1080" cy="7920"/>
                </a:xfrm>
                <a:custGeom>
                  <a:avLst/>
                  <a:gdLst/>
                  <a:ahLst/>
                  <a:rect l="l" t="t" r="r" b="b"/>
                  <a:pathLst>
                    <a:path w="84" h="159">
                      <a:moveTo>
                        <a:pt x="84" y="159"/>
                      </a:moveTo>
                      <a:lnTo>
                        <a:pt x="71" y="64"/>
                      </a:lnTo>
                      <a:lnTo>
                        <a:pt x="0" y="0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9" name=""/>
                <p:cNvSpPr/>
                <p:nvPr/>
              </p:nvSpPr>
              <p:spPr>
                <a:xfrm flipV="1">
                  <a:off x="8939160" y="20226600"/>
                  <a:ext cx="2520" cy="15840"/>
                </a:xfrm>
                <a:custGeom>
                  <a:avLst/>
                  <a:gdLst/>
                  <a:ahLst/>
                  <a:rect l="l" t="t" r="r" b="b"/>
                  <a:pathLst>
                    <a:path w="109" h="496">
                      <a:moveTo>
                        <a:pt x="109" y="0"/>
                      </a:moveTo>
                      <a:lnTo>
                        <a:pt x="0" y="496"/>
                      </a:lnTo>
                      <a:lnTo>
                        <a:pt x="1" y="496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0" name=""/>
                <p:cNvSpPr/>
                <p:nvPr/>
              </p:nvSpPr>
              <p:spPr>
                <a:xfrm flipV="1">
                  <a:off x="8929440" y="20221560"/>
                  <a:ext cx="9360" cy="4680"/>
                </a:xfrm>
                <a:custGeom>
                  <a:avLst/>
                  <a:gdLst/>
                  <a:ahLst/>
                  <a:rect l="l" t="t" r="r" b="b"/>
                  <a:pathLst>
                    <a:path w="202" h="98">
                      <a:moveTo>
                        <a:pt x="0" y="94"/>
                      </a:moveTo>
                      <a:lnTo>
                        <a:pt x="124" y="98"/>
                      </a:lnTo>
                      <a:lnTo>
                        <a:pt x="201" y="0"/>
                      </a:lnTo>
                      <a:lnTo>
                        <a:pt x="202" y="0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1" name=""/>
                <p:cNvSpPr/>
                <p:nvPr/>
              </p:nvSpPr>
              <p:spPr>
                <a:xfrm flipV="1">
                  <a:off x="8894520" y="20223360"/>
                  <a:ext cx="34560" cy="9360"/>
                </a:xfrm>
                <a:custGeom>
                  <a:avLst/>
                  <a:gdLst/>
                  <a:ahLst/>
                  <a:rect l="l" t="t" r="r" b="b"/>
                  <a:pathLst>
                    <a:path w="1021" h="297">
                      <a:moveTo>
                        <a:pt x="1021" y="297"/>
                      </a:moveTo>
                      <a:lnTo>
                        <a:pt x="525" y="97"/>
                      </a:lnTo>
                      <a:lnTo>
                        <a:pt x="0" y="0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0">
                  <a:solidFill>
                    <a:srgbClr val="6633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2" name=""/>
                <p:cNvSpPr/>
                <p:nvPr/>
              </p:nvSpPr>
              <p:spPr>
                <a:xfrm flipV="1">
                  <a:off x="8767440" y="20044080"/>
                  <a:ext cx="218880" cy="6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3" name=""/>
                <p:cNvSpPr/>
                <p:nvPr/>
              </p:nvSpPr>
              <p:spPr>
                <a:xfrm flipV="1">
                  <a:off x="8805600" y="20054520"/>
                  <a:ext cx="131400" cy="4788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4" name=""/>
                <p:cNvSpPr/>
                <p:nvPr/>
              </p:nvSpPr>
              <p:spPr>
                <a:xfrm flipV="1">
                  <a:off x="8812080" y="20061000"/>
                  <a:ext cx="15480" cy="3348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5" name=""/>
                <p:cNvSpPr/>
                <p:nvPr/>
              </p:nvSpPr>
              <p:spPr>
                <a:xfrm flipV="1">
                  <a:off x="8834400" y="20061000"/>
                  <a:ext cx="96480" cy="3348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6" name=""/>
                <p:cNvSpPr/>
                <p:nvPr/>
              </p:nvSpPr>
              <p:spPr>
                <a:xfrm flipV="1">
                  <a:off x="8699400" y="19830960"/>
                  <a:ext cx="360000" cy="2156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7" name=""/>
                <p:cNvSpPr/>
                <p:nvPr/>
              </p:nvSpPr>
              <p:spPr>
                <a:xfrm flipV="1" rot="19848600">
                  <a:off x="8748000" y="19979640"/>
                  <a:ext cx="21960" cy="31680"/>
                </a:xfrm>
                <a:prstGeom prst="ellipse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8" name=""/>
                <p:cNvSpPr/>
                <p:nvPr/>
              </p:nvSpPr>
              <p:spPr>
                <a:xfrm flipV="1">
                  <a:off x="8719920" y="19959480"/>
                  <a:ext cx="68040" cy="6660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9" name=""/>
                <p:cNvSpPr/>
                <p:nvPr/>
              </p:nvSpPr>
              <p:spPr>
                <a:xfrm flipV="1">
                  <a:off x="8823240" y="19877040"/>
                  <a:ext cx="132840" cy="1458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60" name=""/>
                <p:cNvGrpSpPr/>
                <p:nvPr/>
              </p:nvGrpSpPr>
              <p:grpSpPr>
                <a:xfrm>
                  <a:off x="8831160" y="19885680"/>
                  <a:ext cx="117000" cy="117000"/>
                  <a:chOff x="8831160" y="19885680"/>
                  <a:chExt cx="117000" cy="117000"/>
                </a:xfrm>
              </p:grpSpPr>
              <p:sp>
                <p:nvSpPr>
                  <p:cNvPr id="3261" name=""/>
                  <p:cNvSpPr/>
                  <p:nvPr/>
                </p:nvSpPr>
                <p:spPr>
                  <a:xfrm flipV="1">
                    <a:off x="8862120" y="19902960"/>
                    <a:ext cx="252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35">
                        <a:moveTo>
                          <a:pt x="0" y="35"/>
                        </a:moveTo>
                        <a:lnTo>
                          <a:pt x="5" y="29"/>
                        </a:lnTo>
                        <a:lnTo>
                          <a:pt x="11" y="23"/>
                        </a:lnTo>
                        <a:lnTo>
                          <a:pt x="17" y="17"/>
                        </a:lnTo>
                        <a:lnTo>
                          <a:pt x="22" y="12"/>
                        </a:lnTo>
                        <a:lnTo>
                          <a:pt x="26" y="8"/>
                        </a:lnTo>
                        <a:lnTo>
                          <a:pt x="30" y="5"/>
                        </a:lnTo>
                        <a:lnTo>
                          <a:pt x="32" y="2"/>
                        </a:lnTo>
                        <a:lnTo>
                          <a:pt x="34" y="1"/>
                        </a:lnTo>
                        <a:lnTo>
                          <a:pt x="34" y="0"/>
                        </a:lnTo>
                        <a:lnTo>
                          <a:pt x="35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2" name=""/>
                  <p:cNvSpPr/>
                  <p:nvPr/>
                </p:nvSpPr>
                <p:spPr>
                  <a:xfrm flipV="1">
                    <a:off x="8862120" y="19902960"/>
                    <a:ext cx="252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35">
                        <a:moveTo>
                          <a:pt x="0" y="35"/>
                        </a:moveTo>
                        <a:lnTo>
                          <a:pt x="5" y="29"/>
                        </a:lnTo>
                        <a:lnTo>
                          <a:pt x="11" y="23"/>
                        </a:lnTo>
                        <a:lnTo>
                          <a:pt x="17" y="17"/>
                        </a:lnTo>
                        <a:lnTo>
                          <a:pt x="22" y="12"/>
                        </a:lnTo>
                        <a:lnTo>
                          <a:pt x="26" y="8"/>
                        </a:lnTo>
                        <a:lnTo>
                          <a:pt x="30" y="5"/>
                        </a:lnTo>
                        <a:lnTo>
                          <a:pt x="32" y="2"/>
                        </a:lnTo>
                        <a:lnTo>
                          <a:pt x="34" y="1"/>
                        </a:lnTo>
                        <a:lnTo>
                          <a:pt x="34" y="0"/>
                        </a:lnTo>
                        <a:lnTo>
                          <a:pt x="35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3" name=""/>
                  <p:cNvSpPr/>
                  <p:nvPr/>
                </p:nvSpPr>
                <p:spPr>
                  <a:xfrm flipV="1">
                    <a:off x="8831160" y="19953000"/>
                    <a:ext cx="117000" cy="4968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80" bIns="2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4" name=""/>
                  <p:cNvSpPr/>
                  <p:nvPr/>
                </p:nvSpPr>
                <p:spPr>
                  <a:xfrm flipV="1">
                    <a:off x="8839800" y="19885680"/>
                    <a:ext cx="100800" cy="65520"/>
                  </a:xfrm>
                  <a:custGeom>
                    <a:avLst/>
                    <a:gdLst>
                      <a:gd name="textAreaLeft" fmla="*/ 21960 w 100800"/>
                      <a:gd name="textAreaRight" fmla="*/ 78840 w 100800"/>
                      <a:gd name="textAreaTop" fmla="*/ 14400 h 65520"/>
                      <a:gd name="textAreaBottom" fmla="*/ 51120 h 655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080" bIns="-10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265" name=""/>
              <p:cNvGrpSpPr/>
              <p:nvPr/>
            </p:nvGrpSpPr>
            <p:grpSpPr>
              <a:xfrm>
                <a:off x="7292880" y="17576640"/>
                <a:ext cx="432000" cy="456480"/>
                <a:chOff x="7292880" y="17576640"/>
                <a:chExt cx="432000" cy="456480"/>
              </a:xfrm>
            </p:grpSpPr>
            <p:sp>
              <p:nvSpPr>
                <p:cNvPr id="3266" name=""/>
                <p:cNvSpPr/>
                <p:nvPr/>
              </p:nvSpPr>
              <p:spPr>
                <a:xfrm flipV="1" rot="10800000">
                  <a:off x="7292880" y="17745120"/>
                  <a:ext cx="432000" cy="2876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67" name=""/>
                <p:cNvGrpSpPr/>
                <p:nvPr/>
              </p:nvGrpSpPr>
              <p:grpSpPr>
                <a:xfrm>
                  <a:off x="7473600" y="17576640"/>
                  <a:ext cx="162360" cy="161280"/>
                  <a:chOff x="7473600" y="17576640"/>
                  <a:chExt cx="162360" cy="161280"/>
                </a:xfrm>
              </p:grpSpPr>
              <p:sp>
                <p:nvSpPr>
                  <p:cNvPr id="3268" name=""/>
                  <p:cNvSpPr/>
                  <p:nvPr/>
                </p:nvSpPr>
                <p:spPr>
                  <a:xfrm flipV="1" rot="10800000">
                    <a:off x="7486920" y="17616240"/>
                    <a:ext cx="36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9" name=""/>
                  <p:cNvSpPr/>
                  <p:nvPr/>
                </p:nvSpPr>
                <p:spPr>
                  <a:xfrm flipV="1" rot="10800000">
                    <a:off x="7473600" y="17616240"/>
                    <a:ext cx="36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0" name=""/>
                  <p:cNvSpPr/>
                  <p:nvPr/>
                </p:nvSpPr>
                <p:spPr>
                  <a:xfrm flipV="1" rot="10800000">
                    <a:off x="7634880" y="17616240"/>
                    <a:ext cx="108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1" name=""/>
                  <p:cNvSpPr/>
                  <p:nvPr/>
                </p:nvSpPr>
                <p:spPr>
                  <a:xfrm flipV="1" rot="10800000">
                    <a:off x="7621920" y="17616240"/>
                    <a:ext cx="144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2" name=""/>
                  <p:cNvSpPr/>
                  <p:nvPr/>
                </p:nvSpPr>
                <p:spPr>
                  <a:xfrm flipV="1" rot="10800000">
                    <a:off x="7615800" y="17643240"/>
                    <a:ext cx="36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925">
                        <a:moveTo>
                          <a:pt x="0" y="0"/>
                        </a:moveTo>
                        <a:lnTo>
                          <a:pt x="18" y="1925"/>
                        </a:lnTo>
                        <a:lnTo>
                          <a:pt x="19" y="1925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3" name=""/>
                  <p:cNvSpPr/>
                  <p:nvPr/>
                </p:nvSpPr>
                <p:spPr>
                  <a:xfrm flipV="1" rot="10800000">
                    <a:off x="7596000" y="17712000"/>
                    <a:ext cx="2016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8" h="605">
                        <a:moveTo>
                          <a:pt x="0" y="0"/>
                        </a:moveTo>
                        <a:lnTo>
                          <a:pt x="184" y="396"/>
                        </a:lnTo>
                        <a:lnTo>
                          <a:pt x="567" y="605"/>
                        </a:lnTo>
                        <a:lnTo>
                          <a:pt x="568" y="605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4" name=""/>
                  <p:cNvSpPr/>
                  <p:nvPr/>
                </p:nvSpPr>
                <p:spPr>
                  <a:xfrm flipV="1" rot="10800000">
                    <a:off x="7514640" y="17735040"/>
                    <a:ext cx="8136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269" h="103">
                        <a:moveTo>
                          <a:pt x="0" y="2"/>
                        </a:moveTo>
                        <a:lnTo>
                          <a:pt x="1135" y="103"/>
                        </a:lnTo>
                        <a:lnTo>
                          <a:pt x="2268" y="0"/>
                        </a:lnTo>
                        <a:lnTo>
                          <a:pt x="2269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5" name=""/>
                  <p:cNvSpPr/>
                  <p:nvPr/>
                </p:nvSpPr>
                <p:spPr>
                  <a:xfrm flipV="1" rot="10800000">
                    <a:off x="7494120" y="17712000"/>
                    <a:ext cx="2016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8" h="605">
                        <a:moveTo>
                          <a:pt x="0" y="605"/>
                        </a:moveTo>
                        <a:lnTo>
                          <a:pt x="382" y="396"/>
                        </a:lnTo>
                        <a:lnTo>
                          <a:pt x="567" y="0"/>
                        </a:lnTo>
                        <a:lnTo>
                          <a:pt x="568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6" name=""/>
                  <p:cNvSpPr/>
                  <p:nvPr/>
                </p:nvSpPr>
                <p:spPr>
                  <a:xfrm flipV="1" rot="10800000">
                    <a:off x="7493760" y="17643240"/>
                    <a:ext cx="36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925">
                        <a:moveTo>
                          <a:pt x="0" y="1925"/>
                        </a:moveTo>
                        <a:lnTo>
                          <a:pt x="16" y="0"/>
                        </a:lnTo>
                        <a:lnTo>
                          <a:pt x="17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7" name=""/>
                  <p:cNvSpPr/>
                  <p:nvPr/>
                </p:nvSpPr>
                <p:spPr>
                  <a:xfrm flipV="1" rot="10800000">
                    <a:off x="7494480" y="17614800"/>
                    <a:ext cx="2556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745" h="787">
                        <a:moveTo>
                          <a:pt x="745" y="787"/>
                        </a:moveTo>
                        <a:lnTo>
                          <a:pt x="623" y="420"/>
                        </a:lnTo>
                        <a:lnTo>
                          <a:pt x="358" y="14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8" name=""/>
                  <p:cNvSpPr/>
                  <p:nvPr/>
                </p:nvSpPr>
                <p:spPr>
                  <a:xfrm flipV="1" rot="10800000">
                    <a:off x="7520040" y="17612280"/>
                    <a:ext cx="7020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1947" h="77">
                        <a:moveTo>
                          <a:pt x="1947" y="76"/>
                        </a:moveTo>
                        <a:lnTo>
                          <a:pt x="974" y="0"/>
                        </a:lnTo>
                        <a:lnTo>
                          <a:pt x="0" y="77"/>
                        </a:lnTo>
                        <a:lnTo>
                          <a:pt x="1" y="77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9" name=""/>
                  <p:cNvSpPr/>
                  <p:nvPr/>
                </p:nvSpPr>
                <p:spPr>
                  <a:xfrm flipV="1" rot="10800000">
                    <a:off x="7590240" y="17614800"/>
                    <a:ext cx="2592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744" h="788">
                        <a:moveTo>
                          <a:pt x="744" y="0"/>
                        </a:moveTo>
                        <a:lnTo>
                          <a:pt x="386" y="141"/>
                        </a:lnTo>
                        <a:lnTo>
                          <a:pt x="121" y="421"/>
                        </a:lnTo>
                        <a:lnTo>
                          <a:pt x="0" y="788"/>
                        </a:lnTo>
                        <a:lnTo>
                          <a:pt x="1" y="788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0" name=""/>
                  <p:cNvSpPr/>
                  <p:nvPr/>
                </p:nvSpPr>
                <p:spPr>
                  <a:xfrm flipV="1" rot="10800000">
                    <a:off x="7474320" y="17714880"/>
                    <a:ext cx="129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50" h="0">
                        <a:moveTo>
                          <a:pt x="0" y="0"/>
                        </a:moveTo>
                        <a:lnTo>
                          <a:pt x="349" y="0"/>
                        </a:lnTo>
                        <a:lnTo>
                          <a:pt x="350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1" name=""/>
                  <p:cNvSpPr/>
                  <p:nvPr/>
                </p:nvSpPr>
                <p:spPr>
                  <a:xfrm flipV="1" rot="10800000">
                    <a:off x="7623360" y="17714880"/>
                    <a:ext cx="1260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49" h="0">
                        <a:moveTo>
                          <a:pt x="349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2" name=""/>
                  <p:cNvSpPr/>
                  <p:nvPr/>
                </p:nvSpPr>
                <p:spPr>
                  <a:xfrm flipV="1" rot="10800000">
                    <a:off x="7474320" y="17615880"/>
                    <a:ext cx="129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50" h="0">
                        <a:moveTo>
                          <a:pt x="0" y="0"/>
                        </a:moveTo>
                        <a:lnTo>
                          <a:pt x="349" y="0"/>
                        </a:lnTo>
                        <a:lnTo>
                          <a:pt x="350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3" name=""/>
                  <p:cNvSpPr/>
                  <p:nvPr/>
                </p:nvSpPr>
                <p:spPr>
                  <a:xfrm flipV="1" rot="10800000">
                    <a:off x="7543440" y="17607600"/>
                    <a:ext cx="2412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8" h="0">
                        <a:moveTo>
                          <a:pt x="698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4" name=""/>
                  <p:cNvSpPr/>
                  <p:nvPr/>
                </p:nvSpPr>
                <p:spPr>
                  <a:xfrm flipV="1" rot="10800000">
                    <a:off x="7541640" y="17607600"/>
                    <a:ext cx="144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33">
                        <a:moveTo>
                          <a:pt x="0" y="133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5" name=""/>
                  <p:cNvSpPr/>
                  <p:nvPr/>
                </p:nvSpPr>
                <p:spPr>
                  <a:xfrm flipV="1" rot="10800000">
                    <a:off x="7567200" y="17607600"/>
                    <a:ext cx="36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34">
                        <a:moveTo>
                          <a:pt x="0" y="134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6" name=""/>
                  <p:cNvSpPr/>
                  <p:nvPr/>
                </p:nvSpPr>
                <p:spPr>
                  <a:xfrm flipV="1" rot="10800000">
                    <a:off x="7623360" y="17615880"/>
                    <a:ext cx="1260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49" h="0">
                        <a:moveTo>
                          <a:pt x="349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7" name=""/>
                  <p:cNvSpPr/>
                  <p:nvPr/>
                </p:nvSpPr>
                <p:spPr>
                  <a:xfrm flipV="1" rot="10800000">
                    <a:off x="7494480" y="17576280"/>
                    <a:ext cx="12168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3444" h="562">
                        <a:moveTo>
                          <a:pt x="3405" y="560"/>
                        </a:moveTo>
                        <a:lnTo>
                          <a:pt x="3444" y="429"/>
                        </a:lnTo>
                        <a:lnTo>
                          <a:pt x="3366" y="316"/>
                        </a:lnTo>
                        <a:lnTo>
                          <a:pt x="2559" y="78"/>
                        </a:lnTo>
                        <a:lnTo>
                          <a:pt x="1722" y="0"/>
                        </a:lnTo>
                        <a:lnTo>
                          <a:pt x="884" y="79"/>
                        </a:lnTo>
                        <a:lnTo>
                          <a:pt x="78" y="318"/>
                        </a:lnTo>
                        <a:lnTo>
                          <a:pt x="0" y="430"/>
                        </a:lnTo>
                        <a:lnTo>
                          <a:pt x="39" y="562"/>
                        </a:lnTo>
                        <a:lnTo>
                          <a:pt x="40" y="562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8" name=""/>
                  <p:cNvSpPr/>
                  <p:nvPr/>
                </p:nvSpPr>
                <p:spPr>
                  <a:xfrm flipV="1" rot="10800000">
                    <a:off x="7498800" y="17586000"/>
                    <a:ext cx="11304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52" h="740">
                        <a:moveTo>
                          <a:pt x="3152" y="738"/>
                        </a:moveTo>
                        <a:lnTo>
                          <a:pt x="3126" y="512"/>
                        </a:lnTo>
                        <a:lnTo>
                          <a:pt x="2966" y="350"/>
                        </a:lnTo>
                        <a:lnTo>
                          <a:pt x="2290" y="101"/>
                        </a:lnTo>
                        <a:lnTo>
                          <a:pt x="1576" y="0"/>
                        </a:lnTo>
                        <a:lnTo>
                          <a:pt x="862" y="102"/>
                        </a:lnTo>
                        <a:lnTo>
                          <a:pt x="186" y="352"/>
                        </a:lnTo>
                        <a:lnTo>
                          <a:pt x="26" y="514"/>
                        </a:lnTo>
                        <a:lnTo>
                          <a:pt x="0" y="740"/>
                        </a:lnTo>
                        <a:lnTo>
                          <a:pt x="1" y="74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9" name=""/>
                  <p:cNvSpPr/>
                  <p:nvPr/>
                </p:nvSpPr>
                <p:spPr>
                  <a:xfrm flipV="1" rot="10800000">
                    <a:off x="7567560" y="17607600"/>
                    <a:ext cx="3564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023" h="298">
                        <a:moveTo>
                          <a:pt x="1023" y="0"/>
                        </a:moveTo>
                        <a:lnTo>
                          <a:pt x="496" y="98"/>
                        </a:lnTo>
                        <a:lnTo>
                          <a:pt x="0" y="298"/>
                        </a:lnTo>
                        <a:lnTo>
                          <a:pt x="2" y="298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0" name=""/>
                  <p:cNvSpPr/>
                  <p:nvPr/>
                </p:nvSpPr>
                <p:spPr>
                  <a:xfrm flipV="1" rot="10800000">
                    <a:off x="7603560" y="17614800"/>
                    <a:ext cx="828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203" h="97">
                        <a:moveTo>
                          <a:pt x="0" y="0"/>
                        </a:moveTo>
                        <a:lnTo>
                          <a:pt x="78" y="97"/>
                        </a:lnTo>
                        <a:lnTo>
                          <a:pt x="201" y="93"/>
                        </a:lnTo>
                        <a:lnTo>
                          <a:pt x="203" y="9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1" name=""/>
                  <p:cNvSpPr/>
                  <p:nvPr/>
                </p:nvSpPr>
                <p:spPr>
                  <a:xfrm flipV="1" rot="10800000">
                    <a:off x="7611840" y="17597520"/>
                    <a:ext cx="432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496">
                        <a:moveTo>
                          <a:pt x="109" y="496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2" name=""/>
                  <p:cNvSpPr/>
                  <p:nvPr/>
                </p:nvSpPr>
                <p:spPr>
                  <a:xfrm flipV="1" rot="10800000">
                    <a:off x="7613280" y="17590320"/>
                    <a:ext cx="288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160">
                        <a:moveTo>
                          <a:pt x="84" y="0"/>
                        </a:moveTo>
                        <a:lnTo>
                          <a:pt x="13" y="64"/>
                        </a:lnTo>
                        <a:lnTo>
                          <a:pt x="0" y="160"/>
                        </a:lnTo>
                        <a:lnTo>
                          <a:pt x="1" y="16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3" name=""/>
                  <p:cNvSpPr/>
                  <p:nvPr/>
                </p:nvSpPr>
                <p:spPr>
                  <a:xfrm flipV="1" rot="10800000">
                    <a:off x="7494480" y="17590320"/>
                    <a:ext cx="288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159">
                        <a:moveTo>
                          <a:pt x="84" y="159"/>
                        </a:moveTo>
                        <a:lnTo>
                          <a:pt x="71" y="64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4" name=""/>
                  <p:cNvSpPr/>
                  <p:nvPr/>
                </p:nvSpPr>
                <p:spPr>
                  <a:xfrm flipV="1" rot="10800000">
                    <a:off x="7494480" y="17597520"/>
                    <a:ext cx="396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496">
                        <a:moveTo>
                          <a:pt x="109" y="0"/>
                        </a:moveTo>
                        <a:lnTo>
                          <a:pt x="0" y="496"/>
                        </a:lnTo>
                        <a:lnTo>
                          <a:pt x="1" y="496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5" name=""/>
                  <p:cNvSpPr/>
                  <p:nvPr/>
                </p:nvSpPr>
                <p:spPr>
                  <a:xfrm flipV="1" rot="10800000">
                    <a:off x="7498800" y="17614800"/>
                    <a:ext cx="828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202" h="98">
                        <a:moveTo>
                          <a:pt x="0" y="94"/>
                        </a:moveTo>
                        <a:lnTo>
                          <a:pt x="124" y="98"/>
                        </a:lnTo>
                        <a:lnTo>
                          <a:pt x="201" y="0"/>
                        </a:lnTo>
                        <a:lnTo>
                          <a:pt x="202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6" name=""/>
                  <p:cNvSpPr/>
                  <p:nvPr/>
                </p:nvSpPr>
                <p:spPr>
                  <a:xfrm flipV="1" rot="10800000">
                    <a:off x="7507080" y="17607600"/>
                    <a:ext cx="360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021" h="297">
                        <a:moveTo>
                          <a:pt x="1021" y="297"/>
                        </a:moveTo>
                        <a:lnTo>
                          <a:pt x="525" y="97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7" name=""/>
                <p:cNvSpPr/>
                <p:nvPr/>
              </p:nvSpPr>
              <p:spPr>
                <a:xfrm flipV="1" rot="10800000">
                  <a:off x="7440120" y="17765280"/>
                  <a:ext cx="219240" cy="6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98" name=""/>
                <p:cNvGrpSpPr/>
                <p:nvPr/>
              </p:nvGrpSpPr>
              <p:grpSpPr>
                <a:xfrm>
                  <a:off x="7489800" y="17776440"/>
                  <a:ext cx="131760" cy="47880"/>
                  <a:chOff x="7489800" y="17776440"/>
                  <a:chExt cx="131760" cy="47880"/>
                </a:xfrm>
              </p:grpSpPr>
              <p:sp>
                <p:nvSpPr>
                  <p:cNvPr id="3299" name=""/>
                  <p:cNvSpPr/>
                  <p:nvPr/>
                </p:nvSpPr>
                <p:spPr>
                  <a:xfrm flipV="1" rot="10800000">
                    <a:off x="7489800" y="17776080"/>
                    <a:ext cx="131760" cy="47880"/>
                  </a:xfrm>
                  <a:prstGeom prst="rect">
                    <a:avLst/>
                  </a:prstGeom>
                  <a:noFill/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" bIns="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0" name=""/>
                  <p:cNvSpPr/>
                  <p:nvPr/>
                </p:nvSpPr>
                <p:spPr>
                  <a:xfrm flipV="1" rot="10800000">
                    <a:off x="7600320" y="17784360"/>
                    <a:ext cx="15840" cy="32040"/>
                  </a:xfrm>
                  <a:prstGeom prst="rect">
                    <a:avLst/>
                  </a:prstGeom>
                  <a:noFill/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760" bIns="-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1" name=""/>
                  <p:cNvSpPr/>
                  <p:nvPr/>
                </p:nvSpPr>
                <p:spPr>
                  <a:xfrm flipV="1" rot="10800000">
                    <a:off x="7495560" y="17784360"/>
                    <a:ext cx="97560" cy="32040"/>
                  </a:xfrm>
                  <a:prstGeom prst="rect">
                    <a:avLst/>
                  </a:prstGeom>
                  <a:noFill/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760" bIns="-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302" name=""/>
                <p:cNvSpPr/>
                <p:nvPr/>
              </p:nvSpPr>
              <p:spPr>
                <a:xfrm flipV="1" rot="9048600">
                  <a:off x="7656480" y="17866440"/>
                  <a:ext cx="22320" cy="31680"/>
                </a:xfrm>
                <a:prstGeom prst="ellipse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3" name=""/>
                <p:cNvSpPr/>
                <p:nvPr/>
              </p:nvSpPr>
              <p:spPr>
                <a:xfrm flipV="1" rot="10800000">
                  <a:off x="7638840" y="17851680"/>
                  <a:ext cx="68040" cy="6660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04" name=""/>
                <p:cNvGrpSpPr/>
                <p:nvPr/>
              </p:nvGrpSpPr>
              <p:grpSpPr>
                <a:xfrm>
                  <a:off x="7470360" y="17856000"/>
                  <a:ext cx="133560" cy="145800"/>
                  <a:chOff x="7470360" y="17856000"/>
                  <a:chExt cx="133560" cy="145800"/>
                </a:xfrm>
              </p:grpSpPr>
              <p:sp>
                <p:nvSpPr>
                  <p:cNvPr id="3305" name=""/>
                  <p:cNvSpPr/>
                  <p:nvPr/>
                </p:nvSpPr>
                <p:spPr>
                  <a:xfrm flipV="1" rot="10800000">
                    <a:off x="7470360" y="17855640"/>
                    <a:ext cx="133560" cy="14580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306" name=""/>
                  <p:cNvGrpSpPr/>
                  <p:nvPr/>
                </p:nvGrpSpPr>
                <p:grpSpPr>
                  <a:xfrm>
                    <a:off x="7479720" y="17875800"/>
                    <a:ext cx="117360" cy="116280"/>
                    <a:chOff x="7479720" y="17875800"/>
                    <a:chExt cx="117360" cy="116280"/>
                  </a:xfrm>
                </p:grpSpPr>
                <p:sp>
                  <p:nvSpPr>
                    <p:cNvPr id="3307" name=""/>
                    <p:cNvSpPr/>
                    <p:nvPr/>
                  </p:nvSpPr>
                  <p:spPr>
                    <a:xfrm flipV="1" rot="10800000">
                      <a:off x="7563240" y="17973000"/>
                      <a:ext cx="252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35">
                          <a:moveTo>
                            <a:pt x="0" y="35"/>
                          </a:moveTo>
                          <a:lnTo>
                            <a:pt x="5" y="29"/>
                          </a:lnTo>
                          <a:lnTo>
                            <a:pt x="11" y="23"/>
                          </a:lnTo>
                          <a:lnTo>
                            <a:pt x="17" y="17"/>
                          </a:lnTo>
                          <a:lnTo>
                            <a:pt x="22" y="12"/>
                          </a:lnTo>
                          <a:lnTo>
                            <a:pt x="26" y="8"/>
                          </a:lnTo>
                          <a:lnTo>
                            <a:pt x="30" y="5"/>
                          </a:lnTo>
                          <a:lnTo>
                            <a:pt x="32" y="2"/>
                          </a:lnTo>
                          <a:lnTo>
                            <a:pt x="34" y="1"/>
                          </a:lnTo>
                          <a:lnTo>
                            <a:pt x="34" y="0"/>
                          </a:lnTo>
                          <a:lnTo>
                            <a:pt x="3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08" name=""/>
                    <p:cNvSpPr/>
                    <p:nvPr/>
                  </p:nvSpPr>
                  <p:spPr>
                    <a:xfrm flipV="1" rot="10800000">
                      <a:off x="7563240" y="17973000"/>
                      <a:ext cx="252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35">
                          <a:moveTo>
                            <a:pt x="0" y="35"/>
                          </a:moveTo>
                          <a:lnTo>
                            <a:pt x="5" y="29"/>
                          </a:lnTo>
                          <a:lnTo>
                            <a:pt x="11" y="23"/>
                          </a:lnTo>
                          <a:lnTo>
                            <a:pt x="17" y="17"/>
                          </a:lnTo>
                          <a:lnTo>
                            <a:pt x="22" y="12"/>
                          </a:lnTo>
                          <a:lnTo>
                            <a:pt x="26" y="8"/>
                          </a:lnTo>
                          <a:lnTo>
                            <a:pt x="30" y="5"/>
                          </a:lnTo>
                          <a:lnTo>
                            <a:pt x="32" y="2"/>
                          </a:lnTo>
                          <a:lnTo>
                            <a:pt x="34" y="1"/>
                          </a:lnTo>
                          <a:lnTo>
                            <a:pt x="34" y="0"/>
                          </a:lnTo>
                          <a:lnTo>
                            <a:pt x="3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09" name=""/>
                    <p:cNvSpPr/>
                    <p:nvPr/>
                  </p:nvSpPr>
                  <p:spPr>
                    <a:xfrm flipV="1" rot="10800000">
                      <a:off x="7479720" y="17875440"/>
                      <a:ext cx="117360" cy="49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520" bIns="2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0" name=""/>
                    <p:cNvSpPr/>
                    <p:nvPr/>
                  </p:nvSpPr>
                  <p:spPr>
                    <a:xfrm flipV="1" rot="10800000">
                      <a:off x="7487280" y="17926560"/>
                      <a:ext cx="101160" cy="65160"/>
                    </a:xfrm>
                    <a:custGeom>
                      <a:avLst/>
                      <a:gdLst>
                        <a:gd name="textAreaLeft" fmla="*/ 22320 w 101160"/>
                        <a:gd name="textAreaRight" fmla="*/ 78840 w 101160"/>
                        <a:gd name="textAreaTop" fmla="*/ 14400 h 65160"/>
                        <a:gd name="textAreaBottom" fmla="*/ 50760 h 651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16200" y="21600"/>
                          </a:lnTo>
                          <a:lnTo>
                            <a:pt x="5400" y="2160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440" bIns="-10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3311" name=""/>
              <p:cNvGrpSpPr/>
              <p:nvPr/>
            </p:nvGrpSpPr>
            <p:grpSpPr>
              <a:xfrm>
                <a:off x="7794360" y="17576640"/>
                <a:ext cx="431640" cy="456480"/>
                <a:chOff x="7794360" y="17576640"/>
                <a:chExt cx="431640" cy="456480"/>
              </a:xfrm>
            </p:grpSpPr>
            <p:sp>
              <p:nvSpPr>
                <p:cNvPr id="3312" name=""/>
                <p:cNvSpPr/>
                <p:nvPr/>
              </p:nvSpPr>
              <p:spPr>
                <a:xfrm flipV="1" rot="10800000">
                  <a:off x="7794360" y="17745120"/>
                  <a:ext cx="431640" cy="2876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13" name=""/>
                <p:cNvGrpSpPr/>
                <p:nvPr/>
              </p:nvGrpSpPr>
              <p:grpSpPr>
                <a:xfrm>
                  <a:off x="7974720" y="17576640"/>
                  <a:ext cx="162000" cy="161280"/>
                  <a:chOff x="7974720" y="17576640"/>
                  <a:chExt cx="162000" cy="161280"/>
                </a:xfrm>
              </p:grpSpPr>
              <p:sp>
                <p:nvSpPr>
                  <p:cNvPr id="3314" name=""/>
                  <p:cNvSpPr/>
                  <p:nvPr/>
                </p:nvSpPr>
                <p:spPr>
                  <a:xfrm flipV="1" rot="10800000">
                    <a:off x="7987680" y="17616240"/>
                    <a:ext cx="36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5" name=""/>
                  <p:cNvSpPr/>
                  <p:nvPr/>
                </p:nvSpPr>
                <p:spPr>
                  <a:xfrm flipV="1" rot="10800000">
                    <a:off x="7974720" y="17616240"/>
                    <a:ext cx="36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6" name=""/>
                  <p:cNvSpPr/>
                  <p:nvPr/>
                </p:nvSpPr>
                <p:spPr>
                  <a:xfrm flipV="1" rot="10800000">
                    <a:off x="8135640" y="17616240"/>
                    <a:ext cx="108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7" name=""/>
                  <p:cNvSpPr/>
                  <p:nvPr/>
                </p:nvSpPr>
                <p:spPr>
                  <a:xfrm flipV="1" rot="10800000">
                    <a:off x="8122680" y="17616240"/>
                    <a:ext cx="144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8" name=""/>
                  <p:cNvSpPr/>
                  <p:nvPr/>
                </p:nvSpPr>
                <p:spPr>
                  <a:xfrm flipV="1" rot="10800000">
                    <a:off x="8116560" y="17643240"/>
                    <a:ext cx="36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925">
                        <a:moveTo>
                          <a:pt x="0" y="0"/>
                        </a:moveTo>
                        <a:lnTo>
                          <a:pt x="18" y="1925"/>
                        </a:lnTo>
                        <a:lnTo>
                          <a:pt x="19" y="1925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9" name=""/>
                  <p:cNvSpPr/>
                  <p:nvPr/>
                </p:nvSpPr>
                <p:spPr>
                  <a:xfrm flipV="1" rot="10800000">
                    <a:off x="8097120" y="17712000"/>
                    <a:ext cx="1980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8" h="605">
                        <a:moveTo>
                          <a:pt x="0" y="0"/>
                        </a:moveTo>
                        <a:lnTo>
                          <a:pt x="184" y="396"/>
                        </a:lnTo>
                        <a:lnTo>
                          <a:pt x="567" y="605"/>
                        </a:lnTo>
                        <a:lnTo>
                          <a:pt x="568" y="605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0" name=""/>
                  <p:cNvSpPr/>
                  <p:nvPr/>
                </p:nvSpPr>
                <p:spPr>
                  <a:xfrm flipV="1" rot="10800000">
                    <a:off x="8015760" y="17735040"/>
                    <a:ext cx="8136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269" h="103">
                        <a:moveTo>
                          <a:pt x="0" y="2"/>
                        </a:moveTo>
                        <a:lnTo>
                          <a:pt x="1135" y="103"/>
                        </a:lnTo>
                        <a:lnTo>
                          <a:pt x="2268" y="0"/>
                        </a:lnTo>
                        <a:lnTo>
                          <a:pt x="2269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1" name=""/>
                  <p:cNvSpPr/>
                  <p:nvPr/>
                </p:nvSpPr>
                <p:spPr>
                  <a:xfrm flipV="1" rot="10800000">
                    <a:off x="7995600" y="17712000"/>
                    <a:ext cx="1980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8" h="605">
                        <a:moveTo>
                          <a:pt x="0" y="605"/>
                        </a:moveTo>
                        <a:lnTo>
                          <a:pt x="382" y="396"/>
                        </a:lnTo>
                        <a:lnTo>
                          <a:pt x="567" y="0"/>
                        </a:lnTo>
                        <a:lnTo>
                          <a:pt x="568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2" name=""/>
                  <p:cNvSpPr/>
                  <p:nvPr/>
                </p:nvSpPr>
                <p:spPr>
                  <a:xfrm flipV="1" rot="10800000">
                    <a:off x="7994880" y="17643240"/>
                    <a:ext cx="36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925">
                        <a:moveTo>
                          <a:pt x="0" y="1925"/>
                        </a:moveTo>
                        <a:lnTo>
                          <a:pt x="16" y="0"/>
                        </a:lnTo>
                        <a:lnTo>
                          <a:pt x="17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3" name=""/>
                  <p:cNvSpPr/>
                  <p:nvPr/>
                </p:nvSpPr>
                <p:spPr>
                  <a:xfrm flipV="1" rot="10800000">
                    <a:off x="7995600" y="17614800"/>
                    <a:ext cx="2556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745" h="787">
                        <a:moveTo>
                          <a:pt x="745" y="787"/>
                        </a:moveTo>
                        <a:lnTo>
                          <a:pt x="623" y="420"/>
                        </a:lnTo>
                        <a:lnTo>
                          <a:pt x="358" y="14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4" name=""/>
                  <p:cNvSpPr/>
                  <p:nvPr/>
                </p:nvSpPr>
                <p:spPr>
                  <a:xfrm flipV="1" rot="10800000">
                    <a:off x="8021160" y="17612280"/>
                    <a:ext cx="6984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1947" h="77">
                        <a:moveTo>
                          <a:pt x="1947" y="76"/>
                        </a:moveTo>
                        <a:lnTo>
                          <a:pt x="974" y="0"/>
                        </a:lnTo>
                        <a:lnTo>
                          <a:pt x="0" y="77"/>
                        </a:lnTo>
                        <a:lnTo>
                          <a:pt x="1" y="77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5" name=""/>
                  <p:cNvSpPr/>
                  <p:nvPr/>
                </p:nvSpPr>
                <p:spPr>
                  <a:xfrm flipV="1" rot="10800000">
                    <a:off x="8091000" y="17614800"/>
                    <a:ext cx="2592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744" h="788">
                        <a:moveTo>
                          <a:pt x="744" y="0"/>
                        </a:moveTo>
                        <a:lnTo>
                          <a:pt x="386" y="141"/>
                        </a:lnTo>
                        <a:lnTo>
                          <a:pt x="121" y="421"/>
                        </a:lnTo>
                        <a:lnTo>
                          <a:pt x="0" y="788"/>
                        </a:lnTo>
                        <a:lnTo>
                          <a:pt x="1" y="788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6" name=""/>
                  <p:cNvSpPr/>
                  <p:nvPr/>
                </p:nvSpPr>
                <p:spPr>
                  <a:xfrm flipV="1" rot="10800000">
                    <a:off x="7975080" y="17714880"/>
                    <a:ext cx="129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50" h="0">
                        <a:moveTo>
                          <a:pt x="0" y="0"/>
                        </a:moveTo>
                        <a:lnTo>
                          <a:pt x="349" y="0"/>
                        </a:lnTo>
                        <a:lnTo>
                          <a:pt x="350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7" name=""/>
                  <p:cNvSpPr/>
                  <p:nvPr/>
                </p:nvSpPr>
                <p:spPr>
                  <a:xfrm flipV="1" rot="10800000">
                    <a:off x="8124120" y="17714880"/>
                    <a:ext cx="1260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49" h="0">
                        <a:moveTo>
                          <a:pt x="349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8" name=""/>
                  <p:cNvSpPr/>
                  <p:nvPr/>
                </p:nvSpPr>
                <p:spPr>
                  <a:xfrm flipV="1" rot="10800000">
                    <a:off x="7975080" y="17615880"/>
                    <a:ext cx="129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50" h="0">
                        <a:moveTo>
                          <a:pt x="0" y="0"/>
                        </a:moveTo>
                        <a:lnTo>
                          <a:pt x="349" y="0"/>
                        </a:lnTo>
                        <a:lnTo>
                          <a:pt x="350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9" name=""/>
                  <p:cNvSpPr/>
                  <p:nvPr/>
                </p:nvSpPr>
                <p:spPr>
                  <a:xfrm flipV="1" rot="10800000">
                    <a:off x="8044200" y="17607600"/>
                    <a:ext cx="2412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8" h="0">
                        <a:moveTo>
                          <a:pt x="698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0" name=""/>
                  <p:cNvSpPr/>
                  <p:nvPr/>
                </p:nvSpPr>
                <p:spPr>
                  <a:xfrm flipV="1" rot="10800000">
                    <a:off x="8042760" y="17607600"/>
                    <a:ext cx="144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33">
                        <a:moveTo>
                          <a:pt x="0" y="133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1" name=""/>
                  <p:cNvSpPr/>
                  <p:nvPr/>
                </p:nvSpPr>
                <p:spPr>
                  <a:xfrm flipV="1" rot="10800000">
                    <a:off x="8067960" y="17607600"/>
                    <a:ext cx="36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34">
                        <a:moveTo>
                          <a:pt x="0" y="134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2" name=""/>
                  <p:cNvSpPr/>
                  <p:nvPr/>
                </p:nvSpPr>
                <p:spPr>
                  <a:xfrm flipV="1" rot="10800000">
                    <a:off x="8124120" y="17615880"/>
                    <a:ext cx="1260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49" h="0">
                        <a:moveTo>
                          <a:pt x="349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3" name=""/>
                  <p:cNvSpPr/>
                  <p:nvPr/>
                </p:nvSpPr>
                <p:spPr>
                  <a:xfrm flipV="1" rot="10800000">
                    <a:off x="7995240" y="17576280"/>
                    <a:ext cx="12168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3444" h="562">
                        <a:moveTo>
                          <a:pt x="3405" y="560"/>
                        </a:moveTo>
                        <a:lnTo>
                          <a:pt x="3444" y="429"/>
                        </a:lnTo>
                        <a:lnTo>
                          <a:pt x="3366" y="316"/>
                        </a:lnTo>
                        <a:lnTo>
                          <a:pt x="2559" y="78"/>
                        </a:lnTo>
                        <a:lnTo>
                          <a:pt x="1722" y="0"/>
                        </a:lnTo>
                        <a:lnTo>
                          <a:pt x="884" y="79"/>
                        </a:lnTo>
                        <a:lnTo>
                          <a:pt x="78" y="318"/>
                        </a:lnTo>
                        <a:lnTo>
                          <a:pt x="0" y="430"/>
                        </a:lnTo>
                        <a:lnTo>
                          <a:pt x="39" y="562"/>
                        </a:lnTo>
                        <a:lnTo>
                          <a:pt x="40" y="562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4" name=""/>
                  <p:cNvSpPr/>
                  <p:nvPr/>
                </p:nvSpPr>
                <p:spPr>
                  <a:xfrm flipV="1" rot="10800000">
                    <a:off x="7999920" y="17586000"/>
                    <a:ext cx="11268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52" h="740">
                        <a:moveTo>
                          <a:pt x="3152" y="738"/>
                        </a:moveTo>
                        <a:lnTo>
                          <a:pt x="3126" y="512"/>
                        </a:lnTo>
                        <a:lnTo>
                          <a:pt x="2966" y="350"/>
                        </a:lnTo>
                        <a:lnTo>
                          <a:pt x="2290" y="101"/>
                        </a:lnTo>
                        <a:lnTo>
                          <a:pt x="1576" y="0"/>
                        </a:lnTo>
                        <a:lnTo>
                          <a:pt x="862" y="102"/>
                        </a:lnTo>
                        <a:lnTo>
                          <a:pt x="186" y="352"/>
                        </a:lnTo>
                        <a:lnTo>
                          <a:pt x="26" y="514"/>
                        </a:lnTo>
                        <a:lnTo>
                          <a:pt x="0" y="740"/>
                        </a:lnTo>
                        <a:lnTo>
                          <a:pt x="1" y="74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5" name=""/>
                  <p:cNvSpPr/>
                  <p:nvPr/>
                </p:nvSpPr>
                <p:spPr>
                  <a:xfrm flipV="1" rot="10800000">
                    <a:off x="8068320" y="17607600"/>
                    <a:ext cx="3564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023" h="298">
                        <a:moveTo>
                          <a:pt x="1023" y="0"/>
                        </a:moveTo>
                        <a:lnTo>
                          <a:pt x="496" y="98"/>
                        </a:lnTo>
                        <a:lnTo>
                          <a:pt x="0" y="298"/>
                        </a:lnTo>
                        <a:lnTo>
                          <a:pt x="2" y="298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6" name=""/>
                  <p:cNvSpPr/>
                  <p:nvPr/>
                </p:nvSpPr>
                <p:spPr>
                  <a:xfrm flipV="1" rot="10800000">
                    <a:off x="8104320" y="17614800"/>
                    <a:ext cx="828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203" h="97">
                        <a:moveTo>
                          <a:pt x="0" y="0"/>
                        </a:moveTo>
                        <a:lnTo>
                          <a:pt x="78" y="97"/>
                        </a:lnTo>
                        <a:lnTo>
                          <a:pt x="201" y="93"/>
                        </a:lnTo>
                        <a:lnTo>
                          <a:pt x="203" y="9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7" name=""/>
                  <p:cNvSpPr/>
                  <p:nvPr/>
                </p:nvSpPr>
                <p:spPr>
                  <a:xfrm flipV="1" rot="10800000">
                    <a:off x="8112600" y="17597520"/>
                    <a:ext cx="432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496">
                        <a:moveTo>
                          <a:pt x="109" y="496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8" name=""/>
                  <p:cNvSpPr/>
                  <p:nvPr/>
                </p:nvSpPr>
                <p:spPr>
                  <a:xfrm flipV="1" rot="10800000">
                    <a:off x="8114040" y="17590320"/>
                    <a:ext cx="288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160">
                        <a:moveTo>
                          <a:pt x="84" y="0"/>
                        </a:moveTo>
                        <a:lnTo>
                          <a:pt x="13" y="64"/>
                        </a:lnTo>
                        <a:lnTo>
                          <a:pt x="0" y="160"/>
                        </a:lnTo>
                        <a:lnTo>
                          <a:pt x="1" y="16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9" name=""/>
                  <p:cNvSpPr/>
                  <p:nvPr/>
                </p:nvSpPr>
                <p:spPr>
                  <a:xfrm flipV="1" rot="10800000">
                    <a:off x="7995240" y="17590320"/>
                    <a:ext cx="288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159">
                        <a:moveTo>
                          <a:pt x="84" y="159"/>
                        </a:moveTo>
                        <a:lnTo>
                          <a:pt x="71" y="64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0" name=""/>
                  <p:cNvSpPr/>
                  <p:nvPr/>
                </p:nvSpPr>
                <p:spPr>
                  <a:xfrm flipV="1" rot="10800000">
                    <a:off x="7995600" y="17597520"/>
                    <a:ext cx="396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496">
                        <a:moveTo>
                          <a:pt x="109" y="0"/>
                        </a:moveTo>
                        <a:lnTo>
                          <a:pt x="0" y="496"/>
                        </a:lnTo>
                        <a:lnTo>
                          <a:pt x="1" y="496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1" name=""/>
                  <p:cNvSpPr/>
                  <p:nvPr/>
                </p:nvSpPr>
                <p:spPr>
                  <a:xfrm flipV="1" rot="10800000">
                    <a:off x="7999560" y="17614800"/>
                    <a:ext cx="828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202" h="98">
                        <a:moveTo>
                          <a:pt x="0" y="94"/>
                        </a:moveTo>
                        <a:lnTo>
                          <a:pt x="124" y="98"/>
                        </a:lnTo>
                        <a:lnTo>
                          <a:pt x="201" y="0"/>
                        </a:lnTo>
                        <a:lnTo>
                          <a:pt x="202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2" name=""/>
                  <p:cNvSpPr/>
                  <p:nvPr/>
                </p:nvSpPr>
                <p:spPr>
                  <a:xfrm flipV="1" rot="10800000">
                    <a:off x="8008200" y="17607600"/>
                    <a:ext cx="360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021" h="297">
                        <a:moveTo>
                          <a:pt x="1021" y="297"/>
                        </a:moveTo>
                        <a:lnTo>
                          <a:pt x="525" y="97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343" name=""/>
                <p:cNvSpPr/>
                <p:nvPr/>
              </p:nvSpPr>
              <p:spPr>
                <a:xfrm flipV="1" rot="10800000">
                  <a:off x="7941960" y="17765280"/>
                  <a:ext cx="218880" cy="6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44" name=""/>
                <p:cNvGrpSpPr/>
                <p:nvPr/>
              </p:nvGrpSpPr>
              <p:grpSpPr>
                <a:xfrm>
                  <a:off x="7990920" y="17776440"/>
                  <a:ext cx="131400" cy="47880"/>
                  <a:chOff x="7990920" y="17776440"/>
                  <a:chExt cx="131400" cy="47880"/>
                </a:xfrm>
              </p:grpSpPr>
              <p:sp>
                <p:nvSpPr>
                  <p:cNvPr id="3345" name=""/>
                  <p:cNvSpPr/>
                  <p:nvPr/>
                </p:nvSpPr>
                <p:spPr>
                  <a:xfrm flipV="1" rot="10800000">
                    <a:off x="7990920" y="17776080"/>
                    <a:ext cx="131400" cy="47880"/>
                  </a:xfrm>
                  <a:prstGeom prst="rect">
                    <a:avLst/>
                  </a:prstGeom>
                  <a:noFill/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" bIns="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6" name=""/>
                  <p:cNvSpPr/>
                  <p:nvPr/>
                </p:nvSpPr>
                <p:spPr>
                  <a:xfrm flipV="1" rot="10800000">
                    <a:off x="8101080" y="17784360"/>
                    <a:ext cx="15840" cy="32040"/>
                  </a:xfrm>
                  <a:prstGeom prst="rect">
                    <a:avLst/>
                  </a:prstGeom>
                  <a:noFill/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760" bIns="-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7" name=""/>
                  <p:cNvSpPr/>
                  <p:nvPr/>
                </p:nvSpPr>
                <p:spPr>
                  <a:xfrm flipV="1" rot="10800000">
                    <a:off x="7996680" y="17784360"/>
                    <a:ext cx="97200" cy="32040"/>
                  </a:xfrm>
                  <a:prstGeom prst="rect">
                    <a:avLst/>
                  </a:prstGeom>
                  <a:noFill/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760" bIns="-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348" name=""/>
                <p:cNvSpPr/>
                <p:nvPr/>
              </p:nvSpPr>
              <p:spPr>
                <a:xfrm flipV="1" rot="9048600">
                  <a:off x="8157600" y="17866080"/>
                  <a:ext cx="21960" cy="31680"/>
                </a:xfrm>
                <a:prstGeom prst="ellipse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9" name=""/>
                <p:cNvSpPr/>
                <p:nvPr/>
              </p:nvSpPr>
              <p:spPr>
                <a:xfrm flipV="1" rot="10800000">
                  <a:off x="8140680" y="17851680"/>
                  <a:ext cx="67680" cy="6660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50" name=""/>
                <p:cNvGrpSpPr/>
                <p:nvPr/>
              </p:nvGrpSpPr>
              <p:grpSpPr>
                <a:xfrm>
                  <a:off x="7972200" y="17856000"/>
                  <a:ext cx="133200" cy="145800"/>
                  <a:chOff x="7972200" y="17856000"/>
                  <a:chExt cx="133200" cy="145800"/>
                </a:xfrm>
              </p:grpSpPr>
              <p:sp>
                <p:nvSpPr>
                  <p:cNvPr id="3351" name=""/>
                  <p:cNvSpPr/>
                  <p:nvPr/>
                </p:nvSpPr>
                <p:spPr>
                  <a:xfrm flipV="1" rot="10800000">
                    <a:off x="7972200" y="17855640"/>
                    <a:ext cx="133200" cy="14580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352" name=""/>
                  <p:cNvGrpSpPr/>
                  <p:nvPr/>
                </p:nvGrpSpPr>
                <p:grpSpPr>
                  <a:xfrm>
                    <a:off x="7981560" y="17875800"/>
                    <a:ext cx="117000" cy="116280"/>
                    <a:chOff x="7981560" y="17875800"/>
                    <a:chExt cx="117000" cy="116280"/>
                  </a:xfrm>
                </p:grpSpPr>
                <p:sp>
                  <p:nvSpPr>
                    <p:cNvPr id="3353" name=""/>
                    <p:cNvSpPr/>
                    <p:nvPr/>
                  </p:nvSpPr>
                  <p:spPr>
                    <a:xfrm flipV="1" rot="10800000">
                      <a:off x="8065080" y="17973000"/>
                      <a:ext cx="252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35">
                          <a:moveTo>
                            <a:pt x="0" y="35"/>
                          </a:moveTo>
                          <a:lnTo>
                            <a:pt x="5" y="29"/>
                          </a:lnTo>
                          <a:lnTo>
                            <a:pt x="11" y="23"/>
                          </a:lnTo>
                          <a:lnTo>
                            <a:pt x="17" y="17"/>
                          </a:lnTo>
                          <a:lnTo>
                            <a:pt x="22" y="12"/>
                          </a:lnTo>
                          <a:lnTo>
                            <a:pt x="26" y="8"/>
                          </a:lnTo>
                          <a:lnTo>
                            <a:pt x="30" y="5"/>
                          </a:lnTo>
                          <a:lnTo>
                            <a:pt x="32" y="2"/>
                          </a:lnTo>
                          <a:lnTo>
                            <a:pt x="34" y="1"/>
                          </a:lnTo>
                          <a:lnTo>
                            <a:pt x="34" y="0"/>
                          </a:lnTo>
                          <a:lnTo>
                            <a:pt x="3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54" name=""/>
                    <p:cNvSpPr/>
                    <p:nvPr/>
                  </p:nvSpPr>
                  <p:spPr>
                    <a:xfrm flipV="1" rot="10800000">
                      <a:off x="8065080" y="17973000"/>
                      <a:ext cx="252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35">
                          <a:moveTo>
                            <a:pt x="0" y="35"/>
                          </a:moveTo>
                          <a:lnTo>
                            <a:pt x="5" y="29"/>
                          </a:lnTo>
                          <a:lnTo>
                            <a:pt x="11" y="23"/>
                          </a:lnTo>
                          <a:lnTo>
                            <a:pt x="17" y="17"/>
                          </a:lnTo>
                          <a:lnTo>
                            <a:pt x="22" y="12"/>
                          </a:lnTo>
                          <a:lnTo>
                            <a:pt x="26" y="8"/>
                          </a:lnTo>
                          <a:lnTo>
                            <a:pt x="30" y="5"/>
                          </a:lnTo>
                          <a:lnTo>
                            <a:pt x="32" y="2"/>
                          </a:lnTo>
                          <a:lnTo>
                            <a:pt x="34" y="1"/>
                          </a:lnTo>
                          <a:lnTo>
                            <a:pt x="34" y="0"/>
                          </a:lnTo>
                          <a:lnTo>
                            <a:pt x="3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55" name=""/>
                    <p:cNvSpPr/>
                    <p:nvPr/>
                  </p:nvSpPr>
                  <p:spPr>
                    <a:xfrm flipV="1" rot="10800000">
                      <a:off x="7981560" y="17875440"/>
                      <a:ext cx="117000" cy="49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520" bIns="2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56" name=""/>
                    <p:cNvSpPr/>
                    <p:nvPr/>
                  </p:nvSpPr>
                  <p:spPr>
                    <a:xfrm flipV="1" rot="10800000">
                      <a:off x="7989120" y="17926560"/>
                      <a:ext cx="100800" cy="65160"/>
                    </a:xfrm>
                    <a:custGeom>
                      <a:avLst/>
                      <a:gdLst>
                        <a:gd name="textAreaLeft" fmla="*/ 21960 w 100800"/>
                        <a:gd name="textAreaRight" fmla="*/ 78840 w 100800"/>
                        <a:gd name="textAreaTop" fmla="*/ 14400 h 65160"/>
                        <a:gd name="textAreaBottom" fmla="*/ 50760 h 651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16200" y="21600"/>
                          </a:lnTo>
                          <a:lnTo>
                            <a:pt x="5400" y="2160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440" bIns="-10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3357" name=""/>
              <p:cNvSpPr/>
              <p:nvPr/>
            </p:nvSpPr>
            <p:spPr>
              <a:xfrm>
                <a:off x="6648480" y="17373600"/>
                <a:ext cx="179280" cy="36036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8" name=""/>
              <p:cNvSpPr/>
              <p:nvPr/>
            </p:nvSpPr>
            <p:spPr>
              <a:xfrm>
                <a:off x="10648800" y="17830800"/>
                <a:ext cx="179640" cy="36036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59" name=""/>
              <p:cNvGrpSpPr/>
              <p:nvPr/>
            </p:nvGrpSpPr>
            <p:grpSpPr>
              <a:xfrm>
                <a:off x="10512000" y="17082360"/>
                <a:ext cx="630720" cy="612000"/>
                <a:chOff x="10512000" y="17082360"/>
                <a:chExt cx="630720" cy="612000"/>
              </a:xfrm>
            </p:grpSpPr>
            <p:sp>
              <p:nvSpPr>
                <p:cNvPr id="3360" name=""/>
                <p:cNvSpPr/>
                <p:nvPr/>
              </p:nvSpPr>
              <p:spPr>
                <a:xfrm flipV="1" rot="5400000">
                  <a:off x="10530360" y="17082000"/>
                  <a:ext cx="612000" cy="612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1" name=""/>
                <p:cNvSpPr/>
                <p:nvPr/>
              </p:nvSpPr>
              <p:spPr>
                <a:xfrm flipH="1">
                  <a:off x="10512000" y="17370360"/>
                  <a:ext cx="343080" cy="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2" name=""/>
              <p:cNvGrpSpPr/>
              <p:nvPr/>
            </p:nvGrpSpPr>
            <p:grpSpPr>
              <a:xfrm>
                <a:off x="9223200" y="19996200"/>
                <a:ext cx="432000" cy="456480"/>
                <a:chOff x="9223200" y="19996200"/>
                <a:chExt cx="432000" cy="456480"/>
              </a:xfrm>
            </p:grpSpPr>
            <p:sp>
              <p:nvSpPr>
                <p:cNvPr id="3363" name=""/>
                <p:cNvSpPr/>
                <p:nvPr/>
              </p:nvSpPr>
              <p:spPr>
                <a:xfrm flipV="1" rot="10800000">
                  <a:off x="9223200" y="20164680"/>
                  <a:ext cx="432000" cy="2876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64" name=""/>
                <p:cNvGrpSpPr/>
                <p:nvPr/>
              </p:nvGrpSpPr>
              <p:grpSpPr>
                <a:xfrm>
                  <a:off x="9403920" y="19996200"/>
                  <a:ext cx="162360" cy="161280"/>
                  <a:chOff x="9403920" y="19996200"/>
                  <a:chExt cx="162360" cy="161280"/>
                </a:xfrm>
              </p:grpSpPr>
              <p:sp>
                <p:nvSpPr>
                  <p:cNvPr id="3365" name=""/>
                  <p:cNvSpPr/>
                  <p:nvPr/>
                </p:nvSpPr>
                <p:spPr>
                  <a:xfrm flipV="1" rot="10800000">
                    <a:off x="9417240" y="20035800"/>
                    <a:ext cx="36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6" name=""/>
                  <p:cNvSpPr/>
                  <p:nvPr/>
                </p:nvSpPr>
                <p:spPr>
                  <a:xfrm flipV="1" rot="10800000">
                    <a:off x="9403920" y="20035800"/>
                    <a:ext cx="36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7" name=""/>
                  <p:cNvSpPr/>
                  <p:nvPr/>
                </p:nvSpPr>
                <p:spPr>
                  <a:xfrm flipV="1" rot="10800000">
                    <a:off x="9565200" y="20035800"/>
                    <a:ext cx="108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8" name=""/>
                  <p:cNvSpPr/>
                  <p:nvPr/>
                </p:nvSpPr>
                <p:spPr>
                  <a:xfrm flipV="1" rot="10800000">
                    <a:off x="9552240" y="20035800"/>
                    <a:ext cx="144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9" name=""/>
                  <p:cNvSpPr/>
                  <p:nvPr/>
                </p:nvSpPr>
                <p:spPr>
                  <a:xfrm flipV="1" rot="10800000">
                    <a:off x="9546120" y="20062800"/>
                    <a:ext cx="36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925">
                        <a:moveTo>
                          <a:pt x="0" y="0"/>
                        </a:moveTo>
                        <a:lnTo>
                          <a:pt x="18" y="1925"/>
                        </a:lnTo>
                        <a:lnTo>
                          <a:pt x="19" y="1925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0" name=""/>
                  <p:cNvSpPr/>
                  <p:nvPr/>
                </p:nvSpPr>
                <p:spPr>
                  <a:xfrm flipV="1" rot="10800000">
                    <a:off x="9526320" y="20131560"/>
                    <a:ext cx="2016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8" h="605">
                        <a:moveTo>
                          <a:pt x="0" y="0"/>
                        </a:moveTo>
                        <a:lnTo>
                          <a:pt x="184" y="396"/>
                        </a:lnTo>
                        <a:lnTo>
                          <a:pt x="567" y="605"/>
                        </a:lnTo>
                        <a:lnTo>
                          <a:pt x="568" y="605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1" name=""/>
                  <p:cNvSpPr/>
                  <p:nvPr/>
                </p:nvSpPr>
                <p:spPr>
                  <a:xfrm flipV="1" rot="10800000">
                    <a:off x="9444960" y="20154600"/>
                    <a:ext cx="8136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269" h="103">
                        <a:moveTo>
                          <a:pt x="0" y="2"/>
                        </a:moveTo>
                        <a:lnTo>
                          <a:pt x="1135" y="103"/>
                        </a:lnTo>
                        <a:lnTo>
                          <a:pt x="2268" y="0"/>
                        </a:lnTo>
                        <a:lnTo>
                          <a:pt x="2269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2" name=""/>
                  <p:cNvSpPr/>
                  <p:nvPr/>
                </p:nvSpPr>
                <p:spPr>
                  <a:xfrm flipV="1" rot="10800000">
                    <a:off x="9424440" y="20131560"/>
                    <a:ext cx="2016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8" h="605">
                        <a:moveTo>
                          <a:pt x="0" y="605"/>
                        </a:moveTo>
                        <a:lnTo>
                          <a:pt x="382" y="396"/>
                        </a:lnTo>
                        <a:lnTo>
                          <a:pt x="567" y="0"/>
                        </a:lnTo>
                        <a:lnTo>
                          <a:pt x="568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3" name=""/>
                  <p:cNvSpPr/>
                  <p:nvPr/>
                </p:nvSpPr>
                <p:spPr>
                  <a:xfrm flipV="1" rot="10800000">
                    <a:off x="9424080" y="20062800"/>
                    <a:ext cx="36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925">
                        <a:moveTo>
                          <a:pt x="0" y="1925"/>
                        </a:moveTo>
                        <a:lnTo>
                          <a:pt x="16" y="0"/>
                        </a:lnTo>
                        <a:lnTo>
                          <a:pt x="17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4" name=""/>
                  <p:cNvSpPr/>
                  <p:nvPr/>
                </p:nvSpPr>
                <p:spPr>
                  <a:xfrm flipV="1" rot="10800000">
                    <a:off x="9424800" y="20034360"/>
                    <a:ext cx="2556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745" h="787">
                        <a:moveTo>
                          <a:pt x="745" y="787"/>
                        </a:moveTo>
                        <a:lnTo>
                          <a:pt x="623" y="420"/>
                        </a:lnTo>
                        <a:lnTo>
                          <a:pt x="358" y="14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5" name=""/>
                  <p:cNvSpPr/>
                  <p:nvPr/>
                </p:nvSpPr>
                <p:spPr>
                  <a:xfrm flipV="1" rot="10800000">
                    <a:off x="9450360" y="20031840"/>
                    <a:ext cx="7020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1947" h="77">
                        <a:moveTo>
                          <a:pt x="1947" y="76"/>
                        </a:moveTo>
                        <a:lnTo>
                          <a:pt x="974" y="0"/>
                        </a:lnTo>
                        <a:lnTo>
                          <a:pt x="0" y="77"/>
                        </a:lnTo>
                        <a:lnTo>
                          <a:pt x="1" y="77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6" name=""/>
                  <p:cNvSpPr/>
                  <p:nvPr/>
                </p:nvSpPr>
                <p:spPr>
                  <a:xfrm flipV="1" rot="10800000">
                    <a:off x="9520560" y="20034360"/>
                    <a:ext cx="2592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744" h="788">
                        <a:moveTo>
                          <a:pt x="744" y="0"/>
                        </a:moveTo>
                        <a:lnTo>
                          <a:pt x="386" y="141"/>
                        </a:lnTo>
                        <a:lnTo>
                          <a:pt x="121" y="421"/>
                        </a:lnTo>
                        <a:lnTo>
                          <a:pt x="0" y="788"/>
                        </a:lnTo>
                        <a:lnTo>
                          <a:pt x="1" y="788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7" name=""/>
                  <p:cNvSpPr/>
                  <p:nvPr/>
                </p:nvSpPr>
                <p:spPr>
                  <a:xfrm flipV="1" rot="10800000">
                    <a:off x="9404640" y="20134440"/>
                    <a:ext cx="129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50" h="0">
                        <a:moveTo>
                          <a:pt x="0" y="0"/>
                        </a:moveTo>
                        <a:lnTo>
                          <a:pt x="349" y="0"/>
                        </a:lnTo>
                        <a:lnTo>
                          <a:pt x="350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8" name=""/>
                  <p:cNvSpPr/>
                  <p:nvPr/>
                </p:nvSpPr>
                <p:spPr>
                  <a:xfrm flipV="1" rot="10800000">
                    <a:off x="9553680" y="20134440"/>
                    <a:ext cx="1260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49" h="0">
                        <a:moveTo>
                          <a:pt x="349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9" name=""/>
                  <p:cNvSpPr/>
                  <p:nvPr/>
                </p:nvSpPr>
                <p:spPr>
                  <a:xfrm flipV="1" rot="10800000">
                    <a:off x="9404640" y="20035440"/>
                    <a:ext cx="129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50" h="0">
                        <a:moveTo>
                          <a:pt x="0" y="0"/>
                        </a:moveTo>
                        <a:lnTo>
                          <a:pt x="349" y="0"/>
                        </a:lnTo>
                        <a:lnTo>
                          <a:pt x="350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0" name=""/>
                  <p:cNvSpPr/>
                  <p:nvPr/>
                </p:nvSpPr>
                <p:spPr>
                  <a:xfrm flipV="1" rot="10800000">
                    <a:off x="9473760" y="20027160"/>
                    <a:ext cx="2412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8" h="0">
                        <a:moveTo>
                          <a:pt x="698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1" name=""/>
                  <p:cNvSpPr/>
                  <p:nvPr/>
                </p:nvSpPr>
                <p:spPr>
                  <a:xfrm flipV="1" rot="10800000">
                    <a:off x="9471960" y="20027160"/>
                    <a:ext cx="144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33">
                        <a:moveTo>
                          <a:pt x="0" y="133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2" name=""/>
                  <p:cNvSpPr/>
                  <p:nvPr/>
                </p:nvSpPr>
                <p:spPr>
                  <a:xfrm flipV="1" rot="10800000">
                    <a:off x="9497520" y="20027160"/>
                    <a:ext cx="36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34">
                        <a:moveTo>
                          <a:pt x="0" y="134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3" name=""/>
                  <p:cNvSpPr/>
                  <p:nvPr/>
                </p:nvSpPr>
                <p:spPr>
                  <a:xfrm flipV="1" rot="10800000">
                    <a:off x="9553680" y="20035440"/>
                    <a:ext cx="1260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49" h="0">
                        <a:moveTo>
                          <a:pt x="349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4" name=""/>
                  <p:cNvSpPr/>
                  <p:nvPr/>
                </p:nvSpPr>
                <p:spPr>
                  <a:xfrm flipV="1" rot="10800000">
                    <a:off x="9424800" y="19995840"/>
                    <a:ext cx="12168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3444" h="562">
                        <a:moveTo>
                          <a:pt x="3405" y="560"/>
                        </a:moveTo>
                        <a:lnTo>
                          <a:pt x="3444" y="429"/>
                        </a:lnTo>
                        <a:lnTo>
                          <a:pt x="3366" y="316"/>
                        </a:lnTo>
                        <a:lnTo>
                          <a:pt x="2559" y="78"/>
                        </a:lnTo>
                        <a:lnTo>
                          <a:pt x="1722" y="0"/>
                        </a:lnTo>
                        <a:lnTo>
                          <a:pt x="884" y="79"/>
                        </a:lnTo>
                        <a:lnTo>
                          <a:pt x="78" y="318"/>
                        </a:lnTo>
                        <a:lnTo>
                          <a:pt x="0" y="430"/>
                        </a:lnTo>
                        <a:lnTo>
                          <a:pt x="39" y="562"/>
                        </a:lnTo>
                        <a:lnTo>
                          <a:pt x="40" y="562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5" name=""/>
                  <p:cNvSpPr/>
                  <p:nvPr/>
                </p:nvSpPr>
                <p:spPr>
                  <a:xfrm flipV="1" rot="10800000">
                    <a:off x="9429120" y="20005560"/>
                    <a:ext cx="11304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52" h="740">
                        <a:moveTo>
                          <a:pt x="3152" y="738"/>
                        </a:moveTo>
                        <a:lnTo>
                          <a:pt x="3126" y="512"/>
                        </a:lnTo>
                        <a:lnTo>
                          <a:pt x="2966" y="350"/>
                        </a:lnTo>
                        <a:lnTo>
                          <a:pt x="2290" y="101"/>
                        </a:lnTo>
                        <a:lnTo>
                          <a:pt x="1576" y="0"/>
                        </a:lnTo>
                        <a:lnTo>
                          <a:pt x="862" y="102"/>
                        </a:lnTo>
                        <a:lnTo>
                          <a:pt x="186" y="352"/>
                        </a:lnTo>
                        <a:lnTo>
                          <a:pt x="26" y="514"/>
                        </a:lnTo>
                        <a:lnTo>
                          <a:pt x="0" y="740"/>
                        </a:lnTo>
                        <a:lnTo>
                          <a:pt x="1" y="74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6" name=""/>
                  <p:cNvSpPr/>
                  <p:nvPr/>
                </p:nvSpPr>
                <p:spPr>
                  <a:xfrm flipV="1" rot="10800000">
                    <a:off x="9497880" y="20027160"/>
                    <a:ext cx="3564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023" h="298">
                        <a:moveTo>
                          <a:pt x="1023" y="0"/>
                        </a:moveTo>
                        <a:lnTo>
                          <a:pt x="496" y="98"/>
                        </a:lnTo>
                        <a:lnTo>
                          <a:pt x="0" y="298"/>
                        </a:lnTo>
                        <a:lnTo>
                          <a:pt x="2" y="298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7" name=""/>
                  <p:cNvSpPr/>
                  <p:nvPr/>
                </p:nvSpPr>
                <p:spPr>
                  <a:xfrm flipV="1" rot="10800000">
                    <a:off x="9533880" y="20034360"/>
                    <a:ext cx="828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203" h="97">
                        <a:moveTo>
                          <a:pt x="0" y="0"/>
                        </a:moveTo>
                        <a:lnTo>
                          <a:pt x="78" y="97"/>
                        </a:lnTo>
                        <a:lnTo>
                          <a:pt x="201" y="93"/>
                        </a:lnTo>
                        <a:lnTo>
                          <a:pt x="203" y="9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8" name=""/>
                  <p:cNvSpPr/>
                  <p:nvPr/>
                </p:nvSpPr>
                <p:spPr>
                  <a:xfrm flipV="1" rot="10800000">
                    <a:off x="9542160" y="20017080"/>
                    <a:ext cx="432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496">
                        <a:moveTo>
                          <a:pt x="109" y="496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9" name=""/>
                  <p:cNvSpPr/>
                  <p:nvPr/>
                </p:nvSpPr>
                <p:spPr>
                  <a:xfrm flipV="1" rot="10800000">
                    <a:off x="9543600" y="20009880"/>
                    <a:ext cx="288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160">
                        <a:moveTo>
                          <a:pt x="84" y="0"/>
                        </a:moveTo>
                        <a:lnTo>
                          <a:pt x="13" y="64"/>
                        </a:lnTo>
                        <a:lnTo>
                          <a:pt x="0" y="160"/>
                        </a:lnTo>
                        <a:lnTo>
                          <a:pt x="1" y="16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0" name=""/>
                  <p:cNvSpPr/>
                  <p:nvPr/>
                </p:nvSpPr>
                <p:spPr>
                  <a:xfrm flipV="1" rot="10800000">
                    <a:off x="9424800" y="20009880"/>
                    <a:ext cx="288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159">
                        <a:moveTo>
                          <a:pt x="84" y="159"/>
                        </a:moveTo>
                        <a:lnTo>
                          <a:pt x="71" y="64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1" name=""/>
                  <p:cNvSpPr/>
                  <p:nvPr/>
                </p:nvSpPr>
                <p:spPr>
                  <a:xfrm flipV="1" rot="10800000">
                    <a:off x="9424800" y="20017080"/>
                    <a:ext cx="396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496">
                        <a:moveTo>
                          <a:pt x="109" y="0"/>
                        </a:moveTo>
                        <a:lnTo>
                          <a:pt x="0" y="496"/>
                        </a:lnTo>
                        <a:lnTo>
                          <a:pt x="1" y="496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2" name=""/>
                  <p:cNvSpPr/>
                  <p:nvPr/>
                </p:nvSpPr>
                <p:spPr>
                  <a:xfrm flipV="1" rot="10800000">
                    <a:off x="9429120" y="20034360"/>
                    <a:ext cx="828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202" h="98">
                        <a:moveTo>
                          <a:pt x="0" y="94"/>
                        </a:moveTo>
                        <a:lnTo>
                          <a:pt x="124" y="98"/>
                        </a:lnTo>
                        <a:lnTo>
                          <a:pt x="201" y="0"/>
                        </a:lnTo>
                        <a:lnTo>
                          <a:pt x="202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3" name=""/>
                  <p:cNvSpPr/>
                  <p:nvPr/>
                </p:nvSpPr>
                <p:spPr>
                  <a:xfrm flipV="1" rot="10800000">
                    <a:off x="9437400" y="20027160"/>
                    <a:ext cx="360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021" h="297">
                        <a:moveTo>
                          <a:pt x="1021" y="297"/>
                        </a:moveTo>
                        <a:lnTo>
                          <a:pt x="525" y="97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394" name=""/>
                <p:cNvSpPr/>
                <p:nvPr/>
              </p:nvSpPr>
              <p:spPr>
                <a:xfrm flipV="1" rot="10800000">
                  <a:off x="9370440" y="20184840"/>
                  <a:ext cx="219240" cy="6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95" name=""/>
                <p:cNvGrpSpPr/>
                <p:nvPr/>
              </p:nvGrpSpPr>
              <p:grpSpPr>
                <a:xfrm>
                  <a:off x="9420120" y="20196000"/>
                  <a:ext cx="131760" cy="47880"/>
                  <a:chOff x="9420120" y="20196000"/>
                  <a:chExt cx="131760" cy="47880"/>
                </a:xfrm>
              </p:grpSpPr>
              <p:sp>
                <p:nvSpPr>
                  <p:cNvPr id="3396" name=""/>
                  <p:cNvSpPr/>
                  <p:nvPr/>
                </p:nvSpPr>
                <p:spPr>
                  <a:xfrm flipV="1" rot="10800000">
                    <a:off x="9420120" y="20195640"/>
                    <a:ext cx="131760" cy="47880"/>
                  </a:xfrm>
                  <a:prstGeom prst="rect">
                    <a:avLst/>
                  </a:prstGeom>
                  <a:noFill/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" bIns="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7" name=""/>
                  <p:cNvSpPr/>
                  <p:nvPr/>
                </p:nvSpPr>
                <p:spPr>
                  <a:xfrm flipV="1" rot="10800000">
                    <a:off x="9530640" y="20203920"/>
                    <a:ext cx="15840" cy="32040"/>
                  </a:xfrm>
                  <a:prstGeom prst="rect">
                    <a:avLst/>
                  </a:prstGeom>
                  <a:noFill/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760" bIns="-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8" name=""/>
                  <p:cNvSpPr/>
                  <p:nvPr/>
                </p:nvSpPr>
                <p:spPr>
                  <a:xfrm flipV="1" rot="10800000">
                    <a:off x="9425880" y="20203920"/>
                    <a:ext cx="97560" cy="32040"/>
                  </a:xfrm>
                  <a:prstGeom prst="rect">
                    <a:avLst/>
                  </a:prstGeom>
                  <a:noFill/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760" bIns="-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399" name=""/>
                <p:cNvSpPr/>
                <p:nvPr/>
              </p:nvSpPr>
              <p:spPr>
                <a:xfrm flipV="1" rot="9048600">
                  <a:off x="9586800" y="20286000"/>
                  <a:ext cx="22320" cy="31680"/>
                </a:xfrm>
                <a:prstGeom prst="ellipse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0" name=""/>
                <p:cNvSpPr/>
                <p:nvPr/>
              </p:nvSpPr>
              <p:spPr>
                <a:xfrm flipV="1" rot="10800000">
                  <a:off x="9569160" y="20271240"/>
                  <a:ext cx="68040" cy="6660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01" name=""/>
                <p:cNvGrpSpPr/>
                <p:nvPr/>
              </p:nvGrpSpPr>
              <p:grpSpPr>
                <a:xfrm>
                  <a:off x="9400680" y="20275560"/>
                  <a:ext cx="133560" cy="145800"/>
                  <a:chOff x="9400680" y="20275560"/>
                  <a:chExt cx="133560" cy="145800"/>
                </a:xfrm>
              </p:grpSpPr>
              <p:sp>
                <p:nvSpPr>
                  <p:cNvPr id="3402" name=""/>
                  <p:cNvSpPr/>
                  <p:nvPr/>
                </p:nvSpPr>
                <p:spPr>
                  <a:xfrm flipV="1" rot="10800000">
                    <a:off x="9400680" y="20275200"/>
                    <a:ext cx="133560" cy="14580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403" name=""/>
                  <p:cNvGrpSpPr/>
                  <p:nvPr/>
                </p:nvGrpSpPr>
                <p:grpSpPr>
                  <a:xfrm>
                    <a:off x="9410040" y="20295360"/>
                    <a:ext cx="117360" cy="116280"/>
                    <a:chOff x="9410040" y="20295360"/>
                    <a:chExt cx="117360" cy="116280"/>
                  </a:xfrm>
                </p:grpSpPr>
                <p:sp>
                  <p:nvSpPr>
                    <p:cNvPr id="3404" name=""/>
                    <p:cNvSpPr/>
                    <p:nvPr/>
                  </p:nvSpPr>
                  <p:spPr>
                    <a:xfrm flipV="1" rot="10800000">
                      <a:off x="9493560" y="20392560"/>
                      <a:ext cx="252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35">
                          <a:moveTo>
                            <a:pt x="0" y="35"/>
                          </a:moveTo>
                          <a:lnTo>
                            <a:pt x="5" y="29"/>
                          </a:lnTo>
                          <a:lnTo>
                            <a:pt x="11" y="23"/>
                          </a:lnTo>
                          <a:lnTo>
                            <a:pt x="17" y="17"/>
                          </a:lnTo>
                          <a:lnTo>
                            <a:pt x="22" y="12"/>
                          </a:lnTo>
                          <a:lnTo>
                            <a:pt x="26" y="8"/>
                          </a:lnTo>
                          <a:lnTo>
                            <a:pt x="30" y="5"/>
                          </a:lnTo>
                          <a:lnTo>
                            <a:pt x="32" y="2"/>
                          </a:lnTo>
                          <a:lnTo>
                            <a:pt x="34" y="1"/>
                          </a:lnTo>
                          <a:lnTo>
                            <a:pt x="34" y="0"/>
                          </a:lnTo>
                          <a:lnTo>
                            <a:pt x="3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05" name=""/>
                    <p:cNvSpPr/>
                    <p:nvPr/>
                  </p:nvSpPr>
                  <p:spPr>
                    <a:xfrm flipV="1" rot="10800000">
                      <a:off x="9493560" y="20392560"/>
                      <a:ext cx="252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35">
                          <a:moveTo>
                            <a:pt x="0" y="35"/>
                          </a:moveTo>
                          <a:lnTo>
                            <a:pt x="5" y="29"/>
                          </a:lnTo>
                          <a:lnTo>
                            <a:pt x="11" y="23"/>
                          </a:lnTo>
                          <a:lnTo>
                            <a:pt x="17" y="17"/>
                          </a:lnTo>
                          <a:lnTo>
                            <a:pt x="22" y="12"/>
                          </a:lnTo>
                          <a:lnTo>
                            <a:pt x="26" y="8"/>
                          </a:lnTo>
                          <a:lnTo>
                            <a:pt x="30" y="5"/>
                          </a:lnTo>
                          <a:lnTo>
                            <a:pt x="32" y="2"/>
                          </a:lnTo>
                          <a:lnTo>
                            <a:pt x="34" y="1"/>
                          </a:lnTo>
                          <a:lnTo>
                            <a:pt x="34" y="0"/>
                          </a:lnTo>
                          <a:lnTo>
                            <a:pt x="3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06" name=""/>
                    <p:cNvSpPr/>
                    <p:nvPr/>
                  </p:nvSpPr>
                  <p:spPr>
                    <a:xfrm flipV="1" rot="10800000">
                      <a:off x="9410040" y="20295000"/>
                      <a:ext cx="117360" cy="49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520" bIns="2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07" name=""/>
                    <p:cNvSpPr/>
                    <p:nvPr/>
                  </p:nvSpPr>
                  <p:spPr>
                    <a:xfrm flipV="1" rot="10800000">
                      <a:off x="9417600" y="20346120"/>
                      <a:ext cx="101160" cy="65160"/>
                    </a:xfrm>
                    <a:custGeom>
                      <a:avLst/>
                      <a:gdLst>
                        <a:gd name="textAreaLeft" fmla="*/ 22320 w 101160"/>
                        <a:gd name="textAreaRight" fmla="*/ 78840 w 101160"/>
                        <a:gd name="textAreaTop" fmla="*/ 14400 h 65160"/>
                        <a:gd name="textAreaBottom" fmla="*/ 50760 h 651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16200" y="21600"/>
                          </a:lnTo>
                          <a:lnTo>
                            <a:pt x="5400" y="2160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440" bIns="-10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3408" name=""/>
              <p:cNvSpPr/>
              <p:nvPr/>
            </p:nvSpPr>
            <p:spPr>
              <a:xfrm>
                <a:off x="6843600" y="19658160"/>
                <a:ext cx="1499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ADMINISTRATIV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9" name=""/>
              <p:cNvSpPr/>
              <p:nvPr/>
            </p:nvSpPr>
            <p:spPr>
              <a:xfrm>
                <a:off x="9091440" y="18438840"/>
                <a:ext cx="1499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ADMINISTRATIV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0" name=""/>
              <p:cNvSpPr/>
              <p:nvPr/>
            </p:nvSpPr>
            <p:spPr>
              <a:xfrm>
                <a:off x="18446760" y="19799280"/>
                <a:ext cx="179280" cy="36036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1" name=""/>
              <p:cNvSpPr/>
              <p:nvPr/>
            </p:nvSpPr>
            <p:spPr>
              <a:xfrm>
                <a:off x="18427680" y="17818200"/>
                <a:ext cx="179280" cy="36036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2" name=""/>
              <p:cNvSpPr/>
              <p:nvPr/>
            </p:nvSpPr>
            <p:spPr>
              <a:xfrm>
                <a:off x="19107000" y="19354680"/>
                <a:ext cx="0" cy="15811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13" name=""/>
              <p:cNvGrpSpPr/>
              <p:nvPr/>
            </p:nvGrpSpPr>
            <p:grpSpPr>
              <a:xfrm>
                <a:off x="18854280" y="20932920"/>
                <a:ext cx="630720" cy="611280"/>
                <a:chOff x="18854280" y="20932920"/>
                <a:chExt cx="630720" cy="611280"/>
              </a:xfrm>
            </p:grpSpPr>
            <p:sp>
              <p:nvSpPr>
                <p:cNvPr id="3414" name=""/>
                <p:cNvSpPr/>
                <p:nvPr/>
              </p:nvSpPr>
              <p:spPr>
                <a:xfrm flipH="1" rot="5400000">
                  <a:off x="18854280" y="20932200"/>
                  <a:ext cx="611280" cy="612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5" name=""/>
                <p:cNvSpPr/>
                <p:nvPr/>
              </p:nvSpPr>
              <p:spPr>
                <a:xfrm>
                  <a:off x="19141920" y="21256560"/>
                  <a:ext cx="343080" cy="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16" name=""/>
              <p:cNvSpPr/>
              <p:nvPr/>
            </p:nvSpPr>
            <p:spPr>
              <a:xfrm rot="16200000">
                <a:off x="19602360" y="19278360"/>
                <a:ext cx="179280" cy="36036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17" name=""/>
              <p:cNvGrpSpPr/>
              <p:nvPr/>
            </p:nvGrpSpPr>
            <p:grpSpPr>
              <a:xfrm>
                <a:off x="17167320" y="19500840"/>
                <a:ext cx="431640" cy="456480"/>
                <a:chOff x="17167320" y="19500840"/>
                <a:chExt cx="431640" cy="456480"/>
              </a:xfrm>
            </p:grpSpPr>
            <p:sp>
              <p:nvSpPr>
                <p:cNvPr id="3418" name=""/>
                <p:cNvSpPr/>
                <p:nvPr/>
              </p:nvSpPr>
              <p:spPr>
                <a:xfrm flipH="1" flipV="1" rot="10800000">
                  <a:off x="17166960" y="19669320"/>
                  <a:ext cx="431640" cy="2876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19" name=""/>
                <p:cNvGrpSpPr/>
                <p:nvPr/>
              </p:nvGrpSpPr>
              <p:grpSpPr>
                <a:xfrm>
                  <a:off x="17256600" y="19500840"/>
                  <a:ext cx="162000" cy="161280"/>
                  <a:chOff x="17256600" y="19500840"/>
                  <a:chExt cx="162000" cy="161280"/>
                </a:xfrm>
              </p:grpSpPr>
              <p:sp>
                <p:nvSpPr>
                  <p:cNvPr id="3420" name=""/>
                  <p:cNvSpPr/>
                  <p:nvPr/>
                </p:nvSpPr>
                <p:spPr>
                  <a:xfrm flipH="1" flipV="1" rot="10800000">
                    <a:off x="17404920" y="19540440"/>
                    <a:ext cx="36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1" name=""/>
                  <p:cNvSpPr/>
                  <p:nvPr/>
                </p:nvSpPr>
                <p:spPr>
                  <a:xfrm flipH="1" flipV="1" rot="10800000">
                    <a:off x="17417880" y="19540440"/>
                    <a:ext cx="36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2" name=""/>
                  <p:cNvSpPr/>
                  <p:nvPr/>
                </p:nvSpPr>
                <p:spPr>
                  <a:xfrm flipH="1" flipV="1" rot="10800000">
                    <a:off x="17256240" y="19540440"/>
                    <a:ext cx="108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3" name=""/>
                  <p:cNvSpPr/>
                  <p:nvPr/>
                </p:nvSpPr>
                <p:spPr>
                  <a:xfrm flipH="1" flipV="1" rot="10800000">
                    <a:off x="17269200" y="19540440"/>
                    <a:ext cx="144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733">
                        <a:moveTo>
                          <a:pt x="0" y="0"/>
                        </a:moveTo>
                        <a:lnTo>
                          <a:pt x="1" y="2733"/>
                        </a:lnTo>
                        <a:lnTo>
                          <a:pt x="2" y="273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4" name=""/>
                  <p:cNvSpPr/>
                  <p:nvPr/>
                </p:nvSpPr>
                <p:spPr>
                  <a:xfrm flipH="1" flipV="1" rot="10800000">
                    <a:off x="17276040" y="19567440"/>
                    <a:ext cx="36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925">
                        <a:moveTo>
                          <a:pt x="0" y="0"/>
                        </a:moveTo>
                        <a:lnTo>
                          <a:pt x="18" y="1925"/>
                        </a:lnTo>
                        <a:lnTo>
                          <a:pt x="19" y="1925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5" name=""/>
                  <p:cNvSpPr/>
                  <p:nvPr/>
                </p:nvSpPr>
                <p:spPr>
                  <a:xfrm flipH="1" flipV="1" rot="10800000">
                    <a:off x="17276040" y="19636200"/>
                    <a:ext cx="1980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8" h="605">
                        <a:moveTo>
                          <a:pt x="0" y="0"/>
                        </a:moveTo>
                        <a:lnTo>
                          <a:pt x="184" y="396"/>
                        </a:lnTo>
                        <a:lnTo>
                          <a:pt x="567" y="605"/>
                        </a:lnTo>
                        <a:lnTo>
                          <a:pt x="568" y="605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6" name=""/>
                  <p:cNvSpPr/>
                  <p:nvPr/>
                </p:nvSpPr>
                <p:spPr>
                  <a:xfrm flipH="1" flipV="1" rot="10800000">
                    <a:off x="17296200" y="19659240"/>
                    <a:ext cx="8136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269" h="103">
                        <a:moveTo>
                          <a:pt x="0" y="2"/>
                        </a:moveTo>
                        <a:lnTo>
                          <a:pt x="1135" y="103"/>
                        </a:lnTo>
                        <a:lnTo>
                          <a:pt x="2268" y="0"/>
                        </a:lnTo>
                        <a:lnTo>
                          <a:pt x="2269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7" name=""/>
                  <p:cNvSpPr/>
                  <p:nvPr/>
                </p:nvSpPr>
                <p:spPr>
                  <a:xfrm flipH="1" flipV="1" rot="10800000">
                    <a:off x="17377560" y="19636200"/>
                    <a:ext cx="1980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8" h="605">
                        <a:moveTo>
                          <a:pt x="0" y="605"/>
                        </a:moveTo>
                        <a:lnTo>
                          <a:pt x="382" y="396"/>
                        </a:lnTo>
                        <a:lnTo>
                          <a:pt x="567" y="0"/>
                        </a:lnTo>
                        <a:lnTo>
                          <a:pt x="568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8" name=""/>
                  <p:cNvSpPr/>
                  <p:nvPr/>
                </p:nvSpPr>
                <p:spPr>
                  <a:xfrm flipH="1" flipV="1" rot="10800000">
                    <a:off x="17397720" y="19567440"/>
                    <a:ext cx="36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925">
                        <a:moveTo>
                          <a:pt x="0" y="1925"/>
                        </a:moveTo>
                        <a:lnTo>
                          <a:pt x="16" y="0"/>
                        </a:lnTo>
                        <a:lnTo>
                          <a:pt x="17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9" name=""/>
                  <p:cNvSpPr/>
                  <p:nvPr/>
                </p:nvSpPr>
                <p:spPr>
                  <a:xfrm flipH="1" flipV="1" rot="10800000">
                    <a:off x="17371800" y="19539000"/>
                    <a:ext cx="2556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745" h="787">
                        <a:moveTo>
                          <a:pt x="745" y="787"/>
                        </a:moveTo>
                        <a:lnTo>
                          <a:pt x="623" y="420"/>
                        </a:lnTo>
                        <a:lnTo>
                          <a:pt x="358" y="14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0" name=""/>
                  <p:cNvSpPr/>
                  <p:nvPr/>
                </p:nvSpPr>
                <p:spPr>
                  <a:xfrm flipH="1" flipV="1" rot="10800000">
                    <a:off x="17302320" y="19536480"/>
                    <a:ext cx="6984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1947" h="77">
                        <a:moveTo>
                          <a:pt x="1947" y="76"/>
                        </a:moveTo>
                        <a:lnTo>
                          <a:pt x="974" y="0"/>
                        </a:lnTo>
                        <a:lnTo>
                          <a:pt x="0" y="77"/>
                        </a:lnTo>
                        <a:lnTo>
                          <a:pt x="1" y="77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1" name=""/>
                  <p:cNvSpPr/>
                  <p:nvPr/>
                </p:nvSpPr>
                <p:spPr>
                  <a:xfrm flipH="1" flipV="1" rot="10800000">
                    <a:off x="17276400" y="19539000"/>
                    <a:ext cx="2592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744" h="788">
                        <a:moveTo>
                          <a:pt x="744" y="0"/>
                        </a:moveTo>
                        <a:lnTo>
                          <a:pt x="386" y="141"/>
                        </a:lnTo>
                        <a:lnTo>
                          <a:pt x="121" y="421"/>
                        </a:lnTo>
                        <a:lnTo>
                          <a:pt x="0" y="788"/>
                        </a:lnTo>
                        <a:lnTo>
                          <a:pt x="1" y="788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2" name=""/>
                  <p:cNvSpPr/>
                  <p:nvPr/>
                </p:nvSpPr>
                <p:spPr>
                  <a:xfrm flipH="1" flipV="1" rot="10800000">
                    <a:off x="17405280" y="19639080"/>
                    <a:ext cx="129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50" h="0">
                        <a:moveTo>
                          <a:pt x="0" y="0"/>
                        </a:moveTo>
                        <a:lnTo>
                          <a:pt x="349" y="0"/>
                        </a:lnTo>
                        <a:lnTo>
                          <a:pt x="350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3" name=""/>
                  <p:cNvSpPr/>
                  <p:nvPr/>
                </p:nvSpPr>
                <p:spPr>
                  <a:xfrm flipH="1" flipV="1" rot="10800000">
                    <a:off x="17256240" y="19639080"/>
                    <a:ext cx="1260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49" h="0">
                        <a:moveTo>
                          <a:pt x="349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4" name=""/>
                  <p:cNvSpPr/>
                  <p:nvPr/>
                </p:nvSpPr>
                <p:spPr>
                  <a:xfrm flipH="1" flipV="1" rot="10800000">
                    <a:off x="17405280" y="19540080"/>
                    <a:ext cx="129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50" h="0">
                        <a:moveTo>
                          <a:pt x="0" y="0"/>
                        </a:moveTo>
                        <a:lnTo>
                          <a:pt x="349" y="0"/>
                        </a:lnTo>
                        <a:lnTo>
                          <a:pt x="350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5" name=""/>
                  <p:cNvSpPr/>
                  <p:nvPr/>
                </p:nvSpPr>
                <p:spPr>
                  <a:xfrm flipH="1" flipV="1" rot="10800000">
                    <a:off x="17324640" y="19531800"/>
                    <a:ext cx="2412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8" h="0">
                        <a:moveTo>
                          <a:pt x="698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6" name=""/>
                  <p:cNvSpPr/>
                  <p:nvPr/>
                </p:nvSpPr>
                <p:spPr>
                  <a:xfrm flipH="1" flipV="1" rot="10800000">
                    <a:off x="17349120" y="19531800"/>
                    <a:ext cx="144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33">
                        <a:moveTo>
                          <a:pt x="0" y="133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7" name=""/>
                  <p:cNvSpPr/>
                  <p:nvPr/>
                </p:nvSpPr>
                <p:spPr>
                  <a:xfrm flipH="1" flipV="1" rot="10800000">
                    <a:off x="17324640" y="19531800"/>
                    <a:ext cx="36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34">
                        <a:moveTo>
                          <a:pt x="0" y="134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8" name=""/>
                  <p:cNvSpPr/>
                  <p:nvPr/>
                </p:nvSpPr>
                <p:spPr>
                  <a:xfrm flipH="1" flipV="1" rot="10800000">
                    <a:off x="17256240" y="19540080"/>
                    <a:ext cx="1260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49" h="0">
                        <a:moveTo>
                          <a:pt x="349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9" name=""/>
                  <p:cNvSpPr/>
                  <p:nvPr/>
                </p:nvSpPr>
                <p:spPr>
                  <a:xfrm flipH="1" flipV="1" rot="10800000">
                    <a:off x="17276400" y="19500480"/>
                    <a:ext cx="12168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3444" h="562">
                        <a:moveTo>
                          <a:pt x="3405" y="560"/>
                        </a:moveTo>
                        <a:lnTo>
                          <a:pt x="3444" y="429"/>
                        </a:lnTo>
                        <a:lnTo>
                          <a:pt x="3366" y="316"/>
                        </a:lnTo>
                        <a:lnTo>
                          <a:pt x="2559" y="78"/>
                        </a:lnTo>
                        <a:lnTo>
                          <a:pt x="1722" y="0"/>
                        </a:lnTo>
                        <a:lnTo>
                          <a:pt x="884" y="79"/>
                        </a:lnTo>
                        <a:lnTo>
                          <a:pt x="78" y="318"/>
                        </a:lnTo>
                        <a:lnTo>
                          <a:pt x="0" y="430"/>
                        </a:lnTo>
                        <a:lnTo>
                          <a:pt x="39" y="562"/>
                        </a:lnTo>
                        <a:lnTo>
                          <a:pt x="40" y="562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0" name=""/>
                  <p:cNvSpPr/>
                  <p:nvPr/>
                </p:nvSpPr>
                <p:spPr>
                  <a:xfrm flipH="1" flipV="1" rot="10800000">
                    <a:off x="17280360" y="19510200"/>
                    <a:ext cx="11268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52" h="740">
                        <a:moveTo>
                          <a:pt x="3152" y="738"/>
                        </a:moveTo>
                        <a:lnTo>
                          <a:pt x="3126" y="512"/>
                        </a:lnTo>
                        <a:lnTo>
                          <a:pt x="2966" y="350"/>
                        </a:lnTo>
                        <a:lnTo>
                          <a:pt x="2290" y="101"/>
                        </a:lnTo>
                        <a:lnTo>
                          <a:pt x="1576" y="0"/>
                        </a:lnTo>
                        <a:lnTo>
                          <a:pt x="862" y="102"/>
                        </a:lnTo>
                        <a:lnTo>
                          <a:pt x="186" y="352"/>
                        </a:lnTo>
                        <a:lnTo>
                          <a:pt x="26" y="514"/>
                        </a:lnTo>
                        <a:lnTo>
                          <a:pt x="0" y="740"/>
                        </a:lnTo>
                        <a:lnTo>
                          <a:pt x="1" y="74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1" name=""/>
                  <p:cNvSpPr/>
                  <p:nvPr/>
                </p:nvSpPr>
                <p:spPr>
                  <a:xfrm flipH="1" flipV="1" rot="10800000">
                    <a:off x="17289000" y="19531800"/>
                    <a:ext cx="3564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023" h="298">
                        <a:moveTo>
                          <a:pt x="1023" y="0"/>
                        </a:moveTo>
                        <a:lnTo>
                          <a:pt x="496" y="98"/>
                        </a:lnTo>
                        <a:lnTo>
                          <a:pt x="0" y="298"/>
                        </a:lnTo>
                        <a:lnTo>
                          <a:pt x="2" y="298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2" name=""/>
                  <p:cNvSpPr/>
                  <p:nvPr/>
                </p:nvSpPr>
                <p:spPr>
                  <a:xfrm flipH="1" flipV="1" rot="10800000">
                    <a:off x="17280360" y="19539000"/>
                    <a:ext cx="828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203" h="97">
                        <a:moveTo>
                          <a:pt x="0" y="0"/>
                        </a:moveTo>
                        <a:lnTo>
                          <a:pt x="78" y="97"/>
                        </a:lnTo>
                        <a:lnTo>
                          <a:pt x="201" y="93"/>
                        </a:lnTo>
                        <a:lnTo>
                          <a:pt x="203" y="93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3" name=""/>
                  <p:cNvSpPr/>
                  <p:nvPr/>
                </p:nvSpPr>
                <p:spPr>
                  <a:xfrm flipH="1" flipV="1" rot="10800000">
                    <a:off x="17276400" y="19521720"/>
                    <a:ext cx="432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496">
                        <a:moveTo>
                          <a:pt x="109" y="496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4" name=""/>
                  <p:cNvSpPr/>
                  <p:nvPr/>
                </p:nvSpPr>
                <p:spPr>
                  <a:xfrm flipH="1" flipV="1" rot="10800000">
                    <a:off x="17276400" y="19514520"/>
                    <a:ext cx="288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160">
                        <a:moveTo>
                          <a:pt x="84" y="0"/>
                        </a:moveTo>
                        <a:lnTo>
                          <a:pt x="13" y="64"/>
                        </a:lnTo>
                        <a:lnTo>
                          <a:pt x="0" y="160"/>
                        </a:lnTo>
                        <a:lnTo>
                          <a:pt x="1" y="16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5" name=""/>
                  <p:cNvSpPr/>
                  <p:nvPr/>
                </p:nvSpPr>
                <p:spPr>
                  <a:xfrm flipH="1" flipV="1" rot="10800000">
                    <a:off x="17395200" y="19514520"/>
                    <a:ext cx="288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159">
                        <a:moveTo>
                          <a:pt x="84" y="159"/>
                        </a:moveTo>
                        <a:lnTo>
                          <a:pt x="71" y="64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6" name=""/>
                  <p:cNvSpPr/>
                  <p:nvPr/>
                </p:nvSpPr>
                <p:spPr>
                  <a:xfrm flipH="1" flipV="1" rot="10800000">
                    <a:off x="17393400" y="19521720"/>
                    <a:ext cx="396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496">
                        <a:moveTo>
                          <a:pt x="109" y="0"/>
                        </a:moveTo>
                        <a:lnTo>
                          <a:pt x="0" y="496"/>
                        </a:lnTo>
                        <a:lnTo>
                          <a:pt x="1" y="496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7" name=""/>
                  <p:cNvSpPr/>
                  <p:nvPr/>
                </p:nvSpPr>
                <p:spPr>
                  <a:xfrm flipH="1" flipV="1" rot="10800000">
                    <a:off x="17385120" y="19539000"/>
                    <a:ext cx="828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202" h="98">
                        <a:moveTo>
                          <a:pt x="0" y="94"/>
                        </a:moveTo>
                        <a:lnTo>
                          <a:pt x="124" y="98"/>
                        </a:lnTo>
                        <a:lnTo>
                          <a:pt x="201" y="0"/>
                        </a:lnTo>
                        <a:lnTo>
                          <a:pt x="202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8" name=""/>
                  <p:cNvSpPr/>
                  <p:nvPr/>
                </p:nvSpPr>
                <p:spPr>
                  <a:xfrm flipH="1" flipV="1" rot="10800000">
                    <a:off x="17349120" y="19531800"/>
                    <a:ext cx="360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021" h="297">
                        <a:moveTo>
                          <a:pt x="1021" y="297"/>
                        </a:moveTo>
                        <a:lnTo>
                          <a:pt x="525" y="97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6633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49" name=""/>
                <p:cNvSpPr/>
                <p:nvPr/>
              </p:nvSpPr>
              <p:spPr>
                <a:xfrm flipH="1" flipV="1" rot="10800000">
                  <a:off x="17232480" y="19689480"/>
                  <a:ext cx="218880" cy="6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50" name=""/>
                <p:cNvGrpSpPr/>
                <p:nvPr/>
              </p:nvGrpSpPr>
              <p:grpSpPr>
                <a:xfrm>
                  <a:off x="17271000" y="19700640"/>
                  <a:ext cx="131400" cy="47880"/>
                  <a:chOff x="17271000" y="19700640"/>
                  <a:chExt cx="131400" cy="47880"/>
                </a:xfrm>
              </p:grpSpPr>
              <p:sp>
                <p:nvSpPr>
                  <p:cNvPr id="3451" name=""/>
                  <p:cNvSpPr/>
                  <p:nvPr/>
                </p:nvSpPr>
                <p:spPr>
                  <a:xfrm flipH="1" flipV="1" rot="10800000">
                    <a:off x="17270640" y="19700280"/>
                    <a:ext cx="131400" cy="47880"/>
                  </a:xfrm>
                  <a:prstGeom prst="rect">
                    <a:avLst/>
                  </a:prstGeom>
                  <a:noFill/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" bIns="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2" name=""/>
                  <p:cNvSpPr/>
                  <p:nvPr/>
                </p:nvSpPr>
                <p:spPr>
                  <a:xfrm flipH="1" flipV="1" rot="10800000">
                    <a:off x="17276400" y="19708560"/>
                    <a:ext cx="15840" cy="32040"/>
                  </a:xfrm>
                  <a:prstGeom prst="rect">
                    <a:avLst/>
                  </a:prstGeom>
                  <a:noFill/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760" bIns="-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3" name=""/>
                  <p:cNvSpPr/>
                  <p:nvPr/>
                </p:nvSpPr>
                <p:spPr>
                  <a:xfrm flipH="1" flipV="1" rot="10800000">
                    <a:off x="17299440" y="19708560"/>
                    <a:ext cx="97200" cy="32040"/>
                  </a:xfrm>
                  <a:prstGeom prst="rect">
                    <a:avLst/>
                  </a:prstGeom>
                  <a:noFill/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760" bIns="-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54" name=""/>
                <p:cNvSpPr/>
                <p:nvPr/>
              </p:nvSpPr>
              <p:spPr>
                <a:xfrm flipH="1" flipV="1" rot="12551400">
                  <a:off x="17213400" y="19790280"/>
                  <a:ext cx="21960" cy="31680"/>
                </a:xfrm>
                <a:prstGeom prst="ellipse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5" name=""/>
                <p:cNvSpPr/>
                <p:nvPr/>
              </p:nvSpPr>
              <p:spPr>
                <a:xfrm flipH="1" flipV="1" rot="10800000">
                  <a:off x="17184960" y="19775880"/>
                  <a:ext cx="67680" cy="6660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56" name=""/>
                <p:cNvGrpSpPr/>
                <p:nvPr/>
              </p:nvGrpSpPr>
              <p:grpSpPr>
                <a:xfrm>
                  <a:off x="17287920" y="19780200"/>
                  <a:ext cx="133200" cy="145800"/>
                  <a:chOff x="17287920" y="19780200"/>
                  <a:chExt cx="133200" cy="145800"/>
                </a:xfrm>
              </p:grpSpPr>
              <p:sp>
                <p:nvSpPr>
                  <p:cNvPr id="3457" name=""/>
                  <p:cNvSpPr/>
                  <p:nvPr/>
                </p:nvSpPr>
                <p:spPr>
                  <a:xfrm flipH="1" flipV="1" rot="10800000">
                    <a:off x="17287920" y="19779840"/>
                    <a:ext cx="133200" cy="14580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458" name=""/>
                  <p:cNvGrpSpPr/>
                  <p:nvPr/>
                </p:nvGrpSpPr>
                <p:grpSpPr>
                  <a:xfrm>
                    <a:off x="17294760" y="19800000"/>
                    <a:ext cx="117000" cy="116280"/>
                    <a:chOff x="17294760" y="19800000"/>
                    <a:chExt cx="117000" cy="116280"/>
                  </a:xfrm>
                </p:grpSpPr>
                <p:sp>
                  <p:nvSpPr>
                    <p:cNvPr id="3459" name=""/>
                    <p:cNvSpPr/>
                    <p:nvPr/>
                  </p:nvSpPr>
                  <p:spPr>
                    <a:xfrm flipH="1" flipV="1" rot="10800000">
                      <a:off x="17325360" y="19897200"/>
                      <a:ext cx="252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35">
                          <a:moveTo>
                            <a:pt x="0" y="35"/>
                          </a:moveTo>
                          <a:lnTo>
                            <a:pt x="5" y="29"/>
                          </a:lnTo>
                          <a:lnTo>
                            <a:pt x="11" y="23"/>
                          </a:lnTo>
                          <a:lnTo>
                            <a:pt x="17" y="17"/>
                          </a:lnTo>
                          <a:lnTo>
                            <a:pt x="22" y="12"/>
                          </a:lnTo>
                          <a:lnTo>
                            <a:pt x="26" y="8"/>
                          </a:lnTo>
                          <a:lnTo>
                            <a:pt x="30" y="5"/>
                          </a:lnTo>
                          <a:lnTo>
                            <a:pt x="32" y="2"/>
                          </a:lnTo>
                          <a:lnTo>
                            <a:pt x="34" y="1"/>
                          </a:lnTo>
                          <a:lnTo>
                            <a:pt x="34" y="0"/>
                          </a:lnTo>
                          <a:lnTo>
                            <a:pt x="3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60" name=""/>
                    <p:cNvSpPr/>
                    <p:nvPr/>
                  </p:nvSpPr>
                  <p:spPr>
                    <a:xfrm flipH="1" flipV="1" rot="10800000">
                      <a:off x="17325360" y="19897200"/>
                      <a:ext cx="252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35">
                          <a:moveTo>
                            <a:pt x="0" y="35"/>
                          </a:moveTo>
                          <a:lnTo>
                            <a:pt x="5" y="29"/>
                          </a:lnTo>
                          <a:lnTo>
                            <a:pt x="11" y="23"/>
                          </a:lnTo>
                          <a:lnTo>
                            <a:pt x="17" y="17"/>
                          </a:lnTo>
                          <a:lnTo>
                            <a:pt x="22" y="12"/>
                          </a:lnTo>
                          <a:lnTo>
                            <a:pt x="26" y="8"/>
                          </a:lnTo>
                          <a:lnTo>
                            <a:pt x="30" y="5"/>
                          </a:lnTo>
                          <a:lnTo>
                            <a:pt x="32" y="2"/>
                          </a:lnTo>
                          <a:lnTo>
                            <a:pt x="34" y="1"/>
                          </a:lnTo>
                          <a:lnTo>
                            <a:pt x="34" y="0"/>
                          </a:lnTo>
                          <a:lnTo>
                            <a:pt x="3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6633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61" name=""/>
                    <p:cNvSpPr/>
                    <p:nvPr/>
                  </p:nvSpPr>
                  <p:spPr>
                    <a:xfrm flipH="1" flipV="1" rot="10800000">
                      <a:off x="17294400" y="19799640"/>
                      <a:ext cx="117000" cy="49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520" bIns="2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62" name=""/>
                    <p:cNvSpPr/>
                    <p:nvPr/>
                  </p:nvSpPr>
                  <p:spPr>
                    <a:xfrm flipH="1" flipV="1" rot="10800000">
                      <a:off x="17303400" y="19850760"/>
                      <a:ext cx="100800" cy="65160"/>
                    </a:xfrm>
                    <a:custGeom>
                      <a:avLst/>
                      <a:gdLst>
                        <a:gd name="textAreaLeft" fmla="*/ 21960 w 100800"/>
                        <a:gd name="textAreaRight" fmla="*/ 78840 w 100800"/>
                        <a:gd name="textAreaTop" fmla="*/ 14400 h 65160"/>
                        <a:gd name="textAreaBottom" fmla="*/ 50760 h 651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16200" y="21600"/>
                          </a:lnTo>
                          <a:lnTo>
                            <a:pt x="5400" y="2160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440" bIns="-10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3463" name=""/>
              <p:cNvGrpSpPr/>
              <p:nvPr/>
            </p:nvGrpSpPr>
            <p:grpSpPr>
              <a:xfrm>
                <a:off x="19830960" y="19031040"/>
                <a:ext cx="612000" cy="630360"/>
                <a:chOff x="19830960" y="19031040"/>
                <a:chExt cx="612000" cy="630360"/>
              </a:xfrm>
            </p:grpSpPr>
            <p:sp>
              <p:nvSpPr>
                <p:cNvPr id="3464" name=""/>
                <p:cNvSpPr/>
                <p:nvPr/>
              </p:nvSpPr>
              <p:spPr>
                <a:xfrm flipH="1">
                  <a:off x="19830960" y="19049760"/>
                  <a:ext cx="612000" cy="611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5" name=""/>
                <p:cNvSpPr/>
                <p:nvPr/>
              </p:nvSpPr>
              <p:spPr>
                <a:xfrm flipV="1">
                  <a:off x="20154960" y="19031040"/>
                  <a:ext cx="0" cy="34272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66" name=""/>
              <p:cNvGrpSpPr/>
              <p:nvPr/>
            </p:nvGrpSpPr>
            <p:grpSpPr>
              <a:xfrm>
                <a:off x="18288000" y="18249480"/>
                <a:ext cx="612000" cy="630720"/>
                <a:chOff x="18288000" y="18249480"/>
                <a:chExt cx="612000" cy="630720"/>
              </a:xfrm>
            </p:grpSpPr>
            <p:sp>
              <p:nvSpPr>
                <p:cNvPr id="3467" name=""/>
                <p:cNvSpPr/>
                <p:nvPr/>
              </p:nvSpPr>
              <p:spPr>
                <a:xfrm flipH="1">
                  <a:off x="18288000" y="18267840"/>
                  <a:ext cx="612000" cy="612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8" name=""/>
                <p:cNvSpPr/>
                <p:nvPr/>
              </p:nvSpPr>
              <p:spPr>
                <a:xfrm flipV="1">
                  <a:off x="18612000" y="18249480"/>
                  <a:ext cx="0" cy="34308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69" name=""/>
              <p:cNvSpPr/>
              <p:nvPr/>
            </p:nvSpPr>
            <p:spPr>
              <a:xfrm rot="16200000">
                <a:off x="17328960" y="20100240"/>
                <a:ext cx="252360" cy="503280"/>
              </a:xfrm>
              <a:prstGeom prst="rect">
                <a:avLst/>
              </a:prstGeom>
              <a:blipFill rotWithShape="0">
                <a:blip r:embed="rId2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0" name=""/>
              <p:cNvSpPr/>
              <p:nvPr/>
            </p:nvSpPr>
            <p:spPr>
              <a:xfrm>
                <a:off x="18440280" y="18954720"/>
                <a:ext cx="179640" cy="36036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71" name=""/>
              <p:cNvGrpSpPr/>
              <p:nvPr/>
            </p:nvGrpSpPr>
            <p:grpSpPr>
              <a:xfrm>
                <a:off x="16524360" y="17364240"/>
                <a:ext cx="541440" cy="360360"/>
                <a:chOff x="16524360" y="17364240"/>
                <a:chExt cx="541440" cy="360360"/>
              </a:xfrm>
            </p:grpSpPr>
            <p:sp>
              <p:nvSpPr>
                <p:cNvPr id="3472" name=""/>
                <p:cNvSpPr/>
                <p:nvPr/>
              </p:nvSpPr>
              <p:spPr>
                <a:xfrm flipH="1">
                  <a:off x="16778520" y="17364240"/>
                  <a:ext cx="287280" cy="3603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3" name=""/>
                <p:cNvSpPr/>
                <p:nvPr/>
              </p:nvSpPr>
              <p:spPr>
                <a:xfrm flipH="1">
                  <a:off x="16524000" y="17446680"/>
                  <a:ext cx="179640" cy="1796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4" name=""/>
                <p:cNvSpPr/>
                <p:nvPr/>
              </p:nvSpPr>
              <p:spPr>
                <a:xfrm flipH="1" rot="16200000">
                  <a:off x="16868880" y="17453160"/>
                  <a:ext cx="196920" cy="152280"/>
                </a:xfrm>
                <a:custGeom>
                  <a:avLst/>
                  <a:gdLst>
                    <a:gd name="textAreaLeft" fmla="*/ 43200 w 196920"/>
                    <a:gd name="textAreaRight" fmla="*/ 153720 w 196920"/>
                    <a:gd name="textAreaTop" fmla="*/ 33480 h 152280"/>
                    <a:gd name="textAreaBottom" fmla="*/ 118800 h 152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75" name=""/>
              <p:cNvGrpSpPr/>
              <p:nvPr/>
            </p:nvGrpSpPr>
            <p:grpSpPr>
              <a:xfrm>
                <a:off x="16552800" y="17735400"/>
                <a:ext cx="541440" cy="360360"/>
                <a:chOff x="16552800" y="17735400"/>
                <a:chExt cx="541440" cy="360360"/>
              </a:xfrm>
            </p:grpSpPr>
            <p:sp>
              <p:nvSpPr>
                <p:cNvPr id="3476" name=""/>
                <p:cNvSpPr/>
                <p:nvPr/>
              </p:nvSpPr>
              <p:spPr>
                <a:xfrm flipH="1">
                  <a:off x="16806960" y="17735400"/>
                  <a:ext cx="287280" cy="3603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7" name=""/>
                <p:cNvSpPr/>
                <p:nvPr/>
              </p:nvSpPr>
              <p:spPr>
                <a:xfrm flipH="1">
                  <a:off x="16552440" y="17817840"/>
                  <a:ext cx="179640" cy="1796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8" name=""/>
                <p:cNvSpPr/>
                <p:nvPr/>
              </p:nvSpPr>
              <p:spPr>
                <a:xfrm flipH="1" rot="16200000">
                  <a:off x="16897320" y="17824320"/>
                  <a:ext cx="196920" cy="152280"/>
                </a:xfrm>
                <a:custGeom>
                  <a:avLst/>
                  <a:gdLst>
                    <a:gd name="textAreaLeft" fmla="*/ 43200 w 196920"/>
                    <a:gd name="textAreaRight" fmla="*/ 153720 w 196920"/>
                    <a:gd name="textAreaTop" fmla="*/ 33480 h 152280"/>
                    <a:gd name="textAreaBottom" fmla="*/ 118800 h 152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79" name=""/>
              <p:cNvGrpSpPr/>
              <p:nvPr/>
            </p:nvGrpSpPr>
            <p:grpSpPr>
              <a:xfrm>
                <a:off x="16562520" y="18116640"/>
                <a:ext cx="540720" cy="360360"/>
                <a:chOff x="16562520" y="18116640"/>
                <a:chExt cx="540720" cy="360360"/>
              </a:xfrm>
            </p:grpSpPr>
            <p:sp>
              <p:nvSpPr>
                <p:cNvPr id="3480" name=""/>
                <p:cNvSpPr/>
                <p:nvPr/>
              </p:nvSpPr>
              <p:spPr>
                <a:xfrm flipH="1">
                  <a:off x="16815960" y="18116640"/>
                  <a:ext cx="286920" cy="3603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1" name=""/>
                <p:cNvSpPr/>
                <p:nvPr/>
              </p:nvSpPr>
              <p:spPr>
                <a:xfrm flipH="1">
                  <a:off x="16562520" y="18199080"/>
                  <a:ext cx="179280" cy="1796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2" name=""/>
                <p:cNvSpPr/>
                <p:nvPr/>
              </p:nvSpPr>
              <p:spPr>
                <a:xfrm flipH="1" rot="16200000">
                  <a:off x="16906680" y="18205560"/>
                  <a:ext cx="196920" cy="151920"/>
                </a:xfrm>
                <a:custGeom>
                  <a:avLst/>
                  <a:gdLst>
                    <a:gd name="textAreaLeft" fmla="*/ 43200 w 196920"/>
                    <a:gd name="textAreaRight" fmla="*/ 153720 w 196920"/>
                    <a:gd name="textAreaTop" fmla="*/ 33480 h 151920"/>
                    <a:gd name="textAreaBottom" fmla="*/ 118440 h 151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160" bIns="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83" name=""/>
              <p:cNvGrpSpPr/>
              <p:nvPr/>
            </p:nvGrpSpPr>
            <p:grpSpPr>
              <a:xfrm>
                <a:off x="15624000" y="17378280"/>
                <a:ext cx="541440" cy="360360"/>
                <a:chOff x="15624000" y="17378280"/>
                <a:chExt cx="541440" cy="360360"/>
              </a:xfrm>
            </p:grpSpPr>
            <p:sp>
              <p:nvSpPr>
                <p:cNvPr id="3484" name=""/>
                <p:cNvSpPr/>
                <p:nvPr/>
              </p:nvSpPr>
              <p:spPr>
                <a:xfrm>
                  <a:off x="15624000" y="17378280"/>
                  <a:ext cx="287280" cy="3603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5" name=""/>
                <p:cNvSpPr/>
                <p:nvPr/>
              </p:nvSpPr>
              <p:spPr>
                <a:xfrm>
                  <a:off x="15985800" y="17460720"/>
                  <a:ext cx="179640" cy="1796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6" name=""/>
                <p:cNvSpPr/>
                <p:nvPr/>
              </p:nvSpPr>
              <p:spPr>
                <a:xfrm rot="5400000">
                  <a:off x="15623640" y="17467200"/>
                  <a:ext cx="196920" cy="152280"/>
                </a:xfrm>
                <a:custGeom>
                  <a:avLst/>
                  <a:gdLst>
                    <a:gd name="textAreaLeft" fmla="*/ 43200 w 196920"/>
                    <a:gd name="textAreaRight" fmla="*/ 153720 w 196920"/>
                    <a:gd name="textAreaTop" fmla="*/ 33480 h 152280"/>
                    <a:gd name="textAreaBottom" fmla="*/ 118800 h 152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87" name=""/>
              <p:cNvGrpSpPr/>
              <p:nvPr/>
            </p:nvGrpSpPr>
            <p:grpSpPr>
              <a:xfrm>
                <a:off x="15624000" y="17710200"/>
                <a:ext cx="541440" cy="360360"/>
                <a:chOff x="15624000" y="17710200"/>
                <a:chExt cx="541440" cy="360360"/>
              </a:xfrm>
            </p:grpSpPr>
            <p:sp>
              <p:nvSpPr>
                <p:cNvPr id="3488" name=""/>
                <p:cNvSpPr/>
                <p:nvPr/>
              </p:nvSpPr>
              <p:spPr>
                <a:xfrm>
                  <a:off x="15624000" y="17710200"/>
                  <a:ext cx="287280" cy="3603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9" name=""/>
                <p:cNvSpPr/>
                <p:nvPr/>
              </p:nvSpPr>
              <p:spPr>
                <a:xfrm>
                  <a:off x="15985800" y="17792640"/>
                  <a:ext cx="179640" cy="1796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0" name=""/>
                <p:cNvSpPr/>
                <p:nvPr/>
              </p:nvSpPr>
              <p:spPr>
                <a:xfrm rot="5400000">
                  <a:off x="15623640" y="17799120"/>
                  <a:ext cx="196920" cy="152280"/>
                </a:xfrm>
                <a:custGeom>
                  <a:avLst/>
                  <a:gdLst>
                    <a:gd name="textAreaLeft" fmla="*/ 43200 w 196920"/>
                    <a:gd name="textAreaRight" fmla="*/ 153720 w 196920"/>
                    <a:gd name="textAreaTop" fmla="*/ 33480 h 152280"/>
                    <a:gd name="textAreaBottom" fmla="*/ 118800 h 152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91" name=""/>
              <p:cNvGrpSpPr/>
              <p:nvPr/>
            </p:nvGrpSpPr>
            <p:grpSpPr>
              <a:xfrm>
                <a:off x="15629040" y="18089640"/>
                <a:ext cx="540720" cy="360360"/>
                <a:chOff x="15629040" y="18089640"/>
                <a:chExt cx="540720" cy="360360"/>
              </a:xfrm>
            </p:grpSpPr>
            <p:sp>
              <p:nvSpPr>
                <p:cNvPr id="3492" name=""/>
                <p:cNvSpPr/>
                <p:nvPr/>
              </p:nvSpPr>
              <p:spPr>
                <a:xfrm>
                  <a:off x="15629040" y="18089640"/>
                  <a:ext cx="286920" cy="3603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3" name=""/>
                <p:cNvSpPr/>
                <p:nvPr/>
              </p:nvSpPr>
              <p:spPr>
                <a:xfrm>
                  <a:off x="15990480" y="18172080"/>
                  <a:ext cx="179280" cy="1796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4" name=""/>
                <p:cNvSpPr/>
                <p:nvPr/>
              </p:nvSpPr>
              <p:spPr>
                <a:xfrm rot="5400000">
                  <a:off x="15628320" y="18178560"/>
                  <a:ext cx="196920" cy="151920"/>
                </a:xfrm>
                <a:custGeom>
                  <a:avLst/>
                  <a:gdLst>
                    <a:gd name="textAreaLeft" fmla="*/ 43200 w 196920"/>
                    <a:gd name="textAreaRight" fmla="*/ 153720 w 196920"/>
                    <a:gd name="textAreaTop" fmla="*/ 33480 h 151920"/>
                    <a:gd name="textAreaBottom" fmla="*/ 118440 h 151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160" bIns="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95" name=""/>
              <p:cNvSpPr/>
              <p:nvPr/>
            </p:nvSpPr>
            <p:spPr>
              <a:xfrm flipV="1">
                <a:off x="15183000" y="18478440"/>
                <a:ext cx="0" cy="20383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6" name=""/>
              <p:cNvSpPr/>
              <p:nvPr/>
            </p:nvSpPr>
            <p:spPr>
              <a:xfrm flipH="1">
                <a:off x="15220440" y="18478440"/>
                <a:ext cx="38124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97" name=""/>
              <p:cNvGrpSpPr/>
              <p:nvPr/>
            </p:nvGrpSpPr>
            <p:grpSpPr>
              <a:xfrm>
                <a:off x="15340680" y="18505440"/>
                <a:ext cx="559800" cy="580320"/>
                <a:chOff x="15340680" y="18505440"/>
                <a:chExt cx="559800" cy="580320"/>
              </a:xfrm>
            </p:grpSpPr>
            <p:sp>
              <p:nvSpPr>
                <p:cNvPr id="3498" name=""/>
                <p:cNvSpPr/>
                <p:nvPr/>
              </p:nvSpPr>
              <p:spPr>
                <a:xfrm flipH="1" rot="5400000">
                  <a:off x="15322680" y="18522720"/>
                  <a:ext cx="580320" cy="545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9" name=""/>
                <p:cNvSpPr/>
                <p:nvPr/>
              </p:nvSpPr>
              <p:spPr>
                <a:xfrm>
                  <a:off x="15594120" y="18792720"/>
                  <a:ext cx="306360" cy="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00" name=""/>
              <p:cNvSpPr/>
              <p:nvPr/>
            </p:nvSpPr>
            <p:spPr>
              <a:xfrm>
                <a:off x="15837120" y="18405360"/>
                <a:ext cx="76608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CRITICA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E EXAM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1" name=""/>
              <p:cNvSpPr/>
              <p:nvPr/>
            </p:nvSpPr>
            <p:spPr>
              <a:xfrm rot="16200000">
                <a:off x="16744680" y="18535320"/>
                <a:ext cx="179640" cy="36036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2" name=""/>
              <p:cNvSpPr/>
              <p:nvPr/>
            </p:nvSpPr>
            <p:spPr>
              <a:xfrm>
                <a:off x="15373440" y="18116640"/>
                <a:ext cx="179280" cy="36036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3" name=""/>
              <p:cNvSpPr/>
              <p:nvPr/>
            </p:nvSpPr>
            <p:spPr>
              <a:xfrm flipH="1">
                <a:off x="13169520" y="17037000"/>
                <a:ext cx="345960" cy="73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4T10:02:16Z</dcterms:created>
  <dc:creator>ibge</dc:creator>
  <dc:description/>
  <dc:language>en-US</dc:language>
  <cp:lastModifiedBy>ibge</cp:lastModifiedBy>
  <dcterms:modified xsi:type="dcterms:W3CDTF">1999-12-08T12:02:37Z</dcterms:modified>
  <cp:revision>27</cp:revision>
  <dc:subject/>
  <dc:title>Slide sem título </dc:title>
</cp:coreProperties>
</file>