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81588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0B2-B12F-48FB-BD32-28569F8B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6536880"/>
            <a:ext cx="2590812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5640" y="13629600"/>
            <a:ext cx="2590812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7E1-3FF7-424D-A0E0-0D6ADF09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5640" y="6536880"/>
            <a:ext cx="1264284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1000" y="6536880"/>
            <a:ext cx="1264284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5640" y="13629600"/>
            <a:ext cx="1264284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1000" y="13629600"/>
            <a:ext cx="1264284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806-315F-4712-BD99-85DE0103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5640" y="6536880"/>
            <a:ext cx="834228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5520" y="6536880"/>
            <a:ext cx="834228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5040" y="6536880"/>
            <a:ext cx="834228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5640" y="13629600"/>
            <a:ext cx="834228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5520" y="13629600"/>
            <a:ext cx="834228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5040" y="13629600"/>
            <a:ext cx="834228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8BF-B014-4927-8858-679EAA89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5640" y="6536880"/>
            <a:ext cx="25908120" cy="135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637-308D-49BB-8DC8-19C49495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5640" y="6536880"/>
            <a:ext cx="25908120" cy="1357956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B081-D2A5-4B20-B1E0-7E1E7FE1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5640" y="6536880"/>
            <a:ext cx="12642840" cy="1357956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1000" y="6536880"/>
            <a:ext cx="12642840" cy="1357956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0D6B-1EBE-4807-AB96-3F3386B5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94AD-281A-4BD2-8B29-030F1B16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5640" y="2011320"/>
            <a:ext cx="25908120" cy="174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CBA1-D22B-4D6C-90D8-B177D498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5640" y="6536880"/>
            <a:ext cx="1264284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1000" y="6536880"/>
            <a:ext cx="12642840" cy="1357956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5640" y="13629600"/>
            <a:ext cx="1264284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5375-0118-4386-81A0-D9EAF201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6536880"/>
            <a:ext cx="12642840" cy="1357956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1000" y="6536880"/>
            <a:ext cx="1264284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1000" y="13629600"/>
            <a:ext cx="1264284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E88-0DA5-4F3A-95DD-800AA9A2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6536880"/>
            <a:ext cx="1264284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1000" y="6536880"/>
            <a:ext cx="1264284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5640" y="13629600"/>
            <a:ext cx="25908120" cy="647712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3035160"/>
                <a:tab algn="l" pos="6070680"/>
                <a:tab algn="l" pos="910584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C83C-71E6-449B-97A2-42A1E768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5640" y="2011320"/>
            <a:ext cx="25908120" cy="377208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ctr">
            <a:noAutofit/>
          </a:bodyPr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5640" y="6536880"/>
            <a:ext cx="25908120" cy="1357956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rmAutofit fontScale="99000"/>
          </a:bodyPr>
          <a:p>
            <a:pPr marL="1126800" indent="-1126800">
              <a:spcBef>
                <a:spcPts val="2650"/>
              </a:spcBef>
              <a:buClr>
                <a:srgbClr val="000000"/>
              </a:buClr>
              <a:buFont typeface="Times New Roman"/>
              <a:buChar char="•"/>
              <a:tabLst>
                <a:tab algn="l" pos="3035160"/>
                <a:tab algn="l" pos="6070680"/>
                <a:tab algn="l" pos="910584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lvl="1" marL="2440440" indent="-937800">
              <a:spcBef>
                <a:spcPts val="2650"/>
              </a:spcBef>
              <a:buClr>
                <a:srgbClr val="000000"/>
              </a:buClr>
              <a:buFont typeface="Times New Roman"/>
              <a:buChar char="–"/>
              <a:tabLst>
                <a:tab algn="l" pos="3035160"/>
                <a:tab algn="l" pos="6070680"/>
                <a:tab algn="l" pos="910584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lvl="2" marL="3755880" indent="-750960">
              <a:spcBef>
                <a:spcPts val="2650"/>
              </a:spcBef>
              <a:buClr>
                <a:srgbClr val="000000"/>
              </a:buClr>
              <a:buFont typeface="Times New Roman"/>
              <a:buChar char="•"/>
              <a:tabLst>
                <a:tab algn="l" pos="3035160"/>
                <a:tab algn="l" pos="6070680"/>
                <a:tab algn="l" pos="910584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lvl="3" marL="5258520" indent="-750960">
              <a:spcBef>
                <a:spcPts val="2650"/>
              </a:spcBef>
              <a:buClr>
                <a:srgbClr val="000000"/>
              </a:buClr>
              <a:buFont typeface="Times New Roman"/>
              <a:buChar char="–"/>
              <a:tabLst>
                <a:tab algn="l" pos="3035160"/>
                <a:tab algn="l" pos="6070680"/>
                <a:tab algn="l" pos="910584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lvl="4" marL="6759360" indent="-750960">
              <a:spcBef>
                <a:spcPts val="2650"/>
              </a:spcBef>
              <a:buClr>
                <a:srgbClr val="000000"/>
              </a:buClr>
              <a:buFont typeface="Times New Roman"/>
              <a:buChar char="»"/>
              <a:tabLst>
                <a:tab algn="l" pos="3035160"/>
                <a:tab algn="l" pos="6070680"/>
                <a:tab algn="l" pos="910584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lvl="5" marL="6759360" indent="-750960">
              <a:spcBef>
                <a:spcPts val="2650"/>
              </a:spcBef>
              <a:buClr>
                <a:srgbClr val="000000"/>
              </a:buClr>
              <a:buFont typeface="Times New Roman"/>
              <a:buChar char="»"/>
              <a:tabLst>
                <a:tab algn="l" pos="3035160"/>
                <a:tab algn="l" pos="6070680"/>
                <a:tab algn="l" pos="910584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lvl="6" marL="6759360" indent="-750960">
              <a:spcBef>
                <a:spcPts val="2650"/>
              </a:spcBef>
              <a:buClr>
                <a:srgbClr val="000000"/>
              </a:buClr>
              <a:buFont typeface="Times New Roman"/>
              <a:buChar char="»"/>
              <a:tabLst>
                <a:tab algn="l" pos="3035160"/>
                <a:tab algn="l" pos="6070680"/>
                <a:tab algn="l" pos="910584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5640" y="20619720"/>
            <a:ext cx="6350040" cy="150804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Autofit/>
          </a:bodyPr>
          <a:lstStyle>
            <a:lvl1pPr indent="0">
              <a:buNone/>
              <a:tabLst>
                <a:tab algn="l" pos="0"/>
                <a:tab algn="l" pos="3035160"/>
                <a:tab algn="l" pos="6070680"/>
                <a:tab algn="l" pos="9105840"/>
              </a:tabLst>
              <a:defRPr b="0" lang="en-US" sz="4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3720" y="20619720"/>
            <a:ext cx="9651960" cy="150804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Autofit/>
          </a:bodyPr>
          <a:lstStyle>
            <a:lvl1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  <a:defRPr b="0" lang="en-US" sz="4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3720" y="20619720"/>
            <a:ext cx="6350040" cy="1508040"/>
          </a:xfrm>
          <a:prstGeom prst="rect">
            <a:avLst/>
          </a:prstGeom>
          <a:noFill/>
          <a:ln w="0">
            <a:noFill/>
          </a:ln>
        </p:spPr>
        <p:txBody>
          <a:bodyPr lIns="303480" rIns="303480" tIns="151920" bIns="151920" anchor="t">
            <a:noAutofit/>
          </a:bodyPr>
          <a:lstStyle>
            <a:lvl1pPr indent="0" algn="r">
              <a:buNone/>
              <a:tabLst>
                <a:tab algn="l" pos="0"/>
                <a:tab algn="l" pos="3035160"/>
                <a:tab algn="l" pos="6070680"/>
                <a:tab algn="l" pos="9105840"/>
              </a:tabLst>
              <a:defRPr b="0" lang="en-US" sz="4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35160"/>
                <a:tab algn="l" pos="6070680"/>
                <a:tab algn="l" pos="9105840"/>
              </a:tabLst>
            </a:pPr>
            <a:fld id="{98D65381-B337-40CC-915A-2BBF88AABE29}" type="slidenum"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52560" y="614520"/>
            <a:ext cx="28791000" cy="21377160"/>
            <a:chOff x="952560" y="614520"/>
            <a:chExt cx="28791000" cy="21377160"/>
          </a:xfrm>
        </p:grpSpPr>
        <p:sp>
          <p:nvSpPr>
            <p:cNvPr id="42" name=""/>
            <p:cNvSpPr/>
            <p:nvPr/>
          </p:nvSpPr>
          <p:spPr>
            <a:xfrm>
              <a:off x="23099760" y="20610360"/>
              <a:ext cx="209880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266440" y="21250440"/>
              <a:ext cx="68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Escala: 1/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5169760" y="20274120"/>
              <a:ext cx="283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DIFRA-SE.3  - Serviço  de  Engenha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23207760" y="20443680"/>
              <a:ext cx="74268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902920" y="20799360"/>
              <a:ext cx="66600" cy="85680"/>
            </a:xfrm>
            <a:custGeom>
              <a:avLst/>
              <a:gdLst/>
              <a:ahLst/>
              <a:rect l="l" t="t" r="r" b="b"/>
              <a:pathLst>
                <a:path w="113" h="148">
                  <a:moveTo>
                    <a:pt x="39" y="4"/>
                  </a:moveTo>
                  <a:lnTo>
                    <a:pt x="40" y="2"/>
                  </a:lnTo>
                  <a:lnTo>
                    <a:pt x="40" y="0"/>
                  </a:lnTo>
                  <a:lnTo>
                    <a:pt x="77" y="0"/>
                  </a:lnTo>
                  <a:lnTo>
                    <a:pt x="113" y="0"/>
                  </a:lnTo>
                  <a:lnTo>
                    <a:pt x="113" y="2"/>
                  </a:lnTo>
                  <a:lnTo>
                    <a:pt x="111" y="4"/>
                  </a:lnTo>
                  <a:lnTo>
                    <a:pt x="103" y="5"/>
                  </a:lnTo>
                  <a:lnTo>
                    <a:pt x="97" y="8"/>
                  </a:lnTo>
                  <a:lnTo>
                    <a:pt x="92" y="15"/>
                  </a:lnTo>
                  <a:lnTo>
                    <a:pt x="91" y="20"/>
                  </a:lnTo>
                  <a:lnTo>
                    <a:pt x="88" y="27"/>
                  </a:lnTo>
                  <a:lnTo>
                    <a:pt x="74" y="74"/>
                  </a:lnTo>
                  <a:lnTo>
                    <a:pt x="60" y="121"/>
                  </a:lnTo>
                  <a:lnTo>
                    <a:pt x="58" y="129"/>
                  </a:lnTo>
                  <a:lnTo>
                    <a:pt x="57" y="134"/>
                  </a:lnTo>
                  <a:lnTo>
                    <a:pt x="58" y="138"/>
                  </a:lnTo>
                  <a:lnTo>
                    <a:pt x="60" y="141"/>
                  </a:lnTo>
                  <a:lnTo>
                    <a:pt x="65" y="142"/>
                  </a:lnTo>
                  <a:lnTo>
                    <a:pt x="76" y="144"/>
                  </a:lnTo>
                  <a:lnTo>
                    <a:pt x="74" y="147"/>
                  </a:lnTo>
                  <a:lnTo>
                    <a:pt x="74" y="148"/>
                  </a:lnTo>
                  <a:lnTo>
                    <a:pt x="37" y="148"/>
                  </a:lnTo>
                  <a:lnTo>
                    <a:pt x="0" y="148"/>
                  </a:lnTo>
                  <a:lnTo>
                    <a:pt x="2" y="147"/>
                  </a:lnTo>
                  <a:lnTo>
                    <a:pt x="2" y="144"/>
                  </a:lnTo>
                  <a:lnTo>
                    <a:pt x="11" y="142"/>
                  </a:lnTo>
                  <a:lnTo>
                    <a:pt x="18" y="139"/>
                  </a:lnTo>
                  <a:lnTo>
                    <a:pt x="22" y="132"/>
                  </a:lnTo>
                  <a:lnTo>
                    <a:pt x="25" y="128"/>
                  </a:lnTo>
                  <a:lnTo>
                    <a:pt x="27" y="121"/>
                  </a:lnTo>
                  <a:lnTo>
                    <a:pt x="42" y="74"/>
                  </a:lnTo>
                  <a:lnTo>
                    <a:pt x="55" y="27"/>
                  </a:lnTo>
                  <a:lnTo>
                    <a:pt x="57" y="20"/>
                  </a:lnTo>
                  <a:lnTo>
                    <a:pt x="57" y="14"/>
                  </a:lnTo>
                  <a:lnTo>
                    <a:pt x="57" y="10"/>
                  </a:lnTo>
                  <a:lnTo>
                    <a:pt x="54" y="7"/>
                  </a:lnTo>
                  <a:lnTo>
                    <a:pt x="49" y="5"/>
                  </a:lnTo>
                  <a:lnTo>
                    <a:pt x="45" y="5"/>
                  </a:lnTo>
                  <a:lnTo>
                    <a:pt x="39" y="4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955480" y="20799360"/>
              <a:ext cx="90360" cy="85680"/>
            </a:xfrm>
            <a:custGeom>
              <a:avLst/>
              <a:gdLst/>
              <a:ahLst/>
              <a:rect l="l" t="t" r="r" b="b"/>
              <a:pathLst>
                <a:path w="152" h="148">
                  <a:moveTo>
                    <a:pt x="42" y="0"/>
                  </a:moveTo>
                  <a:lnTo>
                    <a:pt x="100" y="0"/>
                  </a:lnTo>
                  <a:lnTo>
                    <a:pt x="109" y="0"/>
                  </a:lnTo>
                  <a:lnTo>
                    <a:pt x="118" y="1"/>
                  </a:lnTo>
                  <a:lnTo>
                    <a:pt x="123" y="1"/>
                  </a:lnTo>
                  <a:lnTo>
                    <a:pt x="128" y="2"/>
                  </a:lnTo>
                  <a:lnTo>
                    <a:pt x="138" y="5"/>
                  </a:lnTo>
                  <a:lnTo>
                    <a:pt x="146" y="12"/>
                  </a:lnTo>
                  <a:lnTo>
                    <a:pt x="150" y="20"/>
                  </a:lnTo>
                  <a:lnTo>
                    <a:pt x="152" y="30"/>
                  </a:lnTo>
                  <a:lnTo>
                    <a:pt x="150" y="38"/>
                  </a:lnTo>
                  <a:lnTo>
                    <a:pt x="147" y="45"/>
                  </a:lnTo>
                  <a:lnTo>
                    <a:pt x="141" y="52"/>
                  </a:lnTo>
                  <a:lnTo>
                    <a:pt x="132" y="58"/>
                  </a:lnTo>
                  <a:lnTo>
                    <a:pt x="126" y="61"/>
                  </a:lnTo>
                  <a:lnTo>
                    <a:pt x="120" y="64"/>
                  </a:lnTo>
                  <a:lnTo>
                    <a:pt x="103" y="68"/>
                  </a:lnTo>
                  <a:lnTo>
                    <a:pt x="120" y="75"/>
                  </a:lnTo>
                  <a:lnTo>
                    <a:pt x="126" y="80"/>
                  </a:lnTo>
                  <a:lnTo>
                    <a:pt x="132" y="84"/>
                  </a:lnTo>
                  <a:lnTo>
                    <a:pt x="138" y="94"/>
                  </a:lnTo>
                  <a:lnTo>
                    <a:pt x="140" y="104"/>
                  </a:lnTo>
                  <a:lnTo>
                    <a:pt x="138" y="115"/>
                  </a:lnTo>
                  <a:lnTo>
                    <a:pt x="132" y="127"/>
                  </a:lnTo>
                  <a:lnTo>
                    <a:pt x="122" y="137"/>
                  </a:lnTo>
                  <a:lnTo>
                    <a:pt x="110" y="142"/>
                  </a:lnTo>
                  <a:lnTo>
                    <a:pt x="103" y="145"/>
                  </a:lnTo>
                  <a:lnTo>
                    <a:pt x="92" y="147"/>
                  </a:lnTo>
                  <a:lnTo>
                    <a:pt x="79" y="148"/>
                  </a:lnTo>
                  <a:lnTo>
                    <a:pt x="63" y="148"/>
                  </a:lnTo>
                  <a:lnTo>
                    <a:pt x="0" y="148"/>
                  </a:lnTo>
                  <a:lnTo>
                    <a:pt x="2" y="147"/>
                  </a:lnTo>
                  <a:lnTo>
                    <a:pt x="2" y="144"/>
                  </a:lnTo>
                  <a:lnTo>
                    <a:pt x="9" y="144"/>
                  </a:lnTo>
                  <a:lnTo>
                    <a:pt x="15" y="142"/>
                  </a:lnTo>
                  <a:lnTo>
                    <a:pt x="18" y="139"/>
                  </a:lnTo>
                  <a:lnTo>
                    <a:pt x="21" y="137"/>
                  </a:lnTo>
                  <a:lnTo>
                    <a:pt x="24" y="131"/>
                  </a:lnTo>
                  <a:lnTo>
                    <a:pt x="27" y="122"/>
                  </a:lnTo>
                  <a:lnTo>
                    <a:pt x="54" y="32"/>
                  </a:lnTo>
                  <a:lnTo>
                    <a:pt x="55" y="25"/>
                  </a:lnTo>
                  <a:lnTo>
                    <a:pt x="57" y="21"/>
                  </a:lnTo>
                  <a:lnTo>
                    <a:pt x="58" y="14"/>
                  </a:lnTo>
                  <a:lnTo>
                    <a:pt x="57" y="10"/>
                  </a:lnTo>
                  <a:lnTo>
                    <a:pt x="55" y="7"/>
                  </a:lnTo>
                  <a:lnTo>
                    <a:pt x="49" y="5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2" y="0"/>
                  </a:lnTo>
                  <a:close/>
                  <a:moveTo>
                    <a:pt x="76" y="65"/>
                  </a:moveTo>
                  <a:lnTo>
                    <a:pt x="89" y="64"/>
                  </a:lnTo>
                  <a:lnTo>
                    <a:pt x="94" y="62"/>
                  </a:lnTo>
                  <a:lnTo>
                    <a:pt x="98" y="61"/>
                  </a:lnTo>
                  <a:lnTo>
                    <a:pt x="106" y="55"/>
                  </a:lnTo>
                  <a:lnTo>
                    <a:pt x="113" y="45"/>
                  </a:lnTo>
                  <a:lnTo>
                    <a:pt x="116" y="37"/>
                  </a:lnTo>
                  <a:lnTo>
                    <a:pt x="118" y="27"/>
                  </a:lnTo>
                  <a:lnTo>
                    <a:pt x="116" y="20"/>
                  </a:lnTo>
                  <a:lnTo>
                    <a:pt x="113" y="12"/>
                  </a:lnTo>
                  <a:lnTo>
                    <a:pt x="106" y="10"/>
                  </a:lnTo>
                  <a:lnTo>
                    <a:pt x="98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3" y="37"/>
                  </a:lnTo>
                  <a:lnTo>
                    <a:pt x="76" y="65"/>
                  </a:lnTo>
                  <a:close/>
                  <a:moveTo>
                    <a:pt x="73" y="74"/>
                  </a:moveTo>
                  <a:lnTo>
                    <a:pt x="64" y="107"/>
                  </a:lnTo>
                  <a:lnTo>
                    <a:pt x="54" y="139"/>
                  </a:lnTo>
                  <a:lnTo>
                    <a:pt x="58" y="139"/>
                  </a:lnTo>
                  <a:lnTo>
                    <a:pt x="61" y="139"/>
                  </a:lnTo>
                  <a:lnTo>
                    <a:pt x="73" y="138"/>
                  </a:lnTo>
                  <a:lnTo>
                    <a:pt x="83" y="137"/>
                  </a:lnTo>
                  <a:lnTo>
                    <a:pt x="89" y="132"/>
                  </a:lnTo>
                  <a:lnTo>
                    <a:pt x="95" y="125"/>
                  </a:lnTo>
                  <a:lnTo>
                    <a:pt x="100" y="118"/>
                  </a:lnTo>
                  <a:lnTo>
                    <a:pt x="103" y="111"/>
                  </a:lnTo>
                  <a:lnTo>
                    <a:pt x="106" y="97"/>
                  </a:lnTo>
                  <a:lnTo>
                    <a:pt x="104" y="89"/>
                  </a:lnTo>
                  <a:lnTo>
                    <a:pt x="101" y="84"/>
                  </a:lnTo>
                  <a:lnTo>
                    <a:pt x="98" y="78"/>
                  </a:lnTo>
                  <a:lnTo>
                    <a:pt x="92" y="75"/>
                  </a:lnTo>
                  <a:lnTo>
                    <a:pt x="85" y="74"/>
                  </a:lnTo>
                  <a:lnTo>
                    <a:pt x="73" y="74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057000" y="20797920"/>
              <a:ext cx="92160" cy="88920"/>
            </a:xfrm>
            <a:custGeom>
              <a:avLst/>
              <a:gdLst/>
              <a:ahLst/>
              <a:rect l="l" t="t" r="r" b="b"/>
              <a:pathLst>
                <a:path w="153" h="154">
                  <a:moveTo>
                    <a:pt x="153" y="0"/>
                  </a:moveTo>
                  <a:lnTo>
                    <a:pt x="147" y="24"/>
                  </a:lnTo>
                  <a:lnTo>
                    <a:pt x="143" y="47"/>
                  </a:lnTo>
                  <a:lnTo>
                    <a:pt x="139" y="47"/>
                  </a:lnTo>
                  <a:lnTo>
                    <a:pt x="139" y="37"/>
                  </a:lnTo>
                  <a:lnTo>
                    <a:pt x="136" y="30"/>
                  </a:lnTo>
                  <a:lnTo>
                    <a:pt x="130" y="17"/>
                  </a:lnTo>
                  <a:lnTo>
                    <a:pt x="119" y="11"/>
                  </a:lnTo>
                  <a:lnTo>
                    <a:pt x="104" y="8"/>
                  </a:lnTo>
                  <a:lnTo>
                    <a:pt x="97" y="8"/>
                  </a:lnTo>
                  <a:lnTo>
                    <a:pt x="90" y="11"/>
                  </a:lnTo>
                  <a:lnTo>
                    <a:pt x="81" y="14"/>
                  </a:lnTo>
                  <a:lnTo>
                    <a:pt x="73" y="20"/>
                  </a:lnTo>
                  <a:lnTo>
                    <a:pt x="66" y="25"/>
                  </a:lnTo>
                  <a:lnTo>
                    <a:pt x="58" y="34"/>
                  </a:lnTo>
                  <a:lnTo>
                    <a:pt x="46" y="53"/>
                  </a:lnTo>
                  <a:lnTo>
                    <a:pt x="38" y="77"/>
                  </a:lnTo>
                  <a:lnTo>
                    <a:pt x="36" y="90"/>
                  </a:lnTo>
                  <a:lnTo>
                    <a:pt x="35" y="101"/>
                  </a:lnTo>
                  <a:lnTo>
                    <a:pt x="36" y="111"/>
                  </a:lnTo>
                  <a:lnTo>
                    <a:pt x="38" y="121"/>
                  </a:lnTo>
                  <a:lnTo>
                    <a:pt x="45" y="135"/>
                  </a:lnTo>
                  <a:lnTo>
                    <a:pt x="57" y="144"/>
                  </a:lnTo>
                  <a:lnTo>
                    <a:pt x="63" y="145"/>
                  </a:lnTo>
                  <a:lnTo>
                    <a:pt x="69" y="147"/>
                  </a:lnTo>
                  <a:lnTo>
                    <a:pt x="75" y="145"/>
                  </a:lnTo>
                  <a:lnTo>
                    <a:pt x="82" y="142"/>
                  </a:lnTo>
                  <a:lnTo>
                    <a:pt x="88" y="124"/>
                  </a:lnTo>
                  <a:lnTo>
                    <a:pt x="94" y="104"/>
                  </a:lnTo>
                  <a:lnTo>
                    <a:pt x="95" y="97"/>
                  </a:lnTo>
                  <a:lnTo>
                    <a:pt x="97" y="91"/>
                  </a:lnTo>
                  <a:lnTo>
                    <a:pt x="95" y="88"/>
                  </a:lnTo>
                  <a:lnTo>
                    <a:pt x="92" y="84"/>
                  </a:lnTo>
                  <a:lnTo>
                    <a:pt x="88" y="83"/>
                  </a:lnTo>
                  <a:lnTo>
                    <a:pt x="81" y="81"/>
                  </a:lnTo>
                  <a:lnTo>
                    <a:pt x="82" y="80"/>
                  </a:lnTo>
                  <a:lnTo>
                    <a:pt x="82" y="78"/>
                  </a:lnTo>
                  <a:lnTo>
                    <a:pt x="115" y="78"/>
                  </a:lnTo>
                  <a:lnTo>
                    <a:pt x="146" y="78"/>
                  </a:lnTo>
                  <a:lnTo>
                    <a:pt x="146" y="80"/>
                  </a:lnTo>
                  <a:lnTo>
                    <a:pt x="146" y="81"/>
                  </a:lnTo>
                  <a:lnTo>
                    <a:pt x="140" y="83"/>
                  </a:lnTo>
                  <a:lnTo>
                    <a:pt x="137" y="84"/>
                  </a:lnTo>
                  <a:lnTo>
                    <a:pt x="134" y="87"/>
                  </a:lnTo>
                  <a:lnTo>
                    <a:pt x="131" y="90"/>
                  </a:lnTo>
                  <a:lnTo>
                    <a:pt x="130" y="92"/>
                  </a:lnTo>
                  <a:lnTo>
                    <a:pt x="128" y="100"/>
                  </a:lnTo>
                  <a:lnTo>
                    <a:pt x="122" y="122"/>
                  </a:lnTo>
                  <a:lnTo>
                    <a:pt x="115" y="145"/>
                  </a:lnTo>
                  <a:lnTo>
                    <a:pt x="91" y="152"/>
                  </a:lnTo>
                  <a:lnTo>
                    <a:pt x="66" y="154"/>
                  </a:lnTo>
                  <a:lnTo>
                    <a:pt x="48" y="152"/>
                  </a:lnTo>
                  <a:lnTo>
                    <a:pt x="32" y="147"/>
                  </a:lnTo>
                  <a:lnTo>
                    <a:pt x="26" y="142"/>
                  </a:lnTo>
                  <a:lnTo>
                    <a:pt x="20" y="138"/>
                  </a:lnTo>
                  <a:lnTo>
                    <a:pt x="9" y="124"/>
                  </a:lnTo>
                  <a:lnTo>
                    <a:pt x="3" y="108"/>
                  </a:lnTo>
                  <a:lnTo>
                    <a:pt x="0" y="90"/>
                  </a:lnTo>
                  <a:lnTo>
                    <a:pt x="3" y="70"/>
                  </a:lnTo>
                  <a:lnTo>
                    <a:pt x="9" y="51"/>
                  </a:lnTo>
                  <a:lnTo>
                    <a:pt x="21" y="35"/>
                  </a:lnTo>
                  <a:lnTo>
                    <a:pt x="38" y="21"/>
                  </a:lnTo>
                  <a:lnTo>
                    <a:pt x="52" y="11"/>
                  </a:lnTo>
                  <a:lnTo>
                    <a:pt x="69" y="5"/>
                  </a:lnTo>
                  <a:lnTo>
                    <a:pt x="87" y="1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2" y="1"/>
                  </a:lnTo>
                  <a:lnTo>
                    <a:pt x="131" y="4"/>
                  </a:lnTo>
                  <a:lnTo>
                    <a:pt x="137" y="5"/>
                  </a:lnTo>
                  <a:lnTo>
                    <a:pt x="140" y="5"/>
                  </a:lnTo>
                  <a:lnTo>
                    <a:pt x="144" y="4"/>
                  </a:lnTo>
                  <a:lnTo>
                    <a:pt x="149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139440" y="20799360"/>
              <a:ext cx="95400" cy="85680"/>
            </a:xfrm>
            <a:custGeom>
              <a:avLst/>
              <a:gdLst/>
              <a:ahLst/>
              <a:rect l="l" t="t" r="r" b="b"/>
              <a:pathLst>
                <a:path w="160" h="148">
                  <a:moveTo>
                    <a:pt x="92" y="8"/>
                  </a:moveTo>
                  <a:lnTo>
                    <a:pt x="85" y="37"/>
                  </a:lnTo>
                  <a:lnTo>
                    <a:pt x="76" y="65"/>
                  </a:lnTo>
                  <a:lnTo>
                    <a:pt x="80" y="65"/>
                  </a:lnTo>
                  <a:lnTo>
                    <a:pt x="98" y="64"/>
                  </a:lnTo>
                  <a:lnTo>
                    <a:pt x="104" y="62"/>
                  </a:lnTo>
                  <a:lnTo>
                    <a:pt x="110" y="60"/>
                  </a:lnTo>
                  <a:lnTo>
                    <a:pt x="119" y="54"/>
                  </a:lnTo>
                  <a:lnTo>
                    <a:pt x="126" y="42"/>
                  </a:lnTo>
                  <a:lnTo>
                    <a:pt x="128" y="42"/>
                  </a:lnTo>
                  <a:lnTo>
                    <a:pt x="129" y="42"/>
                  </a:lnTo>
                  <a:lnTo>
                    <a:pt x="122" y="71"/>
                  </a:lnTo>
                  <a:lnTo>
                    <a:pt x="113" y="99"/>
                  </a:lnTo>
                  <a:lnTo>
                    <a:pt x="108" y="99"/>
                  </a:lnTo>
                  <a:lnTo>
                    <a:pt x="110" y="94"/>
                  </a:lnTo>
                  <a:lnTo>
                    <a:pt x="110" y="89"/>
                  </a:lnTo>
                  <a:lnTo>
                    <a:pt x="108" y="84"/>
                  </a:lnTo>
                  <a:lnTo>
                    <a:pt x="107" y="80"/>
                  </a:lnTo>
                  <a:lnTo>
                    <a:pt x="102" y="77"/>
                  </a:lnTo>
                  <a:lnTo>
                    <a:pt x="97" y="74"/>
                  </a:lnTo>
                  <a:lnTo>
                    <a:pt x="95" y="74"/>
                  </a:lnTo>
                  <a:lnTo>
                    <a:pt x="92" y="74"/>
                  </a:lnTo>
                  <a:lnTo>
                    <a:pt x="82" y="74"/>
                  </a:lnTo>
                  <a:lnTo>
                    <a:pt x="73" y="74"/>
                  </a:lnTo>
                  <a:lnTo>
                    <a:pt x="67" y="98"/>
                  </a:lnTo>
                  <a:lnTo>
                    <a:pt x="59" y="122"/>
                  </a:lnTo>
                  <a:lnTo>
                    <a:pt x="58" y="128"/>
                  </a:lnTo>
                  <a:lnTo>
                    <a:pt x="56" y="132"/>
                  </a:lnTo>
                  <a:lnTo>
                    <a:pt x="58" y="135"/>
                  </a:lnTo>
                  <a:lnTo>
                    <a:pt x="59" y="137"/>
                  </a:lnTo>
                  <a:lnTo>
                    <a:pt x="65" y="138"/>
                  </a:lnTo>
                  <a:lnTo>
                    <a:pt x="73" y="138"/>
                  </a:lnTo>
                  <a:lnTo>
                    <a:pt x="91" y="137"/>
                  </a:lnTo>
                  <a:lnTo>
                    <a:pt x="99" y="135"/>
                  </a:lnTo>
                  <a:lnTo>
                    <a:pt x="108" y="131"/>
                  </a:lnTo>
                  <a:lnTo>
                    <a:pt x="123" y="121"/>
                  </a:lnTo>
                  <a:lnTo>
                    <a:pt x="131" y="115"/>
                  </a:lnTo>
                  <a:lnTo>
                    <a:pt x="138" y="107"/>
                  </a:lnTo>
                  <a:lnTo>
                    <a:pt x="143" y="107"/>
                  </a:lnTo>
                  <a:lnTo>
                    <a:pt x="135" y="128"/>
                  </a:lnTo>
                  <a:lnTo>
                    <a:pt x="126" y="148"/>
                  </a:lnTo>
                  <a:lnTo>
                    <a:pt x="64" y="148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10" y="142"/>
                  </a:lnTo>
                  <a:lnTo>
                    <a:pt x="16" y="139"/>
                  </a:lnTo>
                  <a:lnTo>
                    <a:pt x="22" y="132"/>
                  </a:lnTo>
                  <a:lnTo>
                    <a:pt x="25" y="128"/>
                  </a:lnTo>
                  <a:lnTo>
                    <a:pt x="27" y="121"/>
                  </a:lnTo>
                  <a:lnTo>
                    <a:pt x="40" y="74"/>
                  </a:lnTo>
                  <a:lnTo>
                    <a:pt x="55" y="25"/>
                  </a:lnTo>
                  <a:lnTo>
                    <a:pt x="56" y="20"/>
                  </a:lnTo>
                  <a:lnTo>
                    <a:pt x="56" y="14"/>
                  </a:lnTo>
                  <a:lnTo>
                    <a:pt x="56" y="10"/>
                  </a:lnTo>
                  <a:lnTo>
                    <a:pt x="53" y="7"/>
                  </a:lnTo>
                  <a:lnTo>
                    <a:pt x="49" y="5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101" y="0"/>
                  </a:lnTo>
                  <a:lnTo>
                    <a:pt x="160" y="0"/>
                  </a:lnTo>
                  <a:lnTo>
                    <a:pt x="156" y="18"/>
                  </a:lnTo>
                  <a:lnTo>
                    <a:pt x="150" y="37"/>
                  </a:lnTo>
                  <a:lnTo>
                    <a:pt x="148" y="37"/>
                  </a:lnTo>
                  <a:lnTo>
                    <a:pt x="147" y="37"/>
                  </a:lnTo>
                  <a:lnTo>
                    <a:pt x="146" y="27"/>
                  </a:lnTo>
                  <a:lnTo>
                    <a:pt x="144" y="21"/>
                  </a:lnTo>
                  <a:lnTo>
                    <a:pt x="138" y="15"/>
                  </a:lnTo>
                  <a:lnTo>
                    <a:pt x="131" y="11"/>
                  </a:lnTo>
                  <a:lnTo>
                    <a:pt x="126" y="10"/>
                  </a:lnTo>
                  <a:lnTo>
                    <a:pt x="122" y="10"/>
                  </a:lnTo>
                  <a:lnTo>
                    <a:pt x="107" y="8"/>
                  </a:lnTo>
                  <a:lnTo>
                    <a:pt x="99" y="8"/>
                  </a:lnTo>
                  <a:lnTo>
                    <a:pt x="92" y="8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506280" y="20940840"/>
              <a:ext cx="220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Endereço:</a:t>
              </a: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 Campina Grande - P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647920" y="20682000"/>
              <a:ext cx="14349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341720" y="21020040"/>
              <a:ext cx="83772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AR 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89920" y="21151800"/>
              <a:ext cx="983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DATA : Dez</a:t>
              </a:r>
              <a:r>
                <a:rPr b="0" lang="pt-BR" sz="900" spc="-1" strike="noStrike">
                  <a:solidFill>
                    <a:srgbClr val="000000"/>
                  </a:solidFill>
                  <a:latin typeface="Times New Roman"/>
                </a:rPr>
                <a:t>/9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REV.   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296200" y="21209040"/>
              <a:ext cx="74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Projeto/ Desenho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240840" y="21175560"/>
              <a:ext cx="706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Brivaldo Corre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Myrthes Olivei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332760" y="21129480"/>
              <a:ext cx="64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Arquivo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448320" y="20558160"/>
              <a:ext cx="32756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3333cc"/>
                  </a:solidFill>
                  <a:latin typeface="Times New Roman"/>
                </a:rPr>
                <a:t>CENTRO DE CAPTURA DE DADOS - CCD / P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3333cc"/>
                  </a:solidFill>
                  <a:latin typeface="Times New Roman"/>
                </a:rPr>
                <a:t>PROJETO BÁSICO DE ARQUITE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3068080" y="20259360"/>
              <a:ext cx="0" cy="133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063040" y="20257920"/>
              <a:ext cx="6297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346080" y="20529720"/>
              <a:ext cx="412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068080" y="21182040"/>
              <a:ext cx="627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209360" y="21185280"/>
              <a:ext cx="0" cy="40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346080" y="20250000"/>
              <a:ext cx="0" cy="134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468800" y="20257920"/>
              <a:ext cx="0" cy="134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250840" y="21185280"/>
              <a:ext cx="0" cy="40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347520" y="21356640"/>
              <a:ext cx="82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CCD PB arq 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22480" y="960480"/>
              <a:ext cx="27351000" cy="20658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52560" y="614520"/>
              <a:ext cx="28791000" cy="2137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850160" y="18009720"/>
            <a:ext cx="13625640" cy="3360240"/>
            <a:chOff x="7850160" y="18009720"/>
            <a:chExt cx="13625640" cy="3360240"/>
          </a:xfrm>
        </p:grpSpPr>
        <p:sp>
          <p:nvSpPr>
            <p:cNvPr id="70" name=""/>
            <p:cNvSpPr/>
            <p:nvPr/>
          </p:nvSpPr>
          <p:spPr>
            <a:xfrm>
              <a:off x="12482640" y="18229320"/>
              <a:ext cx="1198440" cy="849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174320" y="21239280"/>
              <a:ext cx="97264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93000" y="21243960"/>
              <a:ext cx="228132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85080" y="18268920"/>
              <a:ext cx="0" cy="29908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145880" y="18267480"/>
              <a:ext cx="0" cy="29764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692240" y="18273600"/>
              <a:ext cx="0" cy="25606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225840" y="18272160"/>
              <a:ext cx="0" cy="257976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50160" y="18240480"/>
              <a:ext cx="1360188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783200" y="18272160"/>
              <a:ext cx="0" cy="257976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318240" y="18275400"/>
              <a:ext cx="0" cy="2574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907280" y="21243960"/>
              <a:ext cx="156528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919880" y="18272160"/>
              <a:ext cx="0" cy="299880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444120" y="18267480"/>
              <a:ext cx="0" cy="299880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6745040" y="18207000"/>
              <a:ext cx="7128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187680" y="19735920"/>
              <a:ext cx="7128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745040" y="19730880"/>
              <a:ext cx="7128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278640" y="19726200"/>
              <a:ext cx="7128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402720" y="18207000"/>
              <a:ext cx="7128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278640" y="18208800"/>
              <a:ext cx="7128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54840" y="19738800"/>
              <a:ext cx="7164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915400" y="19745280"/>
              <a:ext cx="7128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113840" y="19743840"/>
              <a:ext cx="71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77720" y="19745280"/>
              <a:ext cx="7128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654080" y="19745280"/>
              <a:ext cx="14436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98040" y="19726200"/>
              <a:ext cx="7128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404160" y="21202560"/>
              <a:ext cx="7164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915400" y="18207000"/>
              <a:ext cx="7128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109160" y="18216720"/>
              <a:ext cx="71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644720" y="18207000"/>
              <a:ext cx="14436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189120" y="18218160"/>
              <a:ext cx="71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801600" y="20688480"/>
              <a:ext cx="871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01600" y="20562840"/>
              <a:ext cx="871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2760200" y="20432520"/>
              <a:ext cx="914400" cy="4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801600" y="20309040"/>
              <a:ext cx="890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798360" y="20183400"/>
              <a:ext cx="871560" cy="4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800160" y="20058120"/>
              <a:ext cx="880920" cy="4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798360" y="19931040"/>
              <a:ext cx="866880" cy="4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790440" y="19683360"/>
              <a:ext cx="903240" cy="4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790440" y="19805760"/>
              <a:ext cx="878040" cy="4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277720" y="18214920"/>
              <a:ext cx="7128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476160" y="18273600"/>
              <a:ext cx="0" cy="4939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476160" y="18273600"/>
              <a:ext cx="0" cy="256716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274480" y="21202560"/>
              <a:ext cx="7128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915400" y="21199320"/>
              <a:ext cx="7128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441240" y="21202560"/>
              <a:ext cx="7128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769920" y="19119960"/>
              <a:ext cx="0" cy="171900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142640" y="20829600"/>
              <a:ext cx="31194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765240" y="19554840"/>
              <a:ext cx="9144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666680" y="20829600"/>
              <a:ext cx="627696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754400" y="21199320"/>
              <a:ext cx="7164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654080" y="21201120"/>
              <a:ext cx="14436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504600" y="19089720"/>
              <a:ext cx="116208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230360" y="19559520"/>
              <a:ext cx="0" cy="12524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283320" y="21202560"/>
              <a:ext cx="7128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220640" y="20802600"/>
              <a:ext cx="486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53400" y="21201120"/>
              <a:ext cx="7128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112400" y="21202560"/>
              <a:ext cx="7128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19736280" y="20932920"/>
              <a:ext cx="434520" cy="437040"/>
              <a:chOff x="19736280" y="20932920"/>
              <a:chExt cx="434520" cy="437040"/>
            </a:xfrm>
          </p:grpSpPr>
          <p:sp>
            <p:nvSpPr>
              <p:cNvPr id="128" name=""/>
              <p:cNvSpPr/>
              <p:nvPr/>
            </p:nvSpPr>
            <p:spPr>
              <a:xfrm flipH="1" rot="5400000">
                <a:off x="19734480" y="20934000"/>
                <a:ext cx="437040" cy="43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6253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625358"/>
                  </a:path>
                </a:pathLst>
              </a:cu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5400000">
                <a:off x="20048040" y="21035880"/>
                <a:ext cx="14400" cy="223560"/>
              </a:xfrm>
              <a:prstGeom prst="rect">
                <a:avLst/>
              </a:pr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888200" y="20932920"/>
                <a:ext cx="57240" cy="2268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9884880" y="20932920"/>
              <a:ext cx="434520" cy="437040"/>
              <a:chOff x="9884880" y="20932920"/>
              <a:chExt cx="434520" cy="437040"/>
            </a:xfrm>
          </p:grpSpPr>
          <p:sp>
            <p:nvSpPr>
              <p:cNvPr id="132" name=""/>
              <p:cNvSpPr/>
              <p:nvPr/>
            </p:nvSpPr>
            <p:spPr>
              <a:xfrm rot="16200000">
                <a:off x="9883440" y="20934000"/>
                <a:ext cx="437040" cy="43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6253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625358"/>
                  </a:path>
                </a:pathLst>
              </a:cu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6200000">
                <a:off x="9992520" y="21035880"/>
                <a:ext cx="14400" cy="223560"/>
              </a:xfrm>
              <a:prstGeom prst="rect">
                <a:avLst/>
              </a:pr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10109880" y="20932920"/>
                <a:ext cx="57240" cy="2268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9182160" y="18198720"/>
              <a:ext cx="718920" cy="74520"/>
              <a:chOff x="9182160" y="18198720"/>
              <a:chExt cx="718920" cy="74520"/>
            </a:xfrm>
          </p:grpSpPr>
          <p:sp>
            <p:nvSpPr>
              <p:cNvPr id="136" name=""/>
              <p:cNvSpPr/>
              <p:nvPr/>
            </p:nvSpPr>
            <p:spPr>
              <a:xfrm rot="16200000">
                <a:off x="9504720" y="17877240"/>
                <a:ext cx="74520" cy="7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182160" y="18238680"/>
                <a:ext cx="718920" cy="0"/>
              </a:xfrm>
              <a:prstGeom prst="line">
                <a:avLst/>
              </a:prstGeom>
              <a:ln w="31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2591720" y="18202320"/>
              <a:ext cx="396360" cy="74520"/>
              <a:chOff x="12591720" y="18202320"/>
              <a:chExt cx="396360" cy="74520"/>
            </a:xfrm>
          </p:grpSpPr>
          <p:sp>
            <p:nvSpPr>
              <p:cNvPr id="139" name=""/>
              <p:cNvSpPr/>
              <p:nvPr/>
            </p:nvSpPr>
            <p:spPr>
              <a:xfrm rot="5400000">
                <a:off x="12753360" y="18042120"/>
                <a:ext cx="74520" cy="394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12591720" y="18238680"/>
                <a:ext cx="394920" cy="0"/>
              </a:xfrm>
              <a:prstGeom prst="line">
                <a:avLst/>
              </a:prstGeom>
              <a:ln w="3168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8029440" y="18198720"/>
              <a:ext cx="719280" cy="74520"/>
              <a:chOff x="8029440" y="18198720"/>
              <a:chExt cx="719280" cy="74520"/>
            </a:xfrm>
          </p:grpSpPr>
          <p:sp>
            <p:nvSpPr>
              <p:cNvPr id="142" name=""/>
              <p:cNvSpPr/>
              <p:nvPr/>
            </p:nvSpPr>
            <p:spPr>
              <a:xfrm rot="16200000">
                <a:off x="8352360" y="17876880"/>
                <a:ext cx="74520" cy="717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029440" y="18238680"/>
                <a:ext cx="719280" cy="0"/>
              </a:xfrm>
              <a:prstGeom prst="line">
                <a:avLst/>
              </a:prstGeom>
              <a:ln w="31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0358280" y="18198720"/>
              <a:ext cx="719280" cy="74520"/>
              <a:chOff x="10358280" y="18198720"/>
              <a:chExt cx="719280" cy="74520"/>
            </a:xfrm>
          </p:grpSpPr>
          <p:sp>
            <p:nvSpPr>
              <p:cNvPr id="145" name=""/>
              <p:cNvSpPr/>
              <p:nvPr/>
            </p:nvSpPr>
            <p:spPr>
              <a:xfrm rot="16200000">
                <a:off x="10681200" y="17876880"/>
                <a:ext cx="74520" cy="717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0358280" y="18238680"/>
                <a:ext cx="719280" cy="0"/>
              </a:xfrm>
              <a:prstGeom prst="line">
                <a:avLst/>
              </a:prstGeom>
              <a:ln w="31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1534760" y="18198720"/>
              <a:ext cx="719280" cy="74520"/>
              <a:chOff x="11534760" y="18198720"/>
              <a:chExt cx="719280" cy="74520"/>
            </a:xfrm>
          </p:grpSpPr>
          <p:sp>
            <p:nvSpPr>
              <p:cNvPr id="148" name=""/>
              <p:cNvSpPr/>
              <p:nvPr/>
            </p:nvSpPr>
            <p:spPr>
              <a:xfrm rot="16200000">
                <a:off x="11857680" y="17876880"/>
                <a:ext cx="74520" cy="717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534760" y="18238680"/>
                <a:ext cx="719280" cy="0"/>
              </a:xfrm>
              <a:prstGeom prst="line">
                <a:avLst/>
              </a:prstGeom>
              <a:ln w="31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3158720" y="18202320"/>
              <a:ext cx="397080" cy="74520"/>
              <a:chOff x="13158720" y="18202320"/>
              <a:chExt cx="397080" cy="74520"/>
            </a:xfrm>
          </p:grpSpPr>
          <p:sp>
            <p:nvSpPr>
              <p:cNvPr id="151" name=""/>
              <p:cNvSpPr/>
              <p:nvPr/>
            </p:nvSpPr>
            <p:spPr>
              <a:xfrm rot="5400000">
                <a:off x="13320720" y="18041760"/>
                <a:ext cx="74520" cy="395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13158720" y="18238680"/>
                <a:ext cx="395280" cy="0"/>
              </a:xfrm>
              <a:prstGeom prst="line">
                <a:avLst/>
              </a:prstGeom>
              <a:ln w="3168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15473520" y="18201960"/>
              <a:ext cx="1079280" cy="74520"/>
              <a:chOff x="15473520" y="18201960"/>
              <a:chExt cx="1079280" cy="74520"/>
            </a:xfrm>
          </p:grpSpPr>
          <p:sp>
            <p:nvSpPr>
              <p:cNvPr id="154" name=""/>
              <p:cNvSpPr/>
              <p:nvPr/>
            </p:nvSpPr>
            <p:spPr>
              <a:xfrm rot="16200000">
                <a:off x="15975720" y="17699400"/>
                <a:ext cx="74520" cy="1079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5473520" y="18243360"/>
                <a:ext cx="1079280" cy="0"/>
              </a:xfrm>
              <a:prstGeom prst="line">
                <a:avLst/>
              </a:prstGeom>
              <a:ln w="31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3953960" y="18201960"/>
              <a:ext cx="1079640" cy="74520"/>
              <a:chOff x="13953960" y="18201960"/>
              <a:chExt cx="1079640" cy="74520"/>
            </a:xfrm>
          </p:grpSpPr>
          <p:sp>
            <p:nvSpPr>
              <p:cNvPr id="157" name=""/>
              <p:cNvSpPr/>
              <p:nvPr/>
            </p:nvSpPr>
            <p:spPr>
              <a:xfrm rot="16200000">
                <a:off x="14456520" y="17699400"/>
                <a:ext cx="74520" cy="10796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3953960" y="18243360"/>
                <a:ext cx="1079640" cy="0"/>
              </a:xfrm>
              <a:prstGeom prst="line">
                <a:avLst/>
              </a:prstGeom>
              <a:ln w="31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17016480" y="18201960"/>
              <a:ext cx="1079280" cy="74520"/>
              <a:chOff x="17016480" y="18201960"/>
              <a:chExt cx="1079280" cy="74520"/>
            </a:xfrm>
          </p:grpSpPr>
          <p:sp>
            <p:nvSpPr>
              <p:cNvPr id="160" name=""/>
              <p:cNvSpPr/>
              <p:nvPr/>
            </p:nvSpPr>
            <p:spPr>
              <a:xfrm rot="16200000">
                <a:off x="17518680" y="17699400"/>
                <a:ext cx="74520" cy="1079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7016480" y="18243360"/>
                <a:ext cx="1079280" cy="0"/>
              </a:xfrm>
              <a:prstGeom prst="line">
                <a:avLst/>
              </a:prstGeom>
              <a:ln w="31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8583200" y="18201960"/>
              <a:ext cx="1079640" cy="74520"/>
              <a:chOff x="18583200" y="18201960"/>
              <a:chExt cx="1079640" cy="74520"/>
            </a:xfrm>
          </p:grpSpPr>
          <p:sp>
            <p:nvSpPr>
              <p:cNvPr id="163" name=""/>
              <p:cNvSpPr/>
              <p:nvPr/>
            </p:nvSpPr>
            <p:spPr>
              <a:xfrm rot="16200000">
                <a:off x="19085760" y="17699400"/>
                <a:ext cx="74520" cy="10796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8583200" y="18243360"/>
                <a:ext cx="1079640" cy="0"/>
              </a:xfrm>
              <a:prstGeom prst="line">
                <a:avLst/>
              </a:prstGeom>
              <a:ln w="31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0135880" y="18201960"/>
              <a:ext cx="1079640" cy="74520"/>
              <a:chOff x="20135880" y="18201960"/>
              <a:chExt cx="1079640" cy="74520"/>
            </a:xfrm>
          </p:grpSpPr>
          <p:sp>
            <p:nvSpPr>
              <p:cNvPr id="166" name=""/>
              <p:cNvSpPr/>
              <p:nvPr/>
            </p:nvSpPr>
            <p:spPr>
              <a:xfrm rot="16200000">
                <a:off x="20638440" y="17699400"/>
                <a:ext cx="74520" cy="10796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0135880" y="18243360"/>
                <a:ext cx="1079640" cy="0"/>
              </a:xfrm>
              <a:prstGeom prst="line">
                <a:avLst/>
              </a:prstGeom>
              <a:ln w="31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18397440" y="20572200"/>
              <a:ext cx="1668960" cy="434520"/>
              <a:chOff x="18397440" y="20572200"/>
              <a:chExt cx="1668960" cy="43452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9629360" y="20572200"/>
                <a:ext cx="437040" cy="434520"/>
                <a:chOff x="19629360" y="20572200"/>
                <a:chExt cx="437040" cy="434520"/>
              </a:xfrm>
            </p:grpSpPr>
            <p:sp>
              <p:nvSpPr>
                <p:cNvPr id="170" name=""/>
                <p:cNvSpPr/>
                <p:nvPr/>
              </p:nvSpPr>
              <p:spPr>
                <a:xfrm flipH="1">
                  <a:off x="19629360" y="20572200"/>
                  <a:ext cx="437040" cy="434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253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25358"/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9837080" y="20575800"/>
                  <a:ext cx="14400" cy="223560"/>
                </a:xfrm>
                <a:prstGeom prst="rect">
                  <a:avLst/>
                </a:pr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16200000">
                  <a:off x="19713960" y="20712600"/>
                  <a:ext cx="57240" cy="22680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8397440" y="20788200"/>
                <a:ext cx="1079640" cy="74520"/>
                <a:chOff x="18397440" y="20788200"/>
                <a:chExt cx="1079640" cy="74520"/>
              </a:xfrm>
            </p:grpSpPr>
            <p:sp>
              <p:nvSpPr>
                <p:cNvPr id="174" name=""/>
                <p:cNvSpPr/>
                <p:nvPr/>
              </p:nvSpPr>
              <p:spPr>
                <a:xfrm rot="16200000">
                  <a:off x="18900000" y="20285640"/>
                  <a:ext cx="74520" cy="1079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8397440" y="20829600"/>
                  <a:ext cx="1079640" cy="0"/>
                </a:xfrm>
                <a:prstGeom prst="line">
                  <a:avLst/>
                </a:prstGeom>
                <a:ln w="316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16840080" y="20576880"/>
              <a:ext cx="1631160" cy="434520"/>
              <a:chOff x="16840080" y="20576880"/>
              <a:chExt cx="1631160" cy="4345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18034200" y="20576880"/>
                <a:ext cx="437040" cy="434520"/>
                <a:chOff x="18034200" y="20576880"/>
                <a:chExt cx="437040" cy="434520"/>
              </a:xfrm>
            </p:grpSpPr>
            <p:sp>
              <p:nvSpPr>
                <p:cNvPr id="178" name=""/>
                <p:cNvSpPr/>
                <p:nvPr/>
              </p:nvSpPr>
              <p:spPr>
                <a:xfrm flipH="1">
                  <a:off x="18034200" y="20576880"/>
                  <a:ext cx="437040" cy="434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253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25358"/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8241920" y="20580480"/>
                  <a:ext cx="14400" cy="223560"/>
                </a:xfrm>
                <a:prstGeom prst="rect">
                  <a:avLst/>
                </a:pr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6200000">
                  <a:off x="18118800" y="20717280"/>
                  <a:ext cx="57240" cy="22680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6840080" y="20792880"/>
                <a:ext cx="1079640" cy="74520"/>
                <a:chOff x="16840080" y="20792880"/>
                <a:chExt cx="1079640" cy="74520"/>
              </a:xfrm>
            </p:grpSpPr>
            <p:sp>
              <p:nvSpPr>
                <p:cNvPr id="182" name=""/>
                <p:cNvSpPr/>
                <p:nvPr/>
              </p:nvSpPr>
              <p:spPr>
                <a:xfrm rot="16200000">
                  <a:off x="17342640" y="20290320"/>
                  <a:ext cx="74520" cy="1079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6840080" y="20834280"/>
                  <a:ext cx="1079640" cy="0"/>
                </a:xfrm>
                <a:prstGeom prst="line">
                  <a:avLst/>
                </a:prstGeom>
                <a:ln w="316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15301800" y="20572200"/>
              <a:ext cx="1631160" cy="434520"/>
              <a:chOff x="15301800" y="20572200"/>
              <a:chExt cx="1631160" cy="4345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16495920" y="20572200"/>
                <a:ext cx="437040" cy="434520"/>
                <a:chOff x="16495920" y="20572200"/>
                <a:chExt cx="437040" cy="43452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16495920" y="20572200"/>
                  <a:ext cx="437040" cy="434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253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25358"/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6703640" y="20575800"/>
                  <a:ext cx="14400" cy="223560"/>
                </a:xfrm>
                <a:prstGeom prst="rect">
                  <a:avLst/>
                </a:pr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6200000">
                  <a:off x="16580520" y="20712600"/>
                  <a:ext cx="57240" cy="22680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5301800" y="20788200"/>
                <a:ext cx="1079640" cy="74520"/>
                <a:chOff x="15301800" y="20788200"/>
                <a:chExt cx="1079640" cy="74520"/>
              </a:xfrm>
            </p:grpSpPr>
            <p:sp>
              <p:nvSpPr>
                <p:cNvPr id="190" name=""/>
                <p:cNvSpPr/>
                <p:nvPr/>
              </p:nvSpPr>
              <p:spPr>
                <a:xfrm rot="16200000">
                  <a:off x="15804360" y="20285640"/>
                  <a:ext cx="74520" cy="1079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5301800" y="20829600"/>
                  <a:ext cx="1079640" cy="0"/>
                </a:xfrm>
                <a:prstGeom prst="line">
                  <a:avLst/>
                </a:prstGeom>
                <a:ln w="316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13744440" y="20572200"/>
              <a:ext cx="1631160" cy="434520"/>
              <a:chOff x="13744440" y="20572200"/>
              <a:chExt cx="1631160" cy="43452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14938560" y="20572200"/>
                <a:ext cx="437040" cy="434520"/>
                <a:chOff x="14938560" y="20572200"/>
                <a:chExt cx="437040" cy="434520"/>
              </a:xfrm>
            </p:grpSpPr>
            <p:sp>
              <p:nvSpPr>
                <p:cNvPr id="194" name=""/>
                <p:cNvSpPr/>
                <p:nvPr/>
              </p:nvSpPr>
              <p:spPr>
                <a:xfrm flipH="1">
                  <a:off x="14938560" y="20572200"/>
                  <a:ext cx="437040" cy="434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253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25358"/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5146280" y="20575800"/>
                  <a:ext cx="14400" cy="223560"/>
                </a:xfrm>
                <a:prstGeom prst="rect">
                  <a:avLst/>
                </a:pr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6200000">
                  <a:off x="15023160" y="20712600"/>
                  <a:ext cx="57240" cy="22680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13744440" y="20788200"/>
                <a:ext cx="1079640" cy="74520"/>
                <a:chOff x="13744440" y="20788200"/>
                <a:chExt cx="1079640" cy="74520"/>
              </a:xfrm>
            </p:grpSpPr>
            <p:sp>
              <p:nvSpPr>
                <p:cNvPr id="198" name=""/>
                <p:cNvSpPr/>
                <p:nvPr/>
              </p:nvSpPr>
              <p:spPr>
                <a:xfrm rot="16200000">
                  <a:off x="14247000" y="20285640"/>
                  <a:ext cx="74520" cy="1079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3744440" y="20829600"/>
                  <a:ext cx="1079640" cy="0"/>
                </a:xfrm>
                <a:prstGeom prst="line">
                  <a:avLst/>
                </a:prstGeom>
                <a:ln w="316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12190320" y="20572200"/>
              <a:ext cx="437040" cy="434520"/>
              <a:chOff x="12190320" y="20572200"/>
              <a:chExt cx="437040" cy="434520"/>
            </a:xfrm>
          </p:grpSpPr>
          <p:sp>
            <p:nvSpPr>
              <p:cNvPr id="201" name=""/>
              <p:cNvSpPr/>
              <p:nvPr/>
            </p:nvSpPr>
            <p:spPr>
              <a:xfrm flipH="1">
                <a:off x="12190320" y="20572200"/>
                <a:ext cx="437040" cy="43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6253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625358"/>
                  </a:path>
                </a:pathLst>
              </a:cu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398040" y="20575800"/>
                <a:ext cx="14400" cy="223560"/>
              </a:xfrm>
              <a:prstGeom prst="rect">
                <a:avLst/>
              </a:pr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6200000">
                <a:off x="12274920" y="20712600"/>
                <a:ext cx="57240" cy="2268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10358280" y="20784960"/>
              <a:ext cx="719280" cy="74880"/>
              <a:chOff x="10358280" y="20784960"/>
              <a:chExt cx="719280" cy="74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10681200" y="20463480"/>
                <a:ext cx="74880" cy="717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358280" y="20824920"/>
                <a:ext cx="719280" cy="0"/>
              </a:xfrm>
              <a:prstGeom prst="line">
                <a:avLst/>
              </a:prstGeom>
              <a:ln w="31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1329920" y="20784960"/>
              <a:ext cx="719280" cy="74880"/>
              <a:chOff x="11329920" y="20784960"/>
              <a:chExt cx="719280" cy="74880"/>
            </a:xfrm>
          </p:grpSpPr>
          <p:sp>
            <p:nvSpPr>
              <p:cNvPr id="208" name=""/>
              <p:cNvSpPr/>
              <p:nvPr/>
            </p:nvSpPr>
            <p:spPr>
              <a:xfrm rot="16200000">
                <a:off x="11652840" y="20463480"/>
                <a:ext cx="74880" cy="717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1329920" y="20824920"/>
                <a:ext cx="719280" cy="0"/>
              </a:xfrm>
              <a:prstGeom prst="line">
                <a:avLst/>
              </a:prstGeom>
              <a:ln w="31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7973360" y="19524240"/>
              <a:ext cx="609480" cy="613080"/>
              <a:chOff x="17973360" y="19524240"/>
              <a:chExt cx="609480" cy="613080"/>
            </a:xfrm>
          </p:grpSpPr>
          <p:sp>
            <p:nvSpPr>
              <p:cNvPr id="211" name=""/>
              <p:cNvSpPr/>
              <p:nvPr/>
            </p:nvSpPr>
            <p:spPr>
              <a:xfrm>
                <a:off x="18278640" y="19830960"/>
                <a:ext cx="68040" cy="306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flipV="1">
                <a:off x="17973720" y="19523880"/>
                <a:ext cx="609120" cy="61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17973360" y="1985004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14956200" y="19278360"/>
              <a:ext cx="609480" cy="613080"/>
              <a:chOff x="14956200" y="19278360"/>
              <a:chExt cx="609480" cy="613080"/>
            </a:xfrm>
          </p:grpSpPr>
          <p:sp>
            <p:nvSpPr>
              <p:cNvPr id="215" name=""/>
              <p:cNvSpPr/>
              <p:nvPr/>
            </p:nvSpPr>
            <p:spPr>
              <a:xfrm flipH="1" flipV="1">
                <a:off x="15192000" y="19278000"/>
                <a:ext cx="68040" cy="306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956200" y="19279080"/>
                <a:ext cx="609120" cy="61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260760" y="1956564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9801000" y="18009720"/>
              <a:ext cx="609480" cy="613080"/>
              <a:chOff x="9801000" y="18009720"/>
              <a:chExt cx="609480" cy="613080"/>
            </a:xfrm>
          </p:grpSpPr>
          <p:sp>
            <p:nvSpPr>
              <p:cNvPr id="219" name=""/>
              <p:cNvSpPr/>
              <p:nvPr/>
            </p:nvSpPr>
            <p:spPr>
              <a:xfrm>
                <a:off x="10106280" y="18316440"/>
                <a:ext cx="68040" cy="306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flipV="1">
                <a:off x="9801360" y="18009360"/>
                <a:ext cx="609120" cy="61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9801000" y="1833552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12537360" y="18319680"/>
              <a:ext cx="10828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PROVÁV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SANITÁR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( SUJEITO 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LEVANTAMENTO 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8456120" y="2603520"/>
            <a:ext cx="108000" cy="290520"/>
            <a:chOff x="18456120" y="2603520"/>
            <a:chExt cx="108000" cy="290520"/>
          </a:xfrm>
        </p:grpSpPr>
        <p:sp>
          <p:nvSpPr>
            <p:cNvPr id="224" name=""/>
            <p:cNvSpPr/>
            <p:nvPr/>
          </p:nvSpPr>
          <p:spPr>
            <a:xfrm>
              <a:off x="18456120" y="2603520"/>
              <a:ext cx="108000" cy="10764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510120" y="2714400"/>
              <a:ext cx="0" cy="179640"/>
            </a:xfrm>
            <a:prstGeom prst="line">
              <a:avLst/>
            </a:prstGeom>
            <a:ln w="64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6894080" y="2600280"/>
            <a:ext cx="108000" cy="290520"/>
            <a:chOff x="16894080" y="2600280"/>
            <a:chExt cx="108000" cy="290520"/>
          </a:xfrm>
        </p:grpSpPr>
        <p:sp>
          <p:nvSpPr>
            <p:cNvPr id="227" name=""/>
            <p:cNvSpPr/>
            <p:nvPr/>
          </p:nvSpPr>
          <p:spPr>
            <a:xfrm>
              <a:off x="16894080" y="2600280"/>
              <a:ext cx="108000" cy="10764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948080" y="2711160"/>
              <a:ext cx="0" cy="179640"/>
            </a:xfrm>
            <a:prstGeom prst="line">
              <a:avLst/>
            </a:prstGeom>
            <a:ln w="64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7278200" y="2603520"/>
            <a:ext cx="108000" cy="290520"/>
            <a:chOff x="17278200" y="2603520"/>
            <a:chExt cx="108000" cy="290520"/>
          </a:xfrm>
        </p:grpSpPr>
        <p:sp>
          <p:nvSpPr>
            <p:cNvPr id="230" name=""/>
            <p:cNvSpPr/>
            <p:nvPr/>
          </p:nvSpPr>
          <p:spPr>
            <a:xfrm>
              <a:off x="17278200" y="2603520"/>
              <a:ext cx="108000" cy="10764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332200" y="2714400"/>
              <a:ext cx="0" cy="179640"/>
            </a:xfrm>
            <a:prstGeom prst="line">
              <a:avLst/>
            </a:prstGeom>
            <a:ln w="64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8052920" y="2603520"/>
            <a:ext cx="108000" cy="290520"/>
            <a:chOff x="18052920" y="2603520"/>
            <a:chExt cx="108000" cy="290520"/>
          </a:xfrm>
        </p:grpSpPr>
        <p:sp>
          <p:nvSpPr>
            <p:cNvPr id="233" name=""/>
            <p:cNvSpPr/>
            <p:nvPr/>
          </p:nvSpPr>
          <p:spPr>
            <a:xfrm>
              <a:off x="18052920" y="2603520"/>
              <a:ext cx="108000" cy="10764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106920" y="2714400"/>
              <a:ext cx="0" cy="179640"/>
            </a:xfrm>
            <a:prstGeom prst="line">
              <a:avLst/>
            </a:prstGeom>
            <a:ln w="64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7665560" y="2603520"/>
            <a:ext cx="108000" cy="290520"/>
            <a:chOff x="17665560" y="2603520"/>
            <a:chExt cx="108000" cy="290520"/>
          </a:xfrm>
        </p:grpSpPr>
        <p:sp>
          <p:nvSpPr>
            <p:cNvPr id="236" name=""/>
            <p:cNvSpPr/>
            <p:nvPr/>
          </p:nvSpPr>
          <p:spPr>
            <a:xfrm>
              <a:off x="17665560" y="2603520"/>
              <a:ext cx="108000" cy="10764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719560" y="2714400"/>
              <a:ext cx="0" cy="179640"/>
            </a:xfrm>
            <a:prstGeom prst="line">
              <a:avLst/>
            </a:prstGeom>
            <a:ln w="64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6557480" y="1279440"/>
            <a:ext cx="0" cy="16527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434760" y="18207000"/>
            <a:ext cx="716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878840" y="1820880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884960" y="19726200"/>
            <a:ext cx="716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48720" y="18219600"/>
            <a:ext cx="7128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86760" y="21202560"/>
            <a:ext cx="7128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198840" y="21199320"/>
            <a:ext cx="7128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439800" y="1974852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726360" y="1243080"/>
            <a:ext cx="0" cy="18968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90000" y="444348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30880" y="1365264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035720" y="2414520"/>
            <a:ext cx="361800" cy="5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631160" y="2081160"/>
            <a:ext cx="287280" cy="5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7025480" y="1890720"/>
            <a:ext cx="1089360" cy="262080"/>
            <a:chOff x="17025480" y="1890720"/>
            <a:chExt cx="1089360" cy="262080"/>
          </a:xfrm>
        </p:grpSpPr>
        <p:sp>
          <p:nvSpPr>
            <p:cNvPr id="252" name=""/>
            <p:cNvSpPr/>
            <p:nvPr/>
          </p:nvSpPr>
          <p:spPr>
            <a:xfrm>
              <a:off x="17025480" y="1906560"/>
              <a:ext cx="107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echnical"/>
                </a:rPr>
                <a:t>SANIT. FEM.  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848440" y="1890720"/>
              <a:ext cx="26640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9970640" y="1757520"/>
            <a:ext cx="1225800" cy="255600"/>
            <a:chOff x="19970640" y="1757520"/>
            <a:chExt cx="1225800" cy="255600"/>
          </a:xfrm>
        </p:grpSpPr>
        <p:sp>
          <p:nvSpPr>
            <p:cNvPr id="255" name=""/>
            <p:cNvSpPr/>
            <p:nvPr/>
          </p:nvSpPr>
          <p:spPr>
            <a:xfrm>
              <a:off x="19970640" y="1766880"/>
              <a:ext cx="120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echnical"/>
                </a:rPr>
                <a:t>SANIT.  MASC.  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929680" y="1757520"/>
              <a:ext cx="26676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0723400" y="2325600"/>
            <a:ext cx="0" cy="5670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510720" y="2050920"/>
            <a:ext cx="17780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512160" y="1436760"/>
            <a:ext cx="0" cy="151452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331000" y="2322360"/>
            <a:ext cx="0" cy="5716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112200" y="2317680"/>
            <a:ext cx="0" cy="58104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9353240" y="2443320"/>
            <a:ext cx="5652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967400" y="2327400"/>
            <a:ext cx="156708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22720" y="2327400"/>
            <a:ext cx="195732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311760" y="2327400"/>
            <a:ext cx="0" cy="57132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1469320" y="1786680"/>
            <a:ext cx="74520" cy="396360"/>
            <a:chOff x="21469320" y="1786680"/>
            <a:chExt cx="74520" cy="396360"/>
          </a:xfrm>
        </p:grpSpPr>
        <p:sp>
          <p:nvSpPr>
            <p:cNvPr id="267" name=""/>
            <p:cNvSpPr/>
            <p:nvPr/>
          </p:nvSpPr>
          <p:spPr>
            <a:xfrm>
              <a:off x="21469320" y="1786680"/>
              <a:ext cx="74520" cy="39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505680" y="1788120"/>
              <a:ext cx="0" cy="394920"/>
            </a:xfrm>
            <a:prstGeom prst="line">
              <a:avLst/>
            </a:prstGeom>
            <a:ln w="316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0064960" y="2669040"/>
            <a:ext cx="144360" cy="214920"/>
            <a:chOff x="20064960" y="2669040"/>
            <a:chExt cx="144360" cy="214920"/>
          </a:xfrm>
        </p:grpSpPr>
        <p:sp>
          <p:nvSpPr>
            <p:cNvPr id="270" name=""/>
            <p:cNvSpPr/>
            <p:nvPr/>
          </p:nvSpPr>
          <p:spPr>
            <a:xfrm flipH="1" flipV="1" rot="10800000">
              <a:off x="20075400" y="2668680"/>
              <a:ext cx="115920" cy="160200"/>
            </a:xfrm>
            <a:custGeom>
              <a:avLst/>
              <a:gdLst/>
              <a:ahLst/>
              <a:rect l="l" t="t" r="r" b="b"/>
              <a:pathLst>
                <a:path w="236" h="302">
                  <a:moveTo>
                    <a:pt x="218" y="299"/>
                  </a:moveTo>
                  <a:lnTo>
                    <a:pt x="233" y="231"/>
                  </a:lnTo>
                  <a:lnTo>
                    <a:pt x="236" y="200"/>
                  </a:lnTo>
                  <a:lnTo>
                    <a:pt x="235" y="170"/>
                  </a:lnTo>
                  <a:lnTo>
                    <a:pt x="233" y="144"/>
                  </a:lnTo>
                  <a:lnTo>
                    <a:pt x="229" y="114"/>
                  </a:lnTo>
                  <a:lnTo>
                    <a:pt x="222" y="83"/>
                  </a:lnTo>
                  <a:lnTo>
                    <a:pt x="213" y="53"/>
                  </a:lnTo>
                  <a:lnTo>
                    <a:pt x="208" y="40"/>
                  </a:lnTo>
                  <a:lnTo>
                    <a:pt x="178" y="11"/>
                  </a:lnTo>
                  <a:lnTo>
                    <a:pt x="161" y="5"/>
                  </a:lnTo>
                  <a:lnTo>
                    <a:pt x="152" y="2"/>
                  </a:lnTo>
                  <a:lnTo>
                    <a:pt x="135" y="0"/>
                  </a:lnTo>
                  <a:lnTo>
                    <a:pt x="131" y="0"/>
                  </a:lnTo>
                  <a:lnTo>
                    <a:pt x="119" y="0"/>
                  </a:lnTo>
                  <a:lnTo>
                    <a:pt x="105" y="0"/>
                  </a:lnTo>
                  <a:lnTo>
                    <a:pt x="98" y="0"/>
                  </a:lnTo>
                  <a:lnTo>
                    <a:pt x="84" y="2"/>
                  </a:lnTo>
                  <a:lnTo>
                    <a:pt x="75" y="5"/>
                  </a:lnTo>
                  <a:lnTo>
                    <a:pt x="58" y="11"/>
                  </a:lnTo>
                  <a:lnTo>
                    <a:pt x="28" y="40"/>
                  </a:lnTo>
                  <a:lnTo>
                    <a:pt x="22" y="53"/>
                  </a:lnTo>
                  <a:lnTo>
                    <a:pt x="14" y="83"/>
                  </a:lnTo>
                  <a:lnTo>
                    <a:pt x="6" y="114"/>
                  </a:lnTo>
                  <a:lnTo>
                    <a:pt x="2" y="144"/>
                  </a:lnTo>
                  <a:lnTo>
                    <a:pt x="0" y="170"/>
                  </a:lnTo>
                  <a:lnTo>
                    <a:pt x="0" y="200"/>
                  </a:lnTo>
                  <a:lnTo>
                    <a:pt x="3" y="231"/>
                  </a:lnTo>
                  <a:lnTo>
                    <a:pt x="14" y="302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 rot="10800000">
              <a:off x="20089800" y="2679840"/>
              <a:ext cx="85680" cy="12348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115" y="188"/>
                  </a:moveTo>
                  <a:lnTo>
                    <a:pt x="140" y="179"/>
                  </a:lnTo>
                  <a:lnTo>
                    <a:pt x="161" y="138"/>
                  </a:lnTo>
                  <a:lnTo>
                    <a:pt x="156" y="79"/>
                  </a:lnTo>
                  <a:lnTo>
                    <a:pt x="145" y="34"/>
                  </a:lnTo>
                  <a:lnTo>
                    <a:pt x="135" y="15"/>
                  </a:lnTo>
                  <a:lnTo>
                    <a:pt x="114" y="3"/>
                  </a:lnTo>
                  <a:lnTo>
                    <a:pt x="106" y="3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47" y="3"/>
                  </a:lnTo>
                  <a:lnTo>
                    <a:pt x="26" y="15"/>
                  </a:lnTo>
                  <a:lnTo>
                    <a:pt x="16" y="34"/>
                  </a:lnTo>
                  <a:lnTo>
                    <a:pt x="6" y="79"/>
                  </a:lnTo>
                  <a:lnTo>
                    <a:pt x="0" y="138"/>
                  </a:lnTo>
                  <a:lnTo>
                    <a:pt x="21" y="179"/>
                  </a:lnTo>
                  <a:lnTo>
                    <a:pt x="46" y="188"/>
                  </a:lnTo>
                  <a:lnTo>
                    <a:pt x="81" y="191"/>
                  </a:lnTo>
                  <a:lnTo>
                    <a:pt x="115" y="188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 rot="10800000">
              <a:off x="20064600" y="2827080"/>
              <a:ext cx="144360" cy="56880"/>
            </a:xfrm>
            <a:custGeom>
              <a:avLst/>
              <a:gdLst/>
              <a:ahLst/>
              <a:rect l="l" t="t" r="r" b="b"/>
              <a:pathLst>
                <a:path w="274" h="97">
                  <a:moveTo>
                    <a:pt x="13" y="0"/>
                  </a:moveTo>
                  <a:lnTo>
                    <a:pt x="10" y="0"/>
                  </a:lnTo>
                  <a:lnTo>
                    <a:pt x="5" y="3"/>
                  </a:lnTo>
                  <a:lnTo>
                    <a:pt x="4" y="9"/>
                  </a:lnTo>
                  <a:lnTo>
                    <a:pt x="4" y="19"/>
                  </a:lnTo>
                  <a:lnTo>
                    <a:pt x="4" y="37"/>
                  </a:lnTo>
                  <a:lnTo>
                    <a:pt x="4" y="42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4" y="53"/>
                  </a:lnTo>
                  <a:lnTo>
                    <a:pt x="4" y="88"/>
                  </a:lnTo>
                  <a:lnTo>
                    <a:pt x="6" y="93"/>
                  </a:lnTo>
                  <a:lnTo>
                    <a:pt x="12" y="97"/>
                  </a:lnTo>
                  <a:lnTo>
                    <a:pt x="14" y="97"/>
                  </a:lnTo>
                  <a:lnTo>
                    <a:pt x="131" y="97"/>
                  </a:lnTo>
                  <a:lnTo>
                    <a:pt x="247" y="97"/>
                  </a:lnTo>
                  <a:lnTo>
                    <a:pt x="248" y="97"/>
                  </a:lnTo>
                  <a:lnTo>
                    <a:pt x="255" y="93"/>
                  </a:lnTo>
                  <a:lnTo>
                    <a:pt x="257" y="88"/>
                  </a:lnTo>
                  <a:lnTo>
                    <a:pt x="257" y="53"/>
                  </a:lnTo>
                  <a:lnTo>
                    <a:pt x="259" y="53"/>
                  </a:lnTo>
                  <a:lnTo>
                    <a:pt x="261" y="47"/>
                  </a:lnTo>
                  <a:lnTo>
                    <a:pt x="259" y="44"/>
                  </a:lnTo>
                  <a:lnTo>
                    <a:pt x="259" y="42"/>
                  </a:lnTo>
                  <a:lnTo>
                    <a:pt x="257" y="42"/>
                  </a:lnTo>
                  <a:lnTo>
                    <a:pt x="257" y="37"/>
                  </a:lnTo>
                  <a:lnTo>
                    <a:pt x="265" y="37"/>
                  </a:lnTo>
                  <a:lnTo>
                    <a:pt x="265" y="38"/>
                  </a:lnTo>
                  <a:lnTo>
                    <a:pt x="274" y="38"/>
                  </a:lnTo>
                  <a:lnTo>
                    <a:pt x="274" y="28"/>
                  </a:lnTo>
                  <a:lnTo>
                    <a:pt x="274" y="18"/>
                  </a:lnTo>
                  <a:lnTo>
                    <a:pt x="265" y="18"/>
                  </a:lnTo>
                  <a:lnTo>
                    <a:pt x="265" y="19"/>
                  </a:lnTo>
                  <a:lnTo>
                    <a:pt x="257" y="19"/>
                  </a:lnTo>
                  <a:lnTo>
                    <a:pt x="257" y="9"/>
                  </a:lnTo>
                  <a:lnTo>
                    <a:pt x="255" y="3"/>
                  </a:lnTo>
                  <a:lnTo>
                    <a:pt x="250" y="0"/>
                  </a:lnTo>
                  <a:lnTo>
                    <a:pt x="247" y="0"/>
                  </a:lnTo>
                  <a:lnTo>
                    <a:pt x="131" y="0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0800000">
              <a:off x="20121480" y="2745000"/>
              <a:ext cx="23760" cy="3456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2" y="9"/>
                  </a:moveTo>
                  <a:lnTo>
                    <a:pt x="24" y="0"/>
                  </a:lnTo>
                  <a:lnTo>
                    <a:pt x="5" y="9"/>
                  </a:lnTo>
                  <a:lnTo>
                    <a:pt x="0" y="22"/>
                  </a:lnTo>
                  <a:lnTo>
                    <a:pt x="0" y="59"/>
                  </a:lnTo>
                  <a:lnTo>
                    <a:pt x="46" y="59"/>
                  </a:lnTo>
                  <a:lnTo>
                    <a:pt x="46" y="22"/>
                  </a:lnTo>
                  <a:lnTo>
                    <a:pt x="42" y="9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0464560" y="2669040"/>
            <a:ext cx="144360" cy="214920"/>
            <a:chOff x="20464560" y="2669040"/>
            <a:chExt cx="144360" cy="214920"/>
          </a:xfrm>
        </p:grpSpPr>
        <p:sp>
          <p:nvSpPr>
            <p:cNvPr id="275" name=""/>
            <p:cNvSpPr/>
            <p:nvPr/>
          </p:nvSpPr>
          <p:spPr>
            <a:xfrm flipH="1" flipV="1" rot="10800000">
              <a:off x="20475000" y="2668680"/>
              <a:ext cx="115920" cy="160200"/>
            </a:xfrm>
            <a:custGeom>
              <a:avLst/>
              <a:gdLst/>
              <a:ahLst/>
              <a:rect l="l" t="t" r="r" b="b"/>
              <a:pathLst>
                <a:path w="236" h="302">
                  <a:moveTo>
                    <a:pt x="218" y="299"/>
                  </a:moveTo>
                  <a:lnTo>
                    <a:pt x="233" y="231"/>
                  </a:lnTo>
                  <a:lnTo>
                    <a:pt x="236" y="200"/>
                  </a:lnTo>
                  <a:lnTo>
                    <a:pt x="235" y="170"/>
                  </a:lnTo>
                  <a:lnTo>
                    <a:pt x="233" y="144"/>
                  </a:lnTo>
                  <a:lnTo>
                    <a:pt x="229" y="114"/>
                  </a:lnTo>
                  <a:lnTo>
                    <a:pt x="222" y="83"/>
                  </a:lnTo>
                  <a:lnTo>
                    <a:pt x="213" y="53"/>
                  </a:lnTo>
                  <a:lnTo>
                    <a:pt x="208" y="40"/>
                  </a:lnTo>
                  <a:lnTo>
                    <a:pt x="178" y="11"/>
                  </a:lnTo>
                  <a:lnTo>
                    <a:pt x="161" y="5"/>
                  </a:lnTo>
                  <a:lnTo>
                    <a:pt x="152" y="2"/>
                  </a:lnTo>
                  <a:lnTo>
                    <a:pt x="135" y="0"/>
                  </a:lnTo>
                  <a:lnTo>
                    <a:pt x="131" y="0"/>
                  </a:lnTo>
                  <a:lnTo>
                    <a:pt x="119" y="0"/>
                  </a:lnTo>
                  <a:lnTo>
                    <a:pt x="105" y="0"/>
                  </a:lnTo>
                  <a:lnTo>
                    <a:pt x="98" y="0"/>
                  </a:lnTo>
                  <a:lnTo>
                    <a:pt x="84" y="2"/>
                  </a:lnTo>
                  <a:lnTo>
                    <a:pt x="75" y="5"/>
                  </a:lnTo>
                  <a:lnTo>
                    <a:pt x="58" y="11"/>
                  </a:lnTo>
                  <a:lnTo>
                    <a:pt x="28" y="40"/>
                  </a:lnTo>
                  <a:lnTo>
                    <a:pt x="22" y="53"/>
                  </a:lnTo>
                  <a:lnTo>
                    <a:pt x="14" y="83"/>
                  </a:lnTo>
                  <a:lnTo>
                    <a:pt x="6" y="114"/>
                  </a:lnTo>
                  <a:lnTo>
                    <a:pt x="2" y="144"/>
                  </a:lnTo>
                  <a:lnTo>
                    <a:pt x="0" y="170"/>
                  </a:lnTo>
                  <a:lnTo>
                    <a:pt x="0" y="200"/>
                  </a:lnTo>
                  <a:lnTo>
                    <a:pt x="3" y="231"/>
                  </a:lnTo>
                  <a:lnTo>
                    <a:pt x="14" y="302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 rot="10800000">
              <a:off x="20489400" y="2679840"/>
              <a:ext cx="85680" cy="12348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115" y="188"/>
                  </a:moveTo>
                  <a:lnTo>
                    <a:pt x="140" y="179"/>
                  </a:lnTo>
                  <a:lnTo>
                    <a:pt x="161" y="138"/>
                  </a:lnTo>
                  <a:lnTo>
                    <a:pt x="156" y="79"/>
                  </a:lnTo>
                  <a:lnTo>
                    <a:pt x="145" y="34"/>
                  </a:lnTo>
                  <a:lnTo>
                    <a:pt x="135" y="15"/>
                  </a:lnTo>
                  <a:lnTo>
                    <a:pt x="114" y="3"/>
                  </a:lnTo>
                  <a:lnTo>
                    <a:pt x="106" y="3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47" y="3"/>
                  </a:lnTo>
                  <a:lnTo>
                    <a:pt x="26" y="15"/>
                  </a:lnTo>
                  <a:lnTo>
                    <a:pt x="16" y="34"/>
                  </a:lnTo>
                  <a:lnTo>
                    <a:pt x="6" y="79"/>
                  </a:lnTo>
                  <a:lnTo>
                    <a:pt x="0" y="138"/>
                  </a:lnTo>
                  <a:lnTo>
                    <a:pt x="21" y="179"/>
                  </a:lnTo>
                  <a:lnTo>
                    <a:pt x="46" y="188"/>
                  </a:lnTo>
                  <a:lnTo>
                    <a:pt x="81" y="191"/>
                  </a:lnTo>
                  <a:lnTo>
                    <a:pt x="115" y="188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 rot="10800000">
              <a:off x="20464200" y="2827080"/>
              <a:ext cx="144360" cy="56880"/>
            </a:xfrm>
            <a:custGeom>
              <a:avLst/>
              <a:gdLst/>
              <a:ahLst/>
              <a:rect l="l" t="t" r="r" b="b"/>
              <a:pathLst>
                <a:path w="274" h="97">
                  <a:moveTo>
                    <a:pt x="13" y="0"/>
                  </a:moveTo>
                  <a:lnTo>
                    <a:pt x="10" y="0"/>
                  </a:lnTo>
                  <a:lnTo>
                    <a:pt x="5" y="3"/>
                  </a:lnTo>
                  <a:lnTo>
                    <a:pt x="4" y="9"/>
                  </a:lnTo>
                  <a:lnTo>
                    <a:pt x="4" y="19"/>
                  </a:lnTo>
                  <a:lnTo>
                    <a:pt x="4" y="37"/>
                  </a:lnTo>
                  <a:lnTo>
                    <a:pt x="4" y="42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4" y="53"/>
                  </a:lnTo>
                  <a:lnTo>
                    <a:pt x="4" y="88"/>
                  </a:lnTo>
                  <a:lnTo>
                    <a:pt x="6" y="93"/>
                  </a:lnTo>
                  <a:lnTo>
                    <a:pt x="12" y="97"/>
                  </a:lnTo>
                  <a:lnTo>
                    <a:pt x="14" y="97"/>
                  </a:lnTo>
                  <a:lnTo>
                    <a:pt x="131" y="97"/>
                  </a:lnTo>
                  <a:lnTo>
                    <a:pt x="247" y="97"/>
                  </a:lnTo>
                  <a:lnTo>
                    <a:pt x="248" y="97"/>
                  </a:lnTo>
                  <a:lnTo>
                    <a:pt x="255" y="93"/>
                  </a:lnTo>
                  <a:lnTo>
                    <a:pt x="257" y="88"/>
                  </a:lnTo>
                  <a:lnTo>
                    <a:pt x="257" y="53"/>
                  </a:lnTo>
                  <a:lnTo>
                    <a:pt x="259" y="53"/>
                  </a:lnTo>
                  <a:lnTo>
                    <a:pt x="261" y="47"/>
                  </a:lnTo>
                  <a:lnTo>
                    <a:pt x="259" y="44"/>
                  </a:lnTo>
                  <a:lnTo>
                    <a:pt x="259" y="42"/>
                  </a:lnTo>
                  <a:lnTo>
                    <a:pt x="257" y="42"/>
                  </a:lnTo>
                  <a:lnTo>
                    <a:pt x="257" y="37"/>
                  </a:lnTo>
                  <a:lnTo>
                    <a:pt x="265" y="37"/>
                  </a:lnTo>
                  <a:lnTo>
                    <a:pt x="265" y="38"/>
                  </a:lnTo>
                  <a:lnTo>
                    <a:pt x="274" y="38"/>
                  </a:lnTo>
                  <a:lnTo>
                    <a:pt x="274" y="28"/>
                  </a:lnTo>
                  <a:lnTo>
                    <a:pt x="274" y="18"/>
                  </a:lnTo>
                  <a:lnTo>
                    <a:pt x="265" y="18"/>
                  </a:lnTo>
                  <a:lnTo>
                    <a:pt x="265" y="19"/>
                  </a:lnTo>
                  <a:lnTo>
                    <a:pt x="257" y="19"/>
                  </a:lnTo>
                  <a:lnTo>
                    <a:pt x="257" y="9"/>
                  </a:lnTo>
                  <a:lnTo>
                    <a:pt x="255" y="3"/>
                  </a:lnTo>
                  <a:lnTo>
                    <a:pt x="250" y="0"/>
                  </a:lnTo>
                  <a:lnTo>
                    <a:pt x="247" y="0"/>
                  </a:lnTo>
                  <a:lnTo>
                    <a:pt x="131" y="0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 rot="10800000">
              <a:off x="20521080" y="2745000"/>
              <a:ext cx="23760" cy="3456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2" y="9"/>
                  </a:moveTo>
                  <a:lnTo>
                    <a:pt x="24" y="0"/>
                  </a:lnTo>
                  <a:lnTo>
                    <a:pt x="5" y="9"/>
                  </a:lnTo>
                  <a:lnTo>
                    <a:pt x="0" y="22"/>
                  </a:lnTo>
                  <a:lnTo>
                    <a:pt x="0" y="59"/>
                  </a:lnTo>
                  <a:lnTo>
                    <a:pt x="46" y="59"/>
                  </a:lnTo>
                  <a:lnTo>
                    <a:pt x="46" y="22"/>
                  </a:lnTo>
                  <a:lnTo>
                    <a:pt x="42" y="9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0858760" y="2669040"/>
            <a:ext cx="144360" cy="214920"/>
            <a:chOff x="20858760" y="2669040"/>
            <a:chExt cx="144360" cy="214920"/>
          </a:xfrm>
        </p:grpSpPr>
        <p:sp>
          <p:nvSpPr>
            <p:cNvPr id="280" name=""/>
            <p:cNvSpPr/>
            <p:nvPr/>
          </p:nvSpPr>
          <p:spPr>
            <a:xfrm flipH="1" flipV="1" rot="10800000">
              <a:off x="20869200" y="2668680"/>
              <a:ext cx="115920" cy="160200"/>
            </a:xfrm>
            <a:custGeom>
              <a:avLst/>
              <a:gdLst/>
              <a:ahLst/>
              <a:rect l="l" t="t" r="r" b="b"/>
              <a:pathLst>
                <a:path w="236" h="302">
                  <a:moveTo>
                    <a:pt x="218" y="299"/>
                  </a:moveTo>
                  <a:lnTo>
                    <a:pt x="233" y="231"/>
                  </a:lnTo>
                  <a:lnTo>
                    <a:pt x="236" y="200"/>
                  </a:lnTo>
                  <a:lnTo>
                    <a:pt x="235" y="170"/>
                  </a:lnTo>
                  <a:lnTo>
                    <a:pt x="233" y="144"/>
                  </a:lnTo>
                  <a:lnTo>
                    <a:pt x="229" y="114"/>
                  </a:lnTo>
                  <a:lnTo>
                    <a:pt x="222" y="83"/>
                  </a:lnTo>
                  <a:lnTo>
                    <a:pt x="213" y="53"/>
                  </a:lnTo>
                  <a:lnTo>
                    <a:pt x="208" y="40"/>
                  </a:lnTo>
                  <a:lnTo>
                    <a:pt x="178" y="11"/>
                  </a:lnTo>
                  <a:lnTo>
                    <a:pt x="161" y="5"/>
                  </a:lnTo>
                  <a:lnTo>
                    <a:pt x="152" y="2"/>
                  </a:lnTo>
                  <a:lnTo>
                    <a:pt x="135" y="0"/>
                  </a:lnTo>
                  <a:lnTo>
                    <a:pt x="131" y="0"/>
                  </a:lnTo>
                  <a:lnTo>
                    <a:pt x="119" y="0"/>
                  </a:lnTo>
                  <a:lnTo>
                    <a:pt x="105" y="0"/>
                  </a:lnTo>
                  <a:lnTo>
                    <a:pt x="98" y="0"/>
                  </a:lnTo>
                  <a:lnTo>
                    <a:pt x="84" y="2"/>
                  </a:lnTo>
                  <a:lnTo>
                    <a:pt x="75" y="5"/>
                  </a:lnTo>
                  <a:lnTo>
                    <a:pt x="58" y="11"/>
                  </a:lnTo>
                  <a:lnTo>
                    <a:pt x="28" y="40"/>
                  </a:lnTo>
                  <a:lnTo>
                    <a:pt x="22" y="53"/>
                  </a:lnTo>
                  <a:lnTo>
                    <a:pt x="14" y="83"/>
                  </a:lnTo>
                  <a:lnTo>
                    <a:pt x="6" y="114"/>
                  </a:lnTo>
                  <a:lnTo>
                    <a:pt x="2" y="144"/>
                  </a:lnTo>
                  <a:lnTo>
                    <a:pt x="0" y="170"/>
                  </a:lnTo>
                  <a:lnTo>
                    <a:pt x="0" y="200"/>
                  </a:lnTo>
                  <a:lnTo>
                    <a:pt x="3" y="231"/>
                  </a:lnTo>
                  <a:lnTo>
                    <a:pt x="14" y="302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 rot="10800000">
              <a:off x="20883600" y="2679840"/>
              <a:ext cx="85680" cy="12348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115" y="188"/>
                  </a:moveTo>
                  <a:lnTo>
                    <a:pt x="140" y="179"/>
                  </a:lnTo>
                  <a:lnTo>
                    <a:pt x="161" y="138"/>
                  </a:lnTo>
                  <a:lnTo>
                    <a:pt x="156" y="79"/>
                  </a:lnTo>
                  <a:lnTo>
                    <a:pt x="145" y="34"/>
                  </a:lnTo>
                  <a:lnTo>
                    <a:pt x="135" y="15"/>
                  </a:lnTo>
                  <a:lnTo>
                    <a:pt x="114" y="3"/>
                  </a:lnTo>
                  <a:lnTo>
                    <a:pt x="106" y="3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47" y="3"/>
                  </a:lnTo>
                  <a:lnTo>
                    <a:pt x="26" y="15"/>
                  </a:lnTo>
                  <a:lnTo>
                    <a:pt x="16" y="34"/>
                  </a:lnTo>
                  <a:lnTo>
                    <a:pt x="6" y="79"/>
                  </a:lnTo>
                  <a:lnTo>
                    <a:pt x="0" y="138"/>
                  </a:lnTo>
                  <a:lnTo>
                    <a:pt x="21" y="179"/>
                  </a:lnTo>
                  <a:lnTo>
                    <a:pt x="46" y="188"/>
                  </a:lnTo>
                  <a:lnTo>
                    <a:pt x="81" y="191"/>
                  </a:lnTo>
                  <a:lnTo>
                    <a:pt x="115" y="188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 rot="10800000">
              <a:off x="20858400" y="2827080"/>
              <a:ext cx="144360" cy="56880"/>
            </a:xfrm>
            <a:custGeom>
              <a:avLst/>
              <a:gdLst/>
              <a:ahLst/>
              <a:rect l="l" t="t" r="r" b="b"/>
              <a:pathLst>
                <a:path w="274" h="97">
                  <a:moveTo>
                    <a:pt x="13" y="0"/>
                  </a:moveTo>
                  <a:lnTo>
                    <a:pt x="10" y="0"/>
                  </a:lnTo>
                  <a:lnTo>
                    <a:pt x="5" y="3"/>
                  </a:lnTo>
                  <a:lnTo>
                    <a:pt x="4" y="9"/>
                  </a:lnTo>
                  <a:lnTo>
                    <a:pt x="4" y="19"/>
                  </a:lnTo>
                  <a:lnTo>
                    <a:pt x="4" y="37"/>
                  </a:lnTo>
                  <a:lnTo>
                    <a:pt x="4" y="42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4" y="53"/>
                  </a:lnTo>
                  <a:lnTo>
                    <a:pt x="4" y="88"/>
                  </a:lnTo>
                  <a:lnTo>
                    <a:pt x="6" y="93"/>
                  </a:lnTo>
                  <a:lnTo>
                    <a:pt x="12" y="97"/>
                  </a:lnTo>
                  <a:lnTo>
                    <a:pt x="14" y="97"/>
                  </a:lnTo>
                  <a:lnTo>
                    <a:pt x="131" y="97"/>
                  </a:lnTo>
                  <a:lnTo>
                    <a:pt x="247" y="97"/>
                  </a:lnTo>
                  <a:lnTo>
                    <a:pt x="248" y="97"/>
                  </a:lnTo>
                  <a:lnTo>
                    <a:pt x="255" y="93"/>
                  </a:lnTo>
                  <a:lnTo>
                    <a:pt x="257" y="88"/>
                  </a:lnTo>
                  <a:lnTo>
                    <a:pt x="257" y="53"/>
                  </a:lnTo>
                  <a:lnTo>
                    <a:pt x="259" y="53"/>
                  </a:lnTo>
                  <a:lnTo>
                    <a:pt x="261" y="47"/>
                  </a:lnTo>
                  <a:lnTo>
                    <a:pt x="259" y="44"/>
                  </a:lnTo>
                  <a:lnTo>
                    <a:pt x="259" y="42"/>
                  </a:lnTo>
                  <a:lnTo>
                    <a:pt x="257" y="42"/>
                  </a:lnTo>
                  <a:lnTo>
                    <a:pt x="257" y="37"/>
                  </a:lnTo>
                  <a:lnTo>
                    <a:pt x="265" y="37"/>
                  </a:lnTo>
                  <a:lnTo>
                    <a:pt x="265" y="38"/>
                  </a:lnTo>
                  <a:lnTo>
                    <a:pt x="274" y="38"/>
                  </a:lnTo>
                  <a:lnTo>
                    <a:pt x="274" y="28"/>
                  </a:lnTo>
                  <a:lnTo>
                    <a:pt x="274" y="18"/>
                  </a:lnTo>
                  <a:lnTo>
                    <a:pt x="265" y="18"/>
                  </a:lnTo>
                  <a:lnTo>
                    <a:pt x="265" y="19"/>
                  </a:lnTo>
                  <a:lnTo>
                    <a:pt x="257" y="19"/>
                  </a:lnTo>
                  <a:lnTo>
                    <a:pt x="257" y="9"/>
                  </a:lnTo>
                  <a:lnTo>
                    <a:pt x="255" y="3"/>
                  </a:lnTo>
                  <a:lnTo>
                    <a:pt x="250" y="0"/>
                  </a:lnTo>
                  <a:lnTo>
                    <a:pt x="247" y="0"/>
                  </a:lnTo>
                  <a:lnTo>
                    <a:pt x="131" y="0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 rot="10800000">
              <a:off x="20915280" y="2745000"/>
              <a:ext cx="23760" cy="3456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2" y="9"/>
                  </a:moveTo>
                  <a:lnTo>
                    <a:pt x="24" y="0"/>
                  </a:lnTo>
                  <a:lnTo>
                    <a:pt x="5" y="9"/>
                  </a:lnTo>
                  <a:lnTo>
                    <a:pt x="0" y="22"/>
                  </a:lnTo>
                  <a:lnTo>
                    <a:pt x="0" y="59"/>
                  </a:lnTo>
                  <a:lnTo>
                    <a:pt x="46" y="59"/>
                  </a:lnTo>
                  <a:lnTo>
                    <a:pt x="46" y="22"/>
                  </a:lnTo>
                  <a:lnTo>
                    <a:pt x="42" y="9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1261960" y="2669040"/>
            <a:ext cx="144360" cy="214920"/>
            <a:chOff x="21261960" y="2669040"/>
            <a:chExt cx="144360" cy="214920"/>
          </a:xfrm>
        </p:grpSpPr>
        <p:sp>
          <p:nvSpPr>
            <p:cNvPr id="285" name=""/>
            <p:cNvSpPr/>
            <p:nvPr/>
          </p:nvSpPr>
          <p:spPr>
            <a:xfrm flipH="1" flipV="1" rot="10800000">
              <a:off x="21272400" y="2668680"/>
              <a:ext cx="115920" cy="160200"/>
            </a:xfrm>
            <a:custGeom>
              <a:avLst/>
              <a:gdLst/>
              <a:ahLst/>
              <a:rect l="l" t="t" r="r" b="b"/>
              <a:pathLst>
                <a:path w="236" h="302">
                  <a:moveTo>
                    <a:pt x="218" y="299"/>
                  </a:moveTo>
                  <a:lnTo>
                    <a:pt x="233" y="231"/>
                  </a:lnTo>
                  <a:lnTo>
                    <a:pt x="236" y="200"/>
                  </a:lnTo>
                  <a:lnTo>
                    <a:pt x="235" y="170"/>
                  </a:lnTo>
                  <a:lnTo>
                    <a:pt x="233" y="144"/>
                  </a:lnTo>
                  <a:lnTo>
                    <a:pt x="229" y="114"/>
                  </a:lnTo>
                  <a:lnTo>
                    <a:pt x="222" y="83"/>
                  </a:lnTo>
                  <a:lnTo>
                    <a:pt x="213" y="53"/>
                  </a:lnTo>
                  <a:lnTo>
                    <a:pt x="208" y="40"/>
                  </a:lnTo>
                  <a:lnTo>
                    <a:pt x="178" y="11"/>
                  </a:lnTo>
                  <a:lnTo>
                    <a:pt x="161" y="5"/>
                  </a:lnTo>
                  <a:lnTo>
                    <a:pt x="152" y="2"/>
                  </a:lnTo>
                  <a:lnTo>
                    <a:pt x="135" y="0"/>
                  </a:lnTo>
                  <a:lnTo>
                    <a:pt x="131" y="0"/>
                  </a:lnTo>
                  <a:lnTo>
                    <a:pt x="119" y="0"/>
                  </a:lnTo>
                  <a:lnTo>
                    <a:pt x="105" y="0"/>
                  </a:lnTo>
                  <a:lnTo>
                    <a:pt x="98" y="0"/>
                  </a:lnTo>
                  <a:lnTo>
                    <a:pt x="84" y="2"/>
                  </a:lnTo>
                  <a:lnTo>
                    <a:pt x="75" y="5"/>
                  </a:lnTo>
                  <a:lnTo>
                    <a:pt x="58" y="11"/>
                  </a:lnTo>
                  <a:lnTo>
                    <a:pt x="28" y="40"/>
                  </a:lnTo>
                  <a:lnTo>
                    <a:pt x="22" y="53"/>
                  </a:lnTo>
                  <a:lnTo>
                    <a:pt x="14" y="83"/>
                  </a:lnTo>
                  <a:lnTo>
                    <a:pt x="6" y="114"/>
                  </a:lnTo>
                  <a:lnTo>
                    <a:pt x="2" y="144"/>
                  </a:lnTo>
                  <a:lnTo>
                    <a:pt x="0" y="170"/>
                  </a:lnTo>
                  <a:lnTo>
                    <a:pt x="0" y="200"/>
                  </a:lnTo>
                  <a:lnTo>
                    <a:pt x="3" y="231"/>
                  </a:lnTo>
                  <a:lnTo>
                    <a:pt x="14" y="302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 rot="10800000">
              <a:off x="21286800" y="2679840"/>
              <a:ext cx="85680" cy="12348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115" y="188"/>
                  </a:moveTo>
                  <a:lnTo>
                    <a:pt x="140" y="179"/>
                  </a:lnTo>
                  <a:lnTo>
                    <a:pt x="161" y="138"/>
                  </a:lnTo>
                  <a:lnTo>
                    <a:pt x="156" y="79"/>
                  </a:lnTo>
                  <a:lnTo>
                    <a:pt x="145" y="34"/>
                  </a:lnTo>
                  <a:lnTo>
                    <a:pt x="135" y="15"/>
                  </a:lnTo>
                  <a:lnTo>
                    <a:pt x="114" y="3"/>
                  </a:lnTo>
                  <a:lnTo>
                    <a:pt x="106" y="3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47" y="3"/>
                  </a:lnTo>
                  <a:lnTo>
                    <a:pt x="26" y="15"/>
                  </a:lnTo>
                  <a:lnTo>
                    <a:pt x="16" y="34"/>
                  </a:lnTo>
                  <a:lnTo>
                    <a:pt x="6" y="79"/>
                  </a:lnTo>
                  <a:lnTo>
                    <a:pt x="0" y="138"/>
                  </a:lnTo>
                  <a:lnTo>
                    <a:pt x="21" y="179"/>
                  </a:lnTo>
                  <a:lnTo>
                    <a:pt x="46" y="188"/>
                  </a:lnTo>
                  <a:lnTo>
                    <a:pt x="81" y="191"/>
                  </a:lnTo>
                  <a:lnTo>
                    <a:pt x="115" y="188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 rot="10800000">
              <a:off x="21261600" y="2827080"/>
              <a:ext cx="144360" cy="56880"/>
            </a:xfrm>
            <a:custGeom>
              <a:avLst/>
              <a:gdLst/>
              <a:ahLst/>
              <a:rect l="l" t="t" r="r" b="b"/>
              <a:pathLst>
                <a:path w="274" h="97">
                  <a:moveTo>
                    <a:pt x="13" y="0"/>
                  </a:moveTo>
                  <a:lnTo>
                    <a:pt x="10" y="0"/>
                  </a:lnTo>
                  <a:lnTo>
                    <a:pt x="5" y="3"/>
                  </a:lnTo>
                  <a:lnTo>
                    <a:pt x="4" y="9"/>
                  </a:lnTo>
                  <a:lnTo>
                    <a:pt x="4" y="19"/>
                  </a:lnTo>
                  <a:lnTo>
                    <a:pt x="4" y="37"/>
                  </a:lnTo>
                  <a:lnTo>
                    <a:pt x="4" y="42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4" y="53"/>
                  </a:lnTo>
                  <a:lnTo>
                    <a:pt x="4" y="88"/>
                  </a:lnTo>
                  <a:lnTo>
                    <a:pt x="6" y="93"/>
                  </a:lnTo>
                  <a:lnTo>
                    <a:pt x="12" y="97"/>
                  </a:lnTo>
                  <a:lnTo>
                    <a:pt x="14" y="97"/>
                  </a:lnTo>
                  <a:lnTo>
                    <a:pt x="131" y="97"/>
                  </a:lnTo>
                  <a:lnTo>
                    <a:pt x="247" y="97"/>
                  </a:lnTo>
                  <a:lnTo>
                    <a:pt x="248" y="97"/>
                  </a:lnTo>
                  <a:lnTo>
                    <a:pt x="255" y="93"/>
                  </a:lnTo>
                  <a:lnTo>
                    <a:pt x="257" y="88"/>
                  </a:lnTo>
                  <a:lnTo>
                    <a:pt x="257" y="53"/>
                  </a:lnTo>
                  <a:lnTo>
                    <a:pt x="259" y="53"/>
                  </a:lnTo>
                  <a:lnTo>
                    <a:pt x="261" y="47"/>
                  </a:lnTo>
                  <a:lnTo>
                    <a:pt x="259" y="44"/>
                  </a:lnTo>
                  <a:lnTo>
                    <a:pt x="259" y="42"/>
                  </a:lnTo>
                  <a:lnTo>
                    <a:pt x="257" y="42"/>
                  </a:lnTo>
                  <a:lnTo>
                    <a:pt x="257" y="37"/>
                  </a:lnTo>
                  <a:lnTo>
                    <a:pt x="265" y="37"/>
                  </a:lnTo>
                  <a:lnTo>
                    <a:pt x="265" y="38"/>
                  </a:lnTo>
                  <a:lnTo>
                    <a:pt x="274" y="38"/>
                  </a:lnTo>
                  <a:lnTo>
                    <a:pt x="274" y="28"/>
                  </a:lnTo>
                  <a:lnTo>
                    <a:pt x="274" y="18"/>
                  </a:lnTo>
                  <a:lnTo>
                    <a:pt x="265" y="18"/>
                  </a:lnTo>
                  <a:lnTo>
                    <a:pt x="265" y="19"/>
                  </a:lnTo>
                  <a:lnTo>
                    <a:pt x="257" y="19"/>
                  </a:lnTo>
                  <a:lnTo>
                    <a:pt x="257" y="9"/>
                  </a:lnTo>
                  <a:lnTo>
                    <a:pt x="255" y="3"/>
                  </a:lnTo>
                  <a:lnTo>
                    <a:pt x="250" y="0"/>
                  </a:lnTo>
                  <a:lnTo>
                    <a:pt x="247" y="0"/>
                  </a:lnTo>
                  <a:lnTo>
                    <a:pt x="131" y="0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 rot="10800000">
              <a:off x="21318480" y="2745000"/>
              <a:ext cx="23760" cy="3456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2" y="9"/>
                  </a:moveTo>
                  <a:lnTo>
                    <a:pt x="24" y="0"/>
                  </a:lnTo>
                  <a:lnTo>
                    <a:pt x="5" y="9"/>
                  </a:lnTo>
                  <a:lnTo>
                    <a:pt x="0" y="22"/>
                  </a:lnTo>
                  <a:lnTo>
                    <a:pt x="0" y="59"/>
                  </a:lnTo>
                  <a:lnTo>
                    <a:pt x="46" y="59"/>
                  </a:lnTo>
                  <a:lnTo>
                    <a:pt x="46" y="22"/>
                  </a:lnTo>
                  <a:lnTo>
                    <a:pt x="42" y="9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8238680" y="2186280"/>
            <a:ext cx="358560" cy="355320"/>
            <a:chOff x="18238680" y="2186280"/>
            <a:chExt cx="358560" cy="355320"/>
          </a:xfrm>
        </p:grpSpPr>
        <p:grpSp>
          <p:nvGrpSpPr>
            <p:cNvPr id="290" name=""/>
            <p:cNvGrpSpPr/>
            <p:nvPr/>
          </p:nvGrpSpPr>
          <p:grpSpPr>
            <a:xfrm>
              <a:off x="18238680" y="2186280"/>
              <a:ext cx="358560" cy="355320"/>
              <a:chOff x="18238680" y="2186280"/>
              <a:chExt cx="358560" cy="355320"/>
            </a:xfrm>
          </p:grpSpPr>
          <p:sp>
            <p:nvSpPr>
              <p:cNvPr id="291" name=""/>
              <p:cNvSpPr/>
              <p:nvPr/>
            </p:nvSpPr>
            <p:spPr>
              <a:xfrm flipV="1">
                <a:off x="18238680" y="2185920"/>
                <a:ext cx="358560" cy="35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0800000">
                <a:off x="18401760" y="2363760"/>
                <a:ext cx="14400" cy="176400"/>
              </a:xfrm>
              <a:prstGeom prst="rect">
                <a:avLst/>
              </a:pr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18399240" y="2297160"/>
              <a:ext cx="19368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7854560" y="2186280"/>
            <a:ext cx="358560" cy="355320"/>
            <a:chOff x="17854560" y="2186280"/>
            <a:chExt cx="358560" cy="355320"/>
          </a:xfrm>
        </p:grpSpPr>
        <p:grpSp>
          <p:nvGrpSpPr>
            <p:cNvPr id="295" name=""/>
            <p:cNvGrpSpPr/>
            <p:nvPr/>
          </p:nvGrpSpPr>
          <p:grpSpPr>
            <a:xfrm>
              <a:off x="17854560" y="2186280"/>
              <a:ext cx="358560" cy="355320"/>
              <a:chOff x="17854560" y="2186280"/>
              <a:chExt cx="358560" cy="355320"/>
            </a:xfrm>
          </p:grpSpPr>
          <p:sp>
            <p:nvSpPr>
              <p:cNvPr id="296" name=""/>
              <p:cNvSpPr/>
              <p:nvPr/>
            </p:nvSpPr>
            <p:spPr>
              <a:xfrm flipV="1">
                <a:off x="17854560" y="2185920"/>
                <a:ext cx="358560" cy="35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0800000">
                <a:off x="18017640" y="2363760"/>
                <a:ext cx="14400" cy="176400"/>
              </a:xfrm>
              <a:prstGeom prst="rect">
                <a:avLst/>
              </a:pr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18015120" y="2297160"/>
              <a:ext cx="19368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7460720" y="2186280"/>
            <a:ext cx="358560" cy="355320"/>
            <a:chOff x="17460720" y="2186280"/>
            <a:chExt cx="358560" cy="355320"/>
          </a:xfrm>
        </p:grpSpPr>
        <p:grpSp>
          <p:nvGrpSpPr>
            <p:cNvPr id="300" name=""/>
            <p:cNvGrpSpPr/>
            <p:nvPr/>
          </p:nvGrpSpPr>
          <p:grpSpPr>
            <a:xfrm>
              <a:off x="17460720" y="2186280"/>
              <a:ext cx="358560" cy="355320"/>
              <a:chOff x="17460720" y="2186280"/>
              <a:chExt cx="358560" cy="35532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17460720" y="2185920"/>
                <a:ext cx="358560" cy="35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0800000">
                <a:off x="17623800" y="2363760"/>
                <a:ext cx="14400" cy="176400"/>
              </a:xfrm>
              <a:prstGeom prst="rect">
                <a:avLst/>
              </a:pr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17621280" y="2297160"/>
              <a:ext cx="19368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7073360" y="2186280"/>
            <a:ext cx="358560" cy="355320"/>
            <a:chOff x="17073360" y="2186280"/>
            <a:chExt cx="358560" cy="355320"/>
          </a:xfrm>
        </p:grpSpPr>
        <p:grpSp>
          <p:nvGrpSpPr>
            <p:cNvPr id="305" name=""/>
            <p:cNvGrpSpPr/>
            <p:nvPr/>
          </p:nvGrpSpPr>
          <p:grpSpPr>
            <a:xfrm>
              <a:off x="17073360" y="2186280"/>
              <a:ext cx="358560" cy="355320"/>
              <a:chOff x="17073360" y="2186280"/>
              <a:chExt cx="358560" cy="355320"/>
            </a:xfrm>
          </p:grpSpPr>
          <p:sp>
            <p:nvSpPr>
              <p:cNvPr id="306" name=""/>
              <p:cNvSpPr/>
              <p:nvPr/>
            </p:nvSpPr>
            <p:spPr>
              <a:xfrm flipV="1">
                <a:off x="17073360" y="2185920"/>
                <a:ext cx="358560" cy="35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0800000">
                <a:off x="17236440" y="2363760"/>
                <a:ext cx="14400" cy="176400"/>
              </a:xfrm>
              <a:prstGeom prst="rect">
                <a:avLst/>
              </a:pr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7233920" y="2297160"/>
              <a:ext cx="19368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6689240" y="2186280"/>
            <a:ext cx="358560" cy="355320"/>
            <a:chOff x="16689240" y="2186280"/>
            <a:chExt cx="358560" cy="355320"/>
          </a:xfrm>
        </p:grpSpPr>
        <p:grpSp>
          <p:nvGrpSpPr>
            <p:cNvPr id="310" name=""/>
            <p:cNvGrpSpPr/>
            <p:nvPr/>
          </p:nvGrpSpPr>
          <p:grpSpPr>
            <a:xfrm>
              <a:off x="16689240" y="2186280"/>
              <a:ext cx="358560" cy="355320"/>
              <a:chOff x="16689240" y="2186280"/>
              <a:chExt cx="358560" cy="355320"/>
            </a:xfrm>
          </p:grpSpPr>
          <p:sp>
            <p:nvSpPr>
              <p:cNvPr id="311" name=""/>
              <p:cNvSpPr/>
              <p:nvPr/>
            </p:nvSpPr>
            <p:spPr>
              <a:xfrm flipV="1">
                <a:off x="16689240" y="2185920"/>
                <a:ext cx="358560" cy="35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0800000">
                <a:off x="16852320" y="2363760"/>
                <a:ext cx="14400" cy="176400"/>
              </a:xfrm>
              <a:prstGeom prst="rect">
                <a:avLst/>
              </a:pr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16849800" y="2297160"/>
              <a:ext cx="19368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9887840" y="2184480"/>
            <a:ext cx="358560" cy="355320"/>
            <a:chOff x="19887840" y="2184480"/>
            <a:chExt cx="358560" cy="355320"/>
          </a:xfrm>
        </p:grpSpPr>
        <p:grpSp>
          <p:nvGrpSpPr>
            <p:cNvPr id="315" name=""/>
            <p:cNvGrpSpPr/>
            <p:nvPr/>
          </p:nvGrpSpPr>
          <p:grpSpPr>
            <a:xfrm>
              <a:off x="19887840" y="2184480"/>
              <a:ext cx="358560" cy="355320"/>
              <a:chOff x="19887840" y="2184480"/>
              <a:chExt cx="358560" cy="355320"/>
            </a:xfrm>
          </p:grpSpPr>
          <p:sp>
            <p:nvSpPr>
              <p:cNvPr id="316" name=""/>
              <p:cNvSpPr/>
              <p:nvPr/>
            </p:nvSpPr>
            <p:spPr>
              <a:xfrm flipV="1">
                <a:off x="19887840" y="2184120"/>
                <a:ext cx="358560" cy="35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0800000">
                <a:off x="20050920" y="2361960"/>
                <a:ext cx="14400" cy="176400"/>
              </a:xfrm>
              <a:prstGeom prst="rect">
                <a:avLst/>
              </a:pr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0048400" y="2295360"/>
              <a:ext cx="19368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0262600" y="2186280"/>
            <a:ext cx="358560" cy="355320"/>
            <a:chOff x="20262600" y="2186280"/>
            <a:chExt cx="358560" cy="355320"/>
          </a:xfrm>
        </p:grpSpPr>
        <p:grpSp>
          <p:nvGrpSpPr>
            <p:cNvPr id="320" name=""/>
            <p:cNvGrpSpPr/>
            <p:nvPr/>
          </p:nvGrpSpPr>
          <p:grpSpPr>
            <a:xfrm>
              <a:off x="20262600" y="2186280"/>
              <a:ext cx="358560" cy="355320"/>
              <a:chOff x="20262600" y="2186280"/>
              <a:chExt cx="358560" cy="355320"/>
            </a:xfrm>
          </p:grpSpPr>
          <p:sp>
            <p:nvSpPr>
              <p:cNvPr id="321" name=""/>
              <p:cNvSpPr/>
              <p:nvPr/>
            </p:nvSpPr>
            <p:spPr>
              <a:xfrm flipV="1">
                <a:off x="20262600" y="2185920"/>
                <a:ext cx="358560" cy="35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0800000">
                <a:off x="20425680" y="2363760"/>
                <a:ext cx="14400" cy="176400"/>
              </a:xfrm>
              <a:prstGeom prst="rect">
                <a:avLst/>
              </a:pr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20423160" y="2297160"/>
              <a:ext cx="19368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0651400" y="2186280"/>
            <a:ext cx="358560" cy="355320"/>
            <a:chOff x="20651400" y="2186280"/>
            <a:chExt cx="358560" cy="355320"/>
          </a:xfrm>
        </p:grpSpPr>
        <p:grpSp>
          <p:nvGrpSpPr>
            <p:cNvPr id="325" name=""/>
            <p:cNvGrpSpPr/>
            <p:nvPr/>
          </p:nvGrpSpPr>
          <p:grpSpPr>
            <a:xfrm>
              <a:off x="20651400" y="2186280"/>
              <a:ext cx="358560" cy="355320"/>
              <a:chOff x="20651400" y="2186280"/>
              <a:chExt cx="358560" cy="355320"/>
            </a:xfrm>
          </p:grpSpPr>
          <p:sp>
            <p:nvSpPr>
              <p:cNvPr id="326" name=""/>
              <p:cNvSpPr/>
              <p:nvPr/>
            </p:nvSpPr>
            <p:spPr>
              <a:xfrm flipV="1">
                <a:off x="20651400" y="2185920"/>
                <a:ext cx="358560" cy="35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0800000">
                <a:off x="20814480" y="2363760"/>
                <a:ext cx="14400" cy="176400"/>
              </a:xfrm>
              <a:prstGeom prst="rect">
                <a:avLst/>
              </a:pr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20811960" y="2297160"/>
              <a:ext cx="19368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1002400" y="2186280"/>
            <a:ext cx="358560" cy="355320"/>
            <a:chOff x="21002400" y="2186280"/>
            <a:chExt cx="358560" cy="355320"/>
          </a:xfrm>
        </p:grpSpPr>
        <p:grpSp>
          <p:nvGrpSpPr>
            <p:cNvPr id="330" name=""/>
            <p:cNvGrpSpPr/>
            <p:nvPr/>
          </p:nvGrpSpPr>
          <p:grpSpPr>
            <a:xfrm>
              <a:off x="21002400" y="2186280"/>
              <a:ext cx="358560" cy="355320"/>
              <a:chOff x="21002400" y="2186280"/>
              <a:chExt cx="358560" cy="35532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21002400" y="2185920"/>
                <a:ext cx="358560" cy="35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0800000">
                <a:off x="21165480" y="2363760"/>
                <a:ext cx="14400" cy="176400"/>
              </a:xfrm>
              <a:prstGeom prst="rect">
                <a:avLst/>
              </a:pr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21162960" y="2297160"/>
              <a:ext cx="19368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18445320" y="2664360"/>
            <a:ext cx="144360" cy="214920"/>
            <a:chOff x="18445320" y="2664360"/>
            <a:chExt cx="144360" cy="214920"/>
          </a:xfrm>
        </p:grpSpPr>
        <p:sp>
          <p:nvSpPr>
            <p:cNvPr id="335" name=""/>
            <p:cNvSpPr/>
            <p:nvPr/>
          </p:nvSpPr>
          <p:spPr>
            <a:xfrm flipH="1" flipV="1" rot="10800000">
              <a:off x="18455760" y="2664000"/>
              <a:ext cx="115920" cy="160200"/>
            </a:xfrm>
            <a:custGeom>
              <a:avLst/>
              <a:gdLst/>
              <a:ahLst/>
              <a:rect l="l" t="t" r="r" b="b"/>
              <a:pathLst>
                <a:path w="236" h="302">
                  <a:moveTo>
                    <a:pt x="218" y="299"/>
                  </a:moveTo>
                  <a:lnTo>
                    <a:pt x="233" y="231"/>
                  </a:lnTo>
                  <a:lnTo>
                    <a:pt x="236" y="200"/>
                  </a:lnTo>
                  <a:lnTo>
                    <a:pt x="235" y="170"/>
                  </a:lnTo>
                  <a:lnTo>
                    <a:pt x="233" y="144"/>
                  </a:lnTo>
                  <a:lnTo>
                    <a:pt x="229" y="114"/>
                  </a:lnTo>
                  <a:lnTo>
                    <a:pt x="222" y="83"/>
                  </a:lnTo>
                  <a:lnTo>
                    <a:pt x="213" y="53"/>
                  </a:lnTo>
                  <a:lnTo>
                    <a:pt x="208" y="40"/>
                  </a:lnTo>
                  <a:lnTo>
                    <a:pt x="178" y="11"/>
                  </a:lnTo>
                  <a:lnTo>
                    <a:pt x="161" y="5"/>
                  </a:lnTo>
                  <a:lnTo>
                    <a:pt x="152" y="2"/>
                  </a:lnTo>
                  <a:lnTo>
                    <a:pt x="135" y="0"/>
                  </a:lnTo>
                  <a:lnTo>
                    <a:pt x="131" y="0"/>
                  </a:lnTo>
                  <a:lnTo>
                    <a:pt x="119" y="0"/>
                  </a:lnTo>
                  <a:lnTo>
                    <a:pt x="105" y="0"/>
                  </a:lnTo>
                  <a:lnTo>
                    <a:pt x="98" y="0"/>
                  </a:lnTo>
                  <a:lnTo>
                    <a:pt x="84" y="2"/>
                  </a:lnTo>
                  <a:lnTo>
                    <a:pt x="75" y="5"/>
                  </a:lnTo>
                  <a:lnTo>
                    <a:pt x="58" y="11"/>
                  </a:lnTo>
                  <a:lnTo>
                    <a:pt x="28" y="40"/>
                  </a:lnTo>
                  <a:lnTo>
                    <a:pt x="22" y="53"/>
                  </a:lnTo>
                  <a:lnTo>
                    <a:pt x="14" y="83"/>
                  </a:lnTo>
                  <a:lnTo>
                    <a:pt x="6" y="114"/>
                  </a:lnTo>
                  <a:lnTo>
                    <a:pt x="2" y="144"/>
                  </a:lnTo>
                  <a:lnTo>
                    <a:pt x="0" y="170"/>
                  </a:lnTo>
                  <a:lnTo>
                    <a:pt x="0" y="200"/>
                  </a:lnTo>
                  <a:lnTo>
                    <a:pt x="3" y="231"/>
                  </a:lnTo>
                  <a:lnTo>
                    <a:pt x="14" y="302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 rot="10800000">
              <a:off x="18470160" y="2675160"/>
              <a:ext cx="85680" cy="12348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115" y="188"/>
                  </a:moveTo>
                  <a:lnTo>
                    <a:pt x="140" y="179"/>
                  </a:lnTo>
                  <a:lnTo>
                    <a:pt x="161" y="138"/>
                  </a:lnTo>
                  <a:lnTo>
                    <a:pt x="156" y="79"/>
                  </a:lnTo>
                  <a:lnTo>
                    <a:pt x="145" y="34"/>
                  </a:lnTo>
                  <a:lnTo>
                    <a:pt x="135" y="15"/>
                  </a:lnTo>
                  <a:lnTo>
                    <a:pt x="114" y="3"/>
                  </a:lnTo>
                  <a:lnTo>
                    <a:pt x="106" y="3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47" y="3"/>
                  </a:lnTo>
                  <a:lnTo>
                    <a:pt x="26" y="15"/>
                  </a:lnTo>
                  <a:lnTo>
                    <a:pt x="16" y="34"/>
                  </a:lnTo>
                  <a:lnTo>
                    <a:pt x="6" y="79"/>
                  </a:lnTo>
                  <a:lnTo>
                    <a:pt x="0" y="138"/>
                  </a:lnTo>
                  <a:lnTo>
                    <a:pt x="21" y="179"/>
                  </a:lnTo>
                  <a:lnTo>
                    <a:pt x="46" y="188"/>
                  </a:lnTo>
                  <a:lnTo>
                    <a:pt x="81" y="191"/>
                  </a:lnTo>
                  <a:lnTo>
                    <a:pt x="115" y="188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 rot="10800000">
              <a:off x="18444960" y="2822400"/>
              <a:ext cx="144360" cy="56880"/>
            </a:xfrm>
            <a:custGeom>
              <a:avLst/>
              <a:gdLst/>
              <a:ahLst/>
              <a:rect l="l" t="t" r="r" b="b"/>
              <a:pathLst>
                <a:path w="274" h="97">
                  <a:moveTo>
                    <a:pt x="13" y="0"/>
                  </a:moveTo>
                  <a:lnTo>
                    <a:pt x="10" y="0"/>
                  </a:lnTo>
                  <a:lnTo>
                    <a:pt x="5" y="3"/>
                  </a:lnTo>
                  <a:lnTo>
                    <a:pt x="4" y="9"/>
                  </a:lnTo>
                  <a:lnTo>
                    <a:pt x="4" y="19"/>
                  </a:lnTo>
                  <a:lnTo>
                    <a:pt x="4" y="37"/>
                  </a:lnTo>
                  <a:lnTo>
                    <a:pt x="4" y="42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4" y="53"/>
                  </a:lnTo>
                  <a:lnTo>
                    <a:pt x="4" y="88"/>
                  </a:lnTo>
                  <a:lnTo>
                    <a:pt x="6" y="93"/>
                  </a:lnTo>
                  <a:lnTo>
                    <a:pt x="12" y="97"/>
                  </a:lnTo>
                  <a:lnTo>
                    <a:pt x="14" y="97"/>
                  </a:lnTo>
                  <a:lnTo>
                    <a:pt x="131" y="97"/>
                  </a:lnTo>
                  <a:lnTo>
                    <a:pt x="247" y="97"/>
                  </a:lnTo>
                  <a:lnTo>
                    <a:pt x="248" y="97"/>
                  </a:lnTo>
                  <a:lnTo>
                    <a:pt x="255" y="93"/>
                  </a:lnTo>
                  <a:lnTo>
                    <a:pt x="257" y="88"/>
                  </a:lnTo>
                  <a:lnTo>
                    <a:pt x="257" y="53"/>
                  </a:lnTo>
                  <a:lnTo>
                    <a:pt x="259" y="53"/>
                  </a:lnTo>
                  <a:lnTo>
                    <a:pt x="261" y="47"/>
                  </a:lnTo>
                  <a:lnTo>
                    <a:pt x="259" y="44"/>
                  </a:lnTo>
                  <a:lnTo>
                    <a:pt x="259" y="42"/>
                  </a:lnTo>
                  <a:lnTo>
                    <a:pt x="257" y="42"/>
                  </a:lnTo>
                  <a:lnTo>
                    <a:pt x="257" y="37"/>
                  </a:lnTo>
                  <a:lnTo>
                    <a:pt x="265" y="37"/>
                  </a:lnTo>
                  <a:lnTo>
                    <a:pt x="265" y="38"/>
                  </a:lnTo>
                  <a:lnTo>
                    <a:pt x="274" y="38"/>
                  </a:lnTo>
                  <a:lnTo>
                    <a:pt x="274" y="28"/>
                  </a:lnTo>
                  <a:lnTo>
                    <a:pt x="274" y="18"/>
                  </a:lnTo>
                  <a:lnTo>
                    <a:pt x="265" y="18"/>
                  </a:lnTo>
                  <a:lnTo>
                    <a:pt x="265" y="19"/>
                  </a:lnTo>
                  <a:lnTo>
                    <a:pt x="257" y="19"/>
                  </a:lnTo>
                  <a:lnTo>
                    <a:pt x="257" y="9"/>
                  </a:lnTo>
                  <a:lnTo>
                    <a:pt x="255" y="3"/>
                  </a:lnTo>
                  <a:lnTo>
                    <a:pt x="250" y="0"/>
                  </a:lnTo>
                  <a:lnTo>
                    <a:pt x="247" y="0"/>
                  </a:lnTo>
                  <a:lnTo>
                    <a:pt x="131" y="0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flipV="1" rot="10800000">
              <a:off x="18501840" y="2740320"/>
              <a:ext cx="23760" cy="3456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2" y="9"/>
                  </a:moveTo>
                  <a:lnTo>
                    <a:pt x="24" y="0"/>
                  </a:lnTo>
                  <a:lnTo>
                    <a:pt x="5" y="9"/>
                  </a:lnTo>
                  <a:lnTo>
                    <a:pt x="0" y="22"/>
                  </a:lnTo>
                  <a:lnTo>
                    <a:pt x="0" y="59"/>
                  </a:lnTo>
                  <a:lnTo>
                    <a:pt x="46" y="59"/>
                  </a:lnTo>
                  <a:lnTo>
                    <a:pt x="46" y="22"/>
                  </a:lnTo>
                  <a:lnTo>
                    <a:pt x="42" y="9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8040320" y="2664360"/>
            <a:ext cx="144360" cy="214920"/>
            <a:chOff x="18040320" y="2664360"/>
            <a:chExt cx="144360" cy="214920"/>
          </a:xfrm>
        </p:grpSpPr>
        <p:sp>
          <p:nvSpPr>
            <p:cNvPr id="340" name=""/>
            <p:cNvSpPr/>
            <p:nvPr/>
          </p:nvSpPr>
          <p:spPr>
            <a:xfrm flipH="1" flipV="1" rot="10800000">
              <a:off x="18050760" y="2664000"/>
              <a:ext cx="115920" cy="160200"/>
            </a:xfrm>
            <a:custGeom>
              <a:avLst/>
              <a:gdLst/>
              <a:ahLst/>
              <a:rect l="l" t="t" r="r" b="b"/>
              <a:pathLst>
                <a:path w="236" h="302">
                  <a:moveTo>
                    <a:pt x="218" y="299"/>
                  </a:moveTo>
                  <a:lnTo>
                    <a:pt x="233" y="231"/>
                  </a:lnTo>
                  <a:lnTo>
                    <a:pt x="236" y="200"/>
                  </a:lnTo>
                  <a:lnTo>
                    <a:pt x="235" y="170"/>
                  </a:lnTo>
                  <a:lnTo>
                    <a:pt x="233" y="144"/>
                  </a:lnTo>
                  <a:lnTo>
                    <a:pt x="229" y="114"/>
                  </a:lnTo>
                  <a:lnTo>
                    <a:pt x="222" y="83"/>
                  </a:lnTo>
                  <a:lnTo>
                    <a:pt x="213" y="53"/>
                  </a:lnTo>
                  <a:lnTo>
                    <a:pt x="208" y="40"/>
                  </a:lnTo>
                  <a:lnTo>
                    <a:pt x="178" y="11"/>
                  </a:lnTo>
                  <a:lnTo>
                    <a:pt x="161" y="5"/>
                  </a:lnTo>
                  <a:lnTo>
                    <a:pt x="152" y="2"/>
                  </a:lnTo>
                  <a:lnTo>
                    <a:pt x="135" y="0"/>
                  </a:lnTo>
                  <a:lnTo>
                    <a:pt x="131" y="0"/>
                  </a:lnTo>
                  <a:lnTo>
                    <a:pt x="119" y="0"/>
                  </a:lnTo>
                  <a:lnTo>
                    <a:pt x="105" y="0"/>
                  </a:lnTo>
                  <a:lnTo>
                    <a:pt x="98" y="0"/>
                  </a:lnTo>
                  <a:lnTo>
                    <a:pt x="84" y="2"/>
                  </a:lnTo>
                  <a:lnTo>
                    <a:pt x="75" y="5"/>
                  </a:lnTo>
                  <a:lnTo>
                    <a:pt x="58" y="11"/>
                  </a:lnTo>
                  <a:lnTo>
                    <a:pt x="28" y="40"/>
                  </a:lnTo>
                  <a:lnTo>
                    <a:pt x="22" y="53"/>
                  </a:lnTo>
                  <a:lnTo>
                    <a:pt x="14" y="83"/>
                  </a:lnTo>
                  <a:lnTo>
                    <a:pt x="6" y="114"/>
                  </a:lnTo>
                  <a:lnTo>
                    <a:pt x="2" y="144"/>
                  </a:lnTo>
                  <a:lnTo>
                    <a:pt x="0" y="170"/>
                  </a:lnTo>
                  <a:lnTo>
                    <a:pt x="0" y="200"/>
                  </a:lnTo>
                  <a:lnTo>
                    <a:pt x="3" y="231"/>
                  </a:lnTo>
                  <a:lnTo>
                    <a:pt x="14" y="302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 rot="10800000">
              <a:off x="18065160" y="2675160"/>
              <a:ext cx="85680" cy="12348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115" y="188"/>
                  </a:moveTo>
                  <a:lnTo>
                    <a:pt x="140" y="179"/>
                  </a:lnTo>
                  <a:lnTo>
                    <a:pt x="161" y="138"/>
                  </a:lnTo>
                  <a:lnTo>
                    <a:pt x="156" y="79"/>
                  </a:lnTo>
                  <a:lnTo>
                    <a:pt x="145" y="34"/>
                  </a:lnTo>
                  <a:lnTo>
                    <a:pt x="135" y="15"/>
                  </a:lnTo>
                  <a:lnTo>
                    <a:pt x="114" y="3"/>
                  </a:lnTo>
                  <a:lnTo>
                    <a:pt x="106" y="3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47" y="3"/>
                  </a:lnTo>
                  <a:lnTo>
                    <a:pt x="26" y="15"/>
                  </a:lnTo>
                  <a:lnTo>
                    <a:pt x="16" y="34"/>
                  </a:lnTo>
                  <a:lnTo>
                    <a:pt x="6" y="79"/>
                  </a:lnTo>
                  <a:lnTo>
                    <a:pt x="0" y="138"/>
                  </a:lnTo>
                  <a:lnTo>
                    <a:pt x="21" y="179"/>
                  </a:lnTo>
                  <a:lnTo>
                    <a:pt x="46" y="188"/>
                  </a:lnTo>
                  <a:lnTo>
                    <a:pt x="81" y="191"/>
                  </a:lnTo>
                  <a:lnTo>
                    <a:pt x="115" y="188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 rot="10800000">
              <a:off x="18039960" y="2822400"/>
              <a:ext cx="144360" cy="56880"/>
            </a:xfrm>
            <a:custGeom>
              <a:avLst/>
              <a:gdLst/>
              <a:ahLst/>
              <a:rect l="l" t="t" r="r" b="b"/>
              <a:pathLst>
                <a:path w="274" h="97">
                  <a:moveTo>
                    <a:pt x="13" y="0"/>
                  </a:moveTo>
                  <a:lnTo>
                    <a:pt x="10" y="0"/>
                  </a:lnTo>
                  <a:lnTo>
                    <a:pt x="5" y="3"/>
                  </a:lnTo>
                  <a:lnTo>
                    <a:pt x="4" y="9"/>
                  </a:lnTo>
                  <a:lnTo>
                    <a:pt x="4" y="19"/>
                  </a:lnTo>
                  <a:lnTo>
                    <a:pt x="4" y="37"/>
                  </a:lnTo>
                  <a:lnTo>
                    <a:pt x="4" y="42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4" y="53"/>
                  </a:lnTo>
                  <a:lnTo>
                    <a:pt x="4" y="88"/>
                  </a:lnTo>
                  <a:lnTo>
                    <a:pt x="6" y="93"/>
                  </a:lnTo>
                  <a:lnTo>
                    <a:pt x="12" y="97"/>
                  </a:lnTo>
                  <a:lnTo>
                    <a:pt x="14" y="97"/>
                  </a:lnTo>
                  <a:lnTo>
                    <a:pt x="131" y="97"/>
                  </a:lnTo>
                  <a:lnTo>
                    <a:pt x="247" y="97"/>
                  </a:lnTo>
                  <a:lnTo>
                    <a:pt x="248" y="97"/>
                  </a:lnTo>
                  <a:lnTo>
                    <a:pt x="255" y="93"/>
                  </a:lnTo>
                  <a:lnTo>
                    <a:pt x="257" y="88"/>
                  </a:lnTo>
                  <a:lnTo>
                    <a:pt x="257" y="53"/>
                  </a:lnTo>
                  <a:lnTo>
                    <a:pt x="259" y="53"/>
                  </a:lnTo>
                  <a:lnTo>
                    <a:pt x="261" y="47"/>
                  </a:lnTo>
                  <a:lnTo>
                    <a:pt x="259" y="44"/>
                  </a:lnTo>
                  <a:lnTo>
                    <a:pt x="259" y="42"/>
                  </a:lnTo>
                  <a:lnTo>
                    <a:pt x="257" y="42"/>
                  </a:lnTo>
                  <a:lnTo>
                    <a:pt x="257" y="37"/>
                  </a:lnTo>
                  <a:lnTo>
                    <a:pt x="265" y="37"/>
                  </a:lnTo>
                  <a:lnTo>
                    <a:pt x="265" y="38"/>
                  </a:lnTo>
                  <a:lnTo>
                    <a:pt x="274" y="38"/>
                  </a:lnTo>
                  <a:lnTo>
                    <a:pt x="274" y="28"/>
                  </a:lnTo>
                  <a:lnTo>
                    <a:pt x="274" y="18"/>
                  </a:lnTo>
                  <a:lnTo>
                    <a:pt x="265" y="18"/>
                  </a:lnTo>
                  <a:lnTo>
                    <a:pt x="265" y="19"/>
                  </a:lnTo>
                  <a:lnTo>
                    <a:pt x="257" y="19"/>
                  </a:lnTo>
                  <a:lnTo>
                    <a:pt x="257" y="9"/>
                  </a:lnTo>
                  <a:lnTo>
                    <a:pt x="255" y="3"/>
                  </a:lnTo>
                  <a:lnTo>
                    <a:pt x="250" y="0"/>
                  </a:lnTo>
                  <a:lnTo>
                    <a:pt x="247" y="0"/>
                  </a:lnTo>
                  <a:lnTo>
                    <a:pt x="131" y="0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 rot="10800000">
              <a:off x="18096840" y="2740320"/>
              <a:ext cx="23760" cy="3456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2" y="9"/>
                  </a:moveTo>
                  <a:lnTo>
                    <a:pt x="24" y="0"/>
                  </a:lnTo>
                  <a:lnTo>
                    <a:pt x="5" y="9"/>
                  </a:lnTo>
                  <a:lnTo>
                    <a:pt x="0" y="22"/>
                  </a:lnTo>
                  <a:lnTo>
                    <a:pt x="0" y="59"/>
                  </a:lnTo>
                  <a:lnTo>
                    <a:pt x="46" y="59"/>
                  </a:lnTo>
                  <a:lnTo>
                    <a:pt x="46" y="22"/>
                  </a:lnTo>
                  <a:lnTo>
                    <a:pt x="42" y="9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7659440" y="2664360"/>
            <a:ext cx="144360" cy="214920"/>
            <a:chOff x="17659440" y="2664360"/>
            <a:chExt cx="144360" cy="214920"/>
          </a:xfrm>
        </p:grpSpPr>
        <p:sp>
          <p:nvSpPr>
            <p:cNvPr id="345" name=""/>
            <p:cNvSpPr/>
            <p:nvPr/>
          </p:nvSpPr>
          <p:spPr>
            <a:xfrm flipH="1" flipV="1" rot="10800000">
              <a:off x="17669880" y="2664000"/>
              <a:ext cx="115920" cy="160200"/>
            </a:xfrm>
            <a:custGeom>
              <a:avLst/>
              <a:gdLst/>
              <a:ahLst/>
              <a:rect l="l" t="t" r="r" b="b"/>
              <a:pathLst>
                <a:path w="236" h="302">
                  <a:moveTo>
                    <a:pt x="218" y="299"/>
                  </a:moveTo>
                  <a:lnTo>
                    <a:pt x="233" y="231"/>
                  </a:lnTo>
                  <a:lnTo>
                    <a:pt x="236" y="200"/>
                  </a:lnTo>
                  <a:lnTo>
                    <a:pt x="235" y="170"/>
                  </a:lnTo>
                  <a:lnTo>
                    <a:pt x="233" y="144"/>
                  </a:lnTo>
                  <a:lnTo>
                    <a:pt x="229" y="114"/>
                  </a:lnTo>
                  <a:lnTo>
                    <a:pt x="222" y="83"/>
                  </a:lnTo>
                  <a:lnTo>
                    <a:pt x="213" y="53"/>
                  </a:lnTo>
                  <a:lnTo>
                    <a:pt x="208" y="40"/>
                  </a:lnTo>
                  <a:lnTo>
                    <a:pt x="178" y="11"/>
                  </a:lnTo>
                  <a:lnTo>
                    <a:pt x="161" y="5"/>
                  </a:lnTo>
                  <a:lnTo>
                    <a:pt x="152" y="2"/>
                  </a:lnTo>
                  <a:lnTo>
                    <a:pt x="135" y="0"/>
                  </a:lnTo>
                  <a:lnTo>
                    <a:pt x="131" y="0"/>
                  </a:lnTo>
                  <a:lnTo>
                    <a:pt x="119" y="0"/>
                  </a:lnTo>
                  <a:lnTo>
                    <a:pt x="105" y="0"/>
                  </a:lnTo>
                  <a:lnTo>
                    <a:pt x="98" y="0"/>
                  </a:lnTo>
                  <a:lnTo>
                    <a:pt x="84" y="2"/>
                  </a:lnTo>
                  <a:lnTo>
                    <a:pt x="75" y="5"/>
                  </a:lnTo>
                  <a:lnTo>
                    <a:pt x="58" y="11"/>
                  </a:lnTo>
                  <a:lnTo>
                    <a:pt x="28" y="40"/>
                  </a:lnTo>
                  <a:lnTo>
                    <a:pt x="22" y="53"/>
                  </a:lnTo>
                  <a:lnTo>
                    <a:pt x="14" y="83"/>
                  </a:lnTo>
                  <a:lnTo>
                    <a:pt x="6" y="114"/>
                  </a:lnTo>
                  <a:lnTo>
                    <a:pt x="2" y="144"/>
                  </a:lnTo>
                  <a:lnTo>
                    <a:pt x="0" y="170"/>
                  </a:lnTo>
                  <a:lnTo>
                    <a:pt x="0" y="200"/>
                  </a:lnTo>
                  <a:lnTo>
                    <a:pt x="3" y="231"/>
                  </a:lnTo>
                  <a:lnTo>
                    <a:pt x="14" y="302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 rot="10800000">
              <a:off x="17684280" y="2675160"/>
              <a:ext cx="85680" cy="12348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115" y="188"/>
                  </a:moveTo>
                  <a:lnTo>
                    <a:pt x="140" y="179"/>
                  </a:lnTo>
                  <a:lnTo>
                    <a:pt x="161" y="138"/>
                  </a:lnTo>
                  <a:lnTo>
                    <a:pt x="156" y="79"/>
                  </a:lnTo>
                  <a:lnTo>
                    <a:pt x="145" y="34"/>
                  </a:lnTo>
                  <a:lnTo>
                    <a:pt x="135" y="15"/>
                  </a:lnTo>
                  <a:lnTo>
                    <a:pt x="114" y="3"/>
                  </a:lnTo>
                  <a:lnTo>
                    <a:pt x="106" y="3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47" y="3"/>
                  </a:lnTo>
                  <a:lnTo>
                    <a:pt x="26" y="15"/>
                  </a:lnTo>
                  <a:lnTo>
                    <a:pt x="16" y="34"/>
                  </a:lnTo>
                  <a:lnTo>
                    <a:pt x="6" y="79"/>
                  </a:lnTo>
                  <a:lnTo>
                    <a:pt x="0" y="138"/>
                  </a:lnTo>
                  <a:lnTo>
                    <a:pt x="21" y="179"/>
                  </a:lnTo>
                  <a:lnTo>
                    <a:pt x="46" y="188"/>
                  </a:lnTo>
                  <a:lnTo>
                    <a:pt x="81" y="191"/>
                  </a:lnTo>
                  <a:lnTo>
                    <a:pt x="115" y="188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 rot="10800000">
              <a:off x="17659080" y="2822400"/>
              <a:ext cx="144360" cy="56880"/>
            </a:xfrm>
            <a:custGeom>
              <a:avLst/>
              <a:gdLst/>
              <a:ahLst/>
              <a:rect l="l" t="t" r="r" b="b"/>
              <a:pathLst>
                <a:path w="274" h="97">
                  <a:moveTo>
                    <a:pt x="13" y="0"/>
                  </a:moveTo>
                  <a:lnTo>
                    <a:pt x="10" y="0"/>
                  </a:lnTo>
                  <a:lnTo>
                    <a:pt x="5" y="3"/>
                  </a:lnTo>
                  <a:lnTo>
                    <a:pt x="4" y="9"/>
                  </a:lnTo>
                  <a:lnTo>
                    <a:pt x="4" y="19"/>
                  </a:lnTo>
                  <a:lnTo>
                    <a:pt x="4" y="37"/>
                  </a:lnTo>
                  <a:lnTo>
                    <a:pt x="4" y="42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4" y="53"/>
                  </a:lnTo>
                  <a:lnTo>
                    <a:pt x="4" y="88"/>
                  </a:lnTo>
                  <a:lnTo>
                    <a:pt x="6" y="93"/>
                  </a:lnTo>
                  <a:lnTo>
                    <a:pt x="12" y="97"/>
                  </a:lnTo>
                  <a:lnTo>
                    <a:pt x="14" y="97"/>
                  </a:lnTo>
                  <a:lnTo>
                    <a:pt x="131" y="97"/>
                  </a:lnTo>
                  <a:lnTo>
                    <a:pt x="247" y="97"/>
                  </a:lnTo>
                  <a:lnTo>
                    <a:pt x="248" y="97"/>
                  </a:lnTo>
                  <a:lnTo>
                    <a:pt x="255" y="93"/>
                  </a:lnTo>
                  <a:lnTo>
                    <a:pt x="257" y="88"/>
                  </a:lnTo>
                  <a:lnTo>
                    <a:pt x="257" y="53"/>
                  </a:lnTo>
                  <a:lnTo>
                    <a:pt x="259" y="53"/>
                  </a:lnTo>
                  <a:lnTo>
                    <a:pt x="261" y="47"/>
                  </a:lnTo>
                  <a:lnTo>
                    <a:pt x="259" y="44"/>
                  </a:lnTo>
                  <a:lnTo>
                    <a:pt x="259" y="42"/>
                  </a:lnTo>
                  <a:lnTo>
                    <a:pt x="257" y="42"/>
                  </a:lnTo>
                  <a:lnTo>
                    <a:pt x="257" y="37"/>
                  </a:lnTo>
                  <a:lnTo>
                    <a:pt x="265" y="37"/>
                  </a:lnTo>
                  <a:lnTo>
                    <a:pt x="265" y="38"/>
                  </a:lnTo>
                  <a:lnTo>
                    <a:pt x="274" y="38"/>
                  </a:lnTo>
                  <a:lnTo>
                    <a:pt x="274" y="28"/>
                  </a:lnTo>
                  <a:lnTo>
                    <a:pt x="274" y="18"/>
                  </a:lnTo>
                  <a:lnTo>
                    <a:pt x="265" y="18"/>
                  </a:lnTo>
                  <a:lnTo>
                    <a:pt x="265" y="19"/>
                  </a:lnTo>
                  <a:lnTo>
                    <a:pt x="257" y="19"/>
                  </a:lnTo>
                  <a:lnTo>
                    <a:pt x="257" y="9"/>
                  </a:lnTo>
                  <a:lnTo>
                    <a:pt x="255" y="3"/>
                  </a:lnTo>
                  <a:lnTo>
                    <a:pt x="250" y="0"/>
                  </a:lnTo>
                  <a:lnTo>
                    <a:pt x="247" y="0"/>
                  </a:lnTo>
                  <a:lnTo>
                    <a:pt x="131" y="0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 rot="10800000">
              <a:off x="17715960" y="2740320"/>
              <a:ext cx="23760" cy="3456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2" y="9"/>
                  </a:moveTo>
                  <a:lnTo>
                    <a:pt x="24" y="0"/>
                  </a:lnTo>
                  <a:lnTo>
                    <a:pt x="5" y="9"/>
                  </a:lnTo>
                  <a:lnTo>
                    <a:pt x="0" y="22"/>
                  </a:lnTo>
                  <a:lnTo>
                    <a:pt x="0" y="59"/>
                  </a:lnTo>
                  <a:lnTo>
                    <a:pt x="46" y="59"/>
                  </a:lnTo>
                  <a:lnTo>
                    <a:pt x="46" y="22"/>
                  </a:lnTo>
                  <a:lnTo>
                    <a:pt x="42" y="9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7273520" y="2664360"/>
            <a:ext cx="144360" cy="214920"/>
            <a:chOff x="17273520" y="2664360"/>
            <a:chExt cx="144360" cy="214920"/>
          </a:xfrm>
        </p:grpSpPr>
        <p:sp>
          <p:nvSpPr>
            <p:cNvPr id="350" name=""/>
            <p:cNvSpPr/>
            <p:nvPr/>
          </p:nvSpPr>
          <p:spPr>
            <a:xfrm flipH="1" flipV="1" rot="10800000">
              <a:off x="17283960" y="2664000"/>
              <a:ext cx="115920" cy="160200"/>
            </a:xfrm>
            <a:custGeom>
              <a:avLst/>
              <a:gdLst/>
              <a:ahLst/>
              <a:rect l="l" t="t" r="r" b="b"/>
              <a:pathLst>
                <a:path w="236" h="302">
                  <a:moveTo>
                    <a:pt x="218" y="299"/>
                  </a:moveTo>
                  <a:lnTo>
                    <a:pt x="233" y="231"/>
                  </a:lnTo>
                  <a:lnTo>
                    <a:pt x="236" y="200"/>
                  </a:lnTo>
                  <a:lnTo>
                    <a:pt x="235" y="170"/>
                  </a:lnTo>
                  <a:lnTo>
                    <a:pt x="233" y="144"/>
                  </a:lnTo>
                  <a:lnTo>
                    <a:pt x="229" y="114"/>
                  </a:lnTo>
                  <a:lnTo>
                    <a:pt x="222" y="83"/>
                  </a:lnTo>
                  <a:lnTo>
                    <a:pt x="213" y="53"/>
                  </a:lnTo>
                  <a:lnTo>
                    <a:pt x="208" y="40"/>
                  </a:lnTo>
                  <a:lnTo>
                    <a:pt x="178" y="11"/>
                  </a:lnTo>
                  <a:lnTo>
                    <a:pt x="161" y="5"/>
                  </a:lnTo>
                  <a:lnTo>
                    <a:pt x="152" y="2"/>
                  </a:lnTo>
                  <a:lnTo>
                    <a:pt x="135" y="0"/>
                  </a:lnTo>
                  <a:lnTo>
                    <a:pt x="131" y="0"/>
                  </a:lnTo>
                  <a:lnTo>
                    <a:pt x="119" y="0"/>
                  </a:lnTo>
                  <a:lnTo>
                    <a:pt x="105" y="0"/>
                  </a:lnTo>
                  <a:lnTo>
                    <a:pt x="98" y="0"/>
                  </a:lnTo>
                  <a:lnTo>
                    <a:pt x="84" y="2"/>
                  </a:lnTo>
                  <a:lnTo>
                    <a:pt x="75" y="5"/>
                  </a:lnTo>
                  <a:lnTo>
                    <a:pt x="58" y="11"/>
                  </a:lnTo>
                  <a:lnTo>
                    <a:pt x="28" y="40"/>
                  </a:lnTo>
                  <a:lnTo>
                    <a:pt x="22" y="53"/>
                  </a:lnTo>
                  <a:lnTo>
                    <a:pt x="14" y="83"/>
                  </a:lnTo>
                  <a:lnTo>
                    <a:pt x="6" y="114"/>
                  </a:lnTo>
                  <a:lnTo>
                    <a:pt x="2" y="144"/>
                  </a:lnTo>
                  <a:lnTo>
                    <a:pt x="0" y="170"/>
                  </a:lnTo>
                  <a:lnTo>
                    <a:pt x="0" y="200"/>
                  </a:lnTo>
                  <a:lnTo>
                    <a:pt x="3" y="231"/>
                  </a:lnTo>
                  <a:lnTo>
                    <a:pt x="14" y="302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 rot="10800000">
              <a:off x="17298360" y="2675160"/>
              <a:ext cx="85680" cy="12348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115" y="188"/>
                  </a:moveTo>
                  <a:lnTo>
                    <a:pt x="140" y="179"/>
                  </a:lnTo>
                  <a:lnTo>
                    <a:pt x="161" y="138"/>
                  </a:lnTo>
                  <a:lnTo>
                    <a:pt x="156" y="79"/>
                  </a:lnTo>
                  <a:lnTo>
                    <a:pt x="145" y="34"/>
                  </a:lnTo>
                  <a:lnTo>
                    <a:pt x="135" y="15"/>
                  </a:lnTo>
                  <a:lnTo>
                    <a:pt x="114" y="3"/>
                  </a:lnTo>
                  <a:lnTo>
                    <a:pt x="106" y="3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47" y="3"/>
                  </a:lnTo>
                  <a:lnTo>
                    <a:pt x="26" y="15"/>
                  </a:lnTo>
                  <a:lnTo>
                    <a:pt x="16" y="34"/>
                  </a:lnTo>
                  <a:lnTo>
                    <a:pt x="6" y="79"/>
                  </a:lnTo>
                  <a:lnTo>
                    <a:pt x="0" y="138"/>
                  </a:lnTo>
                  <a:lnTo>
                    <a:pt x="21" y="179"/>
                  </a:lnTo>
                  <a:lnTo>
                    <a:pt x="46" y="188"/>
                  </a:lnTo>
                  <a:lnTo>
                    <a:pt x="81" y="191"/>
                  </a:lnTo>
                  <a:lnTo>
                    <a:pt x="115" y="188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 rot="10800000">
              <a:off x="17273160" y="2822400"/>
              <a:ext cx="144360" cy="56880"/>
            </a:xfrm>
            <a:custGeom>
              <a:avLst/>
              <a:gdLst/>
              <a:ahLst/>
              <a:rect l="l" t="t" r="r" b="b"/>
              <a:pathLst>
                <a:path w="274" h="97">
                  <a:moveTo>
                    <a:pt x="13" y="0"/>
                  </a:moveTo>
                  <a:lnTo>
                    <a:pt x="10" y="0"/>
                  </a:lnTo>
                  <a:lnTo>
                    <a:pt x="5" y="3"/>
                  </a:lnTo>
                  <a:lnTo>
                    <a:pt x="4" y="9"/>
                  </a:lnTo>
                  <a:lnTo>
                    <a:pt x="4" y="19"/>
                  </a:lnTo>
                  <a:lnTo>
                    <a:pt x="4" y="37"/>
                  </a:lnTo>
                  <a:lnTo>
                    <a:pt x="4" y="42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4" y="53"/>
                  </a:lnTo>
                  <a:lnTo>
                    <a:pt x="4" y="88"/>
                  </a:lnTo>
                  <a:lnTo>
                    <a:pt x="6" y="93"/>
                  </a:lnTo>
                  <a:lnTo>
                    <a:pt x="12" y="97"/>
                  </a:lnTo>
                  <a:lnTo>
                    <a:pt x="14" y="97"/>
                  </a:lnTo>
                  <a:lnTo>
                    <a:pt x="131" y="97"/>
                  </a:lnTo>
                  <a:lnTo>
                    <a:pt x="247" y="97"/>
                  </a:lnTo>
                  <a:lnTo>
                    <a:pt x="248" y="97"/>
                  </a:lnTo>
                  <a:lnTo>
                    <a:pt x="255" y="93"/>
                  </a:lnTo>
                  <a:lnTo>
                    <a:pt x="257" y="88"/>
                  </a:lnTo>
                  <a:lnTo>
                    <a:pt x="257" y="53"/>
                  </a:lnTo>
                  <a:lnTo>
                    <a:pt x="259" y="53"/>
                  </a:lnTo>
                  <a:lnTo>
                    <a:pt x="261" y="47"/>
                  </a:lnTo>
                  <a:lnTo>
                    <a:pt x="259" y="44"/>
                  </a:lnTo>
                  <a:lnTo>
                    <a:pt x="259" y="42"/>
                  </a:lnTo>
                  <a:lnTo>
                    <a:pt x="257" y="42"/>
                  </a:lnTo>
                  <a:lnTo>
                    <a:pt x="257" y="37"/>
                  </a:lnTo>
                  <a:lnTo>
                    <a:pt x="265" y="37"/>
                  </a:lnTo>
                  <a:lnTo>
                    <a:pt x="265" y="38"/>
                  </a:lnTo>
                  <a:lnTo>
                    <a:pt x="274" y="38"/>
                  </a:lnTo>
                  <a:lnTo>
                    <a:pt x="274" y="28"/>
                  </a:lnTo>
                  <a:lnTo>
                    <a:pt x="274" y="18"/>
                  </a:lnTo>
                  <a:lnTo>
                    <a:pt x="265" y="18"/>
                  </a:lnTo>
                  <a:lnTo>
                    <a:pt x="265" y="19"/>
                  </a:lnTo>
                  <a:lnTo>
                    <a:pt x="257" y="19"/>
                  </a:lnTo>
                  <a:lnTo>
                    <a:pt x="257" y="9"/>
                  </a:lnTo>
                  <a:lnTo>
                    <a:pt x="255" y="3"/>
                  </a:lnTo>
                  <a:lnTo>
                    <a:pt x="250" y="0"/>
                  </a:lnTo>
                  <a:lnTo>
                    <a:pt x="247" y="0"/>
                  </a:lnTo>
                  <a:lnTo>
                    <a:pt x="131" y="0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 rot="10800000">
              <a:off x="17330040" y="2740320"/>
              <a:ext cx="23760" cy="3456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2" y="9"/>
                  </a:moveTo>
                  <a:lnTo>
                    <a:pt x="24" y="0"/>
                  </a:lnTo>
                  <a:lnTo>
                    <a:pt x="5" y="9"/>
                  </a:lnTo>
                  <a:lnTo>
                    <a:pt x="0" y="22"/>
                  </a:lnTo>
                  <a:lnTo>
                    <a:pt x="0" y="59"/>
                  </a:lnTo>
                  <a:lnTo>
                    <a:pt x="46" y="59"/>
                  </a:lnTo>
                  <a:lnTo>
                    <a:pt x="46" y="22"/>
                  </a:lnTo>
                  <a:lnTo>
                    <a:pt x="42" y="9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6883640" y="2664360"/>
            <a:ext cx="144360" cy="214920"/>
            <a:chOff x="16883640" y="2664360"/>
            <a:chExt cx="144360" cy="214920"/>
          </a:xfrm>
        </p:grpSpPr>
        <p:sp>
          <p:nvSpPr>
            <p:cNvPr id="355" name=""/>
            <p:cNvSpPr/>
            <p:nvPr/>
          </p:nvSpPr>
          <p:spPr>
            <a:xfrm flipH="1" flipV="1" rot="10800000">
              <a:off x="16894080" y="2664000"/>
              <a:ext cx="115920" cy="160200"/>
            </a:xfrm>
            <a:custGeom>
              <a:avLst/>
              <a:gdLst/>
              <a:ahLst/>
              <a:rect l="l" t="t" r="r" b="b"/>
              <a:pathLst>
                <a:path w="236" h="302">
                  <a:moveTo>
                    <a:pt x="218" y="299"/>
                  </a:moveTo>
                  <a:lnTo>
                    <a:pt x="233" y="231"/>
                  </a:lnTo>
                  <a:lnTo>
                    <a:pt x="236" y="200"/>
                  </a:lnTo>
                  <a:lnTo>
                    <a:pt x="235" y="170"/>
                  </a:lnTo>
                  <a:lnTo>
                    <a:pt x="233" y="144"/>
                  </a:lnTo>
                  <a:lnTo>
                    <a:pt x="229" y="114"/>
                  </a:lnTo>
                  <a:lnTo>
                    <a:pt x="222" y="83"/>
                  </a:lnTo>
                  <a:lnTo>
                    <a:pt x="213" y="53"/>
                  </a:lnTo>
                  <a:lnTo>
                    <a:pt x="208" y="40"/>
                  </a:lnTo>
                  <a:lnTo>
                    <a:pt x="178" y="11"/>
                  </a:lnTo>
                  <a:lnTo>
                    <a:pt x="161" y="5"/>
                  </a:lnTo>
                  <a:lnTo>
                    <a:pt x="152" y="2"/>
                  </a:lnTo>
                  <a:lnTo>
                    <a:pt x="135" y="0"/>
                  </a:lnTo>
                  <a:lnTo>
                    <a:pt x="131" y="0"/>
                  </a:lnTo>
                  <a:lnTo>
                    <a:pt x="119" y="0"/>
                  </a:lnTo>
                  <a:lnTo>
                    <a:pt x="105" y="0"/>
                  </a:lnTo>
                  <a:lnTo>
                    <a:pt x="98" y="0"/>
                  </a:lnTo>
                  <a:lnTo>
                    <a:pt x="84" y="2"/>
                  </a:lnTo>
                  <a:lnTo>
                    <a:pt x="75" y="5"/>
                  </a:lnTo>
                  <a:lnTo>
                    <a:pt x="58" y="11"/>
                  </a:lnTo>
                  <a:lnTo>
                    <a:pt x="28" y="40"/>
                  </a:lnTo>
                  <a:lnTo>
                    <a:pt x="22" y="53"/>
                  </a:lnTo>
                  <a:lnTo>
                    <a:pt x="14" y="83"/>
                  </a:lnTo>
                  <a:lnTo>
                    <a:pt x="6" y="114"/>
                  </a:lnTo>
                  <a:lnTo>
                    <a:pt x="2" y="144"/>
                  </a:lnTo>
                  <a:lnTo>
                    <a:pt x="0" y="170"/>
                  </a:lnTo>
                  <a:lnTo>
                    <a:pt x="0" y="200"/>
                  </a:lnTo>
                  <a:lnTo>
                    <a:pt x="3" y="231"/>
                  </a:lnTo>
                  <a:lnTo>
                    <a:pt x="14" y="302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 rot="10800000">
              <a:off x="16908480" y="2675160"/>
              <a:ext cx="85680" cy="12348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115" y="188"/>
                  </a:moveTo>
                  <a:lnTo>
                    <a:pt x="140" y="179"/>
                  </a:lnTo>
                  <a:lnTo>
                    <a:pt x="161" y="138"/>
                  </a:lnTo>
                  <a:lnTo>
                    <a:pt x="156" y="79"/>
                  </a:lnTo>
                  <a:lnTo>
                    <a:pt x="145" y="34"/>
                  </a:lnTo>
                  <a:lnTo>
                    <a:pt x="135" y="15"/>
                  </a:lnTo>
                  <a:lnTo>
                    <a:pt x="114" y="3"/>
                  </a:lnTo>
                  <a:lnTo>
                    <a:pt x="106" y="3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47" y="3"/>
                  </a:lnTo>
                  <a:lnTo>
                    <a:pt x="26" y="15"/>
                  </a:lnTo>
                  <a:lnTo>
                    <a:pt x="16" y="34"/>
                  </a:lnTo>
                  <a:lnTo>
                    <a:pt x="6" y="79"/>
                  </a:lnTo>
                  <a:lnTo>
                    <a:pt x="0" y="138"/>
                  </a:lnTo>
                  <a:lnTo>
                    <a:pt x="21" y="179"/>
                  </a:lnTo>
                  <a:lnTo>
                    <a:pt x="46" y="188"/>
                  </a:lnTo>
                  <a:lnTo>
                    <a:pt x="81" y="191"/>
                  </a:lnTo>
                  <a:lnTo>
                    <a:pt x="115" y="188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 rot="10800000">
              <a:off x="16883280" y="2822400"/>
              <a:ext cx="144360" cy="56880"/>
            </a:xfrm>
            <a:custGeom>
              <a:avLst/>
              <a:gdLst/>
              <a:ahLst/>
              <a:rect l="l" t="t" r="r" b="b"/>
              <a:pathLst>
                <a:path w="274" h="97">
                  <a:moveTo>
                    <a:pt x="13" y="0"/>
                  </a:moveTo>
                  <a:lnTo>
                    <a:pt x="10" y="0"/>
                  </a:lnTo>
                  <a:lnTo>
                    <a:pt x="5" y="3"/>
                  </a:lnTo>
                  <a:lnTo>
                    <a:pt x="4" y="9"/>
                  </a:lnTo>
                  <a:lnTo>
                    <a:pt x="4" y="19"/>
                  </a:lnTo>
                  <a:lnTo>
                    <a:pt x="4" y="37"/>
                  </a:lnTo>
                  <a:lnTo>
                    <a:pt x="4" y="42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4" y="53"/>
                  </a:lnTo>
                  <a:lnTo>
                    <a:pt x="4" y="88"/>
                  </a:lnTo>
                  <a:lnTo>
                    <a:pt x="6" y="93"/>
                  </a:lnTo>
                  <a:lnTo>
                    <a:pt x="12" y="97"/>
                  </a:lnTo>
                  <a:lnTo>
                    <a:pt x="14" y="97"/>
                  </a:lnTo>
                  <a:lnTo>
                    <a:pt x="131" y="97"/>
                  </a:lnTo>
                  <a:lnTo>
                    <a:pt x="247" y="97"/>
                  </a:lnTo>
                  <a:lnTo>
                    <a:pt x="248" y="97"/>
                  </a:lnTo>
                  <a:lnTo>
                    <a:pt x="255" y="93"/>
                  </a:lnTo>
                  <a:lnTo>
                    <a:pt x="257" y="88"/>
                  </a:lnTo>
                  <a:lnTo>
                    <a:pt x="257" y="53"/>
                  </a:lnTo>
                  <a:lnTo>
                    <a:pt x="259" y="53"/>
                  </a:lnTo>
                  <a:lnTo>
                    <a:pt x="261" y="47"/>
                  </a:lnTo>
                  <a:lnTo>
                    <a:pt x="259" y="44"/>
                  </a:lnTo>
                  <a:lnTo>
                    <a:pt x="259" y="42"/>
                  </a:lnTo>
                  <a:lnTo>
                    <a:pt x="257" y="42"/>
                  </a:lnTo>
                  <a:lnTo>
                    <a:pt x="257" y="37"/>
                  </a:lnTo>
                  <a:lnTo>
                    <a:pt x="265" y="37"/>
                  </a:lnTo>
                  <a:lnTo>
                    <a:pt x="265" y="38"/>
                  </a:lnTo>
                  <a:lnTo>
                    <a:pt x="274" y="38"/>
                  </a:lnTo>
                  <a:lnTo>
                    <a:pt x="274" y="28"/>
                  </a:lnTo>
                  <a:lnTo>
                    <a:pt x="274" y="18"/>
                  </a:lnTo>
                  <a:lnTo>
                    <a:pt x="265" y="18"/>
                  </a:lnTo>
                  <a:lnTo>
                    <a:pt x="265" y="19"/>
                  </a:lnTo>
                  <a:lnTo>
                    <a:pt x="257" y="19"/>
                  </a:lnTo>
                  <a:lnTo>
                    <a:pt x="257" y="9"/>
                  </a:lnTo>
                  <a:lnTo>
                    <a:pt x="255" y="3"/>
                  </a:lnTo>
                  <a:lnTo>
                    <a:pt x="250" y="0"/>
                  </a:lnTo>
                  <a:lnTo>
                    <a:pt x="247" y="0"/>
                  </a:lnTo>
                  <a:lnTo>
                    <a:pt x="131" y="0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 rot="10800000">
              <a:off x="16940160" y="2740320"/>
              <a:ext cx="23760" cy="3456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2" y="9"/>
                  </a:moveTo>
                  <a:lnTo>
                    <a:pt x="24" y="0"/>
                  </a:lnTo>
                  <a:lnTo>
                    <a:pt x="5" y="9"/>
                  </a:lnTo>
                  <a:lnTo>
                    <a:pt x="0" y="22"/>
                  </a:lnTo>
                  <a:lnTo>
                    <a:pt x="0" y="59"/>
                  </a:lnTo>
                  <a:lnTo>
                    <a:pt x="46" y="59"/>
                  </a:lnTo>
                  <a:lnTo>
                    <a:pt x="46" y="22"/>
                  </a:lnTo>
                  <a:lnTo>
                    <a:pt x="42" y="9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 flipH="1" rot="16200000">
            <a:off x="19063440" y="2392920"/>
            <a:ext cx="43704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6253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625358"/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19172160" y="2500200"/>
            <a:ext cx="14400" cy="22392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10800000">
            <a:off x="19290960" y="2611080"/>
            <a:ext cx="57240" cy="2271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9640520" y="2195640"/>
            <a:ext cx="443520" cy="434520"/>
            <a:chOff x="19640520" y="2195640"/>
            <a:chExt cx="443520" cy="434520"/>
          </a:xfrm>
        </p:grpSpPr>
        <p:sp>
          <p:nvSpPr>
            <p:cNvPr id="363" name=""/>
            <p:cNvSpPr/>
            <p:nvPr/>
          </p:nvSpPr>
          <p:spPr>
            <a:xfrm flipH="1">
              <a:off x="19647000" y="2195640"/>
              <a:ext cx="43704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253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25358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54720" y="2197440"/>
              <a:ext cx="14400" cy="223560"/>
            </a:xfrm>
            <a:prstGeom prst="rect">
              <a:avLst/>
            </a:pr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6200000">
              <a:off x="19725480" y="2335680"/>
              <a:ext cx="57240" cy="227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21694680" y="1276200"/>
            <a:ext cx="0" cy="18320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749720" y="1436760"/>
            <a:ext cx="0" cy="14716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6709760" y="1736280"/>
            <a:ext cx="74520" cy="469800"/>
            <a:chOff x="16709760" y="1736280"/>
            <a:chExt cx="74520" cy="469800"/>
          </a:xfrm>
        </p:grpSpPr>
        <p:sp>
          <p:nvSpPr>
            <p:cNvPr id="369" name=""/>
            <p:cNvSpPr/>
            <p:nvPr/>
          </p:nvSpPr>
          <p:spPr>
            <a:xfrm rot="10800000">
              <a:off x="16709760" y="1737720"/>
              <a:ext cx="74520" cy="468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6745040" y="1736280"/>
              <a:ext cx="0" cy="468360"/>
            </a:xfrm>
            <a:prstGeom prst="line">
              <a:avLst/>
            </a:prstGeom>
            <a:ln w="316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2321800" y="2629080"/>
            <a:ext cx="176400" cy="74520"/>
          </a:xfrm>
          <a:prstGeom prst="triangle">
            <a:avLst>
              <a:gd name="adj" fmla="val 5000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891600" y="1419120"/>
            <a:ext cx="0" cy="1596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21634560" y="18151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1686760" y="2181960"/>
            <a:ext cx="246240" cy="316440"/>
            <a:chOff x="21686760" y="2181960"/>
            <a:chExt cx="246240" cy="316440"/>
          </a:xfrm>
        </p:grpSpPr>
        <p:grpSp>
          <p:nvGrpSpPr>
            <p:cNvPr id="375" name=""/>
            <p:cNvGrpSpPr/>
            <p:nvPr/>
          </p:nvGrpSpPr>
          <p:grpSpPr>
            <a:xfrm>
              <a:off x="21856320" y="2346480"/>
              <a:ext cx="71280" cy="23760"/>
              <a:chOff x="21856320" y="2346480"/>
              <a:chExt cx="71280" cy="23760"/>
            </a:xfrm>
          </p:grpSpPr>
          <p:sp>
            <p:nvSpPr>
              <p:cNvPr id="376" name=""/>
              <p:cNvSpPr/>
              <p:nvPr/>
            </p:nvSpPr>
            <p:spPr>
              <a:xfrm flipH="1">
                <a:off x="21856320" y="236052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flipV="1">
                <a:off x="21875400" y="234648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 rot="16200000">
              <a:off x="21651480" y="221688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21859560" y="2289240"/>
              <a:ext cx="71280" cy="23760"/>
              <a:chOff x="21859560" y="2289240"/>
              <a:chExt cx="71280" cy="23760"/>
            </a:xfrm>
          </p:grpSpPr>
          <p:sp>
            <p:nvSpPr>
              <p:cNvPr id="380" name=""/>
              <p:cNvSpPr/>
              <p:nvPr/>
            </p:nvSpPr>
            <p:spPr>
              <a:xfrm flipH="1">
                <a:off x="21859560" y="230328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 flipV="1">
                <a:off x="21878640" y="228924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2" name=""/>
          <p:cNvSpPr/>
          <p:nvPr/>
        </p:nvSpPr>
        <p:spPr>
          <a:xfrm rot="16200000">
            <a:off x="21636360" y="2518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314720" y="2664000"/>
            <a:ext cx="42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echnical"/>
              </a:rPr>
              <a:t>PM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524240" y="2463840"/>
            <a:ext cx="42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echnical"/>
              </a:rPr>
              <a:t>PM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6729200" y="2394000"/>
            <a:ext cx="1963440" cy="275760"/>
            <a:chOff x="16729200" y="2394000"/>
            <a:chExt cx="1963440" cy="275760"/>
          </a:xfrm>
        </p:grpSpPr>
        <p:sp>
          <p:nvSpPr>
            <p:cNvPr id="386" name=""/>
            <p:cNvSpPr/>
            <p:nvPr/>
          </p:nvSpPr>
          <p:spPr>
            <a:xfrm>
              <a:off x="16773480" y="2604960"/>
              <a:ext cx="1919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16975440" y="2394000"/>
              <a:ext cx="316440" cy="246240"/>
              <a:chOff x="16975440" y="2394000"/>
              <a:chExt cx="316440" cy="24624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17103600" y="2563560"/>
                <a:ext cx="23760" cy="71280"/>
                <a:chOff x="17103600" y="2563560"/>
                <a:chExt cx="23760" cy="71280"/>
              </a:xfrm>
            </p:grpSpPr>
            <p:sp>
              <p:nvSpPr>
                <p:cNvPr id="389" name=""/>
                <p:cNvSpPr/>
                <p:nvPr/>
              </p:nvSpPr>
              <p:spPr>
                <a:xfrm flipV="1">
                  <a:off x="17113320" y="2563560"/>
                  <a:ext cx="0" cy="71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V="1">
                  <a:off x="17103600" y="2582640"/>
                  <a:ext cx="23760" cy="3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16975440" y="2394000"/>
                <a:ext cx="316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17160840" y="2566800"/>
                <a:ext cx="23760" cy="71280"/>
                <a:chOff x="17160840" y="2566800"/>
                <a:chExt cx="23760" cy="71280"/>
              </a:xfrm>
            </p:grpSpPr>
            <p:sp>
              <p:nvSpPr>
                <p:cNvPr id="393" name=""/>
                <p:cNvSpPr/>
                <p:nvPr/>
              </p:nvSpPr>
              <p:spPr>
                <a:xfrm flipV="1">
                  <a:off x="17170560" y="2566800"/>
                  <a:ext cx="0" cy="71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17160840" y="2585880"/>
                  <a:ext cx="23760" cy="3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"/>
            <p:cNvGrpSpPr/>
            <p:nvPr/>
          </p:nvGrpSpPr>
          <p:grpSpPr>
            <a:xfrm>
              <a:off x="17361360" y="2403360"/>
              <a:ext cx="316440" cy="246240"/>
              <a:chOff x="17361360" y="2403360"/>
              <a:chExt cx="316440" cy="24624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17489520" y="2572920"/>
                <a:ext cx="23760" cy="71280"/>
                <a:chOff x="17489520" y="2572920"/>
                <a:chExt cx="23760" cy="71280"/>
              </a:xfrm>
            </p:grpSpPr>
            <p:sp>
              <p:nvSpPr>
                <p:cNvPr id="397" name=""/>
                <p:cNvSpPr/>
                <p:nvPr/>
              </p:nvSpPr>
              <p:spPr>
                <a:xfrm flipV="1">
                  <a:off x="17499240" y="2572920"/>
                  <a:ext cx="0" cy="71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17489520" y="2592000"/>
                  <a:ext cx="23760" cy="3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17361360" y="2403360"/>
                <a:ext cx="316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17546760" y="2576160"/>
                <a:ext cx="23760" cy="71280"/>
                <a:chOff x="17546760" y="2576160"/>
                <a:chExt cx="23760" cy="71280"/>
              </a:xfrm>
            </p:grpSpPr>
            <p:sp>
              <p:nvSpPr>
                <p:cNvPr id="401" name=""/>
                <p:cNvSpPr/>
                <p:nvPr/>
              </p:nvSpPr>
              <p:spPr>
                <a:xfrm flipV="1">
                  <a:off x="17556480" y="2576160"/>
                  <a:ext cx="0" cy="71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17546760" y="2595240"/>
                  <a:ext cx="23760" cy="3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3" name=""/>
            <p:cNvGrpSpPr/>
            <p:nvPr/>
          </p:nvGrpSpPr>
          <p:grpSpPr>
            <a:xfrm>
              <a:off x="17751960" y="2398680"/>
              <a:ext cx="316440" cy="246240"/>
              <a:chOff x="17751960" y="2398680"/>
              <a:chExt cx="316440" cy="24624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17879760" y="2568240"/>
                <a:ext cx="23400" cy="71280"/>
                <a:chOff x="17879760" y="2568240"/>
                <a:chExt cx="23400" cy="71280"/>
              </a:xfrm>
            </p:grpSpPr>
            <p:sp>
              <p:nvSpPr>
                <p:cNvPr id="405" name=""/>
                <p:cNvSpPr/>
                <p:nvPr/>
              </p:nvSpPr>
              <p:spPr>
                <a:xfrm flipV="1">
                  <a:off x="17889120" y="2568240"/>
                  <a:ext cx="0" cy="71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V="1">
                  <a:off x="17879760" y="2587320"/>
                  <a:ext cx="23400" cy="3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17751960" y="2398680"/>
                <a:ext cx="316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17937000" y="2571480"/>
                <a:ext cx="23400" cy="71280"/>
                <a:chOff x="17937000" y="2571480"/>
                <a:chExt cx="23400" cy="71280"/>
              </a:xfrm>
            </p:grpSpPr>
            <p:sp>
              <p:nvSpPr>
                <p:cNvPr id="409" name=""/>
                <p:cNvSpPr/>
                <p:nvPr/>
              </p:nvSpPr>
              <p:spPr>
                <a:xfrm flipV="1">
                  <a:off x="17946360" y="2571480"/>
                  <a:ext cx="0" cy="71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V="1">
                  <a:off x="17937000" y="2590560"/>
                  <a:ext cx="23400" cy="3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1" name=""/>
            <p:cNvGrpSpPr/>
            <p:nvPr/>
          </p:nvGrpSpPr>
          <p:grpSpPr>
            <a:xfrm>
              <a:off x="18142200" y="2403360"/>
              <a:ext cx="316440" cy="246240"/>
              <a:chOff x="18142200" y="2403360"/>
              <a:chExt cx="316440" cy="24624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18270360" y="2572920"/>
                <a:ext cx="23760" cy="71280"/>
                <a:chOff x="18270360" y="2572920"/>
                <a:chExt cx="23760" cy="71280"/>
              </a:xfrm>
            </p:grpSpPr>
            <p:sp>
              <p:nvSpPr>
                <p:cNvPr id="413" name=""/>
                <p:cNvSpPr/>
                <p:nvPr/>
              </p:nvSpPr>
              <p:spPr>
                <a:xfrm flipV="1">
                  <a:off x="18280080" y="2572920"/>
                  <a:ext cx="0" cy="71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8270360" y="2592000"/>
                  <a:ext cx="23760" cy="3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8142200" y="2403360"/>
                <a:ext cx="316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18327600" y="2576160"/>
                <a:ext cx="23760" cy="71280"/>
                <a:chOff x="18327600" y="2576160"/>
                <a:chExt cx="23760" cy="71280"/>
              </a:xfrm>
            </p:grpSpPr>
            <p:sp>
              <p:nvSpPr>
                <p:cNvPr id="417" name=""/>
                <p:cNvSpPr/>
                <p:nvPr/>
              </p:nvSpPr>
              <p:spPr>
                <a:xfrm flipV="1">
                  <a:off x="18337320" y="2576160"/>
                  <a:ext cx="0" cy="71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18327600" y="2595240"/>
                  <a:ext cx="23760" cy="3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9" name=""/>
            <p:cNvSpPr/>
            <p:nvPr/>
          </p:nvSpPr>
          <p:spPr>
            <a:xfrm>
              <a:off x="16729200" y="2449440"/>
              <a:ext cx="36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138520" y="2454120"/>
              <a:ext cx="36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519760" y="2454120"/>
              <a:ext cx="36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934120" y="2444760"/>
              <a:ext cx="36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8319680" y="2449440"/>
              <a:ext cx="36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16770240" y="2573280"/>
              <a:ext cx="23760" cy="71280"/>
              <a:chOff x="16770240" y="2573280"/>
              <a:chExt cx="23760" cy="71280"/>
            </a:xfrm>
          </p:grpSpPr>
          <p:sp>
            <p:nvSpPr>
              <p:cNvPr id="425" name=""/>
              <p:cNvSpPr/>
              <p:nvPr/>
            </p:nvSpPr>
            <p:spPr>
              <a:xfrm flipV="1">
                <a:off x="16779960" y="257328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16770240" y="259236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19964520" y="2629080"/>
            <a:ext cx="15620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0166480" y="2417760"/>
            <a:ext cx="316440" cy="246240"/>
            <a:chOff x="20166480" y="2417760"/>
            <a:chExt cx="316440" cy="246240"/>
          </a:xfrm>
        </p:grpSpPr>
        <p:grpSp>
          <p:nvGrpSpPr>
            <p:cNvPr id="429" name=""/>
            <p:cNvGrpSpPr/>
            <p:nvPr/>
          </p:nvGrpSpPr>
          <p:grpSpPr>
            <a:xfrm>
              <a:off x="20294640" y="2587320"/>
              <a:ext cx="23760" cy="71280"/>
              <a:chOff x="20294640" y="2587320"/>
              <a:chExt cx="23760" cy="7128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20304360" y="258732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20294640" y="260640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20166480" y="241776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20351880" y="2590560"/>
              <a:ext cx="23760" cy="71280"/>
              <a:chOff x="20351880" y="2590560"/>
              <a:chExt cx="23760" cy="71280"/>
            </a:xfrm>
          </p:grpSpPr>
          <p:sp>
            <p:nvSpPr>
              <p:cNvPr id="434" name=""/>
              <p:cNvSpPr/>
              <p:nvPr/>
            </p:nvSpPr>
            <p:spPr>
              <a:xfrm flipV="1">
                <a:off x="20361600" y="259056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20351880" y="260964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20552040" y="2427120"/>
            <a:ext cx="316440" cy="246240"/>
            <a:chOff x="20552040" y="2427120"/>
            <a:chExt cx="316440" cy="246240"/>
          </a:xfrm>
        </p:grpSpPr>
        <p:grpSp>
          <p:nvGrpSpPr>
            <p:cNvPr id="437" name=""/>
            <p:cNvGrpSpPr/>
            <p:nvPr/>
          </p:nvGrpSpPr>
          <p:grpSpPr>
            <a:xfrm>
              <a:off x="20680200" y="2596680"/>
              <a:ext cx="23760" cy="71280"/>
              <a:chOff x="20680200" y="2596680"/>
              <a:chExt cx="23760" cy="71280"/>
            </a:xfrm>
          </p:grpSpPr>
          <p:sp>
            <p:nvSpPr>
              <p:cNvPr id="438" name=""/>
              <p:cNvSpPr/>
              <p:nvPr/>
            </p:nvSpPr>
            <p:spPr>
              <a:xfrm flipV="1">
                <a:off x="20689920" y="259668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20680200" y="261576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20552040" y="242712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20737440" y="2599920"/>
              <a:ext cx="23760" cy="71280"/>
              <a:chOff x="20737440" y="2599920"/>
              <a:chExt cx="23760" cy="71280"/>
            </a:xfrm>
          </p:grpSpPr>
          <p:sp>
            <p:nvSpPr>
              <p:cNvPr id="442" name=""/>
              <p:cNvSpPr/>
              <p:nvPr/>
            </p:nvSpPr>
            <p:spPr>
              <a:xfrm flipV="1">
                <a:off x="20747160" y="259992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20737440" y="261900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20942640" y="2422440"/>
            <a:ext cx="316440" cy="246240"/>
            <a:chOff x="20942640" y="2422440"/>
            <a:chExt cx="316440" cy="246240"/>
          </a:xfrm>
        </p:grpSpPr>
        <p:grpSp>
          <p:nvGrpSpPr>
            <p:cNvPr id="445" name=""/>
            <p:cNvGrpSpPr/>
            <p:nvPr/>
          </p:nvGrpSpPr>
          <p:grpSpPr>
            <a:xfrm>
              <a:off x="21070800" y="2592000"/>
              <a:ext cx="23760" cy="71280"/>
              <a:chOff x="21070800" y="2592000"/>
              <a:chExt cx="23760" cy="71280"/>
            </a:xfrm>
          </p:grpSpPr>
          <p:sp>
            <p:nvSpPr>
              <p:cNvPr id="446" name=""/>
              <p:cNvSpPr/>
              <p:nvPr/>
            </p:nvSpPr>
            <p:spPr>
              <a:xfrm flipV="1">
                <a:off x="21080520" y="259200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21070800" y="261108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20942640" y="242244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21128040" y="2595240"/>
              <a:ext cx="23760" cy="71280"/>
              <a:chOff x="21128040" y="2595240"/>
              <a:chExt cx="23760" cy="71280"/>
            </a:xfrm>
          </p:grpSpPr>
          <p:sp>
            <p:nvSpPr>
              <p:cNvPr id="450" name=""/>
              <p:cNvSpPr/>
              <p:nvPr/>
            </p:nvSpPr>
            <p:spPr>
              <a:xfrm flipV="1">
                <a:off x="21137760" y="259524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21128040" y="261432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21470760" y="2597040"/>
            <a:ext cx="23760" cy="71280"/>
            <a:chOff x="21470760" y="2597040"/>
            <a:chExt cx="23760" cy="71280"/>
          </a:xfrm>
        </p:grpSpPr>
        <p:sp>
          <p:nvSpPr>
            <p:cNvPr id="453" name=""/>
            <p:cNvSpPr/>
            <p:nvPr/>
          </p:nvSpPr>
          <p:spPr>
            <a:xfrm flipV="1">
              <a:off x="21480480" y="2597040"/>
              <a:ext cx="0" cy="71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21470760" y="261612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9919880" y="2473200"/>
            <a:ext cx="3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329560" y="2478240"/>
            <a:ext cx="3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710440" y="2478240"/>
            <a:ext cx="3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1124800" y="2468520"/>
            <a:ext cx="3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9961280" y="2597040"/>
            <a:ext cx="23760" cy="71280"/>
            <a:chOff x="19961280" y="2597040"/>
            <a:chExt cx="23760" cy="71280"/>
          </a:xfrm>
        </p:grpSpPr>
        <p:sp>
          <p:nvSpPr>
            <p:cNvPr id="460" name=""/>
            <p:cNvSpPr/>
            <p:nvPr/>
          </p:nvSpPr>
          <p:spPr>
            <a:xfrm flipV="1">
              <a:off x="19971000" y="2597040"/>
              <a:ext cx="0" cy="71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9961280" y="261612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18700920" y="2098800"/>
            <a:ext cx="0" cy="84744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291320" y="5911920"/>
            <a:ext cx="142704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2854160" y="4376520"/>
            <a:ext cx="355320" cy="358560"/>
            <a:chOff x="12854160" y="4376520"/>
            <a:chExt cx="355320" cy="358560"/>
          </a:xfrm>
        </p:grpSpPr>
        <p:grpSp>
          <p:nvGrpSpPr>
            <p:cNvPr id="465" name=""/>
            <p:cNvGrpSpPr/>
            <p:nvPr/>
          </p:nvGrpSpPr>
          <p:grpSpPr>
            <a:xfrm>
              <a:off x="12854160" y="4376520"/>
              <a:ext cx="355320" cy="358560"/>
              <a:chOff x="12854160" y="4376520"/>
              <a:chExt cx="355320" cy="358560"/>
            </a:xfrm>
          </p:grpSpPr>
          <p:sp>
            <p:nvSpPr>
              <p:cNvPr id="466" name=""/>
              <p:cNvSpPr/>
              <p:nvPr/>
            </p:nvSpPr>
            <p:spPr>
              <a:xfrm flipH="1" flipV="1" rot="16200000">
                <a:off x="12852000" y="4377960"/>
                <a:ext cx="358560" cy="35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5400000">
                <a:off x="13112640" y="4458600"/>
                <a:ext cx="14400" cy="176400"/>
              </a:xfrm>
              <a:prstGeom prst="rect">
                <a:avLst/>
              </a:pr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 flipH="1" rot="16200000">
              <a:off x="12900240" y="4601160"/>
              <a:ext cx="19368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12076200" y="4610160"/>
            <a:ext cx="9334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6514640" y="1246320"/>
            <a:ext cx="0" cy="16430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6513200" y="1243080"/>
            <a:ext cx="52117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290200" y="2050920"/>
            <a:ext cx="0" cy="10895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293440" y="4091040"/>
            <a:ext cx="54000" cy="7356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297800" y="1476360"/>
            <a:ext cx="54000" cy="1157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801520" y="3286080"/>
            <a:ext cx="509400" cy="5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015720" y="3643200"/>
            <a:ext cx="54000" cy="304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968280" y="4505400"/>
            <a:ext cx="54000" cy="647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793600" y="3627360"/>
            <a:ext cx="1162080" cy="54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63240" y="4005360"/>
            <a:ext cx="403560" cy="54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0800000">
            <a:off x="12075840" y="4424400"/>
            <a:ext cx="414360" cy="540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1573280" y="3006720"/>
            <a:ext cx="434520" cy="437040"/>
            <a:chOff x="11573280" y="3006720"/>
            <a:chExt cx="434520" cy="437040"/>
          </a:xfrm>
        </p:grpSpPr>
        <p:sp>
          <p:nvSpPr>
            <p:cNvPr id="482" name=""/>
            <p:cNvSpPr/>
            <p:nvPr/>
          </p:nvSpPr>
          <p:spPr>
            <a:xfrm rot="5400000">
              <a:off x="11885040" y="3109680"/>
              <a:ext cx="14400" cy="223560"/>
            </a:xfrm>
            <a:prstGeom prst="rect">
              <a:avLst/>
            </a:prstGeom>
            <a:noFill/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rot="5400000">
              <a:off x="11571480" y="3007800"/>
              <a:ext cx="43704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253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25358"/>
                </a:path>
              </a:pathLst>
            </a:cu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11748600" y="3425760"/>
            <a:ext cx="290520" cy="108000"/>
            <a:chOff x="11748600" y="3425760"/>
            <a:chExt cx="290520" cy="108000"/>
          </a:xfrm>
        </p:grpSpPr>
        <p:sp>
          <p:nvSpPr>
            <p:cNvPr id="485" name=""/>
            <p:cNvSpPr/>
            <p:nvPr/>
          </p:nvSpPr>
          <p:spPr>
            <a:xfrm rot="5400000">
              <a:off x="11931120" y="3425760"/>
              <a:ext cx="108000" cy="107640"/>
            </a:xfrm>
            <a:prstGeom prst="ellipse">
              <a:avLst/>
            </a:pr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11748600" y="3479760"/>
              <a:ext cx="1796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7124760" y="2949480"/>
            <a:ext cx="65160" cy="14907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9230840" y="4444920"/>
            <a:ext cx="716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16200000">
            <a:off x="18398880" y="5108400"/>
            <a:ext cx="54000" cy="16095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229400" y="587232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773080" y="2919240"/>
            <a:ext cx="0" cy="104796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593160" y="4303800"/>
            <a:ext cx="42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echnical"/>
              </a:rPr>
              <a:t>PM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709520" y="893448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796160" y="3376440"/>
            <a:ext cx="79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DESCA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109400" y="2728800"/>
            <a:ext cx="61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RAM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755080" y="5830920"/>
            <a:ext cx="2523960" cy="74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457160" y="10271160"/>
            <a:ext cx="36036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891680" y="12573000"/>
            <a:ext cx="141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BALCÃO  A DEMOL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3889520" y="10174320"/>
            <a:ext cx="241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PROJEÇÃO DO TELHADO A CONTRU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927320" y="10704600"/>
            <a:ext cx="358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LIMITE DO PISO A CONSTRUIR NA CIRCULAÇÃO EXTER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841280" y="11049120"/>
            <a:ext cx="399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BANCA DE MÁRMORE 2.00 x 0.60 c/ 2 cubas de 0.50 x 0,40 x 0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971240" y="11631600"/>
            <a:ext cx="408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BALCÃO C/ TAMPO DE CONCRETO SOBRE MURETA DE ALVEN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884480" y="11945880"/>
            <a:ext cx="94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BEBEDOU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886280" y="1343988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0.80 X 2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879080" y="12269880"/>
            <a:ext cx="15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ARMÁRIOS A DEMOL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915440" y="11360160"/>
            <a:ext cx="28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BALCÃO C/ ARMÁRIO REVESTIDO C/ FÓ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906440" y="10431360"/>
            <a:ext cx="295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CANALETAS COM GRELHA DE FERRO FUNDI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3457160" y="10818720"/>
            <a:ext cx="36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160880" y="11318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echnic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3130280" y="10094760"/>
            <a:ext cx="312480" cy="303120"/>
            <a:chOff x="13130280" y="10094760"/>
            <a:chExt cx="312480" cy="303120"/>
          </a:xfrm>
        </p:grpSpPr>
        <p:sp>
          <p:nvSpPr>
            <p:cNvPr id="511" name=""/>
            <p:cNvSpPr/>
            <p:nvPr/>
          </p:nvSpPr>
          <p:spPr>
            <a:xfrm>
              <a:off x="13175280" y="101214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130280" y="10094760"/>
              <a:ext cx="28764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13130280" y="10383840"/>
            <a:ext cx="297720" cy="289080"/>
            <a:chOff x="13130280" y="10383840"/>
            <a:chExt cx="297720" cy="289080"/>
          </a:xfrm>
        </p:grpSpPr>
        <p:sp>
          <p:nvSpPr>
            <p:cNvPr id="514" name=""/>
            <p:cNvSpPr/>
            <p:nvPr/>
          </p:nvSpPr>
          <p:spPr>
            <a:xfrm>
              <a:off x="13160520" y="103964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3130280" y="103838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3130280" y="10701360"/>
            <a:ext cx="312480" cy="289080"/>
            <a:chOff x="13130280" y="10701360"/>
            <a:chExt cx="312480" cy="289080"/>
          </a:xfrm>
        </p:grpSpPr>
        <p:sp>
          <p:nvSpPr>
            <p:cNvPr id="517" name=""/>
            <p:cNvSpPr/>
            <p:nvPr/>
          </p:nvSpPr>
          <p:spPr>
            <a:xfrm>
              <a:off x="13175280" y="107139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130280" y="10701360"/>
              <a:ext cx="28764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3158720" y="11004480"/>
            <a:ext cx="287280" cy="302040"/>
            <a:chOff x="13158720" y="11004480"/>
            <a:chExt cx="287280" cy="302040"/>
          </a:xfrm>
        </p:grpSpPr>
        <p:sp>
          <p:nvSpPr>
            <p:cNvPr id="520" name=""/>
            <p:cNvSpPr/>
            <p:nvPr/>
          </p:nvSpPr>
          <p:spPr>
            <a:xfrm>
              <a:off x="13174920" y="110300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3158720" y="1100448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13142880" y="1129356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3157280" y="11596680"/>
            <a:ext cx="287280" cy="287280"/>
            <a:chOff x="13157280" y="11596680"/>
            <a:chExt cx="287280" cy="287280"/>
          </a:xfrm>
        </p:grpSpPr>
        <p:sp>
          <p:nvSpPr>
            <p:cNvPr id="524" name=""/>
            <p:cNvSpPr/>
            <p:nvPr/>
          </p:nvSpPr>
          <p:spPr>
            <a:xfrm>
              <a:off x="13174560" y="116074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157280" y="1159668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3171320" y="11914200"/>
            <a:ext cx="287280" cy="287640"/>
            <a:chOff x="13171320" y="11914200"/>
            <a:chExt cx="287280" cy="287640"/>
          </a:xfrm>
        </p:grpSpPr>
        <p:sp>
          <p:nvSpPr>
            <p:cNvPr id="527" name=""/>
            <p:cNvSpPr/>
            <p:nvPr/>
          </p:nvSpPr>
          <p:spPr>
            <a:xfrm>
              <a:off x="13189320" y="1192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171320" y="1191420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3157280" y="12519000"/>
            <a:ext cx="287280" cy="303480"/>
            <a:chOff x="13157280" y="12519000"/>
            <a:chExt cx="287280" cy="303480"/>
          </a:xfrm>
        </p:grpSpPr>
        <p:sp>
          <p:nvSpPr>
            <p:cNvPr id="530" name=""/>
            <p:cNvSpPr/>
            <p:nvPr/>
          </p:nvSpPr>
          <p:spPr>
            <a:xfrm>
              <a:off x="13174560" y="125460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3157280" y="1251900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3168440" y="12200040"/>
            <a:ext cx="287280" cy="303480"/>
            <a:chOff x="13168440" y="12200040"/>
            <a:chExt cx="287280" cy="303480"/>
          </a:xfrm>
        </p:grpSpPr>
        <p:sp>
          <p:nvSpPr>
            <p:cNvPr id="533" name=""/>
            <p:cNvSpPr/>
            <p:nvPr/>
          </p:nvSpPr>
          <p:spPr>
            <a:xfrm>
              <a:off x="13186080" y="122270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168440" y="122000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13075560" y="12891960"/>
            <a:ext cx="67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echnical"/>
              </a:rPr>
              <a:t>PM 1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3071960" y="13412880"/>
            <a:ext cx="53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echnical"/>
              </a:rPr>
              <a:t>PM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3086000" y="13150800"/>
            <a:ext cx="53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echnical"/>
              </a:rPr>
              <a:t>P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3900680" y="1287612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0.60 X 1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3900680" y="1316340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0.60 X 2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086720" y="136857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echnical"/>
              </a:rPr>
              <a:t>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3129200" y="13944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echnical"/>
              </a:rPr>
              <a:t>PF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917960" y="13684320"/>
            <a:ext cx="153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VENEZIANA 2.00 X 0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3957920" y="1397484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1.80 X 2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449240" y="10507680"/>
            <a:ext cx="343080" cy="745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145400" y="142779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echnical"/>
              </a:rPr>
              <a:t>BF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948200" y="1426068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3.00 X 1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211960" y="7086600"/>
            <a:ext cx="0" cy="8067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182000" y="15154200"/>
            <a:ext cx="1044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025760" y="4441680"/>
            <a:ext cx="716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186680" y="12166560"/>
            <a:ext cx="0" cy="144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808160" y="1275084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3300"/>
                </a:solidFill>
                <a:latin typeface="Technical"/>
              </a:rPr>
              <a:t>DIVISÓRIA E PORTA DE 2 FOLHA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3300"/>
                </a:solidFill>
                <a:latin typeface="Technical"/>
              </a:rPr>
              <a:t>SOBREPOSTA A PORTA DE ENRO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9070560" y="604512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3300"/>
                </a:solidFill>
                <a:latin typeface="Technical"/>
              </a:rPr>
              <a:t>DIVISÓRIA E PORTA DE 2 FOLHA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3300"/>
                </a:solidFill>
                <a:latin typeface="Technical"/>
              </a:rPr>
              <a:t>SOBREPOSTA A PORTA DE ENRO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10322640" y="3048120"/>
            <a:ext cx="1176840" cy="266760"/>
            <a:chOff x="10322640" y="3048120"/>
            <a:chExt cx="1176840" cy="266760"/>
          </a:xfrm>
        </p:grpSpPr>
        <p:sp>
          <p:nvSpPr>
            <p:cNvPr id="554" name=""/>
            <p:cNvSpPr/>
            <p:nvPr/>
          </p:nvSpPr>
          <p:spPr>
            <a:xfrm>
              <a:off x="10322640" y="3068640"/>
              <a:ext cx="113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echnical"/>
                </a:rPr>
                <a:t>SANIT MASC.   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233080" y="3048120"/>
              <a:ext cx="26640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0343520" y="3687840"/>
            <a:ext cx="1146600" cy="254160"/>
            <a:chOff x="10343520" y="3687840"/>
            <a:chExt cx="1146600" cy="254160"/>
          </a:xfrm>
        </p:grpSpPr>
        <p:sp>
          <p:nvSpPr>
            <p:cNvPr id="557" name=""/>
            <p:cNvSpPr/>
            <p:nvPr/>
          </p:nvSpPr>
          <p:spPr>
            <a:xfrm>
              <a:off x="10343520" y="3695760"/>
              <a:ext cx="111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echnical"/>
                </a:rPr>
                <a:t>SANIT  FEM.    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223360" y="3687840"/>
              <a:ext cx="26676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21467880" y="2905200"/>
            <a:ext cx="0" cy="69984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23280480" y="9290160"/>
            <a:ext cx="74520" cy="1079280"/>
            <a:chOff x="23280480" y="9290160"/>
            <a:chExt cx="74520" cy="1079280"/>
          </a:xfrm>
        </p:grpSpPr>
        <p:sp>
          <p:nvSpPr>
            <p:cNvPr id="561" name=""/>
            <p:cNvSpPr/>
            <p:nvPr/>
          </p:nvSpPr>
          <p:spPr>
            <a:xfrm rot="10800000">
              <a:off x="23280480" y="9296280"/>
              <a:ext cx="74520" cy="1073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3318640" y="9290160"/>
              <a:ext cx="0" cy="107316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 rot="16200000">
            <a:off x="6754680" y="96076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echnical"/>
              </a:rPr>
              <a:t>BF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16200000">
            <a:off x="23242680" y="95313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echnical"/>
              </a:rPr>
              <a:t>BF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6200000">
            <a:off x="23232960" y="81788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echnical"/>
              </a:rPr>
              <a:t>BF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16200000">
            <a:off x="23220360" y="49658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echnical"/>
              </a:rPr>
              <a:t>BF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420800" y="10012320"/>
            <a:ext cx="390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3874040" y="9912240"/>
            <a:ext cx="17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DIVISÓRIAS MODUL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3976640" y="8825040"/>
            <a:ext cx="140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PILARES EXIST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3285520" y="2928960"/>
            <a:ext cx="3708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719640" y="2914560"/>
            <a:ext cx="179640" cy="1206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7232480" y="4906440"/>
            <a:ext cx="645480" cy="1292040"/>
            <a:chOff x="17232480" y="4906440"/>
            <a:chExt cx="645480" cy="1292040"/>
          </a:xfrm>
        </p:grpSpPr>
        <p:grpSp>
          <p:nvGrpSpPr>
            <p:cNvPr id="573" name=""/>
            <p:cNvGrpSpPr/>
            <p:nvPr/>
          </p:nvGrpSpPr>
          <p:grpSpPr>
            <a:xfrm>
              <a:off x="17232480" y="4906440"/>
              <a:ext cx="640800" cy="646560"/>
              <a:chOff x="17232480" y="4906440"/>
              <a:chExt cx="640800" cy="646560"/>
            </a:xfrm>
          </p:grpSpPr>
          <p:sp>
            <p:nvSpPr>
              <p:cNvPr id="574" name=""/>
              <p:cNvSpPr/>
              <p:nvPr/>
            </p:nvSpPr>
            <p:spPr>
              <a:xfrm flipV="1" rot="5400000">
                <a:off x="17229960" y="4909680"/>
                <a:ext cx="646560" cy="64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5400000">
                <a:off x="17386920" y="5068080"/>
                <a:ext cx="14400" cy="323640"/>
              </a:xfrm>
              <a:prstGeom prst="rect">
                <a:avLst/>
              </a:prstGeom>
              <a:noFill/>
              <a:ln w="64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17237160" y="5551920"/>
              <a:ext cx="640800" cy="646560"/>
              <a:chOff x="17237160" y="5551920"/>
              <a:chExt cx="640800" cy="646560"/>
            </a:xfrm>
          </p:grpSpPr>
          <p:sp>
            <p:nvSpPr>
              <p:cNvPr id="577" name=""/>
              <p:cNvSpPr/>
              <p:nvPr/>
            </p:nvSpPr>
            <p:spPr>
              <a:xfrm flipH="1" flipV="1" rot="5400000">
                <a:off x="17234640" y="5555160"/>
                <a:ext cx="646560" cy="64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rot="5400000">
                <a:off x="17391240" y="5712840"/>
                <a:ext cx="14400" cy="323640"/>
              </a:xfrm>
              <a:prstGeom prst="rect">
                <a:avLst/>
              </a:prstGeom>
              <a:noFill/>
              <a:ln w="64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3432240" y="2919240"/>
            <a:ext cx="159177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rot="16200000">
            <a:off x="5280840" y="2592720"/>
            <a:ext cx="65160" cy="377820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41600" y="2889360"/>
            <a:ext cx="0" cy="1453032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23900760" y="12992400"/>
            <a:ext cx="371160" cy="1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3336280" y="13260240"/>
            <a:ext cx="842760" cy="1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19606800">
            <a:off x="17404920" y="4362120"/>
            <a:ext cx="1562040" cy="1792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11799720" y="3539160"/>
            <a:ext cx="143640" cy="180360"/>
            <a:chOff x="11799720" y="3539160"/>
            <a:chExt cx="143640" cy="180360"/>
          </a:xfrm>
        </p:grpSpPr>
        <p:grpSp>
          <p:nvGrpSpPr>
            <p:cNvPr id="586" name=""/>
            <p:cNvGrpSpPr/>
            <p:nvPr/>
          </p:nvGrpSpPr>
          <p:grpSpPr>
            <a:xfrm>
              <a:off x="11834640" y="3551400"/>
              <a:ext cx="99720" cy="158760"/>
              <a:chOff x="11834640" y="3551400"/>
              <a:chExt cx="99720" cy="158760"/>
            </a:xfrm>
          </p:grpSpPr>
          <p:sp>
            <p:nvSpPr>
              <p:cNvPr id="587" name=""/>
              <p:cNvSpPr/>
              <p:nvPr/>
            </p:nvSpPr>
            <p:spPr>
              <a:xfrm flipV="1" rot="5400000">
                <a:off x="11805120" y="3580560"/>
                <a:ext cx="158760" cy="99720"/>
              </a:xfrm>
              <a:custGeom>
                <a:avLst/>
                <a:gdLst/>
                <a:ahLst/>
                <a:rect l="l" t="t" r="r" b="b"/>
                <a:pathLst>
                  <a:path w="414" h="276">
                    <a:moveTo>
                      <a:pt x="414" y="137"/>
                    </a:moveTo>
                    <a:lnTo>
                      <a:pt x="397" y="86"/>
                    </a:lnTo>
                    <a:lnTo>
                      <a:pt x="353" y="40"/>
                    </a:lnTo>
                    <a:lnTo>
                      <a:pt x="286" y="10"/>
                    </a:lnTo>
                    <a:lnTo>
                      <a:pt x="207" y="0"/>
                    </a:lnTo>
                    <a:lnTo>
                      <a:pt x="128" y="10"/>
                    </a:lnTo>
                    <a:lnTo>
                      <a:pt x="61" y="40"/>
                    </a:lnTo>
                    <a:lnTo>
                      <a:pt x="17" y="86"/>
                    </a:lnTo>
                    <a:lnTo>
                      <a:pt x="0" y="137"/>
                    </a:lnTo>
                    <a:lnTo>
                      <a:pt x="17" y="190"/>
                    </a:lnTo>
                    <a:lnTo>
                      <a:pt x="61" y="234"/>
                    </a:lnTo>
                    <a:lnTo>
                      <a:pt x="128" y="264"/>
                    </a:lnTo>
                    <a:lnTo>
                      <a:pt x="207" y="276"/>
                    </a:lnTo>
                    <a:lnTo>
                      <a:pt x="286" y="264"/>
                    </a:lnTo>
                    <a:lnTo>
                      <a:pt x="353" y="234"/>
                    </a:lnTo>
                    <a:lnTo>
                      <a:pt x="397" y="190"/>
                    </a:lnTo>
                    <a:lnTo>
                      <a:pt x="414" y="137"/>
                    </a:lnTo>
                  </a:path>
                </a:pathLst>
              </a:custGeom>
              <a:solidFill>
                <a:srgbClr val="ffff66"/>
              </a:solidFill>
              <a:ln w="648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 rot="5400000">
                <a:off x="11819520" y="3592440"/>
                <a:ext cx="129240" cy="784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336" y="99"/>
                    </a:moveTo>
                    <a:lnTo>
                      <a:pt x="332" y="80"/>
                    </a:lnTo>
                    <a:lnTo>
                      <a:pt x="319" y="57"/>
                    </a:lnTo>
                    <a:lnTo>
                      <a:pt x="292" y="35"/>
                    </a:lnTo>
                    <a:lnTo>
                      <a:pt x="256" y="15"/>
                    </a:lnTo>
                    <a:lnTo>
                      <a:pt x="213" y="4"/>
                    </a:lnTo>
                    <a:lnTo>
                      <a:pt x="168" y="0"/>
                    </a:lnTo>
                    <a:lnTo>
                      <a:pt x="122" y="4"/>
                    </a:lnTo>
                    <a:lnTo>
                      <a:pt x="80" y="15"/>
                    </a:lnTo>
                    <a:lnTo>
                      <a:pt x="44" y="35"/>
                    </a:lnTo>
                    <a:lnTo>
                      <a:pt x="16" y="57"/>
                    </a:lnTo>
                    <a:lnTo>
                      <a:pt x="3" y="80"/>
                    </a:lnTo>
                    <a:lnTo>
                      <a:pt x="0" y="99"/>
                    </a:lnTo>
                    <a:lnTo>
                      <a:pt x="3" y="120"/>
                    </a:lnTo>
                    <a:lnTo>
                      <a:pt x="16" y="142"/>
                    </a:lnTo>
                    <a:lnTo>
                      <a:pt x="44" y="165"/>
                    </a:lnTo>
                    <a:lnTo>
                      <a:pt x="80" y="184"/>
                    </a:lnTo>
                    <a:lnTo>
                      <a:pt x="122" y="195"/>
                    </a:lnTo>
                    <a:lnTo>
                      <a:pt x="168" y="199"/>
                    </a:lnTo>
                    <a:lnTo>
                      <a:pt x="213" y="195"/>
                    </a:lnTo>
                    <a:lnTo>
                      <a:pt x="256" y="184"/>
                    </a:lnTo>
                    <a:lnTo>
                      <a:pt x="292" y="165"/>
                    </a:lnTo>
                    <a:lnTo>
                      <a:pt x="319" y="142"/>
                    </a:lnTo>
                    <a:lnTo>
                      <a:pt x="332" y="120"/>
                    </a:lnTo>
                    <a:lnTo>
                      <a:pt x="336" y="99"/>
                    </a:lnTo>
                  </a:path>
                </a:pathLst>
              </a:custGeom>
              <a:solidFill>
                <a:srgbClr val="ffff66"/>
              </a:solidFill>
              <a:ln w="648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 flipH="1">
              <a:off x="11810520" y="3632040"/>
              <a:ext cx="50760" cy="0"/>
            </a:xfrm>
            <a:prstGeom prst="line">
              <a:avLst/>
            </a:prstGeom>
            <a:ln w="64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5400000">
              <a:off x="11805120" y="3623400"/>
              <a:ext cx="22320" cy="20880"/>
            </a:xfrm>
            <a:prstGeom prst="ellipse">
              <a:avLst/>
            </a:prstGeom>
            <a:solidFill>
              <a:srgbClr val="ffff66"/>
            </a:solidFill>
            <a:ln w="64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flipV="1" rot="5400000">
              <a:off x="11869920" y="3629880"/>
              <a:ext cx="9720" cy="7920"/>
            </a:xfrm>
            <a:prstGeom prst="ellipse">
              <a:avLst/>
            </a:prstGeom>
            <a:solidFill>
              <a:srgbClr val="ffff66"/>
            </a:solidFill>
            <a:ln w="64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 rot="5400000">
              <a:off x="11781360" y="3557520"/>
              <a:ext cx="180360" cy="14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10" y="12820"/>
                  </a:moveTo>
                  <a:arcTo wR="10800" hR="10800" stAng="646637" swAng="1002700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10" y="12820"/>
                  </a:moveTo>
                  <a:arcTo wR="10800" hR="10800" stAng="646637" swAng="10027005"/>
                </a:path>
              </a:pathLst>
            </a:custGeom>
            <a:solidFill>
              <a:srgbClr val="ffff66"/>
            </a:solidFill>
            <a:ln w="64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 rot="5400000">
              <a:off x="11753640" y="3586320"/>
              <a:ext cx="179280" cy="87120"/>
            </a:xfrm>
            <a:custGeom>
              <a:avLst/>
              <a:gdLst/>
              <a:ahLst/>
              <a:rect l="l" t="t" r="r" b="b"/>
              <a:pathLst>
                <a:path w="244" h="116">
                  <a:moveTo>
                    <a:pt x="0" y="100"/>
                  </a:moveTo>
                  <a:lnTo>
                    <a:pt x="0" y="0"/>
                  </a:lnTo>
                  <a:lnTo>
                    <a:pt x="244" y="0"/>
                  </a:lnTo>
                  <a:lnTo>
                    <a:pt x="244" y="116"/>
                  </a:lnTo>
                </a:path>
              </a:pathLst>
            </a:custGeom>
            <a:solidFill>
              <a:srgbClr val="ffff66"/>
            </a:solidFill>
            <a:ln w="64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7962840" y="4950000"/>
            <a:ext cx="0" cy="9792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4508000" y="2917800"/>
            <a:ext cx="0" cy="302256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2033000" y="3762360"/>
            <a:ext cx="290520" cy="108000"/>
            <a:chOff x="12033000" y="3762360"/>
            <a:chExt cx="290520" cy="108000"/>
          </a:xfrm>
        </p:grpSpPr>
        <p:sp>
          <p:nvSpPr>
            <p:cNvPr id="597" name=""/>
            <p:cNvSpPr/>
            <p:nvPr/>
          </p:nvSpPr>
          <p:spPr>
            <a:xfrm rot="5400000">
              <a:off x="12215520" y="3762360"/>
              <a:ext cx="108000" cy="107640"/>
            </a:xfrm>
            <a:prstGeom prst="ellipse">
              <a:avLst/>
            </a:pr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12033000" y="3816360"/>
              <a:ext cx="1796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20721600" y="2941560"/>
            <a:ext cx="0" cy="7002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9919880" y="2921040"/>
            <a:ext cx="16146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6807600" y="5717160"/>
            <a:ext cx="645480" cy="1292040"/>
            <a:chOff x="6807600" y="5717160"/>
            <a:chExt cx="645480" cy="1292040"/>
          </a:xfrm>
        </p:grpSpPr>
        <p:sp>
          <p:nvSpPr>
            <p:cNvPr id="602" name=""/>
            <p:cNvSpPr/>
            <p:nvPr/>
          </p:nvSpPr>
          <p:spPr>
            <a:xfrm rot="16200000">
              <a:off x="6836760" y="6331320"/>
              <a:ext cx="6699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807600" y="5717160"/>
              <a:ext cx="645480" cy="1292040"/>
              <a:chOff x="6807600" y="5717160"/>
              <a:chExt cx="645480" cy="129204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6807600" y="5717160"/>
                <a:ext cx="640800" cy="646560"/>
                <a:chOff x="6807600" y="5717160"/>
                <a:chExt cx="640800" cy="646560"/>
              </a:xfrm>
            </p:grpSpPr>
            <p:sp>
              <p:nvSpPr>
                <p:cNvPr id="605" name=""/>
                <p:cNvSpPr/>
                <p:nvPr/>
              </p:nvSpPr>
              <p:spPr>
                <a:xfrm flipV="1" rot="5400000">
                  <a:off x="6805080" y="5720400"/>
                  <a:ext cx="646560" cy="640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rot="5400000">
                  <a:off x="6962040" y="5878800"/>
                  <a:ext cx="14400" cy="323640"/>
                </a:xfrm>
                <a:prstGeom prst="rect">
                  <a:avLst/>
                </a:prstGeom>
                <a:noFill/>
                <a:ln w="64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6812280" y="6362640"/>
                <a:ext cx="640800" cy="646560"/>
                <a:chOff x="6812280" y="6362640"/>
                <a:chExt cx="640800" cy="646560"/>
              </a:xfrm>
            </p:grpSpPr>
            <p:sp>
              <p:nvSpPr>
                <p:cNvPr id="608" name=""/>
                <p:cNvSpPr/>
                <p:nvPr/>
              </p:nvSpPr>
              <p:spPr>
                <a:xfrm flipH="1" flipV="1" rot="5400000">
                  <a:off x="6809760" y="6365880"/>
                  <a:ext cx="646560" cy="640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 rot="5400000">
                  <a:off x="6966360" y="6523560"/>
                  <a:ext cx="14400" cy="323640"/>
                </a:xfrm>
                <a:prstGeom prst="rect">
                  <a:avLst/>
                </a:prstGeom>
                <a:noFill/>
                <a:ln w="64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10" name=""/>
          <p:cNvSpPr/>
          <p:nvPr/>
        </p:nvSpPr>
        <p:spPr>
          <a:xfrm>
            <a:off x="21363120" y="1488960"/>
            <a:ext cx="0" cy="819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501720" y="3565440"/>
            <a:ext cx="204480" cy="362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12790440" y="3575160"/>
            <a:ext cx="147600" cy="3427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12490560" y="3998880"/>
            <a:ext cx="223560" cy="2952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781080" y="3998880"/>
            <a:ext cx="171360" cy="314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591040" y="2954160"/>
            <a:ext cx="0" cy="29988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969720" y="2924280"/>
            <a:ext cx="0" cy="156024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162920" y="5925960"/>
            <a:ext cx="0" cy="92728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59240" y="15225840"/>
            <a:ext cx="373212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286960" y="15235200"/>
            <a:ext cx="371628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6993880" y="2900520"/>
            <a:ext cx="0" cy="1450152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949240" y="9048600"/>
            <a:ext cx="716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949240" y="10593360"/>
            <a:ext cx="716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949240" y="12125160"/>
            <a:ext cx="716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949240" y="4441680"/>
            <a:ext cx="716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0748600" y="3106800"/>
            <a:ext cx="942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1486960" y="3144960"/>
            <a:ext cx="2696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0929680" y="2941560"/>
            <a:ext cx="0" cy="320688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3313960" y="11455560"/>
            <a:ext cx="0" cy="376704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3286960" y="12889080"/>
            <a:ext cx="372132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25760" y="16176600"/>
            <a:ext cx="317988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219560" y="15252840"/>
            <a:ext cx="0" cy="9000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98960" y="15252840"/>
            <a:ext cx="0" cy="9000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83400" y="15252840"/>
            <a:ext cx="0" cy="9000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576840" y="15252840"/>
            <a:ext cx="0" cy="9000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413160" y="1059192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130160" y="2955960"/>
            <a:ext cx="0" cy="11160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3315760" y="2955960"/>
            <a:ext cx="0" cy="11160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298120" y="4068720"/>
            <a:ext cx="3708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128000" y="10593360"/>
            <a:ext cx="7128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14600" y="1211904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1493080" y="4087800"/>
            <a:ext cx="1847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191360" y="11379240"/>
            <a:ext cx="53964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184880" y="11506320"/>
            <a:ext cx="5461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182000" y="11633040"/>
            <a:ext cx="5461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175520" y="11760120"/>
            <a:ext cx="5461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184880" y="11887200"/>
            <a:ext cx="5461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75520" y="12014280"/>
            <a:ext cx="5461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130880" y="1212372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7089840" y="12198240"/>
            <a:ext cx="110880" cy="1439640"/>
            <a:chOff x="7089840" y="12198240"/>
            <a:chExt cx="110880" cy="1439640"/>
          </a:xfrm>
        </p:grpSpPr>
        <p:sp>
          <p:nvSpPr>
            <p:cNvPr id="650" name=""/>
            <p:cNvSpPr/>
            <p:nvPr/>
          </p:nvSpPr>
          <p:spPr>
            <a:xfrm>
              <a:off x="7126200" y="12198240"/>
              <a:ext cx="74520" cy="1438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7089840" y="12198240"/>
              <a:ext cx="36360" cy="1439640"/>
              <a:chOff x="7089840" y="12198240"/>
              <a:chExt cx="36360" cy="1439640"/>
            </a:xfrm>
          </p:grpSpPr>
          <p:sp>
            <p:nvSpPr>
              <p:cNvPr id="652" name=""/>
              <p:cNvSpPr/>
              <p:nvPr/>
            </p:nvSpPr>
            <p:spPr>
              <a:xfrm>
                <a:off x="7089840" y="12199320"/>
                <a:ext cx="0" cy="14385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089840" y="13636800"/>
                <a:ext cx="36360" cy="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089840" y="12198240"/>
                <a:ext cx="36360" cy="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5" name=""/>
          <p:cNvGrpSpPr/>
          <p:nvPr/>
        </p:nvGrpSpPr>
        <p:grpSpPr>
          <a:xfrm>
            <a:off x="24834960" y="3816000"/>
            <a:ext cx="448200" cy="434520"/>
            <a:chOff x="24834960" y="3816000"/>
            <a:chExt cx="448200" cy="434520"/>
          </a:xfrm>
        </p:grpSpPr>
        <p:sp>
          <p:nvSpPr>
            <p:cNvPr id="656" name=""/>
            <p:cNvSpPr/>
            <p:nvPr/>
          </p:nvSpPr>
          <p:spPr>
            <a:xfrm flipH="1">
              <a:off x="24846120" y="3816000"/>
              <a:ext cx="43704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253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25358"/>
                </a:path>
              </a:pathLst>
            </a:cu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053840" y="3819240"/>
              <a:ext cx="14400" cy="223920"/>
            </a:xfrm>
            <a:prstGeom prst="rect">
              <a:avLst/>
            </a:prstGeom>
            <a:noFill/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6200000">
              <a:off x="24919920" y="3956400"/>
              <a:ext cx="5724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24892920" y="3691080"/>
            <a:ext cx="660600" cy="648720"/>
            <a:chOff x="24892920" y="3691080"/>
            <a:chExt cx="660600" cy="648720"/>
          </a:xfrm>
        </p:grpSpPr>
        <p:sp>
          <p:nvSpPr>
            <p:cNvPr id="660" name=""/>
            <p:cNvSpPr/>
            <p:nvPr/>
          </p:nvSpPr>
          <p:spPr>
            <a:xfrm flipH="1" flipV="1" rot="10800000">
              <a:off x="24892920" y="3691080"/>
              <a:ext cx="65304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253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25358"/>
                </a:path>
              </a:pathLst>
            </a:cu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 rot="10800000">
              <a:off x="25211160" y="3697200"/>
              <a:ext cx="14040" cy="331560"/>
            </a:xfrm>
            <a:prstGeom prst="rect">
              <a:avLst/>
            </a:prstGeom>
            <a:noFill/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 rot="10800000">
              <a:off x="25198200" y="4039920"/>
              <a:ext cx="3553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23972760" y="12497400"/>
            <a:ext cx="2385360" cy="869400"/>
            <a:chOff x="23972760" y="12497400"/>
            <a:chExt cx="2385360" cy="869400"/>
          </a:xfrm>
        </p:grpSpPr>
        <p:sp>
          <p:nvSpPr>
            <p:cNvPr id="664" name=""/>
            <p:cNvSpPr/>
            <p:nvPr/>
          </p:nvSpPr>
          <p:spPr>
            <a:xfrm>
              <a:off x="25977960" y="12850920"/>
              <a:ext cx="7128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953760" y="12855600"/>
              <a:ext cx="7164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972760" y="12855600"/>
              <a:ext cx="7164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24643440" y="12497400"/>
              <a:ext cx="1714680" cy="869400"/>
              <a:chOff x="24643440" y="12497400"/>
              <a:chExt cx="1714680" cy="869400"/>
            </a:xfrm>
          </p:grpSpPr>
          <p:grpSp>
            <p:nvGrpSpPr>
              <p:cNvPr id="668" name=""/>
              <p:cNvGrpSpPr/>
              <p:nvPr/>
            </p:nvGrpSpPr>
            <p:grpSpPr>
              <a:xfrm>
                <a:off x="24643440" y="12503160"/>
                <a:ext cx="875520" cy="863640"/>
                <a:chOff x="24643440" y="12503160"/>
                <a:chExt cx="875520" cy="863640"/>
              </a:xfrm>
            </p:grpSpPr>
            <p:grpSp>
              <p:nvGrpSpPr>
                <p:cNvPr id="669" name=""/>
                <p:cNvGrpSpPr/>
                <p:nvPr/>
              </p:nvGrpSpPr>
              <p:grpSpPr>
                <a:xfrm>
                  <a:off x="24643440" y="12503160"/>
                  <a:ext cx="862560" cy="863640"/>
                  <a:chOff x="24643440" y="12503160"/>
                  <a:chExt cx="862560" cy="86364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 flipH="1" rot="10800000">
                    <a:off x="25044480" y="12938400"/>
                    <a:ext cx="22320" cy="428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H="1" rot="10800000">
                    <a:off x="24643440" y="12503160"/>
                    <a:ext cx="862560" cy="85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2" name=""/>
                <p:cNvSpPr/>
                <p:nvPr/>
              </p:nvSpPr>
              <p:spPr>
                <a:xfrm>
                  <a:off x="25030080" y="12860280"/>
                  <a:ext cx="488880" cy="65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25482600" y="12497400"/>
                <a:ext cx="875520" cy="861840"/>
                <a:chOff x="25482600" y="12497400"/>
                <a:chExt cx="875520" cy="86184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25495560" y="12497400"/>
                  <a:ext cx="862560" cy="861840"/>
                  <a:chOff x="25495560" y="12497400"/>
                  <a:chExt cx="862560" cy="86184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rot="10800000">
                    <a:off x="25934760" y="12931200"/>
                    <a:ext cx="22320" cy="428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rot="10800000">
                    <a:off x="25495560" y="12497400"/>
                    <a:ext cx="862560" cy="856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7" name=""/>
                <p:cNvSpPr/>
                <p:nvPr/>
              </p:nvSpPr>
              <p:spPr>
                <a:xfrm flipH="1">
                  <a:off x="25482600" y="12854160"/>
                  <a:ext cx="488880" cy="64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78" name=""/>
          <p:cNvSpPr/>
          <p:nvPr/>
        </p:nvSpPr>
        <p:spPr>
          <a:xfrm>
            <a:off x="7189920" y="15233760"/>
            <a:ext cx="1076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312040" y="15681240"/>
            <a:ext cx="3459240" cy="657360"/>
          </a:xfrm>
          <a:custGeom>
            <a:avLst/>
            <a:gdLst/>
            <a:ahLst/>
            <a:rect l="l" t="t" r="r" b="b"/>
            <a:pathLst>
              <a:path w="2179" h="414">
                <a:moveTo>
                  <a:pt x="0" y="122"/>
                </a:moveTo>
                <a:lnTo>
                  <a:pt x="216" y="334"/>
                </a:lnTo>
                <a:lnTo>
                  <a:pt x="556" y="0"/>
                </a:lnTo>
                <a:lnTo>
                  <a:pt x="946" y="414"/>
                </a:lnTo>
                <a:lnTo>
                  <a:pt x="1351" y="0"/>
                </a:lnTo>
                <a:lnTo>
                  <a:pt x="1756" y="414"/>
                </a:lnTo>
                <a:lnTo>
                  <a:pt x="2179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771280" y="15676560"/>
            <a:ext cx="1266840" cy="671400"/>
          </a:xfrm>
          <a:custGeom>
            <a:avLst/>
            <a:gdLst/>
            <a:ahLst/>
            <a:rect l="l" t="t" r="r" b="b"/>
            <a:pathLst>
              <a:path w="798" h="423">
                <a:moveTo>
                  <a:pt x="0" y="0"/>
                </a:moveTo>
                <a:lnTo>
                  <a:pt x="405" y="423"/>
                </a:lnTo>
                <a:lnTo>
                  <a:pt x="798" y="6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3041360" y="15689160"/>
            <a:ext cx="1266840" cy="671760"/>
          </a:xfrm>
          <a:custGeom>
            <a:avLst/>
            <a:gdLst/>
            <a:ahLst/>
            <a:rect l="l" t="t" r="r" b="b"/>
            <a:pathLst>
              <a:path w="798" h="423">
                <a:moveTo>
                  <a:pt x="0" y="0"/>
                </a:moveTo>
                <a:lnTo>
                  <a:pt x="405" y="423"/>
                </a:lnTo>
                <a:lnTo>
                  <a:pt x="798" y="6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304960" y="15695640"/>
            <a:ext cx="1266840" cy="671400"/>
          </a:xfrm>
          <a:custGeom>
            <a:avLst/>
            <a:gdLst/>
            <a:ahLst/>
            <a:rect l="l" t="t" r="r" b="b"/>
            <a:pathLst>
              <a:path w="798" h="423">
                <a:moveTo>
                  <a:pt x="0" y="0"/>
                </a:moveTo>
                <a:lnTo>
                  <a:pt x="405" y="423"/>
                </a:lnTo>
                <a:lnTo>
                  <a:pt x="798" y="6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568560" y="15702120"/>
            <a:ext cx="1266840" cy="671400"/>
          </a:xfrm>
          <a:custGeom>
            <a:avLst/>
            <a:gdLst/>
            <a:ahLst/>
            <a:rect l="l" t="t" r="r" b="b"/>
            <a:pathLst>
              <a:path w="798" h="423">
                <a:moveTo>
                  <a:pt x="0" y="0"/>
                </a:moveTo>
                <a:lnTo>
                  <a:pt x="405" y="423"/>
                </a:lnTo>
                <a:lnTo>
                  <a:pt x="798" y="6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rot="10800000">
            <a:off x="5928480" y="13941720"/>
            <a:ext cx="2397240" cy="345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70" y="1"/>
                </a:moveTo>
                <a:arcTo wR="10800" hR="10800" stAng="-5441409" swAng="5339995"/>
                <a:lnTo>
                  <a:pt x="10800" y="10800"/>
                </a:lnTo>
                <a:close/>
              </a:path>
              <a:path fill="none" w="21600" h="21600">
                <a:moveTo>
                  <a:pt x="10670" y="1"/>
                </a:moveTo>
                <a:arcTo wR="10800" hR="10800" stAng="-5441409" swAng="5339995"/>
              </a:path>
            </a:pathLst>
          </a:cu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822800" y="14752800"/>
            <a:ext cx="1919160" cy="1639800"/>
          </a:xfrm>
          <a:custGeom>
            <a:avLst/>
            <a:gdLst/>
            <a:ahLst/>
            <a:rect l="l" t="t" r="r" b="b"/>
            <a:pathLst>
              <a:path w="1213" h="1036">
                <a:moveTo>
                  <a:pt x="0" y="613"/>
                </a:moveTo>
                <a:lnTo>
                  <a:pt x="405" y="1036"/>
                </a:lnTo>
                <a:lnTo>
                  <a:pt x="1213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9888200" y="14757480"/>
            <a:ext cx="3240" cy="911160"/>
          </a:xfrm>
          <a:custGeom>
            <a:avLst/>
            <a:gdLst/>
            <a:ahLst/>
            <a:rect l="l" t="t" r="r" b="b"/>
            <a:pathLst>
              <a:path w="2" h="573">
                <a:moveTo>
                  <a:pt x="2" y="0"/>
                </a:moveTo>
                <a:lnTo>
                  <a:pt x="0" y="573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9526400" y="15084360"/>
            <a:ext cx="360360" cy="4680"/>
          </a:xfrm>
          <a:custGeom>
            <a:avLst/>
            <a:gdLst/>
            <a:ahLst/>
            <a:rect l="l" t="t" r="r" b="b"/>
            <a:pathLst>
              <a:path w="234" h="3">
                <a:moveTo>
                  <a:pt x="0" y="3"/>
                </a:moveTo>
                <a:lnTo>
                  <a:pt x="23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9527840" y="14976360"/>
            <a:ext cx="36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526400" y="14862240"/>
            <a:ext cx="360360" cy="4680"/>
          </a:xfrm>
          <a:custGeom>
            <a:avLst/>
            <a:gdLst/>
            <a:ahLst/>
            <a:rect l="l" t="t" r="r" b="b"/>
            <a:pathLst>
              <a:path w="234" h="3">
                <a:moveTo>
                  <a:pt x="0" y="3"/>
                </a:moveTo>
                <a:lnTo>
                  <a:pt x="23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9510200" y="14757480"/>
            <a:ext cx="3715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519920" y="14757480"/>
            <a:ext cx="3240" cy="333360"/>
          </a:xfrm>
          <a:custGeom>
            <a:avLst/>
            <a:gdLst/>
            <a:ahLst/>
            <a:rect l="l" t="t" r="r" b="b"/>
            <a:pathLst>
              <a:path w="2" h="210">
                <a:moveTo>
                  <a:pt x="2" y="0"/>
                </a:moveTo>
                <a:lnTo>
                  <a:pt x="0" y="210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18738720" y="14757480"/>
            <a:ext cx="1192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8224640" y="14805000"/>
            <a:ext cx="1565280" cy="1565280"/>
          </a:xfrm>
          <a:prstGeom prst="rect">
            <a:avLst/>
          </a:prstGeom>
          <a:noFill/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8586440" y="16070400"/>
            <a:ext cx="88272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586440" y="15114600"/>
            <a:ext cx="87948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8570600" y="15087600"/>
            <a:ext cx="0" cy="10080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9491480" y="15087600"/>
            <a:ext cx="0" cy="10080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8745200" y="15071400"/>
            <a:ext cx="576000" cy="74520"/>
            <a:chOff x="18745200" y="15071400"/>
            <a:chExt cx="576000" cy="74520"/>
          </a:xfrm>
        </p:grpSpPr>
        <p:sp>
          <p:nvSpPr>
            <p:cNvPr id="699" name=""/>
            <p:cNvSpPr/>
            <p:nvPr/>
          </p:nvSpPr>
          <p:spPr>
            <a:xfrm rot="16200000">
              <a:off x="18995760" y="14820480"/>
              <a:ext cx="74520" cy="576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745200" y="15106320"/>
              <a:ext cx="57600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8751680" y="16030440"/>
            <a:ext cx="576000" cy="74880"/>
            <a:chOff x="18751680" y="16030440"/>
            <a:chExt cx="576000" cy="74880"/>
          </a:xfrm>
        </p:grpSpPr>
        <p:sp>
          <p:nvSpPr>
            <p:cNvPr id="702" name=""/>
            <p:cNvSpPr/>
            <p:nvPr/>
          </p:nvSpPr>
          <p:spPr>
            <a:xfrm rot="16200000">
              <a:off x="19002240" y="15779880"/>
              <a:ext cx="74880" cy="576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751680" y="16065360"/>
              <a:ext cx="57600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9456200" y="15535800"/>
            <a:ext cx="74520" cy="397800"/>
            <a:chOff x="19456200" y="15535800"/>
            <a:chExt cx="74520" cy="397800"/>
          </a:xfrm>
        </p:grpSpPr>
        <p:sp>
          <p:nvSpPr>
            <p:cNvPr id="705" name=""/>
            <p:cNvSpPr/>
            <p:nvPr/>
          </p:nvSpPr>
          <p:spPr>
            <a:xfrm rot="10800000">
              <a:off x="19456200" y="15538680"/>
              <a:ext cx="74520" cy="39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19494360" y="15535800"/>
              <a:ext cx="0" cy="39492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19243080" y="14952600"/>
            <a:ext cx="433800" cy="445680"/>
            <a:chOff x="19243080" y="14952600"/>
            <a:chExt cx="433800" cy="445680"/>
          </a:xfrm>
        </p:grpSpPr>
        <p:sp>
          <p:nvSpPr>
            <p:cNvPr id="708" name=""/>
            <p:cNvSpPr/>
            <p:nvPr/>
          </p:nvSpPr>
          <p:spPr>
            <a:xfrm flipH="1" rot="16200000">
              <a:off x="19240560" y="14954400"/>
              <a:ext cx="437760" cy="43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253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25358"/>
                </a:path>
              </a:pathLst>
            </a:cu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6200000">
              <a:off x="19349640" y="15062040"/>
              <a:ext cx="14400" cy="223560"/>
            </a:xfrm>
            <a:prstGeom prst="rect">
              <a:avLst/>
            </a:prstGeom>
            <a:noFill/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0800000">
              <a:off x="19460880" y="15171120"/>
              <a:ext cx="6156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18532080" y="15220440"/>
            <a:ext cx="74520" cy="749160"/>
            <a:chOff x="18532080" y="15220440"/>
            <a:chExt cx="74520" cy="749160"/>
          </a:xfrm>
        </p:grpSpPr>
        <p:sp>
          <p:nvSpPr>
            <p:cNvPr id="712" name=""/>
            <p:cNvSpPr/>
            <p:nvPr/>
          </p:nvSpPr>
          <p:spPr>
            <a:xfrm rot="10800000">
              <a:off x="18532080" y="15220440"/>
              <a:ext cx="74520" cy="747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18568800" y="15221880"/>
              <a:ext cx="0" cy="74772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18877320" y="14574960"/>
            <a:ext cx="2157840" cy="2158200"/>
            <a:chOff x="18877320" y="14574960"/>
            <a:chExt cx="2157840" cy="2158200"/>
          </a:xfrm>
        </p:grpSpPr>
        <p:sp>
          <p:nvSpPr>
            <p:cNvPr id="715" name=""/>
            <p:cNvSpPr/>
            <p:nvPr/>
          </p:nvSpPr>
          <p:spPr>
            <a:xfrm flipH="1" rot="10800000">
              <a:off x="19939680" y="14582520"/>
              <a:ext cx="21960" cy="107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877320" y="14574960"/>
              <a:ext cx="2157840" cy="21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21035880" y="14574960"/>
            <a:ext cx="2158560" cy="2158200"/>
            <a:chOff x="21035880" y="14574960"/>
            <a:chExt cx="2158560" cy="2158200"/>
          </a:xfrm>
        </p:grpSpPr>
        <p:sp>
          <p:nvSpPr>
            <p:cNvPr id="718" name=""/>
            <p:cNvSpPr/>
            <p:nvPr/>
          </p:nvSpPr>
          <p:spPr>
            <a:xfrm rot="10800000">
              <a:off x="22108680" y="14582520"/>
              <a:ext cx="22320" cy="107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21035880" y="14574960"/>
              <a:ext cx="2158560" cy="21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9942200" y="15671880"/>
            <a:ext cx="21938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2138920" y="15129000"/>
            <a:ext cx="2284920" cy="2272680"/>
            <a:chOff x="22138920" y="15129000"/>
            <a:chExt cx="2284920" cy="2272680"/>
          </a:xfrm>
        </p:grpSpPr>
        <p:sp>
          <p:nvSpPr>
            <p:cNvPr id="722" name=""/>
            <p:cNvSpPr/>
            <p:nvPr/>
          </p:nvSpPr>
          <p:spPr>
            <a:xfrm rot="10800000">
              <a:off x="22140720" y="15129000"/>
              <a:ext cx="2283120" cy="227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0" y="1"/>
                  </a:moveTo>
                  <a:arcTo wR="10800" hR="10800" stAng="-5441409" swAng="55129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0" y="1"/>
                  </a:moveTo>
                  <a:arcTo wR="10800" hR="10800" stAng="-5441409" swAng="5512979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138920" y="15743160"/>
              <a:ext cx="0" cy="5032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 flipV="1">
            <a:off x="22164840" y="15224040"/>
            <a:ext cx="1184040" cy="479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3184000" y="17400600"/>
            <a:ext cx="383832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413160" y="17399160"/>
            <a:ext cx="37098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7203960" y="14522040"/>
            <a:ext cx="2301480" cy="2301480"/>
            <a:chOff x="7203960" y="14522040"/>
            <a:chExt cx="2301480" cy="2301480"/>
          </a:xfrm>
        </p:grpSpPr>
        <p:sp>
          <p:nvSpPr>
            <p:cNvPr id="728" name=""/>
            <p:cNvSpPr/>
            <p:nvPr/>
          </p:nvSpPr>
          <p:spPr>
            <a:xfrm rot="13488600">
              <a:off x="8732880" y="14669640"/>
              <a:ext cx="22320" cy="115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7203960" y="14521680"/>
              <a:ext cx="2301480" cy="230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143" y="18719"/>
                  </a:moveTo>
                  <a:arcTo wR="10800" hR="10800" stAng="2829606" swAng="6620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143" y="18719"/>
                  </a:moveTo>
                  <a:arcTo wR="10800" hR="10800" stAng="2829606" swAng="6620754"/>
                </a:path>
              </a:pathLst>
            </a:cu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3291640" y="9048600"/>
            <a:ext cx="716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3293440" y="10590120"/>
            <a:ext cx="7128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3290200" y="4444920"/>
            <a:ext cx="7128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rot="10800000">
            <a:off x="23161680" y="12706920"/>
            <a:ext cx="43776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6253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625358"/>
              </a:path>
            </a:pathLst>
          </a:custGeom>
          <a:noFill/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rot="10800000">
            <a:off x="23375880" y="12914280"/>
            <a:ext cx="14400" cy="223920"/>
          </a:xfrm>
          <a:prstGeom prst="rect">
            <a:avLst/>
          </a:prstGeom>
          <a:noFill/>
          <a:ln w="6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rot="5400000">
            <a:off x="23466960" y="12780000"/>
            <a:ext cx="57240" cy="226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3291640" y="750744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0753280" y="5756400"/>
            <a:ext cx="25354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283600" y="7059600"/>
            <a:ext cx="0" cy="811548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0550520" y="7054920"/>
            <a:ext cx="127429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472600" y="6854760"/>
            <a:ext cx="148269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89920" y="15181200"/>
            <a:ext cx="110016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23036400" y="5795280"/>
            <a:ext cx="645480" cy="1292040"/>
            <a:chOff x="23036400" y="5795280"/>
            <a:chExt cx="645480" cy="1292040"/>
          </a:xfrm>
        </p:grpSpPr>
        <p:sp>
          <p:nvSpPr>
            <p:cNvPr id="743" name=""/>
            <p:cNvSpPr/>
            <p:nvPr/>
          </p:nvSpPr>
          <p:spPr>
            <a:xfrm rot="5400000">
              <a:off x="22982760" y="6408000"/>
              <a:ext cx="6699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23036400" y="5795280"/>
              <a:ext cx="645480" cy="1292040"/>
              <a:chOff x="23036400" y="5795280"/>
              <a:chExt cx="645480" cy="1292040"/>
            </a:xfrm>
          </p:grpSpPr>
          <p:grpSp>
            <p:nvGrpSpPr>
              <p:cNvPr id="745" name=""/>
              <p:cNvGrpSpPr/>
              <p:nvPr/>
            </p:nvGrpSpPr>
            <p:grpSpPr>
              <a:xfrm>
                <a:off x="23041080" y="6440760"/>
                <a:ext cx="640800" cy="646560"/>
                <a:chOff x="23041080" y="6440760"/>
                <a:chExt cx="640800" cy="646560"/>
              </a:xfrm>
            </p:grpSpPr>
            <p:sp>
              <p:nvSpPr>
                <p:cNvPr id="746" name=""/>
                <p:cNvSpPr/>
                <p:nvPr/>
              </p:nvSpPr>
              <p:spPr>
                <a:xfrm flipV="1" rot="16200000">
                  <a:off x="23037840" y="6444000"/>
                  <a:ext cx="646560" cy="640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16200000">
                  <a:off x="23512680" y="6601680"/>
                  <a:ext cx="14400" cy="323640"/>
                </a:xfrm>
                <a:prstGeom prst="rect">
                  <a:avLst/>
                </a:prstGeom>
                <a:noFill/>
                <a:ln w="64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23036400" y="5795280"/>
                <a:ext cx="640800" cy="646560"/>
                <a:chOff x="23036400" y="5795280"/>
                <a:chExt cx="640800" cy="646560"/>
              </a:xfrm>
            </p:grpSpPr>
            <p:sp>
              <p:nvSpPr>
                <p:cNvPr id="749" name=""/>
                <p:cNvSpPr/>
                <p:nvPr/>
              </p:nvSpPr>
              <p:spPr>
                <a:xfrm flipH="1" flipV="1" rot="16200000">
                  <a:off x="23033160" y="5798520"/>
                  <a:ext cx="646560" cy="640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H="1" rot="16200000">
                  <a:off x="23507640" y="5956920"/>
                  <a:ext cx="14400" cy="323640"/>
                </a:xfrm>
                <a:prstGeom prst="rect">
                  <a:avLst/>
                </a:prstGeom>
                <a:noFill/>
                <a:ln w="64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51" name=""/>
          <p:cNvGrpSpPr/>
          <p:nvPr/>
        </p:nvGrpSpPr>
        <p:grpSpPr>
          <a:xfrm>
            <a:off x="23029920" y="11134080"/>
            <a:ext cx="645480" cy="1292040"/>
            <a:chOff x="23029920" y="11134080"/>
            <a:chExt cx="645480" cy="1292040"/>
          </a:xfrm>
        </p:grpSpPr>
        <p:sp>
          <p:nvSpPr>
            <p:cNvPr id="752" name=""/>
            <p:cNvSpPr/>
            <p:nvPr/>
          </p:nvSpPr>
          <p:spPr>
            <a:xfrm rot="5400000">
              <a:off x="22976280" y="11746800"/>
              <a:ext cx="6699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23029920" y="11134080"/>
              <a:ext cx="645480" cy="1292040"/>
              <a:chOff x="23029920" y="11134080"/>
              <a:chExt cx="645480" cy="129204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23034600" y="11779560"/>
                <a:ext cx="640800" cy="646560"/>
                <a:chOff x="23034600" y="11779560"/>
                <a:chExt cx="640800" cy="646560"/>
              </a:xfrm>
            </p:grpSpPr>
            <p:sp>
              <p:nvSpPr>
                <p:cNvPr id="755" name=""/>
                <p:cNvSpPr/>
                <p:nvPr/>
              </p:nvSpPr>
              <p:spPr>
                <a:xfrm flipV="1" rot="16200000">
                  <a:off x="23031360" y="11782800"/>
                  <a:ext cx="646560" cy="640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rot="16200000">
                  <a:off x="23506200" y="11940480"/>
                  <a:ext cx="14400" cy="323640"/>
                </a:xfrm>
                <a:prstGeom prst="rect">
                  <a:avLst/>
                </a:prstGeom>
                <a:noFill/>
                <a:ln w="64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3029920" y="11134080"/>
                <a:ext cx="640800" cy="646560"/>
                <a:chOff x="23029920" y="11134080"/>
                <a:chExt cx="640800" cy="646560"/>
              </a:xfrm>
            </p:grpSpPr>
            <p:sp>
              <p:nvSpPr>
                <p:cNvPr id="758" name=""/>
                <p:cNvSpPr/>
                <p:nvPr/>
              </p:nvSpPr>
              <p:spPr>
                <a:xfrm flipH="1" flipV="1" rot="16200000">
                  <a:off x="23026680" y="11137320"/>
                  <a:ext cx="646560" cy="640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rot="16200000">
                  <a:off x="23501160" y="11295720"/>
                  <a:ext cx="14400" cy="323640"/>
                </a:xfrm>
                <a:prstGeom prst="rect">
                  <a:avLst/>
                </a:prstGeom>
                <a:noFill/>
                <a:ln w="64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60" name=""/>
          <p:cNvSpPr/>
          <p:nvPr/>
        </p:nvSpPr>
        <p:spPr>
          <a:xfrm>
            <a:off x="3413160" y="9048600"/>
            <a:ext cx="7128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5388120" y="4443120"/>
            <a:ext cx="1081080" cy="74520"/>
            <a:chOff x="5388120" y="4443120"/>
            <a:chExt cx="1081080" cy="74520"/>
          </a:xfrm>
        </p:grpSpPr>
        <p:sp>
          <p:nvSpPr>
            <p:cNvPr id="762" name=""/>
            <p:cNvSpPr/>
            <p:nvPr/>
          </p:nvSpPr>
          <p:spPr>
            <a:xfrm rot="16200000">
              <a:off x="5892120" y="3940560"/>
              <a:ext cx="74520" cy="1079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388120" y="4479840"/>
              <a:ext cx="1079640" cy="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6076800" y="2835360"/>
            <a:ext cx="287280" cy="180720"/>
            <a:chOff x="6076800" y="2835360"/>
            <a:chExt cx="287280" cy="180720"/>
          </a:xfrm>
        </p:grpSpPr>
        <p:sp>
          <p:nvSpPr>
            <p:cNvPr id="765" name=""/>
            <p:cNvSpPr/>
            <p:nvPr/>
          </p:nvSpPr>
          <p:spPr>
            <a:xfrm>
              <a:off x="6076800" y="2835360"/>
              <a:ext cx="287280" cy="178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6081480" y="2835360"/>
              <a:ext cx="281160" cy="18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080040" y="2836440"/>
              <a:ext cx="282600" cy="17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16765560" y="1646280"/>
            <a:ext cx="191628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079440" y="5367240"/>
            <a:ext cx="423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2079440" y="5241960"/>
            <a:ext cx="433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12038040" y="5111640"/>
            <a:ext cx="471600" cy="5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12079440" y="4982760"/>
            <a:ext cx="428400" cy="4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12076200" y="4857480"/>
            <a:ext cx="423720" cy="4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2077640" y="4737240"/>
            <a:ext cx="4381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2068280" y="4362480"/>
            <a:ext cx="441360" cy="4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063240" y="4484520"/>
            <a:ext cx="873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134120" y="5934240"/>
            <a:ext cx="494208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9323000" y="2838600"/>
            <a:ext cx="0" cy="10764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9940760" y="2065320"/>
            <a:ext cx="0" cy="151452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128000" y="741996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962840" y="4952880"/>
            <a:ext cx="44928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969320" y="5187960"/>
            <a:ext cx="4363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8410680" y="4906800"/>
            <a:ext cx="3531960" cy="371520"/>
            <a:chOff x="8410680" y="4906800"/>
            <a:chExt cx="3531960" cy="371520"/>
          </a:xfrm>
        </p:grpSpPr>
        <p:sp>
          <p:nvSpPr>
            <p:cNvPr id="784" name=""/>
            <p:cNvSpPr/>
            <p:nvPr/>
          </p:nvSpPr>
          <p:spPr>
            <a:xfrm>
              <a:off x="8410680" y="4906800"/>
              <a:ext cx="353196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412120" y="5278320"/>
              <a:ext cx="35272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645400" y="4914720"/>
              <a:ext cx="0" cy="3603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877240" y="4916160"/>
              <a:ext cx="0" cy="3603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9578880" y="4914720"/>
              <a:ext cx="0" cy="3603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9810720" y="4916160"/>
              <a:ext cx="0" cy="3603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045800" y="4916160"/>
              <a:ext cx="0" cy="3603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280520" y="4914720"/>
              <a:ext cx="0" cy="3603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744200" y="4914720"/>
              <a:ext cx="0" cy="3603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1461680" y="4914720"/>
              <a:ext cx="0" cy="3603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1702880" y="4914720"/>
              <a:ext cx="0" cy="3603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942640" y="4916160"/>
              <a:ext cx="0" cy="3603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0512360" y="4914720"/>
              <a:ext cx="0" cy="3603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0979280" y="4914720"/>
              <a:ext cx="0" cy="3603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1217240" y="4914720"/>
              <a:ext cx="0" cy="3603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410680" y="4914720"/>
              <a:ext cx="0" cy="3603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112320" y="4914720"/>
              <a:ext cx="0" cy="3603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9347040" y="4914720"/>
              <a:ext cx="0" cy="3603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8185320" y="5191200"/>
            <a:ext cx="0" cy="711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2047400" y="3938760"/>
            <a:ext cx="0" cy="201744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2066480" y="5483160"/>
            <a:ext cx="466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042720" y="4233960"/>
            <a:ext cx="433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2042720" y="4106880"/>
            <a:ext cx="433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2482640" y="4324320"/>
            <a:ext cx="51408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3152600" y="5103720"/>
            <a:ext cx="0" cy="7164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4509800" y="5923080"/>
            <a:ext cx="30891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6032240" y="588024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2028320" y="5956200"/>
            <a:ext cx="2471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7921160" y="2341440"/>
            <a:ext cx="0" cy="5716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7530920" y="2355840"/>
            <a:ext cx="0" cy="5716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7140320" y="2355840"/>
            <a:ext cx="0" cy="5716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700920" y="1469880"/>
            <a:ext cx="0" cy="26676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6781400" y="1482840"/>
            <a:ext cx="0" cy="16344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6905240" y="1484280"/>
            <a:ext cx="0" cy="16344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038800" y="1484280"/>
            <a:ext cx="0" cy="16344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7172000" y="1488960"/>
            <a:ext cx="0" cy="1638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7305200" y="1482840"/>
            <a:ext cx="0" cy="16344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17567280" y="1484280"/>
            <a:ext cx="128520" cy="168480"/>
            <a:chOff x="17567280" y="1484280"/>
            <a:chExt cx="128520" cy="168480"/>
          </a:xfrm>
        </p:grpSpPr>
        <p:sp>
          <p:nvSpPr>
            <p:cNvPr id="822" name=""/>
            <p:cNvSpPr/>
            <p:nvPr/>
          </p:nvSpPr>
          <p:spPr>
            <a:xfrm>
              <a:off x="17567280" y="1484280"/>
              <a:ext cx="0" cy="163800"/>
            </a:xfrm>
            <a:prstGeom prst="line">
              <a:avLst/>
            </a:prstGeom>
            <a:ln w="255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7695800" y="1489320"/>
              <a:ext cx="0" cy="163440"/>
            </a:xfrm>
            <a:prstGeom prst="line">
              <a:avLst/>
            </a:prstGeom>
            <a:ln w="255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17829360" y="1482840"/>
            <a:ext cx="128520" cy="167760"/>
            <a:chOff x="17829360" y="1482840"/>
            <a:chExt cx="128520" cy="167760"/>
          </a:xfrm>
        </p:grpSpPr>
        <p:sp>
          <p:nvSpPr>
            <p:cNvPr id="825" name=""/>
            <p:cNvSpPr/>
            <p:nvPr/>
          </p:nvSpPr>
          <p:spPr>
            <a:xfrm>
              <a:off x="17829360" y="1482840"/>
              <a:ext cx="0" cy="163440"/>
            </a:xfrm>
            <a:prstGeom prst="line">
              <a:avLst/>
            </a:prstGeom>
            <a:ln w="255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7957880" y="1487520"/>
              <a:ext cx="0" cy="163080"/>
            </a:xfrm>
            <a:prstGeom prst="line">
              <a:avLst/>
            </a:prstGeom>
            <a:ln w="255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18091080" y="1479600"/>
            <a:ext cx="0" cy="16344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8319680" y="1484280"/>
            <a:ext cx="0" cy="16344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8429120" y="1484280"/>
            <a:ext cx="0" cy="16344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8548280" y="1488960"/>
            <a:ext cx="0" cy="1638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8662760" y="1488960"/>
            <a:ext cx="0" cy="1638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205560" y="1484280"/>
            <a:ext cx="0" cy="16344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7434080" y="1484280"/>
            <a:ext cx="0" cy="16344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6743240" y="1465200"/>
            <a:ext cx="479124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348560" y="2936880"/>
            <a:ext cx="0" cy="542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9365840" y="3475080"/>
            <a:ext cx="550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9356480" y="3227400"/>
            <a:ext cx="550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9356480" y="3355920"/>
            <a:ext cx="550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943640" y="3632040"/>
            <a:ext cx="155592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0743920" y="3584520"/>
            <a:ext cx="0" cy="2362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1491640" y="2870280"/>
            <a:ext cx="0" cy="1216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8264520" y="5861160"/>
            <a:ext cx="1123920" cy="105840"/>
            <a:chOff x="8264520" y="5861160"/>
            <a:chExt cx="1123920" cy="105840"/>
          </a:xfrm>
        </p:grpSpPr>
        <p:sp>
          <p:nvSpPr>
            <p:cNvPr id="843" name=""/>
            <p:cNvSpPr/>
            <p:nvPr/>
          </p:nvSpPr>
          <p:spPr>
            <a:xfrm rot="5400000">
              <a:off x="8789040" y="5367600"/>
              <a:ext cx="74520" cy="1123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8264520" y="5861160"/>
              <a:ext cx="1116000" cy="36360"/>
              <a:chOff x="8264520" y="5861160"/>
              <a:chExt cx="1116000" cy="36360"/>
            </a:xfrm>
          </p:grpSpPr>
          <p:sp>
            <p:nvSpPr>
              <p:cNvPr id="845" name=""/>
              <p:cNvSpPr/>
              <p:nvPr/>
            </p:nvSpPr>
            <p:spPr>
              <a:xfrm flipH="1">
                <a:off x="8264520" y="5861160"/>
                <a:ext cx="1114560" cy="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65960" y="5861160"/>
                <a:ext cx="0" cy="363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9380520" y="5861160"/>
                <a:ext cx="0" cy="363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8" name=""/>
          <p:cNvGrpSpPr/>
          <p:nvPr/>
        </p:nvGrpSpPr>
        <p:grpSpPr>
          <a:xfrm>
            <a:off x="17278200" y="1425600"/>
            <a:ext cx="720720" cy="74520"/>
            <a:chOff x="17278200" y="1425600"/>
            <a:chExt cx="720720" cy="74520"/>
          </a:xfrm>
        </p:grpSpPr>
        <p:sp>
          <p:nvSpPr>
            <p:cNvPr id="849" name=""/>
            <p:cNvSpPr/>
            <p:nvPr/>
          </p:nvSpPr>
          <p:spPr>
            <a:xfrm rot="5400000">
              <a:off x="17601840" y="1103040"/>
              <a:ext cx="74520" cy="71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17278200" y="1463760"/>
              <a:ext cx="719280" cy="0"/>
            </a:xfrm>
            <a:prstGeom prst="line">
              <a:avLst/>
            </a:prstGeom>
            <a:ln w="316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18803880" y="1425600"/>
            <a:ext cx="397080" cy="74520"/>
            <a:chOff x="18803880" y="1425600"/>
            <a:chExt cx="397080" cy="74520"/>
          </a:xfrm>
        </p:grpSpPr>
        <p:sp>
          <p:nvSpPr>
            <p:cNvPr id="852" name=""/>
            <p:cNvSpPr/>
            <p:nvPr/>
          </p:nvSpPr>
          <p:spPr>
            <a:xfrm rot="5400000">
              <a:off x="18965880" y="1265040"/>
              <a:ext cx="74520" cy="395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18803880" y="1461960"/>
              <a:ext cx="395280" cy="0"/>
            </a:xfrm>
            <a:prstGeom prst="line">
              <a:avLst/>
            </a:prstGeom>
            <a:ln w="316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19432440" y="1425600"/>
            <a:ext cx="397080" cy="74520"/>
            <a:chOff x="19432440" y="1425600"/>
            <a:chExt cx="397080" cy="74520"/>
          </a:xfrm>
        </p:grpSpPr>
        <p:sp>
          <p:nvSpPr>
            <p:cNvPr id="855" name=""/>
            <p:cNvSpPr/>
            <p:nvPr/>
          </p:nvSpPr>
          <p:spPr>
            <a:xfrm rot="5400000">
              <a:off x="19594440" y="1265040"/>
              <a:ext cx="74520" cy="395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19432440" y="1461960"/>
              <a:ext cx="395280" cy="0"/>
            </a:xfrm>
            <a:prstGeom prst="line">
              <a:avLst/>
            </a:prstGeom>
            <a:ln w="316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14847840" y="5889240"/>
            <a:ext cx="904680" cy="74520"/>
            <a:chOff x="14847840" y="5889240"/>
            <a:chExt cx="904680" cy="74520"/>
          </a:xfrm>
        </p:grpSpPr>
        <p:sp>
          <p:nvSpPr>
            <p:cNvPr id="858" name=""/>
            <p:cNvSpPr/>
            <p:nvPr/>
          </p:nvSpPr>
          <p:spPr>
            <a:xfrm rot="16200000">
              <a:off x="15260400" y="5476320"/>
              <a:ext cx="74520" cy="9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4852520" y="5927760"/>
              <a:ext cx="90000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16378200" y="5886000"/>
            <a:ext cx="904680" cy="74520"/>
            <a:chOff x="16378200" y="5886000"/>
            <a:chExt cx="904680" cy="74520"/>
          </a:xfrm>
        </p:grpSpPr>
        <p:sp>
          <p:nvSpPr>
            <p:cNvPr id="861" name=""/>
            <p:cNvSpPr/>
            <p:nvPr/>
          </p:nvSpPr>
          <p:spPr>
            <a:xfrm rot="16200000">
              <a:off x="16790760" y="5473080"/>
              <a:ext cx="74520" cy="9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6382880" y="5924520"/>
              <a:ext cx="90000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7117920" y="3371760"/>
            <a:ext cx="74520" cy="719280"/>
            <a:chOff x="7117920" y="3371760"/>
            <a:chExt cx="74520" cy="719280"/>
          </a:xfrm>
        </p:grpSpPr>
        <p:sp>
          <p:nvSpPr>
            <p:cNvPr id="864" name=""/>
            <p:cNvSpPr/>
            <p:nvPr/>
          </p:nvSpPr>
          <p:spPr>
            <a:xfrm rot="10800000">
              <a:off x="7117920" y="3371760"/>
              <a:ext cx="74520" cy="71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7159320" y="3371760"/>
              <a:ext cx="0" cy="71928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20080440" y="1501920"/>
            <a:ext cx="180360" cy="143640"/>
            <a:chOff x="20080440" y="1501920"/>
            <a:chExt cx="180360" cy="143640"/>
          </a:xfrm>
        </p:grpSpPr>
        <p:grpSp>
          <p:nvGrpSpPr>
            <p:cNvPr id="867" name=""/>
            <p:cNvGrpSpPr/>
            <p:nvPr/>
          </p:nvGrpSpPr>
          <p:grpSpPr>
            <a:xfrm>
              <a:off x="20089800" y="1536840"/>
              <a:ext cx="158760" cy="99720"/>
              <a:chOff x="20089800" y="1536840"/>
              <a:chExt cx="158760" cy="99720"/>
            </a:xfrm>
          </p:grpSpPr>
          <p:sp>
            <p:nvSpPr>
              <p:cNvPr id="868" name=""/>
              <p:cNvSpPr/>
              <p:nvPr/>
            </p:nvSpPr>
            <p:spPr>
              <a:xfrm flipV="1" rot="10800000">
                <a:off x="20089800" y="1536480"/>
                <a:ext cx="158760" cy="99720"/>
              </a:xfrm>
              <a:custGeom>
                <a:avLst/>
                <a:gdLst/>
                <a:ahLst/>
                <a:rect l="l" t="t" r="r" b="b"/>
                <a:pathLst>
                  <a:path w="414" h="276">
                    <a:moveTo>
                      <a:pt x="414" y="137"/>
                    </a:moveTo>
                    <a:lnTo>
                      <a:pt x="397" y="86"/>
                    </a:lnTo>
                    <a:lnTo>
                      <a:pt x="353" y="40"/>
                    </a:lnTo>
                    <a:lnTo>
                      <a:pt x="286" y="10"/>
                    </a:lnTo>
                    <a:lnTo>
                      <a:pt x="207" y="0"/>
                    </a:lnTo>
                    <a:lnTo>
                      <a:pt x="128" y="10"/>
                    </a:lnTo>
                    <a:lnTo>
                      <a:pt x="61" y="40"/>
                    </a:lnTo>
                    <a:lnTo>
                      <a:pt x="17" y="86"/>
                    </a:lnTo>
                    <a:lnTo>
                      <a:pt x="0" y="137"/>
                    </a:lnTo>
                    <a:lnTo>
                      <a:pt x="17" y="190"/>
                    </a:lnTo>
                    <a:lnTo>
                      <a:pt x="61" y="234"/>
                    </a:lnTo>
                    <a:lnTo>
                      <a:pt x="128" y="264"/>
                    </a:lnTo>
                    <a:lnTo>
                      <a:pt x="207" y="276"/>
                    </a:lnTo>
                    <a:lnTo>
                      <a:pt x="286" y="264"/>
                    </a:lnTo>
                    <a:lnTo>
                      <a:pt x="353" y="234"/>
                    </a:lnTo>
                    <a:lnTo>
                      <a:pt x="397" y="190"/>
                    </a:lnTo>
                    <a:lnTo>
                      <a:pt x="414" y="137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 rot="10800000">
                <a:off x="20103120" y="1547280"/>
                <a:ext cx="129240" cy="784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336" y="99"/>
                    </a:moveTo>
                    <a:lnTo>
                      <a:pt x="332" y="80"/>
                    </a:lnTo>
                    <a:lnTo>
                      <a:pt x="319" y="57"/>
                    </a:lnTo>
                    <a:lnTo>
                      <a:pt x="292" y="35"/>
                    </a:lnTo>
                    <a:lnTo>
                      <a:pt x="256" y="15"/>
                    </a:lnTo>
                    <a:lnTo>
                      <a:pt x="213" y="4"/>
                    </a:lnTo>
                    <a:lnTo>
                      <a:pt x="168" y="0"/>
                    </a:lnTo>
                    <a:lnTo>
                      <a:pt x="122" y="4"/>
                    </a:lnTo>
                    <a:lnTo>
                      <a:pt x="80" y="15"/>
                    </a:lnTo>
                    <a:lnTo>
                      <a:pt x="44" y="35"/>
                    </a:lnTo>
                    <a:lnTo>
                      <a:pt x="16" y="57"/>
                    </a:lnTo>
                    <a:lnTo>
                      <a:pt x="3" y="80"/>
                    </a:lnTo>
                    <a:lnTo>
                      <a:pt x="0" y="99"/>
                    </a:lnTo>
                    <a:lnTo>
                      <a:pt x="3" y="120"/>
                    </a:lnTo>
                    <a:lnTo>
                      <a:pt x="16" y="142"/>
                    </a:lnTo>
                    <a:lnTo>
                      <a:pt x="44" y="165"/>
                    </a:lnTo>
                    <a:lnTo>
                      <a:pt x="80" y="184"/>
                    </a:lnTo>
                    <a:lnTo>
                      <a:pt x="122" y="195"/>
                    </a:lnTo>
                    <a:lnTo>
                      <a:pt x="168" y="199"/>
                    </a:lnTo>
                    <a:lnTo>
                      <a:pt x="213" y="195"/>
                    </a:lnTo>
                    <a:lnTo>
                      <a:pt x="256" y="184"/>
                    </a:lnTo>
                    <a:lnTo>
                      <a:pt x="292" y="165"/>
                    </a:lnTo>
                    <a:lnTo>
                      <a:pt x="319" y="142"/>
                    </a:lnTo>
                    <a:lnTo>
                      <a:pt x="332" y="120"/>
                    </a:lnTo>
                    <a:lnTo>
                      <a:pt x="336" y="99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 flipV="1">
              <a:off x="20167920" y="1512720"/>
              <a:ext cx="0" cy="507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10800000">
              <a:off x="20154960" y="1508040"/>
              <a:ext cx="22320" cy="20880"/>
            </a:xfrm>
            <a:prstGeom prst="ellipse">
              <a:avLst/>
            </a:prstGeom>
            <a:solidFill>
              <a:srgbClr val="808080"/>
            </a:soli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 flipV="1" rot="10800000">
              <a:off x="20160360" y="1573200"/>
              <a:ext cx="9720" cy="79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 flipV="1" rot="10800000">
              <a:off x="20080080" y="1502280"/>
              <a:ext cx="180360" cy="14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10" y="12820"/>
                  </a:moveTo>
                  <a:arcTo wR="10800" hR="10800" stAng="646637" swAng="1002700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10" y="12820"/>
                  </a:moveTo>
                  <a:arcTo wR="10800" hR="10800" stAng="646637" swAng="10027005"/>
                </a:path>
              </a:pathLst>
            </a:custGeom>
            <a:noFill/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 flipV="1" rot="10800000">
              <a:off x="20080440" y="1501920"/>
              <a:ext cx="179280" cy="87120"/>
            </a:xfrm>
            <a:custGeom>
              <a:avLst/>
              <a:gdLst/>
              <a:ahLst/>
              <a:rect l="l" t="t" r="r" b="b"/>
              <a:pathLst>
                <a:path w="244" h="116">
                  <a:moveTo>
                    <a:pt x="0" y="100"/>
                  </a:moveTo>
                  <a:lnTo>
                    <a:pt x="0" y="0"/>
                  </a:lnTo>
                  <a:lnTo>
                    <a:pt x="244" y="0"/>
                  </a:lnTo>
                  <a:lnTo>
                    <a:pt x="244" y="116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20566080" y="1501920"/>
            <a:ext cx="180360" cy="143640"/>
            <a:chOff x="20566080" y="1501920"/>
            <a:chExt cx="180360" cy="143640"/>
          </a:xfrm>
        </p:grpSpPr>
        <p:grpSp>
          <p:nvGrpSpPr>
            <p:cNvPr id="876" name=""/>
            <p:cNvGrpSpPr/>
            <p:nvPr/>
          </p:nvGrpSpPr>
          <p:grpSpPr>
            <a:xfrm>
              <a:off x="20575440" y="1536840"/>
              <a:ext cx="158760" cy="99720"/>
              <a:chOff x="20575440" y="1536840"/>
              <a:chExt cx="158760" cy="99720"/>
            </a:xfrm>
          </p:grpSpPr>
          <p:sp>
            <p:nvSpPr>
              <p:cNvPr id="877" name=""/>
              <p:cNvSpPr/>
              <p:nvPr/>
            </p:nvSpPr>
            <p:spPr>
              <a:xfrm flipV="1" rot="10800000">
                <a:off x="20575440" y="1536480"/>
                <a:ext cx="158760" cy="99720"/>
              </a:xfrm>
              <a:custGeom>
                <a:avLst/>
                <a:gdLst/>
                <a:ahLst/>
                <a:rect l="l" t="t" r="r" b="b"/>
                <a:pathLst>
                  <a:path w="414" h="276">
                    <a:moveTo>
                      <a:pt x="414" y="137"/>
                    </a:moveTo>
                    <a:lnTo>
                      <a:pt x="397" y="86"/>
                    </a:lnTo>
                    <a:lnTo>
                      <a:pt x="353" y="40"/>
                    </a:lnTo>
                    <a:lnTo>
                      <a:pt x="286" y="10"/>
                    </a:lnTo>
                    <a:lnTo>
                      <a:pt x="207" y="0"/>
                    </a:lnTo>
                    <a:lnTo>
                      <a:pt x="128" y="10"/>
                    </a:lnTo>
                    <a:lnTo>
                      <a:pt x="61" y="40"/>
                    </a:lnTo>
                    <a:lnTo>
                      <a:pt x="17" y="86"/>
                    </a:lnTo>
                    <a:lnTo>
                      <a:pt x="0" y="137"/>
                    </a:lnTo>
                    <a:lnTo>
                      <a:pt x="17" y="190"/>
                    </a:lnTo>
                    <a:lnTo>
                      <a:pt x="61" y="234"/>
                    </a:lnTo>
                    <a:lnTo>
                      <a:pt x="128" y="264"/>
                    </a:lnTo>
                    <a:lnTo>
                      <a:pt x="207" y="276"/>
                    </a:lnTo>
                    <a:lnTo>
                      <a:pt x="286" y="264"/>
                    </a:lnTo>
                    <a:lnTo>
                      <a:pt x="353" y="234"/>
                    </a:lnTo>
                    <a:lnTo>
                      <a:pt x="397" y="190"/>
                    </a:lnTo>
                    <a:lnTo>
                      <a:pt x="414" y="137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 rot="10800000">
                <a:off x="20588760" y="1547280"/>
                <a:ext cx="129240" cy="784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336" y="99"/>
                    </a:moveTo>
                    <a:lnTo>
                      <a:pt x="332" y="80"/>
                    </a:lnTo>
                    <a:lnTo>
                      <a:pt x="319" y="57"/>
                    </a:lnTo>
                    <a:lnTo>
                      <a:pt x="292" y="35"/>
                    </a:lnTo>
                    <a:lnTo>
                      <a:pt x="256" y="15"/>
                    </a:lnTo>
                    <a:lnTo>
                      <a:pt x="213" y="4"/>
                    </a:lnTo>
                    <a:lnTo>
                      <a:pt x="168" y="0"/>
                    </a:lnTo>
                    <a:lnTo>
                      <a:pt x="122" y="4"/>
                    </a:lnTo>
                    <a:lnTo>
                      <a:pt x="80" y="15"/>
                    </a:lnTo>
                    <a:lnTo>
                      <a:pt x="44" y="35"/>
                    </a:lnTo>
                    <a:lnTo>
                      <a:pt x="16" y="57"/>
                    </a:lnTo>
                    <a:lnTo>
                      <a:pt x="3" y="80"/>
                    </a:lnTo>
                    <a:lnTo>
                      <a:pt x="0" y="99"/>
                    </a:lnTo>
                    <a:lnTo>
                      <a:pt x="3" y="120"/>
                    </a:lnTo>
                    <a:lnTo>
                      <a:pt x="16" y="142"/>
                    </a:lnTo>
                    <a:lnTo>
                      <a:pt x="44" y="165"/>
                    </a:lnTo>
                    <a:lnTo>
                      <a:pt x="80" y="184"/>
                    </a:lnTo>
                    <a:lnTo>
                      <a:pt x="122" y="195"/>
                    </a:lnTo>
                    <a:lnTo>
                      <a:pt x="168" y="199"/>
                    </a:lnTo>
                    <a:lnTo>
                      <a:pt x="213" y="195"/>
                    </a:lnTo>
                    <a:lnTo>
                      <a:pt x="256" y="184"/>
                    </a:lnTo>
                    <a:lnTo>
                      <a:pt x="292" y="165"/>
                    </a:lnTo>
                    <a:lnTo>
                      <a:pt x="319" y="142"/>
                    </a:lnTo>
                    <a:lnTo>
                      <a:pt x="332" y="120"/>
                    </a:lnTo>
                    <a:lnTo>
                      <a:pt x="336" y="99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 flipV="1">
              <a:off x="20653560" y="1512720"/>
              <a:ext cx="0" cy="507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0800000">
              <a:off x="20640600" y="1508040"/>
              <a:ext cx="22320" cy="20880"/>
            </a:xfrm>
            <a:prstGeom prst="ellipse">
              <a:avLst/>
            </a:prstGeom>
            <a:solidFill>
              <a:srgbClr val="808080"/>
            </a:soli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 rot="10800000">
              <a:off x="20646000" y="1573200"/>
              <a:ext cx="9720" cy="79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 rot="10800000">
              <a:off x="20565720" y="1502280"/>
              <a:ext cx="180360" cy="14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10" y="12820"/>
                  </a:moveTo>
                  <a:arcTo wR="10800" hR="10800" stAng="646637" swAng="1002700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10" y="12820"/>
                  </a:moveTo>
                  <a:arcTo wR="10800" hR="10800" stAng="646637" swAng="10027005"/>
                </a:path>
              </a:pathLst>
            </a:custGeom>
            <a:noFill/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 rot="10800000">
              <a:off x="20566080" y="1501920"/>
              <a:ext cx="179280" cy="87120"/>
            </a:xfrm>
            <a:custGeom>
              <a:avLst/>
              <a:gdLst/>
              <a:ahLst/>
              <a:rect l="l" t="t" r="r" b="b"/>
              <a:pathLst>
                <a:path w="244" h="116">
                  <a:moveTo>
                    <a:pt x="0" y="100"/>
                  </a:moveTo>
                  <a:lnTo>
                    <a:pt x="0" y="0"/>
                  </a:lnTo>
                  <a:lnTo>
                    <a:pt x="244" y="0"/>
                  </a:lnTo>
                  <a:lnTo>
                    <a:pt x="244" y="116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21070800" y="1501920"/>
            <a:ext cx="180360" cy="143640"/>
            <a:chOff x="21070800" y="1501920"/>
            <a:chExt cx="180360" cy="143640"/>
          </a:xfrm>
        </p:grpSpPr>
        <p:grpSp>
          <p:nvGrpSpPr>
            <p:cNvPr id="885" name=""/>
            <p:cNvGrpSpPr/>
            <p:nvPr/>
          </p:nvGrpSpPr>
          <p:grpSpPr>
            <a:xfrm>
              <a:off x="21080160" y="1536840"/>
              <a:ext cx="158760" cy="99720"/>
              <a:chOff x="21080160" y="1536840"/>
              <a:chExt cx="158760" cy="99720"/>
            </a:xfrm>
          </p:grpSpPr>
          <p:sp>
            <p:nvSpPr>
              <p:cNvPr id="886" name=""/>
              <p:cNvSpPr/>
              <p:nvPr/>
            </p:nvSpPr>
            <p:spPr>
              <a:xfrm flipV="1" rot="10800000">
                <a:off x="21080160" y="1536480"/>
                <a:ext cx="158760" cy="99720"/>
              </a:xfrm>
              <a:custGeom>
                <a:avLst/>
                <a:gdLst/>
                <a:ahLst/>
                <a:rect l="l" t="t" r="r" b="b"/>
                <a:pathLst>
                  <a:path w="414" h="276">
                    <a:moveTo>
                      <a:pt x="414" y="137"/>
                    </a:moveTo>
                    <a:lnTo>
                      <a:pt x="397" y="86"/>
                    </a:lnTo>
                    <a:lnTo>
                      <a:pt x="353" y="40"/>
                    </a:lnTo>
                    <a:lnTo>
                      <a:pt x="286" y="10"/>
                    </a:lnTo>
                    <a:lnTo>
                      <a:pt x="207" y="0"/>
                    </a:lnTo>
                    <a:lnTo>
                      <a:pt x="128" y="10"/>
                    </a:lnTo>
                    <a:lnTo>
                      <a:pt x="61" y="40"/>
                    </a:lnTo>
                    <a:lnTo>
                      <a:pt x="17" y="86"/>
                    </a:lnTo>
                    <a:lnTo>
                      <a:pt x="0" y="137"/>
                    </a:lnTo>
                    <a:lnTo>
                      <a:pt x="17" y="190"/>
                    </a:lnTo>
                    <a:lnTo>
                      <a:pt x="61" y="234"/>
                    </a:lnTo>
                    <a:lnTo>
                      <a:pt x="128" y="264"/>
                    </a:lnTo>
                    <a:lnTo>
                      <a:pt x="207" y="276"/>
                    </a:lnTo>
                    <a:lnTo>
                      <a:pt x="286" y="264"/>
                    </a:lnTo>
                    <a:lnTo>
                      <a:pt x="353" y="234"/>
                    </a:lnTo>
                    <a:lnTo>
                      <a:pt x="397" y="190"/>
                    </a:lnTo>
                    <a:lnTo>
                      <a:pt x="414" y="137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 rot="10800000">
                <a:off x="21093480" y="1547280"/>
                <a:ext cx="129240" cy="784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336" y="99"/>
                    </a:moveTo>
                    <a:lnTo>
                      <a:pt x="332" y="80"/>
                    </a:lnTo>
                    <a:lnTo>
                      <a:pt x="319" y="57"/>
                    </a:lnTo>
                    <a:lnTo>
                      <a:pt x="292" y="35"/>
                    </a:lnTo>
                    <a:lnTo>
                      <a:pt x="256" y="15"/>
                    </a:lnTo>
                    <a:lnTo>
                      <a:pt x="213" y="4"/>
                    </a:lnTo>
                    <a:lnTo>
                      <a:pt x="168" y="0"/>
                    </a:lnTo>
                    <a:lnTo>
                      <a:pt x="122" y="4"/>
                    </a:lnTo>
                    <a:lnTo>
                      <a:pt x="80" y="15"/>
                    </a:lnTo>
                    <a:lnTo>
                      <a:pt x="44" y="35"/>
                    </a:lnTo>
                    <a:lnTo>
                      <a:pt x="16" y="57"/>
                    </a:lnTo>
                    <a:lnTo>
                      <a:pt x="3" y="80"/>
                    </a:lnTo>
                    <a:lnTo>
                      <a:pt x="0" y="99"/>
                    </a:lnTo>
                    <a:lnTo>
                      <a:pt x="3" y="120"/>
                    </a:lnTo>
                    <a:lnTo>
                      <a:pt x="16" y="142"/>
                    </a:lnTo>
                    <a:lnTo>
                      <a:pt x="44" y="165"/>
                    </a:lnTo>
                    <a:lnTo>
                      <a:pt x="80" y="184"/>
                    </a:lnTo>
                    <a:lnTo>
                      <a:pt x="122" y="195"/>
                    </a:lnTo>
                    <a:lnTo>
                      <a:pt x="168" y="199"/>
                    </a:lnTo>
                    <a:lnTo>
                      <a:pt x="213" y="195"/>
                    </a:lnTo>
                    <a:lnTo>
                      <a:pt x="256" y="184"/>
                    </a:lnTo>
                    <a:lnTo>
                      <a:pt x="292" y="165"/>
                    </a:lnTo>
                    <a:lnTo>
                      <a:pt x="319" y="142"/>
                    </a:lnTo>
                    <a:lnTo>
                      <a:pt x="332" y="120"/>
                    </a:lnTo>
                    <a:lnTo>
                      <a:pt x="336" y="99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"/>
            <p:cNvSpPr/>
            <p:nvPr/>
          </p:nvSpPr>
          <p:spPr>
            <a:xfrm flipV="1">
              <a:off x="21158280" y="1512720"/>
              <a:ext cx="0" cy="507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0800000">
              <a:off x="21145320" y="1508040"/>
              <a:ext cx="22320" cy="20880"/>
            </a:xfrm>
            <a:prstGeom prst="ellipse">
              <a:avLst/>
            </a:prstGeom>
            <a:solidFill>
              <a:srgbClr val="808080"/>
            </a:soli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 rot="10800000">
              <a:off x="21150720" y="1573200"/>
              <a:ext cx="9720" cy="79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 flipV="1" rot="10800000">
              <a:off x="21070440" y="1502280"/>
              <a:ext cx="180360" cy="14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10" y="12820"/>
                  </a:moveTo>
                  <a:arcTo wR="10800" hR="10800" stAng="646637" swAng="1002700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10" y="12820"/>
                  </a:moveTo>
                  <a:arcTo wR="10800" hR="10800" stAng="646637" swAng="10027005"/>
                </a:path>
              </a:pathLst>
            </a:custGeom>
            <a:noFill/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 flipV="1" rot="10800000">
              <a:off x="21070800" y="1501920"/>
              <a:ext cx="179280" cy="87120"/>
            </a:xfrm>
            <a:custGeom>
              <a:avLst/>
              <a:gdLst/>
              <a:ahLst/>
              <a:rect l="l" t="t" r="r" b="b"/>
              <a:pathLst>
                <a:path w="244" h="116">
                  <a:moveTo>
                    <a:pt x="0" y="100"/>
                  </a:moveTo>
                  <a:lnTo>
                    <a:pt x="0" y="0"/>
                  </a:lnTo>
                  <a:lnTo>
                    <a:pt x="244" y="0"/>
                  </a:lnTo>
                  <a:lnTo>
                    <a:pt x="244" y="116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12703680" y="3153960"/>
            <a:ext cx="214920" cy="144360"/>
            <a:chOff x="12703680" y="3153960"/>
            <a:chExt cx="214920" cy="144360"/>
          </a:xfrm>
        </p:grpSpPr>
        <p:sp>
          <p:nvSpPr>
            <p:cNvPr id="894" name=""/>
            <p:cNvSpPr/>
            <p:nvPr/>
          </p:nvSpPr>
          <p:spPr>
            <a:xfrm flipH="1" flipV="1" rot="5400000">
              <a:off x="12725280" y="3149640"/>
              <a:ext cx="115920" cy="160200"/>
            </a:xfrm>
            <a:custGeom>
              <a:avLst/>
              <a:gdLst/>
              <a:ahLst/>
              <a:rect l="l" t="t" r="r" b="b"/>
              <a:pathLst>
                <a:path w="236" h="302">
                  <a:moveTo>
                    <a:pt x="218" y="299"/>
                  </a:moveTo>
                  <a:lnTo>
                    <a:pt x="233" y="231"/>
                  </a:lnTo>
                  <a:lnTo>
                    <a:pt x="236" y="200"/>
                  </a:lnTo>
                  <a:lnTo>
                    <a:pt x="235" y="170"/>
                  </a:lnTo>
                  <a:lnTo>
                    <a:pt x="233" y="144"/>
                  </a:lnTo>
                  <a:lnTo>
                    <a:pt x="229" y="114"/>
                  </a:lnTo>
                  <a:lnTo>
                    <a:pt x="222" y="83"/>
                  </a:lnTo>
                  <a:lnTo>
                    <a:pt x="213" y="53"/>
                  </a:lnTo>
                  <a:lnTo>
                    <a:pt x="208" y="40"/>
                  </a:lnTo>
                  <a:lnTo>
                    <a:pt x="178" y="11"/>
                  </a:lnTo>
                  <a:lnTo>
                    <a:pt x="161" y="5"/>
                  </a:lnTo>
                  <a:lnTo>
                    <a:pt x="152" y="2"/>
                  </a:lnTo>
                  <a:lnTo>
                    <a:pt x="135" y="0"/>
                  </a:lnTo>
                  <a:lnTo>
                    <a:pt x="131" y="0"/>
                  </a:lnTo>
                  <a:lnTo>
                    <a:pt x="119" y="0"/>
                  </a:lnTo>
                  <a:lnTo>
                    <a:pt x="105" y="0"/>
                  </a:lnTo>
                  <a:lnTo>
                    <a:pt x="98" y="0"/>
                  </a:lnTo>
                  <a:lnTo>
                    <a:pt x="84" y="2"/>
                  </a:lnTo>
                  <a:lnTo>
                    <a:pt x="75" y="5"/>
                  </a:lnTo>
                  <a:lnTo>
                    <a:pt x="58" y="11"/>
                  </a:lnTo>
                  <a:lnTo>
                    <a:pt x="28" y="40"/>
                  </a:lnTo>
                  <a:lnTo>
                    <a:pt x="22" y="53"/>
                  </a:lnTo>
                  <a:lnTo>
                    <a:pt x="14" y="83"/>
                  </a:lnTo>
                  <a:lnTo>
                    <a:pt x="6" y="114"/>
                  </a:lnTo>
                  <a:lnTo>
                    <a:pt x="2" y="144"/>
                  </a:lnTo>
                  <a:lnTo>
                    <a:pt x="0" y="170"/>
                  </a:lnTo>
                  <a:lnTo>
                    <a:pt x="0" y="200"/>
                  </a:lnTo>
                  <a:lnTo>
                    <a:pt x="3" y="231"/>
                  </a:lnTo>
                  <a:lnTo>
                    <a:pt x="14" y="302"/>
                  </a:lnTo>
                </a:path>
              </a:pathLst>
            </a:custGeom>
            <a:solidFill>
              <a:srgbClr val="ffff66"/>
            </a:solidFill>
            <a:ln w="64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 rot="5400000">
              <a:off x="12733200" y="3168720"/>
              <a:ext cx="85680" cy="12348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115" y="188"/>
                  </a:moveTo>
                  <a:lnTo>
                    <a:pt x="140" y="179"/>
                  </a:lnTo>
                  <a:lnTo>
                    <a:pt x="161" y="138"/>
                  </a:lnTo>
                  <a:lnTo>
                    <a:pt x="156" y="79"/>
                  </a:lnTo>
                  <a:lnTo>
                    <a:pt x="145" y="34"/>
                  </a:lnTo>
                  <a:lnTo>
                    <a:pt x="135" y="15"/>
                  </a:lnTo>
                  <a:lnTo>
                    <a:pt x="114" y="3"/>
                  </a:lnTo>
                  <a:lnTo>
                    <a:pt x="106" y="3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47" y="3"/>
                  </a:lnTo>
                  <a:lnTo>
                    <a:pt x="26" y="15"/>
                  </a:lnTo>
                  <a:lnTo>
                    <a:pt x="16" y="34"/>
                  </a:lnTo>
                  <a:lnTo>
                    <a:pt x="6" y="79"/>
                  </a:lnTo>
                  <a:lnTo>
                    <a:pt x="0" y="138"/>
                  </a:lnTo>
                  <a:lnTo>
                    <a:pt x="21" y="179"/>
                  </a:lnTo>
                  <a:lnTo>
                    <a:pt x="46" y="188"/>
                  </a:lnTo>
                  <a:lnTo>
                    <a:pt x="81" y="191"/>
                  </a:lnTo>
                  <a:lnTo>
                    <a:pt x="115" y="188"/>
                  </a:lnTo>
                </a:path>
              </a:pathLst>
            </a:custGeom>
            <a:solidFill>
              <a:srgbClr val="ffff66"/>
            </a:solidFill>
            <a:ln w="64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 flipV="1" rot="5400000">
              <a:off x="12817800" y="3197160"/>
              <a:ext cx="144360" cy="56880"/>
            </a:xfrm>
            <a:custGeom>
              <a:avLst/>
              <a:gdLst/>
              <a:ahLst/>
              <a:rect l="l" t="t" r="r" b="b"/>
              <a:pathLst>
                <a:path w="274" h="97">
                  <a:moveTo>
                    <a:pt x="13" y="0"/>
                  </a:moveTo>
                  <a:lnTo>
                    <a:pt x="10" y="0"/>
                  </a:lnTo>
                  <a:lnTo>
                    <a:pt x="5" y="3"/>
                  </a:lnTo>
                  <a:lnTo>
                    <a:pt x="4" y="9"/>
                  </a:lnTo>
                  <a:lnTo>
                    <a:pt x="4" y="19"/>
                  </a:lnTo>
                  <a:lnTo>
                    <a:pt x="4" y="37"/>
                  </a:lnTo>
                  <a:lnTo>
                    <a:pt x="4" y="42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4" y="53"/>
                  </a:lnTo>
                  <a:lnTo>
                    <a:pt x="4" y="88"/>
                  </a:lnTo>
                  <a:lnTo>
                    <a:pt x="6" y="93"/>
                  </a:lnTo>
                  <a:lnTo>
                    <a:pt x="12" y="97"/>
                  </a:lnTo>
                  <a:lnTo>
                    <a:pt x="14" y="97"/>
                  </a:lnTo>
                  <a:lnTo>
                    <a:pt x="131" y="97"/>
                  </a:lnTo>
                  <a:lnTo>
                    <a:pt x="247" y="97"/>
                  </a:lnTo>
                  <a:lnTo>
                    <a:pt x="248" y="97"/>
                  </a:lnTo>
                  <a:lnTo>
                    <a:pt x="255" y="93"/>
                  </a:lnTo>
                  <a:lnTo>
                    <a:pt x="257" y="88"/>
                  </a:lnTo>
                  <a:lnTo>
                    <a:pt x="257" y="53"/>
                  </a:lnTo>
                  <a:lnTo>
                    <a:pt x="259" y="53"/>
                  </a:lnTo>
                  <a:lnTo>
                    <a:pt x="261" y="47"/>
                  </a:lnTo>
                  <a:lnTo>
                    <a:pt x="259" y="44"/>
                  </a:lnTo>
                  <a:lnTo>
                    <a:pt x="259" y="42"/>
                  </a:lnTo>
                  <a:lnTo>
                    <a:pt x="257" y="42"/>
                  </a:lnTo>
                  <a:lnTo>
                    <a:pt x="257" y="37"/>
                  </a:lnTo>
                  <a:lnTo>
                    <a:pt x="265" y="37"/>
                  </a:lnTo>
                  <a:lnTo>
                    <a:pt x="265" y="38"/>
                  </a:lnTo>
                  <a:lnTo>
                    <a:pt x="274" y="38"/>
                  </a:lnTo>
                  <a:lnTo>
                    <a:pt x="274" y="28"/>
                  </a:lnTo>
                  <a:lnTo>
                    <a:pt x="274" y="18"/>
                  </a:lnTo>
                  <a:lnTo>
                    <a:pt x="265" y="18"/>
                  </a:lnTo>
                  <a:lnTo>
                    <a:pt x="265" y="19"/>
                  </a:lnTo>
                  <a:lnTo>
                    <a:pt x="257" y="19"/>
                  </a:lnTo>
                  <a:lnTo>
                    <a:pt x="257" y="9"/>
                  </a:lnTo>
                  <a:lnTo>
                    <a:pt x="255" y="3"/>
                  </a:lnTo>
                  <a:lnTo>
                    <a:pt x="250" y="0"/>
                  </a:lnTo>
                  <a:lnTo>
                    <a:pt x="247" y="0"/>
                  </a:lnTo>
                  <a:lnTo>
                    <a:pt x="131" y="0"/>
                  </a:lnTo>
                  <a:lnTo>
                    <a:pt x="13" y="0"/>
                  </a:lnTo>
                </a:path>
              </a:pathLst>
            </a:custGeom>
            <a:solidFill>
              <a:srgbClr val="ffff66"/>
            </a:solidFill>
            <a:ln w="64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 flipV="1" rot="5400000">
              <a:off x="12785040" y="3212640"/>
              <a:ext cx="23760" cy="3456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2" y="9"/>
                  </a:moveTo>
                  <a:lnTo>
                    <a:pt x="24" y="0"/>
                  </a:lnTo>
                  <a:lnTo>
                    <a:pt x="5" y="9"/>
                  </a:lnTo>
                  <a:lnTo>
                    <a:pt x="0" y="22"/>
                  </a:lnTo>
                  <a:lnTo>
                    <a:pt x="0" y="59"/>
                  </a:lnTo>
                  <a:lnTo>
                    <a:pt x="46" y="59"/>
                  </a:lnTo>
                  <a:lnTo>
                    <a:pt x="46" y="22"/>
                  </a:lnTo>
                  <a:lnTo>
                    <a:pt x="42" y="9"/>
                  </a:lnTo>
                </a:path>
              </a:pathLst>
            </a:custGeom>
            <a:solidFill>
              <a:srgbClr val="ffff66"/>
            </a:solidFill>
            <a:ln w="64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12693600" y="3902040"/>
            <a:ext cx="108000" cy="108000"/>
          </a:xfrm>
          <a:prstGeom prst="ellipse">
            <a:avLst/>
          </a:prstGeom>
          <a:noFill/>
          <a:ln w="64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19825560" y="3379320"/>
            <a:ext cx="448200" cy="434520"/>
            <a:chOff x="19825560" y="3379320"/>
            <a:chExt cx="448200" cy="434520"/>
          </a:xfrm>
        </p:grpSpPr>
        <p:sp>
          <p:nvSpPr>
            <p:cNvPr id="900" name=""/>
            <p:cNvSpPr/>
            <p:nvPr/>
          </p:nvSpPr>
          <p:spPr>
            <a:xfrm>
              <a:off x="19825560" y="3379320"/>
              <a:ext cx="43704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253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25358"/>
                </a:path>
              </a:pathLst>
            </a:cu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20040480" y="3382560"/>
              <a:ext cx="14400" cy="223920"/>
            </a:xfrm>
            <a:prstGeom prst="rect">
              <a:avLst/>
            </a:prstGeom>
            <a:noFill/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rot="5400000">
              <a:off x="20131200" y="3519720"/>
              <a:ext cx="5724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20952000" y="3489480"/>
            <a:ext cx="215640" cy="10764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1810520" y="3025800"/>
            <a:ext cx="216360" cy="144360"/>
            <a:chOff x="11810520" y="3025800"/>
            <a:chExt cx="216360" cy="144360"/>
          </a:xfrm>
        </p:grpSpPr>
        <p:sp>
          <p:nvSpPr>
            <p:cNvPr id="905" name=""/>
            <p:cNvSpPr/>
            <p:nvPr/>
          </p:nvSpPr>
          <p:spPr>
            <a:xfrm flipH="1" flipV="1" rot="16200000">
              <a:off x="11888640" y="3013920"/>
              <a:ext cx="115920" cy="160560"/>
            </a:xfrm>
            <a:custGeom>
              <a:avLst/>
              <a:gdLst/>
              <a:ahLst/>
              <a:rect l="l" t="t" r="r" b="b"/>
              <a:pathLst>
                <a:path w="236" h="302">
                  <a:moveTo>
                    <a:pt x="218" y="299"/>
                  </a:moveTo>
                  <a:lnTo>
                    <a:pt x="233" y="231"/>
                  </a:lnTo>
                  <a:lnTo>
                    <a:pt x="236" y="200"/>
                  </a:lnTo>
                  <a:lnTo>
                    <a:pt x="235" y="170"/>
                  </a:lnTo>
                  <a:lnTo>
                    <a:pt x="233" y="144"/>
                  </a:lnTo>
                  <a:lnTo>
                    <a:pt x="229" y="114"/>
                  </a:lnTo>
                  <a:lnTo>
                    <a:pt x="222" y="83"/>
                  </a:lnTo>
                  <a:lnTo>
                    <a:pt x="213" y="53"/>
                  </a:lnTo>
                  <a:lnTo>
                    <a:pt x="208" y="40"/>
                  </a:lnTo>
                  <a:lnTo>
                    <a:pt x="178" y="11"/>
                  </a:lnTo>
                  <a:lnTo>
                    <a:pt x="161" y="5"/>
                  </a:lnTo>
                  <a:lnTo>
                    <a:pt x="152" y="2"/>
                  </a:lnTo>
                  <a:lnTo>
                    <a:pt x="135" y="0"/>
                  </a:lnTo>
                  <a:lnTo>
                    <a:pt x="131" y="0"/>
                  </a:lnTo>
                  <a:lnTo>
                    <a:pt x="119" y="0"/>
                  </a:lnTo>
                  <a:lnTo>
                    <a:pt x="105" y="0"/>
                  </a:lnTo>
                  <a:lnTo>
                    <a:pt x="98" y="0"/>
                  </a:lnTo>
                  <a:lnTo>
                    <a:pt x="84" y="2"/>
                  </a:lnTo>
                  <a:lnTo>
                    <a:pt x="75" y="5"/>
                  </a:lnTo>
                  <a:lnTo>
                    <a:pt x="58" y="11"/>
                  </a:lnTo>
                  <a:lnTo>
                    <a:pt x="28" y="40"/>
                  </a:lnTo>
                  <a:lnTo>
                    <a:pt x="22" y="53"/>
                  </a:lnTo>
                  <a:lnTo>
                    <a:pt x="14" y="83"/>
                  </a:lnTo>
                  <a:lnTo>
                    <a:pt x="6" y="114"/>
                  </a:lnTo>
                  <a:lnTo>
                    <a:pt x="2" y="144"/>
                  </a:lnTo>
                  <a:lnTo>
                    <a:pt x="0" y="170"/>
                  </a:lnTo>
                  <a:lnTo>
                    <a:pt x="0" y="200"/>
                  </a:lnTo>
                  <a:lnTo>
                    <a:pt x="3" y="231"/>
                  </a:lnTo>
                  <a:lnTo>
                    <a:pt x="14" y="302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 rot="16200000">
              <a:off x="11910960" y="3031560"/>
              <a:ext cx="85680" cy="12384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115" y="188"/>
                  </a:moveTo>
                  <a:lnTo>
                    <a:pt x="140" y="179"/>
                  </a:lnTo>
                  <a:lnTo>
                    <a:pt x="161" y="138"/>
                  </a:lnTo>
                  <a:lnTo>
                    <a:pt x="156" y="79"/>
                  </a:lnTo>
                  <a:lnTo>
                    <a:pt x="145" y="34"/>
                  </a:lnTo>
                  <a:lnTo>
                    <a:pt x="135" y="15"/>
                  </a:lnTo>
                  <a:lnTo>
                    <a:pt x="114" y="3"/>
                  </a:lnTo>
                  <a:lnTo>
                    <a:pt x="106" y="3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47" y="3"/>
                  </a:lnTo>
                  <a:lnTo>
                    <a:pt x="26" y="15"/>
                  </a:lnTo>
                  <a:lnTo>
                    <a:pt x="16" y="34"/>
                  </a:lnTo>
                  <a:lnTo>
                    <a:pt x="6" y="79"/>
                  </a:lnTo>
                  <a:lnTo>
                    <a:pt x="0" y="138"/>
                  </a:lnTo>
                  <a:lnTo>
                    <a:pt x="21" y="179"/>
                  </a:lnTo>
                  <a:lnTo>
                    <a:pt x="46" y="188"/>
                  </a:lnTo>
                  <a:lnTo>
                    <a:pt x="81" y="191"/>
                  </a:lnTo>
                  <a:lnTo>
                    <a:pt x="115" y="188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 rot="16200000">
              <a:off x="11766600" y="3069000"/>
              <a:ext cx="144360" cy="57240"/>
            </a:xfrm>
            <a:custGeom>
              <a:avLst/>
              <a:gdLst/>
              <a:ahLst/>
              <a:rect l="l" t="t" r="r" b="b"/>
              <a:pathLst>
                <a:path w="274" h="97">
                  <a:moveTo>
                    <a:pt x="13" y="0"/>
                  </a:moveTo>
                  <a:lnTo>
                    <a:pt x="10" y="0"/>
                  </a:lnTo>
                  <a:lnTo>
                    <a:pt x="5" y="3"/>
                  </a:lnTo>
                  <a:lnTo>
                    <a:pt x="4" y="9"/>
                  </a:lnTo>
                  <a:lnTo>
                    <a:pt x="4" y="19"/>
                  </a:lnTo>
                  <a:lnTo>
                    <a:pt x="4" y="37"/>
                  </a:lnTo>
                  <a:lnTo>
                    <a:pt x="4" y="42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4" y="53"/>
                  </a:lnTo>
                  <a:lnTo>
                    <a:pt x="4" y="88"/>
                  </a:lnTo>
                  <a:lnTo>
                    <a:pt x="6" y="93"/>
                  </a:lnTo>
                  <a:lnTo>
                    <a:pt x="12" y="97"/>
                  </a:lnTo>
                  <a:lnTo>
                    <a:pt x="14" y="97"/>
                  </a:lnTo>
                  <a:lnTo>
                    <a:pt x="131" y="97"/>
                  </a:lnTo>
                  <a:lnTo>
                    <a:pt x="247" y="97"/>
                  </a:lnTo>
                  <a:lnTo>
                    <a:pt x="248" y="97"/>
                  </a:lnTo>
                  <a:lnTo>
                    <a:pt x="255" y="93"/>
                  </a:lnTo>
                  <a:lnTo>
                    <a:pt x="257" y="88"/>
                  </a:lnTo>
                  <a:lnTo>
                    <a:pt x="257" y="53"/>
                  </a:lnTo>
                  <a:lnTo>
                    <a:pt x="259" y="53"/>
                  </a:lnTo>
                  <a:lnTo>
                    <a:pt x="261" y="47"/>
                  </a:lnTo>
                  <a:lnTo>
                    <a:pt x="259" y="44"/>
                  </a:lnTo>
                  <a:lnTo>
                    <a:pt x="259" y="42"/>
                  </a:lnTo>
                  <a:lnTo>
                    <a:pt x="257" y="42"/>
                  </a:lnTo>
                  <a:lnTo>
                    <a:pt x="257" y="37"/>
                  </a:lnTo>
                  <a:lnTo>
                    <a:pt x="265" y="37"/>
                  </a:lnTo>
                  <a:lnTo>
                    <a:pt x="265" y="38"/>
                  </a:lnTo>
                  <a:lnTo>
                    <a:pt x="274" y="38"/>
                  </a:lnTo>
                  <a:lnTo>
                    <a:pt x="274" y="28"/>
                  </a:lnTo>
                  <a:lnTo>
                    <a:pt x="274" y="18"/>
                  </a:lnTo>
                  <a:lnTo>
                    <a:pt x="265" y="18"/>
                  </a:lnTo>
                  <a:lnTo>
                    <a:pt x="265" y="19"/>
                  </a:lnTo>
                  <a:lnTo>
                    <a:pt x="257" y="19"/>
                  </a:lnTo>
                  <a:lnTo>
                    <a:pt x="257" y="9"/>
                  </a:lnTo>
                  <a:lnTo>
                    <a:pt x="255" y="3"/>
                  </a:lnTo>
                  <a:lnTo>
                    <a:pt x="250" y="0"/>
                  </a:lnTo>
                  <a:lnTo>
                    <a:pt x="247" y="0"/>
                  </a:lnTo>
                  <a:lnTo>
                    <a:pt x="131" y="0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 rot="16200000">
              <a:off x="11920320" y="3076560"/>
              <a:ext cx="23760" cy="3492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2" y="9"/>
                  </a:moveTo>
                  <a:lnTo>
                    <a:pt x="24" y="0"/>
                  </a:lnTo>
                  <a:lnTo>
                    <a:pt x="5" y="9"/>
                  </a:lnTo>
                  <a:lnTo>
                    <a:pt x="0" y="22"/>
                  </a:lnTo>
                  <a:lnTo>
                    <a:pt x="0" y="59"/>
                  </a:lnTo>
                  <a:lnTo>
                    <a:pt x="46" y="59"/>
                  </a:lnTo>
                  <a:lnTo>
                    <a:pt x="46" y="22"/>
                  </a:lnTo>
                  <a:lnTo>
                    <a:pt x="42" y="9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12323880" y="2952720"/>
            <a:ext cx="0" cy="689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12176280" y="2881080"/>
            <a:ext cx="395280" cy="74520"/>
            <a:chOff x="12176280" y="2881080"/>
            <a:chExt cx="395280" cy="74520"/>
          </a:xfrm>
        </p:grpSpPr>
        <p:sp>
          <p:nvSpPr>
            <p:cNvPr id="911" name=""/>
            <p:cNvSpPr/>
            <p:nvPr/>
          </p:nvSpPr>
          <p:spPr>
            <a:xfrm rot="16200000">
              <a:off x="12336480" y="2720520"/>
              <a:ext cx="74520" cy="395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2176280" y="2917800"/>
              <a:ext cx="395280" cy="0"/>
            </a:xfrm>
            <a:prstGeom prst="line">
              <a:avLst/>
            </a:prstGeom>
            <a:ln w="316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12482640" y="3571920"/>
            <a:ext cx="4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12419640" y="3467520"/>
            <a:ext cx="180360" cy="143640"/>
            <a:chOff x="12419640" y="3467520"/>
            <a:chExt cx="180360" cy="143640"/>
          </a:xfrm>
        </p:grpSpPr>
        <p:grpSp>
          <p:nvGrpSpPr>
            <p:cNvPr id="915" name=""/>
            <p:cNvGrpSpPr/>
            <p:nvPr/>
          </p:nvGrpSpPr>
          <p:grpSpPr>
            <a:xfrm>
              <a:off x="12431880" y="3476520"/>
              <a:ext cx="158760" cy="99720"/>
              <a:chOff x="12431880" y="3476520"/>
              <a:chExt cx="158760" cy="99720"/>
            </a:xfrm>
          </p:grpSpPr>
          <p:sp>
            <p:nvSpPr>
              <p:cNvPr id="916" name=""/>
              <p:cNvSpPr/>
              <p:nvPr/>
            </p:nvSpPr>
            <p:spPr>
              <a:xfrm flipV="1">
                <a:off x="12431880" y="3476160"/>
                <a:ext cx="158760" cy="99720"/>
              </a:xfrm>
              <a:custGeom>
                <a:avLst/>
                <a:gdLst/>
                <a:ahLst/>
                <a:rect l="l" t="t" r="r" b="b"/>
                <a:pathLst>
                  <a:path w="414" h="276">
                    <a:moveTo>
                      <a:pt x="414" y="137"/>
                    </a:moveTo>
                    <a:lnTo>
                      <a:pt x="397" y="86"/>
                    </a:lnTo>
                    <a:lnTo>
                      <a:pt x="353" y="40"/>
                    </a:lnTo>
                    <a:lnTo>
                      <a:pt x="286" y="10"/>
                    </a:lnTo>
                    <a:lnTo>
                      <a:pt x="207" y="0"/>
                    </a:lnTo>
                    <a:lnTo>
                      <a:pt x="128" y="10"/>
                    </a:lnTo>
                    <a:lnTo>
                      <a:pt x="61" y="40"/>
                    </a:lnTo>
                    <a:lnTo>
                      <a:pt x="17" y="86"/>
                    </a:lnTo>
                    <a:lnTo>
                      <a:pt x="0" y="137"/>
                    </a:lnTo>
                    <a:lnTo>
                      <a:pt x="17" y="190"/>
                    </a:lnTo>
                    <a:lnTo>
                      <a:pt x="61" y="234"/>
                    </a:lnTo>
                    <a:lnTo>
                      <a:pt x="128" y="264"/>
                    </a:lnTo>
                    <a:lnTo>
                      <a:pt x="207" y="276"/>
                    </a:lnTo>
                    <a:lnTo>
                      <a:pt x="286" y="264"/>
                    </a:lnTo>
                    <a:lnTo>
                      <a:pt x="353" y="234"/>
                    </a:lnTo>
                    <a:lnTo>
                      <a:pt x="397" y="190"/>
                    </a:lnTo>
                    <a:lnTo>
                      <a:pt x="414" y="137"/>
                    </a:lnTo>
                  </a:path>
                </a:pathLst>
              </a:custGeom>
              <a:noFill/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12448080" y="3487320"/>
                <a:ext cx="129240" cy="784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336" y="99"/>
                    </a:moveTo>
                    <a:lnTo>
                      <a:pt x="332" y="80"/>
                    </a:lnTo>
                    <a:lnTo>
                      <a:pt x="319" y="57"/>
                    </a:lnTo>
                    <a:lnTo>
                      <a:pt x="292" y="35"/>
                    </a:lnTo>
                    <a:lnTo>
                      <a:pt x="256" y="15"/>
                    </a:lnTo>
                    <a:lnTo>
                      <a:pt x="213" y="4"/>
                    </a:lnTo>
                    <a:lnTo>
                      <a:pt x="168" y="0"/>
                    </a:lnTo>
                    <a:lnTo>
                      <a:pt x="122" y="4"/>
                    </a:lnTo>
                    <a:lnTo>
                      <a:pt x="80" y="15"/>
                    </a:lnTo>
                    <a:lnTo>
                      <a:pt x="44" y="35"/>
                    </a:lnTo>
                    <a:lnTo>
                      <a:pt x="16" y="57"/>
                    </a:lnTo>
                    <a:lnTo>
                      <a:pt x="3" y="80"/>
                    </a:lnTo>
                    <a:lnTo>
                      <a:pt x="0" y="99"/>
                    </a:lnTo>
                    <a:lnTo>
                      <a:pt x="3" y="120"/>
                    </a:lnTo>
                    <a:lnTo>
                      <a:pt x="16" y="142"/>
                    </a:lnTo>
                    <a:lnTo>
                      <a:pt x="44" y="165"/>
                    </a:lnTo>
                    <a:lnTo>
                      <a:pt x="80" y="184"/>
                    </a:lnTo>
                    <a:lnTo>
                      <a:pt x="122" y="195"/>
                    </a:lnTo>
                    <a:lnTo>
                      <a:pt x="168" y="199"/>
                    </a:lnTo>
                    <a:lnTo>
                      <a:pt x="213" y="195"/>
                    </a:lnTo>
                    <a:lnTo>
                      <a:pt x="256" y="184"/>
                    </a:lnTo>
                    <a:lnTo>
                      <a:pt x="292" y="165"/>
                    </a:lnTo>
                    <a:lnTo>
                      <a:pt x="319" y="142"/>
                    </a:lnTo>
                    <a:lnTo>
                      <a:pt x="332" y="120"/>
                    </a:lnTo>
                    <a:lnTo>
                      <a:pt x="336" y="99"/>
                    </a:lnTo>
                  </a:path>
                </a:pathLst>
              </a:custGeom>
              <a:noFill/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8" name=""/>
            <p:cNvSpPr/>
            <p:nvPr/>
          </p:nvSpPr>
          <p:spPr>
            <a:xfrm>
              <a:off x="12512520" y="3549600"/>
              <a:ext cx="0" cy="5076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2503160" y="3584160"/>
              <a:ext cx="22320" cy="20880"/>
            </a:xfrm>
            <a:prstGeom prst="ellipse">
              <a:avLst/>
            </a:prstGeom>
            <a:solidFill>
              <a:srgbClr val="80808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12509640" y="3531960"/>
              <a:ext cx="9720" cy="79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12419280" y="3467160"/>
              <a:ext cx="180360" cy="14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10" y="12820"/>
                  </a:moveTo>
                  <a:arcTo wR="10800" hR="10800" stAng="646637" swAng="1002700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10" y="12820"/>
                  </a:moveTo>
                  <a:arcTo wR="10800" hR="10800" stAng="646637" swAng="10027005"/>
                </a:path>
              </a:pathLst>
            </a:cu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flipV="1">
              <a:off x="12420720" y="3524040"/>
              <a:ext cx="179280" cy="87120"/>
            </a:xfrm>
            <a:custGeom>
              <a:avLst/>
              <a:gdLst/>
              <a:ahLst/>
              <a:rect l="l" t="t" r="r" b="b"/>
              <a:pathLst>
                <a:path w="244" h="116">
                  <a:moveTo>
                    <a:pt x="0" y="100"/>
                  </a:moveTo>
                  <a:lnTo>
                    <a:pt x="0" y="0"/>
                  </a:lnTo>
                  <a:lnTo>
                    <a:pt x="244" y="0"/>
                  </a:lnTo>
                  <a:lnTo>
                    <a:pt x="244" y="116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12668400" y="3692520"/>
            <a:ext cx="180360" cy="143640"/>
            <a:chOff x="12668400" y="3692520"/>
            <a:chExt cx="180360" cy="143640"/>
          </a:xfrm>
        </p:grpSpPr>
        <p:grpSp>
          <p:nvGrpSpPr>
            <p:cNvPr id="924" name=""/>
            <p:cNvGrpSpPr/>
            <p:nvPr/>
          </p:nvGrpSpPr>
          <p:grpSpPr>
            <a:xfrm>
              <a:off x="12677760" y="3727440"/>
              <a:ext cx="158760" cy="99720"/>
              <a:chOff x="12677760" y="3727440"/>
              <a:chExt cx="158760" cy="99720"/>
            </a:xfrm>
          </p:grpSpPr>
          <p:sp>
            <p:nvSpPr>
              <p:cNvPr id="925" name=""/>
              <p:cNvSpPr/>
              <p:nvPr/>
            </p:nvSpPr>
            <p:spPr>
              <a:xfrm flipV="1" rot="10800000">
                <a:off x="12677760" y="3727080"/>
                <a:ext cx="158760" cy="99720"/>
              </a:xfrm>
              <a:custGeom>
                <a:avLst/>
                <a:gdLst/>
                <a:ahLst/>
                <a:rect l="l" t="t" r="r" b="b"/>
                <a:pathLst>
                  <a:path w="414" h="276">
                    <a:moveTo>
                      <a:pt x="414" y="137"/>
                    </a:moveTo>
                    <a:lnTo>
                      <a:pt x="397" y="86"/>
                    </a:lnTo>
                    <a:lnTo>
                      <a:pt x="353" y="40"/>
                    </a:lnTo>
                    <a:lnTo>
                      <a:pt x="286" y="10"/>
                    </a:lnTo>
                    <a:lnTo>
                      <a:pt x="207" y="0"/>
                    </a:lnTo>
                    <a:lnTo>
                      <a:pt x="128" y="10"/>
                    </a:lnTo>
                    <a:lnTo>
                      <a:pt x="61" y="40"/>
                    </a:lnTo>
                    <a:lnTo>
                      <a:pt x="17" y="86"/>
                    </a:lnTo>
                    <a:lnTo>
                      <a:pt x="0" y="137"/>
                    </a:lnTo>
                    <a:lnTo>
                      <a:pt x="17" y="190"/>
                    </a:lnTo>
                    <a:lnTo>
                      <a:pt x="61" y="234"/>
                    </a:lnTo>
                    <a:lnTo>
                      <a:pt x="128" y="264"/>
                    </a:lnTo>
                    <a:lnTo>
                      <a:pt x="207" y="276"/>
                    </a:lnTo>
                    <a:lnTo>
                      <a:pt x="286" y="264"/>
                    </a:lnTo>
                    <a:lnTo>
                      <a:pt x="353" y="234"/>
                    </a:lnTo>
                    <a:lnTo>
                      <a:pt x="397" y="190"/>
                    </a:lnTo>
                    <a:lnTo>
                      <a:pt x="414" y="137"/>
                    </a:lnTo>
                  </a:path>
                </a:pathLst>
              </a:custGeom>
              <a:noFill/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 rot="10800000">
                <a:off x="12691080" y="3737880"/>
                <a:ext cx="129240" cy="784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336" y="99"/>
                    </a:moveTo>
                    <a:lnTo>
                      <a:pt x="332" y="80"/>
                    </a:lnTo>
                    <a:lnTo>
                      <a:pt x="319" y="57"/>
                    </a:lnTo>
                    <a:lnTo>
                      <a:pt x="292" y="35"/>
                    </a:lnTo>
                    <a:lnTo>
                      <a:pt x="256" y="15"/>
                    </a:lnTo>
                    <a:lnTo>
                      <a:pt x="213" y="4"/>
                    </a:lnTo>
                    <a:lnTo>
                      <a:pt x="168" y="0"/>
                    </a:lnTo>
                    <a:lnTo>
                      <a:pt x="122" y="4"/>
                    </a:lnTo>
                    <a:lnTo>
                      <a:pt x="80" y="15"/>
                    </a:lnTo>
                    <a:lnTo>
                      <a:pt x="44" y="35"/>
                    </a:lnTo>
                    <a:lnTo>
                      <a:pt x="16" y="57"/>
                    </a:lnTo>
                    <a:lnTo>
                      <a:pt x="3" y="80"/>
                    </a:lnTo>
                    <a:lnTo>
                      <a:pt x="0" y="99"/>
                    </a:lnTo>
                    <a:lnTo>
                      <a:pt x="3" y="120"/>
                    </a:lnTo>
                    <a:lnTo>
                      <a:pt x="16" y="142"/>
                    </a:lnTo>
                    <a:lnTo>
                      <a:pt x="44" y="165"/>
                    </a:lnTo>
                    <a:lnTo>
                      <a:pt x="80" y="184"/>
                    </a:lnTo>
                    <a:lnTo>
                      <a:pt x="122" y="195"/>
                    </a:lnTo>
                    <a:lnTo>
                      <a:pt x="168" y="199"/>
                    </a:lnTo>
                    <a:lnTo>
                      <a:pt x="213" y="195"/>
                    </a:lnTo>
                    <a:lnTo>
                      <a:pt x="256" y="184"/>
                    </a:lnTo>
                    <a:lnTo>
                      <a:pt x="292" y="165"/>
                    </a:lnTo>
                    <a:lnTo>
                      <a:pt x="319" y="142"/>
                    </a:lnTo>
                    <a:lnTo>
                      <a:pt x="332" y="120"/>
                    </a:lnTo>
                    <a:lnTo>
                      <a:pt x="336" y="99"/>
                    </a:lnTo>
                  </a:path>
                </a:pathLst>
              </a:custGeom>
              <a:noFill/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 flipV="1">
              <a:off x="12755880" y="3703320"/>
              <a:ext cx="0" cy="5076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0800000">
              <a:off x="12742920" y="3698640"/>
              <a:ext cx="22320" cy="20880"/>
            </a:xfrm>
            <a:prstGeom prst="ellipse">
              <a:avLst/>
            </a:prstGeom>
            <a:solidFill>
              <a:srgbClr val="80808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 rot="10800000">
              <a:off x="12748320" y="3763800"/>
              <a:ext cx="9720" cy="79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 rot="10800000">
              <a:off x="12668040" y="3692880"/>
              <a:ext cx="180360" cy="14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10" y="12820"/>
                  </a:moveTo>
                  <a:arcTo wR="10800" hR="10800" stAng="646637" swAng="1002700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10" y="12820"/>
                  </a:moveTo>
                  <a:arcTo wR="10800" hR="10800" stAng="646637" swAng="10027005"/>
                </a:path>
              </a:pathLst>
            </a:cu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 rot="10800000">
              <a:off x="12668400" y="3692520"/>
              <a:ext cx="179280" cy="87120"/>
            </a:xfrm>
            <a:custGeom>
              <a:avLst/>
              <a:gdLst/>
              <a:ahLst/>
              <a:rect l="l" t="t" r="r" b="b"/>
              <a:pathLst>
                <a:path w="244" h="116">
                  <a:moveTo>
                    <a:pt x="0" y="100"/>
                  </a:moveTo>
                  <a:lnTo>
                    <a:pt x="0" y="0"/>
                  </a:lnTo>
                  <a:lnTo>
                    <a:pt x="244" y="0"/>
                  </a:lnTo>
                  <a:lnTo>
                    <a:pt x="244" y="116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11742840" y="3962520"/>
            <a:ext cx="33012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12125880" y="4207320"/>
            <a:ext cx="144360" cy="214920"/>
            <a:chOff x="12125880" y="4207320"/>
            <a:chExt cx="144360" cy="214920"/>
          </a:xfrm>
        </p:grpSpPr>
        <p:sp>
          <p:nvSpPr>
            <p:cNvPr id="934" name=""/>
            <p:cNvSpPr/>
            <p:nvPr/>
          </p:nvSpPr>
          <p:spPr>
            <a:xfrm flipH="1" flipV="1" rot="10800000">
              <a:off x="12136320" y="4206960"/>
              <a:ext cx="115920" cy="160200"/>
            </a:xfrm>
            <a:custGeom>
              <a:avLst/>
              <a:gdLst/>
              <a:ahLst/>
              <a:rect l="l" t="t" r="r" b="b"/>
              <a:pathLst>
                <a:path w="236" h="302">
                  <a:moveTo>
                    <a:pt x="218" y="299"/>
                  </a:moveTo>
                  <a:lnTo>
                    <a:pt x="233" y="231"/>
                  </a:lnTo>
                  <a:lnTo>
                    <a:pt x="236" y="200"/>
                  </a:lnTo>
                  <a:lnTo>
                    <a:pt x="235" y="170"/>
                  </a:lnTo>
                  <a:lnTo>
                    <a:pt x="233" y="144"/>
                  </a:lnTo>
                  <a:lnTo>
                    <a:pt x="229" y="114"/>
                  </a:lnTo>
                  <a:lnTo>
                    <a:pt x="222" y="83"/>
                  </a:lnTo>
                  <a:lnTo>
                    <a:pt x="213" y="53"/>
                  </a:lnTo>
                  <a:lnTo>
                    <a:pt x="208" y="40"/>
                  </a:lnTo>
                  <a:lnTo>
                    <a:pt x="178" y="11"/>
                  </a:lnTo>
                  <a:lnTo>
                    <a:pt x="161" y="5"/>
                  </a:lnTo>
                  <a:lnTo>
                    <a:pt x="152" y="2"/>
                  </a:lnTo>
                  <a:lnTo>
                    <a:pt x="135" y="0"/>
                  </a:lnTo>
                  <a:lnTo>
                    <a:pt x="131" y="0"/>
                  </a:lnTo>
                  <a:lnTo>
                    <a:pt x="119" y="0"/>
                  </a:lnTo>
                  <a:lnTo>
                    <a:pt x="105" y="0"/>
                  </a:lnTo>
                  <a:lnTo>
                    <a:pt x="98" y="0"/>
                  </a:lnTo>
                  <a:lnTo>
                    <a:pt x="84" y="2"/>
                  </a:lnTo>
                  <a:lnTo>
                    <a:pt x="75" y="5"/>
                  </a:lnTo>
                  <a:lnTo>
                    <a:pt x="58" y="11"/>
                  </a:lnTo>
                  <a:lnTo>
                    <a:pt x="28" y="40"/>
                  </a:lnTo>
                  <a:lnTo>
                    <a:pt x="22" y="53"/>
                  </a:lnTo>
                  <a:lnTo>
                    <a:pt x="14" y="83"/>
                  </a:lnTo>
                  <a:lnTo>
                    <a:pt x="6" y="114"/>
                  </a:lnTo>
                  <a:lnTo>
                    <a:pt x="2" y="144"/>
                  </a:lnTo>
                  <a:lnTo>
                    <a:pt x="0" y="170"/>
                  </a:lnTo>
                  <a:lnTo>
                    <a:pt x="0" y="200"/>
                  </a:lnTo>
                  <a:lnTo>
                    <a:pt x="3" y="231"/>
                  </a:lnTo>
                  <a:lnTo>
                    <a:pt x="14" y="302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 rot="10800000">
              <a:off x="12150720" y="4218120"/>
              <a:ext cx="85680" cy="12348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115" y="188"/>
                  </a:moveTo>
                  <a:lnTo>
                    <a:pt x="140" y="179"/>
                  </a:lnTo>
                  <a:lnTo>
                    <a:pt x="161" y="138"/>
                  </a:lnTo>
                  <a:lnTo>
                    <a:pt x="156" y="79"/>
                  </a:lnTo>
                  <a:lnTo>
                    <a:pt x="145" y="34"/>
                  </a:lnTo>
                  <a:lnTo>
                    <a:pt x="135" y="15"/>
                  </a:lnTo>
                  <a:lnTo>
                    <a:pt x="114" y="3"/>
                  </a:lnTo>
                  <a:lnTo>
                    <a:pt x="106" y="3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47" y="3"/>
                  </a:lnTo>
                  <a:lnTo>
                    <a:pt x="26" y="15"/>
                  </a:lnTo>
                  <a:lnTo>
                    <a:pt x="16" y="34"/>
                  </a:lnTo>
                  <a:lnTo>
                    <a:pt x="6" y="79"/>
                  </a:lnTo>
                  <a:lnTo>
                    <a:pt x="0" y="138"/>
                  </a:lnTo>
                  <a:lnTo>
                    <a:pt x="21" y="179"/>
                  </a:lnTo>
                  <a:lnTo>
                    <a:pt x="46" y="188"/>
                  </a:lnTo>
                  <a:lnTo>
                    <a:pt x="81" y="191"/>
                  </a:lnTo>
                  <a:lnTo>
                    <a:pt x="115" y="188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 rot="10800000">
              <a:off x="12125520" y="4365360"/>
              <a:ext cx="144360" cy="56880"/>
            </a:xfrm>
            <a:custGeom>
              <a:avLst/>
              <a:gdLst/>
              <a:ahLst/>
              <a:rect l="l" t="t" r="r" b="b"/>
              <a:pathLst>
                <a:path w="274" h="97">
                  <a:moveTo>
                    <a:pt x="13" y="0"/>
                  </a:moveTo>
                  <a:lnTo>
                    <a:pt x="10" y="0"/>
                  </a:lnTo>
                  <a:lnTo>
                    <a:pt x="5" y="3"/>
                  </a:lnTo>
                  <a:lnTo>
                    <a:pt x="4" y="9"/>
                  </a:lnTo>
                  <a:lnTo>
                    <a:pt x="4" y="19"/>
                  </a:lnTo>
                  <a:lnTo>
                    <a:pt x="4" y="37"/>
                  </a:lnTo>
                  <a:lnTo>
                    <a:pt x="4" y="42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4" y="53"/>
                  </a:lnTo>
                  <a:lnTo>
                    <a:pt x="4" y="88"/>
                  </a:lnTo>
                  <a:lnTo>
                    <a:pt x="6" y="93"/>
                  </a:lnTo>
                  <a:lnTo>
                    <a:pt x="12" y="97"/>
                  </a:lnTo>
                  <a:lnTo>
                    <a:pt x="14" y="97"/>
                  </a:lnTo>
                  <a:lnTo>
                    <a:pt x="131" y="97"/>
                  </a:lnTo>
                  <a:lnTo>
                    <a:pt x="247" y="97"/>
                  </a:lnTo>
                  <a:lnTo>
                    <a:pt x="248" y="97"/>
                  </a:lnTo>
                  <a:lnTo>
                    <a:pt x="255" y="93"/>
                  </a:lnTo>
                  <a:lnTo>
                    <a:pt x="257" y="88"/>
                  </a:lnTo>
                  <a:lnTo>
                    <a:pt x="257" y="53"/>
                  </a:lnTo>
                  <a:lnTo>
                    <a:pt x="259" y="53"/>
                  </a:lnTo>
                  <a:lnTo>
                    <a:pt x="261" y="47"/>
                  </a:lnTo>
                  <a:lnTo>
                    <a:pt x="259" y="44"/>
                  </a:lnTo>
                  <a:lnTo>
                    <a:pt x="259" y="42"/>
                  </a:lnTo>
                  <a:lnTo>
                    <a:pt x="257" y="42"/>
                  </a:lnTo>
                  <a:lnTo>
                    <a:pt x="257" y="37"/>
                  </a:lnTo>
                  <a:lnTo>
                    <a:pt x="265" y="37"/>
                  </a:lnTo>
                  <a:lnTo>
                    <a:pt x="265" y="38"/>
                  </a:lnTo>
                  <a:lnTo>
                    <a:pt x="274" y="38"/>
                  </a:lnTo>
                  <a:lnTo>
                    <a:pt x="274" y="28"/>
                  </a:lnTo>
                  <a:lnTo>
                    <a:pt x="274" y="18"/>
                  </a:lnTo>
                  <a:lnTo>
                    <a:pt x="265" y="18"/>
                  </a:lnTo>
                  <a:lnTo>
                    <a:pt x="265" y="19"/>
                  </a:lnTo>
                  <a:lnTo>
                    <a:pt x="257" y="19"/>
                  </a:lnTo>
                  <a:lnTo>
                    <a:pt x="257" y="9"/>
                  </a:lnTo>
                  <a:lnTo>
                    <a:pt x="255" y="3"/>
                  </a:lnTo>
                  <a:lnTo>
                    <a:pt x="250" y="0"/>
                  </a:lnTo>
                  <a:lnTo>
                    <a:pt x="247" y="0"/>
                  </a:lnTo>
                  <a:lnTo>
                    <a:pt x="131" y="0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 rot="10800000">
              <a:off x="12182400" y="4283280"/>
              <a:ext cx="23760" cy="3456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2" y="9"/>
                  </a:moveTo>
                  <a:lnTo>
                    <a:pt x="24" y="0"/>
                  </a:lnTo>
                  <a:lnTo>
                    <a:pt x="5" y="9"/>
                  </a:lnTo>
                  <a:lnTo>
                    <a:pt x="0" y="22"/>
                  </a:lnTo>
                  <a:lnTo>
                    <a:pt x="0" y="59"/>
                  </a:lnTo>
                  <a:lnTo>
                    <a:pt x="46" y="59"/>
                  </a:lnTo>
                  <a:lnTo>
                    <a:pt x="46" y="22"/>
                  </a:lnTo>
                  <a:lnTo>
                    <a:pt x="42" y="9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2899880" y="4071960"/>
            <a:ext cx="14400" cy="22392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12681000" y="4062240"/>
            <a:ext cx="447120" cy="433800"/>
            <a:chOff x="12681000" y="4062240"/>
            <a:chExt cx="447120" cy="433800"/>
          </a:xfrm>
        </p:grpSpPr>
        <p:sp>
          <p:nvSpPr>
            <p:cNvPr id="940" name=""/>
            <p:cNvSpPr/>
            <p:nvPr/>
          </p:nvSpPr>
          <p:spPr>
            <a:xfrm flipH="1">
              <a:off x="12690360" y="4062240"/>
              <a:ext cx="437760" cy="43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253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25358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16200000">
              <a:off x="12765600" y="4208400"/>
              <a:ext cx="57240" cy="226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12507840" y="4295880"/>
            <a:ext cx="0" cy="11998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484080" y="3571920"/>
            <a:ext cx="0" cy="73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3001760" y="4719600"/>
            <a:ext cx="0" cy="4539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2476160" y="3666960"/>
            <a:ext cx="0" cy="638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2944520" y="3575160"/>
            <a:ext cx="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16889400" y="1501920"/>
            <a:ext cx="180360" cy="143640"/>
            <a:chOff x="16889400" y="1501920"/>
            <a:chExt cx="180360" cy="143640"/>
          </a:xfrm>
        </p:grpSpPr>
        <p:grpSp>
          <p:nvGrpSpPr>
            <p:cNvPr id="948" name=""/>
            <p:cNvGrpSpPr/>
            <p:nvPr/>
          </p:nvGrpSpPr>
          <p:grpSpPr>
            <a:xfrm>
              <a:off x="16898760" y="1536840"/>
              <a:ext cx="158760" cy="99720"/>
              <a:chOff x="16898760" y="1536840"/>
              <a:chExt cx="158760" cy="99720"/>
            </a:xfrm>
          </p:grpSpPr>
          <p:sp>
            <p:nvSpPr>
              <p:cNvPr id="949" name=""/>
              <p:cNvSpPr/>
              <p:nvPr/>
            </p:nvSpPr>
            <p:spPr>
              <a:xfrm flipV="1" rot="10800000">
                <a:off x="16898760" y="1536480"/>
                <a:ext cx="158760" cy="99720"/>
              </a:xfrm>
              <a:custGeom>
                <a:avLst/>
                <a:gdLst/>
                <a:ahLst/>
                <a:rect l="l" t="t" r="r" b="b"/>
                <a:pathLst>
                  <a:path w="414" h="276">
                    <a:moveTo>
                      <a:pt x="414" y="137"/>
                    </a:moveTo>
                    <a:lnTo>
                      <a:pt x="397" y="86"/>
                    </a:lnTo>
                    <a:lnTo>
                      <a:pt x="353" y="40"/>
                    </a:lnTo>
                    <a:lnTo>
                      <a:pt x="286" y="10"/>
                    </a:lnTo>
                    <a:lnTo>
                      <a:pt x="207" y="0"/>
                    </a:lnTo>
                    <a:lnTo>
                      <a:pt x="128" y="10"/>
                    </a:lnTo>
                    <a:lnTo>
                      <a:pt x="61" y="40"/>
                    </a:lnTo>
                    <a:lnTo>
                      <a:pt x="17" y="86"/>
                    </a:lnTo>
                    <a:lnTo>
                      <a:pt x="0" y="137"/>
                    </a:lnTo>
                    <a:lnTo>
                      <a:pt x="17" y="190"/>
                    </a:lnTo>
                    <a:lnTo>
                      <a:pt x="61" y="234"/>
                    </a:lnTo>
                    <a:lnTo>
                      <a:pt x="128" y="264"/>
                    </a:lnTo>
                    <a:lnTo>
                      <a:pt x="207" y="276"/>
                    </a:lnTo>
                    <a:lnTo>
                      <a:pt x="286" y="264"/>
                    </a:lnTo>
                    <a:lnTo>
                      <a:pt x="353" y="234"/>
                    </a:lnTo>
                    <a:lnTo>
                      <a:pt x="397" y="190"/>
                    </a:lnTo>
                    <a:lnTo>
                      <a:pt x="414" y="137"/>
                    </a:lnTo>
                  </a:path>
                </a:pathLst>
              </a:custGeom>
              <a:noFill/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V="1" rot="10800000">
                <a:off x="16912080" y="1547280"/>
                <a:ext cx="129240" cy="784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336" y="99"/>
                    </a:moveTo>
                    <a:lnTo>
                      <a:pt x="332" y="80"/>
                    </a:lnTo>
                    <a:lnTo>
                      <a:pt x="319" y="57"/>
                    </a:lnTo>
                    <a:lnTo>
                      <a:pt x="292" y="35"/>
                    </a:lnTo>
                    <a:lnTo>
                      <a:pt x="256" y="15"/>
                    </a:lnTo>
                    <a:lnTo>
                      <a:pt x="213" y="4"/>
                    </a:lnTo>
                    <a:lnTo>
                      <a:pt x="168" y="0"/>
                    </a:lnTo>
                    <a:lnTo>
                      <a:pt x="122" y="4"/>
                    </a:lnTo>
                    <a:lnTo>
                      <a:pt x="80" y="15"/>
                    </a:lnTo>
                    <a:lnTo>
                      <a:pt x="44" y="35"/>
                    </a:lnTo>
                    <a:lnTo>
                      <a:pt x="16" y="57"/>
                    </a:lnTo>
                    <a:lnTo>
                      <a:pt x="3" y="80"/>
                    </a:lnTo>
                    <a:lnTo>
                      <a:pt x="0" y="99"/>
                    </a:lnTo>
                    <a:lnTo>
                      <a:pt x="3" y="120"/>
                    </a:lnTo>
                    <a:lnTo>
                      <a:pt x="16" y="142"/>
                    </a:lnTo>
                    <a:lnTo>
                      <a:pt x="44" y="165"/>
                    </a:lnTo>
                    <a:lnTo>
                      <a:pt x="80" y="184"/>
                    </a:lnTo>
                    <a:lnTo>
                      <a:pt x="122" y="195"/>
                    </a:lnTo>
                    <a:lnTo>
                      <a:pt x="168" y="199"/>
                    </a:lnTo>
                    <a:lnTo>
                      <a:pt x="213" y="195"/>
                    </a:lnTo>
                    <a:lnTo>
                      <a:pt x="256" y="184"/>
                    </a:lnTo>
                    <a:lnTo>
                      <a:pt x="292" y="165"/>
                    </a:lnTo>
                    <a:lnTo>
                      <a:pt x="319" y="142"/>
                    </a:lnTo>
                    <a:lnTo>
                      <a:pt x="332" y="120"/>
                    </a:lnTo>
                    <a:lnTo>
                      <a:pt x="336" y="99"/>
                    </a:lnTo>
                  </a:path>
                </a:pathLst>
              </a:custGeom>
              <a:noFill/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 flipV="1">
              <a:off x="16976880" y="1512720"/>
              <a:ext cx="0" cy="5076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rot="10800000">
              <a:off x="16963920" y="1508040"/>
              <a:ext cx="22320" cy="20880"/>
            </a:xfrm>
            <a:prstGeom prst="ellipse">
              <a:avLst/>
            </a:prstGeom>
            <a:solidFill>
              <a:srgbClr val="80808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 rot="10800000">
              <a:off x="16969320" y="1573200"/>
              <a:ext cx="9720" cy="79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 flipV="1" rot="10800000">
              <a:off x="16889040" y="1502280"/>
              <a:ext cx="180360" cy="14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10" y="12820"/>
                  </a:moveTo>
                  <a:arcTo wR="10800" hR="10800" stAng="646637" swAng="1002700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10" y="12820"/>
                  </a:moveTo>
                  <a:arcTo wR="10800" hR="10800" stAng="646637" swAng="10027005"/>
                </a:path>
              </a:pathLst>
            </a:cu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 flipV="1" rot="10800000">
              <a:off x="16889400" y="1501920"/>
              <a:ext cx="179280" cy="87120"/>
            </a:xfrm>
            <a:custGeom>
              <a:avLst/>
              <a:gdLst/>
              <a:ahLst/>
              <a:rect l="l" t="t" r="r" b="b"/>
              <a:pathLst>
                <a:path w="244" h="116">
                  <a:moveTo>
                    <a:pt x="0" y="100"/>
                  </a:moveTo>
                  <a:lnTo>
                    <a:pt x="0" y="0"/>
                  </a:lnTo>
                  <a:lnTo>
                    <a:pt x="244" y="0"/>
                  </a:lnTo>
                  <a:lnTo>
                    <a:pt x="244" y="116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17303760" y="1506600"/>
            <a:ext cx="180360" cy="143640"/>
            <a:chOff x="17303760" y="1506600"/>
            <a:chExt cx="180360" cy="143640"/>
          </a:xfrm>
        </p:grpSpPr>
        <p:grpSp>
          <p:nvGrpSpPr>
            <p:cNvPr id="957" name=""/>
            <p:cNvGrpSpPr/>
            <p:nvPr/>
          </p:nvGrpSpPr>
          <p:grpSpPr>
            <a:xfrm>
              <a:off x="17313120" y="1541520"/>
              <a:ext cx="158760" cy="99720"/>
              <a:chOff x="17313120" y="1541520"/>
              <a:chExt cx="158760" cy="99720"/>
            </a:xfrm>
          </p:grpSpPr>
          <p:sp>
            <p:nvSpPr>
              <p:cNvPr id="958" name=""/>
              <p:cNvSpPr/>
              <p:nvPr/>
            </p:nvSpPr>
            <p:spPr>
              <a:xfrm flipV="1" rot="10800000">
                <a:off x="17313120" y="1541160"/>
                <a:ext cx="158760" cy="99720"/>
              </a:xfrm>
              <a:custGeom>
                <a:avLst/>
                <a:gdLst/>
                <a:ahLst/>
                <a:rect l="l" t="t" r="r" b="b"/>
                <a:pathLst>
                  <a:path w="414" h="276">
                    <a:moveTo>
                      <a:pt x="414" y="137"/>
                    </a:moveTo>
                    <a:lnTo>
                      <a:pt x="397" y="86"/>
                    </a:lnTo>
                    <a:lnTo>
                      <a:pt x="353" y="40"/>
                    </a:lnTo>
                    <a:lnTo>
                      <a:pt x="286" y="10"/>
                    </a:lnTo>
                    <a:lnTo>
                      <a:pt x="207" y="0"/>
                    </a:lnTo>
                    <a:lnTo>
                      <a:pt x="128" y="10"/>
                    </a:lnTo>
                    <a:lnTo>
                      <a:pt x="61" y="40"/>
                    </a:lnTo>
                    <a:lnTo>
                      <a:pt x="17" y="86"/>
                    </a:lnTo>
                    <a:lnTo>
                      <a:pt x="0" y="137"/>
                    </a:lnTo>
                    <a:lnTo>
                      <a:pt x="17" y="190"/>
                    </a:lnTo>
                    <a:lnTo>
                      <a:pt x="61" y="234"/>
                    </a:lnTo>
                    <a:lnTo>
                      <a:pt x="128" y="264"/>
                    </a:lnTo>
                    <a:lnTo>
                      <a:pt x="207" y="276"/>
                    </a:lnTo>
                    <a:lnTo>
                      <a:pt x="286" y="264"/>
                    </a:lnTo>
                    <a:lnTo>
                      <a:pt x="353" y="234"/>
                    </a:lnTo>
                    <a:lnTo>
                      <a:pt x="397" y="190"/>
                    </a:lnTo>
                    <a:lnTo>
                      <a:pt x="414" y="137"/>
                    </a:lnTo>
                  </a:path>
                </a:pathLst>
              </a:custGeom>
              <a:noFill/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 rot="10800000">
                <a:off x="17326440" y="1551960"/>
                <a:ext cx="129240" cy="784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336" y="99"/>
                    </a:moveTo>
                    <a:lnTo>
                      <a:pt x="332" y="80"/>
                    </a:lnTo>
                    <a:lnTo>
                      <a:pt x="319" y="57"/>
                    </a:lnTo>
                    <a:lnTo>
                      <a:pt x="292" y="35"/>
                    </a:lnTo>
                    <a:lnTo>
                      <a:pt x="256" y="15"/>
                    </a:lnTo>
                    <a:lnTo>
                      <a:pt x="213" y="4"/>
                    </a:lnTo>
                    <a:lnTo>
                      <a:pt x="168" y="0"/>
                    </a:lnTo>
                    <a:lnTo>
                      <a:pt x="122" y="4"/>
                    </a:lnTo>
                    <a:lnTo>
                      <a:pt x="80" y="15"/>
                    </a:lnTo>
                    <a:lnTo>
                      <a:pt x="44" y="35"/>
                    </a:lnTo>
                    <a:lnTo>
                      <a:pt x="16" y="57"/>
                    </a:lnTo>
                    <a:lnTo>
                      <a:pt x="3" y="80"/>
                    </a:lnTo>
                    <a:lnTo>
                      <a:pt x="0" y="99"/>
                    </a:lnTo>
                    <a:lnTo>
                      <a:pt x="3" y="120"/>
                    </a:lnTo>
                    <a:lnTo>
                      <a:pt x="16" y="142"/>
                    </a:lnTo>
                    <a:lnTo>
                      <a:pt x="44" y="165"/>
                    </a:lnTo>
                    <a:lnTo>
                      <a:pt x="80" y="184"/>
                    </a:lnTo>
                    <a:lnTo>
                      <a:pt x="122" y="195"/>
                    </a:lnTo>
                    <a:lnTo>
                      <a:pt x="168" y="199"/>
                    </a:lnTo>
                    <a:lnTo>
                      <a:pt x="213" y="195"/>
                    </a:lnTo>
                    <a:lnTo>
                      <a:pt x="256" y="184"/>
                    </a:lnTo>
                    <a:lnTo>
                      <a:pt x="292" y="165"/>
                    </a:lnTo>
                    <a:lnTo>
                      <a:pt x="319" y="142"/>
                    </a:lnTo>
                    <a:lnTo>
                      <a:pt x="332" y="120"/>
                    </a:lnTo>
                    <a:lnTo>
                      <a:pt x="336" y="99"/>
                    </a:lnTo>
                  </a:path>
                </a:pathLst>
              </a:custGeom>
              <a:noFill/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17391240" y="1517400"/>
              <a:ext cx="0" cy="5076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rot="10800000">
              <a:off x="17378280" y="1512720"/>
              <a:ext cx="22320" cy="20880"/>
            </a:xfrm>
            <a:prstGeom prst="ellipse">
              <a:avLst/>
            </a:prstGeom>
            <a:solidFill>
              <a:srgbClr val="80808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 flipV="1" rot="10800000">
              <a:off x="17383680" y="1577880"/>
              <a:ext cx="9720" cy="79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 flipV="1" rot="10800000">
              <a:off x="17303400" y="1506960"/>
              <a:ext cx="180360" cy="14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10" y="12820"/>
                  </a:moveTo>
                  <a:arcTo wR="10800" hR="10800" stAng="646637" swAng="1002700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10" y="12820"/>
                  </a:moveTo>
                  <a:arcTo wR="10800" hR="10800" stAng="646637" swAng="10027005"/>
                </a:path>
              </a:pathLst>
            </a:cu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 flipV="1" rot="10800000">
              <a:off x="17303760" y="1506600"/>
              <a:ext cx="179280" cy="87120"/>
            </a:xfrm>
            <a:custGeom>
              <a:avLst/>
              <a:gdLst/>
              <a:ahLst/>
              <a:rect l="l" t="t" r="r" b="b"/>
              <a:pathLst>
                <a:path w="244" h="116">
                  <a:moveTo>
                    <a:pt x="0" y="100"/>
                  </a:moveTo>
                  <a:lnTo>
                    <a:pt x="0" y="0"/>
                  </a:lnTo>
                  <a:lnTo>
                    <a:pt x="244" y="0"/>
                  </a:lnTo>
                  <a:lnTo>
                    <a:pt x="244" y="116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17699040" y="1506600"/>
            <a:ext cx="180360" cy="143640"/>
            <a:chOff x="17699040" y="1506600"/>
            <a:chExt cx="180360" cy="143640"/>
          </a:xfrm>
        </p:grpSpPr>
        <p:grpSp>
          <p:nvGrpSpPr>
            <p:cNvPr id="966" name=""/>
            <p:cNvGrpSpPr/>
            <p:nvPr/>
          </p:nvGrpSpPr>
          <p:grpSpPr>
            <a:xfrm>
              <a:off x="17708400" y="1541520"/>
              <a:ext cx="158760" cy="99720"/>
              <a:chOff x="17708400" y="1541520"/>
              <a:chExt cx="158760" cy="99720"/>
            </a:xfrm>
          </p:grpSpPr>
          <p:sp>
            <p:nvSpPr>
              <p:cNvPr id="967" name=""/>
              <p:cNvSpPr/>
              <p:nvPr/>
            </p:nvSpPr>
            <p:spPr>
              <a:xfrm flipV="1" rot="10800000">
                <a:off x="17708400" y="1541160"/>
                <a:ext cx="158760" cy="99720"/>
              </a:xfrm>
              <a:custGeom>
                <a:avLst/>
                <a:gdLst/>
                <a:ahLst/>
                <a:rect l="l" t="t" r="r" b="b"/>
                <a:pathLst>
                  <a:path w="414" h="276">
                    <a:moveTo>
                      <a:pt x="414" y="137"/>
                    </a:moveTo>
                    <a:lnTo>
                      <a:pt x="397" y="86"/>
                    </a:lnTo>
                    <a:lnTo>
                      <a:pt x="353" y="40"/>
                    </a:lnTo>
                    <a:lnTo>
                      <a:pt x="286" y="10"/>
                    </a:lnTo>
                    <a:lnTo>
                      <a:pt x="207" y="0"/>
                    </a:lnTo>
                    <a:lnTo>
                      <a:pt x="128" y="10"/>
                    </a:lnTo>
                    <a:lnTo>
                      <a:pt x="61" y="40"/>
                    </a:lnTo>
                    <a:lnTo>
                      <a:pt x="17" y="86"/>
                    </a:lnTo>
                    <a:lnTo>
                      <a:pt x="0" y="137"/>
                    </a:lnTo>
                    <a:lnTo>
                      <a:pt x="17" y="190"/>
                    </a:lnTo>
                    <a:lnTo>
                      <a:pt x="61" y="234"/>
                    </a:lnTo>
                    <a:lnTo>
                      <a:pt x="128" y="264"/>
                    </a:lnTo>
                    <a:lnTo>
                      <a:pt x="207" y="276"/>
                    </a:lnTo>
                    <a:lnTo>
                      <a:pt x="286" y="264"/>
                    </a:lnTo>
                    <a:lnTo>
                      <a:pt x="353" y="234"/>
                    </a:lnTo>
                    <a:lnTo>
                      <a:pt x="397" y="190"/>
                    </a:lnTo>
                    <a:lnTo>
                      <a:pt x="414" y="137"/>
                    </a:lnTo>
                  </a:path>
                </a:pathLst>
              </a:custGeom>
              <a:noFill/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V="1" rot="10800000">
                <a:off x="17721720" y="1551960"/>
                <a:ext cx="129240" cy="784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336" y="99"/>
                    </a:moveTo>
                    <a:lnTo>
                      <a:pt x="332" y="80"/>
                    </a:lnTo>
                    <a:lnTo>
                      <a:pt x="319" y="57"/>
                    </a:lnTo>
                    <a:lnTo>
                      <a:pt x="292" y="35"/>
                    </a:lnTo>
                    <a:lnTo>
                      <a:pt x="256" y="15"/>
                    </a:lnTo>
                    <a:lnTo>
                      <a:pt x="213" y="4"/>
                    </a:lnTo>
                    <a:lnTo>
                      <a:pt x="168" y="0"/>
                    </a:lnTo>
                    <a:lnTo>
                      <a:pt x="122" y="4"/>
                    </a:lnTo>
                    <a:lnTo>
                      <a:pt x="80" y="15"/>
                    </a:lnTo>
                    <a:lnTo>
                      <a:pt x="44" y="35"/>
                    </a:lnTo>
                    <a:lnTo>
                      <a:pt x="16" y="57"/>
                    </a:lnTo>
                    <a:lnTo>
                      <a:pt x="3" y="80"/>
                    </a:lnTo>
                    <a:lnTo>
                      <a:pt x="0" y="99"/>
                    </a:lnTo>
                    <a:lnTo>
                      <a:pt x="3" y="120"/>
                    </a:lnTo>
                    <a:lnTo>
                      <a:pt x="16" y="142"/>
                    </a:lnTo>
                    <a:lnTo>
                      <a:pt x="44" y="165"/>
                    </a:lnTo>
                    <a:lnTo>
                      <a:pt x="80" y="184"/>
                    </a:lnTo>
                    <a:lnTo>
                      <a:pt x="122" y="195"/>
                    </a:lnTo>
                    <a:lnTo>
                      <a:pt x="168" y="199"/>
                    </a:lnTo>
                    <a:lnTo>
                      <a:pt x="213" y="195"/>
                    </a:lnTo>
                    <a:lnTo>
                      <a:pt x="256" y="184"/>
                    </a:lnTo>
                    <a:lnTo>
                      <a:pt x="292" y="165"/>
                    </a:lnTo>
                    <a:lnTo>
                      <a:pt x="319" y="142"/>
                    </a:lnTo>
                    <a:lnTo>
                      <a:pt x="332" y="120"/>
                    </a:lnTo>
                    <a:lnTo>
                      <a:pt x="336" y="99"/>
                    </a:lnTo>
                  </a:path>
                </a:pathLst>
              </a:custGeom>
              <a:noFill/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"/>
            <p:cNvSpPr/>
            <p:nvPr/>
          </p:nvSpPr>
          <p:spPr>
            <a:xfrm flipV="1">
              <a:off x="17786520" y="1517400"/>
              <a:ext cx="0" cy="5076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10800000">
              <a:off x="17773560" y="1512720"/>
              <a:ext cx="22320" cy="20880"/>
            </a:xfrm>
            <a:prstGeom prst="ellipse">
              <a:avLst/>
            </a:prstGeom>
            <a:solidFill>
              <a:srgbClr val="80808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flipV="1" rot="10800000">
              <a:off x="17778960" y="1577880"/>
              <a:ext cx="9720" cy="79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10800000">
              <a:off x="17698680" y="1506960"/>
              <a:ext cx="180360" cy="14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10" y="12820"/>
                  </a:moveTo>
                  <a:arcTo wR="10800" hR="10800" stAng="646637" swAng="1002700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10" y="12820"/>
                  </a:moveTo>
                  <a:arcTo wR="10800" hR="10800" stAng="646637" swAng="10027005"/>
                </a:path>
              </a:pathLst>
            </a:cu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 flipV="1" rot="10800000">
              <a:off x="17699040" y="1506600"/>
              <a:ext cx="179280" cy="87120"/>
            </a:xfrm>
            <a:custGeom>
              <a:avLst/>
              <a:gdLst/>
              <a:ahLst/>
              <a:rect l="l" t="t" r="r" b="b"/>
              <a:pathLst>
                <a:path w="244" h="116">
                  <a:moveTo>
                    <a:pt x="0" y="100"/>
                  </a:moveTo>
                  <a:lnTo>
                    <a:pt x="0" y="0"/>
                  </a:lnTo>
                  <a:lnTo>
                    <a:pt x="244" y="0"/>
                  </a:lnTo>
                  <a:lnTo>
                    <a:pt x="244" y="116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8037080" y="1501920"/>
            <a:ext cx="180360" cy="143640"/>
            <a:chOff x="18037080" y="1501920"/>
            <a:chExt cx="180360" cy="143640"/>
          </a:xfrm>
        </p:grpSpPr>
        <p:grpSp>
          <p:nvGrpSpPr>
            <p:cNvPr id="975" name=""/>
            <p:cNvGrpSpPr/>
            <p:nvPr/>
          </p:nvGrpSpPr>
          <p:grpSpPr>
            <a:xfrm>
              <a:off x="18046440" y="1536840"/>
              <a:ext cx="158760" cy="99720"/>
              <a:chOff x="18046440" y="1536840"/>
              <a:chExt cx="158760" cy="99720"/>
            </a:xfrm>
          </p:grpSpPr>
          <p:sp>
            <p:nvSpPr>
              <p:cNvPr id="976" name=""/>
              <p:cNvSpPr/>
              <p:nvPr/>
            </p:nvSpPr>
            <p:spPr>
              <a:xfrm flipV="1" rot="10800000">
                <a:off x="18046440" y="1536480"/>
                <a:ext cx="158760" cy="99720"/>
              </a:xfrm>
              <a:custGeom>
                <a:avLst/>
                <a:gdLst/>
                <a:ahLst/>
                <a:rect l="l" t="t" r="r" b="b"/>
                <a:pathLst>
                  <a:path w="414" h="276">
                    <a:moveTo>
                      <a:pt x="414" y="137"/>
                    </a:moveTo>
                    <a:lnTo>
                      <a:pt x="397" y="86"/>
                    </a:lnTo>
                    <a:lnTo>
                      <a:pt x="353" y="40"/>
                    </a:lnTo>
                    <a:lnTo>
                      <a:pt x="286" y="10"/>
                    </a:lnTo>
                    <a:lnTo>
                      <a:pt x="207" y="0"/>
                    </a:lnTo>
                    <a:lnTo>
                      <a:pt x="128" y="10"/>
                    </a:lnTo>
                    <a:lnTo>
                      <a:pt x="61" y="40"/>
                    </a:lnTo>
                    <a:lnTo>
                      <a:pt x="17" y="86"/>
                    </a:lnTo>
                    <a:lnTo>
                      <a:pt x="0" y="137"/>
                    </a:lnTo>
                    <a:lnTo>
                      <a:pt x="17" y="190"/>
                    </a:lnTo>
                    <a:lnTo>
                      <a:pt x="61" y="234"/>
                    </a:lnTo>
                    <a:lnTo>
                      <a:pt x="128" y="264"/>
                    </a:lnTo>
                    <a:lnTo>
                      <a:pt x="207" y="276"/>
                    </a:lnTo>
                    <a:lnTo>
                      <a:pt x="286" y="264"/>
                    </a:lnTo>
                    <a:lnTo>
                      <a:pt x="353" y="234"/>
                    </a:lnTo>
                    <a:lnTo>
                      <a:pt x="397" y="190"/>
                    </a:lnTo>
                    <a:lnTo>
                      <a:pt x="414" y="137"/>
                    </a:lnTo>
                  </a:path>
                </a:pathLst>
              </a:custGeom>
              <a:noFill/>
              <a:ln w="64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 rot="10800000">
                <a:off x="18059760" y="1547280"/>
                <a:ext cx="129240" cy="784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336" y="99"/>
                    </a:moveTo>
                    <a:lnTo>
                      <a:pt x="332" y="80"/>
                    </a:lnTo>
                    <a:lnTo>
                      <a:pt x="319" y="57"/>
                    </a:lnTo>
                    <a:lnTo>
                      <a:pt x="292" y="35"/>
                    </a:lnTo>
                    <a:lnTo>
                      <a:pt x="256" y="15"/>
                    </a:lnTo>
                    <a:lnTo>
                      <a:pt x="213" y="4"/>
                    </a:lnTo>
                    <a:lnTo>
                      <a:pt x="168" y="0"/>
                    </a:lnTo>
                    <a:lnTo>
                      <a:pt x="122" y="4"/>
                    </a:lnTo>
                    <a:lnTo>
                      <a:pt x="80" y="15"/>
                    </a:lnTo>
                    <a:lnTo>
                      <a:pt x="44" y="35"/>
                    </a:lnTo>
                    <a:lnTo>
                      <a:pt x="16" y="57"/>
                    </a:lnTo>
                    <a:lnTo>
                      <a:pt x="3" y="80"/>
                    </a:lnTo>
                    <a:lnTo>
                      <a:pt x="0" y="99"/>
                    </a:lnTo>
                    <a:lnTo>
                      <a:pt x="3" y="120"/>
                    </a:lnTo>
                    <a:lnTo>
                      <a:pt x="16" y="142"/>
                    </a:lnTo>
                    <a:lnTo>
                      <a:pt x="44" y="165"/>
                    </a:lnTo>
                    <a:lnTo>
                      <a:pt x="80" y="184"/>
                    </a:lnTo>
                    <a:lnTo>
                      <a:pt x="122" y="195"/>
                    </a:lnTo>
                    <a:lnTo>
                      <a:pt x="168" y="199"/>
                    </a:lnTo>
                    <a:lnTo>
                      <a:pt x="213" y="195"/>
                    </a:lnTo>
                    <a:lnTo>
                      <a:pt x="256" y="184"/>
                    </a:lnTo>
                    <a:lnTo>
                      <a:pt x="292" y="165"/>
                    </a:lnTo>
                    <a:lnTo>
                      <a:pt x="319" y="142"/>
                    </a:lnTo>
                    <a:lnTo>
                      <a:pt x="332" y="120"/>
                    </a:lnTo>
                    <a:lnTo>
                      <a:pt x="336" y="99"/>
                    </a:lnTo>
                  </a:path>
                </a:pathLst>
              </a:custGeom>
              <a:noFill/>
              <a:ln w="64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 flipV="1">
              <a:off x="18124560" y="1512720"/>
              <a:ext cx="0" cy="50760"/>
            </a:xfrm>
            <a:prstGeom prst="line">
              <a:avLst/>
            </a:prstGeom>
            <a:ln w="6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10800000">
              <a:off x="18111600" y="1508040"/>
              <a:ext cx="22320" cy="20880"/>
            </a:xfrm>
            <a:prstGeom prst="ellipse">
              <a:avLst/>
            </a:prstGeom>
            <a:solidFill>
              <a:srgbClr val="808080"/>
            </a:solidFill>
            <a:ln w="6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 flipV="1" rot="10800000">
              <a:off x="18117000" y="1573200"/>
              <a:ext cx="9720" cy="79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 flipV="1" rot="10800000">
              <a:off x="18036720" y="1502280"/>
              <a:ext cx="180360" cy="14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10" y="12820"/>
                  </a:moveTo>
                  <a:arcTo wR="10800" hR="10800" stAng="646637" swAng="1002700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10" y="12820"/>
                  </a:moveTo>
                  <a:arcTo wR="10800" hR="10800" stAng="646637" swAng="10027005"/>
                </a:path>
              </a:pathLst>
            </a:custGeom>
            <a:noFill/>
            <a:ln w="6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 flipV="1" rot="10800000">
              <a:off x="18037080" y="1501920"/>
              <a:ext cx="179280" cy="87120"/>
            </a:xfrm>
            <a:custGeom>
              <a:avLst/>
              <a:gdLst/>
              <a:ahLst/>
              <a:rect l="l" t="t" r="r" b="b"/>
              <a:pathLst>
                <a:path w="244" h="116">
                  <a:moveTo>
                    <a:pt x="0" y="100"/>
                  </a:moveTo>
                  <a:lnTo>
                    <a:pt x="0" y="0"/>
                  </a:lnTo>
                  <a:lnTo>
                    <a:pt x="244" y="0"/>
                  </a:lnTo>
                  <a:lnTo>
                    <a:pt x="244" y="116"/>
                  </a:lnTo>
                </a:path>
              </a:pathLst>
            </a:custGeom>
            <a:noFill/>
            <a:ln w="64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8418320" y="1501920"/>
            <a:ext cx="180360" cy="143640"/>
            <a:chOff x="18418320" y="1501920"/>
            <a:chExt cx="180360" cy="143640"/>
          </a:xfrm>
        </p:grpSpPr>
        <p:grpSp>
          <p:nvGrpSpPr>
            <p:cNvPr id="984" name=""/>
            <p:cNvGrpSpPr/>
            <p:nvPr/>
          </p:nvGrpSpPr>
          <p:grpSpPr>
            <a:xfrm>
              <a:off x="18427680" y="1536840"/>
              <a:ext cx="158760" cy="99720"/>
              <a:chOff x="18427680" y="1536840"/>
              <a:chExt cx="158760" cy="99720"/>
            </a:xfrm>
          </p:grpSpPr>
          <p:sp>
            <p:nvSpPr>
              <p:cNvPr id="985" name=""/>
              <p:cNvSpPr/>
              <p:nvPr/>
            </p:nvSpPr>
            <p:spPr>
              <a:xfrm flipV="1" rot="10800000">
                <a:off x="18427680" y="1536480"/>
                <a:ext cx="158760" cy="99720"/>
              </a:xfrm>
              <a:custGeom>
                <a:avLst/>
                <a:gdLst/>
                <a:ahLst/>
                <a:rect l="l" t="t" r="r" b="b"/>
                <a:pathLst>
                  <a:path w="414" h="276">
                    <a:moveTo>
                      <a:pt x="414" y="137"/>
                    </a:moveTo>
                    <a:lnTo>
                      <a:pt x="397" y="86"/>
                    </a:lnTo>
                    <a:lnTo>
                      <a:pt x="353" y="40"/>
                    </a:lnTo>
                    <a:lnTo>
                      <a:pt x="286" y="10"/>
                    </a:lnTo>
                    <a:lnTo>
                      <a:pt x="207" y="0"/>
                    </a:lnTo>
                    <a:lnTo>
                      <a:pt x="128" y="10"/>
                    </a:lnTo>
                    <a:lnTo>
                      <a:pt x="61" y="40"/>
                    </a:lnTo>
                    <a:lnTo>
                      <a:pt x="17" y="86"/>
                    </a:lnTo>
                    <a:lnTo>
                      <a:pt x="0" y="137"/>
                    </a:lnTo>
                    <a:lnTo>
                      <a:pt x="17" y="190"/>
                    </a:lnTo>
                    <a:lnTo>
                      <a:pt x="61" y="234"/>
                    </a:lnTo>
                    <a:lnTo>
                      <a:pt x="128" y="264"/>
                    </a:lnTo>
                    <a:lnTo>
                      <a:pt x="207" y="276"/>
                    </a:lnTo>
                    <a:lnTo>
                      <a:pt x="286" y="264"/>
                    </a:lnTo>
                    <a:lnTo>
                      <a:pt x="353" y="234"/>
                    </a:lnTo>
                    <a:lnTo>
                      <a:pt x="397" y="190"/>
                    </a:lnTo>
                    <a:lnTo>
                      <a:pt x="414" y="137"/>
                    </a:lnTo>
                  </a:path>
                </a:pathLst>
              </a:custGeom>
              <a:noFill/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 rot="10800000">
                <a:off x="18441000" y="1547280"/>
                <a:ext cx="129240" cy="784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336" y="99"/>
                    </a:moveTo>
                    <a:lnTo>
                      <a:pt x="332" y="80"/>
                    </a:lnTo>
                    <a:lnTo>
                      <a:pt x="319" y="57"/>
                    </a:lnTo>
                    <a:lnTo>
                      <a:pt x="292" y="35"/>
                    </a:lnTo>
                    <a:lnTo>
                      <a:pt x="256" y="15"/>
                    </a:lnTo>
                    <a:lnTo>
                      <a:pt x="213" y="4"/>
                    </a:lnTo>
                    <a:lnTo>
                      <a:pt x="168" y="0"/>
                    </a:lnTo>
                    <a:lnTo>
                      <a:pt x="122" y="4"/>
                    </a:lnTo>
                    <a:lnTo>
                      <a:pt x="80" y="15"/>
                    </a:lnTo>
                    <a:lnTo>
                      <a:pt x="44" y="35"/>
                    </a:lnTo>
                    <a:lnTo>
                      <a:pt x="16" y="57"/>
                    </a:lnTo>
                    <a:lnTo>
                      <a:pt x="3" y="80"/>
                    </a:lnTo>
                    <a:lnTo>
                      <a:pt x="0" y="99"/>
                    </a:lnTo>
                    <a:lnTo>
                      <a:pt x="3" y="120"/>
                    </a:lnTo>
                    <a:lnTo>
                      <a:pt x="16" y="142"/>
                    </a:lnTo>
                    <a:lnTo>
                      <a:pt x="44" y="165"/>
                    </a:lnTo>
                    <a:lnTo>
                      <a:pt x="80" y="184"/>
                    </a:lnTo>
                    <a:lnTo>
                      <a:pt x="122" y="195"/>
                    </a:lnTo>
                    <a:lnTo>
                      <a:pt x="168" y="199"/>
                    </a:lnTo>
                    <a:lnTo>
                      <a:pt x="213" y="195"/>
                    </a:lnTo>
                    <a:lnTo>
                      <a:pt x="256" y="184"/>
                    </a:lnTo>
                    <a:lnTo>
                      <a:pt x="292" y="165"/>
                    </a:lnTo>
                    <a:lnTo>
                      <a:pt x="319" y="142"/>
                    </a:lnTo>
                    <a:lnTo>
                      <a:pt x="332" y="120"/>
                    </a:lnTo>
                    <a:lnTo>
                      <a:pt x="336" y="99"/>
                    </a:lnTo>
                  </a:path>
                </a:pathLst>
              </a:custGeom>
              <a:noFill/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 flipV="1">
              <a:off x="18505800" y="1512720"/>
              <a:ext cx="0" cy="5076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0800000">
              <a:off x="18492840" y="1508040"/>
              <a:ext cx="22320" cy="20880"/>
            </a:xfrm>
            <a:prstGeom prst="ellipse">
              <a:avLst/>
            </a:prstGeom>
            <a:solidFill>
              <a:srgbClr val="80808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 rot="10800000">
              <a:off x="18498240" y="1573200"/>
              <a:ext cx="9720" cy="79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flipV="1" rot="10800000">
              <a:off x="18417960" y="1502280"/>
              <a:ext cx="180360" cy="14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10" y="12820"/>
                  </a:moveTo>
                  <a:arcTo wR="10800" hR="10800" stAng="646637" swAng="1002700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10" y="12820"/>
                  </a:moveTo>
                  <a:arcTo wR="10800" hR="10800" stAng="646637" swAng="10027005"/>
                </a:path>
              </a:pathLst>
            </a:cu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flipV="1" rot="10800000">
              <a:off x="18418320" y="1501920"/>
              <a:ext cx="179280" cy="87120"/>
            </a:xfrm>
            <a:custGeom>
              <a:avLst/>
              <a:gdLst/>
              <a:ahLst/>
              <a:rect l="l" t="t" r="r" b="b"/>
              <a:pathLst>
                <a:path w="244" h="116">
                  <a:moveTo>
                    <a:pt x="0" y="100"/>
                  </a:moveTo>
                  <a:lnTo>
                    <a:pt x="0" y="0"/>
                  </a:lnTo>
                  <a:lnTo>
                    <a:pt x="244" y="0"/>
                  </a:lnTo>
                  <a:lnTo>
                    <a:pt x="244" y="116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19518480" y="1515960"/>
            <a:ext cx="180360" cy="143640"/>
            <a:chOff x="19518480" y="1515960"/>
            <a:chExt cx="180360" cy="143640"/>
          </a:xfrm>
        </p:grpSpPr>
        <p:grpSp>
          <p:nvGrpSpPr>
            <p:cNvPr id="993" name=""/>
            <p:cNvGrpSpPr/>
            <p:nvPr/>
          </p:nvGrpSpPr>
          <p:grpSpPr>
            <a:xfrm>
              <a:off x="19527840" y="1550880"/>
              <a:ext cx="158760" cy="99720"/>
              <a:chOff x="19527840" y="1550880"/>
              <a:chExt cx="158760" cy="99720"/>
            </a:xfrm>
          </p:grpSpPr>
          <p:sp>
            <p:nvSpPr>
              <p:cNvPr id="994" name=""/>
              <p:cNvSpPr/>
              <p:nvPr/>
            </p:nvSpPr>
            <p:spPr>
              <a:xfrm flipV="1" rot="10800000">
                <a:off x="19527840" y="1550520"/>
                <a:ext cx="158760" cy="99720"/>
              </a:xfrm>
              <a:custGeom>
                <a:avLst/>
                <a:gdLst/>
                <a:ahLst/>
                <a:rect l="l" t="t" r="r" b="b"/>
                <a:pathLst>
                  <a:path w="414" h="276">
                    <a:moveTo>
                      <a:pt x="414" y="137"/>
                    </a:moveTo>
                    <a:lnTo>
                      <a:pt x="397" y="86"/>
                    </a:lnTo>
                    <a:lnTo>
                      <a:pt x="353" y="40"/>
                    </a:lnTo>
                    <a:lnTo>
                      <a:pt x="286" y="10"/>
                    </a:lnTo>
                    <a:lnTo>
                      <a:pt x="207" y="0"/>
                    </a:lnTo>
                    <a:lnTo>
                      <a:pt x="128" y="10"/>
                    </a:lnTo>
                    <a:lnTo>
                      <a:pt x="61" y="40"/>
                    </a:lnTo>
                    <a:lnTo>
                      <a:pt x="17" y="86"/>
                    </a:lnTo>
                    <a:lnTo>
                      <a:pt x="0" y="137"/>
                    </a:lnTo>
                    <a:lnTo>
                      <a:pt x="17" y="190"/>
                    </a:lnTo>
                    <a:lnTo>
                      <a:pt x="61" y="234"/>
                    </a:lnTo>
                    <a:lnTo>
                      <a:pt x="128" y="264"/>
                    </a:lnTo>
                    <a:lnTo>
                      <a:pt x="207" y="276"/>
                    </a:lnTo>
                    <a:lnTo>
                      <a:pt x="286" y="264"/>
                    </a:lnTo>
                    <a:lnTo>
                      <a:pt x="353" y="234"/>
                    </a:lnTo>
                    <a:lnTo>
                      <a:pt x="397" y="190"/>
                    </a:lnTo>
                    <a:lnTo>
                      <a:pt x="414" y="137"/>
                    </a:lnTo>
                  </a:path>
                </a:pathLst>
              </a:custGeom>
              <a:noFill/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V="1" rot="10800000">
                <a:off x="19541160" y="1561320"/>
                <a:ext cx="129240" cy="784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336" y="99"/>
                    </a:moveTo>
                    <a:lnTo>
                      <a:pt x="332" y="80"/>
                    </a:lnTo>
                    <a:lnTo>
                      <a:pt x="319" y="57"/>
                    </a:lnTo>
                    <a:lnTo>
                      <a:pt x="292" y="35"/>
                    </a:lnTo>
                    <a:lnTo>
                      <a:pt x="256" y="15"/>
                    </a:lnTo>
                    <a:lnTo>
                      <a:pt x="213" y="4"/>
                    </a:lnTo>
                    <a:lnTo>
                      <a:pt x="168" y="0"/>
                    </a:lnTo>
                    <a:lnTo>
                      <a:pt x="122" y="4"/>
                    </a:lnTo>
                    <a:lnTo>
                      <a:pt x="80" y="15"/>
                    </a:lnTo>
                    <a:lnTo>
                      <a:pt x="44" y="35"/>
                    </a:lnTo>
                    <a:lnTo>
                      <a:pt x="16" y="57"/>
                    </a:lnTo>
                    <a:lnTo>
                      <a:pt x="3" y="80"/>
                    </a:lnTo>
                    <a:lnTo>
                      <a:pt x="0" y="99"/>
                    </a:lnTo>
                    <a:lnTo>
                      <a:pt x="3" y="120"/>
                    </a:lnTo>
                    <a:lnTo>
                      <a:pt x="16" y="142"/>
                    </a:lnTo>
                    <a:lnTo>
                      <a:pt x="44" y="165"/>
                    </a:lnTo>
                    <a:lnTo>
                      <a:pt x="80" y="184"/>
                    </a:lnTo>
                    <a:lnTo>
                      <a:pt x="122" y="195"/>
                    </a:lnTo>
                    <a:lnTo>
                      <a:pt x="168" y="199"/>
                    </a:lnTo>
                    <a:lnTo>
                      <a:pt x="213" y="195"/>
                    </a:lnTo>
                    <a:lnTo>
                      <a:pt x="256" y="184"/>
                    </a:lnTo>
                    <a:lnTo>
                      <a:pt x="292" y="165"/>
                    </a:lnTo>
                    <a:lnTo>
                      <a:pt x="319" y="142"/>
                    </a:lnTo>
                    <a:lnTo>
                      <a:pt x="332" y="120"/>
                    </a:lnTo>
                    <a:lnTo>
                      <a:pt x="336" y="99"/>
                    </a:lnTo>
                  </a:path>
                </a:pathLst>
              </a:custGeom>
              <a:noFill/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 flipV="1">
              <a:off x="19605960" y="1526760"/>
              <a:ext cx="0" cy="5076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10800000">
              <a:off x="19593000" y="1522080"/>
              <a:ext cx="22320" cy="20880"/>
            </a:xfrm>
            <a:prstGeom prst="ellipse">
              <a:avLst/>
            </a:prstGeom>
            <a:solidFill>
              <a:srgbClr val="80808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 flipV="1" rot="10800000">
              <a:off x="19598400" y="1587240"/>
              <a:ext cx="9720" cy="79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 flipV="1" rot="10800000">
              <a:off x="19518120" y="1516320"/>
              <a:ext cx="180360" cy="14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10" y="12820"/>
                  </a:moveTo>
                  <a:arcTo wR="10800" hR="10800" stAng="646637" swAng="1002700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10" y="12820"/>
                  </a:moveTo>
                  <a:arcTo wR="10800" hR="10800" stAng="646637" swAng="10027005"/>
                </a:path>
              </a:pathLst>
            </a:cu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 rot="10800000">
              <a:off x="19518480" y="1515960"/>
              <a:ext cx="179280" cy="87120"/>
            </a:xfrm>
            <a:custGeom>
              <a:avLst/>
              <a:gdLst/>
              <a:ahLst/>
              <a:rect l="l" t="t" r="r" b="b"/>
              <a:pathLst>
                <a:path w="244" h="116">
                  <a:moveTo>
                    <a:pt x="0" y="100"/>
                  </a:moveTo>
                  <a:lnTo>
                    <a:pt x="0" y="0"/>
                  </a:lnTo>
                  <a:lnTo>
                    <a:pt x="244" y="0"/>
                  </a:lnTo>
                  <a:lnTo>
                    <a:pt x="244" y="116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17629200" y="2975040"/>
            <a:ext cx="216000" cy="718920"/>
          </a:xfrm>
          <a:prstGeom prst="rect">
            <a:avLst/>
          </a:prstGeom>
          <a:solidFill>
            <a:srgbClr val="ffe291"/>
          </a:solidFill>
          <a:ln w="6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7662680" y="3084480"/>
            <a:ext cx="144360" cy="179280"/>
          </a:xfrm>
          <a:prstGeom prst="rect">
            <a:avLst/>
          </a:prstGeom>
          <a:solidFill>
            <a:srgbClr val="fff4d5"/>
          </a:solidFill>
          <a:ln w="6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7662680" y="3403440"/>
            <a:ext cx="144360" cy="179640"/>
          </a:xfrm>
          <a:prstGeom prst="rect">
            <a:avLst/>
          </a:prstGeom>
          <a:solidFill>
            <a:srgbClr val="fff4d5"/>
          </a:solidFill>
          <a:ln w="6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8205840" y="6851160"/>
            <a:ext cx="280800" cy="2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0557000" y="5954760"/>
            <a:ext cx="0" cy="109692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280360" y="7056360"/>
            <a:ext cx="22860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0558440" y="6140520"/>
            <a:ext cx="103712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3479480" y="2868120"/>
            <a:ext cx="541440" cy="74520"/>
            <a:chOff x="13479480" y="2868120"/>
            <a:chExt cx="541440" cy="74520"/>
          </a:xfrm>
        </p:grpSpPr>
        <p:sp>
          <p:nvSpPr>
            <p:cNvPr id="1009" name=""/>
            <p:cNvSpPr/>
            <p:nvPr/>
          </p:nvSpPr>
          <p:spPr>
            <a:xfrm rot="16200000">
              <a:off x="13712040" y="2635560"/>
              <a:ext cx="74520" cy="539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3480920" y="2906280"/>
              <a:ext cx="54000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4932080" y="2866680"/>
            <a:ext cx="721800" cy="74520"/>
            <a:chOff x="14932080" y="2866680"/>
            <a:chExt cx="721800" cy="74520"/>
          </a:xfrm>
        </p:grpSpPr>
        <p:sp>
          <p:nvSpPr>
            <p:cNvPr id="1012" name=""/>
            <p:cNvSpPr/>
            <p:nvPr/>
          </p:nvSpPr>
          <p:spPr>
            <a:xfrm rot="16200000">
              <a:off x="15254280" y="2544480"/>
              <a:ext cx="74520" cy="718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4934960" y="2903400"/>
              <a:ext cx="71892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9648720" y="2868480"/>
            <a:ext cx="719280" cy="74880"/>
            <a:chOff x="9648720" y="2868480"/>
            <a:chExt cx="719280" cy="74880"/>
          </a:xfrm>
        </p:grpSpPr>
        <p:sp>
          <p:nvSpPr>
            <p:cNvPr id="1015" name=""/>
            <p:cNvSpPr/>
            <p:nvPr/>
          </p:nvSpPr>
          <p:spPr>
            <a:xfrm rot="16200000">
              <a:off x="9971640" y="2547000"/>
              <a:ext cx="74880" cy="7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9648720" y="2908440"/>
              <a:ext cx="71928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3873600" y="4443120"/>
            <a:ext cx="1081080" cy="74520"/>
            <a:chOff x="3873600" y="4443120"/>
            <a:chExt cx="1081080" cy="74520"/>
          </a:xfrm>
        </p:grpSpPr>
        <p:sp>
          <p:nvSpPr>
            <p:cNvPr id="1018" name=""/>
            <p:cNvSpPr/>
            <p:nvPr/>
          </p:nvSpPr>
          <p:spPr>
            <a:xfrm rot="16200000">
              <a:off x="4377600" y="3940560"/>
              <a:ext cx="74520" cy="1079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873600" y="4479840"/>
              <a:ext cx="1079640" cy="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4211640" y="2822040"/>
            <a:ext cx="287280" cy="181080"/>
            <a:chOff x="4211640" y="2822040"/>
            <a:chExt cx="287280" cy="181080"/>
          </a:xfrm>
        </p:grpSpPr>
        <p:sp>
          <p:nvSpPr>
            <p:cNvPr id="1021" name=""/>
            <p:cNvSpPr/>
            <p:nvPr/>
          </p:nvSpPr>
          <p:spPr>
            <a:xfrm>
              <a:off x="4211640" y="2822400"/>
              <a:ext cx="287280" cy="179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4216320" y="2822040"/>
              <a:ext cx="281160" cy="1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214880" y="2823840"/>
              <a:ext cx="282600" cy="174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7386480" y="17164080"/>
            <a:ext cx="1204920" cy="220680"/>
          </a:xfrm>
          <a:custGeom>
            <a:avLst/>
            <a:gdLst/>
            <a:ahLst/>
            <a:rect l="l" t="t" r="r" b="b"/>
            <a:pathLst>
              <a:path w="759" h="139">
                <a:moveTo>
                  <a:pt x="35" y="119"/>
                </a:moveTo>
                <a:cubicBezTo>
                  <a:pt x="0" y="128"/>
                  <a:pt x="15" y="116"/>
                  <a:pt x="35" y="110"/>
                </a:cubicBezTo>
                <a:cubicBezTo>
                  <a:pt x="38" y="109"/>
                  <a:pt x="41" y="108"/>
                  <a:pt x="44" y="107"/>
                </a:cubicBezTo>
                <a:cubicBezTo>
                  <a:pt x="59" y="117"/>
                  <a:pt x="61" y="108"/>
                  <a:pt x="71" y="95"/>
                </a:cubicBezTo>
                <a:cubicBezTo>
                  <a:pt x="76" y="100"/>
                  <a:pt x="88" y="108"/>
                  <a:pt x="83" y="113"/>
                </a:cubicBezTo>
                <a:cubicBezTo>
                  <a:pt x="79" y="117"/>
                  <a:pt x="73" y="115"/>
                  <a:pt x="68" y="116"/>
                </a:cubicBezTo>
                <a:cubicBezTo>
                  <a:pt x="65" y="117"/>
                  <a:pt x="59" y="122"/>
                  <a:pt x="59" y="119"/>
                </a:cubicBezTo>
                <a:cubicBezTo>
                  <a:pt x="59" y="115"/>
                  <a:pt x="65" y="114"/>
                  <a:pt x="68" y="113"/>
                </a:cubicBezTo>
                <a:cubicBezTo>
                  <a:pt x="72" y="111"/>
                  <a:pt x="76" y="111"/>
                  <a:pt x="80" y="110"/>
                </a:cubicBezTo>
                <a:cubicBezTo>
                  <a:pt x="82" y="107"/>
                  <a:pt x="82" y="102"/>
                  <a:pt x="86" y="101"/>
                </a:cubicBezTo>
                <a:cubicBezTo>
                  <a:pt x="97" y="99"/>
                  <a:pt x="94" y="112"/>
                  <a:pt x="98" y="116"/>
                </a:cubicBezTo>
                <a:cubicBezTo>
                  <a:pt x="100" y="118"/>
                  <a:pt x="110" y="119"/>
                  <a:pt x="107" y="119"/>
                </a:cubicBezTo>
                <a:cubicBezTo>
                  <a:pt x="101" y="119"/>
                  <a:pt x="95" y="117"/>
                  <a:pt x="89" y="116"/>
                </a:cubicBezTo>
                <a:cubicBezTo>
                  <a:pt x="101" y="108"/>
                  <a:pt x="111" y="111"/>
                  <a:pt x="119" y="98"/>
                </a:cubicBezTo>
                <a:cubicBezTo>
                  <a:pt x="103" y="93"/>
                  <a:pt x="102" y="108"/>
                  <a:pt x="92" y="92"/>
                </a:cubicBezTo>
                <a:cubicBezTo>
                  <a:pt x="106" y="88"/>
                  <a:pt x="111" y="92"/>
                  <a:pt x="125" y="95"/>
                </a:cubicBezTo>
                <a:cubicBezTo>
                  <a:pt x="131" y="78"/>
                  <a:pt x="128" y="93"/>
                  <a:pt x="107" y="83"/>
                </a:cubicBezTo>
                <a:cubicBezTo>
                  <a:pt x="113" y="81"/>
                  <a:pt x="120" y="70"/>
                  <a:pt x="125" y="74"/>
                </a:cubicBezTo>
                <a:cubicBezTo>
                  <a:pt x="129" y="77"/>
                  <a:pt x="124" y="85"/>
                  <a:pt x="128" y="89"/>
                </a:cubicBezTo>
                <a:cubicBezTo>
                  <a:pt x="135" y="96"/>
                  <a:pt x="155" y="98"/>
                  <a:pt x="155" y="98"/>
                </a:cubicBezTo>
                <a:cubicBezTo>
                  <a:pt x="145" y="113"/>
                  <a:pt x="129" y="108"/>
                  <a:pt x="113" y="116"/>
                </a:cubicBezTo>
                <a:cubicBezTo>
                  <a:pt x="103" y="130"/>
                  <a:pt x="97" y="123"/>
                  <a:pt x="83" y="116"/>
                </a:cubicBezTo>
                <a:cubicBezTo>
                  <a:pt x="63" y="123"/>
                  <a:pt x="88" y="123"/>
                  <a:pt x="95" y="125"/>
                </a:cubicBezTo>
                <a:cubicBezTo>
                  <a:pt x="124" y="122"/>
                  <a:pt x="139" y="119"/>
                  <a:pt x="164" y="107"/>
                </a:cubicBezTo>
                <a:cubicBezTo>
                  <a:pt x="157" y="85"/>
                  <a:pt x="160" y="114"/>
                  <a:pt x="146" y="92"/>
                </a:cubicBezTo>
                <a:cubicBezTo>
                  <a:pt x="157" y="88"/>
                  <a:pt x="169" y="91"/>
                  <a:pt x="179" y="86"/>
                </a:cubicBezTo>
                <a:cubicBezTo>
                  <a:pt x="182" y="85"/>
                  <a:pt x="185" y="78"/>
                  <a:pt x="182" y="77"/>
                </a:cubicBezTo>
                <a:cubicBezTo>
                  <a:pt x="175" y="75"/>
                  <a:pt x="168" y="79"/>
                  <a:pt x="161" y="80"/>
                </a:cubicBezTo>
                <a:cubicBezTo>
                  <a:pt x="158" y="79"/>
                  <a:pt x="155" y="78"/>
                  <a:pt x="152" y="77"/>
                </a:cubicBezTo>
                <a:cubicBezTo>
                  <a:pt x="148" y="76"/>
                  <a:pt x="154" y="86"/>
                  <a:pt x="158" y="89"/>
                </a:cubicBezTo>
                <a:cubicBezTo>
                  <a:pt x="163" y="93"/>
                  <a:pt x="170" y="93"/>
                  <a:pt x="176" y="95"/>
                </a:cubicBezTo>
                <a:cubicBezTo>
                  <a:pt x="180" y="107"/>
                  <a:pt x="187" y="105"/>
                  <a:pt x="194" y="116"/>
                </a:cubicBezTo>
                <a:cubicBezTo>
                  <a:pt x="181" y="120"/>
                  <a:pt x="176" y="113"/>
                  <a:pt x="164" y="107"/>
                </a:cubicBezTo>
                <a:cubicBezTo>
                  <a:pt x="185" y="106"/>
                  <a:pt x="207" y="110"/>
                  <a:pt x="227" y="104"/>
                </a:cubicBezTo>
                <a:cubicBezTo>
                  <a:pt x="232" y="103"/>
                  <a:pt x="228" y="92"/>
                  <a:pt x="224" y="89"/>
                </a:cubicBezTo>
                <a:cubicBezTo>
                  <a:pt x="221" y="86"/>
                  <a:pt x="216" y="91"/>
                  <a:pt x="212" y="92"/>
                </a:cubicBezTo>
                <a:cubicBezTo>
                  <a:pt x="209" y="94"/>
                  <a:pt x="178" y="115"/>
                  <a:pt x="203" y="107"/>
                </a:cubicBezTo>
                <a:cubicBezTo>
                  <a:pt x="217" y="116"/>
                  <a:pt x="259" y="121"/>
                  <a:pt x="236" y="98"/>
                </a:cubicBezTo>
                <a:cubicBezTo>
                  <a:pt x="208" y="103"/>
                  <a:pt x="217" y="94"/>
                  <a:pt x="209" y="71"/>
                </a:cubicBezTo>
                <a:cubicBezTo>
                  <a:pt x="195" y="76"/>
                  <a:pt x="195" y="83"/>
                  <a:pt x="182" y="74"/>
                </a:cubicBezTo>
                <a:cubicBezTo>
                  <a:pt x="177" y="59"/>
                  <a:pt x="187" y="62"/>
                  <a:pt x="200" y="59"/>
                </a:cubicBezTo>
                <a:cubicBezTo>
                  <a:pt x="209" y="33"/>
                  <a:pt x="161" y="65"/>
                  <a:pt x="188" y="56"/>
                </a:cubicBezTo>
                <a:cubicBezTo>
                  <a:pt x="204" y="59"/>
                  <a:pt x="211" y="61"/>
                  <a:pt x="221" y="47"/>
                </a:cubicBezTo>
                <a:cubicBezTo>
                  <a:pt x="232" y="79"/>
                  <a:pt x="211" y="87"/>
                  <a:pt x="254" y="77"/>
                </a:cubicBezTo>
                <a:cubicBezTo>
                  <a:pt x="236" y="73"/>
                  <a:pt x="234" y="64"/>
                  <a:pt x="221" y="77"/>
                </a:cubicBezTo>
                <a:cubicBezTo>
                  <a:pt x="225" y="78"/>
                  <a:pt x="278" y="86"/>
                  <a:pt x="281" y="89"/>
                </a:cubicBezTo>
                <a:cubicBezTo>
                  <a:pt x="284" y="92"/>
                  <a:pt x="278" y="98"/>
                  <a:pt x="275" y="101"/>
                </a:cubicBezTo>
                <a:cubicBezTo>
                  <a:pt x="267" y="109"/>
                  <a:pt x="246" y="116"/>
                  <a:pt x="236" y="119"/>
                </a:cubicBezTo>
                <a:cubicBezTo>
                  <a:pt x="200" y="95"/>
                  <a:pt x="236" y="111"/>
                  <a:pt x="203" y="119"/>
                </a:cubicBezTo>
                <a:cubicBezTo>
                  <a:pt x="214" y="102"/>
                  <a:pt x="204" y="111"/>
                  <a:pt x="233" y="116"/>
                </a:cubicBezTo>
                <a:cubicBezTo>
                  <a:pt x="245" y="118"/>
                  <a:pt x="269" y="122"/>
                  <a:pt x="269" y="122"/>
                </a:cubicBezTo>
                <a:cubicBezTo>
                  <a:pt x="286" y="116"/>
                  <a:pt x="284" y="107"/>
                  <a:pt x="290" y="92"/>
                </a:cubicBezTo>
                <a:cubicBezTo>
                  <a:pt x="291" y="89"/>
                  <a:pt x="299" y="86"/>
                  <a:pt x="296" y="83"/>
                </a:cubicBezTo>
                <a:cubicBezTo>
                  <a:pt x="293" y="80"/>
                  <a:pt x="290" y="87"/>
                  <a:pt x="287" y="89"/>
                </a:cubicBezTo>
                <a:cubicBezTo>
                  <a:pt x="286" y="93"/>
                  <a:pt x="281" y="98"/>
                  <a:pt x="284" y="101"/>
                </a:cubicBezTo>
                <a:cubicBezTo>
                  <a:pt x="287" y="104"/>
                  <a:pt x="292" y="98"/>
                  <a:pt x="296" y="98"/>
                </a:cubicBezTo>
                <a:cubicBezTo>
                  <a:pt x="306" y="98"/>
                  <a:pt x="316" y="100"/>
                  <a:pt x="326" y="101"/>
                </a:cubicBezTo>
                <a:cubicBezTo>
                  <a:pt x="328" y="105"/>
                  <a:pt x="334" y="109"/>
                  <a:pt x="332" y="113"/>
                </a:cubicBezTo>
                <a:cubicBezTo>
                  <a:pt x="330" y="116"/>
                  <a:pt x="323" y="112"/>
                  <a:pt x="320" y="110"/>
                </a:cubicBezTo>
                <a:cubicBezTo>
                  <a:pt x="314" y="106"/>
                  <a:pt x="309" y="87"/>
                  <a:pt x="308" y="83"/>
                </a:cubicBezTo>
                <a:cubicBezTo>
                  <a:pt x="305" y="73"/>
                  <a:pt x="328" y="87"/>
                  <a:pt x="338" y="89"/>
                </a:cubicBezTo>
                <a:cubicBezTo>
                  <a:pt x="347" y="90"/>
                  <a:pt x="356" y="91"/>
                  <a:pt x="365" y="92"/>
                </a:cubicBezTo>
                <a:cubicBezTo>
                  <a:pt x="372" y="113"/>
                  <a:pt x="377" y="108"/>
                  <a:pt x="362" y="113"/>
                </a:cubicBezTo>
                <a:cubicBezTo>
                  <a:pt x="319" y="102"/>
                  <a:pt x="352" y="99"/>
                  <a:pt x="374" y="77"/>
                </a:cubicBezTo>
                <a:cubicBezTo>
                  <a:pt x="364" y="48"/>
                  <a:pt x="356" y="94"/>
                  <a:pt x="356" y="98"/>
                </a:cubicBezTo>
                <a:cubicBezTo>
                  <a:pt x="366" y="128"/>
                  <a:pt x="355" y="125"/>
                  <a:pt x="326" y="122"/>
                </a:cubicBezTo>
                <a:cubicBezTo>
                  <a:pt x="313" y="113"/>
                  <a:pt x="313" y="107"/>
                  <a:pt x="317" y="92"/>
                </a:cubicBezTo>
                <a:cubicBezTo>
                  <a:pt x="313" y="76"/>
                  <a:pt x="312" y="72"/>
                  <a:pt x="296" y="68"/>
                </a:cubicBezTo>
                <a:cubicBezTo>
                  <a:pt x="279" y="72"/>
                  <a:pt x="275" y="84"/>
                  <a:pt x="266" y="65"/>
                </a:cubicBezTo>
                <a:cubicBezTo>
                  <a:pt x="283" y="43"/>
                  <a:pt x="282" y="61"/>
                  <a:pt x="305" y="53"/>
                </a:cubicBezTo>
                <a:cubicBezTo>
                  <a:pt x="314" y="27"/>
                  <a:pt x="294" y="73"/>
                  <a:pt x="287" y="80"/>
                </a:cubicBezTo>
                <a:cubicBezTo>
                  <a:pt x="300" y="89"/>
                  <a:pt x="311" y="82"/>
                  <a:pt x="326" y="77"/>
                </a:cubicBezTo>
                <a:cubicBezTo>
                  <a:pt x="332" y="65"/>
                  <a:pt x="330" y="54"/>
                  <a:pt x="344" y="59"/>
                </a:cubicBezTo>
                <a:cubicBezTo>
                  <a:pt x="347" y="63"/>
                  <a:pt x="351" y="67"/>
                  <a:pt x="353" y="71"/>
                </a:cubicBezTo>
                <a:cubicBezTo>
                  <a:pt x="355" y="74"/>
                  <a:pt x="353" y="79"/>
                  <a:pt x="356" y="80"/>
                </a:cubicBezTo>
                <a:cubicBezTo>
                  <a:pt x="361" y="81"/>
                  <a:pt x="404" y="75"/>
                  <a:pt x="413" y="74"/>
                </a:cubicBezTo>
                <a:cubicBezTo>
                  <a:pt x="416" y="72"/>
                  <a:pt x="418" y="68"/>
                  <a:pt x="422" y="68"/>
                </a:cubicBezTo>
                <a:cubicBezTo>
                  <a:pt x="431" y="69"/>
                  <a:pt x="449" y="77"/>
                  <a:pt x="449" y="77"/>
                </a:cubicBezTo>
                <a:cubicBezTo>
                  <a:pt x="444" y="114"/>
                  <a:pt x="460" y="139"/>
                  <a:pt x="422" y="101"/>
                </a:cubicBezTo>
                <a:cubicBezTo>
                  <a:pt x="420" y="93"/>
                  <a:pt x="419" y="85"/>
                  <a:pt x="416" y="77"/>
                </a:cubicBezTo>
                <a:cubicBezTo>
                  <a:pt x="415" y="74"/>
                  <a:pt x="409" y="71"/>
                  <a:pt x="410" y="68"/>
                </a:cubicBezTo>
                <a:cubicBezTo>
                  <a:pt x="413" y="60"/>
                  <a:pt x="428" y="50"/>
                  <a:pt x="428" y="50"/>
                </a:cubicBezTo>
                <a:cubicBezTo>
                  <a:pt x="427" y="63"/>
                  <a:pt x="416" y="83"/>
                  <a:pt x="428" y="89"/>
                </a:cubicBezTo>
                <a:cubicBezTo>
                  <a:pt x="431" y="90"/>
                  <a:pt x="437" y="83"/>
                  <a:pt x="437" y="86"/>
                </a:cubicBezTo>
                <a:cubicBezTo>
                  <a:pt x="437" y="93"/>
                  <a:pt x="418" y="93"/>
                  <a:pt x="404" y="95"/>
                </a:cubicBezTo>
                <a:cubicBezTo>
                  <a:pt x="386" y="101"/>
                  <a:pt x="398" y="116"/>
                  <a:pt x="386" y="98"/>
                </a:cubicBezTo>
                <a:cubicBezTo>
                  <a:pt x="396" y="63"/>
                  <a:pt x="395" y="87"/>
                  <a:pt x="413" y="62"/>
                </a:cubicBezTo>
                <a:cubicBezTo>
                  <a:pt x="418" y="46"/>
                  <a:pt x="406" y="19"/>
                  <a:pt x="428" y="26"/>
                </a:cubicBezTo>
                <a:cubicBezTo>
                  <a:pt x="441" y="17"/>
                  <a:pt x="446" y="24"/>
                  <a:pt x="458" y="32"/>
                </a:cubicBezTo>
                <a:cubicBezTo>
                  <a:pt x="538" y="27"/>
                  <a:pt x="501" y="32"/>
                  <a:pt x="464" y="44"/>
                </a:cubicBezTo>
                <a:cubicBezTo>
                  <a:pt x="454" y="23"/>
                  <a:pt x="439" y="33"/>
                  <a:pt x="422" y="44"/>
                </a:cubicBezTo>
                <a:cubicBezTo>
                  <a:pt x="409" y="25"/>
                  <a:pt x="406" y="46"/>
                  <a:pt x="404" y="59"/>
                </a:cubicBezTo>
                <a:cubicBezTo>
                  <a:pt x="397" y="57"/>
                  <a:pt x="374" y="51"/>
                  <a:pt x="374" y="50"/>
                </a:cubicBezTo>
                <a:cubicBezTo>
                  <a:pt x="371" y="36"/>
                  <a:pt x="396" y="26"/>
                  <a:pt x="404" y="23"/>
                </a:cubicBezTo>
                <a:cubicBezTo>
                  <a:pt x="396" y="0"/>
                  <a:pt x="391" y="15"/>
                  <a:pt x="386" y="32"/>
                </a:cubicBezTo>
                <a:cubicBezTo>
                  <a:pt x="388" y="49"/>
                  <a:pt x="393" y="70"/>
                  <a:pt x="371" y="56"/>
                </a:cubicBezTo>
                <a:cubicBezTo>
                  <a:pt x="367" y="40"/>
                  <a:pt x="367" y="45"/>
                  <a:pt x="371" y="26"/>
                </a:cubicBezTo>
                <a:cubicBezTo>
                  <a:pt x="372" y="23"/>
                  <a:pt x="374" y="14"/>
                  <a:pt x="374" y="17"/>
                </a:cubicBezTo>
                <a:cubicBezTo>
                  <a:pt x="374" y="30"/>
                  <a:pt x="369" y="45"/>
                  <a:pt x="362" y="56"/>
                </a:cubicBezTo>
                <a:cubicBezTo>
                  <a:pt x="369" y="90"/>
                  <a:pt x="358" y="62"/>
                  <a:pt x="413" y="68"/>
                </a:cubicBezTo>
                <a:cubicBezTo>
                  <a:pt x="421" y="69"/>
                  <a:pt x="425" y="79"/>
                  <a:pt x="431" y="83"/>
                </a:cubicBezTo>
                <a:cubicBezTo>
                  <a:pt x="459" y="76"/>
                  <a:pt x="454" y="78"/>
                  <a:pt x="476" y="89"/>
                </a:cubicBezTo>
                <a:cubicBezTo>
                  <a:pt x="491" y="82"/>
                  <a:pt x="495" y="70"/>
                  <a:pt x="500" y="89"/>
                </a:cubicBezTo>
                <a:cubicBezTo>
                  <a:pt x="498" y="93"/>
                  <a:pt x="498" y="99"/>
                  <a:pt x="494" y="101"/>
                </a:cubicBezTo>
                <a:cubicBezTo>
                  <a:pt x="488" y="103"/>
                  <a:pt x="482" y="99"/>
                  <a:pt x="476" y="98"/>
                </a:cubicBezTo>
                <a:cubicBezTo>
                  <a:pt x="473" y="97"/>
                  <a:pt x="467" y="92"/>
                  <a:pt x="467" y="95"/>
                </a:cubicBezTo>
                <a:cubicBezTo>
                  <a:pt x="467" y="105"/>
                  <a:pt x="487" y="103"/>
                  <a:pt x="497" y="104"/>
                </a:cubicBezTo>
                <a:cubicBezTo>
                  <a:pt x="514" y="95"/>
                  <a:pt x="515" y="91"/>
                  <a:pt x="527" y="107"/>
                </a:cubicBezTo>
                <a:cubicBezTo>
                  <a:pt x="523" y="108"/>
                  <a:pt x="519" y="111"/>
                  <a:pt x="515" y="110"/>
                </a:cubicBezTo>
                <a:cubicBezTo>
                  <a:pt x="511" y="109"/>
                  <a:pt x="510" y="104"/>
                  <a:pt x="506" y="104"/>
                </a:cubicBezTo>
                <a:cubicBezTo>
                  <a:pt x="499" y="104"/>
                  <a:pt x="494" y="111"/>
                  <a:pt x="488" y="113"/>
                </a:cubicBezTo>
                <a:cubicBezTo>
                  <a:pt x="461" y="110"/>
                  <a:pt x="450" y="112"/>
                  <a:pt x="467" y="89"/>
                </a:cubicBezTo>
                <a:cubicBezTo>
                  <a:pt x="487" y="94"/>
                  <a:pt x="521" y="78"/>
                  <a:pt x="542" y="74"/>
                </a:cubicBezTo>
                <a:cubicBezTo>
                  <a:pt x="544" y="68"/>
                  <a:pt x="542" y="56"/>
                  <a:pt x="548" y="56"/>
                </a:cubicBezTo>
                <a:cubicBezTo>
                  <a:pt x="563" y="56"/>
                  <a:pt x="550" y="86"/>
                  <a:pt x="551" y="89"/>
                </a:cubicBezTo>
                <a:cubicBezTo>
                  <a:pt x="552" y="92"/>
                  <a:pt x="557" y="87"/>
                  <a:pt x="560" y="86"/>
                </a:cubicBezTo>
                <a:cubicBezTo>
                  <a:pt x="554" y="105"/>
                  <a:pt x="526" y="102"/>
                  <a:pt x="509" y="104"/>
                </a:cubicBezTo>
                <a:cubicBezTo>
                  <a:pt x="505" y="103"/>
                  <a:pt x="498" y="105"/>
                  <a:pt x="497" y="101"/>
                </a:cubicBezTo>
                <a:cubicBezTo>
                  <a:pt x="494" y="91"/>
                  <a:pt x="510" y="96"/>
                  <a:pt x="524" y="98"/>
                </a:cubicBezTo>
                <a:cubicBezTo>
                  <a:pt x="532" y="99"/>
                  <a:pt x="540" y="100"/>
                  <a:pt x="548" y="101"/>
                </a:cubicBezTo>
                <a:cubicBezTo>
                  <a:pt x="569" y="98"/>
                  <a:pt x="591" y="84"/>
                  <a:pt x="599" y="107"/>
                </a:cubicBezTo>
                <a:cubicBezTo>
                  <a:pt x="615" y="84"/>
                  <a:pt x="581" y="101"/>
                  <a:pt x="572" y="107"/>
                </a:cubicBezTo>
                <a:cubicBezTo>
                  <a:pt x="557" y="104"/>
                  <a:pt x="543" y="104"/>
                  <a:pt x="530" y="95"/>
                </a:cubicBezTo>
                <a:cubicBezTo>
                  <a:pt x="536" y="71"/>
                  <a:pt x="527" y="92"/>
                  <a:pt x="557" y="80"/>
                </a:cubicBezTo>
                <a:cubicBezTo>
                  <a:pt x="560" y="79"/>
                  <a:pt x="569" y="60"/>
                  <a:pt x="569" y="59"/>
                </a:cubicBezTo>
                <a:cubicBezTo>
                  <a:pt x="573" y="36"/>
                  <a:pt x="574" y="14"/>
                  <a:pt x="584" y="56"/>
                </a:cubicBezTo>
                <a:cubicBezTo>
                  <a:pt x="586" y="64"/>
                  <a:pt x="600" y="58"/>
                  <a:pt x="608" y="59"/>
                </a:cubicBezTo>
                <a:cubicBezTo>
                  <a:pt x="618" y="121"/>
                  <a:pt x="596" y="21"/>
                  <a:pt x="641" y="71"/>
                </a:cubicBezTo>
                <a:cubicBezTo>
                  <a:pt x="650" y="81"/>
                  <a:pt x="643" y="99"/>
                  <a:pt x="644" y="113"/>
                </a:cubicBezTo>
                <a:cubicBezTo>
                  <a:pt x="657" y="93"/>
                  <a:pt x="641" y="113"/>
                  <a:pt x="632" y="116"/>
                </a:cubicBezTo>
                <a:cubicBezTo>
                  <a:pt x="615" y="114"/>
                  <a:pt x="603" y="109"/>
                  <a:pt x="587" y="113"/>
                </a:cubicBezTo>
                <a:cubicBezTo>
                  <a:pt x="586" y="119"/>
                  <a:pt x="580" y="127"/>
                  <a:pt x="584" y="131"/>
                </a:cubicBezTo>
                <a:cubicBezTo>
                  <a:pt x="591" y="138"/>
                  <a:pt x="593" y="113"/>
                  <a:pt x="602" y="110"/>
                </a:cubicBezTo>
                <a:cubicBezTo>
                  <a:pt x="613" y="107"/>
                  <a:pt x="624" y="108"/>
                  <a:pt x="635" y="107"/>
                </a:cubicBezTo>
                <a:cubicBezTo>
                  <a:pt x="629" y="67"/>
                  <a:pt x="637" y="77"/>
                  <a:pt x="611" y="86"/>
                </a:cubicBezTo>
                <a:cubicBezTo>
                  <a:pt x="587" y="80"/>
                  <a:pt x="598" y="72"/>
                  <a:pt x="614" y="68"/>
                </a:cubicBezTo>
                <a:cubicBezTo>
                  <a:pt x="638" y="52"/>
                  <a:pt x="609" y="63"/>
                  <a:pt x="602" y="68"/>
                </a:cubicBezTo>
                <a:cubicBezTo>
                  <a:pt x="593" y="87"/>
                  <a:pt x="586" y="83"/>
                  <a:pt x="566" y="80"/>
                </a:cubicBezTo>
                <a:cubicBezTo>
                  <a:pt x="600" y="57"/>
                  <a:pt x="583" y="65"/>
                  <a:pt x="617" y="56"/>
                </a:cubicBezTo>
                <a:cubicBezTo>
                  <a:pt x="631" y="35"/>
                  <a:pt x="614" y="36"/>
                  <a:pt x="593" y="29"/>
                </a:cubicBezTo>
                <a:cubicBezTo>
                  <a:pt x="581" y="30"/>
                  <a:pt x="567" y="26"/>
                  <a:pt x="557" y="32"/>
                </a:cubicBezTo>
                <a:cubicBezTo>
                  <a:pt x="538" y="43"/>
                  <a:pt x="555" y="61"/>
                  <a:pt x="533" y="68"/>
                </a:cubicBezTo>
                <a:cubicBezTo>
                  <a:pt x="525" y="80"/>
                  <a:pt x="522" y="86"/>
                  <a:pt x="509" y="77"/>
                </a:cubicBezTo>
                <a:cubicBezTo>
                  <a:pt x="507" y="73"/>
                  <a:pt x="503" y="69"/>
                  <a:pt x="503" y="65"/>
                </a:cubicBezTo>
                <a:cubicBezTo>
                  <a:pt x="503" y="61"/>
                  <a:pt x="510" y="59"/>
                  <a:pt x="509" y="56"/>
                </a:cubicBezTo>
                <a:cubicBezTo>
                  <a:pt x="507" y="49"/>
                  <a:pt x="497" y="51"/>
                  <a:pt x="491" y="47"/>
                </a:cubicBezTo>
                <a:cubicBezTo>
                  <a:pt x="489" y="51"/>
                  <a:pt x="489" y="56"/>
                  <a:pt x="485" y="59"/>
                </a:cubicBezTo>
                <a:cubicBezTo>
                  <a:pt x="481" y="62"/>
                  <a:pt x="465" y="62"/>
                  <a:pt x="470" y="62"/>
                </a:cubicBezTo>
                <a:cubicBezTo>
                  <a:pt x="496" y="64"/>
                  <a:pt x="522" y="64"/>
                  <a:pt x="548" y="65"/>
                </a:cubicBezTo>
                <a:cubicBezTo>
                  <a:pt x="551" y="69"/>
                  <a:pt x="553" y="80"/>
                  <a:pt x="557" y="77"/>
                </a:cubicBezTo>
                <a:cubicBezTo>
                  <a:pt x="563" y="72"/>
                  <a:pt x="563" y="53"/>
                  <a:pt x="563" y="53"/>
                </a:cubicBezTo>
                <a:cubicBezTo>
                  <a:pt x="545" y="41"/>
                  <a:pt x="536" y="29"/>
                  <a:pt x="560" y="17"/>
                </a:cubicBezTo>
                <a:cubicBezTo>
                  <a:pt x="563" y="19"/>
                  <a:pt x="567" y="20"/>
                  <a:pt x="569" y="23"/>
                </a:cubicBezTo>
                <a:cubicBezTo>
                  <a:pt x="572" y="28"/>
                  <a:pt x="569" y="38"/>
                  <a:pt x="575" y="41"/>
                </a:cubicBezTo>
                <a:cubicBezTo>
                  <a:pt x="604" y="55"/>
                  <a:pt x="572" y="42"/>
                  <a:pt x="566" y="41"/>
                </a:cubicBezTo>
                <a:cubicBezTo>
                  <a:pt x="569" y="24"/>
                  <a:pt x="571" y="21"/>
                  <a:pt x="587" y="26"/>
                </a:cubicBezTo>
                <a:cubicBezTo>
                  <a:pt x="571" y="33"/>
                  <a:pt x="561" y="43"/>
                  <a:pt x="545" y="47"/>
                </a:cubicBezTo>
                <a:cubicBezTo>
                  <a:pt x="525" y="43"/>
                  <a:pt x="520" y="41"/>
                  <a:pt x="524" y="20"/>
                </a:cubicBezTo>
                <a:cubicBezTo>
                  <a:pt x="544" y="27"/>
                  <a:pt x="557" y="34"/>
                  <a:pt x="578" y="29"/>
                </a:cubicBezTo>
                <a:cubicBezTo>
                  <a:pt x="584" y="54"/>
                  <a:pt x="579" y="51"/>
                  <a:pt x="611" y="47"/>
                </a:cubicBezTo>
                <a:cubicBezTo>
                  <a:pt x="626" y="68"/>
                  <a:pt x="614" y="72"/>
                  <a:pt x="644" y="68"/>
                </a:cubicBezTo>
                <a:cubicBezTo>
                  <a:pt x="670" y="50"/>
                  <a:pt x="630" y="75"/>
                  <a:pt x="647" y="86"/>
                </a:cubicBezTo>
                <a:cubicBezTo>
                  <a:pt x="656" y="92"/>
                  <a:pt x="669" y="82"/>
                  <a:pt x="680" y="80"/>
                </a:cubicBezTo>
                <a:cubicBezTo>
                  <a:pt x="668" y="115"/>
                  <a:pt x="700" y="102"/>
                  <a:pt x="725" y="98"/>
                </a:cubicBezTo>
                <a:cubicBezTo>
                  <a:pt x="688" y="110"/>
                  <a:pt x="732" y="112"/>
                  <a:pt x="659" y="107"/>
                </a:cubicBezTo>
                <a:cubicBezTo>
                  <a:pt x="648" y="90"/>
                  <a:pt x="653" y="106"/>
                  <a:pt x="680" y="101"/>
                </a:cubicBezTo>
                <a:cubicBezTo>
                  <a:pt x="682" y="95"/>
                  <a:pt x="688" y="89"/>
                  <a:pt x="686" y="83"/>
                </a:cubicBezTo>
                <a:cubicBezTo>
                  <a:pt x="685" y="80"/>
                  <a:pt x="680" y="75"/>
                  <a:pt x="683" y="74"/>
                </a:cubicBezTo>
                <a:cubicBezTo>
                  <a:pt x="686" y="72"/>
                  <a:pt x="689" y="78"/>
                  <a:pt x="692" y="80"/>
                </a:cubicBezTo>
                <a:cubicBezTo>
                  <a:pt x="694" y="88"/>
                  <a:pt x="697" y="101"/>
                  <a:pt x="698" y="101"/>
                </a:cubicBezTo>
                <a:cubicBezTo>
                  <a:pt x="713" y="101"/>
                  <a:pt x="723" y="93"/>
                  <a:pt x="734" y="86"/>
                </a:cubicBezTo>
                <a:cubicBezTo>
                  <a:pt x="728" y="103"/>
                  <a:pt x="742" y="100"/>
                  <a:pt x="749" y="89"/>
                </a:cubicBezTo>
                <a:cubicBezTo>
                  <a:pt x="759" y="118"/>
                  <a:pt x="724" y="111"/>
                  <a:pt x="704" y="113"/>
                </a:cubicBezTo>
                <a:cubicBezTo>
                  <a:pt x="694" y="116"/>
                  <a:pt x="687" y="122"/>
                  <a:pt x="677" y="125"/>
                </a:cubicBezTo>
                <a:cubicBezTo>
                  <a:pt x="665" y="113"/>
                  <a:pt x="663" y="116"/>
                  <a:pt x="650" y="125"/>
                </a:cubicBezTo>
                <a:cubicBezTo>
                  <a:pt x="643" y="105"/>
                  <a:pt x="593" y="122"/>
                  <a:pt x="575" y="128"/>
                </a:cubicBezTo>
                <a:cubicBezTo>
                  <a:pt x="547" y="121"/>
                  <a:pt x="557" y="127"/>
                  <a:pt x="557" y="92"/>
                </a:cubicBezTo>
                <a:cubicBezTo>
                  <a:pt x="557" y="89"/>
                  <a:pt x="556" y="99"/>
                  <a:pt x="554" y="101"/>
                </a:cubicBezTo>
                <a:cubicBezTo>
                  <a:pt x="549" y="107"/>
                  <a:pt x="540" y="108"/>
                  <a:pt x="533" y="110"/>
                </a:cubicBezTo>
                <a:cubicBezTo>
                  <a:pt x="517" y="122"/>
                  <a:pt x="516" y="114"/>
                  <a:pt x="500" y="119"/>
                </a:cubicBezTo>
                <a:cubicBezTo>
                  <a:pt x="476" y="103"/>
                  <a:pt x="507" y="128"/>
                  <a:pt x="494" y="95"/>
                </a:cubicBezTo>
                <a:cubicBezTo>
                  <a:pt x="493" y="92"/>
                  <a:pt x="488" y="97"/>
                  <a:pt x="485" y="98"/>
                </a:cubicBezTo>
                <a:cubicBezTo>
                  <a:pt x="477" y="102"/>
                  <a:pt x="461" y="110"/>
                  <a:pt x="461" y="110"/>
                </a:cubicBezTo>
                <a:cubicBezTo>
                  <a:pt x="459" y="113"/>
                  <a:pt x="459" y="119"/>
                  <a:pt x="455" y="119"/>
                </a:cubicBezTo>
                <a:cubicBezTo>
                  <a:pt x="449" y="120"/>
                  <a:pt x="443" y="115"/>
                  <a:pt x="437" y="113"/>
                </a:cubicBezTo>
                <a:cubicBezTo>
                  <a:pt x="434" y="112"/>
                  <a:pt x="428" y="110"/>
                  <a:pt x="428" y="110"/>
                </a:cubicBezTo>
                <a:cubicBezTo>
                  <a:pt x="404" y="126"/>
                  <a:pt x="434" y="110"/>
                  <a:pt x="410" y="110"/>
                </a:cubicBezTo>
                <a:cubicBezTo>
                  <a:pt x="403" y="110"/>
                  <a:pt x="396" y="116"/>
                  <a:pt x="389" y="116"/>
                </a:cubicBezTo>
              </a:path>
            </a:pathLst>
          </a:custGeom>
          <a:solidFill>
            <a:srgbClr val="00ff99"/>
          </a:solidFill>
          <a:ln w="64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334360" y="17154360"/>
            <a:ext cx="1204920" cy="220680"/>
          </a:xfrm>
          <a:custGeom>
            <a:avLst/>
            <a:gdLst/>
            <a:ahLst/>
            <a:rect l="l" t="t" r="r" b="b"/>
            <a:pathLst>
              <a:path w="759" h="139">
                <a:moveTo>
                  <a:pt x="35" y="119"/>
                </a:moveTo>
                <a:cubicBezTo>
                  <a:pt x="0" y="128"/>
                  <a:pt x="15" y="116"/>
                  <a:pt x="35" y="110"/>
                </a:cubicBezTo>
                <a:cubicBezTo>
                  <a:pt x="38" y="109"/>
                  <a:pt x="41" y="108"/>
                  <a:pt x="44" y="107"/>
                </a:cubicBezTo>
                <a:cubicBezTo>
                  <a:pt x="59" y="117"/>
                  <a:pt x="61" y="108"/>
                  <a:pt x="71" y="95"/>
                </a:cubicBezTo>
                <a:cubicBezTo>
                  <a:pt x="76" y="100"/>
                  <a:pt x="88" y="108"/>
                  <a:pt x="83" y="113"/>
                </a:cubicBezTo>
                <a:cubicBezTo>
                  <a:pt x="79" y="117"/>
                  <a:pt x="73" y="115"/>
                  <a:pt x="68" y="116"/>
                </a:cubicBezTo>
                <a:cubicBezTo>
                  <a:pt x="65" y="117"/>
                  <a:pt x="59" y="122"/>
                  <a:pt x="59" y="119"/>
                </a:cubicBezTo>
                <a:cubicBezTo>
                  <a:pt x="59" y="115"/>
                  <a:pt x="65" y="114"/>
                  <a:pt x="68" y="113"/>
                </a:cubicBezTo>
                <a:cubicBezTo>
                  <a:pt x="72" y="111"/>
                  <a:pt x="76" y="111"/>
                  <a:pt x="80" y="110"/>
                </a:cubicBezTo>
                <a:cubicBezTo>
                  <a:pt x="82" y="107"/>
                  <a:pt x="82" y="102"/>
                  <a:pt x="86" y="101"/>
                </a:cubicBezTo>
                <a:cubicBezTo>
                  <a:pt x="97" y="99"/>
                  <a:pt x="94" y="112"/>
                  <a:pt x="98" y="116"/>
                </a:cubicBezTo>
                <a:cubicBezTo>
                  <a:pt x="100" y="118"/>
                  <a:pt x="110" y="119"/>
                  <a:pt x="107" y="119"/>
                </a:cubicBezTo>
                <a:cubicBezTo>
                  <a:pt x="101" y="119"/>
                  <a:pt x="95" y="117"/>
                  <a:pt x="89" y="116"/>
                </a:cubicBezTo>
                <a:cubicBezTo>
                  <a:pt x="101" y="108"/>
                  <a:pt x="111" y="111"/>
                  <a:pt x="119" y="98"/>
                </a:cubicBezTo>
                <a:cubicBezTo>
                  <a:pt x="103" y="93"/>
                  <a:pt x="102" y="108"/>
                  <a:pt x="92" y="92"/>
                </a:cubicBezTo>
                <a:cubicBezTo>
                  <a:pt x="106" y="88"/>
                  <a:pt x="111" y="92"/>
                  <a:pt x="125" y="95"/>
                </a:cubicBezTo>
                <a:cubicBezTo>
                  <a:pt x="131" y="78"/>
                  <a:pt x="128" y="93"/>
                  <a:pt x="107" y="83"/>
                </a:cubicBezTo>
                <a:cubicBezTo>
                  <a:pt x="113" y="81"/>
                  <a:pt x="120" y="70"/>
                  <a:pt x="125" y="74"/>
                </a:cubicBezTo>
                <a:cubicBezTo>
                  <a:pt x="129" y="77"/>
                  <a:pt x="124" y="85"/>
                  <a:pt x="128" y="89"/>
                </a:cubicBezTo>
                <a:cubicBezTo>
                  <a:pt x="135" y="96"/>
                  <a:pt x="155" y="98"/>
                  <a:pt x="155" y="98"/>
                </a:cubicBezTo>
                <a:cubicBezTo>
                  <a:pt x="145" y="113"/>
                  <a:pt x="129" y="108"/>
                  <a:pt x="113" y="116"/>
                </a:cubicBezTo>
                <a:cubicBezTo>
                  <a:pt x="103" y="130"/>
                  <a:pt x="97" y="123"/>
                  <a:pt x="83" y="116"/>
                </a:cubicBezTo>
                <a:cubicBezTo>
                  <a:pt x="63" y="123"/>
                  <a:pt x="88" y="123"/>
                  <a:pt x="95" y="125"/>
                </a:cubicBezTo>
                <a:cubicBezTo>
                  <a:pt x="124" y="122"/>
                  <a:pt x="139" y="119"/>
                  <a:pt x="164" y="107"/>
                </a:cubicBezTo>
                <a:cubicBezTo>
                  <a:pt x="157" y="85"/>
                  <a:pt x="160" y="114"/>
                  <a:pt x="146" y="92"/>
                </a:cubicBezTo>
                <a:cubicBezTo>
                  <a:pt x="157" y="88"/>
                  <a:pt x="169" y="91"/>
                  <a:pt x="179" y="86"/>
                </a:cubicBezTo>
                <a:cubicBezTo>
                  <a:pt x="182" y="85"/>
                  <a:pt x="185" y="78"/>
                  <a:pt x="182" y="77"/>
                </a:cubicBezTo>
                <a:cubicBezTo>
                  <a:pt x="175" y="75"/>
                  <a:pt x="168" y="79"/>
                  <a:pt x="161" y="80"/>
                </a:cubicBezTo>
                <a:cubicBezTo>
                  <a:pt x="158" y="79"/>
                  <a:pt x="155" y="78"/>
                  <a:pt x="152" y="77"/>
                </a:cubicBezTo>
                <a:cubicBezTo>
                  <a:pt x="148" y="76"/>
                  <a:pt x="154" y="86"/>
                  <a:pt x="158" y="89"/>
                </a:cubicBezTo>
                <a:cubicBezTo>
                  <a:pt x="163" y="93"/>
                  <a:pt x="170" y="93"/>
                  <a:pt x="176" y="95"/>
                </a:cubicBezTo>
                <a:cubicBezTo>
                  <a:pt x="180" y="107"/>
                  <a:pt x="187" y="105"/>
                  <a:pt x="194" y="116"/>
                </a:cubicBezTo>
                <a:cubicBezTo>
                  <a:pt x="181" y="120"/>
                  <a:pt x="176" y="113"/>
                  <a:pt x="164" y="107"/>
                </a:cubicBezTo>
                <a:cubicBezTo>
                  <a:pt x="185" y="106"/>
                  <a:pt x="207" y="110"/>
                  <a:pt x="227" y="104"/>
                </a:cubicBezTo>
                <a:cubicBezTo>
                  <a:pt x="232" y="103"/>
                  <a:pt x="228" y="92"/>
                  <a:pt x="224" y="89"/>
                </a:cubicBezTo>
                <a:cubicBezTo>
                  <a:pt x="221" y="86"/>
                  <a:pt x="216" y="91"/>
                  <a:pt x="212" y="92"/>
                </a:cubicBezTo>
                <a:cubicBezTo>
                  <a:pt x="209" y="94"/>
                  <a:pt x="178" y="115"/>
                  <a:pt x="203" y="107"/>
                </a:cubicBezTo>
                <a:cubicBezTo>
                  <a:pt x="217" y="116"/>
                  <a:pt x="259" y="121"/>
                  <a:pt x="236" y="98"/>
                </a:cubicBezTo>
                <a:cubicBezTo>
                  <a:pt x="208" y="103"/>
                  <a:pt x="217" y="94"/>
                  <a:pt x="209" y="71"/>
                </a:cubicBezTo>
                <a:cubicBezTo>
                  <a:pt x="195" y="76"/>
                  <a:pt x="195" y="83"/>
                  <a:pt x="182" y="74"/>
                </a:cubicBezTo>
                <a:cubicBezTo>
                  <a:pt x="177" y="59"/>
                  <a:pt x="187" y="62"/>
                  <a:pt x="200" y="59"/>
                </a:cubicBezTo>
                <a:cubicBezTo>
                  <a:pt x="209" y="33"/>
                  <a:pt x="161" y="65"/>
                  <a:pt x="188" y="56"/>
                </a:cubicBezTo>
                <a:cubicBezTo>
                  <a:pt x="204" y="59"/>
                  <a:pt x="211" y="61"/>
                  <a:pt x="221" y="47"/>
                </a:cubicBezTo>
                <a:cubicBezTo>
                  <a:pt x="232" y="79"/>
                  <a:pt x="211" y="87"/>
                  <a:pt x="254" y="77"/>
                </a:cubicBezTo>
                <a:cubicBezTo>
                  <a:pt x="236" y="73"/>
                  <a:pt x="234" y="64"/>
                  <a:pt x="221" y="77"/>
                </a:cubicBezTo>
                <a:cubicBezTo>
                  <a:pt x="225" y="78"/>
                  <a:pt x="278" y="86"/>
                  <a:pt x="281" y="89"/>
                </a:cubicBezTo>
                <a:cubicBezTo>
                  <a:pt x="284" y="92"/>
                  <a:pt x="278" y="98"/>
                  <a:pt x="275" y="101"/>
                </a:cubicBezTo>
                <a:cubicBezTo>
                  <a:pt x="267" y="109"/>
                  <a:pt x="246" y="116"/>
                  <a:pt x="236" y="119"/>
                </a:cubicBezTo>
                <a:cubicBezTo>
                  <a:pt x="200" y="95"/>
                  <a:pt x="236" y="111"/>
                  <a:pt x="203" y="119"/>
                </a:cubicBezTo>
                <a:cubicBezTo>
                  <a:pt x="214" y="102"/>
                  <a:pt x="204" y="111"/>
                  <a:pt x="233" y="116"/>
                </a:cubicBezTo>
                <a:cubicBezTo>
                  <a:pt x="245" y="118"/>
                  <a:pt x="269" y="122"/>
                  <a:pt x="269" y="122"/>
                </a:cubicBezTo>
                <a:cubicBezTo>
                  <a:pt x="286" y="116"/>
                  <a:pt x="284" y="107"/>
                  <a:pt x="290" y="92"/>
                </a:cubicBezTo>
                <a:cubicBezTo>
                  <a:pt x="291" y="89"/>
                  <a:pt x="299" y="86"/>
                  <a:pt x="296" y="83"/>
                </a:cubicBezTo>
                <a:cubicBezTo>
                  <a:pt x="293" y="80"/>
                  <a:pt x="290" y="87"/>
                  <a:pt x="287" y="89"/>
                </a:cubicBezTo>
                <a:cubicBezTo>
                  <a:pt x="286" y="93"/>
                  <a:pt x="281" y="98"/>
                  <a:pt x="284" y="101"/>
                </a:cubicBezTo>
                <a:cubicBezTo>
                  <a:pt x="287" y="104"/>
                  <a:pt x="292" y="98"/>
                  <a:pt x="296" y="98"/>
                </a:cubicBezTo>
                <a:cubicBezTo>
                  <a:pt x="306" y="98"/>
                  <a:pt x="316" y="100"/>
                  <a:pt x="326" y="101"/>
                </a:cubicBezTo>
                <a:cubicBezTo>
                  <a:pt x="328" y="105"/>
                  <a:pt x="334" y="109"/>
                  <a:pt x="332" y="113"/>
                </a:cubicBezTo>
                <a:cubicBezTo>
                  <a:pt x="330" y="116"/>
                  <a:pt x="323" y="112"/>
                  <a:pt x="320" y="110"/>
                </a:cubicBezTo>
                <a:cubicBezTo>
                  <a:pt x="314" y="106"/>
                  <a:pt x="309" y="87"/>
                  <a:pt x="308" y="83"/>
                </a:cubicBezTo>
                <a:cubicBezTo>
                  <a:pt x="305" y="73"/>
                  <a:pt x="328" y="87"/>
                  <a:pt x="338" y="89"/>
                </a:cubicBezTo>
                <a:cubicBezTo>
                  <a:pt x="347" y="90"/>
                  <a:pt x="356" y="91"/>
                  <a:pt x="365" y="92"/>
                </a:cubicBezTo>
                <a:cubicBezTo>
                  <a:pt x="372" y="113"/>
                  <a:pt x="377" y="108"/>
                  <a:pt x="362" y="113"/>
                </a:cubicBezTo>
                <a:cubicBezTo>
                  <a:pt x="319" y="102"/>
                  <a:pt x="352" y="99"/>
                  <a:pt x="374" y="77"/>
                </a:cubicBezTo>
                <a:cubicBezTo>
                  <a:pt x="364" y="48"/>
                  <a:pt x="356" y="94"/>
                  <a:pt x="356" y="98"/>
                </a:cubicBezTo>
                <a:cubicBezTo>
                  <a:pt x="366" y="128"/>
                  <a:pt x="355" y="125"/>
                  <a:pt x="326" y="122"/>
                </a:cubicBezTo>
                <a:cubicBezTo>
                  <a:pt x="313" y="113"/>
                  <a:pt x="313" y="107"/>
                  <a:pt x="317" y="92"/>
                </a:cubicBezTo>
                <a:cubicBezTo>
                  <a:pt x="313" y="76"/>
                  <a:pt x="312" y="72"/>
                  <a:pt x="296" y="68"/>
                </a:cubicBezTo>
                <a:cubicBezTo>
                  <a:pt x="279" y="72"/>
                  <a:pt x="275" y="84"/>
                  <a:pt x="266" y="65"/>
                </a:cubicBezTo>
                <a:cubicBezTo>
                  <a:pt x="283" y="43"/>
                  <a:pt x="282" y="61"/>
                  <a:pt x="305" y="53"/>
                </a:cubicBezTo>
                <a:cubicBezTo>
                  <a:pt x="314" y="27"/>
                  <a:pt x="294" y="73"/>
                  <a:pt x="287" y="80"/>
                </a:cubicBezTo>
                <a:cubicBezTo>
                  <a:pt x="300" y="89"/>
                  <a:pt x="311" y="82"/>
                  <a:pt x="326" y="77"/>
                </a:cubicBezTo>
                <a:cubicBezTo>
                  <a:pt x="332" y="65"/>
                  <a:pt x="330" y="54"/>
                  <a:pt x="344" y="59"/>
                </a:cubicBezTo>
                <a:cubicBezTo>
                  <a:pt x="347" y="63"/>
                  <a:pt x="351" y="67"/>
                  <a:pt x="353" y="71"/>
                </a:cubicBezTo>
                <a:cubicBezTo>
                  <a:pt x="355" y="74"/>
                  <a:pt x="353" y="79"/>
                  <a:pt x="356" y="80"/>
                </a:cubicBezTo>
                <a:cubicBezTo>
                  <a:pt x="361" y="81"/>
                  <a:pt x="404" y="75"/>
                  <a:pt x="413" y="74"/>
                </a:cubicBezTo>
                <a:cubicBezTo>
                  <a:pt x="416" y="72"/>
                  <a:pt x="418" y="68"/>
                  <a:pt x="422" y="68"/>
                </a:cubicBezTo>
                <a:cubicBezTo>
                  <a:pt x="431" y="69"/>
                  <a:pt x="449" y="77"/>
                  <a:pt x="449" y="77"/>
                </a:cubicBezTo>
                <a:cubicBezTo>
                  <a:pt x="444" y="114"/>
                  <a:pt x="460" y="139"/>
                  <a:pt x="422" y="101"/>
                </a:cubicBezTo>
                <a:cubicBezTo>
                  <a:pt x="420" y="93"/>
                  <a:pt x="419" y="85"/>
                  <a:pt x="416" y="77"/>
                </a:cubicBezTo>
                <a:cubicBezTo>
                  <a:pt x="415" y="74"/>
                  <a:pt x="409" y="71"/>
                  <a:pt x="410" y="68"/>
                </a:cubicBezTo>
                <a:cubicBezTo>
                  <a:pt x="413" y="60"/>
                  <a:pt x="428" y="50"/>
                  <a:pt x="428" y="50"/>
                </a:cubicBezTo>
                <a:cubicBezTo>
                  <a:pt x="427" y="63"/>
                  <a:pt x="416" y="83"/>
                  <a:pt x="428" y="89"/>
                </a:cubicBezTo>
                <a:cubicBezTo>
                  <a:pt x="431" y="90"/>
                  <a:pt x="437" y="83"/>
                  <a:pt x="437" y="86"/>
                </a:cubicBezTo>
                <a:cubicBezTo>
                  <a:pt x="437" y="93"/>
                  <a:pt x="418" y="93"/>
                  <a:pt x="404" y="95"/>
                </a:cubicBezTo>
                <a:cubicBezTo>
                  <a:pt x="386" y="101"/>
                  <a:pt x="398" y="116"/>
                  <a:pt x="386" y="98"/>
                </a:cubicBezTo>
                <a:cubicBezTo>
                  <a:pt x="396" y="63"/>
                  <a:pt x="395" y="87"/>
                  <a:pt x="413" y="62"/>
                </a:cubicBezTo>
                <a:cubicBezTo>
                  <a:pt x="418" y="46"/>
                  <a:pt x="406" y="19"/>
                  <a:pt x="428" y="26"/>
                </a:cubicBezTo>
                <a:cubicBezTo>
                  <a:pt x="441" y="17"/>
                  <a:pt x="446" y="24"/>
                  <a:pt x="458" y="32"/>
                </a:cubicBezTo>
                <a:cubicBezTo>
                  <a:pt x="538" y="27"/>
                  <a:pt x="501" y="32"/>
                  <a:pt x="464" y="44"/>
                </a:cubicBezTo>
                <a:cubicBezTo>
                  <a:pt x="454" y="23"/>
                  <a:pt x="439" y="33"/>
                  <a:pt x="422" y="44"/>
                </a:cubicBezTo>
                <a:cubicBezTo>
                  <a:pt x="409" y="25"/>
                  <a:pt x="406" y="46"/>
                  <a:pt x="404" y="59"/>
                </a:cubicBezTo>
                <a:cubicBezTo>
                  <a:pt x="397" y="57"/>
                  <a:pt x="374" y="51"/>
                  <a:pt x="374" y="50"/>
                </a:cubicBezTo>
                <a:cubicBezTo>
                  <a:pt x="371" y="36"/>
                  <a:pt x="396" y="26"/>
                  <a:pt x="404" y="23"/>
                </a:cubicBezTo>
                <a:cubicBezTo>
                  <a:pt x="396" y="0"/>
                  <a:pt x="391" y="15"/>
                  <a:pt x="386" y="32"/>
                </a:cubicBezTo>
                <a:cubicBezTo>
                  <a:pt x="388" y="49"/>
                  <a:pt x="393" y="70"/>
                  <a:pt x="371" y="56"/>
                </a:cubicBezTo>
                <a:cubicBezTo>
                  <a:pt x="367" y="40"/>
                  <a:pt x="367" y="45"/>
                  <a:pt x="371" y="26"/>
                </a:cubicBezTo>
                <a:cubicBezTo>
                  <a:pt x="372" y="23"/>
                  <a:pt x="374" y="14"/>
                  <a:pt x="374" y="17"/>
                </a:cubicBezTo>
                <a:cubicBezTo>
                  <a:pt x="374" y="30"/>
                  <a:pt x="369" y="45"/>
                  <a:pt x="362" y="56"/>
                </a:cubicBezTo>
                <a:cubicBezTo>
                  <a:pt x="369" y="90"/>
                  <a:pt x="358" y="62"/>
                  <a:pt x="413" y="68"/>
                </a:cubicBezTo>
                <a:cubicBezTo>
                  <a:pt x="421" y="69"/>
                  <a:pt x="425" y="79"/>
                  <a:pt x="431" y="83"/>
                </a:cubicBezTo>
                <a:cubicBezTo>
                  <a:pt x="459" y="76"/>
                  <a:pt x="454" y="78"/>
                  <a:pt x="476" y="89"/>
                </a:cubicBezTo>
                <a:cubicBezTo>
                  <a:pt x="491" y="82"/>
                  <a:pt x="495" y="70"/>
                  <a:pt x="500" y="89"/>
                </a:cubicBezTo>
                <a:cubicBezTo>
                  <a:pt x="498" y="93"/>
                  <a:pt x="498" y="99"/>
                  <a:pt x="494" y="101"/>
                </a:cubicBezTo>
                <a:cubicBezTo>
                  <a:pt x="488" y="103"/>
                  <a:pt x="482" y="99"/>
                  <a:pt x="476" y="98"/>
                </a:cubicBezTo>
                <a:cubicBezTo>
                  <a:pt x="473" y="97"/>
                  <a:pt x="467" y="92"/>
                  <a:pt x="467" y="95"/>
                </a:cubicBezTo>
                <a:cubicBezTo>
                  <a:pt x="467" y="105"/>
                  <a:pt x="487" y="103"/>
                  <a:pt x="497" y="104"/>
                </a:cubicBezTo>
                <a:cubicBezTo>
                  <a:pt x="514" y="95"/>
                  <a:pt x="515" y="91"/>
                  <a:pt x="527" y="107"/>
                </a:cubicBezTo>
                <a:cubicBezTo>
                  <a:pt x="523" y="108"/>
                  <a:pt x="519" y="111"/>
                  <a:pt x="515" y="110"/>
                </a:cubicBezTo>
                <a:cubicBezTo>
                  <a:pt x="511" y="109"/>
                  <a:pt x="510" y="104"/>
                  <a:pt x="506" y="104"/>
                </a:cubicBezTo>
                <a:cubicBezTo>
                  <a:pt x="499" y="104"/>
                  <a:pt x="494" y="111"/>
                  <a:pt x="488" y="113"/>
                </a:cubicBezTo>
                <a:cubicBezTo>
                  <a:pt x="461" y="110"/>
                  <a:pt x="450" y="112"/>
                  <a:pt x="467" y="89"/>
                </a:cubicBezTo>
                <a:cubicBezTo>
                  <a:pt x="487" y="94"/>
                  <a:pt x="521" y="78"/>
                  <a:pt x="542" y="74"/>
                </a:cubicBezTo>
                <a:cubicBezTo>
                  <a:pt x="544" y="68"/>
                  <a:pt x="542" y="56"/>
                  <a:pt x="548" y="56"/>
                </a:cubicBezTo>
                <a:cubicBezTo>
                  <a:pt x="563" y="56"/>
                  <a:pt x="550" y="86"/>
                  <a:pt x="551" y="89"/>
                </a:cubicBezTo>
                <a:cubicBezTo>
                  <a:pt x="552" y="92"/>
                  <a:pt x="557" y="87"/>
                  <a:pt x="560" y="86"/>
                </a:cubicBezTo>
                <a:cubicBezTo>
                  <a:pt x="554" y="105"/>
                  <a:pt x="526" y="102"/>
                  <a:pt x="509" y="104"/>
                </a:cubicBezTo>
                <a:cubicBezTo>
                  <a:pt x="505" y="103"/>
                  <a:pt x="498" y="105"/>
                  <a:pt x="497" y="101"/>
                </a:cubicBezTo>
                <a:cubicBezTo>
                  <a:pt x="494" y="91"/>
                  <a:pt x="510" y="96"/>
                  <a:pt x="524" y="98"/>
                </a:cubicBezTo>
                <a:cubicBezTo>
                  <a:pt x="532" y="99"/>
                  <a:pt x="540" y="100"/>
                  <a:pt x="548" y="101"/>
                </a:cubicBezTo>
                <a:cubicBezTo>
                  <a:pt x="569" y="98"/>
                  <a:pt x="591" y="84"/>
                  <a:pt x="599" y="107"/>
                </a:cubicBezTo>
                <a:cubicBezTo>
                  <a:pt x="615" y="84"/>
                  <a:pt x="581" y="101"/>
                  <a:pt x="572" y="107"/>
                </a:cubicBezTo>
                <a:cubicBezTo>
                  <a:pt x="557" y="104"/>
                  <a:pt x="543" y="104"/>
                  <a:pt x="530" y="95"/>
                </a:cubicBezTo>
                <a:cubicBezTo>
                  <a:pt x="536" y="71"/>
                  <a:pt x="527" y="92"/>
                  <a:pt x="557" y="80"/>
                </a:cubicBezTo>
                <a:cubicBezTo>
                  <a:pt x="560" y="79"/>
                  <a:pt x="569" y="60"/>
                  <a:pt x="569" y="59"/>
                </a:cubicBezTo>
                <a:cubicBezTo>
                  <a:pt x="573" y="36"/>
                  <a:pt x="574" y="14"/>
                  <a:pt x="584" y="56"/>
                </a:cubicBezTo>
                <a:cubicBezTo>
                  <a:pt x="586" y="64"/>
                  <a:pt x="600" y="58"/>
                  <a:pt x="608" y="59"/>
                </a:cubicBezTo>
                <a:cubicBezTo>
                  <a:pt x="618" y="121"/>
                  <a:pt x="596" y="21"/>
                  <a:pt x="641" y="71"/>
                </a:cubicBezTo>
                <a:cubicBezTo>
                  <a:pt x="650" y="81"/>
                  <a:pt x="643" y="99"/>
                  <a:pt x="644" y="113"/>
                </a:cubicBezTo>
                <a:cubicBezTo>
                  <a:pt x="657" y="93"/>
                  <a:pt x="641" y="113"/>
                  <a:pt x="632" y="116"/>
                </a:cubicBezTo>
                <a:cubicBezTo>
                  <a:pt x="615" y="114"/>
                  <a:pt x="603" y="109"/>
                  <a:pt x="587" y="113"/>
                </a:cubicBezTo>
                <a:cubicBezTo>
                  <a:pt x="586" y="119"/>
                  <a:pt x="580" y="127"/>
                  <a:pt x="584" y="131"/>
                </a:cubicBezTo>
                <a:cubicBezTo>
                  <a:pt x="591" y="138"/>
                  <a:pt x="593" y="113"/>
                  <a:pt x="602" y="110"/>
                </a:cubicBezTo>
                <a:cubicBezTo>
                  <a:pt x="613" y="107"/>
                  <a:pt x="624" y="108"/>
                  <a:pt x="635" y="107"/>
                </a:cubicBezTo>
                <a:cubicBezTo>
                  <a:pt x="629" y="67"/>
                  <a:pt x="637" y="77"/>
                  <a:pt x="611" y="86"/>
                </a:cubicBezTo>
                <a:cubicBezTo>
                  <a:pt x="587" y="80"/>
                  <a:pt x="598" y="72"/>
                  <a:pt x="614" y="68"/>
                </a:cubicBezTo>
                <a:cubicBezTo>
                  <a:pt x="638" y="52"/>
                  <a:pt x="609" y="63"/>
                  <a:pt x="602" y="68"/>
                </a:cubicBezTo>
                <a:cubicBezTo>
                  <a:pt x="593" y="87"/>
                  <a:pt x="586" y="83"/>
                  <a:pt x="566" y="80"/>
                </a:cubicBezTo>
                <a:cubicBezTo>
                  <a:pt x="600" y="57"/>
                  <a:pt x="583" y="65"/>
                  <a:pt x="617" y="56"/>
                </a:cubicBezTo>
                <a:cubicBezTo>
                  <a:pt x="631" y="35"/>
                  <a:pt x="614" y="36"/>
                  <a:pt x="593" y="29"/>
                </a:cubicBezTo>
                <a:cubicBezTo>
                  <a:pt x="581" y="30"/>
                  <a:pt x="567" y="26"/>
                  <a:pt x="557" y="32"/>
                </a:cubicBezTo>
                <a:cubicBezTo>
                  <a:pt x="538" y="43"/>
                  <a:pt x="555" y="61"/>
                  <a:pt x="533" y="68"/>
                </a:cubicBezTo>
                <a:cubicBezTo>
                  <a:pt x="525" y="80"/>
                  <a:pt x="522" y="86"/>
                  <a:pt x="509" y="77"/>
                </a:cubicBezTo>
                <a:cubicBezTo>
                  <a:pt x="507" y="73"/>
                  <a:pt x="503" y="69"/>
                  <a:pt x="503" y="65"/>
                </a:cubicBezTo>
                <a:cubicBezTo>
                  <a:pt x="503" y="61"/>
                  <a:pt x="510" y="59"/>
                  <a:pt x="509" y="56"/>
                </a:cubicBezTo>
                <a:cubicBezTo>
                  <a:pt x="507" y="49"/>
                  <a:pt x="497" y="51"/>
                  <a:pt x="491" y="47"/>
                </a:cubicBezTo>
                <a:cubicBezTo>
                  <a:pt x="489" y="51"/>
                  <a:pt x="489" y="56"/>
                  <a:pt x="485" y="59"/>
                </a:cubicBezTo>
                <a:cubicBezTo>
                  <a:pt x="481" y="62"/>
                  <a:pt x="465" y="62"/>
                  <a:pt x="470" y="62"/>
                </a:cubicBezTo>
                <a:cubicBezTo>
                  <a:pt x="496" y="64"/>
                  <a:pt x="522" y="64"/>
                  <a:pt x="548" y="65"/>
                </a:cubicBezTo>
                <a:cubicBezTo>
                  <a:pt x="551" y="69"/>
                  <a:pt x="553" y="80"/>
                  <a:pt x="557" y="77"/>
                </a:cubicBezTo>
                <a:cubicBezTo>
                  <a:pt x="563" y="72"/>
                  <a:pt x="563" y="53"/>
                  <a:pt x="563" y="53"/>
                </a:cubicBezTo>
                <a:cubicBezTo>
                  <a:pt x="545" y="41"/>
                  <a:pt x="536" y="29"/>
                  <a:pt x="560" y="17"/>
                </a:cubicBezTo>
                <a:cubicBezTo>
                  <a:pt x="563" y="19"/>
                  <a:pt x="567" y="20"/>
                  <a:pt x="569" y="23"/>
                </a:cubicBezTo>
                <a:cubicBezTo>
                  <a:pt x="572" y="28"/>
                  <a:pt x="569" y="38"/>
                  <a:pt x="575" y="41"/>
                </a:cubicBezTo>
                <a:cubicBezTo>
                  <a:pt x="604" y="55"/>
                  <a:pt x="572" y="42"/>
                  <a:pt x="566" y="41"/>
                </a:cubicBezTo>
                <a:cubicBezTo>
                  <a:pt x="569" y="24"/>
                  <a:pt x="571" y="21"/>
                  <a:pt x="587" y="26"/>
                </a:cubicBezTo>
                <a:cubicBezTo>
                  <a:pt x="571" y="33"/>
                  <a:pt x="561" y="43"/>
                  <a:pt x="545" y="47"/>
                </a:cubicBezTo>
                <a:cubicBezTo>
                  <a:pt x="525" y="43"/>
                  <a:pt x="520" y="41"/>
                  <a:pt x="524" y="20"/>
                </a:cubicBezTo>
                <a:cubicBezTo>
                  <a:pt x="544" y="27"/>
                  <a:pt x="557" y="34"/>
                  <a:pt x="578" y="29"/>
                </a:cubicBezTo>
                <a:cubicBezTo>
                  <a:pt x="584" y="54"/>
                  <a:pt x="579" y="51"/>
                  <a:pt x="611" y="47"/>
                </a:cubicBezTo>
                <a:cubicBezTo>
                  <a:pt x="626" y="68"/>
                  <a:pt x="614" y="72"/>
                  <a:pt x="644" y="68"/>
                </a:cubicBezTo>
                <a:cubicBezTo>
                  <a:pt x="670" y="50"/>
                  <a:pt x="630" y="75"/>
                  <a:pt x="647" y="86"/>
                </a:cubicBezTo>
                <a:cubicBezTo>
                  <a:pt x="656" y="92"/>
                  <a:pt x="669" y="82"/>
                  <a:pt x="680" y="80"/>
                </a:cubicBezTo>
                <a:cubicBezTo>
                  <a:pt x="668" y="115"/>
                  <a:pt x="700" y="102"/>
                  <a:pt x="725" y="98"/>
                </a:cubicBezTo>
                <a:cubicBezTo>
                  <a:pt x="688" y="110"/>
                  <a:pt x="732" y="112"/>
                  <a:pt x="659" y="107"/>
                </a:cubicBezTo>
                <a:cubicBezTo>
                  <a:pt x="648" y="90"/>
                  <a:pt x="653" y="106"/>
                  <a:pt x="680" y="101"/>
                </a:cubicBezTo>
                <a:cubicBezTo>
                  <a:pt x="682" y="95"/>
                  <a:pt x="688" y="89"/>
                  <a:pt x="686" y="83"/>
                </a:cubicBezTo>
                <a:cubicBezTo>
                  <a:pt x="685" y="80"/>
                  <a:pt x="680" y="75"/>
                  <a:pt x="683" y="74"/>
                </a:cubicBezTo>
                <a:cubicBezTo>
                  <a:pt x="686" y="72"/>
                  <a:pt x="689" y="78"/>
                  <a:pt x="692" y="80"/>
                </a:cubicBezTo>
                <a:cubicBezTo>
                  <a:pt x="694" y="88"/>
                  <a:pt x="697" y="101"/>
                  <a:pt x="698" y="101"/>
                </a:cubicBezTo>
                <a:cubicBezTo>
                  <a:pt x="713" y="101"/>
                  <a:pt x="723" y="93"/>
                  <a:pt x="734" y="86"/>
                </a:cubicBezTo>
                <a:cubicBezTo>
                  <a:pt x="728" y="103"/>
                  <a:pt x="742" y="100"/>
                  <a:pt x="749" y="89"/>
                </a:cubicBezTo>
                <a:cubicBezTo>
                  <a:pt x="759" y="118"/>
                  <a:pt x="724" y="111"/>
                  <a:pt x="704" y="113"/>
                </a:cubicBezTo>
                <a:cubicBezTo>
                  <a:pt x="694" y="116"/>
                  <a:pt x="687" y="122"/>
                  <a:pt x="677" y="125"/>
                </a:cubicBezTo>
                <a:cubicBezTo>
                  <a:pt x="665" y="113"/>
                  <a:pt x="663" y="116"/>
                  <a:pt x="650" y="125"/>
                </a:cubicBezTo>
                <a:cubicBezTo>
                  <a:pt x="643" y="105"/>
                  <a:pt x="593" y="122"/>
                  <a:pt x="575" y="128"/>
                </a:cubicBezTo>
                <a:cubicBezTo>
                  <a:pt x="547" y="121"/>
                  <a:pt x="557" y="127"/>
                  <a:pt x="557" y="92"/>
                </a:cubicBezTo>
                <a:cubicBezTo>
                  <a:pt x="557" y="89"/>
                  <a:pt x="556" y="99"/>
                  <a:pt x="554" y="101"/>
                </a:cubicBezTo>
                <a:cubicBezTo>
                  <a:pt x="549" y="107"/>
                  <a:pt x="540" y="108"/>
                  <a:pt x="533" y="110"/>
                </a:cubicBezTo>
                <a:cubicBezTo>
                  <a:pt x="517" y="122"/>
                  <a:pt x="516" y="114"/>
                  <a:pt x="500" y="119"/>
                </a:cubicBezTo>
                <a:cubicBezTo>
                  <a:pt x="476" y="103"/>
                  <a:pt x="507" y="128"/>
                  <a:pt x="494" y="95"/>
                </a:cubicBezTo>
                <a:cubicBezTo>
                  <a:pt x="493" y="92"/>
                  <a:pt x="488" y="97"/>
                  <a:pt x="485" y="98"/>
                </a:cubicBezTo>
                <a:cubicBezTo>
                  <a:pt x="477" y="102"/>
                  <a:pt x="461" y="110"/>
                  <a:pt x="461" y="110"/>
                </a:cubicBezTo>
                <a:cubicBezTo>
                  <a:pt x="459" y="113"/>
                  <a:pt x="459" y="119"/>
                  <a:pt x="455" y="119"/>
                </a:cubicBezTo>
                <a:cubicBezTo>
                  <a:pt x="449" y="120"/>
                  <a:pt x="443" y="115"/>
                  <a:pt x="437" y="113"/>
                </a:cubicBezTo>
                <a:cubicBezTo>
                  <a:pt x="434" y="112"/>
                  <a:pt x="428" y="110"/>
                  <a:pt x="428" y="110"/>
                </a:cubicBezTo>
                <a:cubicBezTo>
                  <a:pt x="404" y="126"/>
                  <a:pt x="434" y="110"/>
                  <a:pt x="410" y="110"/>
                </a:cubicBezTo>
                <a:cubicBezTo>
                  <a:pt x="403" y="110"/>
                  <a:pt x="396" y="116"/>
                  <a:pt x="389" y="116"/>
                </a:cubicBezTo>
              </a:path>
            </a:pathLst>
          </a:custGeom>
          <a:solidFill>
            <a:srgbClr val="99ffcc"/>
          </a:solidFill>
          <a:ln w="64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9429840" y="17164080"/>
            <a:ext cx="1204920" cy="220680"/>
          </a:xfrm>
          <a:custGeom>
            <a:avLst/>
            <a:gdLst/>
            <a:ahLst/>
            <a:rect l="l" t="t" r="r" b="b"/>
            <a:pathLst>
              <a:path w="759" h="139">
                <a:moveTo>
                  <a:pt x="35" y="119"/>
                </a:moveTo>
                <a:cubicBezTo>
                  <a:pt x="0" y="128"/>
                  <a:pt x="15" y="116"/>
                  <a:pt x="35" y="110"/>
                </a:cubicBezTo>
                <a:cubicBezTo>
                  <a:pt x="38" y="109"/>
                  <a:pt x="41" y="108"/>
                  <a:pt x="44" y="107"/>
                </a:cubicBezTo>
                <a:cubicBezTo>
                  <a:pt x="59" y="117"/>
                  <a:pt x="61" y="108"/>
                  <a:pt x="71" y="95"/>
                </a:cubicBezTo>
                <a:cubicBezTo>
                  <a:pt x="76" y="100"/>
                  <a:pt x="88" y="108"/>
                  <a:pt x="83" y="113"/>
                </a:cubicBezTo>
                <a:cubicBezTo>
                  <a:pt x="79" y="117"/>
                  <a:pt x="73" y="115"/>
                  <a:pt x="68" y="116"/>
                </a:cubicBezTo>
                <a:cubicBezTo>
                  <a:pt x="65" y="117"/>
                  <a:pt x="59" y="122"/>
                  <a:pt x="59" y="119"/>
                </a:cubicBezTo>
                <a:cubicBezTo>
                  <a:pt x="59" y="115"/>
                  <a:pt x="65" y="114"/>
                  <a:pt x="68" y="113"/>
                </a:cubicBezTo>
                <a:cubicBezTo>
                  <a:pt x="72" y="111"/>
                  <a:pt x="76" y="111"/>
                  <a:pt x="80" y="110"/>
                </a:cubicBezTo>
                <a:cubicBezTo>
                  <a:pt x="82" y="107"/>
                  <a:pt x="82" y="102"/>
                  <a:pt x="86" y="101"/>
                </a:cubicBezTo>
                <a:cubicBezTo>
                  <a:pt x="97" y="99"/>
                  <a:pt x="94" y="112"/>
                  <a:pt x="98" y="116"/>
                </a:cubicBezTo>
                <a:cubicBezTo>
                  <a:pt x="100" y="118"/>
                  <a:pt x="110" y="119"/>
                  <a:pt x="107" y="119"/>
                </a:cubicBezTo>
                <a:cubicBezTo>
                  <a:pt x="101" y="119"/>
                  <a:pt x="95" y="117"/>
                  <a:pt x="89" y="116"/>
                </a:cubicBezTo>
                <a:cubicBezTo>
                  <a:pt x="101" y="108"/>
                  <a:pt x="111" y="111"/>
                  <a:pt x="119" y="98"/>
                </a:cubicBezTo>
                <a:cubicBezTo>
                  <a:pt x="103" y="93"/>
                  <a:pt x="102" y="108"/>
                  <a:pt x="92" y="92"/>
                </a:cubicBezTo>
                <a:cubicBezTo>
                  <a:pt x="106" y="88"/>
                  <a:pt x="111" y="92"/>
                  <a:pt x="125" y="95"/>
                </a:cubicBezTo>
                <a:cubicBezTo>
                  <a:pt x="131" y="78"/>
                  <a:pt x="128" y="93"/>
                  <a:pt x="107" y="83"/>
                </a:cubicBezTo>
                <a:cubicBezTo>
                  <a:pt x="113" y="81"/>
                  <a:pt x="120" y="70"/>
                  <a:pt x="125" y="74"/>
                </a:cubicBezTo>
                <a:cubicBezTo>
                  <a:pt x="129" y="77"/>
                  <a:pt x="124" y="85"/>
                  <a:pt x="128" y="89"/>
                </a:cubicBezTo>
                <a:cubicBezTo>
                  <a:pt x="135" y="96"/>
                  <a:pt x="155" y="98"/>
                  <a:pt x="155" y="98"/>
                </a:cubicBezTo>
                <a:cubicBezTo>
                  <a:pt x="145" y="113"/>
                  <a:pt x="129" y="108"/>
                  <a:pt x="113" y="116"/>
                </a:cubicBezTo>
                <a:cubicBezTo>
                  <a:pt x="103" y="130"/>
                  <a:pt x="97" y="123"/>
                  <a:pt x="83" y="116"/>
                </a:cubicBezTo>
                <a:cubicBezTo>
                  <a:pt x="63" y="123"/>
                  <a:pt x="88" y="123"/>
                  <a:pt x="95" y="125"/>
                </a:cubicBezTo>
                <a:cubicBezTo>
                  <a:pt x="124" y="122"/>
                  <a:pt x="139" y="119"/>
                  <a:pt x="164" y="107"/>
                </a:cubicBezTo>
                <a:cubicBezTo>
                  <a:pt x="157" y="85"/>
                  <a:pt x="160" y="114"/>
                  <a:pt x="146" y="92"/>
                </a:cubicBezTo>
                <a:cubicBezTo>
                  <a:pt x="157" y="88"/>
                  <a:pt x="169" y="91"/>
                  <a:pt x="179" y="86"/>
                </a:cubicBezTo>
                <a:cubicBezTo>
                  <a:pt x="182" y="85"/>
                  <a:pt x="185" y="78"/>
                  <a:pt x="182" y="77"/>
                </a:cubicBezTo>
                <a:cubicBezTo>
                  <a:pt x="175" y="75"/>
                  <a:pt x="168" y="79"/>
                  <a:pt x="161" y="80"/>
                </a:cubicBezTo>
                <a:cubicBezTo>
                  <a:pt x="158" y="79"/>
                  <a:pt x="155" y="78"/>
                  <a:pt x="152" y="77"/>
                </a:cubicBezTo>
                <a:cubicBezTo>
                  <a:pt x="148" y="76"/>
                  <a:pt x="154" y="86"/>
                  <a:pt x="158" y="89"/>
                </a:cubicBezTo>
                <a:cubicBezTo>
                  <a:pt x="163" y="93"/>
                  <a:pt x="170" y="93"/>
                  <a:pt x="176" y="95"/>
                </a:cubicBezTo>
                <a:cubicBezTo>
                  <a:pt x="180" y="107"/>
                  <a:pt x="187" y="105"/>
                  <a:pt x="194" y="116"/>
                </a:cubicBezTo>
                <a:cubicBezTo>
                  <a:pt x="181" y="120"/>
                  <a:pt x="176" y="113"/>
                  <a:pt x="164" y="107"/>
                </a:cubicBezTo>
                <a:cubicBezTo>
                  <a:pt x="185" y="106"/>
                  <a:pt x="207" y="110"/>
                  <a:pt x="227" y="104"/>
                </a:cubicBezTo>
                <a:cubicBezTo>
                  <a:pt x="232" y="103"/>
                  <a:pt x="228" y="92"/>
                  <a:pt x="224" y="89"/>
                </a:cubicBezTo>
                <a:cubicBezTo>
                  <a:pt x="221" y="86"/>
                  <a:pt x="216" y="91"/>
                  <a:pt x="212" y="92"/>
                </a:cubicBezTo>
                <a:cubicBezTo>
                  <a:pt x="209" y="94"/>
                  <a:pt x="178" y="115"/>
                  <a:pt x="203" y="107"/>
                </a:cubicBezTo>
                <a:cubicBezTo>
                  <a:pt x="217" y="116"/>
                  <a:pt x="259" y="121"/>
                  <a:pt x="236" y="98"/>
                </a:cubicBezTo>
                <a:cubicBezTo>
                  <a:pt x="208" y="103"/>
                  <a:pt x="217" y="94"/>
                  <a:pt x="209" y="71"/>
                </a:cubicBezTo>
                <a:cubicBezTo>
                  <a:pt x="195" y="76"/>
                  <a:pt x="195" y="83"/>
                  <a:pt x="182" y="74"/>
                </a:cubicBezTo>
                <a:cubicBezTo>
                  <a:pt x="177" y="59"/>
                  <a:pt x="187" y="62"/>
                  <a:pt x="200" y="59"/>
                </a:cubicBezTo>
                <a:cubicBezTo>
                  <a:pt x="209" y="33"/>
                  <a:pt x="161" y="65"/>
                  <a:pt x="188" y="56"/>
                </a:cubicBezTo>
                <a:cubicBezTo>
                  <a:pt x="204" y="59"/>
                  <a:pt x="211" y="61"/>
                  <a:pt x="221" y="47"/>
                </a:cubicBezTo>
                <a:cubicBezTo>
                  <a:pt x="232" y="79"/>
                  <a:pt x="211" y="87"/>
                  <a:pt x="254" y="77"/>
                </a:cubicBezTo>
                <a:cubicBezTo>
                  <a:pt x="236" y="73"/>
                  <a:pt x="234" y="64"/>
                  <a:pt x="221" y="77"/>
                </a:cubicBezTo>
                <a:cubicBezTo>
                  <a:pt x="225" y="78"/>
                  <a:pt x="278" y="86"/>
                  <a:pt x="281" y="89"/>
                </a:cubicBezTo>
                <a:cubicBezTo>
                  <a:pt x="284" y="92"/>
                  <a:pt x="278" y="98"/>
                  <a:pt x="275" y="101"/>
                </a:cubicBezTo>
                <a:cubicBezTo>
                  <a:pt x="267" y="109"/>
                  <a:pt x="246" y="116"/>
                  <a:pt x="236" y="119"/>
                </a:cubicBezTo>
                <a:cubicBezTo>
                  <a:pt x="200" y="95"/>
                  <a:pt x="236" y="111"/>
                  <a:pt x="203" y="119"/>
                </a:cubicBezTo>
                <a:cubicBezTo>
                  <a:pt x="214" y="102"/>
                  <a:pt x="204" y="111"/>
                  <a:pt x="233" y="116"/>
                </a:cubicBezTo>
                <a:cubicBezTo>
                  <a:pt x="245" y="118"/>
                  <a:pt x="269" y="122"/>
                  <a:pt x="269" y="122"/>
                </a:cubicBezTo>
                <a:cubicBezTo>
                  <a:pt x="286" y="116"/>
                  <a:pt x="284" y="107"/>
                  <a:pt x="290" y="92"/>
                </a:cubicBezTo>
                <a:cubicBezTo>
                  <a:pt x="291" y="89"/>
                  <a:pt x="299" y="86"/>
                  <a:pt x="296" y="83"/>
                </a:cubicBezTo>
                <a:cubicBezTo>
                  <a:pt x="293" y="80"/>
                  <a:pt x="290" y="87"/>
                  <a:pt x="287" y="89"/>
                </a:cubicBezTo>
                <a:cubicBezTo>
                  <a:pt x="286" y="93"/>
                  <a:pt x="281" y="98"/>
                  <a:pt x="284" y="101"/>
                </a:cubicBezTo>
                <a:cubicBezTo>
                  <a:pt x="287" y="104"/>
                  <a:pt x="292" y="98"/>
                  <a:pt x="296" y="98"/>
                </a:cubicBezTo>
                <a:cubicBezTo>
                  <a:pt x="306" y="98"/>
                  <a:pt x="316" y="100"/>
                  <a:pt x="326" y="101"/>
                </a:cubicBezTo>
                <a:cubicBezTo>
                  <a:pt x="328" y="105"/>
                  <a:pt x="334" y="109"/>
                  <a:pt x="332" y="113"/>
                </a:cubicBezTo>
                <a:cubicBezTo>
                  <a:pt x="330" y="116"/>
                  <a:pt x="323" y="112"/>
                  <a:pt x="320" y="110"/>
                </a:cubicBezTo>
                <a:cubicBezTo>
                  <a:pt x="314" y="106"/>
                  <a:pt x="309" y="87"/>
                  <a:pt x="308" y="83"/>
                </a:cubicBezTo>
                <a:cubicBezTo>
                  <a:pt x="305" y="73"/>
                  <a:pt x="328" y="87"/>
                  <a:pt x="338" y="89"/>
                </a:cubicBezTo>
                <a:cubicBezTo>
                  <a:pt x="347" y="90"/>
                  <a:pt x="356" y="91"/>
                  <a:pt x="365" y="92"/>
                </a:cubicBezTo>
                <a:cubicBezTo>
                  <a:pt x="372" y="113"/>
                  <a:pt x="377" y="108"/>
                  <a:pt x="362" y="113"/>
                </a:cubicBezTo>
                <a:cubicBezTo>
                  <a:pt x="319" y="102"/>
                  <a:pt x="352" y="99"/>
                  <a:pt x="374" y="77"/>
                </a:cubicBezTo>
                <a:cubicBezTo>
                  <a:pt x="364" y="48"/>
                  <a:pt x="356" y="94"/>
                  <a:pt x="356" y="98"/>
                </a:cubicBezTo>
                <a:cubicBezTo>
                  <a:pt x="366" y="128"/>
                  <a:pt x="355" y="125"/>
                  <a:pt x="326" y="122"/>
                </a:cubicBezTo>
                <a:cubicBezTo>
                  <a:pt x="313" y="113"/>
                  <a:pt x="313" y="107"/>
                  <a:pt x="317" y="92"/>
                </a:cubicBezTo>
                <a:cubicBezTo>
                  <a:pt x="313" y="76"/>
                  <a:pt x="312" y="72"/>
                  <a:pt x="296" y="68"/>
                </a:cubicBezTo>
                <a:cubicBezTo>
                  <a:pt x="279" y="72"/>
                  <a:pt x="275" y="84"/>
                  <a:pt x="266" y="65"/>
                </a:cubicBezTo>
                <a:cubicBezTo>
                  <a:pt x="283" y="43"/>
                  <a:pt x="282" y="61"/>
                  <a:pt x="305" y="53"/>
                </a:cubicBezTo>
                <a:cubicBezTo>
                  <a:pt x="314" y="27"/>
                  <a:pt x="294" y="73"/>
                  <a:pt x="287" y="80"/>
                </a:cubicBezTo>
                <a:cubicBezTo>
                  <a:pt x="300" y="89"/>
                  <a:pt x="311" y="82"/>
                  <a:pt x="326" y="77"/>
                </a:cubicBezTo>
                <a:cubicBezTo>
                  <a:pt x="332" y="65"/>
                  <a:pt x="330" y="54"/>
                  <a:pt x="344" y="59"/>
                </a:cubicBezTo>
                <a:cubicBezTo>
                  <a:pt x="347" y="63"/>
                  <a:pt x="351" y="67"/>
                  <a:pt x="353" y="71"/>
                </a:cubicBezTo>
                <a:cubicBezTo>
                  <a:pt x="355" y="74"/>
                  <a:pt x="353" y="79"/>
                  <a:pt x="356" y="80"/>
                </a:cubicBezTo>
                <a:cubicBezTo>
                  <a:pt x="361" y="81"/>
                  <a:pt x="404" y="75"/>
                  <a:pt x="413" y="74"/>
                </a:cubicBezTo>
                <a:cubicBezTo>
                  <a:pt x="416" y="72"/>
                  <a:pt x="418" y="68"/>
                  <a:pt x="422" y="68"/>
                </a:cubicBezTo>
                <a:cubicBezTo>
                  <a:pt x="431" y="69"/>
                  <a:pt x="449" y="77"/>
                  <a:pt x="449" y="77"/>
                </a:cubicBezTo>
                <a:cubicBezTo>
                  <a:pt x="444" y="114"/>
                  <a:pt x="460" y="139"/>
                  <a:pt x="422" y="101"/>
                </a:cubicBezTo>
                <a:cubicBezTo>
                  <a:pt x="420" y="93"/>
                  <a:pt x="419" y="85"/>
                  <a:pt x="416" y="77"/>
                </a:cubicBezTo>
                <a:cubicBezTo>
                  <a:pt x="415" y="74"/>
                  <a:pt x="409" y="71"/>
                  <a:pt x="410" y="68"/>
                </a:cubicBezTo>
                <a:cubicBezTo>
                  <a:pt x="413" y="60"/>
                  <a:pt x="428" y="50"/>
                  <a:pt x="428" y="50"/>
                </a:cubicBezTo>
                <a:cubicBezTo>
                  <a:pt x="427" y="63"/>
                  <a:pt x="416" y="83"/>
                  <a:pt x="428" y="89"/>
                </a:cubicBezTo>
                <a:cubicBezTo>
                  <a:pt x="431" y="90"/>
                  <a:pt x="437" y="83"/>
                  <a:pt x="437" y="86"/>
                </a:cubicBezTo>
                <a:cubicBezTo>
                  <a:pt x="437" y="93"/>
                  <a:pt x="418" y="93"/>
                  <a:pt x="404" y="95"/>
                </a:cubicBezTo>
                <a:cubicBezTo>
                  <a:pt x="386" y="101"/>
                  <a:pt x="398" y="116"/>
                  <a:pt x="386" y="98"/>
                </a:cubicBezTo>
                <a:cubicBezTo>
                  <a:pt x="396" y="63"/>
                  <a:pt x="395" y="87"/>
                  <a:pt x="413" y="62"/>
                </a:cubicBezTo>
                <a:cubicBezTo>
                  <a:pt x="418" y="46"/>
                  <a:pt x="406" y="19"/>
                  <a:pt x="428" y="26"/>
                </a:cubicBezTo>
                <a:cubicBezTo>
                  <a:pt x="441" y="17"/>
                  <a:pt x="446" y="24"/>
                  <a:pt x="458" y="32"/>
                </a:cubicBezTo>
                <a:cubicBezTo>
                  <a:pt x="538" y="27"/>
                  <a:pt x="501" y="32"/>
                  <a:pt x="464" y="44"/>
                </a:cubicBezTo>
                <a:cubicBezTo>
                  <a:pt x="454" y="23"/>
                  <a:pt x="439" y="33"/>
                  <a:pt x="422" y="44"/>
                </a:cubicBezTo>
                <a:cubicBezTo>
                  <a:pt x="409" y="25"/>
                  <a:pt x="406" y="46"/>
                  <a:pt x="404" y="59"/>
                </a:cubicBezTo>
                <a:cubicBezTo>
                  <a:pt x="397" y="57"/>
                  <a:pt x="374" y="51"/>
                  <a:pt x="374" y="50"/>
                </a:cubicBezTo>
                <a:cubicBezTo>
                  <a:pt x="371" y="36"/>
                  <a:pt x="396" y="26"/>
                  <a:pt x="404" y="23"/>
                </a:cubicBezTo>
                <a:cubicBezTo>
                  <a:pt x="396" y="0"/>
                  <a:pt x="391" y="15"/>
                  <a:pt x="386" y="32"/>
                </a:cubicBezTo>
                <a:cubicBezTo>
                  <a:pt x="388" y="49"/>
                  <a:pt x="393" y="70"/>
                  <a:pt x="371" y="56"/>
                </a:cubicBezTo>
                <a:cubicBezTo>
                  <a:pt x="367" y="40"/>
                  <a:pt x="367" y="45"/>
                  <a:pt x="371" y="26"/>
                </a:cubicBezTo>
                <a:cubicBezTo>
                  <a:pt x="372" y="23"/>
                  <a:pt x="374" y="14"/>
                  <a:pt x="374" y="17"/>
                </a:cubicBezTo>
                <a:cubicBezTo>
                  <a:pt x="374" y="30"/>
                  <a:pt x="369" y="45"/>
                  <a:pt x="362" y="56"/>
                </a:cubicBezTo>
                <a:cubicBezTo>
                  <a:pt x="369" y="90"/>
                  <a:pt x="358" y="62"/>
                  <a:pt x="413" y="68"/>
                </a:cubicBezTo>
                <a:cubicBezTo>
                  <a:pt x="421" y="69"/>
                  <a:pt x="425" y="79"/>
                  <a:pt x="431" y="83"/>
                </a:cubicBezTo>
                <a:cubicBezTo>
                  <a:pt x="459" y="76"/>
                  <a:pt x="454" y="78"/>
                  <a:pt x="476" y="89"/>
                </a:cubicBezTo>
                <a:cubicBezTo>
                  <a:pt x="491" y="82"/>
                  <a:pt x="495" y="70"/>
                  <a:pt x="500" y="89"/>
                </a:cubicBezTo>
                <a:cubicBezTo>
                  <a:pt x="498" y="93"/>
                  <a:pt x="498" y="99"/>
                  <a:pt x="494" y="101"/>
                </a:cubicBezTo>
                <a:cubicBezTo>
                  <a:pt x="488" y="103"/>
                  <a:pt x="482" y="99"/>
                  <a:pt x="476" y="98"/>
                </a:cubicBezTo>
                <a:cubicBezTo>
                  <a:pt x="473" y="97"/>
                  <a:pt x="467" y="92"/>
                  <a:pt x="467" y="95"/>
                </a:cubicBezTo>
                <a:cubicBezTo>
                  <a:pt x="467" y="105"/>
                  <a:pt x="487" y="103"/>
                  <a:pt x="497" y="104"/>
                </a:cubicBezTo>
                <a:cubicBezTo>
                  <a:pt x="514" y="95"/>
                  <a:pt x="515" y="91"/>
                  <a:pt x="527" y="107"/>
                </a:cubicBezTo>
                <a:cubicBezTo>
                  <a:pt x="523" y="108"/>
                  <a:pt x="519" y="111"/>
                  <a:pt x="515" y="110"/>
                </a:cubicBezTo>
                <a:cubicBezTo>
                  <a:pt x="511" y="109"/>
                  <a:pt x="510" y="104"/>
                  <a:pt x="506" y="104"/>
                </a:cubicBezTo>
                <a:cubicBezTo>
                  <a:pt x="499" y="104"/>
                  <a:pt x="494" y="111"/>
                  <a:pt x="488" y="113"/>
                </a:cubicBezTo>
                <a:cubicBezTo>
                  <a:pt x="461" y="110"/>
                  <a:pt x="450" y="112"/>
                  <a:pt x="467" y="89"/>
                </a:cubicBezTo>
                <a:cubicBezTo>
                  <a:pt x="487" y="94"/>
                  <a:pt x="521" y="78"/>
                  <a:pt x="542" y="74"/>
                </a:cubicBezTo>
                <a:cubicBezTo>
                  <a:pt x="544" y="68"/>
                  <a:pt x="542" y="56"/>
                  <a:pt x="548" y="56"/>
                </a:cubicBezTo>
                <a:cubicBezTo>
                  <a:pt x="563" y="56"/>
                  <a:pt x="550" y="86"/>
                  <a:pt x="551" y="89"/>
                </a:cubicBezTo>
                <a:cubicBezTo>
                  <a:pt x="552" y="92"/>
                  <a:pt x="557" y="87"/>
                  <a:pt x="560" y="86"/>
                </a:cubicBezTo>
                <a:cubicBezTo>
                  <a:pt x="554" y="105"/>
                  <a:pt x="526" y="102"/>
                  <a:pt x="509" y="104"/>
                </a:cubicBezTo>
                <a:cubicBezTo>
                  <a:pt x="505" y="103"/>
                  <a:pt x="498" y="105"/>
                  <a:pt x="497" y="101"/>
                </a:cubicBezTo>
                <a:cubicBezTo>
                  <a:pt x="494" y="91"/>
                  <a:pt x="510" y="96"/>
                  <a:pt x="524" y="98"/>
                </a:cubicBezTo>
                <a:cubicBezTo>
                  <a:pt x="532" y="99"/>
                  <a:pt x="540" y="100"/>
                  <a:pt x="548" y="101"/>
                </a:cubicBezTo>
                <a:cubicBezTo>
                  <a:pt x="569" y="98"/>
                  <a:pt x="591" y="84"/>
                  <a:pt x="599" y="107"/>
                </a:cubicBezTo>
                <a:cubicBezTo>
                  <a:pt x="615" y="84"/>
                  <a:pt x="581" y="101"/>
                  <a:pt x="572" y="107"/>
                </a:cubicBezTo>
                <a:cubicBezTo>
                  <a:pt x="557" y="104"/>
                  <a:pt x="543" y="104"/>
                  <a:pt x="530" y="95"/>
                </a:cubicBezTo>
                <a:cubicBezTo>
                  <a:pt x="536" y="71"/>
                  <a:pt x="527" y="92"/>
                  <a:pt x="557" y="80"/>
                </a:cubicBezTo>
                <a:cubicBezTo>
                  <a:pt x="560" y="79"/>
                  <a:pt x="569" y="60"/>
                  <a:pt x="569" y="59"/>
                </a:cubicBezTo>
                <a:cubicBezTo>
                  <a:pt x="573" y="36"/>
                  <a:pt x="574" y="14"/>
                  <a:pt x="584" y="56"/>
                </a:cubicBezTo>
                <a:cubicBezTo>
                  <a:pt x="586" y="64"/>
                  <a:pt x="600" y="58"/>
                  <a:pt x="608" y="59"/>
                </a:cubicBezTo>
                <a:cubicBezTo>
                  <a:pt x="618" y="121"/>
                  <a:pt x="596" y="21"/>
                  <a:pt x="641" y="71"/>
                </a:cubicBezTo>
                <a:cubicBezTo>
                  <a:pt x="650" y="81"/>
                  <a:pt x="643" y="99"/>
                  <a:pt x="644" y="113"/>
                </a:cubicBezTo>
                <a:cubicBezTo>
                  <a:pt x="657" y="93"/>
                  <a:pt x="641" y="113"/>
                  <a:pt x="632" y="116"/>
                </a:cubicBezTo>
                <a:cubicBezTo>
                  <a:pt x="615" y="114"/>
                  <a:pt x="603" y="109"/>
                  <a:pt x="587" y="113"/>
                </a:cubicBezTo>
                <a:cubicBezTo>
                  <a:pt x="586" y="119"/>
                  <a:pt x="580" y="127"/>
                  <a:pt x="584" y="131"/>
                </a:cubicBezTo>
                <a:cubicBezTo>
                  <a:pt x="591" y="138"/>
                  <a:pt x="593" y="113"/>
                  <a:pt x="602" y="110"/>
                </a:cubicBezTo>
                <a:cubicBezTo>
                  <a:pt x="613" y="107"/>
                  <a:pt x="624" y="108"/>
                  <a:pt x="635" y="107"/>
                </a:cubicBezTo>
                <a:cubicBezTo>
                  <a:pt x="629" y="67"/>
                  <a:pt x="637" y="77"/>
                  <a:pt x="611" y="86"/>
                </a:cubicBezTo>
                <a:cubicBezTo>
                  <a:pt x="587" y="80"/>
                  <a:pt x="598" y="72"/>
                  <a:pt x="614" y="68"/>
                </a:cubicBezTo>
                <a:cubicBezTo>
                  <a:pt x="638" y="52"/>
                  <a:pt x="609" y="63"/>
                  <a:pt x="602" y="68"/>
                </a:cubicBezTo>
                <a:cubicBezTo>
                  <a:pt x="593" y="87"/>
                  <a:pt x="586" y="83"/>
                  <a:pt x="566" y="80"/>
                </a:cubicBezTo>
                <a:cubicBezTo>
                  <a:pt x="600" y="57"/>
                  <a:pt x="583" y="65"/>
                  <a:pt x="617" y="56"/>
                </a:cubicBezTo>
                <a:cubicBezTo>
                  <a:pt x="631" y="35"/>
                  <a:pt x="614" y="36"/>
                  <a:pt x="593" y="29"/>
                </a:cubicBezTo>
                <a:cubicBezTo>
                  <a:pt x="581" y="30"/>
                  <a:pt x="567" y="26"/>
                  <a:pt x="557" y="32"/>
                </a:cubicBezTo>
                <a:cubicBezTo>
                  <a:pt x="538" y="43"/>
                  <a:pt x="555" y="61"/>
                  <a:pt x="533" y="68"/>
                </a:cubicBezTo>
                <a:cubicBezTo>
                  <a:pt x="525" y="80"/>
                  <a:pt x="522" y="86"/>
                  <a:pt x="509" y="77"/>
                </a:cubicBezTo>
                <a:cubicBezTo>
                  <a:pt x="507" y="73"/>
                  <a:pt x="503" y="69"/>
                  <a:pt x="503" y="65"/>
                </a:cubicBezTo>
                <a:cubicBezTo>
                  <a:pt x="503" y="61"/>
                  <a:pt x="510" y="59"/>
                  <a:pt x="509" y="56"/>
                </a:cubicBezTo>
                <a:cubicBezTo>
                  <a:pt x="507" y="49"/>
                  <a:pt x="497" y="51"/>
                  <a:pt x="491" y="47"/>
                </a:cubicBezTo>
                <a:cubicBezTo>
                  <a:pt x="489" y="51"/>
                  <a:pt x="489" y="56"/>
                  <a:pt x="485" y="59"/>
                </a:cubicBezTo>
                <a:cubicBezTo>
                  <a:pt x="481" y="62"/>
                  <a:pt x="465" y="62"/>
                  <a:pt x="470" y="62"/>
                </a:cubicBezTo>
                <a:cubicBezTo>
                  <a:pt x="496" y="64"/>
                  <a:pt x="522" y="64"/>
                  <a:pt x="548" y="65"/>
                </a:cubicBezTo>
                <a:cubicBezTo>
                  <a:pt x="551" y="69"/>
                  <a:pt x="553" y="80"/>
                  <a:pt x="557" y="77"/>
                </a:cubicBezTo>
                <a:cubicBezTo>
                  <a:pt x="563" y="72"/>
                  <a:pt x="563" y="53"/>
                  <a:pt x="563" y="53"/>
                </a:cubicBezTo>
                <a:cubicBezTo>
                  <a:pt x="545" y="41"/>
                  <a:pt x="536" y="29"/>
                  <a:pt x="560" y="17"/>
                </a:cubicBezTo>
                <a:cubicBezTo>
                  <a:pt x="563" y="19"/>
                  <a:pt x="567" y="20"/>
                  <a:pt x="569" y="23"/>
                </a:cubicBezTo>
                <a:cubicBezTo>
                  <a:pt x="572" y="28"/>
                  <a:pt x="569" y="38"/>
                  <a:pt x="575" y="41"/>
                </a:cubicBezTo>
                <a:cubicBezTo>
                  <a:pt x="604" y="55"/>
                  <a:pt x="572" y="42"/>
                  <a:pt x="566" y="41"/>
                </a:cubicBezTo>
                <a:cubicBezTo>
                  <a:pt x="569" y="24"/>
                  <a:pt x="571" y="21"/>
                  <a:pt x="587" y="26"/>
                </a:cubicBezTo>
                <a:cubicBezTo>
                  <a:pt x="571" y="33"/>
                  <a:pt x="561" y="43"/>
                  <a:pt x="545" y="47"/>
                </a:cubicBezTo>
                <a:cubicBezTo>
                  <a:pt x="525" y="43"/>
                  <a:pt x="520" y="41"/>
                  <a:pt x="524" y="20"/>
                </a:cubicBezTo>
                <a:cubicBezTo>
                  <a:pt x="544" y="27"/>
                  <a:pt x="557" y="34"/>
                  <a:pt x="578" y="29"/>
                </a:cubicBezTo>
                <a:cubicBezTo>
                  <a:pt x="584" y="54"/>
                  <a:pt x="579" y="51"/>
                  <a:pt x="611" y="47"/>
                </a:cubicBezTo>
                <a:cubicBezTo>
                  <a:pt x="626" y="68"/>
                  <a:pt x="614" y="72"/>
                  <a:pt x="644" y="68"/>
                </a:cubicBezTo>
                <a:cubicBezTo>
                  <a:pt x="670" y="50"/>
                  <a:pt x="630" y="75"/>
                  <a:pt x="647" y="86"/>
                </a:cubicBezTo>
                <a:cubicBezTo>
                  <a:pt x="656" y="92"/>
                  <a:pt x="669" y="82"/>
                  <a:pt x="680" y="80"/>
                </a:cubicBezTo>
                <a:cubicBezTo>
                  <a:pt x="668" y="115"/>
                  <a:pt x="700" y="102"/>
                  <a:pt x="725" y="98"/>
                </a:cubicBezTo>
                <a:cubicBezTo>
                  <a:pt x="688" y="110"/>
                  <a:pt x="732" y="112"/>
                  <a:pt x="659" y="107"/>
                </a:cubicBezTo>
                <a:cubicBezTo>
                  <a:pt x="648" y="90"/>
                  <a:pt x="653" y="106"/>
                  <a:pt x="680" y="101"/>
                </a:cubicBezTo>
                <a:cubicBezTo>
                  <a:pt x="682" y="95"/>
                  <a:pt x="688" y="89"/>
                  <a:pt x="686" y="83"/>
                </a:cubicBezTo>
                <a:cubicBezTo>
                  <a:pt x="685" y="80"/>
                  <a:pt x="680" y="75"/>
                  <a:pt x="683" y="74"/>
                </a:cubicBezTo>
                <a:cubicBezTo>
                  <a:pt x="686" y="72"/>
                  <a:pt x="689" y="78"/>
                  <a:pt x="692" y="80"/>
                </a:cubicBezTo>
                <a:cubicBezTo>
                  <a:pt x="694" y="88"/>
                  <a:pt x="697" y="101"/>
                  <a:pt x="698" y="101"/>
                </a:cubicBezTo>
                <a:cubicBezTo>
                  <a:pt x="713" y="101"/>
                  <a:pt x="723" y="93"/>
                  <a:pt x="734" y="86"/>
                </a:cubicBezTo>
                <a:cubicBezTo>
                  <a:pt x="728" y="103"/>
                  <a:pt x="742" y="100"/>
                  <a:pt x="749" y="89"/>
                </a:cubicBezTo>
                <a:cubicBezTo>
                  <a:pt x="759" y="118"/>
                  <a:pt x="724" y="111"/>
                  <a:pt x="704" y="113"/>
                </a:cubicBezTo>
                <a:cubicBezTo>
                  <a:pt x="694" y="116"/>
                  <a:pt x="687" y="122"/>
                  <a:pt x="677" y="125"/>
                </a:cubicBezTo>
                <a:cubicBezTo>
                  <a:pt x="665" y="113"/>
                  <a:pt x="663" y="116"/>
                  <a:pt x="650" y="125"/>
                </a:cubicBezTo>
                <a:cubicBezTo>
                  <a:pt x="643" y="105"/>
                  <a:pt x="593" y="122"/>
                  <a:pt x="575" y="128"/>
                </a:cubicBezTo>
                <a:cubicBezTo>
                  <a:pt x="547" y="121"/>
                  <a:pt x="557" y="127"/>
                  <a:pt x="557" y="92"/>
                </a:cubicBezTo>
                <a:cubicBezTo>
                  <a:pt x="557" y="89"/>
                  <a:pt x="556" y="99"/>
                  <a:pt x="554" y="101"/>
                </a:cubicBezTo>
                <a:cubicBezTo>
                  <a:pt x="549" y="107"/>
                  <a:pt x="540" y="108"/>
                  <a:pt x="533" y="110"/>
                </a:cubicBezTo>
                <a:cubicBezTo>
                  <a:pt x="517" y="122"/>
                  <a:pt x="516" y="114"/>
                  <a:pt x="500" y="119"/>
                </a:cubicBezTo>
                <a:cubicBezTo>
                  <a:pt x="476" y="103"/>
                  <a:pt x="507" y="128"/>
                  <a:pt x="494" y="95"/>
                </a:cubicBezTo>
                <a:cubicBezTo>
                  <a:pt x="493" y="92"/>
                  <a:pt x="488" y="97"/>
                  <a:pt x="485" y="98"/>
                </a:cubicBezTo>
                <a:cubicBezTo>
                  <a:pt x="477" y="102"/>
                  <a:pt x="461" y="110"/>
                  <a:pt x="461" y="110"/>
                </a:cubicBezTo>
                <a:cubicBezTo>
                  <a:pt x="459" y="113"/>
                  <a:pt x="459" y="119"/>
                  <a:pt x="455" y="119"/>
                </a:cubicBezTo>
                <a:cubicBezTo>
                  <a:pt x="449" y="120"/>
                  <a:pt x="443" y="115"/>
                  <a:pt x="437" y="113"/>
                </a:cubicBezTo>
                <a:cubicBezTo>
                  <a:pt x="434" y="112"/>
                  <a:pt x="428" y="110"/>
                  <a:pt x="428" y="110"/>
                </a:cubicBezTo>
                <a:cubicBezTo>
                  <a:pt x="404" y="126"/>
                  <a:pt x="434" y="110"/>
                  <a:pt x="410" y="110"/>
                </a:cubicBezTo>
                <a:cubicBezTo>
                  <a:pt x="403" y="110"/>
                  <a:pt x="396" y="116"/>
                  <a:pt x="389" y="116"/>
                </a:cubicBezTo>
              </a:path>
            </a:pathLst>
          </a:custGeom>
          <a:solidFill>
            <a:srgbClr val="66ff99"/>
          </a:solidFill>
          <a:ln w="64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1856960" y="17100720"/>
            <a:ext cx="453960" cy="237960"/>
          </a:xfrm>
          <a:custGeom>
            <a:avLst/>
            <a:gdLst/>
            <a:ahLst/>
            <a:rect l="l" t="t" r="r" b="b"/>
            <a:pathLst>
              <a:path w="286" h="150">
                <a:moveTo>
                  <a:pt x="54" y="99"/>
                </a:moveTo>
                <a:cubicBezTo>
                  <a:pt x="68" y="96"/>
                  <a:pt x="85" y="99"/>
                  <a:pt x="96" y="90"/>
                </a:cubicBezTo>
                <a:cubicBezTo>
                  <a:pt x="104" y="83"/>
                  <a:pt x="104" y="69"/>
                  <a:pt x="111" y="60"/>
                </a:cubicBezTo>
                <a:cubicBezTo>
                  <a:pt x="116" y="31"/>
                  <a:pt x="113" y="32"/>
                  <a:pt x="84" y="39"/>
                </a:cubicBezTo>
                <a:cubicBezTo>
                  <a:pt x="75" y="51"/>
                  <a:pt x="70" y="60"/>
                  <a:pt x="87" y="66"/>
                </a:cubicBezTo>
                <a:cubicBezTo>
                  <a:pt x="88" y="72"/>
                  <a:pt x="88" y="78"/>
                  <a:pt x="90" y="84"/>
                </a:cubicBezTo>
                <a:cubicBezTo>
                  <a:pt x="92" y="89"/>
                  <a:pt x="103" y="93"/>
                  <a:pt x="99" y="96"/>
                </a:cubicBezTo>
                <a:cubicBezTo>
                  <a:pt x="91" y="103"/>
                  <a:pt x="79" y="100"/>
                  <a:pt x="69" y="102"/>
                </a:cubicBezTo>
                <a:cubicBezTo>
                  <a:pt x="63" y="104"/>
                  <a:pt x="45" y="108"/>
                  <a:pt x="51" y="108"/>
                </a:cubicBezTo>
                <a:cubicBezTo>
                  <a:pt x="63" y="108"/>
                  <a:pt x="75" y="104"/>
                  <a:pt x="87" y="102"/>
                </a:cubicBezTo>
                <a:cubicBezTo>
                  <a:pt x="95" y="127"/>
                  <a:pt x="91" y="141"/>
                  <a:pt x="117" y="150"/>
                </a:cubicBezTo>
                <a:cubicBezTo>
                  <a:pt x="161" y="146"/>
                  <a:pt x="179" y="130"/>
                  <a:pt x="201" y="93"/>
                </a:cubicBezTo>
                <a:cubicBezTo>
                  <a:pt x="200" y="87"/>
                  <a:pt x="202" y="79"/>
                  <a:pt x="198" y="75"/>
                </a:cubicBezTo>
                <a:cubicBezTo>
                  <a:pt x="195" y="72"/>
                  <a:pt x="193" y="87"/>
                  <a:pt x="192" y="84"/>
                </a:cubicBezTo>
                <a:cubicBezTo>
                  <a:pt x="178" y="46"/>
                  <a:pt x="213" y="30"/>
                  <a:pt x="162" y="24"/>
                </a:cubicBezTo>
                <a:cubicBezTo>
                  <a:pt x="130" y="32"/>
                  <a:pt x="124" y="48"/>
                  <a:pt x="114" y="78"/>
                </a:cubicBezTo>
                <a:cubicBezTo>
                  <a:pt x="146" y="99"/>
                  <a:pt x="97" y="131"/>
                  <a:pt x="156" y="84"/>
                </a:cubicBezTo>
                <a:cubicBezTo>
                  <a:pt x="168" y="48"/>
                  <a:pt x="156" y="73"/>
                  <a:pt x="168" y="90"/>
                </a:cubicBezTo>
                <a:cubicBezTo>
                  <a:pt x="170" y="93"/>
                  <a:pt x="174" y="88"/>
                  <a:pt x="177" y="87"/>
                </a:cubicBezTo>
                <a:cubicBezTo>
                  <a:pt x="179" y="81"/>
                  <a:pt x="183" y="69"/>
                  <a:pt x="183" y="69"/>
                </a:cubicBezTo>
                <a:cubicBezTo>
                  <a:pt x="158" y="86"/>
                  <a:pt x="176" y="39"/>
                  <a:pt x="150" y="48"/>
                </a:cubicBezTo>
                <a:cubicBezTo>
                  <a:pt x="164" y="5"/>
                  <a:pt x="206" y="16"/>
                  <a:pt x="249" y="12"/>
                </a:cubicBezTo>
                <a:cubicBezTo>
                  <a:pt x="225" y="0"/>
                  <a:pt x="201" y="9"/>
                  <a:pt x="177" y="15"/>
                </a:cubicBezTo>
                <a:cubicBezTo>
                  <a:pt x="147" y="45"/>
                  <a:pt x="180" y="77"/>
                  <a:pt x="213" y="81"/>
                </a:cubicBezTo>
                <a:cubicBezTo>
                  <a:pt x="235" y="78"/>
                  <a:pt x="242" y="80"/>
                  <a:pt x="249" y="60"/>
                </a:cubicBezTo>
                <a:cubicBezTo>
                  <a:pt x="248" y="57"/>
                  <a:pt x="249" y="51"/>
                  <a:pt x="246" y="51"/>
                </a:cubicBezTo>
                <a:cubicBezTo>
                  <a:pt x="242" y="51"/>
                  <a:pt x="237" y="60"/>
                  <a:pt x="237" y="60"/>
                </a:cubicBezTo>
                <a:cubicBezTo>
                  <a:pt x="236" y="68"/>
                  <a:pt x="242" y="84"/>
                  <a:pt x="234" y="84"/>
                </a:cubicBezTo>
                <a:cubicBezTo>
                  <a:pt x="226" y="84"/>
                  <a:pt x="232" y="68"/>
                  <a:pt x="231" y="60"/>
                </a:cubicBezTo>
                <a:cubicBezTo>
                  <a:pt x="230" y="54"/>
                  <a:pt x="225" y="47"/>
                  <a:pt x="228" y="42"/>
                </a:cubicBezTo>
                <a:cubicBezTo>
                  <a:pt x="230" y="39"/>
                  <a:pt x="234" y="46"/>
                  <a:pt x="237" y="48"/>
                </a:cubicBezTo>
                <a:cubicBezTo>
                  <a:pt x="250" y="47"/>
                  <a:pt x="263" y="48"/>
                  <a:pt x="276" y="45"/>
                </a:cubicBezTo>
                <a:cubicBezTo>
                  <a:pt x="280" y="44"/>
                  <a:pt x="286" y="32"/>
                  <a:pt x="285" y="36"/>
                </a:cubicBezTo>
                <a:cubicBezTo>
                  <a:pt x="283" y="43"/>
                  <a:pt x="273" y="54"/>
                  <a:pt x="273" y="54"/>
                </a:cubicBezTo>
                <a:cubicBezTo>
                  <a:pt x="271" y="65"/>
                  <a:pt x="260" y="102"/>
                  <a:pt x="282" y="87"/>
                </a:cubicBezTo>
                <a:cubicBezTo>
                  <a:pt x="270" y="75"/>
                  <a:pt x="265" y="68"/>
                  <a:pt x="261" y="51"/>
                </a:cubicBezTo>
                <a:cubicBezTo>
                  <a:pt x="282" y="37"/>
                  <a:pt x="277" y="46"/>
                  <a:pt x="282" y="30"/>
                </a:cubicBezTo>
                <a:cubicBezTo>
                  <a:pt x="257" y="24"/>
                  <a:pt x="230" y="17"/>
                  <a:pt x="207" y="33"/>
                </a:cubicBezTo>
                <a:cubicBezTo>
                  <a:pt x="213" y="36"/>
                  <a:pt x="221" y="37"/>
                  <a:pt x="225" y="42"/>
                </a:cubicBezTo>
                <a:cubicBezTo>
                  <a:pt x="229" y="47"/>
                  <a:pt x="231" y="60"/>
                  <a:pt x="231" y="60"/>
                </a:cubicBezTo>
                <a:cubicBezTo>
                  <a:pt x="206" y="62"/>
                  <a:pt x="181" y="68"/>
                  <a:pt x="156" y="66"/>
                </a:cubicBezTo>
                <a:cubicBezTo>
                  <a:pt x="151" y="66"/>
                  <a:pt x="152" y="55"/>
                  <a:pt x="147" y="54"/>
                </a:cubicBezTo>
                <a:cubicBezTo>
                  <a:pt x="138" y="52"/>
                  <a:pt x="129" y="58"/>
                  <a:pt x="120" y="60"/>
                </a:cubicBezTo>
                <a:cubicBezTo>
                  <a:pt x="119" y="64"/>
                  <a:pt x="115" y="68"/>
                  <a:pt x="117" y="72"/>
                </a:cubicBezTo>
                <a:cubicBezTo>
                  <a:pt x="119" y="76"/>
                  <a:pt x="126" y="72"/>
                  <a:pt x="129" y="75"/>
                </a:cubicBezTo>
                <a:cubicBezTo>
                  <a:pt x="135" y="82"/>
                  <a:pt x="136" y="91"/>
                  <a:pt x="141" y="99"/>
                </a:cubicBezTo>
                <a:cubicBezTo>
                  <a:pt x="143" y="103"/>
                  <a:pt x="147" y="105"/>
                  <a:pt x="150" y="108"/>
                </a:cubicBezTo>
                <a:cubicBezTo>
                  <a:pt x="164" y="107"/>
                  <a:pt x="178" y="107"/>
                  <a:pt x="192" y="105"/>
                </a:cubicBezTo>
                <a:cubicBezTo>
                  <a:pt x="196" y="104"/>
                  <a:pt x="202" y="102"/>
                  <a:pt x="201" y="99"/>
                </a:cubicBezTo>
                <a:cubicBezTo>
                  <a:pt x="200" y="95"/>
                  <a:pt x="193" y="97"/>
                  <a:pt x="189" y="96"/>
                </a:cubicBezTo>
                <a:cubicBezTo>
                  <a:pt x="180" y="99"/>
                  <a:pt x="162" y="93"/>
                  <a:pt x="162" y="93"/>
                </a:cubicBezTo>
                <a:cubicBezTo>
                  <a:pt x="148" y="94"/>
                  <a:pt x="134" y="98"/>
                  <a:pt x="120" y="96"/>
                </a:cubicBezTo>
                <a:cubicBezTo>
                  <a:pt x="93" y="93"/>
                  <a:pt x="140" y="74"/>
                  <a:pt x="102" y="93"/>
                </a:cubicBezTo>
                <a:cubicBezTo>
                  <a:pt x="84" y="75"/>
                  <a:pt x="70" y="75"/>
                  <a:pt x="45" y="72"/>
                </a:cubicBezTo>
                <a:cubicBezTo>
                  <a:pt x="39" y="76"/>
                  <a:pt x="30" y="76"/>
                  <a:pt x="24" y="81"/>
                </a:cubicBezTo>
                <a:cubicBezTo>
                  <a:pt x="0" y="101"/>
                  <a:pt x="28" y="90"/>
                  <a:pt x="30" y="90"/>
                </a:cubicBezTo>
                <a:cubicBezTo>
                  <a:pt x="33" y="81"/>
                  <a:pt x="36" y="74"/>
                  <a:pt x="36" y="63"/>
                </a:cubicBezTo>
                <a:cubicBezTo>
                  <a:pt x="36" y="59"/>
                  <a:pt x="34" y="71"/>
                  <a:pt x="33" y="75"/>
                </a:cubicBezTo>
                <a:cubicBezTo>
                  <a:pt x="32" y="83"/>
                  <a:pt x="31" y="91"/>
                  <a:pt x="30" y="99"/>
                </a:cubicBezTo>
                <a:cubicBezTo>
                  <a:pt x="48" y="127"/>
                  <a:pt x="96" y="120"/>
                  <a:pt x="114" y="93"/>
                </a:cubicBezTo>
                <a:cubicBezTo>
                  <a:pt x="91" y="58"/>
                  <a:pt x="87" y="66"/>
                  <a:pt x="36" y="60"/>
                </a:cubicBezTo>
                <a:cubicBezTo>
                  <a:pt x="40" y="47"/>
                  <a:pt x="44" y="36"/>
                  <a:pt x="54" y="51"/>
                </a:cubicBezTo>
                <a:cubicBezTo>
                  <a:pt x="91" y="46"/>
                  <a:pt x="73" y="47"/>
                  <a:pt x="57" y="54"/>
                </a:cubicBezTo>
                <a:cubicBezTo>
                  <a:pt x="46" y="59"/>
                  <a:pt x="40" y="66"/>
                  <a:pt x="27" y="66"/>
                </a:cubicBezTo>
              </a:path>
            </a:pathLst>
          </a:custGeom>
          <a:solidFill>
            <a:srgbClr val="66ff99"/>
          </a:solidFill>
          <a:ln w="64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0506240" y="17159400"/>
            <a:ext cx="1204920" cy="220680"/>
          </a:xfrm>
          <a:custGeom>
            <a:avLst/>
            <a:gdLst/>
            <a:ahLst/>
            <a:rect l="l" t="t" r="r" b="b"/>
            <a:pathLst>
              <a:path w="759" h="139">
                <a:moveTo>
                  <a:pt x="35" y="119"/>
                </a:moveTo>
                <a:cubicBezTo>
                  <a:pt x="0" y="128"/>
                  <a:pt x="15" y="116"/>
                  <a:pt x="35" y="110"/>
                </a:cubicBezTo>
                <a:cubicBezTo>
                  <a:pt x="38" y="109"/>
                  <a:pt x="41" y="108"/>
                  <a:pt x="44" y="107"/>
                </a:cubicBezTo>
                <a:cubicBezTo>
                  <a:pt x="59" y="117"/>
                  <a:pt x="61" y="108"/>
                  <a:pt x="71" y="95"/>
                </a:cubicBezTo>
                <a:cubicBezTo>
                  <a:pt x="76" y="100"/>
                  <a:pt x="88" y="108"/>
                  <a:pt x="83" y="113"/>
                </a:cubicBezTo>
                <a:cubicBezTo>
                  <a:pt x="79" y="117"/>
                  <a:pt x="73" y="115"/>
                  <a:pt x="68" y="116"/>
                </a:cubicBezTo>
                <a:cubicBezTo>
                  <a:pt x="65" y="117"/>
                  <a:pt x="59" y="122"/>
                  <a:pt x="59" y="119"/>
                </a:cubicBezTo>
                <a:cubicBezTo>
                  <a:pt x="59" y="115"/>
                  <a:pt x="65" y="114"/>
                  <a:pt x="68" y="113"/>
                </a:cubicBezTo>
                <a:cubicBezTo>
                  <a:pt x="72" y="111"/>
                  <a:pt x="76" y="111"/>
                  <a:pt x="80" y="110"/>
                </a:cubicBezTo>
                <a:cubicBezTo>
                  <a:pt x="82" y="107"/>
                  <a:pt x="82" y="102"/>
                  <a:pt x="86" y="101"/>
                </a:cubicBezTo>
                <a:cubicBezTo>
                  <a:pt x="97" y="99"/>
                  <a:pt x="94" y="112"/>
                  <a:pt x="98" y="116"/>
                </a:cubicBezTo>
                <a:cubicBezTo>
                  <a:pt x="100" y="118"/>
                  <a:pt x="110" y="119"/>
                  <a:pt x="107" y="119"/>
                </a:cubicBezTo>
                <a:cubicBezTo>
                  <a:pt x="101" y="119"/>
                  <a:pt x="95" y="117"/>
                  <a:pt x="89" y="116"/>
                </a:cubicBezTo>
                <a:cubicBezTo>
                  <a:pt x="101" y="108"/>
                  <a:pt x="111" y="111"/>
                  <a:pt x="119" y="98"/>
                </a:cubicBezTo>
                <a:cubicBezTo>
                  <a:pt x="103" y="93"/>
                  <a:pt x="102" y="108"/>
                  <a:pt x="92" y="92"/>
                </a:cubicBezTo>
                <a:cubicBezTo>
                  <a:pt x="106" y="88"/>
                  <a:pt x="111" y="92"/>
                  <a:pt x="125" y="95"/>
                </a:cubicBezTo>
                <a:cubicBezTo>
                  <a:pt x="131" y="78"/>
                  <a:pt x="128" y="93"/>
                  <a:pt x="107" y="83"/>
                </a:cubicBezTo>
                <a:cubicBezTo>
                  <a:pt x="113" y="81"/>
                  <a:pt x="120" y="70"/>
                  <a:pt x="125" y="74"/>
                </a:cubicBezTo>
                <a:cubicBezTo>
                  <a:pt x="129" y="77"/>
                  <a:pt x="124" y="85"/>
                  <a:pt x="128" y="89"/>
                </a:cubicBezTo>
                <a:cubicBezTo>
                  <a:pt x="135" y="96"/>
                  <a:pt x="155" y="98"/>
                  <a:pt x="155" y="98"/>
                </a:cubicBezTo>
                <a:cubicBezTo>
                  <a:pt x="145" y="113"/>
                  <a:pt x="129" y="108"/>
                  <a:pt x="113" y="116"/>
                </a:cubicBezTo>
                <a:cubicBezTo>
                  <a:pt x="103" y="130"/>
                  <a:pt x="97" y="123"/>
                  <a:pt x="83" y="116"/>
                </a:cubicBezTo>
                <a:cubicBezTo>
                  <a:pt x="63" y="123"/>
                  <a:pt x="88" y="123"/>
                  <a:pt x="95" y="125"/>
                </a:cubicBezTo>
                <a:cubicBezTo>
                  <a:pt x="124" y="122"/>
                  <a:pt x="139" y="119"/>
                  <a:pt x="164" y="107"/>
                </a:cubicBezTo>
                <a:cubicBezTo>
                  <a:pt x="157" y="85"/>
                  <a:pt x="160" y="114"/>
                  <a:pt x="146" y="92"/>
                </a:cubicBezTo>
                <a:cubicBezTo>
                  <a:pt x="157" y="88"/>
                  <a:pt x="169" y="91"/>
                  <a:pt x="179" y="86"/>
                </a:cubicBezTo>
                <a:cubicBezTo>
                  <a:pt x="182" y="85"/>
                  <a:pt x="185" y="78"/>
                  <a:pt x="182" y="77"/>
                </a:cubicBezTo>
                <a:cubicBezTo>
                  <a:pt x="175" y="75"/>
                  <a:pt x="168" y="79"/>
                  <a:pt x="161" y="80"/>
                </a:cubicBezTo>
                <a:cubicBezTo>
                  <a:pt x="158" y="79"/>
                  <a:pt x="155" y="78"/>
                  <a:pt x="152" y="77"/>
                </a:cubicBezTo>
                <a:cubicBezTo>
                  <a:pt x="148" y="76"/>
                  <a:pt x="154" y="86"/>
                  <a:pt x="158" y="89"/>
                </a:cubicBezTo>
                <a:cubicBezTo>
                  <a:pt x="163" y="93"/>
                  <a:pt x="170" y="93"/>
                  <a:pt x="176" y="95"/>
                </a:cubicBezTo>
                <a:cubicBezTo>
                  <a:pt x="180" y="107"/>
                  <a:pt x="187" y="105"/>
                  <a:pt x="194" y="116"/>
                </a:cubicBezTo>
                <a:cubicBezTo>
                  <a:pt x="181" y="120"/>
                  <a:pt x="176" y="113"/>
                  <a:pt x="164" y="107"/>
                </a:cubicBezTo>
                <a:cubicBezTo>
                  <a:pt x="185" y="106"/>
                  <a:pt x="207" y="110"/>
                  <a:pt x="227" y="104"/>
                </a:cubicBezTo>
                <a:cubicBezTo>
                  <a:pt x="232" y="103"/>
                  <a:pt x="228" y="92"/>
                  <a:pt x="224" y="89"/>
                </a:cubicBezTo>
                <a:cubicBezTo>
                  <a:pt x="221" y="86"/>
                  <a:pt x="216" y="91"/>
                  <a:pt x="212" y="92"/>
                </a:cubicBezTo>
                <a:cubicBezTo>
                  <a:pt x="209" y="94"/>
                  <a:pt x="178" y="115"/>
                  <a:pt x="203" y="107"/>
                </a:cubicBezTo>
                <a:cubicBezTo>
                  <a:pt x="217" y="116"/>
                  <a:pt x="259" y="121"/>
                  <a:pt x="236" y="98"/>
                </a:cubicBezTo>
                <a:cubicBezTo>
                  <a:pt x="208" y="103"/>
                  <a:pt x="217" y="94"/>
                  <a:pt x="209" y="71"/>
                </a:cubicBezTo>
                <a:cubicBezTo>
                  <a:pt x="195" y="76"/>
                  <a:pt x="195" y="83"/>
                  <a:pt x="182" y="74"/>
                </a:cubicBezTo>
                <a:cubicBezTo>
                  <a:pt x="177" y="59"/>
                  <a:pt x="187" y="62"/>
                  <a:pt x="200" y="59"/>
                </a:cubicBezTo>
                <a:cubicBezTo>
                  <a:pt x="209" y="33"/>
                  <a:pt x="161" y="65"/>
                  <a:pt x="188" y="56"/>
                </a:cubicBezTo>
                <a:cubicBezTo>
                  <a:pt x="204" y="59"/>
                  <a:pt x="211" y="61"/>
                  <a:pt x="221" y="47"/>
                </a:cubicBezTo>
                <a:cubicBezTo>
                  <a:pt x="232" y="79"/>
                  <a:pt x="211" y="87"/>
                  <a:pt x="254" y="77"/>
                </a:cubicBezTo>
                <a:cubicBezTo>
                  <a:pt x="236" y="73"/>
                  <a:pt x="234" y="64"/>
                  <a:pt x="221" y="77"/>
                </a:cubicBezTo>
                <a:cubicBezTo>
                  <a:pt x="225" y="78"/>
                  <a:pt x="278" y="86"/>
                  <a:pt x="281" y="89"/>
                </a:cubicBezTo>
                <a:cubicBezTo>
                  <a:pt x="284" y="92"/>
                  <a:pt x="278" y="98"/>
                  <a:pt x="275" y="101"/>
                </a:cubicBezTo>
                <a:cubicBezTo>
                  <a:pt x="267" y="109"/>
                  <a:pt x="246" y="116"/>
                  <a:pt x="236" y="119"/>
                </a:cubicBezTo>
                <a:cubicBezTo>
                  <a:pt x="200" y="95"/>
                  <a:pt x="236" y="111"/>
                  <a:pt x="203" y="119"/>
                </a:cubicBezTo>
                <a:cubicBezTo>
                  <a:pt x="214" y="102"/>
                  <a:pt x="204" y="111"/>
                  <a:pt x="233" y="116"/>
                </a:cubicBezTo>
                <a:cubicBezTo>
                  <a:pt x="245" y="118"/>
                  <a:pt x="269" y="122"/>
                  <a:pt x="269" y="122"/>
                </a:cubicBezTo>
                <a:cubicBezTo>
                  <a:pt x="286" y="116"/>
                  <a:pt x="284" y="107"/>
                  <a:pt x="290" y="92"/>
                </a:cubicBezTo>
                <a:cubicBezTo>
                  <a:pt x="291" y="89"/>
                  <a:pt x="299" y="86"/>
                  <a:pt x="296" y="83"/>
                </a:cubicBezTo>
                <a:cubicBezTo>
                  <a:pt x="293" y="80"/>
                  <a:pt x="290" y="87"/>
                  <a:pt x="287" y="89"/>
                </a:cubicBezTo>
                <a:cubicBezTo>
                  <a:pt x="286" y="93"/>
                  <a:pt x="281" y="98"/>
                  <a:pt x="284" y="101"/>
                </a:cubicBezTo>
                <a:cubicBezTo>
                  <a:pt x="287" y="104"/>
                  <a:pt x="292" y="98"/>
                  <a:pt x="296" y="98"/>
                </a:cubicBezTo>
                <a:cubicBezTo>
                  <a:pt x="306" y="98"/>
                  <a:pt x="316" y="100"/>
                  <a:pt x="326" y="101"/>
                </a:cubicBezTo>
                <a:cubicBezTo>
                  <a:pt x="328" y="105"/>
                  <a:pt x="334" y="109"/>
                  <a:pt x="332" y="113"/>
                </a:cubicBezTo>
                <a:cubicBezTo>
                  <a:pt x="330" y="116"/>
                  <a:pt x="323" y="112"/>
                  <a:pt x="320" y="110"/>
                </a:cubicBezTo>
                <a:cubicBezTo>
                  <a:pt x="314" y="106"/>
                  <a:pt x="309" y="87"/>
                  <a:pt x="308" y="83"/>
                </a:cubicBezTo>
                <a:cubicBezTo>
                  <a:pt x="305" y="73"/>
                  <a:pt x="328" y="87"/>
                  <a:pt x="338" y="89"/>
                </a:cubicBezTo>
                <a:cubicBezTo>
                  <a:pt x="347" y="90"/>
                  <a:pt x="356" y="91"/>
                  <a:pt x="365" y="92"/>
                </a:cubicBezTo>
                <a:cubicBezTo>
                  <a:pt x="372" y="113"/>
                  <a:pt x="377" y="108"/>
                  <a:pt x="362" y="113"/>
                </a:cubicBezTo>
                <a:cubicBezTo>
                  <a:pt x="319" y="102"/>
                  <a:pt x="352" y="99"/>
                  <a:pt x="374" y="77"/>
                </a:cubicBezTo>
                <a:cubicBezTo>
                  <a:pt x="364" y="48"/>
                  <a:pt x="356" y="94"/>
                  <a:pt x="356" y="98"/>
                </a:cubicBezTo>
                <a:cubicBezTo>
                  <a:pt x="366" y="128"/>
                  <a:pt x="355" y="125"/>
                  <a:pt x="326" y="122"/>
                </a:cubicBezTo>
                <a:cubicBezTo>
                  <a:pt x="313" y="113"/>
                  <a:pt x="313" y="107"/>
                  <a:pt x="317" y="92"/>
                </a:cubicBezTo>
                <a:cubicBezTo>
                  <a:pt x="313" y="76"/>
                  <a:pt x="312" y="72"/>
                  <a:pt x="296" y="68"/>
                </a:cubicBezTo>
                <a:cubicBezTo>
                  <a:pt x="279" y="72"/>
                  <a:pt x="275" y="84"/>
                  <a:pt x="266" y="65"/>
                </a:cubicBezTo>
                <a:cubicBezTo>
                  <a:pt x="283" y="43"/>
                  <a:pt x="282" y="61"/>
                  <a:pt x="305" y="53"/>
                </a:cubicBezTo>
                <a:cubicBezTo>
                  <a:pt x="314" y="27"/>
                  <a:pt x="294" y="73"/>
                  <a:pt x="287" y="80"/>
                </a:cubicBezTo>
                <a:cubicBezTo>
                  <a:pt x="300" y="89"/>
                  <a:pt x="311" y="82"/>
                  <a:pt x="326" y="77"/>
                </a:cubicBezTo>
                <a:cubicBezTo>
                  <a:pt x="332" y="65"/>
                  <a:pt x="330" y="54"/>
                  <a:pt x="344" y="59"/>
                </a:cubicBezTo>
                <a:cubicBezTo>
                  <a:pt x="347" y="63"/>
                  <a:pt x="351" y="67"/>
                  <a:pt x="353" y="71"/>
                </a:cubicBezTo>
                <a:cubicBezTo>
                  <a:pt x="355" y="74"/>
                  <a:pt x="353" y="79"/>
                  <a:pt x="356" y="80"/>
                </a:cubicBezTo>
                <a:cubicBezTo>
                  <a:pt x="361" y="81"/>
                  <a:pt x="404" y="75"/>
                  <a:pt x="413" y="74"/>
                </a:cubicBezTo>
                <a:cubicBezTo>
                  <a:pt x="416" y="72"/>
                  <a:pt x="418" y="68"/>
                  <a:pt x="422" y="68"/>
                </a:cubicBezTo>
                <a:cubicBezTo>
                  <a:pt x="431" y="69"/>
                  <a:pt x="449" y="77"/>
                  <a:pt x="449" y="77"/>
                </a:cubicBezTo>
                <a:cubicBezTo>
                  <a:pt x="444" y="114"/>
                  <a:pt x="460" y="139"/>
                  <a:pt x="422" y="101"/>
                </a:cubicBezTo>
                <a:cubicBezTo>
                  <a:pt x="420" y="93"/>
                  <a:pt x="419" y="85"/>
                  <a:pt x="416" y="77"/>
                </a:cubicBezTo>
                <a:cubicBezTo>
                  <a:pt x="415" y="74"/>
                  <a:pt x="409" y="71"/>
                  <a:pt x="410" y="68"/>
                </a:cubicBezTo>
                <a:cubicBezTo>
                  <a:pt x="413" y="60"/>
                  <a:pt x="428" y="50"/>
                  <a:pt x="428" y="50"/>
                </a:cubicBezTo>
                <a:cubicBezTo>
                  <a:pt x="427" y="63"/>
                  <a:pt x="416" y="83"/>
                  <a:pt x="428" y="89"/>
                </a:cubicBezTo>
                <a:cubicBezTo>
                  <a:pt x="431" y="90"/>
                  <a:pt x="437" y="83"/>
                  <a:pt x="437" y="86"/>
                </a:cubicBezTo>
                <a:cubicBezTo>
                  <a:pt x="437" y="93"/>
                  <a:pt x="418" y="93"/>
                  <a:pt x="404" y="95"/>
                </a:cubicBezTo>
                <a:cubicBezTo>
                  <a:pt x="386" y="101"/>
                  <a:pt x="398" y="116"/>
                  <a:pt x="386" y="98"/>
                </a:cubicBezTo>
                <a:cubicBezTo>
                  <a:pt x="396" y="63"/>
                  <a:pt x="395" y="87"/>
                  <a:pt x="413" y="62"/>
                </a:cubicBezTo>
                <a:cubicBezTo>
                  <a:pt x="418" y="46"/>
                  <a:pt x="406" y="19"/>
                  <a:pt x="428" y="26"/>
                </a:cubicBezTo>
                <a:cubicBezTo>
                  <a:pt x="441" y="17"/>
                  <a:pt x="446" y="24"/>
                  <a:pt x="458" y="32"/>
                </a:cubicBezTo>
                <a:cubicBezTo>
                  <a:pt x="538" y="27"/>
                  <a:pt x="501" y="32"/>
                  <a:pt x="464" y="44"/>
                </a:cubicBezTo>
                <a:cubicBezTo>
                  <a:pt x="454" y="23"/>
                  <a:pt x="439" y="33"/>
                  <a:pt x="422" y="44"/>
                </a:cubicBezTo>
                <a:cubicBezTo>
                  <a:pt x="409" y="25"/>
                  <a:pt x="406" y="46"/>
                  <a:pt x="404" y="59"/>
                </a:cubicBezTo>
                <a:cubicBezTo>
                  <a:pt x="397" y="57"/>
                  <a:pt x="374" y="51"/>
                  <a:pt x="374" y="50"/>
                </a:cubicBezTo>
                <a:cubicBezTo>
                  <a:pt x="371" y="36"/>
                  <a:pt x="396" y="26"/>
                  <a:pt x="404" y="23"/>
                </a:cubicBezTo>
                <a:cubicBezTo>
                  <a:pt x="396" y="0"/>
                  <a:pt x="391" y="15"/>
                  <a:pt x="386" y="32"/>
                </a:cubicBezTo>
                <a:cubicBezTo>
                  <a:pt x="388" y="49"/>
                  <a:pt x="393" y="70"/>
                  <a:pt x="371" y="56"/>
                </a:cubicBezTo>
                <a:cubicBezTo>
                  <a:pt x="367" y="40"/>
                  <a:pt x="367" y="45"/>
                  <a:pt x="371" y="26"/>
                </a:cubicBezTo>
                <a:cubicBezTo>
                  <a:pt x="372" y="23"/>
                  <a:pt x="374" y="14"/>
                  <a:pt x="374" y="17"/>
                </a:cubicBezTo>
                <a:cubicBezTo>
                  <a:pt x="374" y="30"/>
                  <a:pt x="369" y="45"/>
                  <a:pt x="362" y="56"/>
                </a:cubicBezTo>
                <a:cubicBezTo>
                  <a:pt x="369" y="90"/>
                  <a:pt x="358" y="62"/>
                  <a:pt x="413" y="68"/>
                </a:cubicBezTo>
                <a:cubicBezTo>
                  <a:pt x="421" y="69"/>
                  <a:pt x="425" y="79"/>
                  <a:pt x="431" y="83"/>
                </a:cubicBezTo>
                <a:cubicBezTo>
                  <a:pt x="459" y="76"/>
                  <a:pt x="454" y="78"/>
                  <a:pt x="476" y="89"/>
                </a:cubicBezTo>
                <a:cubicBezTo>
                  <a:pt x="491" y="82"/>
                  <a:pt x="495" y="70"/>
                  <a:pt x="500" y="89"/>
                </a:cubicBezTo>
                <a:cubicBezTo>
                  <a:pt x="498" y="93"/>
                  <a:pt x="498" y="99"/>
                  <a:pt x="494" y="101"/>
                </a:cubicBezTo>
                <a:cubicBezTo>
                  <a:pt x="488" y="103"/>
                  <a:pt x="482" y="99"/>
                  <a:pt x="476" y="98"/>
                </a:cubicBezTo>
                <a:cubicBezTo>
                  <a:pt x="473" y="97"/>
                  <a:pt x="467" y="92"/>
                  <a:pt x="467" y="95"/>
                </a:cubicBezTo>
                <a:cubicBezTo>
                  <a:pt x="467" y="105"/>
                  <a:pt x="487" y="103"/>
                  <a:pt x="497" y="104"/>
                </a:cubicBezTo>
                <a:cubicBezTo>
                  <a:pt x="514" y="95"/>
                  <a:pt x="515" y="91"/>
                  <a:pt x="527" y="107"/>
                </a:cubicBezTo>
                <a:cubicBezTo>
                  <a:pt x="523" y="108"/>
                  <a:pt x="519" y="111"/>
                  <a:pt x="515" y="110"/>
                </a:cubicBezTo>
                <a:cubicBezTo>
                  <a:pt x="511" y="109"/>
                  <a:pt x="510" y="104"/>
                  <a:pt x="506" y="104"/>
                </a:cubicBezTo>
                <a:cubicBezTo>
                  <a:pt x="499" y="104"/>
                  <a:pt x="494" y="111"/>
                  <a:pt x="488" y="113"/>
                </a:cubicBezTo>
                <a:cubicBezTo>
                  <a:pt x="461" y="110"/>
                  <a:pt x="450" y="112"/>
                  <a:pt x="467" y="89"/>
                </a:cubicBezTo>
                <a:cubicBezTo>
                  <a:pt x="487" y="94"/>
                  <a:pt x="521" y="78"/>
                  <a:pt x="542" y="74"/>
                </a:cubicBezTo>
                <a:cubicBezTo>
                  <a:pt x="544" y="68"/>
                  <a:pt x="542" y="56"/>
                  <a:pt x="548" y="56"/>
                </a:cubicBezTo>
                <a:cubicBezTo>
                  <a:pt x="563" y="56"/>
                  <a:pt x="550" y="86"/>
                  <a:pt x="551" y="89"/>
                </a:cubicBezTo>
                <a:cubicBezTo>
                  <a:pt x="552" y="92"/>
                  <a:pt x="557" y="87"/>
                  <a:pt x="560" y="86"/>
                </a:cubicBezTo>
                <a:cubicBezTo>
                  <a:pt x="554" y="105"/>
                  <a:pt x="526" y="102"/>
                  <a:pt x="509" y="104"/>
                </a:cubicBezTo>
                <a:cubicBezTo>
                  <a:pt x="505" y="103"/>
                  <a:pt x="498" y="105"/>
                  <a:pt x="497" y="101"/>
                </a:cubicBezTo>
                <a:cubicBezTo>
                  <a:pt x="494" y="91"/>
                  <a:pt x="510" y="96"/>
                  <a:pt x="524" y="98"/>
                </a:cubicBezTo>
                <a:cubicBezTo>
                  <a:pt x="532" y="99"/>
                  <a:pt x="540" y="100"/>
                  <a:pt x="548" y="101"/>
                </a:cubicBezTo>
                <a:cubicBezTo>
                  <a:pt x="569" y="98"/>
                  <a:pt x="591" y="84"/>
                  <a:pt x="599" y="107"/>
                </a:cubicBezTo>
                <a:cubicBezTo>
                  <a:pt x="615" y="84"/>
                  <a:pt x="581" y="101"/>
                  <a:pt x="572" y="107"/>
                </a:cubicBezTo>
                <a:cubicBezTo>
                  <a:pt x="557" y="104"/>
                  <a:pt x="543" y="104"/>
                  <a:pt x="530" y="95"/>
                </a:cubicBezTo>
                <a:cubicBezTo>
                  <a:pt x="536" y="71"/>
                  <a:pt x="527" y="92"/>
                  <a:pt x="557" y="80"/>
                </a:cubicBezTo>
                <a:cubicBezTo>
                  <a:pt x="560" y="79"/>
                  <a:pt x="569" y="60"/>
                  <a:pt x="569" y="59"/>
                </a:cubicBezTo>
                <a:cubicBezTo>
                  <a:pt x="573" y="36"/>
                  <a:pt x="574" y="14"/>
                  <a:pt x="584" y="56"/>
                </a:cubicBezTo>
                <a:cubicBezTo>
                  <a:pt x="586" y="64"/>
                  <a:pt x="600" y="58"/>
                  <a:pt x="608" y="59"/>
                </a:cubicBezTo>
                <a:cubicBezTo>
                  <a:pt x="618" y="121"/>
                  <a:pt x="596" y="21"/>
                  <a:pt x="641" y="71"/>
                </a:cubicBezTo>
                <a:cubicBezTo>
                  <a:pt x="650" y="81"/>
                  <a:pt x="643" y="99"/>
                  <a:pt x="644" y="113"/>
                </a:cubicBezTo>
                <a:cubicBezTo>
                  <a:pt x="657" y="93"/>
                  <a:pt x="641" y="113"/>
                  <a:pt x="632" y="116"/>
                </a:cubicBezTo>
                <a:cubicBezTo>
                  <a:pt x="615" y="114"/>
                  <a:pt x="603" y="109"/>
                  <a:pt x="587" y="113"/>
                </a:cubicBezTo>
                <a:cubicBezTo>
                  <a:pt x="586" y="119"/>
                  <a:pt x="580" y="127"/>
                  <a:pt x="584" y="131"/>
                </a:cubicBezTo>
                <a:cubicBezTo>
                  <a:pt x="591" y="138"/>
                  <a:pt x="593" y="113"/>
                  <a:pt x="602" y="110"/>
                </a:cubicBezTo>
                <a:cubicBezTo>
                  <a:pt x="613" y="107"/>
                  <a:pt x="624" y="108"/>
                  <a:pt x="635" y="107"/>
                </a:cubicBezTo>
                <a:cubicBezTo>
                  <a:pt x="629" y="67"/>
                  <a:pt x="637" y="77"/>
                  <a:pt x="611" y="86"/>
                </a:cubicBezTo>
                <a:cubicBezTo>
                  <a:pt x="587" y="80"/>
                  <a:pt x="598" y="72"/>
                  <a:pt x="614" y="68"/>
                </a:cubicBezTo>
                <a:cubicBezTo>
                  <a:pt x="638" y="52"/>
                  <a:pt x="609" y="63"/>
                  <a:pt x="602" y="68"/>
                </a:cubicBezTo>
                <a:cubicBezTo>
                  <a:pt x="593" y="87"/>
                  <a:pt x="586" y="83"/>
                  <a:pt x="566" y="80"/>
                </a:cubicBezTo>
                <a:cubicBezTo>
                  <a:pt x="600" y="57"/>
                  <a:pt x="583" y="65"/>
                  <a:pt x="617" y="56"/>
                </a:cubicBezTo>
                <a:cubicBezTo>
                  <a:pt x="631" y="35"/>
                  <a:pt x="614" y="36"/>
                  <a:pt x="593" y="29"/>
                </a:cubicBezTo>
                <a:cubicBezTo>
                  <a:pt x="581" y="30"/>
                  <a:pt x="567" y="26"/>
                  <a:pt x="557" y="32"/>
                </a:cubicBezTo>
                <a:cubicBezTo>
                  <a:pt x="538" y="43"/>
                  <a:pt x="555" y="61"/>
                  <a:pt x="533" y="68"/>
                </a:cubicBezTo>
                <a:cubicBezTo>
                  <a:pt x="525" y="80"/>
                  <a:pt x="522" y="86"/>
                  <a:pt x="509" y="77"/>
                </a:cubicBezTo>
                <a:cubicBezTo>
                  <a:pt x="507" y="73"/>
                  <a:pt x="503" y="69"/>
                  <a:pt x="503" y="65"/>
                </a:cubicBezTo>
                <a:cubicBezTo>
                  <a:pt x="503" y="61"/>
                  <a:pt x="510" y="59"/>
                  <a:pt x="509" y="56"/>
                </a:cubicBezTo>
                <a:cubicBezTo>
                  <a:pt x="507" y="49"/>
                  <a:pt x="497" y="51"/>
                  <a:pt x="491" y="47"/>
                </a:cubicBezTo>
                <a:cubicBezTo>
                  <a:pt x="489" y="51"/>
                  <a:pt x="489" y="56"/>
                  <a:pt x="485" y="59"/>
                </a:cubicBezTo>
                <a:cubicBezTo>
                  <a:pt x="481" y="62"/>
                  <a:pt x="465" y="62"/>
                  <a:pt x="470" y="62"/>
                </a:cubicBezTo>
                <a:cubicBezTo>
                  <a:pt x="496" y="64"/>
                  <a:pt x="522" y="64"/>
                  <a:pt x="548" y="65"/>
                </a:cubicBezTo>
                <a:cubicBezTo>
                  <a:pt x="551" y="69"/>
                  <a:pt x="553" y="80"/>
                  <a:pt x="557" y="77"/>
                </a:cubicBezTo>
                <a:cubicBezTo>
                  <a:pt x="563" y="72"/>
                  <a:pt x="563" y="53"/>
                  <a:pt x="563" y="53"/>
                </a:cubicBezTo>
                <a:cubicBezTo>
                  <a:pt x="545" y="41"/>
                  <a:pt x="536" y="29"/>
                  <a:pt x="560" y="17"/>
                </a:cubicBezTo>
                <a:cubicBezTo>
                  <a:pt x="563" y="19"/>
                  <a:pt x="567" y="20"/>
                  <a:pt x="569" y="23"/>
                </a:cubicBezTo>
                <a:cubicBezTo>
                  <a:pt x="572" y="28"/>
                  <a:pt x="569" y="38"/>
                  <a:pt x="575" y="41"/>
                </a:cubicBezTo>
                <a:cubicBezTo>
                  <a:pt x="604" y="55"/>
                  <a:pt x="572" y="42"/>
                  <a:pt x="566" y="41"/>
                </a:cubicBezTo>
                <a:cubicBezTo>
                  <a:pt x="569" y="24"/>
                  <a:pt x="571" y="21"/>
                  <a:pt x="587" y="26"/>
                </a:cubicBezTo>
                <a:cubicBezTo>
                  <a:pt x="571" y="33"/>
                  <a:pt x="561" y="43"/>
                  <a:pt x="545" y="47"/>
                </a:cubicBezTo>
                <a:cubicBezTo>
                  <a:pt x="525" y="43"/>
                  <a:pt x="520" y="41"/>
                  <a:pt x="524" y="20"/>
                </a:cubicBezTo>
                <a:cubicBezTo>
                  <a:pt x="544" y="27"/>
                  <a:pt x="557" y="34"/>
                  <a:pt x="578" y="29"/>
                </a:cubicBezTo>
                <a:cubicBezTo>
                  <a:pt x="584" y="54"/>
                  <a:pt x="579" y="51"/>
                  <a:pt x="611" y="47"/>
                </a:cubicBezTo>
                <a:cubicBezTo>
                  <a:pt x="626" y="68"/>
                  <a:pt x="614" y="72"/>
                  <a:pt x="644" y="68"/>
                </a:cubicBezTo>
                <a:cubicBezTo>
                  <a:pt x="670" y="50"/>
                  <a:pt x="630" y="75"/>
                  <a:pt x="647" y="86"/>
                </a:cubicBezTo>
                <a:cubicBezTo>
                  <a:pt x="656" y="92"/>
                  <a:pt x="669" y="82"/>
                  <a:pt x="680" y="80"/>
                </a:cubicBezTo>
                <a:cubicBezTo>
                  <a:pt x="668" y="115"/>
                  <a:pt x="700" y="102"/>
                  <a:pt x="725" y="98"/>
                </a:cubicBezTo>
                <a:cubicBezTo>
                  <a:pt x="688" y="110"/>
                  <a:pt x="732" y="112"/>
                  <a:pt x="659" y="107"/>
                </a:cubicBezTo>
                <a:cubicBezTo>
                  <a:pt x="648" y="90"/>
                  <a:pt x="653" y="106"/>
                  <a:pt x="680" y="101"/>
                </a:cubicBezTo>
                <a:cubicBezTo>
                  <a:pt x="682" y="95"/>
                  <a:pt x="688" y="89"/>
                  <a:pt x="686" y="83"/>
                </a:cubicBezTo>
                <a:cubicBezTo>
                  <a:pt x="685" y="80"/>
                  <a:pt x="680" y="75"/>
                  <a:pt x="683" y="74"/>
                </a:cubicBezTo>
                <a:cubicBezTo>
                  <a:pt x="686" y="72"/>
                  <a:pt x="689" y="78"/>
                  <a:pt x="692" y="80"/>
                </a:cubicBezTo>
                <a:cubicBezTo>
                  <a:pt x="694" y="88"/>
                  <a:pt x="697" y="101"/>
                  <a:pt x="698" y="101"/>
                </a:cubicBezTo>
                <a:cubicBezTo>
                  <a:pt x="713" y="101"/>
                  <a:pt x="723" y="93"/>
                  <a:pt x="734" y="86"/>
                </a:cubicBezTo>
                <a:cubicBezTo>
                  <a:pt x="728" y="103"/>
                  <a:pt x="742" y="100"/>
                  <a:pt x="749" y="89"/>
                </a:cubicBezTo>
                <a:cubicBezTo>
                  <a:pt x="759" y="118"/>
                  <a:pt x="724" y="111"/>
                  <a:pt x="704" y="113"/>
                </a:cubicBezTo>
                <a:cubicBezTo>
                  <a:pt x="694" y="116"/>
                  <a:pt x="687" y="122"/>
                  <a:pt x="677" y="125"/>
                </a:cubicBezTo>
                <a:cubicBezTo>
                  <a:pt x="665" y="113"/>
                  <a:pt x="663" y="116"/>
                  <a:pt x="650" y="125"/>
                </a:cubicBezTo>
                <a:cubicBezTo>
                  <a:pt x="643" y="105"/>
                  <a:pt x="593" y="122"/>
                  <a:pt x="575" y="128"/>
                </a:cubicBezTo>
                <a:cubicBezTo>
                  <a:pt x="547" y="121"/>
                  <a:pt x="557" y="127"/>
                  <a:pt x="557" y="92"/>
                </a:cubicBezTo>
                <a:cubicBezTo>
                  <a:pt x="557" y="89"/>
                  <a:pt x="556" y="99"/>
                  <a:pt x="554" y="101"/>
                </a:cubicBezTo>
                <a:cubicBezTo>
                  <a:pt x="549" y="107"/>
                  <a:pt x="540" y="108"/>
                  <a:pt x="533" y="110"/>
                </a:cubicBezTo>
                <a:cubicBezTo>
                  <a:pt x="517" y="122"/>
                  <a:pt x="516" y="114"/>
                  <a:pt x="500" y="119"/>
                </a:cubicBezTo>
                <a:cubicBezTo>
                  <a:pt x="476" y="103"/>
                  <a:pt x="507" y="128"/>
                  <a:pt x="494" y="95"/>
                </a:cubicBezTo>
                <a:cubicBezTo>
                  <a:pt x="493" y="92"/>
                  <a:pt x="488" y="97"/>
                  <a:pt x="485" y="98"/>
                </a:cubicBezTo>
                <a:cubicBezTo>
                  <a:pt x="477" y="102"/>
                  <a:pt x="461" y="110"/>
                  <a:pt x="461" y="110"/>
                </a:cubicBezTo>
                <a:cubicBezTo>
                  <a:pt x="459" y="113"/>
                  <a:pt x="459" y="119"/>
                  <a:pt x="455" y="119"/>
                </a:cubicBezTo>
                <a:cubicBezTo>
                  <a:pt x="449" y="120"/>
                  <a:pt x="443" y="115"/>
                  <a:pt x="437" y="113"/>
                </a:cubicBezTo>
                <a:cubicBezTo>
                  <a:pt x="434" y="112"/>
                  <a:pt x="428" y="110"/>
                  <a:pt x="428" y="110"/>
                </a:cubicBezTo>
                <a:cubicBezTo>
                  <a:pt x="404" y="126"/>
                  <a:pt x="434" y="110"/>
                  <a:pt x="410" y="110"/>
                </a:cubicBezTo>
                <a:cubicBezTo>
                  <a:pt x="403" y="110"/>
                  <a:pt x="396" y="116"/>
                  <a:pt x="389" y="116"/>
                </a:cubicBezTo>
              </a:path>
            </a:pathLst>
          </a:custGeom>
          <a:solidFill>
            <a:srgbClr val="66ff99"/>
          </a:solidFill>
          <a:ln w="64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9570960" y="17091000"/>
            <a:ext cx="453960" cy="238320"/>
          </a:xfrm>
          <a:custGeom>
            <a:avLst/>
            <a:gdLst/>
            <a:ahLst/>
            <a:rect l="l" t="t" r="r" b="b"/>
            <a:pathLst>
              <a:path w="286" h="150">
                <a:moveTo>
                  <a:pt x="54" y="99"/>
                </a:moveTo>
                <a:cubicBezTo>
                  <a:pt x="68" y="96"/>
                  <a:pt x="85" y="99"/>
                  <a:pt x="96" y="90"/>
                </a:cubicBezTo>
                <a:cubicBezTo>
                  <a:pt x="104" y="83"/>
                  <a:pt x="104" y="69"/>
                  <a:pt x="111" y="60"/>
                </a:cubicBezTo>
                <a:cubicBezTo>
                  <a:pt x="116" y="31"/>
                  <a:pt x="113" y="32"/>
                  <a:pt x="84" y="39"/>
                </a:cubicBezTo>
                <a:cubicBezTo>
                  <a:pt x="75" y="51"/>
                  <a:pt x="70" y="60"/>
                  <a:pt x="87" y="66"/>
                </a:cubicBezTo>
                <a:cubicBezTo>
                  <a:pt x="88" y="72"/>
                  <a:pt x="88" y="78"/>
                  <a:pt x="90" y="84"/>
                </a:cubicBezTo>
                <a:cubicBezTo>
                  <a:pt x="92" y="89"/>
                  <a:pt x="103" y="93"/>
                  <a:pt x="99" y="96"/>
                </a:cubicBezTo>
                <a:cubicBezTo>
                  <a:pt x="91" y="103"/>
                  <a:pt x="79" y="100"/>
                  <a:pt x="69" y="102"/>
                </a:cubicBezTo>
                <a:cubicBezTo>
                  <a:pt x="63" y="104"/>
                  <a:pt x="45" y="108"/>
                  <a:pt x="51" y="108"/>
                </a:cubicBezTo>
                <a:cubicBezTo>
                  <a:pt x="63" y="108"/>
                  <a:pt x="75" y="104"/>
                  <a:pt x="87" y="102"/>
                </a:cubicBezTo>
                <a:cubicBezTo>
                  <a:pt x="95" y="127"/>
                  <a:pt x="91" y="141"/>
                  <a:pt x="117" y="150"/>
                </a:cubicBezTo>
                <a:cubicBezTo>
                  <a:pt x="161" y="146"/>
                  <a:pt x="179" y="130"/>
                  <a:pt x="201" y="93"/>
                </a:cubicBezTo>
                <a:cubicBezTo>
                  <a:pt x="200" y="87"/>
                  <a:pt x="202" y="79"/>
                  <a:pt x="198" y="75"/>
                </a:cubicBezTo>
                <a:cubicBezTo>
                  <a:pt x="195" y="72"/>
                  <a:pt x="193" y="87"/>
                  <a:pt x="192" y="84"/>
                </a:cubicBezTo>
                <a:cubicBezTo>
                  <a:pt x="178" y="46"/>
                  <a:pt x="213" y="30"/>
                  <a:pt x="162" y="24"/>
                </a:cubicBezTo>
                <a:cubicBezTo>
                  <a:pt x="130" y="32"/>
                  <a:pt x="124" y="48"/>
                  <a:pt x="114" y="78"/>
                </a:cubicBezTo>
                <a:cubicBezTo>
                  <a:pt x="146" y="99"/>
                  <a:pt x="97" y="131"/>
                  <a:pt x="156" y="84"/>
                </a:cubicBezTo>
                <a:cubicBezTo>
                  <a:pt x="168" y="48"/>
                  <a:pt x="156" y="73"/>
                  <a:pt x="168" y="90"/>
                </a:cubicBezTo>
                <a:cubicBezTo>
                  <a:pt x="170" y="93"/>
                  <a:pt x="174" y="88"/>
                  <a:pt x="177" y="87"/>
                </a:cubicBezTo>
                <a:cubicBezTo>
                  <a:pt x="179" y="81"/>
                  <a:pt x="183" y="69"/>
                  <a:pt x="183" y="69"/>
                </a:cubicBezTo>
                <a:cubicBezTo>
                  <a:pt x="158" y="86"/>
                  <a:pt x="176" y="39"/>
                  <a:pt x="150" y="48"/>
                </a:cubicBezTo>
                <a:cubicBezTo>
                  <a:pt x="164" y="5"/>
                  <a:pt x="206" y="16"/>
                  <a:pt x="249" y="12"/>
                </a:cubicBezTo>
                <a:cubicBezTo>
                  <a:pt x="225" y="0"/>
                  <a:pt x="201" y="9"/>
                  <a:pt x="177" y="15"/>
                </a:cubicBezTo>
                <a:cubicBezTo>
                  <a:pt x="147" y="45"/>
                  <a:pt x="180" y="77"/>
                  <a:pt x="213" y="81"/>
                </a:cubicBezTo>
                <a:cubicBezTo>
                  <a:pt x="235" y="78"/>
                  <a:pt x="242" y="80"/>
                  <a:pt x="249" y="60"/>
                </a:cubicBezTo>
                <a:cubicBezTo>
                  <a:pt x="248" y="57"/>
                  <a:pt x="249" y="51"/>
                  <a:pt x="246" y="51"/>
                </a:cubicBezTo>
                <a:cubicBezTo>
                  <a:pt x="242" y="51"/>
                  <a:pt x="237" y="60"/>
                  <a:pt x="237" y="60"/>
                </a:cubicBezTo>
                <a:cubicBezTo>
                  <a:pt x="236" y="68"/>
                  <a:pt x="242" y="84"/>
                  <a:pt x="234" y="84"/>
                </a:cubicBezTo>
                <a:cubicBezTo>
                  <a:pt x="226" y="84"/>
                  <a:pt x="232" y="68"/>
                  <a:pt x="231" y="60"/>
                </a:cubicBezTo>
                <a:cubicBezTo>
                  <a:pt x="230" y="54"/>
                  <a:pt x="225" y="47"/>
                  <a:pt x="228" y="42"/>
                </a:cubicBezTo>
                <a:cubicBezTo>
                  <a:pt x="230" y="39"/>
                  <a:pt x="234" y="46"/>
                  <a:pt x="237" y="48"/>
                </a:cubicBezTo>
                <a:cubicBezTo>
                  <a:pt x="250" y="47"/>
                  <a:pt x="263" y="48"/>
                  <a:pt x="276" y="45"/>
                </a:cubicBezTo>
                <a:cubicBezTo>
                  <a:pt x="280" y="44"/>
                  <a:pt x="286" y="32"/>
                  <a:pt x="285" y="36"/>
                </a:cubicBezTo>
                <a:cubicBezTo>
                  <a:pt x="283" y="43"/>
                  <a:pt x="273" y="54"/>
                  <a:pt x="273" y="54"/>
                </a:cubicBezTo>
                <a:cubicBezTo>
                  <a:pt x="271" y="65"/>
                  <a:pt x="260" y="102"/>
                  <a:pt x="282" y="87"/>
                </a:cubicBezTo>
                <a:cubicBezTo>
                  <a:pt x="270" y="75"/>
                  <a:pt x="265" y="68"/>
                  <a:pt x="261" y="51"/>
                </a:cubicBezTo>
                <a:cubicBezTo>
                  <a:pt x="282" y="37"/>
                  <a:pt x="277" y="46"/>
                  <a:pt x="282" y="30"/>
                </a:cubicBezTo>
                <a:cubicBezTo>
                  <a:pt x="257" y="24"/>
                  <a:pt x="230" y="17"/>
                  <a:pt x="207" y="33"/>
                </a:cubicBezTo>
                <a:cubicBezTo>
                  <a:pt x="213" y="36"/>
                  <a:pt x="221" y="37"/>
                  <a:pt x="225" y="42"/>
                </a:cubicBezTo>
                <a:cubicBezTo>
                  <a:pt x="229" y="47"/>
                  <a:pt x="231" y="60"/>
                  <a:pt x="231" y="60"/>
                </a:cubicBezTo>
                <a:cubicBezTo>
                  <a:pt x="206" y="62"/>
                  <a:pt x="181" y="68"/>
                  <a:pt x="156" y="66"/>
                </a:cubicBezTo>
                <a:cubicBezTo>
                  <a:pt x="151" y="66"/>
                  <a:pt x="152" y="55"/>
                  <a:pt x="147" y="54"/>
                </a:cubicBezTo>
                <a:cubicBezTo>
                  <a:pt x="138" y="52"/>
                  <a:pt x="129" y="58"/>
                  <a:pt x="120" y="60"/>
                </a:cubicBezTo>
                <a:cubicBezTo>
                  <a:pt x="119" y="64"/>
                  <a:pt x="115" y="68"/>
                  <a:pt x="117" y="72"/>
                </a:cubicBezTo>
                <a:cubicBezTo>
                  <a:pt x="119" y="76"/>
                  <a:pt x="126" y="72"/>
                  <a:pt x="129" y="75"/>
                </a:cubicBezTo>
                <a:cubicBezTo>
                  <a:pt x="135" y="82"/>
                  <a:pt x="136" y="91"/>
                  <a:pt x="141" y="99"/>
                </a:cubicBezTo>
                <a:cubicBezTo>
                  <a:pt x="143" y="103"/>
                  <a:pt x="147" y="105"/>
                  <a:pt x="150" y="108"/>
                </a:cubicBezTo>
                <a:cubicBezTo>
                  <a:pt x="164" y="107"/>
                  <a:pt x="178" y="107"/>
                  <a:pt x="192" y="105"/>
                </a:cubicBezTo>
                <a:cubicBezTo>
                  <a:pt x="196" y="104"/>
                  <a:pt x="202" y="102"/>
                  <a:pt x="201" y="99"/>
                </a:cubicBezTo>
                <a:cubicBezTo>
                  <a:pt x="200" y="95"/>
                  <a:pt x="193" y="97"/>
                  <a:pt x="189" y="96"/>
                </a:cubicBezTo>
                <a:cubicBezTo>
                  <a:pt x="180" y="99"/>
                  <a:pt x="162" y="93"/>
                  <a:pt x="162" y="93"/>
                </a:cubicBezTo>
                <a:cubicBezTo>
                  <a:pt x="148" y="94"/>
                  <a:pt x="134" y="98"/>
                  <a:pt x="120" y="96"/>
                </a:cubicBezTo>
                <a:cubicBezTo>
                  <a:pt x="93" y="93"/>
                  <a:pt x="140" y="74"/>
                  <a:pt x="102" y="93"/>
                </a:cubicBezTo>
                <a:cubicBezTo>
                  <a:pt x="84" y="75"/>
                  <a:pt x="70" y="75"/>
                  <a:pt x="45" y="72"/>
                </a:cubicBezTo>
                <a:cubicBezTo>
                  <a:pt x="39" y="76"/>
                  <a:pt x="30" y="76"/>
                  <a:pt x="24" y="81"/>
                </a:cubicBezTo>
                <a:cubicBezTo>
                  <a:pt x="0" y="101"/>
                  <a:pt x="28" y="90"/>
                  <a:pt x="30" y="90"/>
                </a:cubicBezTo>
                <a:cubicBezTo>
                  <a:pt x="33" y="81"/>
                  <a:pt x="36" y="74"/>
                  <a:pt x="36" y="63"/>
                </a:cubicBezTo>
                <a:cubicBezTo>
                  <a:pt x="36" y="59"/>
                  <a:pt x="34" y="71"/>
                  <a:pt x="33" y="75"/>
                </a:cubicBezTo>
                <a:cubicBezTo>
                  <a:pt x="32" y="83"/>
                  <a:pt x="31" y="91"/>
                  <a:pt x="30" y="99"/>
                </a:cubicBezTo>
                <a:cubicBezTo>
                  <a:pt x="48" y="127"/>
                  <a:pt x="96" y="120"/>
                  <a:pt x="114" y="93"/>
                </a:cubicBezTo>
                <a:cubicBezTo>
                  <a:pt x="91" y="58"/>
                  <a:pt x="87" y="66"/>
                  <a:pt x="36" y="60"/>
                </a:cubicBezTo>
                <a:cubicBezTo>
                  <a:pt x="40" y="47"/>
                  <a:pt x="44" y="36"/>
                  <a:pt x="54" y="51"/>
                </a:cubicBezTo>
                <a:cubicBezTo>
                  <a:pt x="91" y="46"/>
                  <a:pt x="73" y="47"/>
                  <a:pt x="57" y="54"/>
                </a:cubicBezTo>
                <a:cubicBezTo>
                  <a:pt x="46" y="59"/>
                  <a:pt x="40" y="66"/>
                  <a:pt x="27" y="66"/>
                </a:cubicBezTo>
              </a:path>
            </a:pathLst>
          </a:custGeom>
          <a:solidFill>
            <a:srgbClr val="ffff00"/>
          </a:solidFill>
          <a:ln w="648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1568240" y="17159400"/>
            <a:ext cx="1204920" cy="220680"/>
          </a:xfrm>
          <a:custGeom>
            <a:avLst/>
            <a:gdLst/>
            <a:ahLst/>
            <a:rect l="l" t="t" r="r" b="b"/>
            <a:pathLst>
              <a:path w="759" h="139">
                <a:moveTo>
                  <a:pt x="35" y="119"/>
                </a:moveTo>
                <a:cubicBezTo>
                  <a:pt x="0" y="128"/>
                  <a:pt x="15" y="116"/>
                  <a:pt x="35" y="110"/>
                </a:cubicBezTo>
                <a:cubicBezTo>
                  <a:pt x="38" y="109"/>
                  <a:pt x="41" y="108"/>
                  <a:pt x="44" y="107"/>
                </a:cubicBezTo>
                <a:cubicBezTo>
                  <a:pt x="59" y="117"/>
                  <a:pt x="61" y="108"/>
                  <a:pt x="71" y="95"/>
                </a:cubicBezTo>
                <a:cubicBezTo>
                  <a:pt x="76" y="100"/>
                  <a:pt x="88" y="108"/>
                  <a:pt x="83" y="113"/>
                </a:cubicBezTo>
                <a:cubicBezTo>
                  <a:pt x="79" y="117"/>
                  <a:pt x="73" y="115"/>
                  <a:pt x="68" y="116"/>
                </a:cubicBezTo>
                <a:cubicBezTo>
                  <a:pt x="65" y="117"/>
                  <a:pt x="59" y="122"/>
                  <a:pt x="59" y="119"/>
                </a:cubicBezTo>
                <a:cubicBezTo>
                  <a:pt x="59" y="115"/>
                  <a:pt x="65" y="114"/>
                  <a:pt x="68" y="113"/>
                </a:cubicBezTo>
                <a:cubicBezTo>
                  <a:pt x="72" y="111"/>
                  <a:pt x="76" y="111"/>
                  <a:pt x="80" y="110"/>
                </a:cubicBezTo>
                <a:cubicBezTo>
                  <a:pt x="82" y="107"/>
                  <a:pt x="82" y="102"/>
                  <a:pt x="86" y="101"/>
                </a:cubicBezTo>
                <a:cubicBezTo>
                  <a:pt x="97" y="99"/>
                  <a:pt x="94" y="112"/>
                  <a:pt x="98" y="116"/>
                </a:cubicBezTo>
                <a:cubicBezTo>
                  <a:pt x="100" y="118"/>
                  <a:pt x="110" y="119"/>
                  <a:pt x="107" y="119"/>
                </a:cubicBezTo>
                <a:cubicBezTo>
                  <a:pt x="101" y="119"/>
                  <a:pt x="95" y="117"/>
                  <a:pt x="89" y="116"/>
                </a:cubicBezTo>
                <a:cubicBezTo>
                  <a:pt x="101" y="108"/>
                  <a:pt x="111" y="111"/>
                  <a:pt x="119" y="98"/>
                </a:cubicBezTo>
                <a:cubicBezTo>
                  <a:pt x="103" y="93"/>
                  <a:pt x="102" y="108"/>
                  <a:pt x="92" y="92"/>
                </a:cubicBezTo>
                <a:cubicBezTo>
                  <a:pt x="106" y="88"/>
                  <a:pt x="111" y="92"/>
                  <a:pt x="125" y="95"/>
                </a:cubicBezTo>
                <a:cubicBezTo>
                  <a:pt x="131" y="78"/>
                  <a:pt x="128" y="93"/>
                  <a:pt x="107" y="83"/>
                </a:cubicBezTo>
                <a:cubicBezTo>
                  <a:pt x="113" y="81"/>
                  <a:pt x="120" y="70"/>
                  <a:pt x="125" y="74"/>
                </a:cubicBezTo>
                <a:cubicBezTo>
                  <a:pt x="129" y="77"/>
                  <a:pt x="124" y="85"/>
                  <a:pt x="128" y="89"/>
                </a:cubicBezTo>
                <a:cubicBezTo>
                  <a:pt x="135" y="96"/>
                  <a:pt x="155" y="98"/>
                  <a:pt x="155" y="98"/>
                </a:cubicBezTo>
                <a:cubicBezTo>
                  <a:pt x="145" y="113"/>
                  <a:pt x="129" y="108"/>
                  <a:pt x="113" y="116"/>
                </a:cubicBezTo>
                <a:cubicBezTo>
                  <a:pt x="103" y="130"/>
                  <a:pt x="97" y="123"/>
                  <a:pt x="83" y="116"/>
                </a:cubicBezTo>
                <a:cubicBezTo>
                  <a:pt x="63" y="123"/>
                  <a:pt x="88" y="123"/>
                  <a:pt x="95" y="125"/>
                </a:cubicBezTo>
                <a:cubicBezTo>
                  <a:pt x="124" y="122"/>
                  <a:pt x="139" y="119"/>
                  <a:pt x="164" y="107"/>
                </a:cubicBezTo>
                <a:cubicBezTo>
                  <a:pt x="157" y="85"/>
                  <a:pt x="160" y="114"/>
                  <a:pt x="146" y="92"/>
                </a:cubicBezTo>
                <a:cubicBezTo>
                  <a:pt x="157" y="88"/>
                  <a:pt x="169" y="91"/>
                  <a:pt x="179" y="86"/>
                </a:cubicBezTo>
                <a:cubicBezTo>
                  <a:pt x="182" y="85"/>
                  <a:pt x="185" y="78"/>
                  <a:pt x="182" y="77"/>
                </a:cubicBezTo>
                <a:cubicBezTo>
                  <a:pt x="175" y="75"/>
                  <a:pt x="168" y="79"/>
                  <a:pt x="161" y="80"/>
                </a:cubicBezTo>
                <a:cubicBezTo>
                  <a:pt x="158" y="79"/>
                  <a:pt x="155" y="78"/>
                  <a:pt x="152" y="77"/>
                </a:cubicBezTo>
                <a:cubicBezTo>
                  <a:pt x="148" y="76"/>
                  <a:pt x="154" y="86"/>
                  <a:pt x="158" y="89"/>
                </a:cubicBezTo>
                <a:cubicBezTo>
                  <a:pt x="163" y="93"/>
                  <a:pt x="170" y="93"/>
                  <a:pt x="176" y="95"/>
                </a:cubicBezTo>
                <a:cubicBezTo>
                  <a:pt x="180" y="107"/>
                  <a:pt x="187" y="105"/>
                  <a:pt x="194" y="116"/>
                </a:cubicBezTo>
                <a:cubicBezTo>
                  <a:pt x="181" y="120"/>
                  <a:pt x="176" y="113"/>
                  <a:pt x="164" y="107"/>
                </a:cubicBezTo>
                <a:cubicBezTo>
                  <a:pt x="185" y="106"/>
                  <a:pt x="207" y="110"/>
                  <a:pt x="227" y="104"/>
                </a:cubicBezTo>
                <a:cubicBezTo>
                  <a:pt x="232" y="103"/>
                  <a:pt x="228" y="92"/>
                  <a:pt x="224" y="89"/>
                </a:cubicBezTo>
                <a:cubicBezTo>
                  <a:pt x="221" y="86"/>
                  <a:pt x="216" y="91"/>
                  <a:pt x="212" y="92"/>
                </a:cubicBezTo>
                <a:cubicBezTo>
                  <a:pt x="209" y="94"/>
                  <a:pt x="178" y="115"/>
                  <a:pt x="203" y="107"/>
                </a:cubicBezTo>
                <a:cubicBezTo>
                  <a:pt x="217" y="116"/>
                  <a:pt x="259" y="121"/>
                  <a:pt x="236" y="98"/>
                </a:cubicBezTo>
                <a:cubicBezTo>
                  <a:pt x="208" y="103"/>
                  <a:pt x="217" y="94"/>
                  <a:pt x="209" y="71"/>
                </a:cubicBezTo>
                <a:cubicBezTo>
                  <a:pt x="195" y="76"/>
                  <a:pt x="195" y="83"/>
                  <a:pt x="182" y="74"/>
                </a:cubicBezTo>
                <a:cubicBezTo>
                  <a:pt x="177" y="59"/>
                  <a:pt x="187" y="62"/>
                  <a:pt x="200" y="59"/>
                </a:cubicBezTo>
                <a:cubicBezTo>
                  <a:pt x="209" y="33"/>
                  <a:pt x="161" y="65"/>
                  <a:pt x="188" y="56"/>
                </a:cubicBezTo>
                <a:cubicBezTo>
                  <a:pt x="204" y="59"/>
                  <a:pt x="211" y="61"/>
                  <a:pt x="221" y="47"/>
                </a:cubicBezTo>
                <a:cubicBezTo>
                  <a:pt x="232" y="79"/>
                  <a:pt x="211" y="87"/>
                  <a:pt x="254" y="77"/>
                </a:cubicBezTo>
                <a:cubicBezTo>
                  <a:pt x="236" y="73"/>
                  <a:pt x="234" y="64"/>
                  <a:pt x="221" y="77"/>
                </a:cubicBezTo>
                <a:cubicBezTo>
                  <a:pt x="225" y="78"/>
                  <a:pt x="278" y="86"/>
                  <a:pt x="281" y="89"/>
                </a:cubicBezTo>
                <a:cubicBezTo>
                  <a:pt x="284" y="92"/>
                  <a:pt x="278" y="98"/>
                  <a:pt x="275" y="101"/>
                </a:cubicBezTo>
                <a:cubicBezTo>
                  <a:pt x="267" y="109"/>
                  <a:pt x="246" y="116"/>
                  <a:pt x="236" y="119"/>
                </a:cubicBezTo>
                <a:cubicBezTo>
                  <a:pt x="200" y="95"/>
                  <a:pt x="236" y="111"/>
                  <a:pt x="203" y="119"/>
                </a:cubicBezTo>
                <a:cubicBezTo>
                  <a:pt x="214" y="102"/>
                  <a:pt x="204" y="111"/>
                  <a:pt x="233" y="116"/>
                </a:cubicBezTo>
                <a:cubicBezTo>
                  <a:pt x="245" y="118"/>
                  <a:pt x="269" y="122"/>
                  <a:pt x="269" y="122"/>
                </a:cubicBezTo>
                <a:cubicBezTo>
                  <a:pt x="286" y="116"/>
                  <a:pt x="284" y="107"/>
                  <a:pt x="290" y="92"/>
                </a:cubicBezTo>
                <a:cubicBezTo>
                  <a:pt x="291" y="89"/>
                  <a:pt x="299" y="86"/>
                  <a:pt x="296" y="83"/>
                </a:cubicBezTo>
                <a:cubicBezTo>
                  <a:pt x="293" y="80"/>
                  <a:pt x="290" y="87"/>
                  <a:pt x="287" y="89"/>
                </a:cubicBezTo>
                <a:cubicBezTo>
                  <a:pt x="286" y="93"/>
                  <a:pt x="281" y="98"/>
                  <a:pt x="284" y="101"/>
                </a:cubicBezTo>
                <a:cubicBezTo>
                  <a:pt x="287" y="104"/>
                  <a:pt x="292" y="98"/>
                  <a:pt x="296" y="98"/>
                </a:cubicBezTo>
                <a:cubicBezTo>
                  <a:pt x="306" y="98"/>
                  <a:pt x="316" y="100"/>
                  <a:pt x="326" y="101"/>
                </a:cubicBezTo>
                <a:cubicBezTo>
                  <a:pt x="328" y="105"/>
                  <a:pt x="334" y="109"/>
                  <a:pt x="332" y="113"/>
                </a:cubicBezTo>
                <a:cubicBezTo>
                  <a:pt x="330" y="116"/>
                  <a:pt x="323" y="112"/>
                  <a:pt x="320" y="110"/>
                </a:cubicBezTo>
                <a:cubicBezTo>
                  <a:pt x="314" y="106"/>
                  <a:pt x="309" y="87"/>
                  <a:pt x="308" y="83"/>
                </a:cubicBezTo>
                <a:cubicBezTo>
                  <a:pt x="305" y="73"/>
                  <a:pt x="328" y="87"/>
                  <a:pt x="338" y="89"/>
                </a:cubicBezTo>
                <a:cubicBezTo>
                  <a:pt x="347" y="90"/>
                  <a:pt x="356" y="91"/>
                  <a:pt x="365" y="92"/>
                </a:cubicBezTo>
                <a:cubicBezTo>
                  <a:pt x="372" y="113"/>
                  <a:pt x="377" y="108"/>
                  <a:pt x="362" y="113"/>
                </a:cubicBezTo>
                <a:cubicBezTo>
                  <a:pt x="319" y="102"/>
                  <a:pt x="352" y="99"/>
                  <a:pt x="374" y="77"/>
                </a:cubicBezTo>
                <a:cubicBezTo>
                  <a:pt x="364" y="48"/>
                  <a:pt x="356" y="94"/>
                  <a:pt x="356" y="98"/>
                </a:cubicBezTo>
                <a:cubicBezTo>
                  <a:pt x="366" y="128"/>
                  <a:pt x="355" y="125"/>
                  <a:pt x="326" y="122"/>
                </a:cubicBezTo>
                <a:cubicBezTo>
                  <a:pt x="313" y="113"/>
                  <a:pt x="313" y="107"/>
                  <a:pt x="317" y="92"/>
                </a:cubicBezTo>
                <a:cubicBezTo>
                  <a:pt x="313" y="76"/>
                  <a:pt x="312" y="72"/>
                  <a:pt x="296" y="68"/>
                </a:cubicBezTo>
                <a:cubicBezTo>
                  <a:pt x="279" y="72"/>
                  <a:pt x="275" y="84"/>
                  <a:pt x="266" y="65"/>
                </a:cubicBezTo>
                <a:cubicBezTo>
                  <a:pt x="283" y="43"/>
                  <a:pt x="282" y="61"/>
                  <a:pt x="305" y="53"/>
                </a:cubicBezTo>
                <a:cubicBezTo>
                  <a:pt x="314" y="27"/>
                  <a:pt x="294" y="73"/>
                  <a:pt x="287" y="80"/>
                </a:cubicBezTo>
                <a:cubicBezTo>
                  <a:pt x="300" y="89"/>
                  <a:pt x="311" y="82"/>
                  <a:pt x="326" y="77"/>
                </a:cubicBezTo>
                <a:cubicBezTo>
                  <a:pt x="332" y="65"/>
                  <a:pt x="330" y="54"/>
                  <a:pt x="344" y="59"/>
                </a:cubicBezTo>
                <a:cubicBezTo>
                  <a:pt x="347" y="63"/>
                  <a:pt x="351" y="67"/>
                  <a:pt x="353" y="71"/>
                </a:cubicBezTo>
                <a:cubicBezTo>
                  <a:pt x="355" y="74"/>
                  <a:pt x="353" y="79"/>
                  <a:pt x="356" y="80"/>
                </a:cubicBezTo>
                <a:cubicBezTo>
                  <a:pt x="361" y="81"/>
                  <a:pt x="404" y="75"/>
                  <a:pt x="413" y="74"/>
                </a:cubicBezTo>
                <a:cubicBezTo>
                  <a:pt x="416" y="72"/>
                  <a:pt x="418" y="68"/>
                  <a:pt x="422" y="68"/>
                </a:cubicBezTo>
                <a:cubicBezTo>
                  <a:pt x="431" y="69"/>
                  <a:pt x="449" y="77"/>
                  <a:pt x="449" y="77"/>
                </a:cubicBezTo>
                <a:cubicBezTo>
                  <a:pt x="444" y="114"/>
                  <a:pt x="460" y="139"/>
                  <a:pt x="422" y="101"/>
                </a:cubicBezTo>
                <a:cubicBezTo>
                  <a:pt x="420" y="93"/>
                  <a:pt x="419" y="85"/>
                  <a:pt x="416" y="77"/>
                </a:cubicBezTo>
                <a:cubicBezTo>
                  <a:pt x="415" y="74"/>
                  <a:pt x="409" y="71"/>
                  <a:pt x="410" y="68"/>
                </a:cubicBezTo>
                <a:cubicBezTo>
                  <a:pt x="413" y="60"/>
                  <a:pt x="428" y="50"/>
                  <a:pt x="428" y="50"/>
                </a:cubicBezTo>
                <a:cubicBezTo>
                  <a:pt x="427" y="63"/>
                  <a:pt x="416" y="83"/>
                  <a:pt x="428" y="89"/>
                </a:cubicBezTo>
                <a:cubicBezTo>
                  <a:pt x="431" y="90"/>
                  <a:pt x="437" y="83"/>
                  <a:pt x="437" y="86"/>
                </a:cubicBezTo>
                <a:cubicBezTo>
                  <a:pt x="437" y="93"/>
                  <a:pt x="418" y="93"/>
                  <a:pt x="404" y="95"/>
                </a:cubicBezTo>
                <a:cubicBezTo>
                  <a:pt x="386" y="101"/>
                  <a:pt x="398" y="116"/>
                  <a:pt x="386" y="98"/>
                </a:cubicBezTo>
                <a:cubicBezTo>
                  <a:pt x="396" y="63"/>
                  <a:pt x="395" y="87"/>
                  <a:pt x="413" y="62"/>
                </a:cubicBezTo>
                <a:cubicBezTo>
                  <a:pt x="418" y="46"/>
                  <a:pt x="406" y="19"/>
                  <a:pt x="428" y="26"/>
                </a:cubicBezTo>
                <a:cubicBezTo>
                  <a:pt x="441" y="17"/>
                  <a:pt x="446" y="24"/>
                  <a:pt x="458" y="32"/>
                </a:cubicBezTo>
                <a:cubicBezTo>
                  <a:pt x="538" y="27"/>
                  <a:pt x="501" y="32"/>
                  <a:pt x="464" y="44"/>
                </a:cubicBezTo>
                <a:cubicBezTo>
                  <a:pt x="454" y="23"/>
                  <a:pt x="439" y="33"/>
                  <a:pt x="422" y="44"/>
                </a:cubicBezTo>
                <a:cubicBezTo>
                  <a:pt x="409" y="25"/>
                  <a:pt x="406" y="46"/>
                  <a:pt x="404" y="59"/>
                </a:cubicBezTo>
                <a:cubicBezTo>
                  <a:pt x="397" y="57"/>
                  <a:pt x="374" y="51"/>
                  <a:pt x="374" y="50"/>
                </a:cubicBezTo>
                <a:cubicBezTo>
                  <a:pt x="371" y="36"/>
                  <a:pt x="396" y="26"/>
                  <a:pt x="404" y="23"/>
                </a:cubicBezTo>
                <a:cubicBezTo>
                  <a:pt x="396" y="0"/>
                  <a:pt x="391" y="15"/>
                  <a:pt x="386" y="32"/>
                </a:cubicBezTo>
                <a:cubicBezTo>
                  <a:pt x="388" y="49"/>
                  <a:pt x="393" y="70"/>
                  <a:pt x="371" y="56"/>
                </a:cubicBezTo>
                <a:cubicBezTo>
                  <a:pt x="367" y="40"/>
                  <a:pt x="367" y="45"/>
                  <a:pt x="371" y="26"/>
                </a:cubicBezTo>
                <a:cubicBezTo>
                  <a:pt x="372" y="23"/>
                  <a:pt x="374" y="14"/>
                  <a:pt x="374" y="17"/>
                </a:cubicBezTo>
                <a:cubicBezTo>
                  <a:pt x="374" y="30"/>
                  <a:pt x="369" y="45"/>
                  <a:pt x="362" y="56"/>
                </a:cubicBezTo>
                <a:cubicBezTo>
                  <a:pt x="369" y="90"/>
                  <a:pt x="358" y="62"/>
                  <a:pt x="413" y="68"/>
                </a:cubicBezTo>
                <a:cubicBezTo>
                  <a:pt x="421" y="69"/>
                  <a:pt x="425" y="79"/>
                  <a:pt x="431" y="83"/>
                </a:cubicBezTo>
                <a:cubicBezTo>
                  <a:pt x="459" y="76"/>
                  <a:pt x="454" y="78"/>
                  <a:pt x="476" y="89"/>
                </a:cubicBezTo>
                <a:cubicBezTo>
                  <a:pt x="491" y="82"/>
                  <a:pt x="495" y="70"/>
                  <a:pt x="500" y="89"/>
                </a:cubicBezTo>
                <a:cubicBezTo>
                  <a:pt x="498" y="93"/>
                  <a:pt x="498" y="99"/>
                  <a:pt x="494" y="101"/>
                </a:cubicBezTo>
                <a:cubicBezTo>
                  <a:pt x="488" y="103"/>
                  <a:pt x="482" y="99"/>
                  <a:pt x="476" y="98"/>
                </a:cubicBezTo>
                <a:cubicBezTo>
                  <a:pt x="473" y="97"/>
                  <a:pt x="467" y="92"/>
                  <a:pt x="467" y="95"/>
                </a:cubicBezTo>
                <a:cubicBezTo>
                  <a:pt x="467" y="105"/>
                  <a:pt x="487" y="103"/>
                  <a:pt x="497" y="104"/>
                </a:cubicBezTo>
                <a:cubicBezTo>
                  <a:pt x="514" y="95"/>
                  <a:pt x="515" y="91"/>
                  <a:pt x="527" y="107"/>
                </a:cubicBezTo>
                <a:cubicBezTo>
                  <a:pt x="523" y="108"/>
                  <a:pt x="519" y="111"/>
                  <a:pt x="515" y="110"/>
                </a:cubicBezTo>
                <a:cubicBezTo>
                  <a:pt x="511" y="109"/>
                  <a:pt x="510" y="104"/>
                  <a:pt x="506" y="104"/>
                </a:cubicBezTo>
                <a:cubicBezTo>
                  <a:pt x="499" y="104"/>
                  <a:pt x="494" y="111"/>
                  <a:pt x="488" y="113"/>
                </a:cubicBezTo>
                <a:cubicBezTo>
                  <a:pt x="461" y="110"/>
                  <a:pt x="450" y="112"/>
                  <a:pt x="467" y="89"/>
                </a:cubicBezTo>
                <a:cubicBezTo>
                  <a:pt x="487" y="94"/>
                  <a:pt x="521" y="78"/>
                  <a:pt x="542" y="74"/>
                </a:cubicBezTo>
                <a:cubicBezTo>
                  <a:pt x="544" y="68"/>
                  <a:pt x="542" y="56"/>
                  <a:pt x="548" y="56"/>
                </a:cubicBezTo>
                <a:cubicBezTo>
                  <a:pt x="563" y="56"/>
                  <a:pt x="550" y="86"/>
                  <a:pt x="551" y="89"/>
                </a:cubicBezTo>
                <a:cubicBezTo>
                  <a:pt x="552" y="92"/>
                  <a:pt x="557" y="87"/>
                  <a:pt x="560" y="86"/>
                </a:cubicBezTo>
                <a:cubicBezTo>
                  <a:pt x="554" y="105"/>
                  <a:pt x="526" y="102"/>
                  <a:pt x="509" y="104"/>
                </a:cubicBezTo>
                <a:cubicBezTo>
                  <a:pt x="505" y="103"/>
                  <a:pt x="498" y="105"/>
                  <a:pt x="497" y="101"/>
                </a:cubicBezTo>
                <a:cubicBezTo>
                  <a:pt x="494" y="91"/>
                  <a:pt x="510" y="96"/>
                  <a:pt x="524" y="98"/>
                </a:cubicBezTo>
                <a:cubicBezTo>
                  <a:pt x="532" y="99"/>
                  <a:pt x="540" y="100"/>
                  <a:pt x="548" y="101"/>
                </a:cubicBezTo>
                <a:cubicBezTo>
                  <a:pt x="569" y="98"/>
                  <a:pt x="591" y="84"/>
                  <a:pt x="599" y="107"/>
                </a:cubicBezTo>
                <a:cubicBezTo>
                  <a:pt x="615" y="84"/>
                  <a:pt x="581" y="101"/>
                  <a:pt x="572" y="107"/>
                </a:cubicBezTo>
                <a:cubicBezTo>
                  <a:pt x="557" y="104"/>
                  <a:pt x="543" y="104"/>
                  <a:pt x="530" y="95"/>
                </a:cubicBezTo>
                <a:cubicBezTo>
                  <a:pt x="536" y="71"/>
                  <a:pt x="527" y="92"/>
                  <a:pt x="557" y="80"/>
                </a:cubicBezTo>
                <a:cubicBezTo>
                  <a:pt x="560" y="79"/>
                  <a:pt x="569" y="60"/>
                  <a:pt x="569" y="59"/>
                </a:cubicBezTo>
                <a:cubicBezTo>
                  <a:pt x="573" y="36"/>
                  <a:pt x="574" y="14"/>
                  <a:pt x="584" y="56"/>
                </a:cubicBezTo>
                <a:cubicBezTo>
                  <a:pt x="586" y="64"/>
                  <a:pt x="600" y="58"/>
                  <a:pt x="608" y="59"/>
                </a:cubicBezTo>
                <a:cubicBezTo>
                  <a:pt x="618" y="121"/>
                  <a:pt x="596" y="21"/>
                  <a:pt x="641" y="71"/>
                </a:cubicBezTo>
                <a:cubicBezTo>
                  <a:pt x="650" y="81"/>
                  <a:pt x="643" y="99"/>
                  <a:pt x="644" y="113"/>
                </a:cubicBezTo>
                <a:cubicBezTo>
                  <a:pt x="657" y="93"/>
                  <a:pt x="641" y="113"/>
                  <a:pt x="632" y="116"/>
                </a:cubicBezTo>
                <a:cubicBezTo>
                  <a:pt x="615" y="114"/>
                  <a:pt x="603" y="109"/>
                  <a:pt x="587" y="113"/>
                </a:cubicBezTo>
                <a:cubicBezTo>
                  <a:pt x="586" y="119"/>
                  <a:pt x="580" y="127"/>
                  <a:pt x="584" y="131"/>
                </a:cubicBezTo>
                <a:cubicBezTo>
                  <a:pt x="591" y="138"/>
                  <a:pt x="593" y="113"/>
                  <a:pt x="602" y="110"/>
                </a:cubicBezTo>
                <a:cubicBezTo>
                  <a:pt x="613" y="107"/>
                  <a:pt x="624" y="108"/>
                  <a:pt x="635" y="107"/>
                </a:cubicBezTo>
                <a:cubicBezTo>
                  <a:pt x="629" y="67"/>
                  <a:pt x="637" y="77"/>
                  <a:pt x="611" y="86"/>
                </a:cubicBezTo>
                <a:cubicBezTo>
                  <a:pt x="587" y="80"/>
                  <a:pt x="598" y="72"/>
                  <a:pt x="614" y="68"/>
                </a:cubicBezTo>
                <a:cubicBezTo>
                  <a:pt x="638" y="52"/>
                  <a:pt x="609" y="63"/>
                  <a:pt x="602" y="68"/>
                </a:cubicBezTo>
                <a:cubicBezTo>
                  <a:pt x="593" y="87"/>
                  <a:pt x="586" y="83"/>
                  <a:pt x="566" y="80"/>
                </a:cubicBezTo>
                <a:cubicBezTo>
                  <a:pt x="600" y="57"/>
                  <a:pt x="583" y="65"/>
                  <a:pt x="617" y="56"/>
                </a:cubicBezTo>
                <a:cubicBezTo>
                  <a:pt x="631" y="35"/>
                  <a:pt x="614" y="36"/>
                  <a:pt x="593" y="29"/>
                </a:cubicBezTo>
                <a:cubicBezTo>
                  <a:pt x="581" y="30"/>
                  <a:pt x="567" y="26"/>
                  <a:pt x="557" y="32"/>
                </a:cubicBezTo>
                <a:cubicBezTo>
                  <a:pt x="538" y="43"/>
                  <a:pt x="555" y="61"/>
                  <a:pt x="533" y="68"/>
                </a:cubicBezTo>
                <a:cubicBezTo>
                  <a:pt x="525" y="80"/>
                  <a:pt x="522" y="86"/>
                  <a:pt x="509" y="77"/>
                </a:cubicBezTo>
                <a:cubicBezTo>
                  <a:pt x="507" y="73"/>
                  <a:pt x="503" y="69"/>
                  <a:pt x="503" y="65"/>
                </a:cubicBezTo>
                <a:cubicBezTo>
                  <a:pt x="503" y="61"/>
                  <a:pt x="510" y="59"/>
                  <a:pt x="509" y="56"/>
                </a:cubicBezTo>
                <a:cubicBezTo>
                  <a:pt x="507" y="49"/>
                  <a:pt x="497" y="51"/>
                  <a:pt x="491" y="47"/>
                </a:cubicBezTo>
                <a:cubicBezTo>
                  <a:pt x="489" y="51"/>
                  <a:pt x="489" y="56"/>
                  <a:pt x="485" y="59"/>
                </a:cubicBezTo>
                <a:cubicBezTo>
                  <a:pt x="481" y="62"/>
                  <a:pt x="465" y="62"/>
                  <a:pt x="470" y="62"/>
                </a:cubicBezTo>
                <a:cubicBezTo>
                  <a:pt x="496" y="64"/>
                  <a:pt x="522" y="64"/>
                  <a:pt x="548" y="65"/>
                </a:cubicBezTo>
                <a:cubicBezTo>
                  <a:pt x="551" y="69"/>
                  <a:pt x="553" y="80"/>
                  <a:pt x="557" y="77"/>
                </a:cubicBezTo>
                <a:cubicBezTo>
                  <a:pt x="563" y="72"/>
                  <a:pt x="563" y="53"/>
                  <a:pt x="563" y="53"/>
                </a:cubicBezTo>
                <a:cubicBezTo>
                  <a:pt x="545" y="41"/>
                  <a:pt x="536" y="29"/>
                  <a:pt x="560" y="17"/>
                </a:cubicBezTo>
                <a:cubicBezTo>
                  <a:pt x="563" y="19"/>
                  <a:pt x="567" y="20"/>
                  <a:pt x="569" y="23"/>
                </a:cubicBezTo>
                <a:cubicBezTo>
                  <a:pt x="572" y="28"/>
                  <a:pt x="569" y="38"/>
                  <a:pt x="575" y="41"/>
                </a:cubicBezTo>
                <a:cubicBezTo>
                  <a:pt x="604" y="55"/>
                  <a:pt x="572" y="42"/>
                  <a:pt x="566" y="41"/>
                </a:cubicBezTo>
                <a:cubicBezTo>
                  <a:pt x="569" y="24"/>
                  <a:pt x="571" y="21"/>
                  <a:pt x="587" y="26"/>
                </a:cubicBezTo>
                <a:cubicBezTo>
                  <a:pt x="571" y="33"/>
                  <a:pt x="561" y="43"/>
                  <a:pt x="545" y="47"/>
                </a:cubicBezTo>
                <a:cubicBezTo>
                  <a:pt x="525" y="43"/>
                  <a:pt x="520" y="41"/>
                  <a:pt x="524" y="20"/>
                </a:cubicBezTo>
                <a:cubicBezTo>
                  <a:pt x="544" y="27"/>
                  <a:pt x="557" y="34"/>
                  <a:pt x="578" y="29"/>
                </a:cubicBezTo>
                <a:cubicBezTo>
                  <a:pt x="584" y="54"/>
                  <a:pt x="579" y="51"/>
                  <a:pt x="611" y="47"/>
                </a:cubicBezTo>
                <a:cubicBezTo>
                  <a:pt x="626" y="68"/>
                  <a:pt x="614" y="72"/>
                  <a:pt x="644" y="68"/>
                </a:cubicBezTo>
                <a:cubicBezTo>
                  <a:pt x="670" y="50"/>
                  <a:pt x="630" y="75"/>
                  <a:pt x="647" y="86"/>
                </a:cubicBezTo>
                <a:cubicBezTo>
                  <a:pt x="656" y="92"/>
                  <a:pt x="669" y="82"/>
                  <a:pt x="680" y="80"/>
                </a:cubicBezTo>
                <a:cubicBezTo>
                  <a:pt x="668" y="115"/>
                  <a:pt x="700" y="102"/>
                  <a:pt x="725" y="98"/>
                </a:cubicBezTo>
                <a:cubicBezTo>
                  <a:pt x="688" y="110"/>
                  <a:pt x="732" y="112"/>
                  <a:pt x="659" y="107"/>
                </a:cubicBezTo>
                <a:cubicBezTo>
                  <a:pt x="648" y="90"/>
                  <a:pt x="653" y="106"/>
                  <a:pt x="680" y="101"/>
                </a:cubicBezTo>
                <a:cubicBezTo>
                  <a:pt x="682" y="95"/>
                  <a:pt x="688" y="89"/>
                  <a:pt x="686" y="83"/>
                </a:cubicBezTo>
                <a:cubicBezTo>
                  <a:pt x="685" y="80"/>
                  <a:pt x="680" y="75"/>
                  <a:pt x="683" y="74"/>
                </a:cubicBezTo>
                <a:cubicBezTo>
                  <a:pt x="686" y="72"/>
                  <a:pt x="689" y="78"/>
                  <a:pt x="692" y="80"/>
                </a:cubicBezTo>
                <a:cubicBezTo>
                  <a:pt x="694" y="88"/>
                  <a:pt x="697" y="101"/>
                  <a:pt x="698" y="101"/>
                </a:cubicBezTo>
                <a:cubicBezTo>
                  <a:pt x="713" y="101"/>
                  <a:pt x="723" y="93"/>
                  <a:pt x="734" y="86"/>
                </a:cubicBezTo>
                <a:cubicBezTo>
                  <a:pt x="728" y="103"/>
                  <a:pt x="742" y="100"/>
                  <a:pt x="749" y="89"/>
                </a:cubicBezTo>
                <a:cubicBezTo>
                  <a:pt x="759" y="118"/>
                  <a:pt x="724" y="111"/>
                  <a:pt x="704" y="113"/>
                </a:cubicBezTo>
                <a:cubicBezTo>
                  <a:pt x="694" y="116"/>
                  <a:pt x="687" y="122"/>
                  <a:pt x="677" y="125"/>
                </a:cubicBezTo>
                <a:cubicBezTo>
                  <a:pt x="665" y="113"/>
                  <a:pt x="663" y="116"/>
                  <a:pt x="650" y="125"/>
                </a:cubicBezTo>
                <a:cubicBezTo>
                  <a:pt x="643" y="105"/>
                  <a:pt x="593" y="122"/>
                  <a:pt x="575" y="128"/>
                </a:cubicBezTo>
                <a:cubicBezTo>
                  <a:pt x="547" y="121"/>
                  <a:pt x="557" y="127"/>
                  <a:pt x="557" y="92"/>
                </a:cubicBezTo>
                <a:cubicBezTo>
                  <a:pt x="557" y="89"/>
                  <a:pt x="556" y="99"/>
                  <a:pt x="554" y="101"/>
                </a:cubicBezTo>
                <a:cubicBezTo>
                  <a:pt x="549" y="107"/>
                  <a:pt x="540" y="108"/>
                  <a:pt x="533" y="110"/>
                </a:cubicBezTo>
                <a:cubicBezTo>
                  <a:pt x="517" y="122"/>
                  <a:pt x="516" y="114"/>
                  <a:pt x="500" y="119"/>
                </a:cubicBezTo>
                <a:cubicBezTo>
                  <a:pt x="476" y="103"/>
                  <a:pt x="507" y="128"/>
                  <a:pt x="494" y="95"/>
                </a:cubicBezTo>
                <a:cubicBezTo>
                  <a:pt x="493" y="92"/>
                  <a:pt x="488" y="97"/>
                  <a:pt x="485" y="98"/>
                </a:cubicBezTo>
                <a:cubicBezTo>
                  <a:pt x="477" y="102"/>
                  <a:pt x="461" y="110"/>
                  <a:pt x="461" y="110"/>
                </a:cubicBezTo>
                <a:cubicBezTo>
                  <a:pt x="459" y="113"/>
                  <a:pt x="459" y="119"/>
                  <a:pt x="455" y="119"/>
                </a:cubicBezTo>
                <a:cubicBezTo>
                  <a:pt x="449" y="120"/>
                  <a:pt x="443" y="115"/>
                  <a:pt x="437" y="113"/>
                </a:cubicBezTo>
                <a:cubicBezTo>
                  <a:pt x="434" y="112"/>
                  <a:pt x="428" y="110"/>
                  <a:pt x="428" y="110"/>
                </a:cubicBezTo>
                <a:cubicBezTo>
                  <a:pt x="404" y="126"/>
                  <a:pt x="434" y="110"/>
                  <a:pt x="410" y="110"/>
                </a:cubicBezTo>
                <a:cubicBezTo>
                  <a:pt x="403" y="110"/>
                  <a:pt x="396" y="116"/>
                  <a:pt x="389" y="116"/>
                </a:cubicBezTo>
              </a:path>
            </a:pathLst>
          </a:custGeom>
          <a:solidFill>
            <a:srgbClr val="00ff99"/>
          </a:solidFill>
          <a:ln w="648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2534840" y="17164080"/>
            <a:ext cx="1204920" cy="220680"/>
          </a:xfrm>
          <a:custGeom>
            <a:avLst/>
            <a:gdLst/>
            <a:ahLst/>
            <a:rect l="l" t="t" r="r" b="b"/>
            <a:pathLst>
              <a:path w="759" h="139">
                <a:moveTo>
                  <a:pt x="35" y="119"/>
                </a:moveTo>
                <a:cubicBezTo>
                  <a:pt x="0" y="128"/>
                  <a:pt x="15" y="116"/>
                  <a:pt x="35" y="110"/>
                </a:cubicBezTo>
                <a:cubicBezTo>
                  <a:pt x="38" y="109"/>
                  <a:pt x="41" y="108"/>
                  <a:pt x="44" y="107"/>
                </a:cubicBezTo>
                <a:cubicBezTo>
                  <a:pt x="59" y="117"/>
                  <a:pt x="61" y="108"/>
                  <a:pt x="71" y="95"/>
                </a:cubicBezTo>
                <a:cubicBezTo>
                  <a:pt x="76" y="100"/>
                  <a:pt x="88" y="108"/>
                  <a:pt x="83" y="113"/>
                </a:cubicBezTo>
                <a:cubicBezTo>
                  <a:pt x="79" y="117"/>
                  <a:pt x="73" y="115"/>
                  <a:pt x="68" y="116"/>
                </a:cubicBezTo>
                <a:cubicBezTo>
                  <a:pt x="65" y="117"/>
                  <a:pt x="59" y="122"/>
                  <a:pt x="59" y="119"/>
                </a:cubicBezTo>
                <a:cubicBezTo>
                  <a:pt x="59" y="115"/>
                  <a:pt x="65" y="114"/>
                  <a:pt x="68" y="113"/>
                </a:cubicBezTo>
                <a:cubicBezTo>
                  <a:pt x="72" y="111"/>
                  <a:pt x="76" y="111"/>
                  <a:pt x="80" y="110"/>
                </a:cubicBezTo>
                <a:cubicBezTo>
                  <a:pt x="82" y="107"/>
                  <a:pt x="82" y="102"/>
                  <a:pt x="86" y="101"/>
                </a:cubicBezTo>
                <a:cubicBezTo>
                  <a:pt x="97" y="99"/>
                  <a:pt x="94" y="112"/>
                  <a:pt x="98" y="116"/>
                </a:cubicBezTo>
                <a:cubicBezTo>
                  <a:pt x="100" y="118"/>
                  <a:pt x="110" y="119"/>
                  <a:pt x="107" y="119"/>
                </a:cubicBezTo>
                <a:cubicBezTo>
                  <a:pt x="101" y="119"/>
                  <a:pt x="95" y="117"/>
                  <a:pt x="89" y="116"/>
                </a:cubicBezTo>
                <a:cubicBezTo>
                  <a:pt x="101" y="108"/>
                  <a:pt x="111" y="111"/>
                  <a:pt x="119" y="98"/>
                </a:cubicBezTo>
                <a:cubicBezTo>
                  <a:pt x="103" y="93"/>
                  <a:pt x="102" y="108"/>
                  <a:pt x="92" y="92"/>
                </a:cubicBezTo>
                <a:cubicBezTo>
                  <a:pt x="106" y="88"/>
                  <a:pt x="111" y="92"/>
                  <a:pt x="125" y="95"/>
                </a:cubicBezTo>
                <a:cubicBezTo>
                  <a:pt x="131" y="78"/>
                  <a:pt x="128" y="93"/>
                  <a:pt x="107" y="83"/>
                </a:cubicBezTo>
                <a:cubicBezTo>
                  <a:pt x="113" y="81"/>
                  <a:pt x="120" y="70"/>
                  <a:pt x="125" y="74"/>
                </a:cubicBezTo>
                <a:cubicBezTo>
                  <a:pt x="129" y="77"/>
                  <a:pt x="124" y="85"/>
                  <a:pt x="128" y="89"/>
                </a:cubicBezTo>
                <a:cubicBezTo>
                  <a:pt x="135" y="96"/>
                  <a:pt x="155" y="98"/>
                  <a:pt x="155" y="98"/>
                </a:cubicBezTo>
                <a:cubicBezTo>
                  <a:pt x="145" y="113"/>
                  <a:pt x="129" y="108"/>
                  <a:pt x="113" y="116"/>
                </a:cubicBezTo>
                <a:cubicBezTo>
                  <a:pt x="103" y="130"/>
                  <a:pt x="97" y="123"/>
                  <a:pt x="83" y="116"/>
                </a:cubicBezTo>
                <a:cubicBezTo>
                  <a:pt x="63" y="123"/>
                  <a:pt x="88" y="123"/>
                  <a:pt x="95" y="125"/>
                </a:cubicBezTo>
                <a:cubicBezTo>
                  <a:pt x="124" y="122"/>
                  <a:pt x="139" y="119"/>
                  <a:pt x="164" y="107"/>
                </a:cubicBezTo>
                <a:cubicBezTo>
                  <a:pt x="157" y="85"/>
                  <a:pt x="160" y="114"/>
                  <a:pt x="146" y="92"/>
                </a:cubicBezTo>
                <a:cubicBezTo>
                  <a:pt x="157" y="88"/>
                  <a:pt x="169" y="91"/>
                  <a:pt x="179" y="86"/>
                </a:cubicBezTo>
                <a:cubicBezTo>
                  <a:pt x="182" y="85"/>
                  <a:pt x="185" y="78"/>
                  <a:pt x="182" y="77"/>
                </a:cubicBezTo>
                <a:cubicBezTo>
                  <a:pt x="175" y="75"/>
                  <a:pt x="168" y="79"/>
                  <a:pt x="161" y="80"/>
                </a:cubicBezTo>
                <a:cubicBezTo>
                  <a:pt x="158" y="79"/>
                  <a:pt x="155" y="78"/>
                  <a:pt x="152" y="77"/>
                </a:cubicBezTo>
                <a:cubicBezTo>
                  <a:pt x="148" y="76"/>
                  <a:pt x="154" y="86"/>
                  <a:pt x="158" y="89"/>
                </a:cubicBezTo>
                <a:cubicBezTo>
                  <a:pt x="163" y="93"/>
                  <a:pt x="170" y="93"/>
                  <a:pt x="176" y="95"/>
                </a:cubicBezTo>
                <a:cubicBezTo>
                  <a:pt x="180" y="107"/>
                  <a:pt x="187" y="105"/>
                  <a:pt x="194" y="116"/>
                </a:cubicBezTo>
                <a:cubicBezTo>
                  <a:pt x="181" y="120"/>
                  <a:pt x="176" y="113"/>
                  <a:pt x="164" y="107"/>
                </a:cubicBezTo>
                <a:cubicBezTo>
                  <a:pt x="185" y="106"/>
                  <a:pt x="207" y="110"/>
                  <a:pt x="227" y="104"/>
                </a:cubicBezTo>
                <a:cubicBezTo>
                  <a:pt x="232" y="103"/>
                  <a:pt x="228" y="92"/>
                  <a:pt x="224" y="89"/>
                </a:cubicBezTo>
                <a:cubicBezTo>
                  <a:pt x="221" y="86"/>
                  <a:pt x="216" y="91"/>
                  <a:pt x="212" y="92"/>
                </a:cubicBezTo>
                <a:cubicBezTo>
                  <a:pt x="209" y="94"/>
                  <a:pt x="178" y="115"/>
                  <a:pt x="203" y="107"/>
                </a:cubicBezTo>
                <a:cubicBezTo>
                  <a:pt x="217" y="116"/>
                  <a:pt x="259" y="121"/>
                  <a:pt x="236" y="98"/>
                </a:cubicBezTo>
                <a:cubicBezTo>
                  <a:pt x="208" y="103"/>
                  <a:pt x="217" y="94"/>
                  <a:pt x="209" y="71"/>
                </a:cubicBezTo>
                <a:cubicBezTo>
                  <a:pt x="195" y="76"/>
                  <a:pt x="195" y="83"/>
                  <a:pt x="182" y="74"/>
                </a:cubicBezTo>
                <a:cubicBezTo>
                  <a:pt x="177" y="59"/>
                  <a:pt x="187" y="62"/>
                  <a:pt x="200" y="59"/>
                </a:cubicBezTo>
                <a:cubicBezTo>
                  <a:pt x="209" y="33"/>
                  <a:pt x="161" y="65"/>
                  <a:pt x="188" y="56"/>
                </a:cubicBezTo>
                <a:cubicBezTo>
                  <a:pt x="204" y="59"/>
                  <a:pt x="211" y="61"/>
                  <a:pt x="221" y="47"/>
                </a:cubicBezTo>
                <a:cubicBezTo>
                  <a:pt x="232" y="79"/>
                  <a:pt x="211" y="87"/>
                  <a:pt x="254" y="77"/>
                </a:cubicBezTo>
                <a:cubicBezTo>
                  <a:pt x="236" y="73"/>
                  <a:pt x="234" y="64"/>
                  <a:pt x="221" y="77"/>
                </a:cubicBezTo>
                <a:cubicBezTo>
                  <a:pt x="225" y="78"/>
                  <a:pt x="278" y="86"/>
                  <a:pt x="281" y="89"/>
                </a:cubicBezTo>
                <a:cubicBezTo>
                  <a:pt x="284" y="92"/>
                  <a:pt x="278" y="98"/>
                  <a:pt x="275" y="101"/>
                </a:cubicBezTo>
                <a:cubicBezTo>
                  <a:pt x="267" y="109"/>
                  <a:pt x="246" y="116"/>
                  <a:pt x="236" y="119"/>
                </a:cubicBezTo>
                <a:cubicBezTo>
                  <a:pt x="200" y="95"/>
                  <a:pt x="236" y="111"/>
                  <a:pt x="203" y="119"/>
                </a:cubicBezTo>
                <a:cubicBezTo>
                  <a:pt x="214" y="102"/>
                  <a:pt x="204" y="111"/>
                  <a:pt x="233" y="116"/>
                </a:cubicBezTo>
                <a:cubicBezTo>
                  <a:pt x="245" y="118"/>
                  <a:pt x="269" y="122"/>
                  <a:pt x="269" y="122"/>
                </a:cubicBezTo>
                <a:cubicBezTo>
                  <a:pt x="286" y="116"/>
                  <a:pt x="284" y="107"/>
                  <a:pt x="290" y="92"/>
                </a:cubicBezTo>
                <a:cubicBezTo>
                  <a:pt x="291" y="89"/>
                  <a:pt x="299" y="86"/>
                  <a:pt x="296" y="83"/>
                </a:cubicBezTo>
                <a:cubicBezTo>
                  <a:pt x="293" y="80"/>
                  <a:pt x="290" y="87"/>
                  <a:pt x="287" y="89"/>
                </a:cubicBezTo>
                <a:cubicBezTo>
                  <a:pt x="286" y="93"/>
                  <a:pt x="281" y="98"/>
                  <a:pt x="284" y="101"/>
                </a:cubicBezTo>
                <a:cubicBezTo>
                  <a:pt x="287" y="104"/>
                  <a:pt x="292" y="98"/>
                  <a:pt x="296" y="98"/>
                </a:cubicBezTo>
                <a:cubicBezTo>
                  <a:pt x="306" y="98"/>
                  <a:pt x="316" y="100"/>
                  <a:pt x="326" y="101"/>
                </a:cubicBezTo>
                <a:cubicBezTo>
                  <a:pt x="328" y="105"/>
                  <a:pt x="334" y="109"/>
                  <a:pt x="332" y="113"/>
                </a:cubicBezTo>
                <a:cubicBezTo>
                  <a:pt x="330" y="116"/>
                  <a:pt x="323" y="112"/>
                  <a:pt x="320" y="110"/>
                </a:cubicBezTo>
                <a:cubicBezTo>
                  <a:pt x="314" y="106"/>
                  <a:pt x="309" y="87"/>
                  <a:pt x="308" y="83"/>
                </a:cubicBezTo>
                <a:cubicBezTo>
                  <a:pt x="305" y="73"/>
                  <a:pt x="328" y="87"/>
                  <a:pt x="338" y="89"/>
                </a:cubicBezTo>
                <a:cubicBezTo>
                  <a:pt x="347" y="90"/>
                  <a:pt x="356" y="91"/>
                  <a:pt x="365" y="92"/>
                </a:cubicBezTo>
                <a:cubicBezTo>
                  <a:pt x="372" y="113"/>
                  <a:pt x="377" y="108"/>
                  <a:pt x="362" y="113"/>
                </a:cubicBezTo>
                <a:cubicBezTo>
                  <a:pt x="319" y="102"/>
                  <a:pt x="352" y="99"/>
                  <a:pt x="374" y="77"/>
                </a:cubicBezTo>
                <a:cubicBezTo>
                  <a:pt x="364" y="48"/>
                  <a:pt x="356" y="94"/>
                  <a:pt x="356" y="98"/>
                </a:cubicBezTo>
                <a:cubicBezTo>
                  <a:pt x="366" y="128"/>
                  <a:pt x="355" y="125"/>
                  <a:pt x="326" y="122"/>
                </a:cubicBezTo>
                <a:cubicBezTo>
                  <a:pt x="313" y="113"/>
                  <a:pt x="313" y="107"/>
                  <a:pt x="317" y="92"/>
                </a:cubicBezTo>
                <a:cubicBezTo>
                  <a:pt x="313" y="76"/>
                  <a:pt x="312" y="72"/>
                  <a:pt x="296" y="68"/>
                </a:cubicBezTo>
                <a:cubicBezTo>
                  <a:pt x="279" y="72"/>
                  <a:pt x="275" y="84"/>
                  <a:pt x="266" y="65"/>
                </a:cubicBezTo>
                <a:cubicBezTo>
                  <a:pt x="283" y="43"/>
                  <a:pt x="282" y="61"/>
                  <a:pt x="305" y="53"/>
                </a:cubicBezTo>
                <a:cubicBezTo>
                  <a:pt x="314" y="27"/>
                  <a:pt x="294" y="73"/>
                  <a:pt x="287" y="80"/>
                </a:cubicBezTo>
                <a:cubicBezTo>
                  <a:pt x="300" y="89"/>
                  <a:pt x="311" y="82"/>
                  <a:pt x="326" y="77"/>
                </a:cubicBezTo>
                <a:cubicBezTo>
                  <a:pt x="332" y="65"/>
                  <a:pt x="330" y="54"/>
                  <a:pt x="344" y="59"/>
                </a:cubicBezTo>
                <a:cubicBezTo>
                  <a:pt x="347" y="63"/>
                  <a:pt x="351" y="67"/>
                  <a:pt x="353" y="71"/>
                </a:cubicBezTo>
                <a:cubicBezTo>
                  <a:pt x="355" y="74"/>
                  <a:pt x="353" y="79"/>
                  <a:pt x="356" y="80"/>
                </a:cubicBezTo>
                <a:cubicBezTo>
                  <a:pt x="361" y="81"/>
                  <a:pt x="404" y="75"/>
                  <a:pt x="413" y="74"/>
                </a:cubicBezTo>
                <a:cubicBezTo>
                  <a:pt x="416" y="72"/>
                  <a:pt x="418" y="68"/>
                  <a:pt x="422" y="68"/>
                </a:cubicBezTo>
                <a:cubicBezTo>
                  <a:pt x="431" y="69"/>
                  <a:pt x="449" y="77"/>
                  <a:pt x="449" y="77"/>
                </a:cubicBezTo>
                <a:cubicBezTo>
                  <a:pt x="444" y="114"/>
                  <a:pt x="460" y="139"/>
                  <a:pt x="422" y="101"/>
                </a:cubicBezTo>
                <a:cubicBezTo>
                  <a:pt x="420" y="93"/>
                  <a:pt x="419" y="85"/>
                  <a:pt x="416" y="77"/>
                </a:cubicBezTo>
                <a:cubicBezTo>
                  <a:pt x="415" y="74"/>
                  <a:pt x="409" y="71"/>
                  <a:pt x="410" y="68"/>
                </a:cubicBezTo>
                <a:cubicBezTo>
                  <a:pt x="413" y="60"/>
                  <a:pt x="428" y="50"/>
                  <a:pt x="428" y="50"/>
                </a:cubicBezTo>
                <a:cubicBezTo>
                  <a:pt x="427" y="63"/>
                  <a:pt x="416" y="83"/>
                  <a:pt x="428" y="89"/>
                </a:cubicBezTo>
                <a:cubicBezTo>
                  <a:pt x="431" y="90"/>
                  <a:pt x="437" y="83"/>
                  <a:pt x="437" y="86"/>
                </a:cubicBezTo>
                <a:cubicBezTo>
                  <a:pt x="437" y="93"/>
                  <a:pt x="418" y="93"/>
                  <a:pt x="404" y="95"/>
                </a:cubicBezTo>
                <a:cubicBezTo>
                  <a:pt x="386" y="101"/>
                  <a:pt x="398" y="116"/>
                  <a:pt x="386" y="98"/>
                </a:cubicBezTo>
                <a:cubicBezTo>
                  <a:pt x="396" y="63"/>
                  <a:pt x="395" y="87"/>
                  <a:pt x="413" y="62"/>
                </a:cubicBezTo>
                <a:cubicBezTo>
                  <a:pt x="418" y="46"/>
                  <a:pt x="406" y="19"/>
                  <a:pt x="428" y="26"/>
                </a:cubicBezTo>
                <a:cubicBezTo>
                  <a:pt x="441" y="17"/>
                  <a:pt x="446" y="24"/>
                  <a:pt x="458" y="32"/>
                </a:cubicBezTo>
                <a:cubicBezTo>
                  <a:pt x="538" y="27"/>
                  <a:pt x="501" y="32"/>
                  <a:pt x="464" y="44"/>
                </a:cubicBezTo>
                <a:cubicBezTo>
                  <a:pt x="454" y="23"/>
                  <a:pt x="439" y="33"/>
                  <a:pt x="422" y="44"/>
                </a:cubicBezTo>
                <a:cubicBezTo>
                  <a:pt x="409" y="25"/>
                  <a:pt x="406" y="46"/>
                  <a:pt x="404" y="59"/>
                </a:cubicBezTo>
                <a:cubicBezTo>
                  <a:pt x="397" y="57"/>
                  <a:pt x="374" y="51"/>
                  <a:pt x="374" y="50"/>
                </a:cubicBezTo>
                <a:cubicBezTo>
                  <a:pt x="371" y="36"/>
                  <a:pt x="396" y="26"/>
                  <a:pt x="404" y="23"/>
                </a:cubicBezTo>
                <a:cubicBezTo>
                  <a:pt x="396" y="0"/>
                  <a:pt x="391" y="15"/>
                  <a:pt x="386" y="32"/>
                </a:cubicBezTo>
                <a:cubicBezTo>
                  <a:pt x="388" y="49"/>
                  <a:pt x="393" y="70"/>
                  <a:pt x="371" y="56"/>
                </a:cubicBezTo>
                <a:cubicBezTo>
                  <a:pt x="367" y="40"/>
                  <a:pt x="367" y="45"/>
                  <a:pt x="371" y="26"/>
                </a:cubicBezTo>
                <a:cubicBezTo>
                  <a:pt x="372" y="23"/>
                  <a:pt x="374" y="14"/>
                  <a:pt x="374" y="17"/>
                </a:cubicBezTo>
                <a:cubicBezTo>
                  <a:pt x="374" y="30"/>
                  <a:pt x="369" y="45"/>
                  <a:pt x="362" y="56"/>
                </a:cubicBezTo>
                <a:cubicBezTo>
                  <a:pt x="369" y="90"/>
                  <a:pt x="358" y="62"/>
                  <a:pt x="413" y="68"/>
                </a:cubicBezTo>
                <a:cubicBezTo>
                  <a:pt x="421" y="69"/>
                  <a:pt x="425" y="79"/>
                  <a:pt x="431" y="83"/>
                </a:cubicBezTo>
                <a:cubicBezTo>
                  <a:pt x="459" y="76"/>
                  <a:pt x="454" y="78"/>
                  <a:pt x="476" y="89"/>
                </a:cubicBezTo>
                <a:cubicBezTo>
                  <a:pt x="491" y="82"/>
                  <a:pt x="495" y="70"/>
                  <a:pt x="500" y="89"/>
                </a:cubicBezTo>
                <a:cubicBezTo>
                  <a:pt x="498" y="93"/>
                  <a:pt x="498" y="99"/>
                  <a:pt x="494" y="101"/>
                </a:cubicBezTo>
                <a:cubicBezTo>
                  <a:pt x="488" y="103"/>
                  <a:pt x="482" y="99"/>
                  <a:pt x="476" y="98"/>
                </a:cubicBezTo>
                <a:cubicBezTo>
                  <a:pt x="473" y="97"/>
                  <a:pt x="467" y="92"/>
                  <a:pt x="467" y="95"/>
                </a:cubicBezTo>
                <a:cubicBezTo>
                  <a:pt x="467" y="105"/>
                  <a:pt x="487" y="103"/>
                  <a:pt x="497" y="104"/>
                </a:cubicBezTo>
                <a:cubicBezTo>
                  <a:pt x="514" y="95"/>
                  <a:pt x="515" y="91"/>
                  <a:pt x="527" y="107"/>
                </a:cubicBezTo>
                <a:cubicBezTo>
                  <a:pt x="523" y="108"/>
                  <a:pt x="519" y="111"/>
                  <a:pt x="515" y="110"/>
                </a:cubicBezTo>
                <a:cubicBezTo>
                  <a:pt x="511" y="109"/>
                  <a:pt x="510" y="104"/>
                  <a:pt x="506" y="104"/>
                </a:cubicBezTo>
                <a:cubicBezTo>
                  <a:pt x="499" y="104"/>
                  <a:pt x="494" y="111"/>
                  <a:pt x="488" y="113"/>
                </a:cubicBezTo>
                <a:cubicBezTo>
                  <a:pt x="461" y="110"/>
                  <a:pt x="450" y="112"/>
                  <a:pt x="467" y="89"/>
                </a:cubicBezTo>
                <a:cubicBezTo>
                  <a:pt x="487" y="94"/>
                  <a:pt x="521" y="78"/>
                  <a:pt x="542" y="74"/>
                </a:cubicBezTo>
                <a:cubicBezTo>
                  <a:pt x="544" y="68"/>
                  <a:pt x="542" y="56"/>
                  <a:pt x="548" y="56"/>
                </a:cubicBezTo>
                <a:cubicBezTo>
                  <a:pt x="563" y="56"/>
                  <a:pt x="550" y="86"/>
                  <a:pt x="551" y="89"/>
                </a:cubicBezTo>
                <a:cubicBezTo>
                  <a:pt x="552" y="92"/>
                  <a:pt x="557" y="87"/>
                  <a:pt x="560" y="86"/>
                </a:cubicBezTo>
                <a:cubicBezTo>
                  <a:pt x="554" y="105"/>
                  <a:pt x="526" y="102"/>
                  <a:pt x="509" y="104"/>
                </a:cubicBezTo>
                <a:cubicBezTo>
                  <a:pt x="505" y="103"/>
                  <a:pt x="498" y="105"/>
                  <a:pt x="497" y="101"/>
                </a:cubicBezTo>
                <a:cubicBezTo>
                  <a:pt x="494" y="91"/>
                  <a:pt x="510" y="96"/>
                  <a:pt x="524" y="98"/>
                </a:cubicBezTo>
                <a:cubicBezTo>
                  <a:pt x="532" y="99"/>
                  <a:pt x="540" y="100"/>
                  <a:pt x="548" y="101"/>
                </a:cubicBezTo>
                <a:cubicBezTo>
                  <a:pt x="569" y="98"/>
                  <a:pt x="591" y="84"/>
                  <a:pt x="599" y="107"/>
                </a:cubicBezTo>
                <a:cubicBezTo>
                  <a:pt x="615" y="84"/>
                  <a:pt x="581" y="101"/>
                  <a:pt x="572" y="107"/>
                </a:cubicBezTo>
                <a:cubicBezTo>
                  <a:pt x="557" y="104"/>
                  <a:pt x="543" y="104"/>
                  <a:pt x="530" y="95"/>
                </a:cubicBezTo>
                <a:cubicBezTo>
                  <a:pt x="536" y="71"/>
                  <a:pt x="527" y="92"/>
                  <a:pt x="557" y="80"/>
                </a:cubicBezTo>
                <a:cubicBezTo>
                  <a:pt x="560" y="79"/>
                  <a:pt x="569" y="60"/>
                  <a:pt x="569" y="59"/>
                </a:cubicBezTo>
                <a:cubicBezTo>
                  <a:pt x="573" y="36"/>
                  <a:pt x="574" y="14"/>
                  <a:pt x="584" y="56"/>
                </a:cubicBezTo>
                <a:cubicBezTo>
                  <a:pt x="586" y="64"/>
                  <a:pt x="600" y="58"/>
                  <a:pt x="608" y="59"/>
                </a:cubicBezTo>
                <a:cubicBezTo>
                  <a:pt x="618" y="121"/>
                  <a:pt x="596" y="21"/>
                  <a:pt x="641" y="71"/>
                </a:cubicBezTo>
                <a:cubicBezTo>
                  <a:pt x="650" y="81"/>
                  <a:pt x="643" y="99"/>
                  <a:pt x="644" y="113"/>
                </a:cubicBezTo>
                <a:cubicBezTo>
                  <a:pt x="657" y="93"/>
                  <a:pt x="641" y="113"/>
                  <a:pt x="632" y="116"/>
                </a:cubicBezTo>
                <a:cubicBezTo>
                  <a:pt x="615" y="114"/>
                  <a:pt x="603" y="109"/>
                  <a:pt x="587" y="113"/>
                </a:cubicBezTo>
                <a:cubicBezTo>
                  <a:pt x="586" y="119"/>
                  <a:pt x="580" y="127"/>
                  <a:pt x="584" y="131"/>
                </a:cubicBezTo>
                <a:cubicBezTo>
                  <a:pt x="591" y="138"/>
                  <a:pt x="593" y="113"/>
                  <a:pt x="602" y="110"/>
                </a:cubicBezTo>
                <a:cubicBezTo>
                  <a:pt x="613" y="107"/>
                  <a:pt x="624" y="108"/>
                  <a:pt x="635" y="107"/>
                </a:cubicBezTo>
                <a:cubicBezTo>
                  <a:pt x="629" y="67"/>
                  <a:pt x="637" y="77"/>
                  <a:pt x="611" y="86"/>
                </a:cubicBezTo>
                <a:cubicBezTo>
                  <a:pt x="587" y="80"/>
                  <a:pt x="598" y="72"/>
                  <a:pt x="614" y="68"/>
                </a:cubicBezTo>
                <a:cubicBezTo>
                  <a:pt x="638" y="52"/>
                  <a:pt x="609" y="63"/>
                  <a:pt x="602" y="68"/>
                </a:cubicBezTo>
                <a:cubicBezTo>
                  <a:pt x="593" y="87"/>
                  <a:pt x="586" y="83"/>
                  <a:pt x="566" y="80"/>
                </a:cubicBezTo>
                <a:cubicBezTo>
                  <a:pt x="600" y="57"/>
                  <a:pt x="583" y="65"/>
                  <a:pt x="617" y="56"/>
                </a:cubicBezTo>
                <a:cubicBezTo>
                  <a:pt x="631" y="35"/>
                  <a:pt x="614" y="36"/>
                  <a:pt x="593" y="29"/>
                </a:cubicBezTo>
                <a:cubicBezTo>
                  <a:pt x="581" y="30"/>
                  <a:pt x="567" y="26"/>
                  <a:pt x="557" y="32"/>
                </a:cubicBezTo>
                <a:cubicBezTo>
                  <a:pt x="538" y="43"/>
                  <a:pt x="555" y="61"/>
                  <a:pt x="533" y="68"/>
                </a:cubicBezTo>
                <a:cubicBezTo>
                  <a:pt x="525" y="80"/>
                  <a:pt x="522" y="86"/>
                  <a:pt x="509" y="77"/>
                </a:cubicBezTo>
                <a:cubicBezTo>
                  <a:pt x="507" y="73"/>
                  <a:pt x="503" y="69"/>
                  <a:pt x="503" y="65"/>
                </a:cubicBezTo>
                <a:cubicBezTo>
                  <a:pt x="503" y="61"/>
                  <a:pt x="510" y="59"/>
                  <a:pt x="509" y="56"/>
                </a:cubicBezTo>
                <a:cubicBezTo>
                  <a:pt x="507" y="49"/>
                  <a:pt x="497" y="51"/>
                  <a:pt x="491" y="47"/>
                </a:cubicBezTo>
                <a:cubicBezTo>
                  <a:pt x="489" y="51"/>
                  <a:pt x="489" y="56"/>
                  <a:pt x="485" y="59"/>
                </a:cubicBezTo>
                <a:cubicBezTo>
                  <a:pt x="481" y="62"/>
                  <a:pt x="465" y="62"/>
                  <a:pt x="470" y="62"/>
                </a:cubicBezTo>
                <a:cubicBezTo>
                  <a:pt x="496" y="64"/>
                  <a:pt x="522" y="64"/>
                  <a:pt x="548" y="65"/>
                </a:cubicBezTo>
                <a:cubicBezTo>
                  <a:pt x="551" y="69"/>
                  <a:pt x="553" y="80"/>
                  <a:pt x="557" y="77"/>
                </a:cubicBezTo>
                <a:cubicBezTo>
                  <a:pt x="563" y="72"/>
                  <a:pt x="563" y="53"/>
                  <a:pt x="563" y="53"/>
                </a:cubicBezTo>
                <a:cubicBezTo>
                  <a:pt x="545" y="41"/>
                  <a:pt x="536" y="29"/>
                  <a:pt x="560" y="17"/>
                </a:cubicBezTo>
                <a:cubicBezTo>
                  <a:pt x="563" y="19"/>
                  <a:pt x="567" y="20"/>
                  <a:pt x="569" y="23"/>
                </a:cubicBezTo>
                <a:cubicBezTo>
                  <a:pt x="572" y="28"/>
                  <a:pt x="569" y="38"/>
                  <a:pt x="575" y="41"/>
                </a:cubicBezTo>
                <a:cubicBezTo>
                  <a:pt x="604" y="55"/>
                  <a:pt x="572" y="42"/>
                  <a:pt x="566" y="41"/>
                </a:cubicBezTo>
                <a:cubicBezTo>
                  <a:pt x="569" y="24"/>
                  <a:pt x="571" y="21"/>
                  <a:pt x="587" y="26"/>
                </a:cubicBezTo>
                <a:cubicBezTo>
                  <a:pt x="571" y="33"/>
                  <a:pt x="561" y="43"/>
                  <a:pt x="545" y="47"/>
                </a:cubicBezTo>
                <a:cubicBezTo>
                  <a:pt x="525" y="43"/>
                  <a:pt x="520" y="41"/>
                  <a:pt x="524" y="20"/>
                </a:cubicBezTo>
                <a:cubicBezTo>
                  <a:pt x="544" y="27"/>
                  <a:pt x="557" y="34"/>
                  <a:pt x="578" y="29"/>
                </a:cubicBezTo>
                <a:cubicBezTo>
                  <a:pt x="584" y="54"/>
                  <a:pt x="579" y="51"/>
                  <a:pt x="611" y="47"/>
                </a:cubicBezTo>
                <a:cubicBezTo>
                  <a:pt x="626" y="68"/>
                  <a:pt x="614" y="72"/>
                  <a:pt x="644" y="68"/>
                </a:cubicBezTo>
                <a:cubicBezTo>
                  <a:pt x="670" y="50"/>
                  <a:pt x="630" y="75"/>
                  <a:pt x="647" y="86"/>
                </a:cubicBezTo>
                <a:cubicBezTo>
                  <a:pt x="656" y="92"/>
                  <a:pt x="669" y="82"/>
                  <a:pt x="680" y="80"/>
                </a:cubicBezTo>
                <a:cubicBezTo>
                  <a:pt x="668" y="115"/>
                  <a:pt x="700" y="102"/>
                  <a:pt x="725" y="98"/>
                </a:cubicBezTo>
                <a:cubicBezTo>
                  <a:pt x="688" y="110"/>
                  <a:pt x="732" y="112"/>
                  <a:pt x="659" y="107"/>
                </a:cubicBezTo>
                <a:cubicBezTo>
                  <a:pt x="648" y="90"/>
                  <a:pt x="653" y="106"/>
                  <a:pt x="680" y="101"/>
                </a:cubicBezTo>
                <a:cubicBezTo>
                  <a:pt x="682" y="95"/>
                  <a:pt x="688" y="89"/>
                  <a:pt x="686" y="83"/>
                </a:cubicBezTo>
                <a:cubicBezTo>
                  <a:pt x="685" y="80"/>
                  <a:pt x="680" y="75"/>
                  <a:pt x="683" y="74"/>
                </a:cubicBezTo>
                <a:cubicBezTo>
                  <a:pt x="686" y="72"/>
                  <a:pt x="689" y="78"/>
                  <a:pt x="692" y="80"/>
                </a:cubicBezTo>
                <a:cubicBezTo>
                  <a:pt x="694" y="88"/>
                  <a:pt x="697" y="101"/>
                  <a:pt x="698" y="101"/>
                </a:cubicBezTo>
                <a:cubicBezTo>
                  <a:pt x="713" y="101"/>
                  <a:pt x="723" y="93"/>
                  <a:pt x="734" y="86"/>
                </a:cubicBezTo>
                <a:cubicBezTo>
                  <a:pt x="728" y="103"/>
                  <a:pt x="742" y="100"/>
                  <a:pt x="749" y="89"/>
                </a:cubicBezTo>
                <a:cubicBezTo>
                  <a:pt x="759" y="118"/>
                  <a:pt x="724" y="111"/>
                  <a:pt x="704" y="113"/>
                </a:cubicBezTo>
                <a:cubicBezTo>
                  <a:pt x="694" y="116"/>
                  <a:pt x="687" y="122"/>
                  <a:pt x="677" y="125"/>
                </a:cubicBezTo>
                <a:cubicBezTo>
                  <a:pt x="665" y="113"/>
                  <a:pt x="663" y="116"/>
                  <a:pt x="650" y="125"/>
                </a:cubicBezTo>
                <a:cubicBezTo>
                  <a:pt x="643" y="105"/>
                  <a:pt x="593" y="122"/>
                  <a:pt x="575" y="128"/>
                </a:cubicBezTo>
                <a:cubicBezTo>
                  <a:pt x="547" y="121"/>
                  <a:pt x="557" y="127"/>
                  <a:pt x="557" y="92"/>
                </a:cubicBezTo>
                <a:cubicBezTo>
                  <a:pt x="557" y="89"/>
                  <a:pt x="556" y="99"/>
                  <a:pt x="554" y="101"/>
                </a:cubicBezTo>
                <a:cubicBezTo>
                  <a:pt x="549" y="107"/>
                  <a:pt x="540" y="108"/>
                  <a:pt x="533" y="110"/>
                </a:cubicBezTo>
                <a:cubicBezTo>
                  <a:pt x="517" y="122"/>
                  <a:pt x="516" y="114"/>
                  <a:pt x="500" y="119"/>
                </a:cubicBezTo>
                <a:cubicBezTo>
                  <a:pt x="476" y="103"/>
                  <a:pt x="507" y="128"/>
                  <a:pt x="494" y="95"/>
                </a:cubicBezTo>
                <a:cubicBezTo>
                  <a:pt x="493" y="92"/>
                  <a:pt x="488" y="97"/>
                  <a:pt x="485" y="98"/>
                </a:cubicBezTo>
                <a:cubicBezTo>
                  <a:pt x="477" y="102"/>
                  <a:pt x="461" y="110"/>
                  <a:pt x="461" y="110"/>
                </a:cubicBezTo>
                <a:cubicBezTo>
                  <a:pt x="459" y="113"/>
                  <a:pt x="459" y="119"/>
                  <a:pt x="455" y="119"/>
                </a:cubicBezTo>
                <a:cubicBezTo>
                  <a:pt x="449" y="120"/>
                  <a:pt x="443" y="115"/>
                  <a:pt x="437" y="113"/>
                </a:cubicBezTo>
                <a:cubicBezTo>
                  <a:pt x="434" y="112"/>
                  <a:pt x="428" y="110"/>
                  <a:pt x="428" y="110"/>
                </a:cubicBezTo>
                <a:cubicBezTo>
                  <a:pt x="404" y="126"/>
                  <a:pt x="434" y="110"/>
                  <a:pt x="410" y="110"/>
                </a:cubicBezTo>
                <a:cubicBezTo>
                  <a:pt x="403" y="110"/>
                  <a:pt x="396" y="116"/>
                  <a:pt x="389" y="116"/>
                </a:cubicBezTo>
              </a:path>
            </a:pathLst>
          </a:custGeom>
          <a:solidFill>
            <a:srgbClr val="99ffcc"/>
          </a:solidFill>
          <a:ln w="64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0390320" y="17081640"/>
            <a:ext cx="453960" cy="237960"/>
          </a:xfrm>
          <a:custGeom>
            <a:avLst/>
            <a:gdLst/>
            <a:ahLst/>
            <a:rect l="l" t="t" r="r" b="b"/>
            <a:pathLst>
              <a:path w="286" h="150">
                <a:moveTo>
                  <a:pt x="54" y="99"/>
                </a:moveTo>
                <a:cubicBezTo>
                  <a:pt x="68" y="96"/>
                  <a:pt x="85" y="99"/>
                  <a:pt x="96" y="90"/>
                </a:cubicBezTo>
                <a:cubicBezTo>
                  <a:pt x="104" y="83"/>
                  <a:pt x="104" y="69"/>
                  <a:pt x="111" y="60"/>
                </a:cubicBezTo>
                <a:cubicBezTo>
                  <a:pt x="116" y="31"/>
                  <a:pt x="113" y="32"/>
                  <a:pt x="84" y="39"/>
                </a:cubicBezTo>
                <a:cubicBezTo>
                  <a:pt x="75" y="51"/>
                  <a:pt x="70" y="60"/>
                  <a:pt x="87" y="66"/>
                </a:cubicBezTo>
                <a:cubicBezTo>
                  <a:pt x="88" y="72"/>
                  <a:pt x="88" y="78"/>
                  <a:pt x="90" y="84"/>
                </a:cubicBezTo>
                <a:cubicBezTo>
                  <a:pt x="92" y="89"/>
                  <a:pt x="103" y="93"/>
                  <a:pt x="99" y="96"/>
                </a:cubicBezTo>
                <a:cubicBezTo>
                  <a:pt x="91" y="103"/>
                  <a:pt x="79" y="100"/>
                  <a:pt x="69" y="102"/>
                </a:cubicBezTo>
                <a:cubicBezTo>
                  <a:pt x="63" y="104"/>
                  <a:pt x="45" y="108"/>
                  <a:pt x="51" y="108"/>
                </a:cubicBezTo>
                <a:cubicBezTo>
                  <a:pt x="63" y="108"/>
                  <a:pt x="75" y="104"/>
                  <a:pt x="87" y="102"/>
                </a:cubicBezTo>
                <a:cubicBezTo>
                  <a:pt x="95" y="127"/>
                  <a:pt x="91" y="141"/>
                  <a:pt x="117" y="150"/>
                </a:cubicBezTo>
                <a:cubicBezTo>
                  <a:pt x="161" y="146"/>
                  <a:pt x="179" y="130"/>
                  <a:pt x="201" y="93"/>
                </a:cubicBezTo>
                <a:cubicBezTo>
                  <a:pt x="200" y="87"/>
                  <a:pt x="202" y="79"/>
                  <a:pt x="198" y="75"/>
                </a:cubicBezTo>
                <a:cubicBezTo>
                  <a:pt x="195" y="72"/>
                  <a:pt x="193" y="87"/>
                  <a:pt x="192" y="84"/>
                </a:cubicBezTo>
                <a:cubicBezTo>
                  <a:pt x="178" y="46"/>
                  <a:pt x="213" y="30"/>
                  <a:pt x="162" y="24"/>
                </a:cubicBezTo>
                <a:cubicBezTo>
                  <a:pt x="130" y="32"/>
                  <a:pt x="124" y="48"/>
                  <a:pt x="114" y="78"/>
                </a:cubicBezTo>
                <a:cubicBezTo>
                  <a:pt x="146" y="99"/>
                  <a:pt x="97" y="131"/>
                  <a:pt x="156" y="84"/>
                </a:cubicBezTo>
                <a:cubicBezTo>
                  <a:pt x="168" y="48"/>
                  <a:pt x="156" y="73"/>
                  <a:pt x="168" y="90"/>
                </a:cubicBezTo>
                <a:cubicBezTo>
                  <a:pt x="170" y="93"/>
                  <a:pt x="174" y="88"/>
                  <a:pt x="177" y="87"/>
                </a:cubicBezTo>
                <a:cubicBezTo>
                  <a:pt x="179" y="81"/>
                  <a:pt x="183" y="69"/>
                  <a:pt x="183" y="69"/>
                </a:cubicBezTo>
                <a:cubicBezTo>
                  <a:pt x="158" y="86"/>
                  <a:pt x="176" y="39"/>
                  <a:pt x="150" y="48"/>
                </a:cubicBezTo>
                <a:cubicBezTo>
                  <a:pt x="164" y="5"/>
                  <a:pt x="206" y="16"/>
                  <a:pt x="249" y="12"/>
                </a:cubicBezTo>
                <a:cubicBezTo>
                  <a:pt x="225" y="0"/>
                  <a:pt x="201" y="9"/>
                  <a:pt x="177" y="15"/>
                </a:cubicBezTo>
                <a:cubicBezTo>
                  <a:pt x="147" y="45"/>
                  <a:pt x="180" y="77"/>
                  <a:pt x="213" y="81"/>
                </a:cubicBezTo>
                <a:cubicBezTo>
                  <a:pt x="235" y="78"/>
                  <a:pt x="242" y="80"/>
                  <a:pt x="249" y="60"/>
                </a:cubicBezTo>
                <a:cubicBezTo>
                  <a:pt x="248" y="57"/>
                  <a:pt x="249" y="51"/>
                  <a:pt x="246" y="51"/>
                </a:cubicBezTo>
                <a:cubicBezTo>
                  <a:pt x="242" y="51"/>
                  <a:pt x="237" y="60"/>
                  <a:pt x="237" y="60"/>
                </a:cubicBezTo>
                <a:cubicBezTo>
                  <a:pt x="236" y="68"/>
                  <a:pt x="242" y="84"/>
                  <a:pt x="234" y="84"/>
                </a:cubicBezTo>
                <a:cubicBezTo>
                  <a:pt x="226" y="84"/>
                  <a:pt x="232" y="68"/>
                  <a:pt x="231" y="60"/>
                </a:cubicBezTo>
                <a:cubicBezTo>
                  <a:pt x="230" y="54"/>
                  <a:pt x="225" y="47"/>
                  <a:pt x="228" y="42"/>
                </a:cubicBezTo>
                <a:cubicBezTo>
                  <a:pt x="230" y="39"/>
                  <a:pt x="234" y="46"/>
                  <a:pt x="237" y="48"/>
                </a:cubicBezTo>
                <a:cubicBezTo>
                  <a:pt x="250" y="47"/>
                  <a:pt x="263" y="48"/>
                  <a:pt x="276" y="45"/>
                </a:cubicBezTo>
                <a:cubicBezTo>
                  <a:pt x="280" y="44"/>
                  <a:pt x="286" y="32"/>
                  <a:pt x="285" y="36"/>
                </a:cubicBezTo>
                <a:cubicBezTo>
                  <a:pt x="283" y="43"/>
                  <a:pt x="273" y="54"/>
                  <a:pt x="273" y="54"/>
                </a:cubicBezTo>
                <a:cubicBezTo>
                  <a:pt x="271" y="65"/>
                  <a:pt x="260" y="102"/>
                  <a:pt x="282" y="87"/>
                </a:cubicBezTo>
                <a:cubicBezTo>
                  <a:pt x="270" y="75"/>
                  <a:pt x="265" y="68"/>
                  <a:pt x="261" y="51"/>
                </a:cubicBezTo>
                <a:cubicBezTo>
                  <a:pt x="282" y="37"/>
                  <a:pt x="277" y="46"/>
                  <a:pt x="282" y="30"/>
                </a:cubicBezTo>
                <a:cubicBezTo>
                  <a:pt x="257" y="24"/>
                  <a:pt x="230" y="17"/>
                  <a:pt x="207" y="33"/>
                </a:cubicBezTo>
                <a:cubicBezTo>
                  <a:pt x="213" y="36"/>
                  <a:pt x="221" y="37"/>
                  <a:pt x="225" y="42"/>
                </a:cubicBezTo>
                <a:cubicBezTo>
                  <a:pt x="229" y="47"/>
                  <a:pt x="231" y="60"/>
                  <a:pt x="231" y="60"/>
                </a:cubicBezTo>
                <a:cubicBezTo>
                  <a:pt x="206" y="62"/>
                  <a:pt x="181" y="68"/>
                  <a:pt x="156" y="66"/>
                </a:cubicBezTo>
                <a:cubicBezTo>
                  <a:pt x="151" y="66"/>
                  <a:pt x="152" y="55"/>
                  <a:pt x="147" y="54"/>
                </a:cubicBezTo>
                <a:cubicBezTo>
                  <a:pt x="138" y="52"/>
                  <a:pt x="129" y="58"/>
                  <a:pt x="120" y="60"/>
                </a:cubicBezTo>
                <a:cubicBezTo>
                  <a:pt x="119" y="64"/>
                  <a:pt x="115" y="68"/>
                  <a:pt x="117" y="72"/>
                </a:cubicBezTo>
                <a:cubicBezTo>
                  <a:pt x="119" y="76"/>
                  <a:pt x="126" y="72"/>
                  <a:pt x="129" y="75"/>
                </a:cubicBezTo>
                <a:cubicBezTo>
                  <a:pt x="135" y="82"/>
                  <a:pt x="136" y="91"/>
                  <a:pt x="141" y="99"/>
                </a:cubicBezTo>
                <a:cubicBezTo>
                  <a:pt x="143" y="103"/>
                  <a:pt x="147" y="105"/>
                  <a:pt x="150" y="108"/>
                </a:cubicBezTo>
                <a:cubicBezTo>
                  <a:pt x="164" y="107"/>
                  <a:pt x="178" y="107"/>
                  <a:pt x="192" y="105"/>
                </a:cubicBezTo>
                <a:cubicBezTo>
                  <a:pt x="196" y="104"/>
                  <a:pt x="202" y="102"/>
                  <a:pt x="201" y="99"/>
                </a:cubicBezTo>
                <a:cubicBezTo>
                  <a:pt x="200" y="95"/>
                  <a:pt x="193" y="97"/>
                  <a:pt x="189" y="96"/>
                </a:cubicBezTo>
                <a:cubicBezTo>
                  <a:pt x="180" y="99"/>
                  <a:pt x="162" y="93"/>
                  <a:pt x="162" y="93"/>
                </a:cubicBezTo>
                <a:cubicBezTo>
                  <a:pt x="148" y="94"/>
                  <a:pt x="134" y="98"/>
                  <a:pt x="120" y="96"/>
                </a:cubicBezTo>
                <a:cubicBezTo>
                  <a:pt x="93" y="93"/>
                  <a:pt x="140" y="74"/>
                  <a:pt x="102" y="93"/>
                </a:cubicBezTo>
                <a:cubicBezTo>
                  <a:pt x="84" y="75"/>
                  <a:pt x="70" y="75"/>
                  <a:pt x="45" y="72"/>
                </a:cubicBezTo>
                <a:cubicBezTo>
                  <a:pt x="39" y="76"/>
                  <a:pt x="30" y="76"/>
                  <a:pt x="24" y="81"/>
                </a:cubicBezTo>
                <a:cubicBezTo>
                  <a:pt x="0" y="101"/>
                  <a:pt x="28" y="90"/>
                  <a:pt x="30" y="90"/>
                </a:cubicBezTo>
                <a:cubicBezTo>
                  <a:pt x="33" y="81"/>
                  <a:pt x="36" y="74"/>
                  <a:pt x="36" y="63"/>
                </a:cubicBezTo>
                <a:cubicBezTo>
                  <a:pt x="36" y="59"/>
                  <a:pt x="34" y="71"/>
                  <a:pt x="33" y="75"/>
                </a:cubicBezTo>
                <a:cubicBezTo>
                  <a:pt x="32" y="83"/>
                  <a:pt x="31" y="91"/>
                  <a:pt x="30" y="99"/>
                </a:cubicBezTo>
                <a:cubicBezTo>
                  <a:pt x="48" y="127"/>
                  <a:pt x="96" y="120"/>
                  <a:pt x="114" y="93"/>
                </a:cubicBezTo>
                <a:cubicBezTo>
                  <a:pt x="91" y="58"/>
                  <a:pt x="87" y="66"/>
                  <a:pt x="36" y="60"/>
                </a:cubicBezTo>
                <a:cubicBezTo>
                  <a:pt x="40" y="47"/>
                  <a:pt x="44" y="36"/>
                  <a:pt x="54" y="51"/>
                </a:cubicBezTo>
                <a:cubicBezTo>
                  <a:pt x="91" y="46"/>
                  <a:pt x="73" y="47"/>
                  <a:pt x="57" y="54"/>
                </a:cubicBezTo>
                <a:cubicBezTo>
                  <a:pt x="46" y="59"/>
                  <a:pt x="40" y="66"/>
                  <a:pt x="27" y="66"/>
                </a:cubicBezTo>
              </a:path>
            </a:pathLst>
          </a:custGeom>
          <a:solidFill>
            <a:srgbClr val="99ff99"/>
          </a:solidFill>
          <a:ln w="64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3509720" y="17100720"/>
            <a:ext cx="544320" cy="237960"/>
          </a:xfrm>
          <a:custGeom>
            <a:avLst/>
            <a:gdLst/>
            <a:ahLst/>
            <a:rect l="l" t="t" r="r" b="b"/>
            <a:pathLst>
              <a:path w="286" h="150">
                <a:moveTo>
                  <a:pt x="54" y="99"/>
                </a:moveTo>
                <a:cubicBezTo>
                  <a:pt x="68" y="96"/>
                  <a:pt x="85" y="99"/>
                  <a:pt x="96" y="90"/>
                </a:cubicBezTo>
                <a:cubicBezTo>
                  <a:pt x="104" y="83"/>
                  <a:pt x="104" y="69"/>
                  <a:pt x="111" y="60"/>
                </a:cubicBezTo>
                <a:cubicBezTo>
                  <a:pt x="116" y="31"/>
                  <a:pt x="113" y="32"/>
                  <a:pt x="84" y="39"/>
                </a:cubicBezTo>
                <a:cubicBezTo>
                  <a:pt x="75" y="51"/>
                  <a:pt x="70" y="60"/>
                  <a:pt x="87" y="66"/>
                </a:cubicBezTo>
                <a:cubicBezTo>
                  <a:pt x="88" y="72"/>
                  <a:pt x="88" y="78"/>
                  <a:pt x="90" y="84"/>
                </a:cubicBezTo>
                <a:cubicBezTo>
                  <a:pt x="92" y="89"/>
                  <a:pt x="103" y="93"/>
                  <a:pt x="99" y="96"/>
                </a:cubicBezTo>
                <a:cubicBezTo>
                  <a:pt x="91" y="103"/>
                  <a:pt x="79" y="100"/>
                  <a:pt x="69" y="102"/>
                </a:cubicBezTo>
                <a:cubicBezTo>
                  <a:pt x="63" y="104"/>
                  <a:pt x="45" y="108"/>
                  <a:pt x="51" y="108"/>
                </a:cubicBezTo>
                <a:cubicBezTo>
                  <a:pt x="63" y="108"/>
                  <a:pt x="75" y="104"/>
                  <a:pt x="87" y="102"/>
                </a:cubicBezTo>
                <a:cubicBezTo>
                  <a:pt x="95" y="127"/>
                  <a:pt x="91" y="141"/>
                  <a:pt x="117" y="150"/>
                </a:cubicBezTo>
                <a:cubicBezTo>
                  <a:pt x="161" y="146"/>
                  <a:pt x="179" y="130"/>
                  <a:pt x="201" y="93"/>
                </a:cubicBezTo>
                <a:cubicBezTo>
                  <a:pt x="200" y="87"/>
                  <a:pt x="202" y="79"/>
                  <a:pt x="198" y="75"/>
                </a:cubicBezTo>
                <a:cubicBezTo>
                  <a:pt x="195" y="72"/>
                  <a:pt x="193" y="87"/>
                  <a:pt x="192" y="84"/>
                </a:cubicBezTo>
                <a:cubicBezTo>
                  <a:pt x="178" y="46"/>
                  <a:pt x="213" y="30"/>
                  <a:pt x="162" y="24"/>
                </a:cubicBezTo>
                <a:cubicBezTo>
                  <a:pt x="130" y="32"/>
                  <a:pt x="124" y="48"/>
                  <a:pt x="114" y="78"/>
                </a:cubicBezTo>
                <a:cubicBezTo>
                  <a:pt x="146" y="99"/>
                  <a:pt x="97" y="131"/>
                  <a:pt x="156" y="84"/>
                </a:cubicBezTo>
                <a:cubicBezTo>
                  <a:pt x="168" y="48"/>
                  <a:pt x="156" y="73"/>
                  <a:pt x="168" y="90"/>
                </a:cubicBezTo>
                <a:cubicBezTo>
                  <a:pt x="170" y="93"/>
                  <a:pt x="174" y="88"/>
                  <a:pt x="177" y="87"/>
                </a:cubicBezTo>
                <a:cubicBezTo>
                  <a:pt x="179" y="81"/>
                  <a:pt x="183" y="69"/>
                  <a:pt x="183" y="69"/>
                </a:cubicBezTo>
                <a:cubicBezTo>
                  <a:pt x="158" y="86"/>
                  <a:pt x="176" y="39"/>
                  <a:pt x="150" y="48"/>
                </a:cubicBezTo>
                <a:cubicBezTo>
                  <a:pt x="164" y="5"/>
                  <a:pt x="206" y="16"/>
                  <a:pt x="249" y="12"/>
                </a:cubicBezTo>
                <a:cubicBezTo>
                  <a:pt x="225" y="0"/>
                  <a:pt x="201" y="9"/>
                  <a:pt x="177" y="15"/>
                </a:cubicBezTo>
                <a:cubicBezTo>
                  <a:pt x="147" y="45"/>
                  <a:pt x="180" y="77"/>
                  <a:pt x="213" y="81"/>
                </a:cubicBezTo>
                <a:cubicBezTo>
                  <a:pt x="235" y="78"/>
                  <a:pt x="242" y="80"/>
                  <a:pt x="249" y="60"/>
                </a:cubicBezTo>
                <a:cubicBezTo>
                  <a:pt x="248" y="57"/>
                  <a:pt x="249" y="51"/>
                  <a:pt x="246" y="51"/>
                </a:cubicBezTo>
                <a:cubicBezTo>
                  <a:pt x="242" y="51"/>
                  <a:pt x="237" y="60"/>
                  <a:pt x="237" y="60"/>
                </a:cubicBezTo>
                <a:cubicBezTo>
                  <a:pt x="236" y="68"/>
                  <a:pt x="242" y="84"/>
                  <a:pt x="234" y="84"/>
                </a:cubicBezTo>
                <a:cubicBezTo>
                  <a:pt x="226" y="84"/>
                  <a:pt x="232" y="68"/>
                  <a:pt x="231" y="60"/>
                </a:cubicBezTo>
                <a:cubicBezTo>
                  <a:pt x="230" y="54"/>
                  <a:pt x="225" y="47"/>
                  <a:pt x="228" y="42"/>
                </a:cubicBezTo>
                <a:cubicBezTo>
                  <a:pt x="230" y="39"/>
                  <a:pt x="234" y="46"/>
                  <a:pt x="237" y="48"/>
                </a:cubicBezTo>
                <a:cubicBezTo>
                  <a:pt x="250" y="47"/>
                  <a:pt x="263" y="48"/>
                  <a:pt x="276" y="45"/>
                </a:cubicBezTo>
                <a:cubicBezTo>
                  <a:pt x="280" y="44"/>
                  <a:pt x="286" y="32"/>
                  <a:pt x="285" y="36"/>
                </a:cubicBezTo>
                <a:cubicBezTo>
                  <a:pt x="283" y="43"/>
                  <a:pt x="273" y="54"/>
                  <a:pt x="273" y="54"/>
                </a:cubicBezTo>
                <a:cubicBezTo>
                  <a:pt x="271" y="65"/>
                  <a:pt x="260" y="102"/>
                  <a:pt x="282" y="87"/>
                </a:cubicBezTo>
                <a:cubicBezTo>
                  <a:pt x="270" y="75"/>
                  <a:pt x="265" y="68"/>
                  <a:pt x="261" y="51"/>
                </a:cubicBezTo>
                <a:cubicBezTo>
                  <a:pt x="282" y="37"/>
                  <a:pt x="277" y="46"/>
                  <a:pt x="282" y="30"/>
                </a:cubicBezTo>
                <a:cubicBezTo>
                  <a:pt x="257" y="24"/>
                  <a:pt x="230" y="17"/>
                  <a:pt x="207" y="33"/>
                </a:cubicBezTo>
                <a:cubicBezTo>
                  <a:pt x="213" y="36"/>
                  <a:pt x="221" y="37"/>
                  <a:pt x="225" y="42"/>
                </a:cubicBezTo>
                <a:cubicBezTo>
                  <a:pt x="229" y="47"/>
                  <a:pt x="231" y="60"/>
                  <a:pt x="231" y="60"/>
                </a:cubicBezTo>
                <a:cubicBezTo>
                  <a:pt x="206" y="62"/>
                  <a:pt x="181" y="68"/>
                  <a:pt x="156" y="66"/>
                </a:cubicBezTo>
                <a:cubicBezTo>
                  <a:pt x="151" y="66"/>
                  <a:pt x="152" y="55"/>
                  <a:pt x="147" y="54"/>
                </a:cubicBezTo>
                <a:cubicBezTo>
                  <a:pt x="138" y="52"/>
                  <a:pt x="129" y="58"/>
                  <a:pt x="120" y="60"/>
                </a:cubicBezTo>
                <a:cubicBezTo>
                  <a:pt x="119" y="64"/>
                  <a:pt x="115" y="68"/>
                  <a:pt x="117" y="72"/>
                </a:cubicBezTo>
                <a:cubicBezTo>
                  <a:pt x="119" y="76"/>
                  <a:pt x="126" y="72"/>
                  <a:pt x="129" y="75"/>
                </a:cubicBezTo>
                <a:cubicBezTo>
                  <a:pt x="135" y="82"/>
                  <a:pt x="136" y="91"/>
                  <a:pt x="141" y="99"/>
                </a:cubicBezTo>
                <a:cubicBezTo>
                  <a:pt x="143" y="103"/>
                  <a:pt x="147" y="105"/>
                  <a:pt x="150" y="108"/>
                </a:cubicBezTo>
                <a:cubicBezTo>
                  <a:pt x="164" y="107"/>
                  <a:pt x="178" y="107"/>
                  <a:pt x="192" y="105"/>
                </a:cubicBezTo>
                <a:cubicBezTo>
                  <a:pt x="196" y="104"/>
                  <a:pt x="202" y="102"/>
                  <a:pt x="201" y="99"/>
                </a:cubicBezTo>
                <a:cubicBezTo>
                  <a:pt x="200" y="95"/>
                  <a:pt x="193" y="97"/>
                  <a:pt x="189" y="96"/>
                </a:cubicBezTo>
                <a:cubicBezTo>
                  <a:pt x="180" y="99"/>
                  <a:pt x="162" y="93"/>
                  <a:pt x="162" y="93"/>
                </a:cubicBezTo>
                <a:cubicBezTo>
                  <a:pt x="148" y="94"/>
                  <a:pt x="134" y="98"/>
                  <a:pt x="120" y="96"/>
                </a:cubicBezTo>
                <a:cubicBezTo>
                  <a:pt x="93" y="93"/>
                  <a:pt x="140" y="74"/>
                  <a:pt x="102" y="93"/>
                </a:cubicBezTo>
                <a:cubicBezTo>
                  <a:pt x="84" y="75"/>
                  <a:pt x="70" y="75"/>
                  <a:pt x="45" y="72"/>
                </a:cubicBezTo>
                <a:cubicBezTo>
                  <a:pt x="39" y="76"/>
                  <a:pt x="30" y="76"/>
                  <a:pt x="24" y="81"/>
                </a:cubicBezTo>
                <a:cubicBezTo>
                  <a:pt x="0" y="101"/>
                  <a:pt x="28" y="90"/>
                  <a:pt x="30" y="90"/>
                </a:cubicBezTo>
                <a:cubicBezTo>
                  <a:pt x="33" y="81"/>
                  <a:pt x="36" y="74"/>
                  <a:pt x="36" y="63"/>
                </a:cubicBezTo>
                <a:cubicBezTo>
                  <a:pt x="36" y="59"/>
                  <a:pt x="34" y="71"/>
                  <a:pt x="33" y="75"/>
                </a:cubicBezTo>
                <a:cubicBezTo>
                  <a:pt x="32" y="83"/>
                  <a:pt x="31" y="91"/>
                  <a:pt x="30" y="99"/>
                </a:cubicBezTo>
                <a:cubicBezTo>
                  <a:pt x="48" y="127"/>
                  <a:pt x="96" y="120"/>
                  <a:pt x="114" y="93"/>
                </a:cubicBezTo>
                <a:cubicBezTo>
                  <a:pt x="91" y="58"/>
                  <a:pt x="87" y="66"/>
                  <a:pt x="36" y="60"/>
                </a:cubicBezTo>
                <a:cubicBezTo>
                  <a:pt x="40" y="47"/>
                  <a:pt x="44" y="36"/>
                  <a:pt x="54" y="51"/>
                </a:cubicBezTo>
                <a:cubicBezTo>
                  <a:pt x="91" y="46"/>
                  <a:pt x="73" y="47"/>
                  <a:pt x="57" y="54"/>
                </a:cubicBezTo>
                <a:cubicBezTo>
                  <a:pt x="46" y="59"/>
                  <a:pt x="40" y="66"/>
                  <a:pt x="27" y="66"/>
                </a:cubicBezTo>
              </a:path>
            </a:pathLst>
          </a:custGeom>
          <a:solidFill>
            <a:srgbClr val="66ff33"/>
          </a:solidFill>
          <a:ln w="648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3682520" y="17154360"/>
            <a:ext cx="1204920" cy="220680"/>
          </a:xfrm>
          <a:custGeom>
            <a:avLst/>
            <a:gdLst/>
            <a:ahLst/>
            <a:rect l="l" t="t" r="r" b="b"/>
            <a:pathLst>
              <a:path w="759" h="139">
                <a:moveTo>
                  <a:pt x="35" y="119"/>
                </a:moveTo>
                <a:cubicBezTo>
                  <a:pt x="0" y="128"/>
                  <a:pt x="15" y="116"/>
                  <a:pt x="35" y="110"/>
                </a:cubicBezTo>
                <a:cubicBezTo>
                  <a:pt x="38" y="109"/>
                  <a:pt x="41" y="108"/>
                  <a:pt x="44" y="107"/>
                </a:cubicBezTo>
                <a:cubicBezTo>
                  <a:pt x="59" y="117"/>
                  <a:pt x="61" y="108"/>
                  <a:pt x="71" y="95"/>
                </a:cubicBezTo>
                <a:cubicBezTo>
                  <a:pt x="76" y="100"/>
                  <a:pt x="88" y="108"/>
                  <a:pt x="83" y="113"/>
                </a:cubicBezTo>
                <a:cubicBezTo>
                  <a:pt x="79" y="117"/>
                  <a:pt x="73" y="115"/>
                  <a:pt x="68" y="116"/>
                </a:cubicBezTo>
                <a:cubicBezTo>
                  <a:pt x="65" y="117"/>
                  <a:pt x="59" y="122"/>
                  <a:pt x="59" y="119"/>
                </a:cubicBezTo>
                <a:cubicBezTo>
                  <a:pt x="59" y="115"/>
                  <a:pt x="65" y="114"/>
                  <a:pt x="68" y="113"/>
                </a:cubicBezTo>
                <a:cubicBezTo>
                  <a:pt x="72" y="111"/>
                  <a:pt x="76" y="111"/>
                  <a:pt x="80" y="110"/>
                </a:cubicBezTo>
                <a:cubicBezTo>
                  <a:pt x="82" y="107"/>
                  <a:pt x="82" y="102"/>
                  <a:pt x="86" y="101"/>
                </a:cubicBezTo>
                <a:cubicBezTo>
                  <a:pt x="97" y="99"/>
                  <a:pt x="94" y="112"/>
                  <a:pt x="98" y="116"/>
                </a:cubicBezTo>
                <a:cubicBezTo>
                  <a:pt x="100" y="118"/>
                  <a:pt x="110" y="119"/>
                  <a:pt x="107" y="119"/>
                </a:cubicBezTo>
                <a:cubicBezTo>
                  <a:pt x="101" y="119"/>
                  <a:pt x="95" y="117"/>
                  <a:pt x="89" y="116"/>
                </a:cubicBezTo>
                <a:cubicBezTo>
                  <a:pt x="101" y="108"/>
                  <a:pt x="111" y="111"/>
                  <a:pt x="119" y="98"/>
                </a:cubicBezTo>
                <a:cubicBezTo>
                  <a:pt x="103" y="93"/>
                  <a:pt x="102" y="108"/>
                  <a:pt x="92" y="92"/>
                </a:cubicBezTo>
                <a:cubicBezTo>
                  <a:pt x="106" y="88"/>
                  <a:pt x="111" y="92"/>
                  <a:pt x="125" y="95"/>
                </a:cubicBezTo>
                <a:cubicBezTo>
                  <a:pt x="131" y="78"/>
                  <a:pt x="128" y="93"/>
                  <a:pt x="107" y="83"/>
                </a:cubicBezTo>
                <a:cubicBezTo>
                  <a:pt x="113" y="81"/>
                  <a:pt x="120" y="70"/>
                  <a:pt x="125" y="74"/>
                </a:cubicBezTo>
                <a:cubicBezTo>
                  <a:pt x="129" y="77"/>
                  <a:pt x="124" y="85"/>
                  <a:pt x="128" y="89"/>
                </a:cubicBezTo>
                <a:cubicBezTo>
                  <a:pt x="135" y="96"/>
                  <a:pt x="155" y="98"/>
                  <a:pt x="155" y="98"/>
                </a:cubicBezTo>
                <a:cubicBezTo>
                  <a:pt x="145" y="113"/>
                  <a:pt x="129" y="108"/>
                  <a:pt x="113" y="116"/>
                </a:cubicBezTo>
                <a:cubicBezTo>
                  <a:pt x="103" y="130"/>
                  <a:pt x="97" y="123"/>
                  <a:pt x="83" y="116"/>
                </a:cubicBezTo>
                <a:cubicBezTo>
                  <a:pt x="63" y="123"/>
                  <a:pt x="88" y="123"/>
                  <a:pt x="95" y="125"/>
                </a:cubicBezTo>
                <a:cubicBezTo>
                  <a:pt x="124" y="122"/>
                  <a:pt x="139" y="119"/>
                  <a:pt x="164" y="107"/>
                </a:cubicBezTo>
                <a:cubicBezTo>
                  <a:pt x="157" y="85"/>
                  <a:pt x="160" y="114"/>
                  <a:pt x="146" y="92"/>
                </a:cubicBezTo>
                <a:cubicBezTo>
                  <a:pt x="157" y="88"/>
                  <a:pt x="169" y="91"/>
                  <a:pt x="179" y="86"/>
                </a:cubicBezTo>
                <a:cubicBezTo>
                  <a:pt x="182" y="85"/>
                  <a:pt x="185" y="78"/>
                  <a:pt x="182" y="77"/>
                </a:cubicBezTo>
                <a:cubicBezTo>
                  <a:pt x="175" y="75"/>
                  <a:pt x="168" y="79"/>
                  <a:pt x="161" y="80"/>
                </a:cubicBezTo>
                <a:cubicBezTo>
                  <a:pt x="158" y="79"/>
                  <a:pt x="155" y="78"/>
                  <a:pt x="152" y="77"/>
                </a:cubicBezTo>
                <a:cubicBezTo>
                  <a:pt x="148" y="76"/>
                  <a:pt x="154" y="86"/>
                  <a:pt x="158" y="89"/>
                </a:cubicBezTo>
                <a:cubicBezTo>
                  <a:pt x="163" y="93"/>
                  <a:pt x="170" y="93"/>
                  <a:pt x="176" y="95"/>
                </a:cubicBezTo>
                <a:cubicBezTo>
                  <a:pt x="180" y="107"/>
                  <a:pt x="187" y="105"/>
                  <a:pt x="194" y="116"/>
                </a:cubicBezTo>
                <a:cubicBezTo>
                  <a:pt x="181" y="120"/>
                  <a:pt x="176" y="113"/>
                  <a:pt x="164" y="107"/>
                </a:cubicBezTo>
                <a:cubicBezTo>
                  <a:pt x="185" y="106"/>
                  <a:pt x="207" y="110"/>
                  <a:pt x="227" y="104"/>
                </a:cubicBezTo>
                <a:cubicBezTo>
                  <a:pt x="232" y="103"/>
                  <a:pt x="228" y="92"/>
                  <a:pt x="224" y="89"/>
                </a:cubicBezTo>
                <a:cubicBezTo>
                  <a:pt x="221" y="86"/>
                  <a:pt x="216" y="91"/>
                  <a:pt x="212" y="92"/>
                </a:cubicBezTo>
                <a:cubicBezTo>
                  <a:pt x="209" y="94"/>
                  <a:pt x="178" y="115"/>
                  <a:pt x="203" y="107"/>
                </a:cubicBezTo>
                <a:cubicBezTo>
                  <a:pt x="217" y="116"/>
                  <a:pt x="259" y="121"/>
                  <a:pt x="236" y="98"/>
                </a:cubicBezTo>
                <a:cubicBezTo>
                  <a:pt x="208" y="103"/>
                  <a:pt x="217" y="94"/>
                  <a:pt x="209" y="71"/>
                </a:cubicBezTo>
                <a:cubicBezTo>
                  <a:pt x="195" y="76"/>
                  <a:pt x="195" y="83"/>
                  <a:pt x="182" y="74"/>
                </a:cubicBezTo>
                <a:cubicBezTo>
                  <a:pt x="177" y="59"/>
                  <a:pt x="187" y="62"/>
                  <a:pt x="200" y="59"/>
                </a:cubicBezTo>
                <a:cubicBezTo>
                  <a:pt x="209" y="33"/>
                  <a:pt x="161" y="65"/>
                  <a:pt x="188" y="56"/>
                </a:cubicBezTo>
                <a:cubicBezTo>
                  <a:pt x="204" y="59"/>
                  <a:pt x="211" y="61"/>
                  <a:pt x="221" y="47"/>
                </a:cubicBezTo>
                <a:cubicBezTo>
                  <a:pt x="232" y="79"/>
                  <a:pt x="211" y="87"/>
                  <a:pt x="254" y="77"/>
                </a:cubicBezTo>
                <a:cubicBezTo>
                  <a:pt x="236" y="73"/>
                  <a:pt x="234" y="64"/>
                  <a:pt x="221" y="77"/>
                </a:cubicBezTo>
                <a:cubicBezTo>
                  <a:pt x="225" y="78"/>
                  <a:pt x="278" y="86"/>
                  <a:pt x="281" y="89"/>
                </a:cubicBezTo>
                <a:cubicBezTo>
                  <a:pt x="284" y="92"/>
                  <a:pt x="278" y="98"/>
                  <a:pt x="275" y="101"/>
                </a:cubicBezTo>
                <a:cubicBezTo>
                  <a:pt x="267" y="109"/>
                  <a:pt x="246" y="116"/>
                  <a:pt x="236" y="119"/>
                </a:cubicBezTo>
                <a:cubicBezTo>
                  <a:pt x="200" y="95"/>
                  <a:pt x="236" y="111"/>
                  <a:pt x="203" y="119"/>
                </a:cubicBezTo>
                <a:cubicBezTo>
                  <a:pt x="214" y="102"/>
                  <a:pt x="204" y="111"/>
                  <a:pt x="233" y="116"/>
                </a:cubicBezTo>
                <a:cubicBezTo>
                  <a:pt x="245" y="118"/>
                  <a:pt x="269" y="122"/>
                  <a:pt x="269" y="122"/>
                </a:cubicBezTo>
                <a:cubicBezTo>
                  <a:pt x="286" y="116"/>
                  <a:pt x="284" y="107"/>
                  <a:pt x="290" y="92"/>
                </a:cubicBezTo>
                <a:cubicBezTo>
                  <a:pt x="291" y="89"/>
                  <a:pt x="299" y="86"/>
                  <a:pt x="296" y="83"/>
                </a:cubicBezTo>
                <a:cubicBezTo>
                  <a:pt x="293" y="80"/>
                  <a:pt x="290" y="87"/>
                  <a:pt x="287" y="89"/>
                </a:cubicBezTo>
                <a:cubicBezTo>
                  <a:pt x="286" y="93"/>
                  <a:pt x="281" y="98"/>
                  <a:pt x="284" y="101"/>
                </a:cubicBezTo>
                <a:cubicBezTo>
                  <a:pt x="287" y="104"/>
                  <a:pt x="292" y="98"/>
                  <a:pt x="296" y="98"/>
                </a:cubicBezTo>
                <a:cubicBezTo>
                  <a:pt x="306" y="98"/>
                  <a:pt x="316" y="100"/>
                  <a:pt x="326" y="101"/>
                </a:cubicBezTo>
                <a:cubicBezTo>
                  <a:pt x="328" y="105"/>
                  <a:pt x="334" y="109"/>
                  <a:pt x="332" y="113"/>
                </a:cubicBezTo>
                <a:cubicBezTo>
                  <a:pt x="330" y="116"/>
                  <a:pt x="323" y="112"/>
                  <a:pt x="320" y="110"/>
                </a:cubicBezTo>
                <a:cubicBezTo>
                  <a:pt x="314" y="106"/>
                  <a:pt x="309" y="87"/>
                  <a:pt x="308" y="83"/>
                </a:cubicBezTo>
                <a:cubicBezTo>
                  <a:pt x="305" y="73"/>
                  <a:pt x="328" y="87"/>
                  <a:pt x="338" y="89"/>
                </a:cubicBezTo>
                <a:cubicBezTo>
                  <a:pt x="347" y="90"/>
                  <a:pt x="356" y="91"/>
                  <a:pt x="365" y="92"/>
                </a:cubicBezTo>
                <a:cubicBezTo>
                  <a:pt x="372" y="113"/>
                  <a:pt x="377" y="108"/>
                  <a:pt x="362" y="113"/>
                </a:cubicBezTo>
                <a:cubicBezTo>
                  <a:pt x="319" y="102"/>
                  <a:pt x="352" y="99"/>
                  <a:pt x="374" y="77"/>
                </a:cubicBezTo>
                <a:cubicBezTo>
                  <a:pt x="364" y="48"/>
                  <a:pt x="356" y="94"/>
                  <a:pt x="356" y="98"/>
                </a:cubicBezTo>
                <a:cubicBezTo>
                  <a:pt x="366" y="128"/>
                  <a:pt x="355" y="125"/>
                  <a:pt x="326" y="122"/>
                </a:cubicBezTo>
                <a:cubicBezTo>
                  <a:pt x="313" y="113"/>
                  <a:pt x="313" y="107"/>
                  <a:pt x="317" y="92"/>
                </a:cubicBezTo>
                <a:cubicBezTo>
                  <a:pt x="313" y="76"/>
                  <a:pt x="312" y="72"/>
                  <a:pt x="296" y="68"/>
                </a:cubicBezTo>
                <a:cubicBezTo>
                  <a:pt x="279" y="72"/>
                  <a:pt x="275" y="84"/>
                  <a:pt x="266" y="65"/>
                </a:cubicBezTo>
                <a:cubicBezTo>
                  <a:pt x="283" y="43"/>
                  <a:pt x="282" y="61"/>
                  <a:pt x="305" y="53"/>
                </a:cubicBezTo>
                <a:cubicBezTo>
                  <a:pt x="314" y="27"/>
                  <a:pt x="294" y="73"/>
                  <a:pt x="287" y="80"/>
                </a:cubicBezTo>
                <a:cubicBezTo>
                  <a:pt x="300" y="89"/>
                  <a:pt x="311" y="82"/>
                  <a:pt x="326" y="77"/>
                </a:cubicBezTo>
                <a:cubicBezTo>
                  <a:pt x="332" y="65"/>
                  <a:pt x="330" y="54"/>
                  <a:pt x="344" y="59"/>
                </a:cubicBezTo>
                <a:cubicBezTo>
                  <a:pt x="347" y="63"/>
                  <a:pt x="351" y="67"/>
                  <a:pt x="353" y="71"/>
                </a:cubicBezTo>
                <a:cubicBezTo>
                  <a:pt x="355" y="74"/>
                  <a:pt x="353" y="79"/>
                  <a:pt x="356" y="80"/>
                </a:cubicBezTo>
                <a:cubicBezTo>
                  <a:pt x="361" y="81"/>
                  <a:pt x="404" y="75"/>
                  <a:pt x="413" y="74"/>
                </a:cubicBezTo>
                <a:cubicBezTo>
                  <a:pt x="416" y="72"/>
                  <a:pt x="418" y="68"/>
                  <a:pt x="422" y="68"/>
                </a:cubicBezTo>
                <a:cubicBezTo>
                  <a:pt x="431" y="69"/>
                  <a:pt x="449" y="77"/>
                  <a:pt x="449" y="77"/>
                </a:cubicBezTo>
                <a:cubicBezTo>
                  <a:pt x="444" y="114"/>
                  <a:pt x="460" y="139"/>
                  <a:pt x="422" y="101"/>
                </a:cubicBezTo>
                <a:cubicBezTo>
                  <a:pt x="420" y="93"/>
                  <a:pt x="419" y="85"/>
                  <a:pt x="416" y="77"/>
                </a:cubicBezTo>
                <a:cubicBezTo>
                  <a:pt x="415" y="74"/>
                  <a:pt x="409" y="71"/>
                  <a:pt x="410" y="68"/>
                </a:cubicBezTo>
                <a:cubicBezTo>
                  <a:pt x="413" y="60"/>
                  <a:pt x="428" y="50"/>
                  <a:pt x="428" y="50"/>
                </a:cubicBezTo>
                <a:cubicBezTo>
                  <a:pt x="427" y="63"/>
                  <a:pt x="416" y="83"/>
                  <a:pt x="428" y="89"/>
                </a:cubicBezTo>
                <a:cubicBezTo>
                  <a:pt x="431" y="90"/>
                  <a:pt x="437" y="83"/>
                  <a:pt x="437" y="86"/>
                </a:cubicBezTo>
                <a:cubicBezTo>
                  <a:pt x="437" y="93"/>
                  <a:pt x="418" y="93"/>
                  <a:pt x="404" y="95"/>
                </a:cubicBezTo>
                <a:cubicBezTo>
                  <a:pt x="386" y="101"/>
                  <a:pt x="398" y="116"/>
                  <a:pt x="386" y="98"/>
                </a:cubicBezTo>
                <a:cubicBezTo>
                  <a:pt x="396" y="63"/>
                  <a:pt x="395" y="87"/>
                  <a:pt x="413" y="62"/>
                </a:cubicBezTo>
                <a:cubicBezTo>
                  <a:pt x="418" y="46"/>
                  <a:pt x="406" y="19"/>
                  <a:pt x="428" y="26"/>
                </a:cubicBezTo>
                <a:cubicBezTo>
                  <a:pt x="441" y="17"/>
                  <a:pt x="446" y="24"/>
                  <a:pt x="458" y="32"/>
                </a:cubicBezTo>
                <a:cubicBezTo>
                  <a:pt x="538" y="27"/>
                  <a:pt x="501" y="32"/>
                  <a:pt x="464" y="44"/>
                </a:cubicBezTo>
                <a:cubicBezTo>
                  <a:pt x="454" y="23"/>
                  <a:pt x="439" y="33"/>
                  <a:pt x="422" y="44"/>
                </a:cubicBezTo>
                <a:cubicBezTo>
                  <a:pt x="409" y="25"/>
                  <a:pt x="406" y="46"/>
                  <a:pt x="404" y="59"/>
                </a:cubicBezTo>
                <a:cubicBezTo>
                  <a:pt x="397" y="57"/>
                  <a:pt x="374" y="51"/>
                  <a:pt x="374" y="50"/>
                </a:cubicBezTo>
                <a:cubicBezTo>
                  <a:pt x="371" y="36"/>
                  <a:pt x="396" y="26"/>
                  <a:pt x="404" y="23"/>
                </a:cubicBezTo>
                <a:cubicBezTo>
                  <a:pt x="396" y="0"/>
                  <a:pt x="391" y="15"/>
                  <a:pt x="386" y="32"/>
                </a:cubicBezTo>
                <a:cubicBezTo>
                  <a:pt x="388" y="49"/>
                  <a:pt x="393" y="70"/>
                  <a:pt x="371" y="56"/>
                </a:cubicBezTo>
                <a:cubicBezTo>
                  <a:pt x="367" y="40"/>
                  <a:pt x="367" y="45"/>
                  <a:pt x="371" y="26"/>
                </a:cubicBezTo>
                <a:cubicBezTo>
                  <a:pt x="372" y="23"/>
                  <a:pt x="374" y="14"/>
                  <a:pt x="374" y="17"/>
                </a:cubicBezTo>
                <a:cubicBezTo>
                  <a:pt x="374" y="30"/>
                  <a:pt x="369" y="45"/>
                  <a:pt x="362" y="56"/>
                </a:cubicBezTo>
                <a:cubicBezTo>
                  <a:pt x="369" y="90"/>
                  <a:pt x="358" y="62"/>
                  <a:pt x="413" y="68"/>
                </a:cubicBezTo>
                <a:cubicBezTo>
                  <a:pt x="421" y="69"/>
                  <a:pt x="425" y="79"/>
                  <a:pt x="431" y="83"/>
                </a:cubicBezTo>
                <a:cubicBezTo>
                  <a:pt x="459" y="76"/>
                  <a:pt x="454" y="78"/>
                  <a:pt x="476" y="89"/>
                </a:cubicBezTo>
                <a:cubicBezTo>
                  <a:pt x="491" y="82"/>
                  <a:pt x="495" y="70"/>
                  <a:pt x="500" y="89"/>
                </a:cubicBezTo>
                <a:cubicBezTo>
                  <a:pt x="498" y="93"/>
                  <a:pt x="498" y="99"/>
                  <a:pt x="494" y="101"/>
                </a:cubicBezTo>
                <a:cubicBezTo>
                  <a:pt x="488" y="103"/>
                  <a:pt x="482" y="99"/>
                  <a:pt x="476" y="98"/>
                </a:cubicBezTo>
                <a:cubicBezTo>
                  <a:pt x="473" y="97"/>
                  <a:pt x="467" y="92"/>
                  <a:pt x="467" y="95"/>
                </a:cubicBezTo>
                <a:cubicBezTo>
                  <a:pt x="467" y="105"/>
                  <a:pt x="487" y="103"/>
                  <a:pt x="497" y="104"/>
                </a:cubicBezTo>
                <a:cubicBezTo>
                  <a:pt x="514" y="95"/>
                  <a:pt x="515" y="91"/>
                  <a:pt x="527" y="107"/>
                </a:cubicBezTo>
                <a:cubicBezTo>
                  <a:pt x="523" y="108"/>
                  <a:pt x="519" y="111"/>
                  <a:pt x="515" y="110"/>
                </a:cubicBezTo>
                <a:cubicBezTo>
                  <a:pt x="511" y="109"/>
                  <a:pt x="510" y="104"/>
                  <a:pt x="506" y="104"/>
                </a:cubicBezTo>
                <a:cubicBezTo>
                  <a:pt x="499" y="104"/>
                  <a:pt x="494" y="111"/>
                  <a:pt x="488" y="113"/>
                </a:cubicBezTo>
                <a:cubicBezTo>
                  <a:pt x="461" y="110"/>
                  <a:pt x="450" y="112"/>
                  <a:pt x="467" y="89"/>
                </a:cubicBezTo>
                <a:cubicBezTo>
                  <a:pt x="487" y="94"/>
                  <a:pt x="521" y="78"/>
                  <a:pt x="542" y="74"/>
                </a:cubicBezTo>
                <a:cubicBezTo>
                  <a:pt x="544" y="68"/>
                  <a:pt x="542" y="56"/>
                  <a:pt x="548" y="56"/>
                </a:cubicBezTo>
                <a:cubicBezTo>
                  <a:pt x="563" y="56"/>
                  <a:pt x="550" y="86"/>
                  <a:pt x="551" y="89"/>
                </a:cubicBezTo>
                <a:cubicBezTo>
                  <a:pt x="552" y="92"/>
                  <a:pt x="557" y="87"/>
                  <a:pt x="560" y="86"/>
                </a:cubicBezTo>
                <a:cubicBezTo>
                  <a:pt x="554" y="105"/>
                  <a:pt x="526" y="102"/>
                  <a:pt x="509" y="104"/>
                </a:cubicBezTo>
                <a:cubicBezTo>
                  <a:pt x="505" y="103"/>
                  <a:pt x="498" y="105"/>
                  <a:pt x="497" y="101"/>
                </a:cubicBezTo>
                <a:cubicBezTo>
                  <a:pt x="494" y="91"/>
                  <a:pt x="510" y="96"/>
                  <a:pt x="524" y="98"/>
                </a:cubicBezTo>
                <a:cubicBezTo>
                  <a:pt x="532" y="99"/>
                  <a:pt x="540" y="100"/>
                  <a:pt x="548" y="101"/>
                </a:cubicBezTo>
                <a:cubicBezTo>
                  <a:pt x="569" y="98"/>
                  <a:pt x="591" y="84"/>
                  <a:pt x="599" y="107"/>
                </a:cubicBezTo>
                <a:cubicBezTo>
                  <a:pt x="615" y="84"/>
                  <a:pt x="581" y="101"/>
                  <a:pt x="572" y="107"/>
                </a:cubicBezTo>
                <a:cubicBezTo>
                  <a:pt x="557" y="104"/>
                  <a:pt x="543" y="104"/>
                  <a:pt x="530" y="95"/>
                </a:cubicBezTo>
                <a:cubicBezTo>
                  <a:pt x="536" y="71"/>
                  <a:pt x="527" y="92"/>
                  <a:pt x="557" y="80"/>
                </a:cubicBezTo>
                <a:cubicBezTo>
                  <a:pt x="560" y="79"/>
                  <a:pt x="569" y="60"/>
                  <a:pt x="569" y="59"/>
                </a:cubicBezTo>
                <a:cubicBezTo>
                  <a:pt x="573" y="36"/>
                  <a:pt x="574" y="14"/>
                  <a:pt x="584" y="56"/>
                </a:cubicBezTo>
                <a:cubicBezTo>
                  <a:pt x="586" y="64"/>
                  <a:pt x="600" y="58"/>
                  <a:pt x="608" y="59"/>
                </a:cubicBezTo>
                <a:cubicBezTo>
                  <a:pt x="618" y="121"/>
                  <a:pt x="596" y="21"/>
                  <a:pt x="641" y="71"/>
                </a:cubicBezTo>
                <a:cubicBezTo>
                  <a:pt x="650" y="81"/>
                  <a:pt x="643" y="99"/>
                  <a:pt x="644" y="113"/>
                </a:cubicBezTo>
                <a:cubicBezTo>
                  <a:pt x="657" y="93"/>
                  <a:pt x="641" y="113"/>
                  <a:pt x="632" y="116"/>
                </a:cubicBezTo>
                <a:cubicBezTo>
                  <a:pt x="615" y="114"/>
                  <a:pt x="603" y="109"/>
                  <a:pt x="587" y="113"/>
                </a:cubicBezTo>
                <a:cubicBezTo>
                  <a:pt x="586" y="119"/>
                  <a:pt x="580" y="127"/>
                  <a:pt x="584" y="131"/>
                </a:cubicBezTo>
                <a:cubicBezTo>
                  <a:pt x="591" y="138"/>
                  <a:pt x="593" y="113"/>
                  <a:pt x="602" y="110"/>
                </a:cubicBezTo>
                <a:cubicBezTo>
                  <a:pt x="613" y="107"/>
                  <a:pt x="624" y="108"/>
                  <a:pt x="635" y="107"/>
                </a:cubicBezTo>
                <a:cubicBezTo>
                  <a:pt x="629" y="67"/>
                  <a:pt x="637" y="77"/>
                  <a:pt x="611" y="86"/>
                </a:cubicBezTo>
                <a:cubicBezTo>
                  <a:pt x="587" y="80"/>
                  <a:pt x="598" y="72"/>
                  <a:pt x="614" y="68"/>
                </a:cubicBezTo>
                <a:cubicBezTo>
                  <a:pt x="638" y="52"/>
                  <a:pt x="609" y="63"/>
                  <a:pt x="602" y="68"/>
                </a:cubicBezTo>
                <a:cubicBezTo>
                  <a:pt x="593" y="87"/>
                  <a:pt x="586" y="83"/>
                  <a:pt x="566" y="80"/>
                </a:cubicBezTo>
                <a:cubicBezTo>
                  <a:pt x="600" y="57"/>
                  <a:pt x="583" y="65"/>
                  <a:pt x="617" y="56"/>
                </a:cubicBezTo>
                <a:cubicBezTo>
                  <a:pt x="631" y="35"/>
                  <a:pt x="614" y="36"/>
                  <a:pt x="593" y="29"/>
                </a:cubicBezTo>
                <a:cubicBezTo>
                  <a:pt x="581" y="30"/>
                  <a:pt x="567" y="26"/>
                  <a:pt x="557" y="32"/>
                </a:cubicBezTo>
                <a:cubicBezTo>
                  <a:pt x="538" y="43"/>
                  <a:pt x="555" y="61"/>
                  <a:pt x="533" y="68"/>
                </a:cubicBezTo>
                <a:cubicBezTo>
                  <a:pt x="525" y="80"/>
                  <a:pt x="522" y="86"/>
                  <a:pt x="509" y="77"/>
                </a:cubicBezTo>
                <a:cubicBezTo>
                  <a:pt x="507" y="73"/>
                  <a:pt x="503" y="69"/>
                  <a:pt x="503" y="65"/>
                </a:cubicBezTo>
                <a:cubicBezTo>
                  <a:pt x="503" y="61"/>
                  <a:pt x="510" y="59"/>
                  <a:pt x="509" y="56"/>
                </a:cubicBezTo>
                <a:cubicBezTo>
                  <a:pt x="507" y="49"/>
                  <a:pt x="497" y="51"/>
                  <a:pt x="491" y="47"/>
                </a:cubicBezTo>
                <a:cubicBezTo>
                  <a:pt x="489" y="51"/>
                  <a:pt x="489" y="56"/>
                  <a:pt x="485" y="59"/>
                </a:cubicBezTo>
                <a:cubicBezTo>
                  <a:pt x="481" y="62"/>
                  <a:pt x="465" y="62"/>
                  <a:pt x="470" y="62"/>
                </a:cubicBezTo>
                <a:cubicBezTo>
                  <a:pt x="496" y="64"/>
                  <a:pt x="522" y="64"/>
                  <a:pt x="548" y="65"/>
                </a:cubicBezTo>
                <a:cubicBezTo>
                  <a:pt x="551" y="69"/>
                  <a:pt x="553" y="80"/>
                  <a:pt x="557" y="77"/>
                </a:cubicBezTo>
                <a:cubicBezTo>
                  <a:pt x="563" y="72"/>
                  <a:pt x="563" y="53"/>
                  <a:pt x="563" y="53"/>
                </a:cubicBezTo>
                <a:cubicBezTo>
                  <a:pt x="545" y="41"/>
                  <a:pt x="536" y="29"/>
                  <a:pt x="560" y="17"/>
                </a:cubicBezTo>
                <a:cubicBezTo>
                  <a:pt x="563" y="19"/>
                  <a:pt x="567" y="20"/>
                  <a:pt x="569" y="23"/>
                </a:cubicBezTo>
                <a:cubicBezTo>
                  <a:pt x="572" y="28"/>
                  <a:pt x="569" y="38"/>
                  <a:pt x="575" y="41"/>
                </a:cubicBezTo>
                <a:cubicBezTo>
                  <a:pt x="604" y="55"/>
                  <a:pt x="572" y="42"/>
                  <a:pt x="566" y="41"/>
                </a:cubicBezTo>
                <a:cubicBezTo>
                  <a:pt x="569" y="24"/>
                  <a:pt x="571" y="21"/>
                  <a:pt x="587" y="26"/>
                </a:cubicBezTo>
                <a:cubicBezTo>
                  <a:pt x="571" y="33"/>
                  <a:pt x="561" y="43"/>
                  <a:pt x="545" y="47"/>
                </a:cubicBezTo>
                <a:cubicBezTo>
                  <a:pt x="525" y="43"/>
                  <a:pt x="520" y="41"/>
                  <a:pt x="524" y="20"/>
                </a:cubicBezTo>
                <a:cubicBezTo>
                  <a:pt x="544" y="27"/>
                  <a:pt x="557" y="34"/>
                  <a:pt x="578" y="29"/>
                </a:cubicBezTo>
                <a:cubicBezTo>
                  <a:pt x="584" y="54"/>
                  <a:pt x="579" y="51"/>
                  <a:pt x="611" y="47"/>
                </a:cubicBezTo>
                <a:cubicBezTo>
                  <a:pt x="626" y="68"/>
                  <a:pt x="614" y="72"/>
                  <a:pt x="644" y="68"/>
                </a:cubicBezTo>
                <a:cubicBezTo>
                  <a:pt x="670" y="50"/>
                  <a:pt x="630" y="75"/>
                  <a:pt x="647" y="86"/>
                </a:cubicBezTo>
                <a:cubicBezTo>
                  <a:pt x="656" y="92"/>
                  <a:pt x="669" y="82"/>
                  <a:pt x="680" y="80"/>
                </a:cubicBezTo>
                <a:cubicBezTo>
                  <a:pt x="668" y="115"/>
                  <a:pt x="700" y="102"/>
                  <a:pt x="725" y="98"/>
                </a:cubicBezTo>
                <a:cubicBezTo>
                  <a:pt x="688" y="110"/>
                  <a:pt x="732" y="112"/>
                  <a:pt x="659" y="107"/>
                </a:cubicBezTo>
                <a:cubicBezTo>
                  <a:pt x="648" y="90"/>
                  <a:pt x="653" y="106"/>
                  <a:pt x="680" y="101"/>
                </a:cubicBezTo>
                <a:cubicBezTo>
                  <a:pt x="682" y="95"/>
                  <a:pt x="688" y="89"/>
                  <a:pt x="686" y="83"/>
                </a:cubicBezTo>
                <a:cubicBezTo>
                  <a:pt x="685" y="80"/>
                  <a:pt x="680" y="75"/>
                  <a:pt x="683" y="74"/>
                </a:cubicBezTo>
                <a:cubicBezTo>
                  <a:pt x="686" y="72"/>
                  <a:pt x="689" y="78"/>
                  <a:pt x="692" y="80"/>
                </a:cubicBezTo>
                <a:cubicBezTo>
                  <a:pt x="694" y="88"/>
                  <a:pt x="697" y="101"/>
                  <a:pt x="698" y="101"/>
                </a:cubicBezTo>
                <a:cubicBezTo>
                  <a:pt x="713" y="101"/>
                  <a:pt x="723" y="93"/>
                  <a:pt x="734" y="86"/>
                </a:cubicBezTo>
                <a:cubicBezTo>
                  <a:pt x="728" y="103"/>
                  <a:pt x="742" y="100"/>
                  <a:pt x="749" y="89"/>
                </a:cubicBezTo>
                <a:cubicBezTo>
                  <a:pt x="759" y="118"/>
                  <a:pt x="724" y="111"/>
                  <a:pt x="704" y="113"/>
                </a:cubicBezTo>
                <a:cubicBezTo>
                  <a:pt x="694" y="116"/>
                  <a:pt x="687" y="122"/>
                  <a:pt x="677" y="125"/>
                </a:cubicBezTo>
                <a:cubicBezTo>
                  <a:pt x="665" y="113"/>
                  <a:pt x="663" y="116"/>
                  <a:pt x="650" y="125"/>
                </a:cubicBezTo>
                <a:cubicBezTo>
                  <a:pt x="643" y="105"/>
                  <a:pt x="593" y="122"/>
                  <a:pt x="575" y="128"/>
                </a:cubicBezTo>
                <a:cubicBezTo>
                  <a:pt x="547" y="121"/>
                  <a:pt x="557" y="127"/>
                  <a:pt x="557" y="92"/>
                </a:cubicBezTo>
                <a:cubicBezTo>
                  <a:pt x="557" y="89"/>
                  <a:pt x="556" y="99"/>
                  <a:pt x="554" y="101"/>
                </a:cubicBezTo>
                <a:cubicBezTo>
                  <a:pt x="549" y="107"/>
                  <a:pt x="540" y="108"/>
                  <a:pt x="533" y="110"/>
                </a:cubicBezTo>
                <a:cubicBezTo>
                  <a:pt x="517" y="122"/>
                  <a:pt x="516" y="114"/>
                  <a:pt x="500" y="119"/>
                </a:cubicBezTo>
                <a:cubicBezTo>
                  <a:pt x="476" y="103"/>
                  <a:pt x="507" y="128"/>
                  <a:pt x="494" y="95"/>
                </a:cubicBezTo>
                <a:cubicBezTo>
                  <a:pt x="493" y="92"/>
                  <a:pt x="488" y="97"/>
                  <a:pt x="485" y="98"/>
                </a:cubicBezTo>
                <a:cubicBezTo>
                  <a:pt x="477" y="102"/>
                  <a:pt x="461" y="110"/>
                  <a:pt x="461" y="110"/>
                </a:cubicBezTo>
                <a:cubicBezTo>
                  <a:pt x="459" y="113"/>
                  <a:pt x="459" y="119"/>
                  <a:pt x="455" y="119"/>
                </a:cubicBezTo>
                <a:cubicBezTo>
                  <a:pt x="449" y="120"/>
                  <a:pt x="443" y="115"/>
                  <a:pt x="437" y="113"/>
                </a:cubicBezTo>
                <a:cubicBezTo>
                  <a:pt x="434" y="112"/>
                  <a:pt x="428" y="110"/>
                  <a:pt x="428" y="110"/>
                </a:cubicBezTo>
                <a:cubicBezTo>
                  <a:pt x="404" y="126"/>
                  <a:pt x="434" y="110"/>
                  <a:pt x="410" y="110"/>
                </a:cubicBezTo>
                <a:cubicBezTo>
                  <a:pt x="403" y="110"/>
                  <a:pt x="396" y="116"/>
                  <a:pt x="389" y="116"/>
                </a:cubicBezTo>
              </a:path>
            </a:pathLst>
          </a:custGeom>
          <a:solidFill>
            <a:srgbClr val="99ff99"/>
          </a:solidFill>
          <a:ln w="648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4768640" y="17164080"/>
            <a:ext cx="1204920" cy="220680"/>
          </a:xfrm>
          <a:custGeom>
            <a:avLst/>
            <a:gdLst/>
            <a:ahLst/>
            <a:rect l="l" t="t" r="r" b="b"/>
            <a:pathLst>
              <a:path w="759" h="139">
                <a:moveTo>
                  <a:pt x="35" y="119"/>
                </a:moveTo>
                <a:cubicBezTo>
                  <a:pt x="0" y="128"/>
                  <a:pt x="15" y="116"/>
                  <a:pt x="35" y="110"/>
                </a:cubicBezTo>
                <a:cubicBezTo>
                  <a:pt x="38" y="109"/>
                  <a:pt x="41" y="108"/>
                  <a:pt x="44" y="107"/>
                </a:cubicBezTo>
                <a:cubicBezTo>
                  <a:pt x="59" y="117"/>
                  <a:pt x="61" y="108"/>
                  <a:pt x="71" y="95"/>
                </a:cubicBezTo>
                <a:cubicBezTo>
                  <a:pt x="76" y="100"/>
                  <a:pt x="88" y="108"/>
                  <a:pt x="83" y="113"/>
                </a:cubicBezTo>
                <a:cubicBezTo>
                  <a:pt x="79" y="117"/>
                  <a:pt x="73" y="115"/>
                  <a:pt x="68" y="116"/>
                </a:cubicBezTo>
                <a:cubicBezTo>
                  <a:pt x="65" y="117"/>
                  <a:pt x="59" y="122"/>
                  <a:pt x="59" y="119"/>
                </a:cubicBezTo>
                <a:cubicBezTo>
                  <a:pt x="59" y="115"/>
                  <a:pt x="65" y="114"/>
                  <a:pt x="68" y="113"/>
                </a:cubicBezTo>
                <a:cubicBezTo>
                  <a:pt x="72" y="111"/>
                  <a:pt x="76" y="111"/>
                  <a:pt x="80" y="110"/>
                </a:cubicBezTo>
                <a:cubicBezTo>
                  <a:pt x="82" y="107"/>
                  <a:pt x="82" y="102"/>
                  <a:pt x="86" y="101"/>
                </a:cubicBezTo>
                <a:cubicBezTo>
                  <a:pt x="97" y="99"/>
                  <a:pt x="94" y="112"/>
                  <a:pt x="98" y="116"/>
                </a:cubicBezTo>
                <a:cubicBezTo>
                  <a:pt x="100" y="118"/>
                  <a:pt x="110" y="119"/>
                  <a:pt x="107" y="119"/>
                </a:cubicBezTo>
                <a:cubicBezTo>
                  <a:pt x="101" y="119"/>
                  <a:pt x="95" y="117"/>
                  <a:pt x="89" y="116"/>
                </a:cubicBezTo>
                <a:cubicBezTo>
                  <a:pt x="101" y="108"/>
                  <a:pt x="111" y="111"/>
                  <a:pt x="119" y="98"/>
                </a:cubicBezTo>
                <a:cubicBezTo>
                  <a:pt x="103" y="93"/>
                  <a:pt x="102" y="108"/>
                  <a:pt x="92" y="92"/>
                </a:cubicBezTo>
                <a:cubicBezTo>
                  <a:pt x="106" y="88"/>
                  <a:pt x="111" y="92"/>
                  <a:pt x="125" y="95"/>
                </a:cubicBezTo>
                <a:cubicBezTo>
                  <a:pt x="131" y="78"/>
                  <a:pt x="128" y="93"/>
                  <a:pt x="107" y="83"/>
                </a:cubicBezTo>
                <a:cubicBezTo>
                  <a:pt x="113" y="81"/>
                  <a:pt x="120" y="70"/>
                  <a:pt x="125" y="74"/>
                </a:cubicBezTo>
                <a:cubicBezTo>
                  <a:pt x="129" y="77"/>
                  <a:pt x="124" y="85"/>
                  <a:pt x="128" y="89"/>
                </a:cubicBezTo>
                <a:cubicBezTo>
                  <a:pt x="135" y="96"/>
                  <a:pt x="155" y="98"/>
                  <a:pt x="155" y="98"/>
                </a:cubicBezTo>
                <a:cubicBezTo>
                  <a:pt x="145" y="113"/>
                  <a:pt x="129" y="108"/>
                  <a:pt x="113" y="116"/>
                </a:cubicBezTo>
                <a:cubicBezTo>
                  <a:pt x="103" y="130"/>
                  <a:pt x="97" y="123"/>
                  <a:pt x="83" y="116"/>
                </a:cubicBezTo>
                <a:cubicBezTo>
                  <a:pt x="63" y="123"/>
                  <a:pt x="88" y="123"/>
                  <a:pt x="95" y="125"/>
                </a:cubicBezTo>
                <a:cubicBezTo>
                  <a:pt x="124" y="122"/>
                  <a:pt x="139" y="119"/>
                  <a:pt x="164" y="107"/>
                </a:cubicBezTo>
                <a:cubicBezTo>
                  <a:pt x="157" y="85"/>
                  <a:pt x="160" y="114"/>
                  <a:pt x="146" y="92"/>
                </a:cubicBezTo>
                <a:cubicBezTo>
                  <a:pt x="157" y="88"/>
                  <a:pt x="169" y="91"/>
                  <a:pt x="179" y="86"/>
                </a:cubicBezTo>
                <a:cubicBezTo>
                  <a:pt x="182" y="85"/>
                  <a:pt x="185" y="78"/>
                  <a:pt x="182" y="77"/>
                </a:cubicBezTo>
                <a:cubicBezTo>
                  <a:pt x="175" y="75"/>
                  <a:pt x="168" y="79"/>
                  <a:pt x="161" y="80"/>
                </a:cubicBezTo>
                <a:cubicBezTo>
                  <a:pt x="158" y="79"/>
                  <a:pt x="155" y="78"/>
                  <a:pt x="152" y="77"/>
                </a:cubicBezTo>
                <a:cubicBezTo>
                  <a:pt x="148" y="76"/>
                  <a:pt x="154" y="86"/>
                  <a:pt x="158" y="89"/>
                </a:cubicBezTo>
                <a:cubicBezTo>
                  <a:pt x="163" y="93"/>
                  <a:pt x="170" y="93"/>
                  <a:pt x="176" y="95"/>
                </a:cubicBezTo>
                <a:cubicBezTo>
                  <a:pt x="180" y="107"/>
                  <a:pt x="187" y="105"/>
                  <a:pt x="194" y="116"/>
                </a:cubicBezTo>
                <a:cubicBezTo>
                  <a:pt x="181" y="120"/>
                  <a:pt x="176" y="113"/>
                  <a:pt x="164" y="107"/>
                </a:cubicBezTo>
                <a:cubicBezTo>
                  <a:pt x="185" y="106"/>
                  <a:pt x="207" y="110"/>
                  <a:pt x="227" y="104"/>
                </a:cubicBezTo>
                <a:cubicBezTo>
                  <a:pt x="232" y="103"/>
                  <a:pt x="228" y="92"/>
                  <a:pt x="224" y="89"/>
                </a:cubicBezTo>
                <a:cubicBezTo>
                  <a:pt x="221" y="86"/>
                  <a:pt x="216" y="91"/>
                  <a:pt x="212" y="92"/>
                </a:cubicBezTo>
                <a:cubicBezTo>
                  <a:pt x="209" y="94"/>
                  <a:pt x="178" y="115"/>
                  <a:pt x="203" y="107"/>
                </a:cubicBezTo>
                <a:cubicBezTo>
                  <a:pt x="217" y="116"/>
                  <a:pt x="259" y="121"/>
                  <a:pt x="236" y="98"/>
                </a:cubicBezTo>
                <a:cubicBezTo>
                  <a:pt x="208" y="103"/>
                  <a:pt x="217" y="94"/>
                  <a:pt x="209" y="71"/>
                </a:cubicBezTo>
                <a:cubicBezTo>
                  <a:pt x="195" y="76"/>
                  <a:pt x="195" y="83"/>
                  <a:pt x="182" y="74"/>
                </a:cubicBezTo>
                <a:cubicBezTo>
                  <a:pt x="177" y="59"/>
                  <a:pt x="187" y="62"/>
                  <a:pt x="200" y="59"/>
                </a:cubicBezTo>
                <a:cubicBezTo>
                  <a:pt x="209" y="33"/>
                  <a:pt x="161" y="65"/>
                  <a:pt x="188" y="56"/>
                </a:cubicBezTo>
                <a:cubicBezTo>
                  <a:pt x="204" y="59"/>
                  <a:pt x="211" y="61"/>
                  <a:pt x="221" y="47"/>
                </a:cubicBezTo>
                <a:cubicBezTo>
                  <a:pt x="232" y="79"/>
                  <a:pt x="211" y="87"/>
                  <a:pt x="254" y="77"/>
                </a:cubicBezTo>
                <a:cubicBezTo>
                  <a:pt x="236" y="73"/>
                  <a:pt x="234" y="64"/>
                  <a:pt x="221" y="77"/>
                </a:cubicBezTo>
                <a:cubicBezTo>
                  <a:pt x="225" y="78"/>
                  <a:pt x="278" y="86"/>
                  <a:pt x="281" y="89"/>
                </a:cubicBezTo>
                <a:cubicBezTo>
                  <a:pt x="284" y="92"/>
                  <a:pt x="278" y="98"/>
                  <a:pt x="275" y="101"/>
                </a:cubicBezTo>
                <a:cubicBezTo>
                  <a:pt x="267" y="109"/>
                  <a:pt x="246" y="116"/>
                  <a:pt x="236" y="119"/>
                </a:cubicBezTo>
                <a:cubicBezTo>
                  <a:pt x="200" y="95"/>
                  <a:pt x="236" y="111"/>
                  <a:pt x="203" y="119"/>
                </a:cubicBezTo>
                <a:cubicBezTo>
                  <a:pt x="214" y="102"/>
                  <a:pt x="204" y="111"/>
                  <a:pt x="233" y="116"/>
                </a:cubicBezTo>
                <a:cubicBezTo>
                  <a:pt x="245" y="118"/>
                  <a:pt x="269" y="122"/>
                  <a:pt x="269" y="122"/>
                </a:cubicBezTo>
                <a:cubicBezTo>
                  <a:pt x="286" y="116"/>
                  <a:pt x="284" y="107"/>
                  <a:pt x="290" y="92"/>
                </a:cubicBezTo>
                <a:cubicBezTo>
                  <a:pt x="291" y="89"/>
                  <a:pt x="299" y="86"/>
                  <a:pt x="296" y="83"/>
                </a:cubicBezTo>
                <a:cubicBezTo>
                  <a:pt x="293" y="80"/>
                  <a:pt x="290" y="87"/>
                  <a:pt x="287" y="89"/>
                </a:cubicBezTo>
                <a:cubicBezTo>
                  <a:pt x="286" y="93"/>
                  <a:pt x="281" y="98"/>
                  <a:pt x="284" y="101"/>
                </a:cubicBezTo>
                <a:cubicBezTo>
                  <a:pt x="287" y="104"/>
                  <a:pt x="292" y="98"/>
                  <a:pt x="296" y="98"/>
                </a:cubicBezTo>
                <a:cubicBezTo>
                  <a:pt x="306" y="98"/>
                  <a:pt x="316" y="100"/>
                  <a:pt x="326" y="101"/>
                </a:cubicBezTo>
                <a:cubicBezTo>
                  <a:pt x="328" y="105"/>
                  <a:pt x="334" y="109"/>
                  <a:pt x="332" y="113"/>
                </a:cubicBezTo>
                <a:cubicBezTo>
                  <a:pt x="330" y="116"/>
                  <a:pt x="323" y="112"/>
                  <a:pt x="320" y="110"/>
                </a:cubicBezTo>
                <a:cubicBezTo>
                  <a:pt x="314" y="106"/>
                  <a:pt x="309" y="87"/>
                  <a:pt x="308" y="83"/>
                </a:cubicBezTo>
                <a:cubicBezTo>
                  <a:pt x="305" y="73"/>
                  <a:pt x="328" y="87"/>
                  <a:pt x="338" y="89"/>
                </a:cubicBezTo>
                <a:cubicBezTo>
                  <a:pt x="347" y="90"/>
                  <a:pt x="356" y="91"/>
                  <a:pt x="365" y="92"/>
                </a:cubicBezTo>
                <a:cubicBezTo>
                  <a:pt x="372" y="113"/>
                  <a:pt x="377" y="108"/>
                  <a:pt x="362" y="113"/>
                </a:cubicBezTo>
                <a:cubicBezTo>
                  <a:pt x="319" y="102"/>
                  <a:pt x="352" y="99"/>
                  <a:pt x="374" y="77"/>
                </a:cubicBezTo>
                <a:cubicBezTo>
                  <a:pt x="364" y="48"/>
                  <a:pt x="356" y="94"/>
                  <a:pt x="356" y="98"/>
                </a:cubicBezTo>
                <a:cubicBezTo>
                  <a:pt x="366" y="128"/>
                  <a:pt x="355" y="125"/>
                  <a:pt x="326" y="122"/>
                </a:cubicBezTo>
                <a:cubicBezTo>
                  <a:pt x="313" y="113"/>
                  <a:pt x="313" y="107"/>
                  <a:pt x="317" y="92"/>
                </a:cubicBezTo>
                <a:cubicBezTo>
                  <a:pt x="313" y="76"/>
                  <a:pt x="312" y="72"/>
                  <a:pt x="296" y="68"/>
                </a:cubicBezTo>
                <a:cubicBezTo>
                  <a:pt x="279" y="72"/>
                  <a:pt x="275" y="84"/>
                  <a:pt x="266" y="65"/>
                </a:cubicBezTo>
                <a:cubicBezTo>
                  <a:pt x="283" y="43"/>
                  <a:pt x="282" y="61"/>
                  <a:pt x="305" y="53"/>
                </a:cubicBezTo>
                <a:cubicBezTo>
                  <a:pt x="314" y="27"/>
                  <a:pt x="294" y="73"/>
                  <a:pt x="287" y="80"/>
                </a:cubicBezTo>
                <a:cubicBezTo>
                  <a:pt x="300" y="89"/>
                  <a:pt x="311" y="82"/>
                  <a:pt x="326" y="77"/>
                </a:cubicBezTo>
                <a:cubicBezTo>
                  <a:pt x="332" y="65"/>
                  <a:pt x="330" y="54"/>
                  <a:pt x="344" y="59"/>
                </a:cubicBezTo>
                <a:cubicBezTo>
                  <a:pt x="347" y="63"/>
                  <a:pt x="351" y="67"/>
                  <a:pt x="353" y="71"/>
                </a:cubicBezTo>
                <a:cubicBezTo>
                  <a:pt x="355" y="74"/>
                  <a:pt x="353" y="79"/>
                  <a:pt x="356" y="80"/>
                </a:cubicBezTo>
                <a:cubicBezTo>
                  <a:pt x="361" y="81"/>
                  <a:pt x="404" y="75"/>
                  <a:pt x="413" y="74"/>
                </a:cubicBezTo>
                <a:cubicBezTo>
                  <a:pt x="416" y="72"/>
                  <a:pt x="418" y="68"/>
                  <a:pt x="422" y="68"/>
                </a:cubicBezTo>
                <a:cubicBezTo>
                  <a:pt x="431" y="69"/>
                  <a:pt x="449" y="77"/>
                  <a:pt x="449" y="77"/>
                </a:cubicBezTo>
                <a:cubicBezTo>
                  <a:pt x="444" y="114"/>
                  <a:pt x="460" y="139"/>
                  <a:pt x="422" y="101"/>
                </a:cubicBezTo>
                <a:cubicBezTo>
                  <a:pt x="420" y="93"/>
                  <a:pt x="419" y="85"/>
                  <a:pt x="416" y="77"/>
                </a:cubicBezTo>
                <a:cubicBezTo>
                  <a:pt x="415" y="74"/>
                  <a:pt x="409" y="71"/>
                  <a:pt x="410" y="68"/>
                </a:cubicBezTo>
                <a:cubicBezTo>
                  <a:pt x="413" y="60"/>
                  <a:pt x="428" y="50"/>
                  <a:pt x="428" y="50"/>
                </a:cubicBezTo>
                <a:cubicBezTo>
                  <a:pt x="427" y="63"/>
                  <a:pt x="416" y="83"/>
                  <a:pt x="428" y="89"/>
                </a:cubicBezTo>
                <a:cubicBezTo>
                  <a:pt x="431" y="90"/>
                  <a:pt x="437" y="83"/>
                  <a:pt x="437" y="86"/>
                </a:cubicBezTo>
                <a:cubicBezTo>
                  <a:pt x="437" y="93"/>
                  <a:pt x="418" y="93"/>
                  <a:pt x="404" y="95"/>
                </a:cubicBezTo>
                <a:cubicBezTo>
                  <a:pt x="386" y="101"/>
                  <a:pt x="398" y="116"/>
                  <a:pt x="386" y="98"/>
                </a:cubicBezTo>
                <a:cubicBezTo>
                  <a:pt x="396" y="63"/>
                  <a:pt x="395" y="87"/>
                  <a:pt x="413" y="62"/>
                </a:cubicBezTo>
                <a:cubicBezTo>
                  <a:pt x="418" y="46"/>
                  <a:pt x="406" y="19"/>
                  <a:pt x="428" y="26"/>
                </a:cubicBezTo>
                <a:cubicBezTo>
                  <a:pt x="441" y="17"/>
                  <a:pt x="446" y="24"/>
                  <a:pt x="458" y="32"/>
                </a:cubicBezTo>
                <a:cubicBezTo>
                  <a:pt x="538" y="27"/>
                  <a:pt x="501" y="32"/>
                  <a:pt x="464" y="44"/>
                </a:cubicBezTo>
                <a:cubicBezTo>
                  <a:pt x="454" y="23"/>
                  <a:pt x="439" y="33"/>
                  <a:pt x="422" y="44"/>
                </a:cubicBezTo>
                <a:cubicBezTo>
                  <a:pt x="409" y="25"/>
                  <a:pt x="406" y="46"/>
                  <a:pt x="404" y="59"/>
                </a:cubicBezTo>
                <a:cubicBezTo>
                  <a:pt x="397" y="57"/>
                  <a:pt x="374" y="51"/>
                  <a:pt x="374" y="50"/>
                </a:cubicBezTo>
                <a:cubicBezTo>
                  <a:pt x="371" y="36"/>
                  <a:pt x="396" y="26"/>
                  <a:pt x="404" y="23"/>
                </a:cubicBezTo>
                <a:cubicBezTo>
                  <a:pt x="396" y="0"/>
                  <a:pt x="391" y="15"/>
                  <a:pt x="386" y="32"/>
                </a:cubicBezTo>
                <a:cubicBezTo>
                  <a:pt x="388" y="49"/>
                  <a:pt x="393" y="70"/>
                  <a:pt x="371" y="56"/>
                </a:cubicBezTo>
                <a:cubicBezTo>
                  <a:pt x="367" y="40"/>
                  <a:pt x="367" y="45"/>
                  <a:pt x="371" y="26"/>
                </a:cubicBezTo>
                <a:cubicBezTo>
                  <a:pt x="372" y="23"/>
                  <a:pt x="374" y="14"/>
                  <a:pt x="374" y="17"/>
                </a:cubicBezTo>
                <a:cubicBezTo>
                  <a:pt x="374" y="30"/>
                  <a:pt x="369" y="45"/>
                  <a:pt x="362" y="56"/>
                </a:cubicBezTo>
                <a:cubicBezTo>
                  <a:pt x="369" y="90"/>
                  <a:pt x="358" y="62"/>
                  <a:pt x="413" y="68"/>
                </a:cubicBezTo>
                <a:cubicBezTo>
                  <a:pt x="421" y="69"/>
                  <a:pt x="425" y="79"/>
                  <a:pt x="431" y="83"/>
                </a:cubicBezTo>
                <a:cubicBezTo>
                  <a:pt x="459" y="76"/>
                  <a:pt x="454" y="78"/>
                  <a:pt x="476" y="89"/>
                </a:cubicBezTo>
                <a:cubicBezTo>
                  <a:pt x="491" y="82"/>
                  <a:pt x="495" y="70"/>
                  <a:pt x="500" y="89"/>
                </a:cubicBezTo>
                <a:cubicBezTo>
                  <a:pt x="498" y="93"/>
                  <a:pt x="498" y="99"/>
                  <a:pt x="494" y="101"/>
                </a:cubicBezTo>
                <a:cubicBezTo>
                  <a:pt x="488" y="103"/>
                  <a:pt x="482" y="99"/>
                  <a:pt x="476" y="98"/>
                </a:cubicBezTo>
                <a:cubicBezTo>
                  <a:pt x="473" y="97"/>
                  <a:pt x="467" y="92"/>
                  <a:pt x="467" y="95"/>
                </a:cubicBezTo>
                <a:cubicBezTo>
                  <a:pt x="467" y="105"/>
                  <a:pt x="487" y="103"/>
                  <a:pt x="497" y="104"/>
                </a:cubicBezTo>
                <a:cubicBezTo>
                  <a:pt x="514" y="95"/>
                  <a:pt x="515" y="91"/>
                  <a:pt x="527" y="107"/>
                </a:cubicBezTo>
                <a:cubicBezTo>
                  <a:pt x="523" y="108"/>
                  <a:pt x="519" y="111"/>
                  <a:pt x="515" y="110"/>
                </a:cubicBezTo>
                <a:cubicBezTo>
                  <a:pt x="511" y="109"/>
                  <a:pt x="510" y="104"/>
                  <a:pt x="506" y="104"/>
                </a:cubicBezTo>
                <a:cubicBezTo>
                  <a:pt x="499" y="104"/>
                  <a:pt x="494" y="111"/>
                  <a:pt x="488" y="113"/>
                </a:cubicBezTo>
                <a:cubicBezTo>
                  <a:pt x="461" y="110"/>
                  <a:pt x="450" y="112"/>
                  <a:pt x="467" y="89"/>
                </a:cubicBezTo>
                <a:cubicBezTo>
                  <a:pt x="487" y="94"/>
                  <a:pt x="521" y="78"/>
                  <a:pt x="542" y="74"/>
                </a:cubicBezTo>
                <a:cubicBezTo>
                  <a:pt x="544" y="68"/>
                  <a:pt x="542" y="56"/>
                  <a:pt x="548" y="56"/>
                </a:cubicBezTo>
                <a:cubicBezTo>
                  <a:pt x="563" y="56"/>
                  <a:pt x="550" y="86"/>
                  <a:pt x="551" y="89"/>
                </a:cubicBezTo>
                <a:cubicBezTo>
                  <a:pt x="552" y="92"/>
                  <a:pt x="557" y="87"/>
                  <a:pt x="560" y="86"/>
                </a:cubicBezTo>
                <a:cubicBezTo>
                  <a:pt x="554" y="105"/>
                  <a:pt x="526" y="102"/>
                  <a:pt x="509" y="104"/>
                </a:cubicBezTo>
                <a:cubicBezTo>
                  <a:pt x="505" y="103"/>
                  <a:pt x="498" y="105"/>
                  <a:pt x="497" y="101"/>
                </a:cubicBezTo>
                <a:cubicBezTo>
                  <a:pt x="494" y="91"/>
                  <a:pt x="510" y="96"/>
                  <a:pt x="524" y="98"/>
                </a:cubicBezTo>
                <a:cubicBezTo>
                  <a:pt x="532" y="99"/>
                  <a:pt x="540" y="100"/>
                  <a:pt x="548" y="101"/>
                </a:cubicBezTo>
                <a:cubicBezTo>
                  <a:pt x="569" y="98"/>
                  <a:pt x="591" y="84"/>
                  <a:pt x="599" y="107"/>
                </a:cubicBezTo>
                <a:cubicBezTo>
                  <a:pt x="615" y="84"/>
                  <a:pt x="581" y="101"/>
                  <a:pt x="572" y="107"/>
                </a:cubicBezTo>
                <a:cubicBezTo>
                  <a:pt x="557" y="104"/>
                  <a:pt x="543" y="104"/>
                  <a:pt x="530" y="95"/>
                </a:cubicBezTo>
                <a:cubicBezTo>
                  <a:pt x="536" y="71"/>
                  <a:pt x="527" y="92"/>
                  <a:pt x="557" y="80"/>
                </a:cubicBezTo>
                <a:cubicBezTo>
                  <a:pt x="560" y="79"/>
                  <a:pt x="569" y="60"/>
                  <a:pt x="569" y="59"/>
                </a:cubicBezTo>
                <a:cubicBezTo>
                  <a:pt x="573" y="36"/>
                  <a:pt x="574" y="14"/>
                  <a:pt x="584" y="56"/>
                </a:cubicBezTo>
                <a:cubicBezTo>
                  <a:pt x="586" y="64"/>
                  <a:pt x="600" y="58"/>
                  <a:pt x="608" y="59"/>
                </a:cubicBezTo>
                <a:cubicBezTo>
                  <a:pt x="618" y="121"/>
                  <a:pt x="596" y="21"/>
                  <a:pt x="641" y="71"/>
                </a:cubicBezTo>
                <a:cubicBezTo>
                  <a:pt x="650" y="81"/>
                  <a:pt x="643" y="99"/>
                  <a:pt x="644" y="113"/>
                </a:cubicBezTo>
                <a:cubicBezTo>
                  <a:pt x="657" y="93"/>
                  <a:pt x="641" y="113"/>
                  <a:pt x="632" y="116"/>
                </a:cubicBezTo>
                <a:cubicBezTo>
                  <a:pt x="615" y="114"/>
                  <a:pt x="603" y="109"/>
                  <a:pt x="587" y="113"/>
                </a:cubicBezTo>
                <a:cubicBezTo>
                  <a:pt x="586" y="119"/>
                  <a:pt x="580" y="127"/>
                  <a:pt x="584" y="131"/>
                </a:cubicBezTo>
                <a:cubicBezTo>
                  <a:pt x="591" y="138"/>
                  <a:pt x="593" y="113"/>
                  <a:pt x="602" y="110"/>
                </a:cubicBezTo>
                <a:cubicBezTo>
                  <a:pt x="613" y="107"/>
                  <a:pt x="624" y="108"/>
                  <a:pt x="635" y="107"/>
                </a:cubicBezTo>
                <a:cubicBezTo>
                  <a:pt x="629" y="67"/>
                  <a:pt x="637" y="77"/>
                  <a:pt x="611" y="86"/>
                </a:cubicBezTo>
                <a:cubicBezTo>
                  <a:pt x="587" y="80"/>
                  <a:pt x="598" y="72"/>
                  <a:pt x="614" y="68"/>
                </a:cubicBezTo>
                <a:cubicBezTo>
                  <a:pt x="638" y="52"/>
                  <a:pt x="609" y="63"/>
                  <a:pt x="602" y="68"/>
                </a:cubicBezTo>
                <a:cubicBezTo>
                  <a:pt x="593" y="87"/>
                  <a:pt x="586" y="83"/>
                  <a:pt x="566" y="80"/>
                </a:cubicBezTo>
                <a:cubicBezTo>
                  <a:pt x="600" y="57"/>
                  <a:pt x="583" y="65"/>
                  <a:pt x="617" y="56"/>
                </a:cubicBezTo>
                <a:cubicBezTo>
                  <a:pt x="631" y="35"/>
                  <a:pt x="614" y="36"/>
                  <a:pt x="593" y="29"/>
                </a:cubicBezTo>
                <a:cubicBezTo>
                  <a:pt x="581" y="30"/>
                  <a:pt x="567" y="26"/>
                  <a:pt x="557" y="32"/>
                </a:cubicBezTo>
                <a:cubicBezTo>
                  <a:pt x="538" y="43"/>
                  <a:pt x="555" y="61"/>
                  <a:pt x="533" y="68"/>
                </a:cubicBezTo>
                <a:cubicBezTo>
                  <a:pt x="525" y="80"/>
                  <a:pt x="522" y="86"/>
                  <a:pt x="509" y="77"/>
                </a:cubicBezTo>
                <a:cubicBezTo>
                  <a:pt x="507" y="73"/>
                  <a:pt x="503" y="69"/>
                  <a:pt x="503" y="65"/>
                </a:cubicBezTo>
                <a:cubicBezTo>
                  <a:pt x="503" y="61"/>
                  <a:pt x="510" y="59"/>
                  <a:pt x="509" y="56"/>
                </a:cubicBezTo>
                <a:cubicBezTo>
                  <a:pt x="507" y="49"/>
                  <a:pt x="497" y="51"/>
                  <a:pt x="491" y="47"/>
                </a:cubicBezTo>
                <a:cubicBezTo>
                  <a:pt x="489" y="51"/>
                  <a:pt x="489" y="56"/>
                  <a:pt x="485" y="59"/>
                </a:cubicBezTo>
                <a:cubicBezTo>
                  <a:pt x="481" y="62"/>
                  <a:pt x="465" y="62"/>
                  <a:pt x="470" y="62"/>
                </a:cubicBezTo>
                <a:cubicBezTo>
                  <a:pt x="496" y="64"/>
                  <a:pt x="522" y="64"/>
                  <a:pt x="548" y="65"/>
                </a:cubicBezTo>
                <a:cubicBezTo>
                  <a:pt x="551" y="69"/>
                  <a:pt x="553" y="80"/>
                  <a:pt x="557" y="77"/>
                </a:cubicBezTo>
                <a:cubicBezTo>
                  <a:pt x="563" y="72"/>
                  <a:pt x="563" y="53"/>
                  <a:pt x="563" y="53"/>
                </a:cubicBezTo>
                <a:cubicBezTo>
                  <a:pt x="545" y="41"/>
                  <a:pt x="536" y="29"/>
                  <a:pt x="560" y="17"/>
                </a:cubicBezTo>
                <a:cubicBezTo>
                  <a:pt x="563" y="19"/>
                  <a:pt x="567" y="20"/>
                  <a:pt x="569" y="23"/>
                </a:cubicBezTo>
                <a:cubicBezTo>
                  <a:pt x="572" y="28"/>
                  <a:pt x="569" y="38"/>
                  <a:pt x="575" y="41"/>
                </a:cubicBezTo>
                <a:cubicBezTo>
                  <a:pt x="604" y="55"/>
                  <a:pt x="572" y="42"/>
                  <a:pt x="566" y="41"/>
                </a:cubicBezTo>
                <a:cubicBezTo>
                  <a:pt x="569" y="24"/>
                  <a:pt x="571" y="21"/>
                  <a:pt x="587" y="26"/>
                </a:cubicBezTo>
                <a:cubicBezTo>
                  <a:pt x="571" y="33"/>
                  <a:pt x="561" y="43"/>
                  <a:pt x="545" y="47"/>
                </a:cubicBezTo>
                <a:cubicBezTo>
                  <a:pt x="525" y="43"/>
                  <a:pt x="520" y="41"/>
                  <a:pt x="524" y="20"/>
                </a:cubicBezTo>
                <a:cubicBezTo>
                  <a:pt x="544" y="27"/>
                  <a:pt x="557" y="34"/>
                  <a:pt x="578" y="29"/>
                </a:cubicBezTo>
                <a:cubicBezTo>
                  <a:pt x="584" y="54"/>
                  <a:pt x="579" y="51"/>
                  <a:pt x="611" y="47"/>
                </a:cubicBezTo>
                <a:cubicBezTo>
                  <a:pt x="626" y="68"/>
                  <a:pt x="614" y="72"/>
                  <a:pt x="644" y="68"/>
                </a:cubicBezTo>
                <a:cubicBezTo>
                  <a:pt x="670" y="50"/>
                  <a:pt x="630" y="75"/>
                  <a:pt x="647" y="86"/>
                </a:cubicBezTo>
                <a:cubicBezTo>
                  <a:pt x="656" y="92"/>
                  <a:pt x="669" y="82"/>
                  <a:pt x="680" y="80"/>
                </a:cubicBezTo>
                <a:cubicBezTo>
                  <a:pt x="668" y="115"/>
                  <a:pt x="700" y="102"/>
                  <a:pt x="725" y="98"/>
                </a:cubicBezTo>
                <a:cubicBezTo>
                  <a:pt x="688" y="110"/>
                  <a:pt x="732" y="112"/>
                  <a:pt x="659" y="107"/>
                </a:cubicBezTo>
                <a:cubicBezTo>
                  <a:pt x="648" y="90"/>
                  <a:pt x="653" y="106"/>
                  <a:pt x="680" y="101"/>
                </a:cubicBezTo>
                <a:cubicBezTo>
                  <a:pt x="682" y="95"/>
                  <a:pt x="688" y="89"/>
                  <a:pt x="686" y="83"/>
                </a:cubicBezTo>
                <a:cubicBezTo>
                  <a:pt x="685" y="80"/>
                  <a:pt x="680" y="75"/>
                  <a:pt x="683" y="74"/>
                </a:cubicBezTo>
                <a:cubicBezTo>
                  <a:pt x="686" y="72"/>
                  <a:pt x="689" y="78"/>
                  <a:pt x="692" y="80"/>
                </a:cubicBezTo>
                <a:cubicBezTo>
                  <a:pt x="694" y="88"/>
                  <a:pt x="697" y="101"/>
                  <a:pt x="698" y="101"/>
                </a:cubicBezTo>
                <a:cubicBezTo>
                  <a:pt x="713" y="101"/>
                  <a:pt x="723" y="93"/>
                  <a:pt x="734" y="86"/>
                </a:cubicBezTo>
                <a:cubicBezTo>
                  <a:pt x="728" y="103"/>
                  <a:pt x="742" y="100"/>
                  <a:pt x="749" y="89"/>
                </a:cubicBezTo>
                <a:cubicBezTo>
                  <a:pt x="759" y="118"/>
                  <a:pt x="724" y="111"/>
                  <a:pt x="704" y="113"/>
                </a:cubicBezTo>
                <a:cubicBezTo>
                  <a:pt x="694" y="116"/>
                  <a:pt x="687" y="122"/>
                  <a:pt x="677" y="125"/>
                </a:cubicBezTo>
                <a:cubicBezTo>
                  <a:pt x="665" y="113"/>
                  <a:pt x="663" y="116"/>
                  <a:pt x="650" y="125"/>
                </a:cubicBezTo>
                <a:cubicBezTo>
                  <a:pt x="643" y="105"/>
                  <a:pt x="593" y="122"/>
                  <a:pt x="575" y="128"/>
                </a:cubicBezTo>
                <a:cubicBezTo>
                  <a:pt x="547" y="121"/>
                  <a:pt x="557" y="127"/>
                  <a:pt x="557" y="92"/>
                </a:cubicBezTo>
                <a:cubicBezTo>
                  <a:pt x="557" y="89"/>
                  <a:pt x="556" y="99"/>
                  <a:pt x="554" y="101"/>
                </a:cubicBezTo>
                <a:cubicBezTo>
                  <a:pt x="549" y="107"/>
                  <a:pt x="540" y="108"/>
                  <a:pt x="533" y="110"/>
                </a:cubicBezTo>
                <a:cubicBezTo>
                  <a:pt x="517" y="122"/>
                  <a:pt x="516" y="114"/>
                  <a:pt x="500" y="119"/>
                </a:cubicBezTo>
                <a:cubicBezTo>
                  <a:pt x="476" y="103"/>
                  <a:pt x="507" y="128"/>
                  <a:pt x="494" y="95"/>
                </a:cubicBezTo>
                <a:cubicBezTo>
                  <a:pt x="493" y="92"/>
                  <a:pt x="488" y="97"/>
                  <a:pt x="485" y="98"/>
                </a:cubicBezTo>
                <a:cubicBezTo>
                  <a:pt x="477" y="102"/>
                  <a:pt x="461" y="110"/>
                  <a:pt x="461" y="110"/>
                </a:cubicBezTo>
                <a:cubicBezTo>
                  <a:pt x="459" y="113"/>
                  <a:pt x="459" y="119"/>
                  <a:pt x="455" y="119"/>
                </a:cubicBezTo>
                <a:cubicBezTo>
                  <a:pt x="449" y="120"/>
                  <a:pt x="443" y="115"/>
                  <a:pt x="437" y="113"/>
                </a:cubicBezTo>
                <a:cubicBezTo>
                  <a:pt x="434" y="112"/>
                  <a:pt x="428" y="110"/>
                  <a:pt x="428" y="110"/>
                </a:cubicBezTo>
                <a:cubicBezTo>
                  <a:pt x="404" y="126"/>
                  <a:pt x="434" y="110"/>
                  <a:pt x="410" y="110"/>
                </a:cubicBezTo>
                <a:cubicBezTo>
                  <a:pt x="403" y="110"/>
                  <a:pt x="396" y="116"/>
                  <a:pt x="389" y="116"/>
                </a:cubicBezTo>
              </a:path>
            </a:pathLst>
          </a:custGeom>
          <a:solidFill>
            <a:srgbClr val="33cc33"/>
          </a:solidFill>
          <a:ln w="64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4690880" y="17143560"/>
            <a:ext cx="652320" cy="185760"/>
          </a:xfrm>
          <a:custGeom>
            <a:avLst/>
            <a:gdLst/>
            <a:ahLst/>
            <a:rect l="l" t="t" r="r" b="b"/>
            <a:pathLst>
              <a:path w="411" h="117">
                <a:moveTo>
                  <a:pt x="12" y="90"/>
                </a:moveTo>
                <a:cubicBezTo>
                  <a:pt x="19" y="76"/>
                  <a:pt x="20" y="63"/>
                  <a:pt x="33" y="54"/>
                </a:cubicBezTo>
                <a:cubicBezTo>
                  <a:pt x="48" y="58"/>
                  <a:pt x="63" y="48"/>
                  <a:pt x="45" y="60"/>
                </a:cubicBezTo>
                <a:cubicBezTo>
                  <a:pt x="38" y="70"/>
                  <a:pt x="36" y="78"/>
                  <a:pt x="33" y="90"/>
                </a:cubicBezTo>
                <a:cubicBezTo>
                  <a:pt x="27" y="81"/>
                  <a:pt x="0" y="59"/>
                  <a:pt x="21" y="66"/>
                </a:cubicBezTo>
                <a:cubicBezTo>
                  <a:pt x="36" y="86"/>
                  <a:pt x="55" y="82"/>
                  <a:pt x="78" y="78"/>
                </a:cubicBezTo>
                <a:cubicBezTo>
                  <a:pt x="86" y="32"/>
                  <a:pt x="65" y="104"/>
                  <a:pt x="63" y="117"/>
                </a:cubicBezTo>
                <a:cubicBezTo>
                  <a:pt x="59" y="97"/>
                  <a:pt x="60" y="92"/>
                  <a:pt x="81" y="96"/>
                </a:cubicBezTo>
                <a:cubicBezTo>
                  <a:pt x="101" y="89"/>
                  <a:pt x="95" y="68"/>
                  <a:pt x="93" y="51"/>
                </a:cubicBezTo>
                <a:cubicBezTo>
                  <a:pt x="76" y="62"/>
                  <a:pt x="77" y="78"/>
                  <a:pt x="81" y="96"/>
                </a:cubicBezTo>
                <a:cubicBezTo>
                  <a:pt x="82" y="88"/>
                  <a:pt x="84" y="80"/>
                  <a:pt x="84" y="72"/>
                </a:cubicBezTo>
                <a:cubicBezTo>
                  <a:pt x="84" y="58"/>
                  <a:pt x="70" y="39"/>
                  <a:pt x="81" y="30"/>
                </a:cubicBezTo>
                <a:cubicBezTo>
                  <a:pt x="93" y="20"/>
                  <a:pt x="113" y="32"/>
                  <a:pt x="129" y="33"/>
                </a:cubicBezTo>
                <a:cubicBezTo>
                  <a:pt x="157" y="42"/>
                  <a:pt x="118" y="71"/>
                  <a:pt x="144" y="54"/>
                </a:cubicBezTo>
                <a:cubicBezTo>
                  <a:pt x="137" y="53"/>
                  <a:pt x="130" y="49"/>
                  <a:pt x="123" y="51"/>
                </a:cubicBezTo>
                <a:cubicBezTo>
                  <a:pt x="123" y="51"/>
                  <a:pt x="50" y="93"/>
                  <a:pt x="96" y="84"/>
                </a:cubicBezTo>
                <a:cubicBezTo>
                  <a:pt x="100" y="48"/>
                  <a:pt x="98" y="46"/>
                  <a:pt x="129" y="30"/>
                </a:cubicBezTo>
                <a:cubicBezTo>
                  <a:pt x="129" y="31"/>
                  <a:pt x="122" y="80"/>
                  <a:pt x="129" y="84"/>
                </a:cubicBezTo>
                <a:cubicBezTo>
                  <a:pt x="133" y="86"/>
                  <a:pt x="194" y="72"/>
                  <a:pt x="210" y="69"/>
                </a:cubicBezTo>
                <a:cubicBezTo>
                  <a:pt x="189" y="86"/>
                  <a:pt x="173" y="105"/>
                  <a:pt x="147" y="114"/>
                </a:cubicBezTo>
                <a:cubicBezTo>
                  <a:pt x="145" y="96"/>
                  <a:pt x="149" y="76"/>
                  <a:pt x="141" y="60"/>
                </a:cubicBezTo>
                <a:cubicBezTo>
                  <a:pt x="138" y="54"/>
                  <a:pt x="127" y="61"/>
                  <a:pt x="123" y="66"/>
                </a:cubicBezTo>
                <a:cubicBezTo>
                  <a:pt x="115" y="75"/>
                  <a:pt x="114" y="102"/>
                  <a:pt x="114" y="102"/>
                </a:cubicBezTo>
                <a:cubicBezTo>
                  <a:pt x="105" y="76"/>
                  <a:pt x="124" y="80"/>
                  <a:pt x="144" y="75"/>
                </a:cubicBezTo>
                <a:cubicBezTo>
                  <a:pt x="146" y="71"/>
                  <a:pt x="154" y="62"/>
                  <a:pt x="153" y="57"/>
                </a:cubicBezTo>
                <a:cubicBezTo>
                  <a:pt x="152" y="51"/>
                  <a:pt x="147" y="39"/>
                  <a:pt x="147" y="39"/>
                </a:cubicBezTo>
                <a:cubicBezTo>
                  <a:pt x="186" y="30"/>
                  <a:pt x="196" y="22"/>
                  <a:pt x="201" y="66"/>
                </a:cubicBezTo>
                <a:cubicBezTo>
                  <a:pt x="229" y="61"/>
                  <a:pt x="260" y="68"/>
                  <a:pt x="225" y="33"/>
                </a:cubicBezTo>
                <a:cubicBezTo>
                  <a:pt x="248" y="13"/>
                  <a:pt x="249" y="7"/>
                  <a:pt x="291" y="15"/>
                </a:cubicBezTo>
                <a:cubicBezTo>
                  <a:pt x="317" y="20"/>
                  <a:pt x="261" y="36"/>
                  <a:pt x="297" y="24"/>
                </a:cubicBezTo>
                <a:cubicBezTo>
                  <a:pt x="286" y="35"/>
                  <a:pt x="282" y="38"/>
                  <a:pt x="291" y="51"/>
                </a:cubicBezTo>
                <a:cubicBezTo>
                  <a:pt x="280" y="67"/>
                  <a:pt x="265" y="59"/>
                  <a:pt x="249" y="54"/>
                </a:cubicBezTo>
                <a:cubicBezTo>
                  <a:pt x="251" y="48"/>
                  <a:pt x="250" y="40"/>
                  <a:pt x="255" y="36"/>
                </a:cubicBezTo>
                <a:cubicBezTo>
                  <a:pt x="301" y="0"/>
                  <a:pt x="261" y="55"/>
                  <a:pt x="282" y="24"/>
                </a:cubicBezTo>
                <a:cubicBezTo>
                  <a:pt x="278" y="12"/>
                  <a:pt x="272" y="7"/>
                  <a:pt x="261" y="0"/>
                </a:cubicBezTo>
                <a:cubicBezTo>
                  <a:pt x="259" y="1"/>
                  <a:pt x="235" y="5"/>
                  <a:pt x="258" y="15"/>
                </a:cubicBezTo>
                <a:cubicBezTo>
                  <a:pt x="264" y="18"/>
                  <a:pt x="307" y="23"/>
                  <a:pt x="318" y="24"/>
                </a:cubicBezTo>
                <a:cubicBezTo>
                  <a:pt x="310" y="40"/>
                  <a:pt x="292" y="47"/>
                  <a:pt x="279" y="60"/>
                </a:cubicBezTo>
                <a:cubicBezTo>
                  <a:pt x="275" y="76"/>
                  <a:pt x="280" y="77"/>
                  <a:pt x="294" y="72"/>
                </a:cubicBezTo>
                <a:cubicBezTo>
                  <a:pt x="299" y="56"/>
                  <a:pt x="314" y="55"/>
                  <a:pt x="294" y="42"/>
                </a:cubicBezTo>
                <a:cubicBezTo>
                  <a:pt x="304" y="40"/>
                  <a:pt x="314" y="37"/>
                  <a:pt x="324" y="36"/>
                </a:cubicBezTo>
                <a:cubicBezTo>
                  <a:pt x="342" y="35"/>
                  <a:pt x="330" y="54"/>
                  <a:pt x="339" y="60"/>
                </a:cubicBezTo>
                <a:cubicBezTo>
                  <a:pt x="345" y="64"/>
                  <a:pt x="353" y="64"/>
                  <a:pt x="360" y="66"/>
                </a:cubicBezTo>
                <a:cubicBezTo>
                  <a:pt x="379" y="62"/>
                  <a:pt x="411" y="58"/>
                  <a:pt x="372" y="45"/>
                </a:cubicBezTo>
                <a:cubicBezTo>
                  <a:pt x="371" y="42"/>
                  <a:pt x="368" y="39"/>
                  <a:pt x="369" y="36"/>
                </a:cubicBezTo>
                <a:cubicBezTo>
                  <a:pt x="370" y="33"/>
                  <a:pt x="381" y="31"/>
                  <a:pt x="378" y="30"/>
                </a:cubicBezTo>
                <a:cubicBezTo>
                  <a:pt x="366" y="26"/>
                  <a:pt x="352" y="28"/>
                  <a:pt x="339" y="27"/>
                </a:cubicBezTo>
                <a:cubicBezTo>
                  <a:pt x="330" y="28"/>
                  <a:pt x="320" y="26"/>
                  <a:pt x="312" y="30"/>
                </a:cubicBezTo>
                <a:cubicBezTo>
                  <a:pt x="293" y="39"/>
                  <a:pt x="322" y="56"/>
                  <a:pt x="312" y="66"/>
                </a:cubicBezTo>
              </a:path>
            </a:pathLst>
          </a:custGeom>
          <a:solidFill>
            <a:srgbClr val="66ff99"/>
          </a:solidFill>
          <a:ln w="648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5806880" y="17087760"/>
            <a:ext cx="1204920" cy="220680"/>
          </a:xfrm>
          <a:custGeom>
            <a:avLst/>
            <a:gdLst/>
            <a:ahLst/>
            <a:rect l="l" t="t" r="r" b="b"/>
            <a:pathLst>
              <a:path w="759" h="139">
                <a:moveTo>
                  <a:pt x="35" y="119"/>
                </a:moveTo>
                <a:cubicBezTo>
                  <a:pt x="0" y="128"/>
                  <a:pt x="15" y="116"/>
                  <a:pt x="35" y="110"/>
                </a:cubicBezTo>
                <a:cubicBezTo>
                  <a:pt x="38" y="109"/>
                  <a:pt x="41" y="108"/>
                  <a:pt x="44" y="107"/>
                </a:cubicBezTo>
                <a:cubicBezTo>
                  <a:pt x="59" y="117"/>
                  <a:pt x="61" y="108"/>
                  <a:pt x="71" y="95"/>
                </a:cubicBezTo>
                <a:cubicBezTo>
                  <a:pt x="76" y="100"/>
                  <a:pt x="88" y="108"/>
                  <a:pt x="83" y="113"/>
                </a:cubicBezTo>
                <a:cubicBezTo>
                  <a:pt x="79" y="117"/>
                  <a:pt x="73" y="115"/>
                  <a:pt x="68" y="116"/>
                </a:cubicBezTo>
                <a:cubicBezTo>
                  <a:pt x="65" y="117"/>
                  <a:pt x="59" y="122"/>
                  <a:pt x="59" y="119"/>
                </a:cubicBezTo>
                <a:cubicBezTo>
                  <a:pt x="59" y="115"/>
                  <a:pt x="65" y="114"/>
                  <a:pt x="68" y="113"/>
                </a:cubicBezTo>
                <a:cubicBezTo>
                  <a:pt x="72" y="111"/>
                  <a:pt x="76" y="111"/>
                  <a:pt x="80" y="110"/>
                </a:cubicBezTo>
                <a:cubicBezTo>
                  <a:pt x="82" y="107"/>
                  <a:pt x="82" y="102"/>
                  <a:pt x="86" y="101"/>
                </a:cubicBezTo>
                <a:cubicBezTo>
                  <a:pt x="97" y="99"/>
                  <a:pt x="94" y="112"/>
                  <a:pt x="98" y="116"/>
                </a:cubicBezTo>
                <a:cubicBezTo>
                  <a:pt x="100" y="118"/>
                  <a:pt x="110" y="119"/>
                  <a:pt x="107" y="119"/>
                </a:cubicBezTo>
                <a:cubicBezTo>
                  <a:pt x="101" y="119"/>
                  <a:pt x="95" y="117"/>
                  <a:pt x="89" y="116"/>
                </a:cubicBezTo>
                <a:cubicBezTo>
                  <a:pt x="101" y="108"/>
                  <a:pt x="111" y="111"/>
                  <a:pt x="119" y="98"/>
                </a:cubicBezTo>
                <a:cubicBezTo>
                  <a:pt x="103" y="93"/>
                  <a:pt x="102" y="108"/>
                  <a:pt x="92" y="92"/>
                </a:cubicBezTo>
                <a:cubicBezTo>
                  <a:pt x="106" y="88"/>
                  <a:pt x="111" y="92"/>
                  <a:pt x="125" y="95"/>
                </a:cubicBezTo>
                <a:cubicBezTo>
                  <a:pt x="131" y="78"/>
                  <a:pt x="128" y="93"/>
                  <a:pt x="107" y="83"/>
                </a:cubicBezTo>
                <a:cubicBezTo>
                  <a:pt x="113" y="81"/>
                  <a:pt x="120" y="70"/>
                  <a:pt x="125" y="74"/>
                </a:cubicBezTo>
                <a:cubicBezTo>
                  <a:pt x="129" y="77"/>
                  <a:pt x="124" y="85"/>
                  <a:pt x="128" y="89"/>
                </a:cubicBezTo>
                <a:cubicBezTo>
                  <a:pt x="135" y="96"/>
                  <a:pt x="155" y="98"/>
                  <a:pt x="155" y="98"/>
                </a:cubicBezTo>
                <a:cubicBezTo>
                  <a:pt x="145" y="113"/>
                  <a:pt x="129" y="108"/>
                  <a:pt x="113" y="116"/>
                </a:cubicBezTo>
                <a:cubicBezTo>
                  <a:pt x="103" y="130"/>
                  <a:pt x="97" y="123"/>
                  <a:pt x="83" y="116"/>
                </a:cubicBezTo>
                <a:cubicBezTo>
                  <a:pt x="63" y="123"/>
                  <a:pt x="88" y="123"/>
                  <a:pt x="95" y="125"/>
                </a:cubicBezTo>
                <a:cubicBezTo>
                  <a:pt x="124" y="122"/>
                  <a:pt x="139" y="119"/>
                  <a:pt x="164" y="107"/>
                </a:cubicBezTo>
                <a:cubicBezTo>
                  <a:pt x="157" y="85"/>
                  <a:pt x="160" y="114"/>
                  <a:pt x="146" y="92"/>
                </a:cubicBezTo>
                <a:cubicBezTo>
                  <a:pt x="157" y="88"/>
                  <a:pt x="169" y="91"/>
                  <a:pt x="179" y="86"/>
                </a:cubicBezTo>
                <a:cubicBezTo>
                  <a:pt x="182" y="85"/>
                  <a:pt x="185" y="78"/>
                  <a:pt x="182" y="77"/>
                </a:cubicBezTo>
                <a:cubicBezTo>
                  <a:pt x="175" y="75"/>
                  <a:pt x="168" y="79"/>
                  <a:pt x="161" y="80"/>
                </a:cubicBezTo>
                <a:cubicBezTo>
                  <a:pt x="158" y="79"/>
                  <a:pt x="155" y="78"/>
                  <a:pt x="152" y="77"/>
                </a:cubicBezTo>
                <a:cubicBezTo>
                  <a:pt x="148" y="76"/>
                  <a:pt x="154" y="86"/>
                  <a:pt x="158" y="89"/>
                </a:cubicBezTo>
                <a:cubicBezTo>
                  <a:pt x="163" y="93"/>
                  <a:pt x="170" y="93"/>
                  <a:pt x="176" y="95"/>
                </a:cubicBezTo>
                <a:cubicBezTo>
                  <a:pt x="180" y="107"/>
                  <a:pt x="187" y="105"/>
                  <a:pt x="194" y="116"/>
                </a:cubicBezTo>
                <a:cubicBezTo>
                  <a:pt x="181" y="120"/>
                  <a:pt x="176" y="113"/>
                  <a:pt x="164" y="107"/>
                </a:cubicBezTo>
                <a:cubicBezTo>
                  <a:pt x="185" y="106"/>
                  <a:pt x="207" y="110"/>
                  <a:pt x="227" y="104"/>
                </a:cubicBezTo>
                <a:cubicBezTo>
                  <a:pt x="232" y="103"/>
                  <a:pt x="228" y="92"/>
                  <a:pt x="224" y="89"/>
                </a:cubicBezTo>
                <a:cubicBezTo>
                  <a:pt x="221" y="86"/>
                  <a:pt x="216" y="91"/>
                  <a:pt x="212" y="92"/>
                </a:cubicBezTo>
                <a:cubicBezTo>
                  <a:pt x="209" y="94"/>
                  <a:pt x="178" y="115"/>
                  <a:pt x="203" y="107"/>
                </a:cubicBezTo>
                <a:cubicBezTo>
                  <a:pt x="217" y="116"/>
                  <a:pt x="259" y="121"/>
                  <a:pt x="236" y="98"/>
                </a:cubicBezTo>
                <a:cubicBezTo>
                  <a:pt x="208" y="103"/>
                  <a:pt x="217" y="94"/>
                  <a:pt x="209" y="71"/>
                </a:cubicBezTo>
                <a:cubicBezTo>
                  <a:pt x="195" y="76"/>
                  <a:pt x="195" y="83"/>
                  <a:pt x="182" y="74"/>
                </a:cubicBezTo>
                <a:cubicBezTo>
                  <a:pt x="177" y="59"/>
                  <a:pt x="187" y="62"/>
                  <a:pt x="200" y="59"/>
                </a:cubicBezTo>
                <a:cubicBezTo>
                  <a:pt x="209" y="33"/>
                  <a:pt x="161" y="65"/>
                  <a:pt x="188" y="56"/>
                </a:cubicBezTo>
                <a:cubicBezTo>
                  <a:pt x="204" y="59"/>
                  <a:pt x="211" y="61"/>
                  <a:pt x="221" y="47"/>
                </a:cubicBezTo>
                <a:cubicBezTo>
                  <a:pt x="232" y="79"/>
                  <a:pt x="211" y="87"/>
                  <a:pt x="254" y="77"/>
                </a:cubicBezTo>
                <a:cubicBezTo>
                  <a:pt x="236" y="73"/>
                  <a:pt x="234" y="64"/>
                  <a:pt x="221" y="77"/>
                </a:cubicBezTo>
                <a:cubicBezTo>
                  <a:pt x="225" y="78"/>
                  <a:pt x="278" y="86"/>
                  <a:pt x="281" y="89"/>
                </a:cubicBezTo>
                <a:cubicBezTo>
                  <a:pt x="284" y="92"/>
                  <a:pt x="278" y="98"/>
                  <a:pt x="275" y="101"/>
                </a:cubicBezTo>
                <a:cubicBezTo>
                  <a:pt x="267" y="109"/>
                  <a:pt x="246" y="116"/>
                  <a:pt x="236" y="119"/>
                </a:cubicBezTo>
                <a:cubicBezTo>
                  <a:pt x="200" y="95"/>
                  <a:pt x="236" y="111"/>
                  <a:pt x="203" y="119"/>
                </a:cubicBezTo>
                <a:cubicBezTo>
                  <a:pt x="214" y="102"/>
                  <a:pt x="204" y="111"/>
                  <a:pt x="233" y="116"/>
                </a:cubicBezTo>
                <a:cubicBezTo>
                  <a:pt x="245" y="118"/>
                  <a:pt x="269" y="122"/>
                  <a:pt x="269" y="122"/>
                </a:cubicBezTo>
                <a:cubicBezTo>
                  <a:pt x="286" y="116"/>
                  <a:pt x="284" y="107"/>
                  <a:pt x="290" y="92"/>
                </a:cubicBezTo>
                <a:cubicBezTo>
                  <a:pt x="291" y="89"/>
                  <a:pt x="299" y="86"/>
                  <a:pt x="296" y="83"/>
                </a:cubicBezTo>
                <a:cubicBezTo>
                  <a:pt x="293" y="80"/>
                  <a:pt x="290" y="87"/>
                  <a:pt x="287" y="89"/>
                </a:cubicBezTo>
                <a:cubicBezTo>
                  <a:pt x="286" y="93"/>
                  <a:pt x="281" y="98"/>
                  <a:pt x="284" y="101"/>
                </a:cubicBezTo>
                <a:cubicBezTo>
                  <a:pt x="287" y="104"/>
                  <a:pt x="292" y="98"/>
                  <a:pt x="296" y="98"/>
                </a:cubicBezTo>
                <a:cubicBezTo>
                  <a:pt x="306" y="98"/>
                  <a:pt x="316" y="100"/>
                  <a:pt x="326" y="101"/>
                </a:cubicBezTo>
                <a:cubicBezTo>
                  <a:pt x="328" y="105"/>
                  <a:pt x="334" y="109"/>
                  <a:pt x="332" y="113"/>
                </a:cubicBezTo>
                <a:cubicBezTo>
                  <a:pt x="330" y="116"/>
                  <a:pt x="323" y="112"/>
                  <a:pt x="320" y="110"/>
                </a:cubicBezTo>
                <a:cubicBezTo>
                  <a:pt x="314" y="106"/>
                  <a:pt x="309" y="87"/>
                  <a:pt x="308" y="83"/>
                </a:cubicBezTo>
                <a:cubicBezTo>
                  <a:pt x="305" y="73"/>
                  <a:pt x="328" y="87"/>
                  <a:pt x="338" y="89"/>
                </a:cubicBezTo>
                <a:cubicBezTo>
                  <a:pt x="347" y="90"/>
                  <a:pt x="356" y="91"/>
                  <a:pt x="365" y="92"/>
                </a:cubicBezTo>
                <a:cubicBezTo>
                  <a:pt x="372" y="113"/>
                  <a:pt x="377" y="108"/>
                  <a:pt x="362" y="113"/>
                </a:cubicBezTo>
                <a:cubicBezTo>
                  <a:pt x="319" y="102"/>
                  <a:pt x="352" y="99"/>
                  <a:pt x="374" y="77"/>
                </a:cubicBezTo>
                <a:cubicBezTo>
                  <a:pt x="364" y="48"/>
                  <a:pt x="356" y="94"/>
                  <a:pt x="356" y="98"/>
                </a:cubicBezTo>
                <a:cubicBezTo>
                  <a:pt x="366" y="128"/>
                  <a:pt x="355" y="125"/>
                  <a:pt x="326" y="122"/>
                </a:cubicBezTo>
                <a:cubicBezTo>
                  <a:pt x="313" y="113"/>
                  <a:pt x="313" y="107"/>
                  <a:pt x="317" y="92"/>
                </a:cubicBezTo>
                <a:cubicBezTo>
                  <a:pt x="313" y="76"/>
                  <a:pt x="312" y="72"/>
                  <a:pt x="296" y="68"/>
                </a:cubicBezTo>
                <a:cubicBezTo>
                  <a:pt x="279" y="72"/>
                  <a:pt x="275" y="84"/>
                  <a:pt x="266" y="65"/>
                </a:cubicBezTo>
                <a:cubicBezTo>
                  <a:pt x="283" y="43"/>
                  <a:pt x="282" y="61"/>
                  <a:pt x="305" y="53"/>
                </a:cubicBezTo>
                <a:cubicBezTo>
                  <a:pt x="314" y="27"/>
                  <a:pt x="294" y="73"/>
                  <a:pt x="287" y="80"/>
                </a:cubicBezTo>
                <a:cubicBezTo>
                  <a:pt x="300" y="89"/>
                  <a:pt x="311" y="82"/>
                  <a:pt x="326" y="77"/>
                </a:cubicBezTo>
                <a:cubicBezTo>
                  <a:pt x="332" y="65"/>
                  <a:pt x="330" y="54"/>
                  <a:pt x="344" y="59"/>
                </a:cubicBezTo>
                <a:cubicBezTo>
                  <a:pt x="347" y="63"/>
                  <a:pt x="351" y="67"/>
                  <a:pt x="353" y="71"/>
                </a:cubicBezTo>
                <a:cubicBezTo>
                  <a:pt x="355" y="74"/>
                  <a:pt x="353" y="79"/>
                  <a:pt x="356" y="80"/>
                </a:cubicBezTo>
                <a:cubicBezTo>
                  <a:pt x="361" y="81"/>
                  <a:pt x="404" y="75"/>
                  <a:pt x="413" y="74"/>
                </a:cubicBezTo>
                <a:cubicBezTo>
                  <a:pt x="416" y="72"/>
                  <a:pt x="418" y="68"/>
                  <a:pt x="422" y="68"/>
                </a:cubicBezTo>
                <a:cubicBezTo>
                  <a:pt x="431" y="69"/>
                  <a:pt x="449" y="77"/>
                  <a:pt x="449" y="77"/>
                </a:cubicBezTo>
                <a:cubicBezTo>
                  <a:pt x="444" y="114"/>
                  <a:pt x="460" y="139"/>
                  <a:pt x="422" y="101"/>
                </a:cubicBezTo>
                <a:cubicBezTo>
                  <a:pt x="420" y="93"/>
                  <a:pt x="419" y="85"/>
                  <a:pt x="416" y="77"/>
                </a:cubicBezTo>
                <a:cubicBezTo>
                  <a:pt x="415" y="74"/>
                  <a:pt x="409" y="71"/>
                  <a:pt x="410" y="68"/>
                </a:cubicBezTo>
                <a:cubicBezTo>
                  <a:pt x="413" y="60"/>
                  <a:pt x="428" y="50"/>
                  <a:pt x="428" y="50"/>
                </a:cubicBezTo>
                <a:cubicBezTo>
                  <a:pt x="427" y="63"/>
                  <a:pt x="416" y="83"/>
                  <a:pt x="428" y="89"/>
                </a:cubicBezTo>
                <a:cubicBezTo>
                  <a:pt x="431" y="90"/>
                  <a:pt x="437" y="83"/>
                  <a:pt x="437" y="86"/>
                </a:cubicBezTo>
                <a:cubicBezTo>
                  <a:pt x="437" y="93"/>
                  <a:pt x="418" y="93"/>
                  <a:pt x="404" y="95"/>
                </a:cubicBezTo>
                <a:cubicBezTo>
                  <a:pt x="386" y="101"/>
                  <a:pt x="398" y="116"/>
                  <a:pt x="386" y="98"/>
                </a:cubicBezTo>
                <a:cubicBezTo>
                  <a:pt x="396" y="63"/>
                  <a:pt x="395" y="87"/>
                  <a:pt x="413" y="62"/>
                </a:cubicBezTo>
                <a:cubicBezTo>
                  <a:pt x="418" y="46"/>
                  <a:pt x="406" y="19"/>
                  <a:pt x="428" y="26"/>
                </a:cubicBezTo>
                <a:cubicBezTo>
                  <a:pt x="441" y="17"/>
                  <a:pt x="446" y="24"/>
                  <a:pt x="458" y="32"/>
                </a:cubicBezTo>
                <a:cubicBezTo>
                  <a:pt x="538" y="27"/>
                  <a:pt x="501" y="32"/>
                  <a:pt x="464" y="44"/>
                </a:cubicBezTo>
                <a:cubicBezTo>
                  <a:pt x="454" y="23"/>
                  <a:pt x="439" y="33"/>
                  <a:pt x="422" y="44"/>
                </a:cubicBezTo>
                <a:cubicBezTo>
                  <a:pt x="409" y="25"/>
                  <a:pt x="406" y="46"/>
                  <a:pt x="404" y="59"/>
                </a:cubicBezTo>
                <a:cubicBezTo>
                  <a:pt x="397" y="57"/>
                  <a:pt x="374" y="51"/>
                  <a:pt x="374" y="50"/>
                </a:cubicBezTo>
                <a:cubicBezTo>
                  <a:pt x="371" y="36"/>
                  <a:pt x="396" y="26"/>
                  <a:pt x="404" y="23"/>
                </a:cubicBezTo>
                <a:cubicBezTo>
                  <a:pt x="396" y="0"/>
                  <a:pt x="391" y="15"/>
                  <a:pt x="386" y="32"/>
                </a:cubicBezTo>
                <a:cubicBezTo>
                  <a:pt x="388" y="49"/>
                  <a:pt x="393" y="70"/>
                  <a:pt x="371" y="56"/>
                </a:cubicBezTo>
                <a:cubicBezTo>
                  <a:pt x="367" y="40"/>
                  <a:pt x="367" y="45"/>
                  <a:pt x="371" y="26"/>
                </a:cubicBezTo>
                <a:cubicBezTo>
                  <a:pt x="372" y="23"/>
                  <a:pt x="374" y="14"/>
                  <a:pt x="374" y="17"/>
                </a:cubicBezTo>
                <a:cubicBezTo>
                  <a:pt x="374" y="30"/>
                  <a:pt x="369" y="45"/>
                  <a:pt x="362" y="56"/>
                </a:cubicBezTo>
                <a:cubicBezTo>
                  <a:pt x="369" y="90"/>
                  <a:pt x="358" y="62"/>
                  <a:pt x="413" y="68"/>
                </a:cubicBezTo>
                <a:cubicBezTo>
                  <a:pt x="421" y="69"/>
                  <a:pt x="425" y="79"/>
                  <a:pt x="431" y="83"/>
                </a:cubicBezTo>
                <a:cubicBezTo>
                  <a:pt x="459" y="76"/>
                  <a:pt x="454" y="78"/>
                  <a:pt x="476" y="89"/>
                </a:cubicBezTo>
                <a:cubicBezTo>
                  <a:pt x="491" y="82"/>
                  <a:pt x="495" y="70"/>
                  <a:pt x="500" y="89"/>
                </a:cubicBezTo>
                <a:cubicBezTo>
                  <a:pt x="498" y="93"/>
                  <a:pt x="498" y="99"/>
                  <a:pt x="494" y="101"/>
                </a:cubicBezTo>
                <a:cubicBezTo>
                  <a:pt x="488" y="103"/>
                  <a:pt x="482" y="99"/>
                  <a:pt x="476" y="98"/>
                </a:cubicBezTo>
                <a:cubicBezTo>
                  <a:pt x="473" y="97"/>
                  <a:pt x="467" y="92"/>
                  <a:pt x="467" y="95"/>
                </a:cubicBezTo>
                <a:cubicBezTo>
                  <a:pt x="467" y="105"/>
                  <a:pt x="487" y="103"/>
                  <a:pt x="497" y="104"/>
                </a:cubicBezTo>
                <a:cubicBezTo>
                  <a:pt x="514" y="95"/>
                  <a:pt x="515" y="91"/>
                  <a:pt x="527" y="107"/>
                </a:cubicBezTo>
                <a:cubicBezTo>
                  <a:pt x="523" y="108"/>
                  <a:pt x="519" y="111"/>
                  <a:pt x="515" y="110"/>
                </a:cubicBezTo>
                <a:cubicBezTo>
                  <a:pt x="511" y="109"/>
                  <a:pt x="510" y="104"/>
                  <a:pt x="506" y="104"/>
                </a:cubicBezTo>
                <a:cubicBezTo>
                  <a:pt x="499" y="104"/>
                  <a:pt x="494" y="111"/>
                  <a:pt x="488" y="113"/>
                </a:cubicBezTo>
                <a:cubicBezTo>
                  <a:pt x="461" y="110"/>
                  <a:pt x="450" y="112"/>
                  <a:pt x="467" y="89"/>
                </a:cubicBezTo>
                <a:cubicBezTo>
                  <a:pt x="487" y="94"/>
                  <a:pt x="521" y="78"/>
                  <a:pt x="542" y="74"/>
                </a:cubicBezTo>
                <a:cubicBezTo>
                  <a:pt x="544" y="68"/>
                  <a:pt x="542" y="56"/>
                  <a:pt x="548" y="56"/>
                </a:cubicBezTo>
                <a:cubicBezTo>
                  <a:pt x="563" y="56"/>
                  <a:pt x="550" y="86"/>
                  <a:pt x="551" y="89"/>
                </a:cubicBezTo>
                <a:cubicBezTo>
                  <a:pt x="552" y="92"/>
                  <a:pt x="557" y="87"/>
                  <a:pt x="560" y="86"/>
                </a:cubicBezTo>
                <a:cubicBezTo>
                  <a:pt x="554" y="105"/>
                  <a:pt x="526" y="102"/>
                  <a:pt x="509" y="104"/>
                </a:cubicBezTo>
                <a:cubicBezTo>
                  <a:pt x="505" y="103"/>
                  <a:pt x="498" y="105"/>
                  <a:pt x="497" y="101"/>
                </a:cubicBezTo>
                <a:cubicBezTo>
                  <a:pt x="494" y="91"/>
                  <a:pt x="510" y="96"/>
                  <a:pt x="524" y="98"/>
                </a:cubicBezTo>
                <a:cubicBezTo>
                  <a:pt x="532" y="99"/>
                  <a:pt x="540" y="100"/>
                  <a:pt x="548" y="101"/>
                </a:cubicBezTo>
                <a:cubicBezTo>
                  <a:pt x="569" y="98"/>
                  <a:pt x="591" y="84"/>
                  <a:pt x="599" y="107"/>
                </a:cubicBezTo>
                <a:cubicBezTo>
                  <a:pt x="615" y="84"/>
                  <a:pt x="581" y="101"/>
                  <a:pt x="572" y="107"/>
                </a:cubicBezTo>
                <a:cubicBezTo>
                  <a:pt x="557" y="104"/>
                  <a:pt x="543" y="104"/>
                  <a:pt x="530" y="95"/>
                </a:cubicBezTo>
                <a:cubicBezTo>
                  <a:pt x="536" y="71"/>
                  <a:pt x="527" y="92"/>
                  <a:pt x="557" y="80"/>
                </a:cubicBezTo>
                <a:cubicBezTo>
                  <a:pt x="560" y="79"/>
                  <a:pt x="569" y="60"/>
                  <a:pt x="569" y="59"/>
                </a:cubicBezTo>
                <a:cubicBezTo>
                  <a:pt x="573" y="36"/>
                  <a:pt x="574" y="14"/>
                  <a:pt x="584" y="56"/>
                </a:cubicBezTo>
                <a:cubicBezTo>
                  <a:pt x="586" y="64"/>
                  <a:pt x="600" y="58"/>
                  <a:pt x="608" y="59"/>
                </a:cubicBezTo>
                <a:cubicBezTo>
                  <a:pt x="618" y="121"/>
                  <a:pt x="596" y="21"/>
                  <a:pt x="641" y="71"/>
                </a:cubicBezTo>
                <a:cubicBezTo>
                  <a:pt x="650" y="81"/>
                  <a:pt x="643" y="99"/>
                  <a:pt x="644" y="113"/>
                </a:cubicBezTo>
                <a:cubicBezTo>
                  <a:pt x="657" y="93"/>
                  <a:pt x="641" y="113"/>
                  <a:pt x="632" y="116"/>
                </a:cubicBezTo>
                <a:cubicBezTo>
                  <a:pt x="615" y="114"/>
                  <a:pt x="603" y="109"/>
                  <a:pt x="587" y="113"/>
                </a:cubicBezTo>
                <a:cubicBezTo>
                  <a:pt x="586" y="119"/>
                  <a:pt x="580" y="127"/>
                  <a:pt x="584" y="131"/>
                </a:cubicBezTo>
                <a:cubicBezTo>
                  <a:pt x="591" y="138"/>
                  <a:pt x="593" y="113"/>
                  <a:pt x="602" y="110"/>
                </a:cubicBezTo>
                <a:cubicBezTo>
                  <a:pt x="613" y="107"/>
                  <a:pt x="624" y="108"/>
                  <a:pt x="635" y="107"/>
                </a:cubicBezTo>
                <a:cubicBezTo>
                  <a:pt x="629" y="67"/>
                  <a:pt x="637" y="77"/>
                  <a:pt x="611" y="86"/>
                </a:cubicBezTo>
                <a:cubicBezTo>
                  <a:pt x="587" y="80"/>
                  <a:pt x="598" y="72"/>
                  <a:pt x="614" y="68"/>
                </a:cubicBezTo>
                <a:cubicBezTo>
                  <a:pt x="638" y="52"/>
                  <a:pt x="609" y="63"/>
                  <a:pt x="602" y="68"/>
                </a:cubicBezTo>
                <a:cubicBezTo>
                  <a:pt x="593" y="87"/>
                  <a:pt x="586" y="83"/>
                  <a:pt x="566" y="80"/>
                </a:cubicBezTo>
                <a:cubicBezTo>
                  <a:pt x="600" y="57"/>
                  <a:pt x="583" y="65"/>
                  <a:pt x="617" y="56"/>
                </a:cubicBezTo>
                <a:cubicBezTo>
                  <a:pt x="631" y="35"/>
                  <a:pt x="614" y="36"/>
                  <a:pt x="593" y="29"/>
                </a:cubicBezTo>
                <a:cubicBezTo>
                  <a:pt x="581" y="30"/>
                  <a:pt x="567" y="26"/>
                  <a:pt x="557" y="32"/>
                </a:cubicBezTo>
                <a:cubicBezTo>
                  <a:pt x="538" y="43"/>
                  <a:pt x="555" y="61"/>
                  <a:pt x="533" y="68"/>
                </a:cubicBezTo>
                <a:cubicBezTo>
                  <a:pt x="525" y="80"/>
                  <a:pt x="522" y="86"/>
                  <a:pt x="509" y="77"/>
                </a:cubicBezTo>
                <a:cubicBezTo>
                  <a:pt x="507" y="73"/>
                  <a:pt x="503" y="69"/>
                  <a:pt x="503" y="65"/>
                </a:cubicBezTo>
                <a:cubicBezTo>
                  <a:pt x="503" y="61"/>
                  <a:pt x="510" y="59"/>
                  <a:pt x="509" y="56"/>
                </a:cubicBezTo>
                <a:cubicBezTo>
                  <a:pt x="507" y="49"/>
                  <a:pt x="497" y="51"/>
                  <a:pt x="491" y="47"/>
                </a:cubicBezTo>
                <a:cubicBezTo>
                  <a:pt x="489" y="51"/>
                  <a:pt x="489" y="56"/>
                  <a:pt x="485" y="59"/>
                </a:cubicBezTo>
                <a:cubicBezTo>
                  <a:pt x="481" y="62"/>
                  <a:pt x="465" y="62"/>
                  <a:pt x="470" y="62"/>
                </a:cubicBezTo>
                <a:cubicBezTo>
                  <a:pt x="496" y="64"/>
                  <a:pt x="522" y="64"/>
                  <a:pt x="548" y="65"/>
                </a:cubicBezTo>
                <a:cubicBezTo>
                  <a:pt x="551" y="69"/>
                  <a:pt x="553" y="80"/>
                  <a:pt x="557" y="77"/>
                </a:cubicBezTo>
                <a:cubicBezTo>
                  <a:pt x="563" y="72"/>
                  <a:pt x="563" y="53"/>
                  <a:pt x="563" y="53"/>
                </a:cubicBezTo>
                <a:cubicBezTo>
                  <a:pt x="545" y="41"/>
                  <a:pt x="536" y="29"/>
                  <a:pt x="560" y="17"/>
                </a:cubicBezTo>
                <a:cubicBezTo>
                  <a:pt x="563" y="19"/>
                  <a:pt x="567" y="20"/>
                  <a:pt x="569" y="23"/>
                </a:cubicBezTo>
                <a:cubicBezTo>
                  <a:pt x="572" y="28"/>
                  <a:pt x="569" y="38"/>
                  <a:pt x="575" y="41"/>
                </a:cubicBezTo>
                <a:cubicBezTo>
                  <a:pt x="604" y="55"/>
                  <a:pt x="572" y="42"/>
                  <a:pt x="566" y="41"/>
                </a:cubicBezTo>
                <a:cubicBezTo>
                  <a:pt x="569" y="24"/>
                  <a:pt x="571" y="21"/>
                  <a:pt x="587" y="26"/>
                </a:cubicBezTo>
                <a:cubicBezTo>
                  <a:pt x="571" y="33"/>
                  <a:pt x="561" y="43"/>
                  <a:pt x="545" y="47"/>
                </a:cubicBezTo>
                <a:cubicBezTo>
                  <a:pt x="525" y="43"/>
                  <a:pt x="520" y="41"/>
                  <a:pt x="524" y="20"/>
                </a:cubicBezTo>
                <a:cubicBezTo>
                  <a:pt x="544" y="27"/>
                  <a:pt x="557" y="34"/>
                  <a:pt x="578" y="29"/>
                </a:cubicBezTo>
                <a:cubicBezTo>
                  <a:pt x="584" y="54"/>
                  <a:pt x="579" y="51"/>
                  <a:pt x="611" y="47"/>
                </a:cubicBezTo>
                <a:cubicBezTo>
                  <a:pt x="626" y="68"/>
                  <a:pt x="614" y="72"/>
                  <a:pt x="644" y="68"/>
                </a:cubicBezTo>
                <a:cubicBezTo>
                  <a:pt x="670" y="50"/>
                  <a:pt x="630" y="75"/>
                  <a:pt x="647" y="86"/>
                </a:cubicBezTo>
                <a:cubicBezTo>
                  <a:pt x="656" y="92"/>
                  <a:pt x="669" y="82"/>
                  <a:pt x="680" y="80"/>
                </a:cubicBezTo>
                <a:cubicBezTo>
                  <a:pt x="668" y="115"/>
                  <a:pt x="700" y="102"/>
                  <a:pt x="725" y="98"/>
                </a:cubicBezTo>
                <a:cubicBezTo>
                  <a:pt x="688" y="110"/>
                  <a:pt x="732" y="112"/>
                  <a:pt x="659" y="107"/>
                </a:cubicBezTo>
                <a:cubicBezTo>
                  <a:pt x="648" y="90"/>
                  <a:pt x="653" y="106"/>
                  <a:pt x="680" y="101"/>
                </a:cubicBezTo>
                <a:cubicBezTo>
                  <a:pt x="682" y="95"/>
                  <a:pt x="688" y="89"/>
                  <a:pt x="686" y="83"/>
                </a:cubicBezTo>
                <a:cubicBezTo>
                  <a:pt x="685" y="80"/>
                  <a:pt x="680" y="75"/>
                  <a:pt x="683" y="74"/>
                </a:cubicBezTo>
                <a:cubicBezTo>
                  <a:pt x="686" y="72"/>
                  <a:pt x="689" y="78"/>
                  <a:pt x="692" y="80"/>
                </a:cubicBezTo>
                <a:cubicBezTo>
                  <a:pt x="694" y="88"/>
                  <a:pt x="697" y="101"/>
                  <a:pt x="698" y="101"/>
                </a:cubicBezTo>
                <a:cubicBezTo>
                  <a:pt x="713" y="101"/>
                  <a:pt x="723" y="93"/>
                  <a:pt x="734" y="86"/>
                </a:cubicBezTo>
                <a:cubicBezTo>
                  <a:pt x="728" y="103"/>
                  <a:pt x="742" y="100"/>
                  <a:pt x="749" y="89"/>
                </a:cubicBezTo>
                <a:cubicBezTo>
                  <a:pt x="759" y="118"/>
                  <a:pt x="724" y="111"/>
                  <a:pt x="704" y="113"/>
                </a:cubicBezTo>
                <a:cubicBezTo>
                  <a:pt x="694" y="116"/>
                  <a:pt x="687" y="122"/>
                  <a:pt x="677" y="125"/>
                </a:cubicBezTo>
                <a:cubicBezTo>
                  <a:pt x="665" y="113"/>
                  <a:pt x="663" y="116"/>
                  <a:pt x="650" y="125"/>
                </a:cubicBezTo>
                <a:cubicBezTo>
                  <a:pt x="643" y="105"/>
                  <a:pt x="593" y="122"/>
                  <a:pt x="575" y="128"/>
                </a:cubicBezTo>
                <a:cubicBezTo>
                  <a:pt x="547" y="121"/>
                  <a:pt x="557" y="127"/>
                  <a:pt x="557" y="92"/>
                </a:cubicBezTo>
                <a:cubicBezTo>
                  <a:pt x="557" y="89"/>
                  <a:pt x="556" y="99"/>
                  <a:pt x="554" y="101"/>
                </a:cubicBezTo>
                <a:cubicBezTo>
                  <a:pt x="549" y="107"/>
                  <a:pt x="540" y="108"/>
                  <a:pt x="533" y="110"/>
                </a:cubicBezTo>
                <a:cubicBezTo>
                  <a:pt x="517" y="122"/>
                  <a:pt x="516" y="114"/>
                  <a:pt x="500" y="119"/>
                </a:cubicBezTo>
                <a:cubicBezTo>
                  <a:pt x="476" y="103"/>
                  <a:pt x="507" y="128"/>
                  <a:pt x="494" y="95"/>
                </a:cubicBezTo>
                <a:cubicBezTo>
                  <a:pt x="493" y="92"/>
                  <a:pt x="488" y="97"/>
                  <a:pt x="485" y="98"/>
                </a:cubicBezTo>
                <a:cubicBezTo>
                  <a:pt x="477" y="102"/>
                  <a:pt x="461" y="110"/>
                  <a:pt x="461" y="110"/>
                </a:cubicBezTo>
                <a:cubicBezTo>
                  <a:pt x="459" y="113"/>
                  <a:pt x="459" y="119"/>
                  <a:pt x="455" y="119"/>
                </a:cubicBezTo>
                <a:cubicBezTo>
                  <a:pt x="449" y="120"/>
                  <a:pt x="443" y="115"/>
                  <a:pt x="437" y="113"/>
                </a:cubicBezTo>
                <a:cubicBezTo>
                  <a:pt x="434" y="112"/>
                  <a:pt x="428" y="110"/>
                  <a:pt x="428" y="110"/>
                </a:cubicBezTo>
                <a:cubicBezTo>
                  <a:pt x="404" y="126"/>
                  <a:pt x="434" y="110"/>
                  <a:pt x="410" y="110"/>
                </a:cubicBezTo>
                <a:cubicBezTo>
                  <a:pt x="403" y="110"/>
                  <a:pt x="396" y="116"/>
                  <a:pt x="389" y="116"/>
                </a:cubicBezTo>
              </a:path>
            </a:pathLst>
          </a:custGeom>
          <a:solidFill>
            <a:srgbClr val="009900"/>
          </a:solidFill>
          <a:ln w="648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5463800" y="17159400"/>
            <a:ext cx="1204920" cy="220680"/>
          </a:xfrm>
          <a:custGeom>
            <a:avLst/>
            <a:gdLst/>
            <a:ahLst/>
            <a:rect l="l" t="t" r="r" b="b"/>
            <a:pathLst>
              <a:path w="759" h="139">
                <a:moveTo>
                  <a:pt x="35" y="119"/>
                </a:moveTo>
                <a:cubicBezTo>
                  <a:pt x="0" y="128"/>
                  <a:pt x="15" y="116"/>
                  <a:pt x="35" y="110"/>
                </a:cubicBezTo>
                <a:cubicBezTo>
                  <a:pt x="38" y="109"/>
                  <a:pt x="41" y="108"/>
                  <a:pt x="44" y="107"/>
                </a:cubicBezTo>
                <a:cubicBezTo>
                  <a:pt x="59" y="117"/>
                  <a:pt x="61" y="108"/>
                  <a:pt x="71" y="95"/>
                </a:cubicBezTo>
                <a:cubicBezTo>
                  <a:pt x="76" y="100"/>
                  <a:pt x="88" y="108"/>
                  <a:pt x="83" y="113"/>
                </a:cubicBezTo>
                <a:cubicBezTo>
                  <a:pt x="79" y="117"/>
                  <a:pt x="73" y="115"/>
                  <a:pt x="68" y="116"/>
                </a:cubicBezTo>
                <a:cubicBezTo>
                  <a:pt x="65" y="117"/>
                  <a:pt x="59" y="122"/>
                  <a:pt x="59" y="119"/>
                </a:cubicBezTo>
                <a:cubicBezTo>
                  <a:pt x="59" y="115"/>
                  <a:pt x="65" y="114"/>
                  <a:pt x="68" y="113"/>
                </a:cubicBezTo>
                <a:cubicBezTo>
                  <a:pt x="72" y="111"/>
                  <a:pt x="76" y="111"/>
                  <a:pt x="80" y="110"/>
                </a:cubicBezTo>
                <a:cubicBezTo>
                  <a:pt x="82" y="107"/>
                  <a:pt x="82" y="102"/>
                  <a:pt x="86" y="101"/>
                </a:cubicBezTo>
                <a:cubicBezTo>
                  <a:pt x="97" y="99"/>
                  <a:pt x="94" y="112"/>
                  <a:pt x="98" y="116"/>
                </a:cubicBezTo>
                <a:cubicBezTo>
                  <a:pt x="100" y="118"/>
                  <a:pt x="110" y="119"/>
                  <a:pt x="107" y="119"/>
                </a:cubicBezTo>
                <a:cubicBezTo>
                  <a:pt x="101" y="119"/>
                  <a:pt x="95" y="117"/>
                  <a:pt x="89" y="116"/>
                </a:cubicBezTo>
                <a:cubicBezTo>
                  <a:pt x="101" y="108"/>
                  <a:pt x="111" y="111"/>
                  <a:pt x="119" y="98"/>
                </a:cubicBezTo>
                <a:cubicBezTo>
                  <a:pt x="103" y="93"/>
                  <a:pt x="102" y="108"/>
                  <a:pt x="92" y="92"/>
                </a:cubicBezTo>
                <a:cubicBezTo>
                  <a:pt x="106" y="88"/>
                  <a:pt x="111" y="92"/>
                  <a:pt x="125" y="95"/>
                </a:cubicBezTo>
                <a:cubicBezTo>
                  <a:pt x="131" y="78"/>
                  <a:pt x="128" y="93"/>
                  <a:pt x="107" y="83"/>
                </a:cubicBezTo>
                <a:cubicBezTo>
                  <a:pt x="113" y="81"/>
                  <a:pt x="120" y="70"/>
                  <a:pt x="125" y="74"/>
                </a:cubicBezTo>
                <a:cubicBezTo>
                  <a:pt x="129" y="77"/>
                  <a:pt x="124" y="85"/>
                  <a:pt x="128" y="89"/>
                </a:cubicBezTo>
                <a:cubicBezTo>
                  <a:pt x="135" y="96"/>
                  <a:pt x="155" y="98"/>
                  <a:pt x="155" y="98"/>
                </a:cubicBezTo>
                <a:cubicBezTo>
                  <a:pt x="145" y="113"/>
                  <a:pt x="129" y="108"/>
                  <a:pt x="113" y="116"/>
                </a:cubicBezTo>
                <a:cubicBezTo>
                  <a:pt x="103" y="130"/>
                  <a:pt x="97" y="123"/>
                  <a:pt x="83" y="116"/>
                </a:cubicBezTo>
                <a:cubicBezTo>
                  <a:pt x="63" y="123"/>
                  <a:pt x="88" y="123"/>
                  <a:pt x="95" y="125"/>
                </a:cubicBezTo>
                <a:cubicBezTo>
                  <a:pt x="124" y="122"/>
                  <a:pt x="139" y="119"/>
                  <a:pt x="164" y="107"/>
                </a:cubicBezTo>
                <a:cubicBezTo>
                  <a:pt x="157" y="85"/>
                  <a:pt x="160" y="114"/>
                  <a:pt x="146" y="92"/>
                </a:cubicBezTo>
                <a:cubicBezTo>
                  <a:pt x="157" y="88"/>
                  <a:pt x="169" y="91"/>
                  <a:pt x="179" y="86"/>
                </a:cubicBezTo>
                <a:cubicBezTo>
                  <a:pt x="182" y="85"/>
                  <a:pt x="185" y="78"/>
                  <a:pt x="182" y="77"/>
                </a:cubicBezTo>
                <a:cubicBezTo>
                  <a:pt x="175" y="75"/>
                  <a:pt x="168" y="79"/>
                  <a:pt x="161" y="80"/>
                </a:cubicBezTo>
                <a:cubicBezTo>
                  <a:pt x="158" y="79"/>
                  <a:pt x="155" y="78"/>
                  <a:pt x="152" y="77"/>
                </a:cubicBezTo>
                <a:cubicBezTo>
                  <a:pt x="148" y="76"/>
                  <a:pt x="154" y="86"/>
                  <a:pt x="158" y="89"/>
                </a:cubicBezTo>
                <a:cubicBezTo>
                  <a:pt x="163" y="93"/>
                  <a:pt x="170" y="93"/>
                  <a:pt x="176" y="95"/>
                </a:cubicBezTo>
                <a:cubicBezTo>
                  <a:pt x="180" y="107"/>
                  <a:pt x="187" y="105"/>
                  <a:pt x="194" y="116"/>
                </a:cubicBezTo>
                <a:cubicBezTo>
                  <a:pt x="181" y="120"/>
                  <a:pt x="176" y="113"/>
                  <a:pt x="164" y="107"/>
                </a:cubicBezTo>
                <a:cubicBezTo>
                  <a:pt x="185" y="106"/>
                  <a:pt x="207" y="110"/>
                  <a:pt x="227" y="104"/>
                </a:cubicBezTo>
                <a:cubicBezTo>
                  <a:pt x="232" y="103"/>
                  <a:pt x="228" y="92"/>
                  <a:pt x="224" y="89"/>
                </a:cubicBezTo>
                <a:cubicBezTo>
                  <a:pt x="221" y="86"/>
                  <a:pt x="216" y="91"/>
                  <a:pt x="212" y="92"/>
                </a:cubicBezTo>
                <a:cubicBezTo>
                  <a:pt x="209" y="94"/>
                  <a:pt x="178" y="115"/>
                  <a:pt x="203" y="107"/>
                </a:cubicBezTo>
                <a:cubicBezTo>
                  <a:pt x="217" y="116"/>
                  <a:pt x="259" y="121"/>
                  <a:pt x="236" y="98"/>
                </a:cubicBezTo>
                <a:cubicBezTo>
                  <a:pt x="208" y="103"/>
                  <a:pt x="217" y="94"/>
                  <a:pt x="209" y="71"/>
                </a:cubicBezTo>
                <a:cubicBezTo>
                  <a:pt x="195" y="76"/>
                  <a:pt x="195" y="83"/>
                  <a:pt x="182" y="74"/>
                </a:cubicBezTo>
                <a:cubicBezTo>
                  <a:pt x="177" y="59"/>
                  <a:pt x="187" y="62"/>
                  <a:pt x="200" y="59"/>
                </a:cubicBezTo>
                <a:cubicBezTo>
                  <a:pt x="209" y="33"/>
                  <a:pt x="161" y="65"/>
                  <a:pt x="188" y="56"/>
                </a:cubicBezTo>
                <a:cubicBezTo>
                  <a:pt x="204" y="59"/>
                  <a:pt x="211" y="61"/>
                  <a:pt x="221" y="47"/>
                </a:cubicBezTo>
                <a:cubicBezTo>
                  <a:pt x="232" y="79"/>
                  <a:pt x="211" y="87"/>
                  <a:pt x="254" y="77"/>
                </a:cubicBezTo>
                <a:cubicBezTo>
                  <a:pt x="236" y="73"/>
                  <a:pt x="234" y="64"/>
                  <a:pt x="221" y="77"/>
                </a:cubicBezTo>
                <a:cubicBezTo>
                  <a:pt x="225" y="78"/>
                  <a:pt x="278" y="86"/>
                  <a:pt x="281" y="89"/>
                </a:cubicBezTo>
                <a:cubicBezTo>
                  <a:pt x="284" y="92"/>
                  <a:pt x="278" y="98"/>
                  <a:pt x="275" y="101"/>
                </a:cubicBezTo>
                <a:cubicBezTo>
                  <a:pt x="267" y="109"/>
                  <a:pt x="246" y="116"/>
                  <a:pt x="236" y="119"/>
                </a:cubicBezTo>
                <a:cubicBezTo>
                  <a:pt x="200" y="95"/>
                  <a:pt x="236" y="111"/>
                  <a:pt x="203" y="119"/>
                </a:cubicBezTo>
                <a:cubicBezTo>
                  <a:pt x="214" y="102"/>
                  <a:pt x="204" y="111"/>
                  <a:pt x="233" y="116"/>
                </a:cubicBezTo>
                <a:cubicBezTo>
                  <a:pt x="245" y="118"/>
                  <a:pt x="269" y="122"/>
                  <a:pt x="269" y="122"/>
                </a:cubicBezTo>
                <a:cubicBezTo>
                  <a:pt x="286" y="116"/>
                  <a:pt x="284" y="107"/>
                  <a:pt x="290" y="92"/>
                </a:cubicBezTo>
                <a:cubicBezTo>
                  <a:pt x="291" y="89"/>
                  <a:pt x="299" y="86"/>
                  <a:pt x="296" y="83"/>
                </a:cubicBezTo>
                <a:cubicBezTo>
                  <a:pt x="293" y="80"/>
                  <a:pt x="290" y="87"/>
                  <a:pt x="287" y="89"/>
                </a:cubicBezTo>
                <a:cubicBezTo>
                  <a:pt x="286" y="93"/>
                  <a:pt x="281" y="98"/>
                  <a:pt x="284" y="101"/>
                </a:cubicBezTo>
                <a:cubicBezTo>
                  <a:pt x="287" y="104"/>
                  <a:pt x="292" y="98"/>
                  <a:pt x="296" y="98"/>
                </a:cubicBezTo>
                <a:cubicBezTo>
                  <a:pt x="306" y="98"/>
                  <a:pt x="316" y="100"/>
                  <a:pt x="326" y="101"/>
                </a:cubicBezTo>
                <a:cubicBezTo>
                  <a:pt x="328" y="105"/>
                  <a:pt x="334" y="109"/>
                  <a:pt x="332" y="113"/>
                </a:cubicBezTo>
                <a:cubicBezTo>
                  <a:pt x="330" y="116"/>
                  <a:pt x="323" y="112"/>
                  <a:pt x="320" y="110"/>
                </a:cubicBezTo>
                <a:cubicBezTo>
                  <a:pt x="314" y="106"/>
                  <a:pt x="309" y="87"/>
                  <a:pt x="308" y="83"/>
                </a:cubicBezTo>
                <a:cubicBezTo>
                  <a:pt x="305" y="73"/>
                  <a:pt x="328" y="87"/>
                  <a:pt x="338" y="89"/>
                </a:cubicBezTo>
                <a:cubicBezTo>
                  <a:pt x="347" y="90"/>
                  <a:pt x="356" y="91"/>
                  <a:pt x="365" y="92"/>
                </a:cubicBezTo>
                <a:cubicBezTo>
                  <a:pt x="372" y="113"/>
                  <a:pt x="377" y="108"/>
                  <a:pt x="362" y="113"/>
                </a:cubicBezTo>
                <a:cubicBezTo>
                  <a:pt x="319" y="102"/>
                  <a:pt x="352" y="99"/>
                  <a:pt x="374" y="77"/>
                </a:cubicBezTo>
                <a:cubicBezTo>
                  <a:pt x="364" y="48"/>
                  <a:pt x="356" y="94"/>
                  <a:pt x="356" y="98"/>
                </a:cubicBezTo>
                <a:cubicBezTo>
                  <a:pt x="366" y="128"/>
                  <a:pt x="355" y="125"/>
                  <a:pt x="326" y="122"/>
                </a:cubicBezTo>
                <a:cubicBezTo>
                  <a:pt x="313" y="113"/>
                  <a:pt x="313" y="107"/>
                  <a:pt x="317" y="92"/>
                </a:cubicBezTo>
                <a:cubicBezTo>
                  <a:pt x="313" y="76"/>
                  <a:pt x="312" y="72"/>
                  <a:pt x="296" y="68"/>
                </a:cubicBezTo>
                <a:cubicBezTo>
                  <a:pt x="279" y="72"/>
                  <a:pt x="275" y="84"/>
                  <a:pt x="266" y="65"/>
                </a:cubicBezTo>
                <a:cubicBezTo>
                  <a:pt x="283" y="43"/>
                  <a:pt x="282" y="61"/>
                  <a:pt x="305" y="53"/>
                </a:cubicBezTo>
                <a:cubicBezTo>
                  <a:pt x="314" y="27"/>
                  <a:pt x="294" y="73"/>
                  <a:pt x="287" y="80"/>
                </a:cubicBezTo>
                <a:cubicBezTo>
                  <a:pt x="300" y="89"/>
                  <a:pt x="311" y="82"/>
                  <a:pt x="326" y="77"/>
                </a:cubicBezTo>
                <a:cubicBezTo>
                  <a:pt x="332" y="65"/>
                  <a:pt x="330" y="54"/>
                  <a:pt x="344" y="59"/>
                </a:cubicBezTo>
                <a:cubicBezTo>
                  <a:pt x="347" y="63"/>
                  <a:pt x="351" y="67"/>
                  <a:pt x="353" y="71"/>
                </a:cubicBezTo>
                <a:cubicBezTo>
                  <a:pt x="355" y="74"/>
                  <a:pt x="353" y="79"/>
                  <a:pt x="356" y="80"/>
                </a:cubicBezTo>
                <a:cubicBezTo>
                  <a:pt x="361" y="81"/>
                  <a:pt x="404" y="75"/>
                  <a:pt x="413" y="74"/>
                </a:cubicBezTo>
                <a:cubicBezTo>
                  <a:pt x="416" y="72"/>
                  <a:pt x="418" y="68"/>
                  <a:pt x="422" y="68"/>
                </a:cubicBezTo>
                <a:cubicBezTo>
                  <a:pt x="431" y="69"/>
                  <a:pt x="449" y="77"/>
                  <a:pt x="449" y="77"/>
                </a:cubicBezTo>
                <a:cubicBezTo>
                  <a:pt x="444" y="114"/>
                  <a:pt x="460" y="139"/>
                  <a:pt x="422" y="101"/>
                </a:cubicBezTo>
                <a:cubicBezTo>
                  <a:pt x="420" y="93"/>
                  <a:pt x="419" y="85"/>
                  <a:pt x="416" y="77"/>
                </a:cubicBezTo>
                <a:cubicBezTo>
                  <a:pt x="415" y="74"/>
                  <a:pt x="409" y="71"/>
                  <a:pt x="410" y="68"/>
                </a:cubicBezTo>
                <a:cubicBezTo>
                  <a:pt x="413" y="60"/>
                  <a:pt x="428" y="50"/>
                  <a:pt x="428" y="50"/>
                </a:cubicBezTo>
                <a:cubicBezTo>
                  <a:pt x="427" y="63"/>
                  <a:pt x="416" y="83"/>
                  <a:pt x="428" y="89"/>
                </a:cubicBezTo>
                <a:cubicBezTo>
                  <a:pt x="431" y="90"/>
                  <a:pt x="437" y="83"/>
                  <a:pt x="437" y="86"/>
                </a:cubicBezTo>
                <a:cubicBezTo>
                  <a:pt x="437" y="93"/>
                  <a:pt x="418" y="93"/>
                  <a:pt x="404" y="95"/>
                </a:cubicBezTo>
                <a:cubicBezTo>
                  <a:pt x="386" y="101"/>
                  <a:pt x="398" y="116"/>
                  <a:pt x="386" y="98"/>
                </a:cubicBezTo>
                <a:cubicBezTo>
                  <a:pt x="396" y="63"/>
                  <a:pt x="395" y="87"/>
                  <a:pt x="413" y="62"/>
                </a:cubicBezTo>
                <a:cubicBezTo>
                  <a:pt x="418" y="46"/>
                  <a:pt x="406" y="19"/>
                  <a:pt x="428" y="26"/>
                </a:cubicBezTo>
                <a:cubicBezTo>
                  <a:pt x="441" y="17"/>
                  <a:pt x="446" y="24"/>
                  <a:pt x="458" y="32"/>
                </a:cubicBezTo>
                <a:cubicBezTo>
                  <a:pt x="538" y="27"/>
                  <a:pt x="501" y="32"/>
                  <a:pt x="464" y="44"/>
                </a:cubicBezTo>
                <a:cubicBezTo>
                  <a:pt x="454" y="23"/>
                  <a:pt x="439" y="33"/>
                  <a:pt x="422" y="44"/>
                </a:cubicBezTo>
                <a:cubicBezTo>
                  <a:pt x="409" y="25"/>
                  <a:pt x="406" y="46"/>
                  <a:pt x="404" y="59"/>
                </a:cubicBezTo>
                <a:cubicBezTo>
                  <a:pt x="397" y="57"/>
                  <a:pt x="374" y="51"/>
                  <a:pt x="374" y="50"/>
                </a:cubicBezTo>
                <a:cubicBezTo>
                  <a:pt x="371" y="36"/>
                  <a:pt x="396" y="26"/>
                  <a:pt x="404" y="23"/>
                </a:cubicBezTo>
                <a:cubicBezTo>
                  <a:pt x="396" y="0"/>
                  <a:pt x="391" y="15"/>
                  <a:pt x="386" y="32"/>
                </a:cubicBezTo>
                <a:cubicBezTo>
                  <a:pt x="388" y="49"/>
                  <a:pt x="393" y="70"/>
                  <a:pt x="371" y="56"/>
                </a:cubicBezTo>
                <a:cubicBezTo>
                  <a:pt x="367" y="40"/>
                  <a:pt x="367" y="45"/>
                  <a:pt x="371" y="26"/>
                </a:cubicBezTo>
                <a:cubicBezTo>
                  <a:pt x="372" y="23"/>
                  <a:pt x="374" y="14"/>
                  <a:pt x="374" y="17"/>
                </a:cubicBezTo>
                <a:cubicBezTo>
                  <a:pt x="374" y="30"/>
                  <a:pt x="369" y="45"/>
                  <a:pt x="362" y="56"/>
                </a:cubicBezTo>
                <a:cubicBezTo>
                  <a:pt x="369" y="90"/>
                  <a:pt x="358" y="62"/>
                  <a:pt x="413" y="68"/>
                </a:cubicBezTo>
                <a:cubicBezTo>
                  <a:pt x="421" y="69"/>
                  <a:pt x="425" y="79"/>
                  <a:pt x="431" y="83"/>
                </a:cubicBezTo>
                <a:cubicBezTo>
                  <a:pt x="459" y="76"/>
                  <a:pt x="454" y="78"/>
                  <a:pt x="476" y="89"/>
                </a:cubicBezTo>
                <a:cubicBezTo>
                  <a:pt x="491" y="82"/>
                  <a:pt x="495" y="70"/>
                  <a:pt x="500" y="89"/>
                </a:cubicBezTo>
                <a:cubicBezTo>
                  <a:pt x="498" y="93"/>
                  <a:pt x="498" y="99"/>
                  <a:pt x="494" y="101"/>
                </a:cubicBezTo>
                <a:cubicBezTo>
                  <a:pt x="488" y="103"/>
                  <a:pt x="482" y="99"/>
                  <a:pt x="476" y="98"/>
                </a:cubicBezTo>
                <a:cubicBezTo>
                  <a:pt x="473" y="97"/>
                  <a:pt x="467" y="92"/>
                  <a:pt x="467" y="95"/>
                </a:cubicBezTo>
                <a:cubicBezTo>
                  <a:pt x="467" y="105"/>
                  <a:pt x="487" y="103"/>
                  <a:pt x="497" y="104"/>
                </a:cubicBezTo>
                <a:cubicBezTo>
                  <a:pt x="514" y="95"/>
                  <a:pt x="515" y="91"/>
                  <a:pt x="527" y="107"/>
                </a:cubicBezTo>
                <a:cubicBezTo>
                  <a:pt x="523" y="108"/>
                  <a:pt x="519" y="111"/>
                  <a:pt x="515" y="110"/>
                </a:cubicBezTo>
                <a:cubicBezTo>
                  <a:pt x="511" y="109"/>
                  <a:pt x="510" y="104"/>
                  <a:pt x="506" y="104"/>
                </a:cubicBezTo>
                <a:cubicBezTo>
                  <a:pt x="499" y="104"/>
                  <a:pt x="494" y="111"/>
                  <a:pt x="488" y="113"/>
                </a:cubicBezTo>
                <a:cubicBezTo>
                  <a:pt x="461" y="110"/>
                  <a:pt x="450" y="112"/>
                  <a:pt x="467" y="89"/>
                </a:cubicBezTo>
                <a:cubicBezTo>
                  <a:pt x="487" y="94"/>
                  <a:pt x="521" y="78"/>
                  <a:pt x="542" y="74"/>
                </a:cubicBezTo>
                <a:cubicBezTo>
                  <a:pt x="544" y="68"/>
                  <a:pt x="542" y="56"/>
                  <a:pt x="548" y="56"/>
                </a:cubicBezTo>
                <a:cubicBezTo>
                  <a:pt x="563" y="56"/>
                  <a:pt x="550" y="86"/>
                  <a:pt x="551" y="89"/>
                </a:cubicBezTo>
                <a:cubicBezTo>
                  <a:pt x="552" y="92"/>
                  <a:pt x="557" y="87"/>
                  <a:pt x="560" y="86"/>
                </a:cubicBezTo>
                <a:cubicBezTo>
                  <a:pt x="554" y="105"/>
                  <a:pt x="526" y="102"/>
                  <a:pt x="509" y="104"/>
                </a:cubicBezTo>
                <a:cubicBezTo>
                  <a:pt x="505" y="103"/>
                  <a:pt x="498" y="105"/>
                  <a:pt x="497" y="101"/>
                </a:cubicBezTo>
                <a:cubicBezTo>
                  <a:pt x="494" y="91"/>
                  <a:pt x="510" y="96"/>
                  <a:pt x="524" y="98"/>
                </a:cubicBezTo>
                <a:cubicBezTo>
                  <a:pt x="532" y="99"/>
                  <a:pt x="540" y="100"/>
                  <a:pt x="548" y="101"/>
                </a:cubicBezTo>
                <a:cubicBezTo>
                  <a:pt x="569" y="98"/>
                  <a:pt x="591" y="84"/>
                  <a:pt x="599" y="107"/>
                </a:cubicBezTo>
                <a:cubicBezTo>
                  <a:pt x="615" y="84"/>
                  <a:pt x="581" y="101"/>
                  <a:pt x="572" y="107"/>
                </a:cubicBezTo>
                <a:cubicBezTo>
                  <a:pt x="557" y="104"/>
                  <a:pt x="543" y="104"/>
                  <a:pt x="530" y="95"/>
                </a:cubicBezTo>
                <a:cubicBezTo>
                  <a:pt x="536" y="71"/>
                  <a:pt x="527" y="92"/>
                  <a:pt x="557" y="80"/>
                </a:cubicBezTo>
                <a:cubicBezTo>
                  <a:pt x="560" y="79"/>
                  <a:pt x="569" y="60"/>
                  <a:pt x="569" y="59"/>
                </a:cubicBezTo>
                <a:cubicBezTo>
                  <a:pt x="573" y="36"/>
                  <a:pt x="574" y="14"/>
                  <a:pt x="584" y="56"/>
                </a:cubicBezTo>
                <a:cubicBezTo>
                  <a:pt x="586" y="64"/>
                  <a:pt x="600" y="58"/>
                  <a:pt x="608" y="59"/>
                </a:cubicBezTo>
                <a:cubicBezTo>
                  <a:pt x="618" y="121"/>
                  <a:pt x="596" y="21"/>
                  <a:pt x="641" y="71"/>
                </a:cubicBezTo>
                <a:cubicBezTo>
                  <a:pt x="650" y="81"/>
                  <a:pt x="643" y="99"/>
                  <a:pt x="644" y="113"/>
                </a:cubicBezTo>
                <a:cubicBezTo>
                  <a:pt x="657" y="93"/>
                  <a:pt x="641" y="113"/>
                  <a:pt x="632" y="116"/>
                </a:cubicBezTo>
                <a:cubicBezTo>
                  <a:pt x="615" y="114"/>
                  <a:pt x="603" y="109"/>
                  <a:pt x="587" y="113"/>
                </a:cubicBezTo>
                <a:cubicBezTo>
                  <a:pt x="586" y="119"/>
                  <a:pt x="580" y="127"/>
                  <a:pt x="584" y="131"/>
                </a:cubicBezTo>
                <a:cubicBezTo>
                  <a:pt x="591" y="138"/>
                  <a:pt x="593" y="113"/>
                  <a:pt x="602" y="110"/>
                </a:cubicBezTo>
                <a:cubicBezTo>
                  <a:pt x="613" y="107"/>
                  <a:pt x="624" y="108"/>
                  <a:pt x="635" y="107"/>
                </a:cubicBezTo>
                <a:cubicBezTo>
                  <a:pt x="629" y="67"/>
                  <a:pt x="637" y="77"/>
                  <a:pt x="611" y="86"/>
                </a:cubicBezTo>
                <a:cubicBezTo>
                  <a:pt x="587" y="80"/>
                  <a:pt x="598" y="72"/>
                  <a:pt x="614" y="68"/>
                </a:cubicBezTo>
                <a:cubicBezTo>
                  <a:pt x="638" y="52"/>
                  <a:pt x="609" y="63"/>
                  <a:pt x="602" y="68"/>
                </a:cubicBezTo>
                <a:cubicBezTo>
                  <a:pt x="593" y="87"/>
                  <a:pt x="586" y="83"/>
                  <a:pt x="566" y="80"/>
                </a:cubicBezTo>
                <a:cubicBezTo>
                  <a:pt x="600" y="57"/>
                  <a:pt x="583" y="65"/>
                  <a:pt x="617" y="56"/>
                </a:cubicBezTo>
                <a:cubicBezTo>
                  <a:pt x="631" y="35"/>
                  <a:pt x="614" y="36"/>
                  <a:pt x="593" y="29"/>
                </a:cubicBezTo>
                <a:cubicBezTo>
                  <a:pt x="581" y="30"/>
                  <a:pt x="567" y="26"/>
                  <a:pt x="557" y="32"/>
                </a:cubicBezTo>
                <a:cubicBezTo>
                  <a:pt x="538" y="43"/>
                  <a:pt x="555" y="61"/>
                  <a:pt x="533" y="68"/>
                </a:cubicBezTo>
                <a:cubicBezTo>
                  <a:pt x="525" y="80"/>
                  <a:pt x="522" y="86"/>
                  <a:pt x="509" y="77"/>
                </a:cubicBezTo>
                <a:cubicBezTo>
                  <a:pt x="507" y="73"/>
                  <a:pt x="503" y="69"/>
                  <a:pt x="503" y="65"/>
                </a:cubicBezTo>
                <a:cubicBezTo>
                  <a:pt x="503" y="61"/>
                  <a:pt x="510" y="59"/>
                  <a:pt x="509" y="56"/>
                </a:cubicBezTo>
                <a:cubicBezTo>
                  <a:pt x="507" y="49"/>
                  <a:pt x="497" y="51"/>
                  <a:pt x="491" y="47"/>
                </a:cubicBezTo>
                <a:cubicBezTo>
                  <a:pt x="489" y="51"/>
                  <a:pt x="489" y="56"/>
                  <a:pt x="485" y="59"/>
                </a:cubicBezTo>
                <a:cubicBezTo>
                  <a:pt x="481" y="62"/>
                  <a:pt x="465" y="62"/>
                  <a:pt x="470" y="62"/>
                </a:cubicBezTo>
                <a:cubicBezTo>
                  <a:pt x="496" y="64"/>
                  <a:pt x="522" y="64"/>
                  <a:pt x="548" y="65"/>
                </a:cubicBezTo>
                <a:cubicBezTo>
                  <a:pt x="551" y="69"/>
                  <a:pt x="553" y="80"/>
                  <a:pt x="557" y="77"/>
                </a:cubicBezTo>
                <a:cubicBezTo>
                  <a:pt x="563" y="72"/>
                  <a:pt x="563" y="53"/>
                  <a:pt x="563" y="53"/>
                </a:cubicBezTo>
                <a:cubicBezTo>
                  <a:pt x="545" y="41"/>
                  <a:pt x="536" y="29"/>
                  <a:pt x="560" y="17"/>
                </a:cubicBezTo>
                <a:cubicBezTo>
                  <a:pt x="563" y="19"/>
                  <a:pt x="567" y="20"/>
                  <a:pt x="569" y="23"/>
                </a:cubicBezTo>
                <a:cubicBezTo>
                  <a:pt x="572" y="28"/>
                  <a:pt x="569" y="38"/>
                  <a:pt x="575" y="41"/>
                </a:cubicBezTo>
                <a:cubicBezTo>
                  <a:pt x="604" y="55"/>
                  <a:pt x="572" y="42"/>
                  <a:pt x="566" y="41"/>
                </a:cubicBezTo>
                <a:cubicBezTo>
                  <a:pt x="569" y="24"/>
                  <a:pt x="571" y="21"/>
                  <a:pt x="587" y="26"/>
                </a:cubicBezTo>
                <a:cubicBezTo>
                  <a:pt x="571" y="33"/>
                  <a:pt x="561" y="43"/>
                  <a:pt x="545" y="47"/>
                </a:cubicBezTo>
                <a:cubicBezTo>
                  <a:pt x="525" y="43"/>
                  <a:pt x="520" y="41"/>
                  <a:pt x="524" y="20"/>
                </a:cubicBezTo>
                <a:cubicBezTo>
                  <a:pt x="544" y="27"/>
                  <a:pt x="557" y="34"/>
                  <a:pt x="578" y="29"/>
                </a:cubicBezTo>
                <a:cubicBezTo>
                  <a:pt x="584" y="54"/>
                  <a:pt x="579" y="51"/>
                  <a:pt x="611" y="47"/>
                </a:cubicBezTo>
                <a:cubicBezTo>
                  <a:pt x="626" y="68"/>
                  <a:pt x="614" y="72"/>
                  <a:pt x="644" y="68"/>
                </a:cubicBezTo>
                <a:cubicBezTo>
                  <a:pt x="670" y="50"/>
                  <a:pt x="630" y="75"/>
                  <a:pt x="647" y="86"/>
                </a:cubicBezTo>
                <a:cubicBezTo>
                  <a:pt x="656" y="92"/>
                  <a:pt x="669" y="82"/>
                  <a:pt x="680" y="80"/>
                </a:cubicBezTo>
                <a:cubicBezTo>
                  <a:pt x="668" y="115"/>
                  <a:pt x="700" y="102"/>
                  <a:pt x="725" y="98"/>
                </a:cubicBezTo>
                <a:cubicBezTo>
                  <a:pt x="688" y="110"/>
                  <a:pt x="732" y="112"/>
                  <a:pt x="659" y="107"/>
                </a:cubicBezTo>
                <a:cubicBezTo>
                  <a:pt x="648" y="90"/>
                  <a:pt x="653" y="106"/>
                  <a:pt x="680" y="101"/>
                </a:cubicBezTo>
                <a:cubicBezTo>
                  <a:pt x="682" y="95"/>
                  <a:pt x="688" y="89"/>
                  <a:pt x="686" y="83"/>
                </a:cubicBezTo>
                <a:cubicBezTo>
                  <a:pt x="685" y="80"/>
                  <a:pt x="680" y="75"/>
                  <a:pt x="683" y="74"/>
                </a:cubicBezTo>
                <a:cubicBezTo>
                  <a:pt x="686" y="72"/>
                  <a:pt x="689" y="78"/>
                  <a:pt x="692" y="80"/>
                </a:cubicBezTo>
                <a:cubicBezTo>
                  <a:pt x="694" y="88"/>
                  <a:pt x="697" y="101"/>
                  <a:pt x="698" y="101"/>
                </a:cubicBezTo>
                <a:cubicBezTo>
                  <a:pt x="713" y="101"/>
                  <a:pt x="723" y="93"/>
                  <a:pt x="734" y="86"/>
                </a:cubicBezTo>
                <a:cubicBezTo>
                  <a:pt x="728" y="103"/>
                  <a:pt x="742" y="100"/>
                  <a:pt x="749" y="89"/>
                </a:cubicBezTo>
                <a:cubicBezTo>
                  <a:pt x="759" y="118"/>
                  <a:pt x="724" y="111"/>
                  <a:pt x="704" y="113"/>
                </a:cubicBezTo>
                <a:cubicBezTo>
                  <a:pt x="694" y="116"/>
                  <a:pt x="687" y="122"/>
                  <a:pt x="677" y="125"/>
                </a:cubicBezTo>
                <a:cubicBezTo>
                  <a:pt x="665" y="113"/>
                  <a:pt x="663" y="116"/>
                  <a:pt x="650" y="125"/>
                </a:cubicBezTo>
                <a:cubicBezTo>
                  <a:pt x="643" y="105"/>
                  <a:pt x="593" y="122"/>
                  <a:pt x="575" y="128"/>
                </a:cubicBezTo>
                <a:cubicBezTo>
                  <a:pt x="547" y="121"/>
                  <a:pt x="557" y="127"/>
                  <a:pt x="557" y="92"/>
                </a:cubicBezTo>
                <a:cubicBezTo>
                  <a:pt x="557" y="89"/>
                  <a:pt x="556" y="99"/>
                  <a:pt x="554" y="101"/>
                </a:cubicBezTo>
                <a:cubicBezTo>
                  <a:pt x="549" y="107"/>
                  <a:pt x="540" y="108"/>
                  <a:pt x="533" y="110"/>
                </a:cubicBezTo>
                <a:cubicBezTo>
                  <a:pt x="517" y="122"/>
                  <a:pt x="516" y="114"/>
                  <a:pt x="500" y="119"/>
                </a:cubicBezTo>
                <a:cubicBezTo>
                  <a:pt x="476" y="103"/>
                  <a:pt x="507" y="128"/>
                  <a:pt x="494" y="95"/>
                </a:cubicBezTo>
                <a:cubicBezTo>
                  <a:pt x="493" y="92"/>
                  <a:pt x="488" y="97"/>
                  <a:pt x="485" y="98"/>
                </a:cubicBezTo>
                <a:cubicBezTo>
                  <a:pt x="477" y="102"/>
                  <a:pt x="461" y="110"/>
                  <a:pt x="461" y="110"/>
                </a:cubicBezTo>
                <a:cubicBezTo>
                  <a:pt x="459" y="113"/>
                  <a:pt x="459" y="119"/>
                  <a:pt x="455" y="119"/>
                </a:cubicBezTo>
                <a:cubicBezTo>
                  <a:pt x="449" y="120"/>
                  <a:pt x="443" y="115"/>
                  <a:pt x="437" y="113"/>
                </a:cubicBezTo>
                <a:cubicBezTo>
                  <a:pt x="434" y="112"/>
                  <a:pt x="428" y="110"/>
                  <a:pt x="428" y="110"/>
                </a:cubicBezTo>
                <a:cubicBezTo>
                  <a:pt x="404" y="126"/>
                  <a:pt x="434" y="110"/>
                  <a:pt x="410" y="110"/>
                </a:cubicBezTo>
                <a:cubicBezTo>
                  <a:pt x="403" y="110"/>
                  <a:pt x="396" y="116"/>
                  <a:pt x="389" y="116"/>
                </a:cubicBezTo>
              </a:path>
            </a:pathLst>
          </a:custGeom>
          <a:solidFill>
            <a:srgbClr val="99ff99"/>
          </a:solidFill>
          <a:ln w="648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6578360" y="17121240"/>
            <a:ext cx="1204920" cy="220680"/>
          </a:xfrm>
          <a:custGeom>
            <a:avLst/>
            <a:gdLst/>
            <a:ahLst/>
            <a:rect l="l" t="t" r="r" b="b"/>
            <a:pathLst>
              <a:path w="759" h="139">
                <a:moveTo>
                  <a:pt x="35" y="119"/>
                </a:moveTo>
                <a:cubicBezTo>
                  <a:pt x="0" y="128"/>
                  <a:pt x="15" y="116"/>
                  <a:pt x="35" y="110"/>
                </a:cubicBezTo>
                <a:cubicBezTo>
                  <a:pt x="38" y="109"/>
                  <a:pt x="41" y="108"/>
                  <a:pt x="44" y="107"/>
                </a:cubicBezTo>
                <a:cubicBezTo>
                  <a:pt x="59" y="117"/>
                  <a:pt x="61" y="108"/>
                  <a:pt x="71" y="95"/>
                </a:cubicBezTo>
                <a:cubicBezTo>
                  <a:pt x="76" y="100"/>
                  <a:pt x="88" y="108"/>
                  <a:pt x="83" y="113"/>
                </a:cubicBezTo>
                <a:cubicBezTo>
                  <a:pt x="79" y="117"/>
                  <a:pt x="73" y="115"/>
                  <a:pt x="68" y="116"/>
                </a:cubicBezTo>
                <a:cubicBezTo>
                  <a:pt x="65" y="117"/>
                  <a:pt x="59" y="122"/>
                  <a:pt x="59" y="119"/>
                </a:cubicBezTo>
                <a:cubicBezTo>
                  <a:pt x="59" y="115"/>
                  <a:pt x="65" y="114"/>
                  <a:pt x="68" y="113"/>
                </a:cubicBezTo>
                <a:cubicBezTo>
                  <a:pt x="72" y="111"/>
                  <a:pt x="76" y="111"/>
                  <a:pt x="80" y="110"/>
                </a:cubicBezTo>
                <a:cubicBezTo>
                  <a:pt x="82" y="107"/>
                  <a:pt x="82" y="102"/>
                  <a:pt x="86" y="101"/>
                </a:cubicBezTo>
                <a:cubicBezTo>
                  <a:pt x="97" y="99"/>
                  <a:pt x="94" y="112"/>
                  <a:pt x="98" y="116"/>
                </a:cubicBezTo>
                <a:cubicBezTo>
                  <a:pt x="100" y="118"/>
                  <a:pt x="110" y="119"/>
                  <a:pt x="107" y="119"/>
                </a:cubicBezTo>
                <a:cubicBezTo>
                  <a:pt x="101" y="119"/>
                  <a:pt x="95" y="117"/>
                  <a:pt x="89" y="116"/>
                </a:cubicBezTo>
                <a:cubicBezTo>
                  <a:pt x="101" y="108"/>
                  <a:pt x="111" y="111"/>
                  <a:pt x="119" y="98"/>
                </a:cubicBezTo>
                <a:cubicBezTo>
                  <a:pt x="103" y="93"/>
                  <a:pt x="102" y="108"/>
                  <a:pt x="92" y="92"/>
                </a:cubicBezTo>
                <a:cubicBezTo>
                  <a:pt x="106" y="88"/>
                  <a:pt x="111" y="92"/>
                  <a:pt x="125" y="95"/>
                </a:cubicBezTo>
                <a:cubicBezTo>
                  <a:pt x="131" y="78"/>
                  <a:pt x="128" y="93"/>
                  <a:pt x="107" y="83"/>
                </a:cubicBezTo>
                <a:cubicBezTo>
                  <a:pt x="113" y="81"/>
                  <a:pt x="120" y="70"/>
                  <a:pt x="125" y="74"/>
                </a:cubicBezTo>
                <a:cubicBezTo>
                  <a:pt x="129" y="77"/>
                  <a:pt x="124" y="85"/>
                  <a:pt x="128" y="89"/>
                </a:cubicBezTo>
                <a:cubicBezTo>
                  <a:pt x="135" y="96"/>
                  <a:pt x="155" y="98"/>
                  <a:pt x="155" y="98"/>
                </a:cubicBezTo>
                <a:cubicBezTo>
                  <a:pt x="145" y="113"/>
                  <a:pt x="129" y="108"/>
                  <a:pt x="113" y="116"/>
                </a:cubicBezTo>
                <a:cubicBezTo>
                  <a:pt x="103" y="130"/>
                  <a:pt x="97" y="123"/>
                  <a:pt x="83" y="116"/>
                </a:cubicBezTo>
                <a:cubicBezTo>
                  <a:pt x="63" y="123"/>
                  <a:pt x="88" y="123"/>
                  <a:pt x="95" y="125"/>
                </a:cubicBezTo>
                <a:cubicBezTo>
                  <a:pt x="124" y="122"/>
                  <a:pt x="139" y="119"/>
                  <a:pt x="164" y="107"/>
                </a:cubicBezTo>
                <a:cubicBezTo>
                  <a:pt x="157" y="85"/>
                  <a:pt x="160" y="114"/>
                  <a:pt x="146" y="92"/>
                </a:cubicBezTo>
                <a:cubicBezTo>
                  <a:pt x="157" y="88"/>
                  <a:pt x="169" y="91"/>
                  <a:pt x="179" y="86"/>
                </a:cubicBezTo>
                <a:cubicBezTo>
                  <a:pt x="182" y="85"/>
                  <a:pt x="185" y="78"/>
                  <a:pt x="182" y="77"/>
                </a:cubicBezTo>
                <a:cubicBezTo>
                  <a:pt x="175" y="75"/>
                  <a:pt x="168" y="79"/>
                  <a:pt x="161" y="80"/>
                </a:cubicBezTo>
                <a:cubicBezTo>
                  <a:pt x="158" y="79"/>
                  <a:pt x="155" y="78"/>
                  <a:pt x="152" y="77"/>
                </a:cubicBezTo>
                <a:cubicBezTo>
                  <a:pt x="148" y="76"/>
                  <a:pt x="154" y="86"/>
                  <a:pt x="158" y="89"/>
                </a:cubicBezTo>
                <a:cubicBezTo>
                  <a:pt x="163" y="93"/>
                  <a:pt x="170" y="93"/>
                  <a:pt x="176" y="95"/>
                </a:cubicBezTo>
                <a:cubicBezTo>
                  <a:pt x="180" y="107"/>
                  <a:pt x="187" y="105"/>
                  <a:pt x="194" y="116"/>
                </a:cubicBezTo>
                <a:cubicBezTo>
                  <a:pt x="181" y="120"/>
                  <a:pt x="176" y="113"/>
                  <a:pt x="164" y="107"/>
                </a:cubicBezTo>
                <a:cubicBezTo>
                  <a:pt x="185" y="106"/>
                  <a:pt x="207" y="110"/>
                  <a:pt x="227" y="104"/>
                </a:cubicBezTo>
                <a:cubicBezTo>
                  <a:pt x="232" y="103"/>
                  <a:pt x="228" y="92"/>
                  <a:pt x="224" y="89"/>
                </a:cubicBezTo>
                <a:cubicBezTo>
                  <a:pt x="221" y="86"/>
                  <a:pt x="216" y="91"/>
                  <a:pt x="212" y="92"/>
                </a:cubicBezTo>
                <a:cubicBezTo>
                  <a:pt x="209" y="94"/>
                  <a:pt x="178" y="115"/>
                  <a:pt x="203" y="107"/>
                </a:cubicBezTo>
                <a:cubicBezTo>
                  <a:pt x="217" y="116"/>
                  <a:pt x="259" y="121"/>
                  <a:pt x="236" y="98"/>
                </a:cubicBezTo>
                <a:cubicBezTo>
                  <a:pt x="208" y="103"/>
                  <a:pt x="217" y="94"/>
                  <a:pt x="209" y="71"/>
                </a:cubicBezTo>
                <a:cubicBezTo>
                  <a:pt x="195" y="76"/>
                  <a:pt x="195" y="83"/>
                  <a:pt x="182" y="74"/>
                </a:cubicBezTo>
                <a:cubicBezTo>
                  <a:pt x="177" y="59"/>
                  <a:pt x="187" y="62"/>
                  <a:pt x="200" y="59"/>
                </a:cubicBezTo>
                <a:cubicBezTo>
                  <a:pt x="209" y="33"/>
                  <a:pt x="161" y="65"/>
                  <a:pt x="188" y="56"/>
                </a:cubicBezTo>
                <a:cubicBezTo>
                  <a:pt x="204" y="59"/>
                  <a:pt x="211" y="61"/>
                  <a:pt x="221" y="47"/>
                </a:cubicBezTo>
                <a:cubicBezTo>
                  <a:pt x="232" y="79"/>
                  <a:pt x="211" y="87"/>
                  <a:pt x="254" y="77"/>
                </a:cubicBezTo>
                <a:cubicBezTo>
                  <a:pt x="236" y="73"/>
                  <a:pt x="234" y="64"/>
                  <a:pt x="221" y="77"/>
                </a:cubicBezTo>
                <a:cubicBezTo>
                  <a:pt x="225" y="78"/>
                  <a:pt x="278" y="86"/>
                  <a:pt x="281" y="89"/>
                </a:cubicBezTo>
                <a:cubicBezTo>
                  <a:pt x="284" y="92"/>
                  <a:pt x="278" y="98"/>
                  <a:pt x="275" y="101"/>
                </a:cubicBezTo>
                <a:cubicBezTo>
                  <a:pt x="267" y="109"/>
                  <a:pt x="246" y="116"/>
                  <a:pt x="236" y="119"/>
                </a:cubicBezTo>
                <a:cubicBezTo>
                  <a:pt x="200" y="95"/>
                  <a:pt x="236" y="111"/>
                  <a:pt x="203" y="119"/>
                </a:cubicBezTo>
                <a:cubicBezTo>
                  <a:pt x="214" y="102"/>
                  <a:pt x="204" y="111"/>
                  <a:pt x="233" y="116"/>
                </a:cubicBezTo>
                <a:cubicBezTo>
                  <a:pt x="245" y="118"/>
                  <a:pt x="269" y="122"/>
                  <a:pt x="269" y="122"/>
                </a:cubicBezTo>
                <a:cubicBezTo>
                  <a:pt x="286" y="116"/>
                  <a:pt x="284" y="107"/>
                  <a:pt x="290" y="92"/>
                </a:cubicBezTo>
                <a:cubicBezTo>
                  <a:pt x="291" y="89"/>
                  <a:pt x="299" y="86"/>
                  <a:pt x="296" y="83"/>
                </a:cubicBezTo>
                <a:cubicBezTo>
                  <a:pt x="293" y="80"/>
                  <a:pt x="290" y="87"/>
                  <a:pt x="287" y="89"/>
                </a:cubicBezTo>
                <a:cubicBezTo>
                  <a:pt x="286" y="93"/>
                  <a:pt x="281" y="98"/>
                  <a:pt x="284" y="101"/>
                </a:cubicBezTo>
                <a:cubicBezTo>
                  <a:pt x="287" y="104"/>
                  <a:pt x="292" y="98"/>
                  <a:pt x="296" y="98"/>
                </a:cubicBezTo>
                <a:cubicBezTo>
                  <a:pt x="306" y="98"/>
                  <a:pt x="316" y="100"/>
                  <a:pt x="326" y="101"/>
                </a:cubicBezTo>
                <a:cubicBezTo>
                  <a:pt x="328" y="105"/>
                  <a:pt x="334" y="109"/>
                  <a:pt x="332" y="113"/>
                </a:cubicBezTo>
                <a:cubicBezTo>
                  <a:pt x="330" y="116"/>
                  <a:pt x="323" y="112"/>
                  <a:pt x="320" y="110"/>
                </a:cubicBezTo>
                <a:cubicBezTo>
                  <a:pt x="314" y="106"/>
                  <a:pt x="309" y="87"/>
                  <a:pt x="308" y="83"/>
                </a:cubicBezTo>
                <a:cubicBezTo>
                  <a:pt x="305" y="73"/>
                  <a:pt x="328" y="87"/>
                  <a:pt x="338" y="89"/>
                </a:cubicBezTo>
                <a:cubicBezTo>
                  <a:pt x="347" y="90"/>
                  <a:pt x="356" y="91"/>
                  <a:pt x="365" y="92"/>
                </a:cubicBezTo>
                <a:cubicBezTo>
                  <a:pt x="372" y="113"/>
                  <a:pt x="377" y="108"/>
                  <a:pt x="362" y="113"/>
                </a:cubicBezTo>
                <a:cubicBezTo>
                  <a:pt x="319" y="102"/>
                  <a:pt x="352" y="99"/>
                  <a:pt x="374" y="77"/>
                </a:cubicBezTo>
                <a:cubicBezTo>
                  <a:pt x="364" y="48"/>
                  <a:pt x="356" y="94"/>
                  <a:pt x="356" y="98"/>
                </a:cubicBezTo>
                <a:cubicBezTo>
                  <a:pt x="366" y="128"/>
                  <a:pt x="355" y="125"/>
                  <a:pt x="326" y="122"/>
                </a:cubicBezTo>
                <a:cubicBezTo>
                  <a:pt x="313" y="113"/>
                  <a:pt x="313" y="107"/>
                  <a:pt x="317" y="92"/>
                </a:cubicBezTo>
                <a:cubicBezTo>
                  <a:pt x="313" y="76"/>
                  <a:pt x="312" y="72"/>
                  <a:pt x="296" y="68"/>
                </a:cubicBezTo>
                <a:cubicBezTo>
                  <a:pt x="279" y="72"/>
                  <a:pt x="275" y="84"/>
                  <a:pt x="266" y="65"/>
                </a:cubicBezTo>
                <a:cubicBezTo>
                  <a:pt x="283" y="43"/>
                  <a:pt x="282" y="61"/>
                  <a:pt x="305" y="53"/>
                </a:cubicBezTo>
                <a:cubicBezTo>
                  <a:pt x="314" y="27"/>
                  <a:pt x="294" y="73"/>
                  <a:pt x="287" y="80"/>
                </a:cubicBezTo>
                <a:cubicBezTo>
                  <a:pt x="300" y="89"/>
                  <a:pt x="311" y="82"/>
                  <a:pt x="326" y="77"/>
                </a:cubicBezTo>
                <a:cubicBezTo>
                  <a:pt x="332" y="65"/>
                  <a:pt x="330" y="54"/>
                  <a:pt x="344" y="59"/>
                </a:cubicBezTo>
                <a:cubicBezTo>
                  <a:pt x="347" y="63"/>
                  <a:pt x="351" y="67"/>
                  <a:pt x="353" y="71"/>
                </a:cubicBezTo>
                <a:cubicBezTo>
                  <a:pt x="355" y="74"/>
                  <a:pt x="353" y="79"/>
                  <a:pt x="356" y="80"/>
                </a:cubicBezTo>
                <a:cubicBezTo>
                  <a:pt x="361" y="81"/>
                  <a:pt x="404" y="75"/>
                  <a:pt x="413" y="74"/>
                </a:cubicBezTo>
                <a:cubicBezTo>
                  <a:pt x="416" y="72"/>
                  <a:pt x="418" y="68"/>
                  <a:pt x="422" y="68"/>
                </a:cubicBezTo>
                <a:cubicBezTo>
                  <a:pt x="431" y="69"/>
                  <a:pt x="449" y="77"/>
                  <a:pt x="449" y="77"/>
                </a:cubicBezTo>
                <a:cubicBezTo>
                  <a:pt x="444" y="114"/>
                  <a:pt x="460" y="139"/>
                  <a:pt x="422" y="101"/>
                </a:cubicBezTo>
                <a:cubicBezTo>
                  <a:pt x="420" y="93"/>
                  <a:pt x="419" y="85"/>
                  <a:pt x="416" y="77"/>
                </a:cubicBezTo>
                <a:cubicBezTo>
                  <a:pt x="415" y="74"/>
                  <a:pt x="409" y="71"/>
                  <a:pt x="410" y="68"/>
                </a:cubicBezTo>
                <a:cubicBezTo>
                  <a:pt x="413" y="60"/>
                  <a:pt x="428" y="50"/>
                  <a:pt x="428" y="50"/>
                </a:cubicBezTo>
                <a:cubicBezTo>
                  <a:pt x="427" y="63"/>
                  <a:pt x="416" y="83"/>
                  <a:pt x="428" y="89"/>
                </a:cubicBezTo>
                <a:cubicBezTo>
                  <a:pt x="431" y="90"/>
                  <a:pt x="437" y="83"/>
                  <a:pt x="437" y="86"/>
                </a:cubicBezTo>
                <a:cubicBezTo>
                  <a:pt x="437" y="93"/>
                  <a:pt x="418" y="93"/>
                  <a:pt x="404" y="95"/>
                </a:cubicBezTo>
                <a:cubicBezTo>
                  <a:pt x="386" y="101"/>
                  <a:pt x="398" y="116"/>
                  <a:pt x="386" y="98"/>
                </a:cubicBezTo>
                <a:cubicBezTo>
                  <a:pt x="396" y="63"/>
                  <a:pt x="395" y="87"/>
                  <a:pt x="413" y="62"/>
                </a:cubicBezTo>
                <a:cubicBezTo>
                  <a:pt x="418" y="46"/>
                  <a:pt x="406" y="19"/>
                  <a:pt x="428" y="26"/>
                </a:cubicBezTo>
                <a:cubicBezTo>
                  <a:pt x="441" y="17"/>
                  <a:pt x="446" y="24"/>
                  <a:pt x="458" y="32"/>
                </a:cubicBezTo>
                <a:cubicBezTo>
                  <a:pt x="538" y="27"/>
                  <a:pt x="501" y="32"/>
                  <a:pt x="464" y="44"/>
                </a:cubicBezTo>
                <a:cubicBezTo>
                  <a:pt x="454" y="23"/>
                  <a:pt x="439" y="33"/>
                  <a:pt x="422" y="44"/>
                </a:cubicBezTo>
                <a:cubicBezTo>
                  <a:pt x="409" y="25"/>
                  <a:pt x="406" y="46"/>
                  <a:pt x="404" y="59"/>
                </a:cubicBezTo>
                <a:cubicBezTo>
                  <a:pt x="397" y="57"/>
                  <a:pt x="374" y="51"/>
                  <a:pt x="374" y="50"/>
                </a:cubicBezTo>
                <a:cubicBezTo>
                  <a:pt x="371" y="36"/>
                  <a:pt x="396" y="26"/>
                  <a:pt x="404" y="23"/>
                </a:cubicBezTo>
                <a:cubicBezTo>
                  <a:pt x="396" y="0"/>
                  <a:pt x="391" y="15"/>
                  <a:pt x="386" y="32"/>
                </a:cubicBezTo>
                <a:cubicBezTo>
                  <a:pt x="388" y="49"/>
                  <a:pt x="393" y="70"/>
                  <a:pt x="371" y="56"/>
                </a:cubicBezTo>
                <a:cubicBezTo>
                  <a:pt x="367" y="40"/>
                  <a:pt x="367" y="45"/>
                  <a:pt x="371" y="26"/>
                </a:cubicBezTo>
                <a:cubicBezTo>
                  <a:pt x="372" y="23"/>
                  <a:pt x="374" y="14"/>
                  <a:pt x="374" y="17"/>
                </a:cubicBezTo>
                <a:cubicBezTo>
                  <a:pt x="374" y="30"/>
                  <a:pt x="369" y="45"/>
                  <a:pt x="362" y="56"/>
                </a:cubicBezTo>
                <a:cubicBezTo>
                  <a:pt x="369" y="90"/>
                  <a:pt x="358" y="62"/>
                  <a:pt x="413" y="68"/>
                </a:cubicBezTo>
                <a:cubicBezTo>
                  <a:pt x="421" y="69"/>
                  <a:pt x="425" y="79"/>
                  <a:pt x="431" y="83"/>
                </a:cubicBezTo>
                <a:cubicBezTo>
                  <a:pt x="459" y="76"/>
                  <a:pt x="454" y="78"/>
                  <a:pt x="476" y="89"/>
                </a:cubicBezTo>
                <a:cubicBezTo>
                  <a:pt x="491" y="82"/>
                  <a:pt x="495" y="70"/>
                  <a:pt x="500" y="89"/>
                </a:cubicBezTo>
                <a:cubicBezTo>
                  <a:pt x="498" y="93"/>
                  <a:pt x="498" y="99"/>
                  <a:pt x="494" y="101"/>
                </a:cubicBezTo>
                <a:cubicBezTo>
                  <a:pt x="488" y="103"/>
                  <a:pt x="482" y="99"/>
                  <a:pt x="476" y="98"/>
                </a:cubicBezTo>
                <a:cubicBezTo>
                  <a:pt x="473" y="97"/>
                  <a:pt x="467" y="92"/>
                  <a:pt x="467" y="95"/>
                </a:cubicBezTo>
                <a:cubicBezTo>
                  <a:pt x="467" y="105"/>
                  <a:pt x="487" y="103"/>
                  <a:pt x="497" y="104"/>
                </a:cubicBezTo>
                <a:cubicBezTo>
                  <a:pt x="514" y="95"/>
                  <a:pt x="515" y="91"/>
                  <a:pt x="527" y="107"/>
                </a:cubicBezTo>
                <a:cubicBezTo>
                  <a:pt x="523" y="108"/>
                  <a:pt x="519" y="111"/>
                  <a:pt x="515" y="110"/>
                </a:cubicBezTo>
                <a:cubicBezTo>
                  <a:pt x="511" y="109"/>
                  <a:pt x="510" y="104"/>
                  <a:pt x="506" y="104"/>
                </a:cubicBezTo>
                <a:cubicBezTo>
                  <a:pt x="499" y="104"/>
                  <a:pt x="494" y="111"/>
                  <a:pt x="488" y="113"/>
                </a:cubicBezTo>
                <a:cubicBezTo>
                  <a:pt x="461" y="110"/>
                  <a:pt x="450" y="112"/>
                  <a:pt x="467" y="89"/>
                </a:cubicBezTo>
                <a:cubicBezTo>
                  <a:pt x="487" y="94"/>
                  <a:pt x="521" y="78"/>
                  <a:pt x="542" y="74"/>
                </a:cubicBezTo>
                <a:cubicBezTo>
                  <a:pt x="544" y="68"/>
                  <a:pt x="542" y="56"/>
                  <a:pt x="548" y="56"/>
                </a:cubicBezTo>
                <a:cubicBezTo>
                  <a:pt x="563" y="56"/>
                  <a:pt x="550" y="86"/>
                  <a:pt x="551" y="89"/>
                </a:cubicBezTo>
                <a:cubicBezTo>
                  <a:pt x="552" y="92"/>
                  <a:pt x="557" y="87"/>
                  <a:pt x="560" y="86"/>
                </a:cubicBezTo>
                <a:cubicBezTo>
                  <a:pt x="554" y="105"/>
                  <a:pt x="526" y="102"/>
                  <a:pt x="509" y="104"/>
                </a:cubicBezTo>
                <a:cubicBezTo>
                  <a:pt x="505" y="103"/>
                  <a:pt x="498" y="105"/>
                  <a:pt x="497" y="101"/>
                </a:cubicBezTo>
                <a:cubicBezTo>
                  <a:pt x="494" y="91"/>
                  <a:pt x="510" y="96"/>
                  <a:pt x="524" y="98"/>
                </a:cubicBezTo>
                <a:cubicBezTo>
                  <a:pt x="532" y="99"/>
                  <a:pt x="540" y="100"/>
                  <a:pt x="548" y="101"/>
                </a:cubicBezTo>
                <a:cubicBezTo>
                  <a:pt x="569" y="98"/>
                  <a:pt x="591" y="84"/>
                  <a:pt x="599" y="107"/>
                </a:cubicBezTo>
                <a:cubicBezTo>
                  <a:pt x="615" y="84"/>
                  <a:pt x="581" y="101"/>
                  <a:pt x="572" y="107"/>
                </a:cubicBezTo>
                <a:cubicBezTo>
                  <a:pt x="557" y="104"/>
                  <a:pt x="543" y="104"/>
                  <a:pt x="530" y="95"/>
                </a:cubicBezTo>
                <a:cubicBezTo>
                  <a:pt x="536" y="71"/>
                  <a:pt x="527" y="92"/>
                  <a:pt x="557" y="80"/>
                </a:cubicBezTo>
                <a:cubicBezTo>
                  <a:pt x="560" y="79"/>
                  <a:pt x="569" y="60"/>
                  <a:pt x="569" y="59"/>
                </a:cubicBezTo>
                <a:cubicBezTo>
                  <a:pt x="573" y="36"/>
                  <a:pt x="574" y="14"/>
                  <a:pt x="584" y="56"/>
                </a:cubicBezTo>
                <a:cubicBezTo>
                  <a:pt x="586" y="64"/>
                  <a:pt x="600" y="58"/>
                  <a:pt x="608" y="59"/>
                </a:cubicBezTo>
                <a:cubicBezTo>
                  <a:pt x="618" y="121"/>
                  <a:pt x="596" y="21"/>
                  <a:pt x="641" y="71"/>
                </a:cubicBezTo>
                <a:cubicBezTo>
                  <a:pt x="650" y="81"/>
                  <a:pt x="643" y="99"/>
                  <a:pt x="644" y="113"/>
                </a:cubicBezTo>
                <a:cubicBezTo>
                  <a:pt x="657" y="93"/>
                  <a:pt x="641" y="113"/>
                  <a:pt x="632" y="116"/>
                </a:cubicBezTo>
                <a:cubicBezTo>
                  <a:pt x="615" y="114"/>
                  <a:pt x="603" y="109"/>
                  <a:pt x="587" y="113"/>
                </a:cubicBezTo>
                <a:cubicBezTo>
                  <a:pt x="586" y="119"/>
                  <a:pt x="580" y="127"/>
                  <a:pt x="584" y="131"/>
                </a:cubicBezTo>
                <a:cubicBezTo>
                  <a:pt x="591" y="138"/>
                  <a:pt x="593" y="113"/>
                  <a:pt x="602" y="110"/>
                </a:cubicBezTo>
                <a:cubicBezTo>
                  <a:pt x="613" y="107"/>
                  <a:pt x="624" y="108"/>
                  <a:pt x="635" y="107"/>
                </a:cubicBezTo>
                <a:cubicBezTo>
                  <a:pt x="629" y="67"/>
                  <a:pt x="637" y="77"/>
                  <a:pt x="611" y="86"/>
                </a:cubicBezTo>
                <a:cubicBezTo>
                  <a:pt x="587" y="80"/>
                  <a:pt x="598" y="72"/>
                  <a:pt x="614" y="68"/>
                </a:cubicBezTo>
                <a:cubicBezTo>
                  <a:pt x="638" y="52"/>
                  <a:pt x="609" y="63"/>
                  <a:pt x="602" y="68"/>
                </a:cubicBezTo>
                <a:cubicBezTo>
                  <a:pt x="593" y="87"/>
                  <a:pt x="586" y="83"/>
                  <a:pt x="566" y="80"/>
                </a:cubicBezTo>
                <a:cubicBezTo>
                  <a:pt x="600" y="57"/>
                  <a:pt x="583" y="65"/>
                  <a:pt x="617" y="56"/>
                </a:cubicBezTo>
                <a:cubicBezTo>
                  <a:pt x="631" y="35"/>
                  <a:pt x="614" y="36"/>
                  <a:pt x="593" y="29"/>
                </a:cubicBezTo>
                <a:cubicBezTo>
                  <a:pt x="581" y="30"/>
                  <a:pt x="567" y="26"/>
                  <a:pt x="557" y="32"/>
                </a:cubicBezTo>
                <a:cubicBezTo>
                  <a:pt x="538" y="43"/>
                  <a:pt x="555" y="61"/>
                  <a:pt x="533" y="68"/>
                </a:cubicBezTo>
                <a:cubicBezTo>
                  <a:pt x="525" y="80"/>
                  <a:pt x="522" y="86"/>
                  <a:pt x="509" y="77"/>
                </a:cubicBezTo>
                <a:cubicBezTo>
                  <a:pt x="507" y="73"/>
                  <a:pt x="503" y="69"/>
                  <a:pt x="503" y="65"/>
                </a:cubicBezTo>
                <a:cubicBezTo>
                  <a:pt x="503" y="61"/>
                  <a:pt x="510" y="59"/>
                  <a:pt x="509" y="56"/>
                </a:cubicBezTo>
                <a:cubicBezTo>
                  <a:pt x="507" y="49"/>
                  <a:pt x="497" y="51"/>
                  <a:pt x="491" y="47"/>
                </a:cubicBezTo>
                <a:cubicBezTo>
                  <a:pt x="489" y="51"/>
                  <a:pt x="489" y="56"/>
                  <a:pt x="485" y="59"/>
                </a:cubicBezTo>
                <a:cubicBezTo>
                  <a:pt x="481" y="62"/>
                  <a:pt x="465" y="62"/>
                  <a:pt x="470" y="62"/>
                </a:cubicBezTo>
                <a:cubicBezTo>
                  <a:pt x="496" y="64"/>
                  <a:pt x="522" y="64"/>
                  <a:pt x="548" y="65"/>
                </a:cubicBezTo>
                <a:cubicBezTo>
                  <a:pt x="551" y="69"/>
                  <a:pt x="553" y="80"/>
                  <a:pt x="557" y="77"/>
                </a:cubicBezTo>
                <a:cubicBezTo>
                  <a:pt x="563" y="72"/>
                  <a:pt x="563" y="53"/>
                  <a:pt x="563" y="53"/>
                </a:cubicBezTo>
                <a:cubicBezTo>
                  <a:pt x="545" y="41"/>
                  <a:pt x="536" y="29"/>
                  <a:pt x="560" y="17"/>
                </a:cubicBezTo>
                <a:cubicBezTo>
                  <a:pt x="563" y="19"/>
                  <a:pt x="567" y="20"/>
                  <a:pt x="569" y="23"/>
                </a:cubicBezTo>
                <a:cubicBezTo>
                  <a:pt x="572" y="28"/>
                  <a:pt x="569" y="38"/>
                  <a:pt x="575" y="41"/>
                </a:cubicBezTo>
                <a:cubicBezTo>
                  <a:pt x="604" y="55"/>
                  <a:pt x="572" y="42"/>
                  <a:pt x="566" y="41"/>
                </a:cubicBezTo>
                <a:cubicBezTo>
                  <a:pt x="569" y="24"/>
                  <a:pt x="571" y="21"/>
                  <a:pt x="587" y="26"/>
                </a:cubicBezTo>
                <a:cubicBezTo>
                  <a:pt x="571" y="33"/>
                  <a:pt x="561" y="43"/>
                  <a:pt x="545" y="47"/>
                </a:cubicBezTo>
                <a:cubicBezTo>
                  <a:pt x="525" y="43"/>
                  <a:pt x="520" y="41"/>
                  <a:pt x="524" y="20"/>
                </a:cubicBezTo>
                <a:cubicBezTo>
                  <a:pt x="544" y="27"/>
                  <a:pt x="557" y="34"/>
                  <a:pt x="578" y="29"/>
                </a:cubicBezTo>
                <a:cubicBezTo>
                  <a:pt x="584" y="54"/>
                  <a:pt x="579" y="51"/>
                  <a:pt x="611" y="47"/>
                </a:cubicBezTo>
                <a:cubicBezTo>
                  <a:pt x="626" y="68"/>
                  <a:pt x="614" y="72"/>
                  <a:pt x="644" y="68"/>
                </a:cubicBezTo>
                <a:cubicBezTo>
                  <a:pt x="670" y="50"/>
                  <a:pt x="630" y="75"/>
                  <a:pt x="647" y="86"/>
                </a:cubicBezTo>
                <a:cubicBezTo>
                  <a:pt x="656" y="92"/>
                  <a:pt x="669" y="82"/>
                  <a:pt x="680" y="80"/>
                </a:cubicBezTo>
                <a:cubicBezTo>
                  <a:pt x="668" y="115"/>
                  <a:pt x="700" y="102"/>
                  <a:pt x="725" y="98"/>
                </a:cubicBezTo>
                <a:cubicBezTo>
                  <a:pt x="688" y="110"/>
                  <a:pt x="732" y="112"/>
                  <a:pt x="659" y="107"/>
                </a:cubicBezTo>
                <a:cubicBezTo>
                  <a:pt x="648" y="90"/>
                  <a:pt x="653" y="106"/>
                  <a:pt x="680" y="101"/>
                </a:cubicBezTo>
                <a:cubicBezTo>
                  <a:pt x="682" y="95"/>
                  <a:pt x="688" y="89"/>
                  <a:pt x="686" y="83"/>
                </a:cubicBezTo>
                <a:cubicBezTo>
                  <a:pt x="685" y="80"/>
                  <a:pt x="680" y="75"/>
                  <a:pt x="683" y="74"/>
                </a:cubicBezTo>
                <a:cubicBezTo>
                  <a:pt x="686" y="72"/>
                  <a:pt x="689" y="78"/>
                  <a:pt x="692" y="80"/>
                </a:cubicBezTo>
                <a:cubicBezTo>
                  <a:pt x="694" y="88"/>
                  <a:pt x="697" y="101"/>
                  <a:pt x="698" y="101"/>
                </a:cubicBezTo>
                <a:cubicBezTo>
                  <a:pt x="713" y="101"/>
                  <a:pt x="723" y="93"/>
                  <a:pt x="734" y="86"/>
                </a:cubicBezTo>
                <a:cubicBezTo>
                  <a:pt x="728" y="103"/>
                  <a:pt x="742" y="100"/>
                  <a:pt x="749" y="89"/>
                </a:cubicBezTo>
                <a:cubicBezTo>
                  <a:pt x="759" y="118"/>
                  <a:pt x="724" y="111"/>
                  <a:pt x="704" y="113"/>
                </a:cubicBezTo>
                <a:cubicBezTo>
                  <a:pt x="694" y="116"/>
                  <a:pt x="687" y="122"/>
                  <a:pt x="677" y="125"/>
                </a:cubicBezTo>
                <a:cubicBezTo>
                  <a:pt x="665" y="113"/>
                  <a:pt x="663" y="116"/>
                  <a:pt x="650" y="125"/>
                </a:cubicBezTo>
                <a:cubicBezTo>
                  <a:pt x="643" y="105"/>
                  <a:pt x="593" y="122"/>
                  <a:pt x="575" y="128"/>
                </a:cubicBezTo>
                <a:cubicBezTo>
                  <a:pt x="547" y="121"/>
                  <a:pt x="557" y="127"/>
                  <a:pt x="557" y="92"/>
                </a:cubicBezTo>
                <a:cubicBezTo>
                  <a:pt x="557" y="89"/>
                  <a:pt x="556" y="99"/>
                  <a:pt x="554" y="101"/>
                </a:cubicBezTo>
                <a:cubicBezTo>
                  <a:pt x="549" y="107"/>
                  <a:pt x="540" y="108"/>
                  <a:pt x="533" y="110"/>
                </a:cubicBezTo>
                <a:cubicBezTo>
                  <a:pt x="517" y="122"/>
                  <a:pt x="516" y="114"/>
                  <a:pt x="500" y="119"/>
                </a:cubicBezTo>
                <a:cubicBezTo>
                  <a:pt x="476" y="103"/>
                  <a:pt x="507" y="128"/>
                  <a:pt x="494" y="95"/>
                </a:cubicBezTo>
                <a:cubicBezTo>
                  <a:pt x="493" y="92"/>
                  <a:pt x="488" y="97"/>
                  <a:pt x="485" y="98"/>
                </a:cubicBezTo>
                <a:cubicBezTo>
                  <a:pt x="477" y="102"/>
                  <a:pt x="461" y="110"/>
                  <a:pt x="461" y="110"/>
                </a:cubicBezTo>
                <a:cubicBezTo>
                  <a:pt x="459" y="113"/>
                  <a:pt x="459" y="119"/>
                  <a:pt x="455" y="119"/>
                </a:cubicBezTo>
                <a:cubicBezTo>
                  <a:pt x="449" y="120"/>
                  <a:pt x="443" y="115"/>
                  <a:pt x="437" y="113"/>
                </a:cubicBezTo>
                <a:cubicBezTo>
                  <a:pt x="434" y="112"/>
                  <a:pt x="428" y="110"/>
                  <a:pt x="428" y="110"/>
                </a:cubicBezTo>
                <a:cubicBezTo>
                  <a:pt x="404" y="126"/>
                  <a:pt x="434" y="110"/>
                  <a:pt x="410" y="110"/>
                </a:cubicBezTo>
                <a:cubicBezTo>
                  <a:pt x="403" y="110"/>
                  <a:pt x="396" y="116"/>
                  <a:pt x="389" y="116"/>
                </a:cubicBezTo>
              </a:path>
            </a:pathLst>
          </a:custGeom>
          <a:solidFill>
            <a:srgbClr val="66ff99"/>
          </a:solidFill>
          <a:ln w="648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616520" y="17164080"/>
            <a:ext cx="1204920" cy="220680"/>
          </a:xfrm>
          <a:custGeom>
            <a:avLst/>
            <a:gdLst/>
            <a:ahLst/>
            <a:rect l="l" t="t" r="r" b="b"/>
            <a:pathLst>
              <a:path w="759" h="139">
                <a:moveTo>
                  <a:pt x="35" y="119"/>
                </a:moveTo>
                <a:cubicBezTo>
                  <a:pt x="0" y="128"/>
                  <a:pt x="15" y="116"/>
                  <a:pt x="35" y="110"/>
                </a:cubicBezTo>
                <a:cubicBezTo>
                  <a:pt x="38" y="109"/>
                  <a:pt x="41" y="108"/>
                  <a:pt x="44" y="107"/>
                </a:cubicBezTo>
                <a:cubicBezTo>
                  <a:pt x="59" y="117"/>
                  <a:pt x="61" y="108"/>
                  <a:pt x="71" y="95"/>
                </a:cubicBezTo>
                <a:cubicBezTo>
                  <a:pt x="76" y="100"/>
                  <a:pt x="88" y="108"/>
                  <a:pt x="83" y="113"/>
                </a:cubicBezTo>
                <a:cubicBezTo>
                  <a:pt x="79" y="117"/>
                  <a:pt x="73" y="115"/>
                  <a:pt x="68" y="116"/>
                </a:cubicBezTo>
                <a:cubicBezTo>
                  <a:pt x="65" y="117"/>
                  <a:pt x="59" y="122"/>
                  <a:pt x="59" y="119"/>
                </a:cubicBezTo>
                <a:cubicBezTo>
                  <a:pt x="59" y="115"/>
                  <a:pt x="65" y="114"/>
                  <a:pt x="68" y="113"/>
                </a:cubicBezTo>
                <a:cubicBezTo>
                  <a:pt x="72" y="111"/>
                  <a:pt x="76" y="111"/>
                  <a:pt x="80" y="110"/>
                </a:cubicBezTo>
                <a:cubicBezTo>
                  <a:pt x="82" y="107"/>
                  <a:pt x="82" y="102"/>
                  <a:pt x="86" y="101"/>
                </a:cubicBezTo>
                <a:cubicBezTo>
                  <a:pt x="97" y="99"/>
                  <a:pt x="94" y="112"/>
                  <a:pt x="98" y="116"/>
                </a:cubicBezTo>
                <a:cubicBezTo>
                  <a:pt x="100" y="118"/>
                  <a:pt x="110" y="119"/>
                  <a:pt x="107" y="119"/>
                </a:cubicBezTo>
                <a:cubicBezTo>
                  <a:pt x="101" y="119"/>
                  <a:pt x="95" y="117"/>
                  <a:pt x="89" y="116"/>
                </a:cubicBezTo>
                <a:cubicBezTo>
                  <a:pt x="101" y="108"/>
                  <a:pt x="111" y="111"/>
                  <a:pt x="119" y="98"/>
                </a:cubicBezTo>
                <a:cubicBezTo>
                  <a:pt x="103" y="93"/>
                  <a:pt x="102" y="108"/>
                  <a:pt x="92" y="92"/>
                </a:cubicBezTo>
                <a:cubicBezTo>
                  <a:pt x="106" y="88"/>
                  <a:pt x="111" y="92"/>
                  <a:pt x="125" y="95"/>
                </a:cubicBezTo>
                <a:cubicBezTo>
                  <a:pt x="131" y="78"/>
                  <a:pt x="128" y="93"/>
                  <a:pt x="107" y="83"/>
                </a:cubicBezTo>
                <a:cubicBezTo>
                  <a:pt x="113" y="81"/>
                  <a:pt x="120" y="70"/>
                  <a:pt x="125" y="74"/>
                </a:cubicBezTo>
                <a:cubicBezTo>
                  <a:pt x="129" y="77"/>
                  <a:pt x="124" y="85"/>
                  <a:pt x="128" y="89"/>
                </a:cubicBezTo>
                <a:cubicBezTo>
                  <a:pt x="135" y="96"/>
                  <a:pt x="155" y="98"/>
                  <a:pt x="155" y="98"/>
                </a:cubicBezTo>
                <a:cubicBezTo>
                  <a:pt x="145" y="113"/>
                  <a:pt x="129" y="108"/>
                  <a:pt x="113" y="116"/>
                </a:cubicBezTo>
                <a:cubicBezTo>
                  <a:pt x="103" y="130"/>
                  <a:pt x="97" y="123"/>
                  <a:pt x="83" y="116"/>
                </a:cubicBezTo>
                <a:cubicBezTo>
                  <a:pt x="63" y="123"/>
                  <a:pt x="88" y="123"/>
                  <a:pt x="95" y="125"/>
                </a:cubicBezTo>
                <a:cubicBezTo>
                  <a:pt x="124" y="122"/>
                  <a:pt x="139" y="119"/>
                  <a:pt x="164" y="107"/>
                </a:cubicBezTo>
                <a:cubicBezTo>
                  <a:pt x="157" y="85"/>
                  <a:pt x="160" y="114"/>
                  <a:pt x="146" y="92"/>
                </a:cubicBezTo>
                <a:cubicBezTo>
                  <a:pt x="157" y="88"/>
                  <a:pt x="169" y="91"/>
                  <a:pt x="179" y="86"/>
                </a:cubicBezTo>
                <a:cubicBezTo>
                  <a:pt x="182" y="85"/>
                  <a:pt x="185" y="78"/>
                  <a:pt x="182" y="77"/>
                </a:cubicBezTo>
                <a:cubicBezTo>
                  <a:pt x="175" y="75"/>
                  <a:pt x="168" y="79"/>
                  <a:pt x="161" y="80"/>
                </a:cubicBezTo>
                <a:cubicBezTo>
                  <a:pt x="158" y="79"/>
                  <a:pt x="155" y="78"/>
                  <a:pt x="152" y="77"/>
                </a:cubicBezTo>
                <a:cubicBezTo>
                  <a:pt x="148" y="76"/>
                  <a:pt x="154" y="86"/>
                  <a:pt x="158" y="89"/>
                </a:cubicBezTo>
                <a:cubicBezTo>
                  <a:pt x="163" y="93"/>
                  <a:pt x="170" y="93"/>
                  <a:pt x="176" y="95"/>
                </a:cubicBezTo>
                <a:cubicBezTo>
                  <a:pt x="180" y="107"/>
                  <a:pt x="187" y="105"/>
                  <a:pt x="194" y="116"/>
                </a:cubicBezTo>
                <a:cubicBezTo>
                  <a:pt x="181" y="120"/>
                  <a:pt x="176" y="113"/>
                  <a:pt x="164" y="107"/>
                </a:cubicBezTo>
                <a:cubicBezTo>
                  <a:pt x="185" y="106"/>
                  <a:pt x="207" y="110"/>
                  <a:pt x="227" y="104"/>
                </a:cubicBezTo>
                <a:cubicBezTo>
                  <a:pt x="232" y="103"/>
                  <a:pt x="228" y="92"/>
                  <a:pt x="224" y="89"/>
                </a:cubicBezTo>
                <a:cubicBezTo>
                  <a:pt x="221" y="86"/>
                  <a:pt x="216" y="91"/>
                  <a:pt x="212" y="92"/>
                </a:cubicBezTo>
                <a:cubicBezTo>
                  <a:pt x="209" y="94"/>
                  <a:pt x="178" y="115"/>
                  <a:pt x="203" y="107"/>
                </a:cubicBezTo>
                <a:cubicBezTo>
                  <a:pt x="217" y="116"/>
                  <a:pt x="259" y="121"/>
                  <a:pt x="236" y="98"/>
                </a:cubicBezTo>
                <a:cubicBezTo>
                  <a:pt x="208" y="103"/>
                  <a:pt x="217" y="94"/>
                  <a:pt x="209" y="71"/>
                </a:cubicBezTo>
                <a:cubicBezTo>
                  <a:pt x="195" y="76"/>
                  <a:pt x="195" y="83"/>
                  <a:pt x="182" y="74"/>
                </a:cubicBezTo>
                <a:cubicBezTo>
                  <a:pt x="177" y="59"/>
                  <a:pt x="187" y="62"/>
                  <a:pt x="200" y="59"/>
                </a:cubicBezTo>
                <a:cubicBezTo>
                  <a:pt x="209" y="33"/>
                  <a:pt x="161" y="65"/>
                  <a:pt x="188" y="56"/>
                </a:cubicBezTo>
                <a:cubicBezTo>
                  <a:pt x="204" y="59"/>
                  <a:pt x="211" y="61"/>
                  <a:pt x="221" y="47"/>
                </a:cubicBezTo>
                <a:cubicBezTo>
                  <a:pt x="232" y="79"/>
                  <a:pt x="211" y="87"/>
                  <a:pt x="254" y="77"/>
                </a:cubicBezTo>
                <a:cubicBezTo>
                  <a:pt x="236" y="73"/>
                  <a:pt x="234" y="64"/>
                  <a:pt x="221" y="77"/>
                </a:cubicBezTo>
                <a:cubicBezTo>
                  <a:pt x="225" y="78"/>
                  <a:pt x="278" y="86"/>
                  <a:pt x="281" y="89"/>
                </a:cubicBezTo>
                <a:cubicBezTo>
                  <a:pt x="284" y="92"/>
                  <a:pt x="278" y="98"/>
                  <a:pt x="275" y="101"/>
                </a:cubicBezTo>
                <a:cubicBezTo>
                  <a:pt x="267" y="109"/>
                  <a:pt x="246" y="116"/>
                  <a:pt x="236" y="119"/>
                </a:cubicBezTo>
                <a:cubicBezTo>
                  <a:pt x="200" y="95"/>
                  <a:pt x="236" y="111"/>
                  <a:pt x="203" y="119"/>
                </a:cubicBezTo>
                <a:cubicBezTo>
                  <a:pt x="214" y="102"/>
                  <a:pt x="204" y="111"/>
                  <a:pt x="233" y="116"/>
                </a:cubicBezTo>
                <a:cubicBezTo>
                  <a:pt x="245" y="118"/>
                  <a:pt x="269" y="122"/>
                  <a:pt x="269" y="122"/>
                </a:cubicBezTo>
                <a:cubicBezTo>
                  <a:pt x="286" y="116"/>
                  <a:pt x="284" y="107"/>
                  <a:pt x="290" y="92"/>
                </a:cubicBezTo>
                <a:cubicBezTo>
                  <a:pt x="291" y="89"/>
                  <a:pt x="299" y="86"/>
                  <a:pt x="296" y="83"/>
                </a:cubicBezTo>
                <a:cubicBezTo>
                  <a:pt x="293" y="80"/>
                  <a:pt x="290" y="87"/>
                  <a:pt x="287" y="89"/>
                </a:cubicBezTo>
                <a:cubicBezTo>
                  <a:pt x="286" y="93"/>
                  <a:pt x="281" y="98"/>
                  <a:pt x="284" y="101"/>
                </a:cubicBezTo>
                <a:cubicBezTo>
                  <a:pt x="287" y="104"/>
                  <a:pt x="292" y="98"/>
                  <a:pt x="296" y="98"/>
                </a:cubicBezTo>
                <a:cubicBezTo>
                  <a:pt x="306" y="98"/>
                  <a:pt x="316" y="100"/>
                  <a:pt x="326" y="101"/>
                </a:cubicBezTo>
                <a:cubicBezTo>
                  <a:pt x="328" y="105"/>
                  <a:pt x="334" y="109"/>
                  <a:pt x="332" y="113"/>
                </a:cubicBezTo>
                <a:cubicBezTo>
                  <a:pt x="330" y="116"/>
                  <a:pt x="323" y="112"/>
                  <a:pt x="320" y="110"/>
                </a:cubicBezTo>
                <a:cubicBezTo>
                  <a:pt x="314" y="106"/>
                  <a:pt x="309" y="87"/>
                  <a:pt x="308" y="83"/>
                </a:cubicBezTo>
                <a:cubicBezTo>
                  <a:pt x="305" y="73"/>
                  <a:pt x="328" y="87"/>
                  <a:pt x="338" y="89"/>
                </a:cubicBezTo>
                <a:cubicBezTo>
                  <a:pt x="347" y="90"/>
                  <a:pt x="356" y="91"/>
                  <a:pt x="365" y="92"/>
                </a:cubicBezTo>
                <a:cubicBezTo>
                  <a:pt x="372" y="113"/>
                  <a:pt x="377" y="108"/>
                  <a:pt x="362" y="113"/>
                </a:cubicBezTo>
                <a:cubicBezTo>
                  <a:pt x="319" y="102"/>
                  <a:pt x="352" y="99"/>
                  <a:pt x="374" y="77"/>
                </a:cubicBezTo>
                <a:cubicBezTo>
                  <a:pt x="364" y="48"/>
                  <a:pt x="356" y="94"/>
                  <a:pt x="356" y="98"/>
                </a:cubicBezTo>
                <a:cubicBezTo>
                  <a:pt x="366" y="128"/>
                  <a:pt x="355" y="125"/>
                  <a:pt x="326" y="122"/>
                </a:cubicBezTo>
                <a:cubicBezTo>
                  <a:pt x="313" y="113"/>
                  <a:pt x="313" y="107"/>
                  <a:pt x="317" y="92"/>
                </a:cubicBezTo>
                <a:cubicBezTo>
                  <a:pt x="313" y="76"/>
                  <a:pt x="312" y="72"/>
                  <a:pt x="296" y="68"/>
                </a:cubicBezTo>
                <a:cubicBezTo>
                  <a:pt x="279" y="72"/>
                  <a:pt x="275" y="84"/>
                  <a:pt x="266" y="65"/>
                </a:cubicBezTo>
                <a:cubicBezTo>
                  <a:pt x="283" y="43"/>
                  <a:pt x="282" y="61"/>
                  <a:pt x="305" y="53"/>
                </a:cubicBezTo>
                <a:cubicBezTo>
                  <a:pt x="314" y="27"/>
                  <a:pt x="294" y="73"/>
                  <a:pt x="287" y="80"/>
                </a:cubicBezTo>
                <a:cubicBezTo>
                  <a:pt x="300" y="89"/>
                  <a:pt x="311" y="82"/>
                  <a:pt x="326" y="77"/>
                </a:cubicBezTo>
                <a:cubicBezTo>
                  <a:pt x="332" y="65"/>
                  <a:pt x="330" y="54"/>
                  <a:pt x="344" y="59"/>
                </a:cubicBezTo>
                <a:cubicBezTo>
                  <a:pt x="347" y="63"/>
                  <a:pt x="351" y="67"/>
                  <a:pt x="353" y="71"/>
                </a:cubicBezTo>
                <a:cubicBezTo>
                  <a:pt x="355" y="74"/>
                  <a:pt x="353" y="79"/>
                  <a:pt x="356" y="80"/>
                </a:cubicBezTo>
                <a:cubicBezTo>
                  <a:pt x="361" y="81"/>
                  <a:pt x="404" y="75"/>
                  <a:pt x="413" y="74"/>
                </a:cubicBezTo>
                <a:cubicBezTo>
                  <a:pt x="416" y="72"/>
                  <a:pt x="418" y="68"/>
                  <a:pt x="422" y="68"/>
                </a:cubicBezTo>
                <a:cubicBezTo>
                  <a:pt x="431" y="69"/>
                  <a:pt x="449" y="77"/>
                  <a:pt x="449" y="77"/>
                </a:cubicBezTo>
                <a:cubicBezTo>
                  <a:pt x="444" y="114"/>
                  <a:pt x="460" y="139"/>
                  <a:pt x="422" y="101"/>
                </a:cubicBezTo>
                <a:cubicBezTo>
                  <a:pt x="420" y="93"/>
                  <a:pt x="419" y="85"/>
                  <a:pt x="416" y="77"/>
                </a:cubicBezTo>
                <a:cubicBezTo>
                  <a:pt x="415" y="74"/>
                  <a:pt x="409" y="71"/>
                  <a:pt x="410" y="68"/>
                </a:cubicBezTo>
                <a:cubicBezTo>
                  <a:pt x="413" y="60"/>
                  <a:pt x="428" y="50"/>
                  <a:pt x="428" y="50"/>
                </a:cubicBezTo>
                <a:cubicBezTo>
                  <a:pt x="427" y="63"/>
                  <a:pt x="416" y="83"/>
                  <a:pt x="428" y="89"/>
                </a:cubicBezTo>
                <a:cubicBezTo>
                  <a:pt x="431" y="90"/>
                  <a:pt x="437" y="83"/>
                  <a:pt x="437" y="86"/>
                </a:cubicBezTo>
                <a:cubicBezTo>
                  <a:pt x="437" y="93"/>
                  <a:pt x="418" y="93"/>
                  <a:pt x="404" y="95"/>
                </a:cubicBezTo>
                <a:cubicBezTo>
                  <a:pt x="386" y="101"/>
                  <a:pt x="398" y="116"/>
                  <a:pt x="386" y="98"/>
                </a:cubicBezTo>
                <a:cubicBezTo>
                  <a:pt x="396" y="63"/>
                  <a:pt x="395" y="87"/>
                  <a:pt x="413" y="62"/>
                </a:cubicBezTo>
                <a:cubicBezTo>
                  <a:pt x="418" y="46"/>
                  <a:pt x="406" y="19"/>
                  <a:pt x="428" y="26"/>
                </a:cubicBezTo>
                <a:cubicBezTo>
                  <a:pt x="441" y="17"/>
                  <a:pt x="446" y="24"/>
                  <a:pt x="458" y="32"/>
                </a:cubicBezTo>
                <a:cubicBezTo>
                  <a:pt x="538" y="27"/>
                  <a:pt x="501" y="32"/>
                  <a:pt x="464" y="44"/>
                </a:cubicBezTo>
                <a:cubicBezTo>
                  <a:pt x="454" y="23"/>
                  <a:pt x="439" y="33"/>
                  <a:pt x="422" y="44"/>
                </a:cubicBezTo>
                <a:cubicBezTo>
                  <a:pt x="409" y="25"/>
                  <a:pt x="406" y="46"/>
                  <a:pt x="404" y="59"/>
                </a:cubicBezTo>
                <a:cubicBezTo>
                  <a:pt x="397" y="57"/>
                  <a:pt x="374" y="51"/>
                  <a:pt x="374" y="50"/>
                </a:cubicBezTo>
                <a:cubicBezTo>
                  <a:pt x="371" y="36"/>
                  <a:pt x="396" y="26"/>
                  <a:pt x="404" y="23"/>
                </a:cubicBezTo>
                <a:cubicBezTo>
                  <a:pt x="396" y="0"/>
                  <a:pt x="391" y="15"/>
                  <a:pt x="386" y="32"/>
                </a:cubicBezTo>
                <a:cubicBezTo>
                  <a:pt x="388" y="49"/>
                  <a:pt x="393" y="70"/>
                  <a:pt x="371" y="56"/>
                </a:cubicBezTo>
                <a:cubicBezTo>
                  <a:pt x="367" y="40"/>
                  <a:pt x="367" y="45"/>
                  <a:pt x="371" y="26"/>
                </a:cubicBezTo>
                <a:cubicBezTo>
                  <a:pt x="372" y="23"/>
                  <a:pt x="374" y="14"/>
                  <a:pt x="374" y="17"/>
                </a:cubicBezTo>
                <a:cubicBezTo>
                  <a:pt x="374" y="30"/>
                  <a:pt x="369" y="45"/>
                  <a:pt x="362" y="56"/>
                </a:cubicBezTo>
                <a:cubicBezTo>
                  <a:pt x="369" y="90"/>
                  <a:pt x="358" y="62"/>
                  <a:pt x="413" y="68"/>
                </a:cubicBezTo>
                <a:cubicBezTo>
                  <a:pt x="421" y="69"/>
                  <a:pt x="425" y="79"/>
                  <a:pt x="431" y="83"/>
                </a:cubicBezTo>
                <a:cubicBezTo>
                  <a:pt x="459" y="76"/>
                  <a:pt x="454" y="78"/>
                  <a:pt x="476" y="89"/>
                </a:cubicBezTo>
                <a:cubicBezTo>
                  <a:pt x="491" y="82"/>
                  <a:pt x="495" y="70"/>
                  <a:pt x="500" y="89"/>
                </a:cubicBezTo>
                <a:cubicBezTo>
                  <a:pt x="498" y="93"/>
                  <a:pt x="498" y="99"/>
                  <a:pt x="494" y="101"/>
                </a:cubicBezTo>
                <a:cubicBezTo>
                  <a:pt x="488" y="103"/>
                  <a:pt x="482" y="99"/>
                  <a:pt x="476" y="98"/>
                </a:cubicBezTo>
                <a:cubicBezTo>
                  <a:pt x="473" y="97"/>
                  <a:pt x="467" y="92"/>
                  <a:pt x="467" y="95"/>
                </a:cubicBezTo>
                <a:cubicBezTo>
                  <a:pt x="467" y="105"/>
                  <a:pt x="487" y="103"/>
                  <a:pt x="497" y="104"/>
                </a:cubicBezTo>
                <a:cubicBezTo>
                  <a:pt x="514" y="95"/>
                  <a:pt x="515" y="91"/>
                  <a:pt x="527" y="107"/>
                </a:cubicBezTo>
                <a:cubicBezTo>
                  <a:pt x="523" y="108"/>
                  <a:pt x="519" y="111"/>
                  <a:pt x="515" y="110"/>
                </a:cubicBezTo>
                <a:cubicBezTo>
                  <a:pt x="511" y="109"/>
                  <a:pt x="510" y="104"/>
                  <a:pt x="506" y="104"/>
                </a:cubicBezTo>
                <a:cubicBezTo>
                  <a:pt x="499" y="104"/>
                  <a:pt x="494" y="111"/>
                  <a:pt x="488" y="113"/>
                </a:cubicBezTo>
                <a:cubicBezTo>
                  <a:pt x="461" y="110"/>
                  <a:pt x="450" y="112"/>
                  <a:pt x="467" y="89"/>
                </a:cubicBezTo>
                <a:cubicBezTo>
                  <a:pt x="487" y="94"/>
                  <a:pt x="521" y="78"/>
                  <a:pt x="542" y="74"/>
                </a:cubicBezTo>
                <a:cubicBezTo>
                  <a:pt x="544" y="68"/>
                  <a:pt x="542" y="56"/>
                  <a:pt x="548" y="56"/>
                </a:cubicBezTo>
                <a:cubicBezTo>
                  <a:pt x="563" y="56"/>
                  <a:pt x="550" y="86"/>
                  <a:pt x="551" y="89"/>
                </a:cubicBezTo>
                <a:cubicBezTo>
                  <a:pt x="552" y="92"/>
                  <a:pt x="557" y="87"/>
                  <a:pt x="560" y="86"/>
                </a:cubicBezTo>
                <a:cubicBezTo>
                  <a:pt x="554" y="105"/>
                  <a:pt x="526" y="102"/>
                  <a:pt x="509" y="104"/>
                </a:cubicBezTo>
                <a:cubicBezTo>
                  <a:pt x="505" y="103"/>
                  <a:pt x="498" y="105"/>
                  <a:pt x="497" y="101"/>
                </a:cubicBezTo>
                <a:cubicBezTo>
                  <a:pt x="494" y="91"/>
                  <a:pt x="510" y="96"/>
                  <a:pt x="524" y="98"/>
                </a:cubicBezTo>
                <a:cubicBezTo>
                  <a:pt x="532" y="99"/>
                  <a:pt x="540" y="100"/>
                  <a:pt x="548" y="101"/>
                </a:cubicBezTo>
                <a:cubicBezTo>
                  <a:pt x="569" y="98"/>
                  <a:pt x="591" y="84"/>
                  <a:pt x="599" y="107"/>
                </a:cubicBezTo>
                <a:cubicBezTo>
                  <a:pt x="615" y="84"/>
                  <a:pt x="581" y="101"/>
                  <a:pt x="572" y="107"/>
                </a:cubicBezTo>
                <a:cubicBezTo>
                  <a:pt x="557" y="104"/>
                  <a:pt x="543" y="104"/>
                  <a:pt x="530" y="95"/>
                </a:cubicBezTo>
                <a:cubicBezTo>
                  <a:pt x="536" y="71"/>
                  <a:pt x="527" y="92"/>
                  <a:pt x="557" y="80"/>
                </a:cubicBezTo>
                <a:cubicBezTo>
                  <a:pt x="560" y="79"/>
                  <a:pt x="569" y="60"/>
                  <a:pt x="569" y="59"/>
                </a:cubicBezTo>
                <a:cubicBezTo>
                  <a:pt x="573" y="36"/>
                  <a:pt x="574" y="14"/>
                  <a:pt x="584" y="56"/>
                </a:cubicBezTo>
                <a:cubicBezTo>
                  <a:pt x="586" y="64"/>
                  <a:pt x="600" y="58"/>
                  <a:pt x="608" y="59"/>
                </a:cubicBezTo>
                <a:cubicBezTo>
                  <a:pt x="618" y="121"/>
                  <a:pt x="596" y="21"/>
                  <a:pt x="641" y="71"/>
                </a:cubicBezTo>
                <a:cubicBezTo>
                  <a:pt x="650" y="81"/>
                  <a:pt x="643" y="99"/>
                  <a:pt x="644" y="113"/>
                </a:cubicBezTo>
                <a:cubicBezTo>
                  <a:pt x="657" y="93"/>
                  <a:pt x="641" y="113"/>
                  <a:pt x="632" y="116"/>
                </a:cubicBezTo>
                <a:cubicBezTo>
                  <a:pt x="615" y="114"/>
                  <a:pt x="603" y="109"/>
                  <a:pt x="587" y="113"/>
                </a:cubicBezTo>
                <a:cubicBezTo>
                  <a:pt x="586" y="119"/>
                  <a:pt x="580" y="127"/>
                  <a:pt x="584" y="131"/>
                </a:cubicBezTo>
                <a:cubicBezTo>
                  <a:pt x="591" y="138"/>
                  <a:pt x="593" y="113"/>
                  <a:pt x="602" y="110"/>
                </a:cubicBezTo>
                <a:cubicBezTo>
                  <a:pt x="613" y="107"/>
                  <a:pt x="624" y="108"/>
                  <a:pt x="635" y="107"/>
                </a:cubicBezTo>
                <a:cubicBezTo>
                  <a:pt x="629" y="67"/>
                  <a:pt x="637" y="77"/>
                  <a:pt x="611" y="86"/>
                </a:cubicBezTo>
                <a:cubicBezTo>
                  <a:pt x="587" y="80"/>
                  <a:pt x="598" y="72"/>
                  <a:pt x="614" y="68"/>
                </a:cubicBezTo>
                <a:cubicBezTo>
                  <a:pt x="638" y="52"/>
                  <a:pt x="609" y="63"/>
                  <a:pt x="602" y="68"/>
                </a:cubicBezTo>
                <a:cubicBezTo>
                  <a:pt x="593" y="87"/>
                  <a:pt x="586" y="83"/>
                  <a:pt x="566" y="80"/>
                </a:cubicBezTo>
                <a:cubicBezTo>
                  <a:pt x="600" y="57"/>
                  <a:pt x="583" y="65"/>
                  <a:pt x="617" y="56"/>
                </a:cubicBezTo>
                <a:cubicBezTo>
                  <a:pt x="631" y="35"/>
                  <a:pt x="614" y="36"/>
                  <a:pt x="593" y="29"/>
                </a:cubicBezTo>
                <a:cubicBezTo>
                  <a:pt x="581" y="30"/>
                  <a:pt x="567" y="26"/>
                  <a:pt x="557" y="32"/>
                </a:cubicBezTo>
                <a:cubicBezTo>
                  <a:pt x="538" y="43"/>
                  <a:pt x="555" y="61"/>
                  <a:pt x="533" y="68"/>
                </a:cubicBezTo>
                <a:cubicBezTo>
                  <a:pt x="525" y="80"/>
                  <a:pt x="522" y="86"/>
                  <a:pt x="509" y="77"/>
                </a:cubicBezTo>
                <a:cubicBezTo>
                  <a:pt x="507" y="73"/>
                  <a:pt x="503" y="69"/>
                  <a:pt x="503" y="65"/>
                </a:cubicBezTo>
                <a:cubicBezTo>
                  <a:pt x="503" y="61"/>
                  <a:pt x="510" y="59"/>
                  <a:pt x="509" y="56"/>
                </a:cubicBezTo>
                <a:cubicBezTo>
                  <a:pt x="507" y="49"/>
                  <a:pt x="497" y="51"/>
                  <a:pt x="491" y="47"/>
                </a:cubicBezTo>
                <a:cubicBezTo>
                  <a:pt x="489" y="51"/>
                  <a:pt x="489" y="56"/>
                  <a:pt x="485" y="59"/>
                </a:cubicBezTo>
                <a:cubicBezTo>
                  <a:pt x="481" y="62"/>
                  <a:pt x="465" y="62"/>
                  <a:pt x="470" y="62"/>
                </a:cubicBezTo>
                <a:cubicBezTo>
                  <a:pt x="496" y="64"/>
                  <a:pt x="522" y="64"/>
                  <a:pt x="548" y="65"/>
                </a:cubicBezTo>
                <a:cubicBezTo>
                  <a:pt x="551" y="69"/>
                  <a:pt x="553" y="80"/>
                  <a:pt x="557" y="77"/>
                </a:cubicBezTo>
                <a:cubicBezTo>
                  <a:pt x="563" y="72"/>
                  <a:pt x="563" y="53"/>
                  <a:pt x="563" y="53"/>
                </a:cubicBezTo>
                <a:cubicBezTo>
                  <a:pt x="545" y="41"/>
                  <a:pt x="536" y="29"/>
                  <a:pt x="560" y="17"/>
                </a:cubicBezTo>
                <a:cubicBezTo>
                  <a:pt x="563" y="19"/>
                  <a:pt x="567" y="20"/>
                  <a:pt x="569" y="23"/>
                </a:cubicBezTo>
                <a:cubicBezTo>
                  <a:pt x="572" y="28"/>
                  <a:pt x="569" y="38"/>
                  <a:pt x="575" y="41"/>
                </a:cubicBezTo>
                <a:cubicBezTo>
                  <a:pt x="604" y="55"/>
                  <a:pt x="572" y="42"/>
                  <a:pt x="566" y="41"/>
                </a:cubicBezTo>
                <a:cubicBezTo>
                  <a:pt x="569" y="24"/>
                  <a:pt x="571" y="21"/>
                  <a:pt x="587" y="26"/>
                </a:cubicBezTo>
                <a:cubicBezTo>
                  <a:pt x="571" y="33"/>
                  <a:pt x="561" y="43"/>
                  <a:pt x="545" y="47"/>
                </a:cubicBezTo>
                <a:cubicBezTo>
                  <a:pt x="525" y="43"/>
                  <a:pt x="520" y="41"/>
                  <a:pt x="524" y="20"/>
                </a:cubicBezTo>
                <a:cubicBezTo>
                  <a:pt x="544" y="27"/>
                  <a:pt x="557" y="34"/>
                  <a:pt x="578" y="29"/>
                </a:cubicBezTo>
                <a:cubicBezTo>
                  <a:pt x="584" y="54"/>
                  <a:pt x="579" y="51"/>
                  <a:pt x="611" y="47"/>
                </a:cubicBezTo>
                <a:cubicBezTo>
                  <a:pt x="626" y="68"/>
                  <a:pt x="614" y="72"/>
                  <a:pt x="644" y="68"/>
                </a:cubicBezTo>
                <a:cubicBezTo>
                  <a:pt x="670" y="50"/>
                  <a:pt x="630" y="75"/>
                  <a:pt x="647" y="86"/>
                </a:cubicBezTo>
                <a:cubicBezTo>
                  <a:pt x="656" y="92"/>
                  <a:pt x="669" y="82"/>
                  <a:pt x="680" y="80"/>
                </a:cubicBezTo>
                <a:cubicBezTo>
                  <a:pt x="668" y="115"/>
                  <a:pt x="700" y="102"/>
                  <a:pt x="725" y="98"/>
                </a:cubicBezTo>
                <a:cubicBezTo>
                  <a:pt x="688" y="110"/>
                  <a:pt x="732" y="112"/>
                  <a:pt x="659" y="107"/>
                </a:cubicBezTo>
                <a:cubicBezTo>
                  <a:pt x="648" y="90"/>
                  <a:pt x="653" y="106"/>
                  <a:pt x="680" y="101"/>
                </a:cubicBezTo>
                <a:cubicBezTo>
                  <a:pt x="682" y="95"/>
                  <a:pt x="688" y="89"/>
                  <a:pt x="686" y="83"/>
                </a:cubicBezTo>
                <a:cubicBezTo>
                  <a:pt x="685" y="80"/>
                  <a:pt x="680" y="75"/>
                  <a:pt x="683" y="74"/>
                </a:cubicBezTo>
                <a:cubicBezTo>
                  <a:pt x="686" y="72"/>
                  <a:pt x="689" y="78"/>
                  <a:pt x="692" y="80"/>
                </a:cubicBezTo>
                <a:cubicBezTo>
                  <a:pt x="694" y="88"/>
                  <a:pt x="697" y="101"/>
                  <a:pt x="698" y="101"/>
                </a:cubicBezTo>
                <a:cubicBezTo>
                  <a:pt x="713" y="101"/>
                  <a:pt x="723" y="93"/>
                  <a:pt x="734" y="86"/>
                </a:cubicBezTo>
                <a:cubicBezTo>
                  <a:pt x="728" y="103"/>
                  <a:pt x="742" y="100"/>
                  <a:pt x="749" y="89"/>
                </a:cubicBezTo>
                <a:cubicBezTo>
                  <a:pt x="759" y="118"/>
                  <a:pt x="724" y="111"/>
                  <a:pt x="704" y="113"/>
                </a:cubicBezTo>
                <a:cubicBezTo>
                  <a:pt x="694" y="116"/>
                  <a:pt x="687" y="122"/>
                  <a:pt x="677" y="125"/>
                </a:cubicBezTo>
                <a:cubicBezTo>
                  <a:pt x="665" y="113"/>
                  <a:pt x="663" y="116"/>
                  <a:pt x="650" y="125"/>
                </a:cubicBezTo>
                <a:cubicBezTo>
                  <a:pt x="643" y="105"/>
                  <a:pt x="593" y="122"/>
                  <a:pt x="575" y="128"/>
                </a:cubicBezTo>
                <a:cubicBezTo>
                  <a:pt x="547" y="121"/>
                  <a:pt x="557" y="127"/>
                  <a:pt x="557" y="92"/>
                </a:cubicBezTo>
                <a:cubicBezTo>
                  <a:pt x="557" y="89"/>
                  <a:pt x="556" y="99"/>
                  <a:pt x="554" y="101"/>
                </a:cubicBezTo>
                <a:cubicBezTo>
                  <a:pt x="549" y="107"/>
                  <a:pt x="540" y="108"/>
                  <a:pt x="533" y="110"/>
                </a:cubicBezTo>
                <a:cubicBezTo>
                  <a:pt x="517" y="122"/>
                  <a:pt x="516" y="114"/>
                  <a:pt x="500" y="119"/>
                </a:cubicBezTo>
                <a:cubicBezTo>
                  <a:pt x="476" y="103"/>
                  <a:pt x="507" y="128"/>
                  <a:pt x="494" y="95"/>
                </a:cubicBezTo>
                <a:cubicBezTo>
                  <a:pt x="493" y="92"/>
                  <a:pt x="488" y="97"/>
                  <a:pt x="485" y="98"/>
                </a:cubicBezTo>
                <a:cubicBezTo>
                  <a:pt x="477" y="102"/>
                  <a:pt x="461" y="110"/>
                  <a:pt x="461" y="110"/>
                </a:cubicBezTo>
                <a:cubicBezTo>
                  <a:pt x="459" y="113"/>
                  <a:pt x="459" y="119"/>
                  <a:pt x="455" y="119"/>
                </a:cubicBezTo>
                <a:cubicBezTo>
                  <a:pt x="449" y="120"/>
                  <a:pt x="443" y="115"/>
                  <a:pt x="437" y="113"/>
                </a:cubicBezTo>
                <a:cubicBezTo>
                  <a:pt x="434" y="112"/>
                  <a:pt x="428" y="110"/>
                  <a:pt x="428" y="110"/>
                </a:cubicBezTo>
                <a:cubicBezTo>
                  <a:pt x="404" y="126"/>
                  <a:pt x="434" y="110"/>
                  <a:pt x="410" y="110"/>
                </a:cubicBezTo>
                <a:cubicBezTo>
                  <a:pt x="403" y="110"/>
                  <a:pt x="396" y="116"/>
                  <a:pt x="389" y="116"/>
                </a:cubicBezTo>
              </a:path>
            </a:pathLst>
          </a:custGeom>
          <a:solidFill>
            <a:srgbClr val="99ff99"/>
          </a:solidFill>
          <a:ln w="64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124760" y="17395920"/>
            <a:ext cx="116236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7587800" y="17154360"/>
            <a:ext cx="1204920" cy="220680"/>
          </a:xfrm>
          <a:custGeom>
            <a:avLst/>
            <a:gdLst/>
            <a:ahLst/>
            <a:rect l="l" t="t" r="r" b="b"/>
            <a:pathLst>
              <a:path w="759" h="139">
                <a:moveTo>
                  <a:pt x="35" y="119"/>
                </a:moveTo>
                <a:cubicBezTo>
                  <a:pt x="0" y="128"/>
                  <a:pt x="15" y="116"/>
                  <a:pt x="35" y="110"/>
                </a:cubicBezTo>
                <a:cubicBezTo>
                  <a:pt x="38" y="109"/>
                  <a:pt x="41" y="108"/>
                  <a:pt x="44" y="107"/>
                </a:cubicBezTo>
                <a:cubicBezTo>
                  <a:pt x="59" y="117"/>
                  <a:pt x="61" y="108"/>
                  <a:pt x="71" y="95"/>
                </a:cubicBezTo>
                <a:cubicBezTo>
                  <a:pt x="76" y="100"/>
                  <a:pt x="88" y="108"/>
                  <a:pt x="83" y="113"/>
                </a:cubicBezTo>
                <a:cubicBezTo>
                  <a:pt x="79" y="117"/>
                  <a:pt x="73" y="115"/>
                  <a:pt x="68" y="116"/>
                </a:cubicBezTo>
                <a:cubicBezTo>
                  <a:pt x="65" y="117"/>
                  <a:pt x="59" y="122"/>
                  <a:pt x="59" y="119"/>
                </a:cubicBezTo>
                <a:cubicBezTo>
                  <a:pt x="59" y="115"/>
                  <a:pt x="65" y="114"/>
                  <a:pt x="68" y="113"/>
                </a:cubicBezTo>
                <a:cubicBezTo>
                  <a:pt x="72" y="111"/>
                  <a:pt x="76" y="111"/>
                  <a:pt x="80" y="110"/>
                </a:cubicBezTo>
                <a:cubicBezTo>
                  <a:pt x="82" y="107"/>
                  <a:pt x="82" y="102"/>
                  <a:pt x="86" y="101"/>
                </a:cubicBezTo>
                <a:cubicBezTo>
                  <a:pt x="97" y="99"/>
                  <a:pt x="94" y="112"/>
                  <a:pt x="98" y="116"/>
                </a:cubicBezTo>
                <a:cubicBezTo>
                  <a:pt x="100" y="118"/>
                  <a:pt x="110" y="119"/>
                  <a:pt x="107" y="119"/>
                </a:cubicBezTo>
                <a:cubicBezTo>
                  <a:pt x="101" y="119"/>
                  <a:pt x="95" y="117"/>
                  <a:pt x="89" y="116"/>
                </a:cubicBezTo>
                <a:cubicBezTo>
                  <a:pt x="101" y="108"/>
                  <a:pt x="111" y="111"/>
                  <a:pt x="119" y="98"/>
                </a:cubicBezTo>
                <a:cubicBezTo>
                  <a:pt x="103" y="93"/>
                  <a:pt x="102" y="108"/>
                  <a:pt x="92" y="92"/>
                </a:cubicBezTo>
                <a:cubicBezTo>
                  <a:pt x="106" y="88"/>
                  <a:pt x="111" y="92"/>
                  <a:pt x="125" y="95"/>
                </a:cubicBezTo>
                <a:cubicBezTo>
                  <a:pt x="131" y="78"/>
                  <a:pt x="128" y="93"/>
                  <a:pt x="107" y="83"/>
                </a:cubicBezTo>
                <a:cubicBezTo>
                  <a:pt x="113" y="81"/>
                  <a:pt x="120" y="70"/>
                  <a:pt x="125" y="74"/>
                </a:cubicBezTo>
                <a:cubicBezTo>
                  <a:pt x="129" y="77"/>
                  <a:pt x="124" y="85"/>
                  <a:pt x="128" y="89"/>
                </a:cubicBezTo>
                <a:cubicBezTo>
                  <a:pt x="135" y="96"/>
                  <a:pt x="155" y="98"/>
                  <a:pt x="155" y="98"/>
                </a:cubicBezTo>
                <a:cubicBezTo>
                  <a:pt x="145" y="113"/>
                  <a:pt x="129" y="108"/>
                  <a:pt x="113" y="116"/>
                </a:cubicBezTo>
                <a:cubicBezTo>
                  <a:pt x="103" y="130"/>
                  <a:pt x="97" y="123"/>
                  <a:pt x="83" y="116"/>
                </a:cubicBezTo>
                <a:cubicBezTo>
                  <a:pt x="63" y="123"/>
                  <a:pt x="88" y="123"/>
                  <a:pt x="95" y="125"/>
                </a:cubicBezTo>
                <a:cubicBezTo>
                  <a:pt x="124" y="122"/>
                  <a:pt x="139" y="119"/>
                  <a:pt x="164" y="107"/>
                </a:cubicBezTo>
                <a:cubicBezTo>
                  <a:pt x="157" y="85"/>
                  <a:pt x="160" y="114"/>
                  <a:pt x="146" y="92"/>
                </a:cubicBezTo>
                <a:cubicBezTo>
                  <a:pt x="157" y="88"/>
                  <a:pt x="169" y="91"/>
                  <a:pt x="179" y="86"/>
                </a:cubicBezTo>
                <a:cubicBezTo>
                  <a:pt x="182" y="85"/>
                  <a:pt x="185" y="78"/>
                  <a:pt x="182" y="77"/>
                </a:cubicBezTo>
                <a:cubicBezTo>
                  <a:pt x="175" y="75"/>
                  <a:pt x="168" y="79"/>
                  <a:pt x="161" y="80"/>
                </a:cubicBezTo>
                <a:cubicBezTo>
                  <a:pt x="158" y="79"/>
                  <a:pt x="155" y="78"/>
                  <a:pt x="152" y="77"/>
                </a:cubicBezTo>
                <a:cubicBezTo>
                  <a:pt x="148" y="76"/>
                  <a:pt x="154" y="86"/>
                  <a:pt x="158" y="89"/>
                </a:cubicBezTo>
                <a:cubicBezTo>
                  <a:pt x="163" y="93"/>
                  <a:pt x="170" y="93"/>
                  <a:pt x="176" y="95"/>
                </a:cubicBezTo>
                <a:cubicBezTo>
                  <a:pt x="180" y="107"/>
                  <a:pt x="187" y="105"/>
                  <a:pt x="194" y="116"/>
                </a:cubicBezTo>
                <a:cubicBezTo>
                  <a:pt x="181" y="120"/>
                  <a:pt x="176" y="113"/>
                  <a:pt x="164" y="107"/>
                </a:cubicBezTo>
                <a:cubicBezTo>
                  <a:pt x="185" y="106"/>
                  <a:pt x="207" y="110"/>
                  <a:pt x="227" y="104"/>
                </a:cubicBezTo>
                <a:cubicBezTo>
                  <a:pt x="232" y="103"/>
                  <a:pt x="228" y="92"/>
                  <a:pt x="224" y="89"/>
                </a:cubicBezTo>
                <a:cubicBezTo>
                  <a:pt x="221" y="86"/>
                  <a:pt x="216" y="91"/>
                  <a:pt x="212" y="92"/>
                </a:cubicBezTo>
                <a:cubicBezTo>
                  <a:pt x="209" y="94"/>
                  <a:pt x="178" y="115"/>
                  <a:pt x="203" y="107"/>
                </a:cubicBezTo>
                <a:cubicBezTo>
                  <a:pt x="217" y="116"/>
                  <a:pt x="259" y="121"/>
                  <a:pt x="236" y="98"/>
                </a:cubicBezTo>
                <a:cubicBezTo>
                  <a:pt x="208" y="103"/>
                  <a:pt x="217" y="94"/>
                  <a:pt x="209" y="71"/>
                </a:cubicBezTo>
                <a:cubicBezTo>
                  <a:pt x="195" y="76"/>
                  <a:pt x="195" y="83"/>
                  <a:pt x="182" y="74"/>
                </a:cubicBezTo>
                <a:cubicBezTo>
                  <a:pt x="177" y="59"/>
                  <a:pt x="187" y="62"/>
                  <a:pt x="200" y="59"/>
                </a:cubicBezTo>
                <a:cubicBezTo>
                  <a:pt x="209" y="33"/>
                  <a:pt x="161" y="65"/>
                  <a:pt x="188" y="56"/>
                </a:cubicBezTo>
                <a:cubicBezTo>
                  <a:pt x="204" y="59"/>
                  <a:pt x="211" y="61"/>
                  <a:pt x="221" y="47"/>
                </a:cubicBezTo>
                <a:cubicBezTo>
                  <a:pt x="232" y="79"/>
                  <a:pt x="211" y="87"/>
                  <a:pt x="254" y="77"/>
                </a:cubicBezTo>
                <a:cubicBezTo>
                  <a:pt x="236" y="73"/>
                  <a:pt x="234" y="64"/>
                  <a:pt x="221" y="77"/>
                </a:cubicBezTo>
                <a:cubicBezTo>
                  <a:pt x="225" y="78"/>
                  <a:pt x="278" y="86"/>
                  <a:pt x="281" y="89"/>
                </a:cubicBezTo>
                <a:cubicBezTo>
                  <a:pt x="284" y="92"/>
                  <a:pt x="278" y="98"/>
                  <a:pt x="275" y="101"/>
                </a:cubicBezTo>
                <a:cubicBezTo>
                  <a:pt x="267" y="109"/>
                  <a:pt x="246" y="116"/>
                  <a:pt x="236" y="119"/>
                </a:cubicBezTo>
                <a:cubicBezTo>
                  <a:pt x="200" y="95"/>
                  <a:pt x="236" y="111"/>
                  <a:pt x="203" y="119"/>
                </a:cubicBezTo>
                <a:cubicBezTo>
                  <a:pt x="214" y="102"/>
                  <a:pt x="204" y="111"/>
                  <a:pt x="233" y="116"/>
                </a:cubicBezTo>
                <a:cubicBezTo>
                  <a:pt x="245" y="118"/>
                  <a:pt x="269" y="122"/>
                  <a:pt x="269" y="122"/>
                </a:cubicBezTo>
                <a:cubicBezTo>
                  <a:pt x="286" y="116"/>
                  <a:pt x="284" y="107"/>
                  <a:pt x="290" y="92"/>
                </a:cubicBezTo>
                <a:cubicBezTo>
                  <a:pt x="291" y="89"/>
                  <a:pt x="299" y="86"/>
                  <a:pt x="296" y="83"/>
                </a:cubicBezTo>
                <a:cubicBezTo>
                  <a:pt x="293" y="80"/>
                  <a:pt x="290" y="87"/>
                  <a:pt x="287" y="89"/>
                </a:cubicBezTo>
                <a:cubicBezTo>
                  <a:pt x="286" y="93"/>
                  <a:pt x="281" y="98"/>
                  <a:pt x="284" y="101"/>
                </a:cubicBezTo>
                <a:cubicBezTo>
                  <a:pt x="287" y="104"/>
                  <a:pt x="292" y="98"/>
                  <a:pt x="296" y="98"/>
                </a:cubicBezTo>
                <a:cubicBezTo>
                  <a:pt x="306" y="98"/>
                  <a:pt x="316" y="100"/>
                  <a:pt x="326" y="101"/>
                </a:cubicBezTo>
                <a:cubicBezTo>
                  <a:pt x="328" y="105"/>
                  <a:pt x="334" y="109"/>
                  <a:pt x="332" y="113"/>
                </a:cubicBezTo>
                <a:cubicBezTo>
                  <a:pt x="330" y="116"/>
                  <a:pt x="323" y="112"/>
                  <a:pt x="320" y="110"/>
                </a:cubicBezTo>
                <a:cubicBezTo>
                  <a:pt x="314" y="106"/>
                  <a:pt x="309" y="87"/>
                  <a:pt x="308" y="83"/>
                </a:cubicBezTo>
                <a:cubicBezTo>
                  <a:pt x="305" y="73"/>
                  <a:pt x="328" y="87"/>
                  <a:pt x="338" y="89"/>
                </a:cubicBezTo>
                <a:cubicBezTo>
                  <a:pt x="347" y="90"/>
                  <a:pt x="356" y="91"/>
                  <a:pt x="365" y="92"/>
                </a:cubicBezTo>
                <a:cubicBezTo>
                  <a:pt x="372" y="113"/>
                  <a:pt x="377" y="108"/>
                  <a:pt x="362" y="113"/>
                </a:cubicBezTo>
                <a:cubicBezTo>
                  <a:pt x="319" y="102"/>
                  <a:pt x="352" y="99"/>
                  <a:pt x="374" y="77"/>
                </a:cubicBezTo>
                <a:cubicBezTo>
                  <a:pt x="364" y="48"/>
                  <a:pt x="356" y="94"/>
                  <a:pt x="356" y="98"/>
                </a:cubicBezTo>
                <a:cubicBezTo>
                  <a:pt x="366" y="128"/>
                  <a:pt x="355" y="125"/>
                  <a:pt x="326" y="122"/>
                </a:cubicBezTo>
                <a:cubicBezTo>
                  <a:pt x="313" y="113"/>
                  <a:pt x="313" y="107"/>
                  <a:pt x="317" y="92"/>
                </a:cubicBezTo>
                <a:cubicBezTo>
                  <a:pt x="313" y="76"/>
                  <a:pt x="312" y="72"/>
                  <a:pt x="296" y="68"/>
                </a:cubicBezTo>
                <a:cubicBezTo>
                  <a:pt x="279" y="72"/>
                  <a:pt x="275" y="84"/>
                  <a:pt x="266" y="65"/>
                </a:cubicBezTo>
                <a:cubicBezTo>
                  <a:pt x="283" y="43"/>
                  <a:pt x="282" y="61"/>
                  <a:pt x="305" y="53"/>
                </a:cubicBezTo>
                <a:cubicBezTo>
                  <a:pt x="314" y="27"/>
                  <a:pt x="294" y="73"/>
                  <a:pt x="287" y="80"/>
                </a:cubicBezTo>
                <a:cubicBezTo>
                  <a:pt x="300" y="89"/>
                  <a:pt x="311" y="82"/>
                  <a:pt x="326" y="77"/>
                </a:cubicBezTo>
                <a:cubicBezTo>
                  <a:pt x="332" y="65"/>
                  <a:pt x="330" y="54"/>
                  <a:pt x="344" y="59"/>
                </a:cubicBezTo>
                <a:cubicBezTo>
                  <a:pt x="347" y="63"/>
                  <a:pt x="351" y="67"/>
                  <a:pt x="353" y="71"/>
                </a:cubicBezTo>
                <a:cubicBezTo>
                  <a:pt x="355" y="74"/>
                  <a:pt x="353" y="79"/>
                  <a:pt x="356" y="80"/>
                </a:cubicBezTo>
                <a:cubicBezTo>
                  <a:pt x="361" y="81"/>
                  <a:pt x="404" y="75"/>
                  <a:pt x="413" y="74"/>
                </a:cubicBezTo>
                <a:cubicBezTo>
                  <a:pt x="416" y="72"/>
                  <a:pt x="418" y="68"/>
                  <a:pt x="422" y="68"/>
                </a:cubicBezTo>
                <a:cubicBezTo>
                  <a:pt x="431" y="69"/>
                  <a:pt x="449" y="77"/>
                  <a:pt x="449" y="77"/>
                </a:cubicBezTo>
                <a:cubicBezTo>
                  <a:pt x="444" y="114"/>
                  <a:pt x="460" y="139"/>
                  <a:pt x="422" y="101"/>
                </a:cubicBezTo>
                <a:cubicBezTo>
                  <a:pt x="420" y="93"/>
                  <a:pt x="419" y="85"/>
                  <a:pt x="416" y="77"/>
                </a:cubicBezTo>
                <a:cubicBezTo>
                  <a:pt x="415" y="74"/>
                  <a:pt x="409" y="71"/>
                  <a:pt x="410" y="68"/>
                </a:cubicBezTo>
                <a:cubicBezTo>
                  <a:pt x="413" y="60"/>
                  <a:pt x="428" y="50"/>
                  <a:pt x="428" y="50"/>
                </a:cubicBezTo>
                <a:cubicBezTo>
                  <a:pt x="427" y="63"/>
                  <a:pt x="416" y="83"/>
                  <a:pt x="428" y="89"/>
                </a:cubicBezTo>
                <a:cubicBezTo>
                  <a:pt x="431" y="90"/>
                  <a:pt x="437" y="83"/>
                  <a:pt x="437" y="86"/>
                </a:cubicBezTo>
                <a:cubicBezTo>
                  <a:pt x="437" y="93"/>
                  <a:pt x="418" y="93"/>
                  <a:pt x="404" y="95"/>
                </a:cubicBezTo>
                <a:cubicBezTo>
                  <a:pt x="386" y="101"/>
                  <a:pt x="398" y="116"/>
                  <a:pt x="386" y="98"/>
                </a:cubicBezTo>
                <a:cubicBezTo>
                  <a:pt x="396" y="63"/>
                  <a:pt x="395" y="87"/>
                  <a:pt x="413" y="62"/>
                </a:cubicBezTo>
                <a:cubicBezTo>
                  <a:pt x="418" y="46"/>
                  <a:pt x="406" y="19"/>
                  <a:pt x="428" y="26"/>
                </a:cubicBezTo>
                <a:cubicBezTo>
                  <a:pt x="441" y="17"/>
                  <a:pt x="446" y="24"/>
                  <a:pt x="458" y="32"/>
                </a:cubicBezTo>
                <a:cubicBezTo>
                  <a:pt x="538" y="27"/>
                  <a:pt x="501" y="32"/>
                  <a:pt x="464" y="44"/>
                </a:cubicBezTo>
                <a:cubicBezTo>
                  <a:pt x="454" y="23"/>
                  <a:pt x="439" y="33"/>
                  <a:pt x="422" y="44"/>
                </a:cubicBezTo>
                <a:cubicBezTo>
                  <a:pt x="409" y="25"/>
                  <a:pt x="406" y="46"/>
                  <a:pt x="404" y="59"/>
                </a:cubicBezTo>
                <a:cubicBezTo>
                  <a:pt x="397" y="57"/>
                  <a:pt x="374" y="51"/>
                  <a:pt x="374" y="50"/>
                </a:cubicBezTo>
                <a:cubicBezTo>
                  <a:pt x="371" y="36"/>
                  <a:pt x="396" y="26"/>
                  <a:pt x="404" y="23"/>
                </a:cubicBezTo>
                <a:cubicBezTo>
                  <a:pt x="396" y="0"/>
                  <a:pt x="391" y="15"/>
                  <a:pt x="386" y="32"/>
                </a:cubicBezTo>
                <a:cubicBezTo>
                  <a:pt x="388" y="49"/>
                  <a:pt x="393" y="70"/>
                  <a:pt x="371" y="56"/>
                </a:cubicBezTo>
                <a:cubicBezTo>
                  <a:pt x="367" y="40"/>
                  <a:pt x="367" y="45"/>
                  <a:pt x="371" y="26"/>
                </a:cubicBezTo>
                <a:cubicBezTo>
                  <a:pt x="372" y="23"/>
                  <a:pt x="374" y="14"/>
                  <a:pt x="374" y="17"/>
                </a:cubicBezTo>
                <a:cubicBezTo>
                  <a:pt x="374" y="30"/>
                  <a:pt x="369" y="45"/>
                  <a:pt x="362" y="56"/>
                </a:cubicBezTo>
                <a:cubicBezTo>
                  <a:pt x="369" y="90"/>
                  <a:pt x="358" y="62"/>
                  <a:pt x="413" y="68"/>
                </a:cubicBezTo>
                <a:cubicBezTo>
                  <a:pt x="421" y="69"/>
                  <a:pt x="425" y="79"/>
                  <a:pt x="431" y="83"/>
                </a:cubicBezTo>
                <a:cubicBezTo>
                  <a:pt x="459" y="76"/>
                  <a:pt x="454" y="78"/>
                  <a:pt x="476" y="89"/>
                </a:cubicBezTo>
                <a:cubicBezTo>
                  <a:pt x="491" y="82"/>
                  <a:pt x="495" y="70"/>
                  <a:pt x="500" y="89"/>
                </a:cubicBezTo>
                <a:cubicBezTo>
                  <a:pt x="498" y="93"/>
                  <a:pt x="498" y="99"/>
                  <a:pt x="494" y="101"/>
                </a:cubicBezTo>
                <a:cubicBezTo>
                  <a:pt x="488" y="103"/>
                  <a:pt x="482" y="99"/>
                  <a:pt x="476" y="98"/>
                </a:cubicBezTo>
                <a:cubicBezTo>
                  <a:pt x="473" y="97"/>
                  <a:pt x="467" y="92"/>
                  <a:pt x="467" y="95"/>
                </a:cubicBezTo>
                <a:cubicBezTo>
                  <a:pt x="467" y="105"/>
                  <a:pt x="487" y="103"/>
                  <a:pt x="497" y="104"/>
                </a:cubicBezTo>
                <a:cubicBezTo>
                  <a:pt x="514" y="95"/>
                  <a:pt x="515" y="91"/>
                  <a:pt x="527" y="107"/>
                </a:cubicBezTo>
                <a:cubicBezTo>
                  <a:pt x="523" y="108"/>
                  <a:pt x="519" y="111"/>
                  <a:pt x="515" y="110"/>
                </a:cubicBezTo>
                <a:cubicBezTo>
                  <a:pt x="511" y="109"/>
                  <a:pt x="510" y="104"/>
                  <a:pt x="506" y="104"/>
                </a:cubicBezTo>
                <a:cubicBezTo>
                  <a:pt x="499" y="104"/>
                  <a:pt x="494" y="111"/>
                  <a:pt x="488" y="113"/>
                </a:cubicBezTo>
                <a:cubicBezTo>
                  <a:pt x="461" y="110"/>
                  <a:pt x="450" y="112"/>
                  <a:pt x="467" y="89"/>
                </a:cubicBezTo>
                <a:cubicBezTo>
                  <a:pt x="487" y="94"/>
                  <a:pt x="521" y="78"/>
                  <a:pt x="542" y="74"/>
                </a:cubicBezTo>
                <a:cubicBezTo>
                  <a:pt x="544" y="68"/>
                  <a:pt x="542" y="56"/>
                  <a:pt x="548" y="56"/>
                </a:cubicBezTo>
                <a:cubicBezTo>
                  <a:pt x="563" y="56"/>
                  <a:pt x="550" y="86"/>
                  <a:pt x="551" y="89"/>
                </a:cubicBezTo>
                <a:cubicBezTo>
                  <a:pt x="552" y="92"/>
                  <a:pt x="557" y="87"/>
                  <a:pt x="560" y="86"/>
                </a:cubicBezTo>
                <a:cubicBezTo>
                  <a:pt x="554" y="105"/>
                  <a:pt x="526" y="102"/>
                  <a:pt x="509" y="104"/>
                </a:cubicBezTo>
                <a:cubicBezTo>
                  <a:pt x="505" y="103"/>
                  <a:pt x="498" y="105"/>
                  <a:pt x="497" y="101"/>
                </a:cubicBezTo>
                <a:cubicBezTo>
                  <a:pt x="494" y="91"/>
                  <a:pt x="510" y="96"/>
                  <a:pt x="524" y="98"/>
                </a:cubicBezTo>
                <a:cubicBezTo>
                  <a:pt x="532" y="99"/>
                  <a:pt x="540" y="100"/>
                  <a:pt x="548" y="101"/>
                </a:cubicBezTo>
                <a:cubicBezTo>
                  <a:pt x="569" y="98"/>
                  <a:pt x="591" y="84"/>
                  <a:pt x="599" y="107"/>
                </a:cubicBezTo>
                <a:cubicBezTo>
                  <a:pt x="615" y="84"/>
                  <a:pt x="581" y="101"/>
                  <a:pt x="572" y="107"/>
                </a:cubicBezTo>
                <a:cubicBezTo>
                  <a:pt x="557" y="104"/>
                  <a:pt x="543" y="104"/>
                  <a:pt x="530" y="95"/>
                </a:cubicBezTo>
                <a:cubicBezTo>
                  <a:pt x="536" y="71"/>
                  <a:pt x="527" y="92"/>
                  <a:pt x="557" y="80"/>
                </a:cubicBezTo>
                <a:cubicBezTo>
                  <a:pt x="560" y="79"/>
                  <a:pt x="569" y="60"/>
                  <a:pt x="569" y="59"/>
                </a:cubicBezTo>
                <a:cubicBezTo>
                  <a:pt x="573" y="36"/>
                  <a:pt x="574" y="14"/>
                  <a:pt x="584" y="56"/>
                </a:cubicBezTo>
                <a:cubicBezTo>
                  <a:pt x="586" y="64"/>
                  <a:pt x="600" y="58"/>
                  <a:pt x="608" y="59"/>
                </a:cubicBezTo>
                <a:cubicBezTo>
                  <a:pt x="618" y="121"/>
                  <a:pt x="596" y="21"/>
                  <a:pt x="641" y="71"/>
                </a:cubicBezTo>
                <a:cubicBezTo>
                  <a:pt x="650" y="81"/>
                  <a:pt x="643" y="99"/>
                  <a:pt x="644" y="113"/>
                </a:cubicBezTo>
                <a:cubicBezTo>
                  <a:pt x="657" y="93"/>
                  <a:pt x="641" y="113"/>
                  <a:pt x="632" y="116"/>
                </a:cubicBezTo>
                <a:cubicBezTo>
                  <a:pt x="615" y="114"/>
                  <a:pt x="603" y="109"/>
                  <a:pt x="587" y="113"/>
                </a:cubicBezTo>
                <a:cubicBezTo>
                  <a:pt x="586" y="119"/>
                  <a:pt x="580" y="127"/>
                  <a:pt x="584" y="131"/>
                </a:cubicBezTo>
                <a:cubicBezTo>
                  <a:pt x="591" y="138"/>
                  <a:pt x="593" y="113"/>
                  <a:pt x="602" y="110"/>
                </a:cubicBezTo>
                <a:cubicBezTo>
                  <a:pt x="613" y="107"/>
                  <a:pt x="624" y="108"/>
                  <a:pt x="635" y="107"/>
                </a:cubicBezTo>
                <a:cubicBezTo>
                  <a:pt x="629" y="67"/>
                  <a:pt x="637" y="77"/>
                  <a:pt x="611" y="86"/>
                </a:cubicBezTo>
                <a:cubicBezTo>
                  <a:pt x="587" y="80"/>
                  <a:pt x="598" y="72"/>
                  <a:pt x="614" y="68"/>
                </a:cubicBezTo>
                <a:cubicBezTo>
                  <a:pt x="638" y="52"/>
                  <a:pt x="609" y="63"/>
                  <a:pt x="602" y="68"/>
                </a:cubicBezTo>
                <a:cubicBezTo>
                  <a:pt x="593" y="87"/>
                  <a:pt x="586" y="83"/>
                  <a:pt x="566" y="80"/>
                </a:cubicBezTo>
                <a:cubicBezTo>
                  <a:pt x="600" y="57"/>
                  <a:pt x="583" y="65"/>
                  <a:pt x="617" y="56"/>
                </a:cubicBezTo>
                <a:cubicBezTo>
                  <a:pt x="631" y="35"/>
                  <a:pt x="614" y="36"/>
                  <a:pt x="593" y="29"/>
                </a:cubicBezTo>
                <a:cubicBezTo>
                  <a:pt x="581" y="30"/>
                  <a:pt x="567" y="26"/>
                  <a:pt x="557" y="32"/>
                </a:cubicBezTo>
                <a:cubicBezTo>
                  <a:pt x="538" y="43"/>
                  <a:pt x="555" y="61"/>
                  <a:pt x="533" y="68"/>
                </a:cubicBezTo>
                <a:cubicBezTo>
                  <a:pt x="525" y="80"/>
                  <a:pt x="522" y="86"/>
                  <a:pt x="509" y="77"/>
                </a:cubicBezTo>
                <a:cubicBezTo>
                  <a:pt x="507" y="73"/>
                  <a:pt x="503" y="69"/>
                  <a:pt x="503" y="65"/>
                </a:cubicBezTo>
                <a:cubicBezTo>
                  <a:pt x="503" y="61"/>
                  <a:pt x="510" y="59"/>
                  <a:pt x="509" y="56"/>
                </a:cubicBezTo>
                <a:cubicBezTo>
                  <a:pt x="507" y="49"/>
                  <a:pt x="497" y="51"/>
                  <a:pt x="491" y="47"/>
                </a:cubicBezTo>
                <a:cubicBezTo>
                  <a:pt x="489" y="51"/>
                  <a:pt x="489" y="56"/>
                  <a:pt x="485" y="59"/>
                </a:cubicBezTo>
                <a:cubicBezTo>
                  <a:pt x="481" y="62"/>
                  <a:pt x="465" y="62"/>
                  <a:pt x="470" y="62"/>
                </a:cubicBezTo>
                <a:cubicBezTo>
                  <a:pt x="496" y="64"/>
                  <a:pt x="522" y="64"/>
                  <a:pt x="548" y="65"/>
                </a:cubicBezTo>
                <a:cubicBezTo>
                  <a:pt x="551" y="69"/>
                  <a:pt x="553" y="80"/>
                  <a:pt x="557" y="77"/>
                </a:cubicBezTo>
                <a:cubicBezTo>
                  <a:pt x="563" y="72"/>
                  <a:pt x="563" y="53"/>
                  <a:pt x="563" y="53"/>
                </a:cubicBezTo>
                <a:cubicBezTo>
                  <a:pt x="545" y="41"/>
                  <a:pt x="536" y="29"/>
                  <a:pt x="560" y="17"/>
                </a:cubicBezTo>
                <a:cubicBezTo>
                  <a:pt x="563" y="19"/>
                  <a:pt x="567" y="20"/>
                  <a:pt x="569" y="23"/>
                </a:cubicBezTo>
                <a:cubicBezTo>
                  <a:pt x="572" y="28"/>
                  <a:pt x="569" y="38"/>
                  <a:pt x="575" y="41"/>
                </a:cubicBezTo>
                <a:cubicBezTo>
                  <a:pt x="604" y="55"/>
                  <a:pt x="572" y="42"/>
                  <a:pt x="566" y="41"/>
                </a:cubicBezTo>
                <a:cubicBezTo>
                  <a:pt x="569" y="24"/>
                  <a:pt x="571" y="21"/>
                  <a:pt x="587" y="26"/>
                </a:cubicBezTo>
                <a:cubicBezTo>
                  <a:pt x="571" y="33"/>
                  <a:pt x="561" y="43"/>
                  <a:pt x="545" y="47"/>
                </a:cubicBezTo>
                <a:cubicBezTo>
                  <a:pt x="525" y="43"/>
                  <a:pt x="520" y="41"/>
                  <a:pt x="524" y="20"/>
                </a:cubicBezTo>
                <a:cubicBezTo>
                  <a:pt x="544" y="27"/>
                  <a:pt x="557" y="34"/>
                  <a:pt x="578" y="29"/>
                </a:cubicBezTo>
                <a:cubicBezTo>
                  <a:pt x="584" y="54"/>
                  <a:pt x="579" y="51"/>
                  <a:pt x="611" y="47"/>
                </a:cubicBezTo>
                <a:cubicBezTo>
                  <a:pt x="626" y="68"/>
                  <a:pt x="614" y="72"/>
                  <a:pt x="644" y="68"/>
                </a:cubicBezTo>
                <a:cubicBezTo>
                  <a:pt x="670" y="50"/>
                  <a:pt x="630" y="75"/>
                  <a:pt x="647" y="86"/>
                </a:cubicBezTo>
                <a:cubicBezTo>
                  <a:pt x="656" y="92"/>
                  <a:pt x="669" y="82"/>
                  <a:pt x="680" y="80"/>
                </a:cubicBezTo>
                <a:cubicBezTo>
                  <a:pt x="668" y="115"/>
                  <a:pt x="700" y="102"/>
                  <a:pt x="725" y="98"/>
                </a:cubicBezTo>
                <a:cubicBezTo>
                  <a:pt x="688" y="110"/>
                  <a:pt x="732" y="112"/>
                  <a:pt x="659" y="107"/>
                </a:cubicBezTo>
                <a:cubicBezTo>
                  <a:pt x="648" y="90"/>
                  <a:pt x="653" y="106"/>
                  <a:pt x="680" y="101"/>
                </a:cubicBezTo>
                <a:cubicBezTo>
                  <a:pt x="682" y="95"/>
                  <a:pt x="688" y="89"/>
                  <a:pt x="686" y="83"/>
                </a:cubicBezTo>
                <a:cubicBezTo>
                  <a:pt x="685" y="80"/>
                  <a:pt x="680" y="75"/>
                  <a:pt x="683" y="74"/>
                </a:cubicBezTo>
                <a:cubicBezTo>
                  <a:pt x="686" y="72"/>
                  <a:pt x="689" y="78"/>
                  <a:pt x="692" y="80"/>
                </a:cubicBezTo>
                <a:cubicBezTo>
                  <a:pt x="694" y="88"/>
                  <a:pt x="697" y="101"/>
                  <a:pt x="698" y="101"/>
                </a:cubicBezTo>
                <a:cubicBezTo>
                  <a:pt x="713" y="101"/>
                  <a:pt x="723" y="93"/>
                  <a:pt x="734" y="86"/>
                </a:cubicBezTo>
                <a:cubicBezTo>
                  <a:pt x="728" y="103"/>
                  <a:pt x="742" y="100"/>
                  <a:pt x="749" y="89"/>
                </a:cubicBezTo>
                <a:cubicBezTo>
                  <a:pt x="759" y="118"/>
                  <a:pt x="724" y="111"/>
                  <a:pt x="704" y="113"/>
                </a:cubicBezTo>
                <a:cubicBezTo>
                  <a:pt x="694" y="116"/>
                  <a:pt x="687" y="122"/>
                  <a:pt x="677" y="125"/>
                </a:cubicBezTo>
                <a:cubicBezTo>
                  <a:pt x="665" y="113"/>
                  <a:pt x="663" y="116"/>
                  <a:pt x="650" y="125"/>
                </a:cubicBezTo>
                <a:cubicBezTo>
                  <a:pt x="643" y="105"/>
                  <a:pt x="593" y="122"/>
                  <a:pt x="575" y="128"/>
                </a:cubicBezTo>
                <a:cubicBezTo>
                  <a:pt x="547" y="121"/>
                  <a:pt x="557" y="127"/>
                  <a:pt x="557" y="92"/>
                </a:cubicBezTo>
                <a:cubicBezTo>
                  <a:pt x="557" y="89"/>
                  <a:pt x="556" y="99"/>
                  <a:pt x="554" y="101"/>
                </a:cubicBezTo>
                <a:cubicBezTo>
                  <a:pt x="549" y="107"/>
                  <a:pt x="540" y="108"/>
                  <a:pt x="533" y="110"/>
                </a:cubicBezTo>
                <a:cubicBezTo>
                  <a:pt x="517" y="122"/>
                  <a:pt x="516" y="114"/>
                  <a:pt x="500" y="119"/>
                </a:cubicBezTo>
                <a:cubicBezTo>
                  <a:pt x="476" y="103"/>
                  <a:pt x="507" y="128"/>
                  <a:pt x="494" y="95"/>
                </a:cubicBezTo>
                <a:cubicBezTo>
                  <a:pt x="493" y="92"/>
                  <a:pt x="488" y="97"/>
                  <a:pt x="485" y="98"/>
                </a:cubicBezTo>
                <a:cubicBezTo>
                  <a:pt x="477" y="102"/>
                  <a:pt x="461" y="110"/>
                  <a:pt x="461" y="110"/>
                </a:cubicBezTo>
                <a:cubicBezTo>
                  <a:pt x="459" y="113"/>
                  <a:pt x="459" y="119"/>
                  <a:pt x="455" y="119"/>
                </a:cubicBezTo>
                <a:cubicBezTo>
                  <a:pt x="449" y="120"/>
                  <a:pt x="443" y="115"/>
                  <a:pt x="437" y="113"/>
                </a:cubicBezTo>
                <a:cubicBezTo>
                  <a:pt x="434" y="112"/>
                  <a:pt x="428" y="110"/>
                  <a:pt x="428" y="110"/>
                </a:cubicBezTo>
                <a:cubicBezTo>
                  <a:pt x="404" y="126"/>
                  <a:pt x="434" y="110"/>
                  <a:pt x="410" y="110"/>
                </a:cubicBezTo>
                <a:cubicBezTo>
                  <a:pt x="403" y="110"/>
                  <a:pt x="396" y="116"/>
                  <a:pt x="389" y="116"/>
                </a:cubicBezTo>
              </a:path>
            </a:pathLst>
          </a:custGeom>
          <a:solidFill>
            <a:srgbClr val="99ff99"/>
          </a:solidFill>
          <a:ln w="648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7721360" y="17049600"/>
            <a:ext cx="1204920" cy="220680"/>
          </a:xfrm>
          <a:custGeom>
            <a:avLst/>
            <a:gdLst/>
            <a:ahLst/>
            <a:rect l="l" t="t" r="r" b="b"/>
            <a:pathLst>
              <a:path w="759" h="139">
                <a:moveTo>
                  <a:pt x="35" y="119"/>
                </a:moveTo>
                <a:cubicBezTo>
                  <a:pt x="0" y="128"/>
                  <a:pt x="15" y="116"/>
                  <a:pt x="35" y="110"/>
                </a:cubicBezTo>
                <a:cubicBezTo>
                  <a:pt x="38" y="109"/>
                  <a:pt x="41" y="108"/>
                  <a:pt x="44" y="107"/>
                </a:cubicBezTo>
                <a:cubicBezTo>
                  <a:pt x="59" y="117"/>
                  <a:pt x="61" y="108"/>
                  <a:pt x="71" y="95"/>
                </a:cubicBezTo>
                <a:cubicBezTo>
                  <a:pt x="76" y="100"/>
                  <a:pt x="88" y="108"/>
                  <a:pt x="83" y="113"/>
                </a:cubicBezTo>
                <a:cubicBezTo>
                  <a:pt x="79" y="117"/>
                  <a:pt x="73" y="115"/>
                  <a:pt x="68" y="116"/>
                </a:cubicBezTo>
                <a:cubicBezTo>
                  <a:pt x="65" y="117"/>
                  <a:pt x="59" y="122"/>
                  <a:pt x="59" y="119"/>
                </a:cubicBezTo>
                <a:cubicBezTo>
                  <a:pt x="59" y="115"/>
                  <a:pt x="65" y="114"/>
                  <a:pt x="68" y="113"/>
                </a:cubicBezTo>
                <a:cubicBezTo>
                  <a:pt x="72" y="111"/>
                  <a:pt x="76" y="111"/>
                  <a:pt x="80" y="110"/>
                </a:cubicBezTo>
                <a:cubicBezTo>
                  <a:pt x="82" y="107"/>
                  <a:pt x="82" y="102"/>
                  <a:pt x="86" y="101"/>
                </a:cubicBezTo>
                <a:cubicBezTo>
                  <a:pt x="97" y="99"/>
                  <a:pt x="94" y="112"/>
                  <a:pt x="98" y="116"/>
                </a:cubicBezTo>
                <a:cubicBezTo>
                  <a:pt x="100" y="118"/>
                  <a:pt x="110" y="119"/>
                  <a:pt x="107" y="119"/>
                </a:cubicBezTo>
                <a:cubicBezTo>
                  <a:pt x="101" y="119"/>
                  <a:pt x="95" y="117"/>
                  <a:pt x="89" y="116"/>
                </a:cubicBezTo>
                <a:cubicBezTo>
                  <a:pt x="101" y="108"/>
                  <a:pt x="111" y="111"/>
                  <a:pt x="119" y="98"/>
                </a:cubicBezTo>
                <a:cubicBezTo>
                  <a:pt x="103" y="93"/>
                  <a:pt x="102" y="108"/>
                  <a:pt x="92" y="92"/>
                </a:cubicBezTo>
                <a:cubicBezTo>
                  <a:pt x="106" y="88"/>
                  <a:pt x="111" y="92"/>
                  <a:pt x="125" y="95"/>
                </a:cubicBezTo>
                <a:cubicBezTo>
                  <a:pt x="131" y="78"/>
                  <a:pt x="128" y="93"/>
                  <a:pt x="107" y="83"/>
                </a:cubicBezTo>
                <a:cubicBezTo>
                  <a:pt x="113" y="81"/>
                  <a:pt x="120" y="70"/>
                  <a:pt x="125" y="74"/>
                </a:cubicBezTo>
                <a:cubicBezTo>
                  <a:pt x="129" y="77"/>
                  <a:pt x="124" y="85"/>
                  <a:pt x="128" y="89"/>
                </a:cubicBezTo>
                <a:cubicBezTo>
                  <a:pt x="135" y="96"/>
                  <a:pt x="155" y="98"/>
                  <a:pt x="155" y="98"/>
                </a:cubicBezTo>
                <a:cubicBezTo>
                  <a:pt x="145" y="113"/>
                  <a:pt x="129" y="108"/>
                  <a:pt x="113" y="116"/>
                </a:cubicBezTo>
                <a:cubicBezTo>
                  <a:pt x="103" y="130"/>
                  <a:pt x="97" y="123"/>
                  <a:pt x="83" y="116"/>
                </a:cubicBezTo>
                <a:cubicBezTo>
                  <a:pt x="63" y="123"/>
                  <a:pt x="88" y="123"/>
                  <a:pt x="95" y="125"/>
                </a:cubicBezTo>
                <a:cubicBezTo>
                  <a:pt x="124" y="122"/>
                  <a:pt x="139" y="119"/>
                  <a:pt x="164" y="107"/>
                </a:cubicBezTo>
                <a:cubicBezTo>
                  <a:pt x="157" y="85"/>
                  <a:pt x="160" y="114"/>
                  <a:pt x="146" y="92"/>
                </a:cubicBezTo>
                <a:cubicBezTo>
                  <a:pt x="157" y="88"/>
                  <a:pt x="169" y="91"/>
                  <a:pt x="179" y="86"/>
                </a:cubicBezTo>
                <a:cubicBezTo>
                  <a:pt x="182" y="85"/>
                  <a:pt x="185" y="78"/>
                  <a:pt x="182" y="77"/>
                </a:cubicBezTo>
                <a:cubicBezTo>
                  <a:pt x="175" y="75"/>
                  <a:pt x="168" y="79"/>
                  <a:pt x="161" y="80"/>
                </a:cubicBezTo>
                <a:cubicBezTo>
                  <a:pt x="158" y="79"/>
                  <a:pt x="155" y="78"/>
                  <a:pt x="152" y="77"/>
                </a:cubicBezTo>
                <a:cubicBezTo>
                  <a:pt x="148" y="76"/>
                  <a:pt x="154" y="86"/>
                  <a:pt x="158" y="89"/>
                </a:cubicBezTo>
                <a:cubicBezTo>
                  <a:pt x="163" y="93"/>
                  <a:pt x="170" y="93"/>
                  <a:pt x="176" y="95"/>
                </a:cubicBezTo>
                <a:cubicBezTo>
                  <a:pt x="180" y="107"/>
                  <a:pt x="187" y="105"/>
                  <a:pt x="194" y="116"/>
                </a:cubicBezTo>
                <a:cubicBezTo>
                  <a:pt x="181" y="120"/>
                  <a:pt x="176" y="113"/>
                  <a:pt x="164" y="107"/>
                </a:cubicBezTo>
                <a:cubicBezTo>
                  <a:pt x="185" y="106"/>
                  <a:pt x="207" y="110"/>
                  <a:pt x="227" y="104"/>
                </a:cubicBezTo>
                <a:cubicBezTo>
                  <a:pt x="232" y="103"/>
                  <a:pt x="228" y="92"/>
                  <a:pt x="224" y="89"/>
                </a:cubicBezTo>
                <a:cubicBezTo>
                  <a:pt x="221" y="86"/>
                  <a:pt x="216" y="91"/>
                  <a:pt x="212" y="92"/>
                </a:cubicBezTo>
                <a:cubicBezTo>
                  <a:pt x="209" y="94"/>
                  <a:pt x="178" y="115"/>
                  <a:pt x="203" y="107"/>
                </a:cubicBezTo>
                <a:cubicBezTo>
                  <a:pt x="217" y="116"/>
                  <a:pt x="259" y="121"/>
                  <a:pt x="236" y="98"/>
                </a:cubicBezTo>
                <a:cubicBezTo>
                  <a:pt x="208" y="103"/>
                  <a:pt x="217" y="94"/>
                  <a:pt x="209" y="71"/>
                </a:cubicBezTo>
                <a:cubicBezTo>
                  <a:pt x="195" y="76"/>
                  <a:pt x="195" y="83"/>
                  <a:pt x="182" y="74"/>
                </a:cubicBezTo>
                <a:cubicBezTo>
                  <a:pt x="177" y="59"/>
                  <a:pt x="187" y="62"/>
                  <a:pt x="200" y="59"/>
                </a:cubicBezTo>
                <a:cubicBezTo>
                  <a:pt x="209" y="33"/>
                  <a:pt x="161" y="65"/>
                  <a:pt x="188" y="56"/>
                </a:cubicBezTo>
                <a:cubicBezTo>
                  <a:pt x="204" y="59"/>
                  <a:pt x="211" y="61"/>
                  <a:pt x="221" y="47"/>
                </a:cubicBezTo>
                <a:cubicBezTo>
                  <a:pt x="232" y="79"/>
                  <a:pt x="211" y="87"/>
                  <a:pt x="254" y="77"/>
                </a:cubicBezTo>
                <a:cubicBezTo>
                  <a:pt x="236" y="73"/>
                  <a:pt x="234" y="64"/>
                  <a:pt x="221" y="77"/>
                </a:cubicBezTo>
                <a:cubicBezTo>
                  <a:pt x="225" y="78"/>
                  <a:pt x="278" y="86"/>
                  <a:pt x="281" y="89"/>
                </a:cubicBezTo>
                <a:cubicBezTo>
                  <a:pt x="284" y="92"/>
                  <a:pt x="278" y="98"/>
                  <a:pt x="275" y="101"/>
                </a:cubicBezTo>
                <a:cubicBezTo>
                  <a:pt x="267" y="109"/>
                  <a:pt x="246" y="116"/>
                  <a:pt x="236" y="119"/>
                </a:cubicBezTo>
                <a:cubicBezTo>
                  <a:pt x="200" y="95"/>
                  <a:pt x="236" y="111"/>
                  <a:pt x="203" y="119"/>
                </a:cubicBezTo>
                <a:cubicBezTo>
                  <a:pt x="214" y="102"/>
                  <a:pt x="204" y="111"/>
                  <a:pt x="233" y="116"/>
                </a:cubicBezTo>
                <a:cubicBezTo>
                  <a:pt x="245" y="118"/>
                  <a:pt x="269" y="122"/>
                  <a:pt x="269" y="122"/>
                </a:cubicBezTo>
                <a:cubicBezTo>
                  <a:pt x="286" y="116"/>
                  <a:pt x="284" y="107"/>
                  <a:pt x="290" y="92"/>
                </a:cubicBezTo>
                <a:cubicBezTo>
                  <a:pt x="291" y="89"/>
                  <a:pt x="299" y="86"/>
                  <a:pt x="296" y="83"/>
                </a:cubicBezTo>
                <a:cubicBezTo>
                  <a:pt x="293" y="80"/>
                  <a:pt x="290" y="87"/>
                  <a:pt x="287" y="89"/>
                </a:cubicBezTo>
                <a:cubicBezTo>
                  <a:pt x="286" y="93"/>
                  <a:pt x="281" y="98"/>
                  <a:pt x="284" y="101"/>
                </a:cubicBezTo>
                <a:cubicBezTo>
                  <a:pt x="287" y="104"/>
                  <a:pt x="292" y="98"/>
                  <a:pt x="296" y="98"/>
                </a:cubicBezTo>
                <a:cubicBezTo>
                  <a:pt x="306" y="98"/>
                  <a:pt x="316" y="100"/>
                  <a:pt x="326" y="101"/>
                </a:cubicBezTo>
                <a:cubicBezTo>
                  <a:pt x="328" y="105"/>
                  <a:pt x="334" y="109"/>
                  <a:pt x="332" y="113"/>
                </a:cubicBezTo>
                <a:cubicBezTo>
                  <a:pt x="330" y="116"/>
                  <a:pt x="323" y="112"/>
                  <a:pt x="320" y="110"/>
                </a:cubicBezTo>
                <a:cubicBezTo>
                  <a:pt x="314" y="106"/>
                  <a:pt x="309" y="87"/>
                  <a:pt x="308" y="83"/>
                </a:cubicBezTo>
                <a:cubicBezTo>
                  <a:pt x="305" y="73"/>
                  <a:pt x="328" y="87"/>
                  <a:pt x="338" y="89"/>
                </a:cubicBezTo>
                <a:cubicBezTo>
                  <a:pt x="347" y="90"/>
                  <a:pt x="356" y="91"/>
                  <a:pt x="365" y="92"/>
                </a:cubicBezTo>
                <a:cubicBezTo>
                  <a:pt x="372" y="113"/>
                  <a:pt x="377" y="108"/>
                  <a:pt x="362" y="113"/>
                </a:cubicBezTo>
                <a:cubicBezTo>
                  <a:pt x="319" y="102"/>
                  <a:pt x="352" y="99"/>
                  <a:pt x="374" y="77"/>
                </a:cubicBezTo>
                <a:cubicBezTo>
                  <a:pt x="364" y="48"/>
                  <a:pt x="356" y="94"/>
                  <a:pt x="356" y="98"/>
                </a:cubicBezTo>
                <a:cubicBezTo>
                  <a:pt x="366" y="128"/>
                  <a:pt x="355" y="125"/>
                  <a:pt x="326" y="122"/>
                </a:cubicBezTo>
                <a:cubicBezTo>
                  <a:pt x="313" y="113"/>
                  <a:pt x="313" y="107"/>
                  <a:pt x="317" y="92"/>
                </a:cubicBezTo>
                <a:cubicBezTo>
                  <a:pt x="313" y="76"/>
                  <a:pt x="312" y="72"/>
                  <a:pt x="296" y="68"/>
                </a:cubicBezTo>
                <a:cubicBezTo>
                  <a:pt x="279" y="72"/>
                  <a:pt x="275" y="84"/>
                  <a:pt x="266" y="65"/>
                </a:cubicBezTo>
                <a:cubicBezTo>
                  <a:pt x="283" y="43"/>
                  <a:pt x="282" y="61"/>
                  <a:pt x="305" y="53"/>
                </a:cubicBezTo>
                <a:cubicBezTo>
                  <a:pt x="314" y="27"/>
                  <a:pt x="294" y="73"/>
                  <a:pt x="287" y="80"/>
                </a:cubicBezTo>
                <a:cubicBezTo>
                  <a:pt x="300" y="89"/>
                  <a:pt x="311" y="82"/>
                  <a:pt x="326" y="77"/>
                </a:cubicBezTo>
                <a:cubicBezTo>
                  <a:pt x="332" y="65"/>
                  <a:pt x="330" y="54"/>
                  <a:pt x="344" y="59"/>
                </a:cubicBezTo>
                <a:cubicBezTo>
                  <a:pt x="347" y="63"/>
                  <a:pt x="351" y="67"/>
                  <a:pt x="353" y="71"/>
                </a:cubicBezTo>
                <a:cubicBezTo>
                  <a:pt x="355" y="74"/>
                  <a:pt x="353" y="79"/>
                  <a:pt x="356" y="80"/>
                </a:cubicBezTo>
                <a:cubicBezTo>
                  <a:pt x="361" y="81"/>
                  <a:pt x="404" y="75"/>
                  <a:pt x="413" y="74"/>
                </a:cubicBezTo>
                <a:cubicBezTo>
                  <a:pt x="416" y="72"/>
                  <a:pt x="418" y="68"/>
                  <a:pt x="422" y="68"/>
                </a:cubicBezTo>
                <a:cubicBezTo>
                  <a:pt x="431" y="69"/>
                  <a:pt x="449" y="77"/>
                  <a:pt x="449" y="77"/>
                </a:cubicBezTo>
                <a:cubicBezTo>
                  <a:pt x="444" y="114"/>
                  <a:pt x="460" y="139"/>
                  <a:pt x="422" y="101"/>
                </a:cubicBezTo>
                <a:cubicBezTo>
                  <a:pt x="420" y="93"/>
                  <a:pt x="419" y="85"/>
                  <a:pt x="416" y="77"/>
                </a:cubicBezTo>
                <a:cubicBezTo>
                  <a:pt x="415" y="74"/>
                  <a:pt x="409" y="71"/>
                  <a:pt x="410" y="68"/>
                </a:cubicBezTo>
                <a:cubicBezTo>
                  <a:pt x="413" y="60"/>
                  <a:pt x="428" y="50"/>
                  <a:pt x="428" y="50"/>
                </a:cubicBezTo>
                <a:cubicBezTo>
                  <a:pt x="427" y="63"/>
                  <a:pt x="416" y="83"/>
                  <a:pt x="428" y="89"/>
                </a:cubicBezTo>
                <a:cubicBezTo>
                  <a:pt x="431" y="90"/>
                  <a:pt x="437" y="83"/>
                  <a:pt x="437" y="86"/>
                </a:cubicBezTo>
                <a:cubicBezTo>
                  <a:pt x="437" y="93"/>
                  <a:pt x="418" y="93"/>
                  <a:pt x="404" y="95"/>
                </a:cubicBezTo>
                <a:cubicBezTo>
                  <a:pt x="386" y="101"/>
                  <a:pt x="398" y="116"/>
                  <a:pt x="386" y="98"/>
                </a:cubicBezTo>
                <a:cubicBezTo>
                  <a:pt x="396" y="63"/>
                  <a:pt x="395" y="87"/>
                  <a:pt x="413" y="62"/>
                </a:cubicBezTo>
                <a:cubicBezTo>
                  <a:pt x="418" y="46"/>
                  <a:pt x="406" y="19"/>
                  <a:pt x="428" y="26"/>
                </a:cubicBezTo>
                <a:cubicBezTo>
                  <a:pt x="441" y="17"/>
                  <a:pt x="446" y="24"/>
                  <a:pt x="458" y="32"/>
                </a:cubicBezTo>
                <a:cubicBezTo>
                  <a:pt x="538" y="27"/>
                  <a:pt x="501" y="32"/>
                  <a:pt x="464" y="44"/>
                </a:cubicBezTo>
                <a:cubicBezTo>
                  <a:pt x="454" y="23"/>
                  <a:pt x="439" y="33"/>
                  <a:pt x="422" y="44"/>
                </a:cubicBezTo>
                <a:cubicBezTo>
                  <a:pt x="409" y="25"/>
                  <a:pt x="406" y="46"/>
                  <a:pt x="404" y="59"/>
                </a:cubicBezTo>
                <a:cubicBezTo>
                  <a:pt x="397" y="57"/>
                  <a:pt x="374" y="51"/>
                  <a:pt x="374" y="50"/>
                </a:cubicBezTo>
                <a:cubicBezTo>
                  <a:pt x="371" y="36"/>
                  <a:pt x="396" y="26"/>
                  <a:pt x="404" y="23"/>
                </a:cubicBezTo>
                <a:cubicBezTo>
                  <a:pt x="396" y="0"/>
                  <a:pt x="391" y="15"/>
                  <a:pt x="386" y="32"/>
                </a:cubicBezTo>
                <a:cubicBezTo>
                  <a:pt x="388" y="49"/>
                  <a:pt x="393" y="70"/>
                  <a:pt x="371" y="56"/>
                </a:cubicBezTo>
                <a:cubicBezTo>
                  <a:pt x="367" y="40"/>
                  <a:pt x="367" y="45"/>
                  <a:pt x="371" y="26"/>
                </a:cubicBezTo>
                <a:cubicBezTo>
                  <a:pt x="372" y="23"/>
                  <a:pt x="374" y="14"/>
                  <a:pt x="374" y="17"/>
                </a:cubicBezTo>
                <a:cubicBezTo>
                  <a:pt x="374" y="30"/>
                  <a:pt x="369" y="45"/>
                  <a:pt x="362" y="56"/>
                </a:cubicBezTo>
                <a:cubicBezTo>
                  <a:pt x="369" y="90"/>
                  <a:pt x="358" y="62"/>
                  <a:pt x="413" y="68"/>
                </a:cubicBezTo>
                <a:cubicBezTo>
                  <a:pt x="421" y="69"/>
                  <a:pt x="425" y="79"/>
                  <a:pt x="431" y="83"/>
                </a:cubicBezTo>
                <a:cubicBezTo>
                  <a:pt x="459" y="76"/>
                  <a:pt x="454" y="78"/>
                  <a:pt x="476" y="89"/>
                </a:cubicBezTo>
                <a:cubicBezTo>
                  <a:pt x="491" y="82"/>
                  <a:pt x="495" y="70"/>
                  <a:pt x="500" y="89"/>
                </a:cubicBezTo>
                <a:cubicBezTo>
                  <a:pt x="498" y="93"/>
                  <a:pt x="498" y="99"/>
                  <a:pt x="494" y="101"/>
                </a:cubicBezTo>
                <a:cubicBezTo>
                  <a:pt x="488" y="103"/>
                  <a:pt x="482" y="99"/>
                  <a:pt x="476" y="98"/>
                </a:cubicBezTo>
                <a:cubicBezTo>
                  <a:pt x="473" y="97"/>
                  <a:pt x="467" y="92"/>
                  <a:pt x="467" y="95"/>
                </a:cubicBezTo>
                <a:cubicBezTo>
                  <a:pt x="467" y="105"/>
                  <a:pt x="487" y="103"/>
                  <a:pt x="497" y="104"/>
                </a:cubicBezTo>
                <a:cubicBezTo>
                  <a:pt x="514" y="95"/>
                  <a:pt x="515" y="91"/>
                  <a:pt x="527" y="107"/>
                </a:cubicBezTo>
                <a:cubicBezTo>
                  <a:pt x="523" y="108"/>
                  <a:pt x="519" y="111"/>
                  <a:pt x="515" y="110"/>
                </a:cubicBezTo>
                <a:cubicBezTo>
                  <a:pt x="511" y="109"/>
                  <a:pt x="510" y="104"/>
                  <a:pt x="506" y="104"/>
                </a:cubicBezTo>
                <a:cubicBezTo>
                  <a:pt x="499" y="104"/>
                  <a:pt x="494" y="111"/>
                  <a:pt x="488" y="113"/>
                </a:cubicBezTo>
                <a:cubicBezTo>
                  <a:pt x="461" y="110"/>
                  <a:pt x="450" y="112"/>
                  <a:pt x="467" y="89"/>
                </a:cubicBezTo>
                <a:cubicBezTo>
                  <a:pt x="487" y="94"/>
                  <a:pt x="521" y="78"/>
                  <a:pt x="542" y="74"/>
                </a:cubicBezTo>
                <a:cubicBezTo>
                  <a:pt x="544" y="68"/>
                  <a:pt x="542" y="56"/>
                  <a:pt x="548" y="56"/>
                </a:cubicBezTo>
                <a:cubicBezTo>
                  <a:pt x="563" y="56"/>
                  <a:pt x="550" y="86"/>
                  <a:pt x="551" y="89"/>
                </a:cubicBezTo>
                <a:cubicBezTo>
                  <a:pt x="552" y="92"/>
                  <a:pt x="557" y="87"/>
                  <a:pt x="560" y="86"/>
                </a:cubicBezTo>
                <a:cubicBezTo>
                  <a:pt x="554" y="105"/>
                  <a:pt x="526" y="102"/>
                  <a:pt x="509" y="104"/>
                </a:cubicBezTo>
                <a:cubicBezTo>
                  <a:pt x="505" y="103"/>
                  <a:pt x="498" y="105"/>
                  <a:pt x="497" y="101"/>
                </a:cubicBezTo>
                <a:cubicBezTo>
                  <a:pt x="494" y="91"/>
                  <a:pt x="510" y="96"/>
                  <a:pt x="524" y="98"/>
                </a:cubicBezTo>
                <a:cubicBezTo>
                  <a:pt x="532" y="99"/>
                  <a:pt x="540" y="100"/>
                  <a:pt x="548" y="101"/>
                </a:cubicBezTo>
                <a:cubicBezTo>
                  <a:pt x="569" y="98"/>
                  <a:pt x="591" y="84"/>
                  <a:pt x="599" y="107"/>
                </a:cubicBezTo>
                <a:cubicBezTo>
                  <a:pt x="615" y="84"/>
                  <a:pt x="581" y="101"/>
                  <a:pt x="572" y="107"/>
                </a:cubicBezTo>
                <a:cubicBezTo>
                  <a:pt x="557" y="104"/>
                  <a:pt x="543" y="104"/>
                  <a:pt x="530" y="95"/>
                </a:cubicBezTo>
                <a:cubicBezTo>
                  <a:pt x="536" y="71"/>
                  <a:pt x="527" y="92"/>
                  <a:pt x="557" y="80"/>
                </a:cubicBezTo>
                <a:cubicBezTo>
                  <a:pt x="560" y="79"/>
                  <a:pt x="569" y="60"/>
                  <a:pt x="569" y="59"/>
                </a:cubicBezTo>
                <a:cubicBezTo>
                  <a:pt x="573" y="36"/>
                  <a:pt x="574" y="14"/>
                  <a:pt x="584" y="56"/>
                </a:cubicBezTo>
                <a:cubicBezTo>
                  <a:pt x="586" y="64"/>
                  <a:pt x="600" y="58"/>
                  <a:pt x="608" y="59"/>
                </a:cubicBezTo>
                <a:cubicBezTo>
                  <a:pt x="618" y="121"/>
                  <a:pt x="596" y="21"/>
                  <a:pt x="641" y="71"/>
                </a:cubicBezTo>
                <a:cubicBezTo>
                  <a:pt x="650" y="81"/>
                  <a:pt x="643" y="99"/>
                  <a:pt x="644" y="113"/>
                </a:cubicBezTo>
                <a:cubicBezTo>
                  <a:pt x="657" y="93"/>
                  <a:pt x="641" y="113"/>
                  <a:pt x="632" y="116"/>
                </a:cubicBezTo>
                <a:cubicBezTo>
                  <a:pt x="615" y="114"/>
                  <a:pt x="603" y="109"/>
                  <a:pt x="587" y="113"/>
                </a:cubicBezTo>
                <a:cubicBezTo>
                  <a:pt x="586" y="119"/>
                  <a:pt x="580" y="127"/>
                  <a:pt x="584" y="131"/>
                </a:cubicBezTo>
                <a:cubicBezTo>
                  <a:pt x="591" y="138"/>
                  <a:pt x="593" y="113"/>
                  <a:pt x="602" y="110"/>
                </a:cubicBezTo>
                <a:cubicBezTo>
                  <a:pt x="613" y="107"/>
                  <a:pt x="624" y="108"/>
                  <a:pt x="635" y="107"/>
                </a:cubicBezTo>
                <a:cubicBezTo>
                  <a:pt x="629" y="67"/>
                  <a:pt x="637" y="77"/>
                  <a:pt x="611" y="86"/>
                </a:cubicBezTo>
                <a:cubicBezTo>
                  <a:pt x="587" y="80"/>
                  <a:pt x="598" y="72"/>
                  <a:pt x="614" y="68"/>
                </a:cubicBezTo>
                <a:cubicBezTo>
                  <a:pt x="638" y="52"/>
                  <a:pt x="609" y="63"/>
                  <a:pt x="602" y="68"/>
                </a:cubicBezTo>
                <a:cubicBezTo>
                  <a:pt x="593" y="87"/>
                  <a:pt x="586" y="83"/>
                  <a:pt x="566" y="80"/>
                </a:cubicBezTo>
                <a:cubicBezTo>
                  <a:pt x="600" y="57"/>
                  <a:pt x="583" y="65"/>
                  <a:pt x="617" y="56"/>
                </a:cubicBezTo>
                <a:cubicBezTo>
                  <a:pt x="631" y="35"/>
                  <a:pt x="614" y="36"/>
                  <a:pt x="593" y="29"/>
                </a:cubicBezTo>
                <a:cubicBezTo>
                  <a:pt x="581" y="30"/>
                  <a:pt x="567" y="26"/>
                  <a:pt x="557" y="32"/>
                </a:cubicBezTo>
                <a:cubicBezTo>
                  <a:pt x="538" y="43"/>
                  <a:pt x="555" y="61"/>
                  <a:pt x="533" y="68"/>
                </a:cubicBezTo>
                <a:cubicBezTo>
                  <a:pt x="525" y="80"/>
                  <a:pt x="522" y="86"/>
                  <a:pt x="509" y="77"/>
                </a:cubicBezTo>
                <a:cubicBezTo>
                  <a:pt x="507" y="73"/>
                  <a:pt x="503" y="69"/>
                  <a:pt x="503" y="65"/>
                </a:cubicBezTo>
                <a:cubicBezTo>
                  <a:pt x="503" y="61"/>
                  <a:pt x="510" y="59"/>
                  <a:pt x="509" y="56"/>
                </a:cubicBezTo>
                <a:cubicBezTo>
                  <a:pt x="507" y="49"/>
                  <a:pt x="497" y="51"/>
                  <a:pt x="491" y="47"/>
                </a:cubicBezTo>
                <a:cubicBezTo>
                  <a:pt x="489" y="51"/>
                  <a:pt x="489" y="56"/>
                  <a:pt x="485" y="59"/>
                </a:cubicBezTo>
                <a:cubicBezTo>
                  <a:pt x="481" y="62"/>
                  <a:pt x="465" y="62"/>
                  <a:pt x="470" y="62"/>
                </a:cubicBezTo>
                <a:cubicBezTo>
                  <a:pt x="496" y="64"/>
                  <a:pt x="522" y="64"/>
                  <a:pt x="548" y="65"/>
                </a:cubicBezTo>
                <a:cubicBezTo>
                  <a:pt x="551" y="69"/>
                  <a:pt x="553" y="80"/>
                  <a:pt x="557" y="77"/>
                </a:cubicBezTo>
                <a:cubicBezTo>
                  <a:pt x="563" y="72"/>
                  <a:pt x="563" y="53"/>
                  <a:pt x="563" y="53"/>
                </a:cubicBezTo>
                <a:cubicBezTo>
                  <a:pt x="545" y="41"/>
                  <a:pt x="536" y="29"/>
                  <a:pt x="560" y="17"/>
                </a:cubicBezTo>
                <a:cubicBezTo>
                  <a:pt x="563" y="19"/>
                  <a:pt x="567" y="20"/>
                  <a:pt x="569" y="23"/>
                </a:cubicBezTo>
                <a:cubicBezTo>
                  <a:pt x="572" y="28"/>
                  <a:pt x="569" y="38"/>
                  <a:pt x="575" y="41"/>
                </a:cubicBezTo>
                <a:cubicBezTo>
                  <a:pt x="604" y="55"/>
                  <a:pt x="572" y="42"/>
                  <a:pt x="566" y="41"/>
                </a:cubicBezTo>
                <a:cubicBezTo>
                  <a:pt x="569" y="24"/>
                  <a:pt x="571" y="21"/>
                  <a:pt x="587" y="26"/>
                </a:cubicBezTo>
                <a:cubicBezTo>
                  <a:pt x="571" y="33"/>
                  <a:pt x="561" y="43"/>
                  <a:pt x="545" y="47"/>
                </a:cubicBezTo>
                <a:cubicBezTo>
                  <a:pt x="525" y="43"/>
                  <a:pt x="520" y="41"/>
                  <a:pt x="524" y="20"/>
                </a:cubicBezTo>
                <a:cubicBezTo>
                  <a:pt x="544" y="27"/>
                  <a:pt x="557" y="34"/>
                  <a:pt x="578" y="29"/>
                </a:cubicBezTo>
                <a:cubicBezTo>
                  <a:pt x="584" y="54"/>
                  <a:pt x="579" y="51"/>
                  <a:pt x="611" y="47"/>
                </a:cubicBezTo>
                <a:cubicBezTo>
                  <a:pt x="626" y="68"/>
                  <a:pt x="614" y="72"/>
                  <a:pt x="644" y="68"/>
                </a:cubicBezTo>
                <a:cubicBezTo>
                  <a:pt x="670" y="50"/>
                  <a:pt x="630" y="75"/>
                  <a:pt x="647" y="86"/>
                </a:cubicBezTo>
                <a:cubicBezTo>
                  <a:pt x="656" y="92"/>
                  <a:pt x="669" y="82"/>
                  <a:pt x="680" y="80"/>
                </a:cubicBezTo>
                <a:cubicBezTo>
                  <a:pt x="668" y="115"/>
                  <a:pt x="700" y="102"/>
                  <a:pt x="725" y="98"/>
                </a:cubicBezTo>
                <a:cubicBezTo>
                  <a:pt x="688" y="110"/>
                  <a:pt x="732" y="112"/>
                  <a:pt x="659" y="107"/>
                </a:cubicBezTo>
                <a:cubicBezTo>
                  <a:pt x="648" y="90"/>
                  <a:pt x="653" y="106"/>
                  <a:pt x="680" y="101"/>
                </a:cubicBezTo>
                <a:cubicBezTo>
                  <a:pt x="682" y="95"/>
                  <a:pt x="688" y="89"/>
                  <a:pt x="686" y="83"/>
                </a:cubicBezTo>
                <a:cubicBezTo>
                  <a:pt x="685" y="80"/>
                  <a:pt x="680" y="75"/>
                  <a:pt x="683" y="74"/>
                </a:cubicBezTo>
                <a:cubicBezTo>
                  <a:pt x="686" y="72"/>
                  <a:pt x="689" y="78"/>
                  <a:pt x="692" y="80"/>
                </a:cubicBezTo>
                <a:cubicBezTo>
                  <a:pt x="694" y="88"/>
                  <a:pt x="697" y="101"/>
                  <a:pt x="698" y="101"/>
                </a:cubicBezTo>
                <a:cubicBezTo>
                  <a:pt x="713" y="101"/>
                  <a:pt x="723" y="93"/>
                  <a:pt x="734" y="86"/>
                </a:cubicBezTo>
                <a:cubicBezTo>
                  <a:pt x="728" y="103"/>
                  <a:pt x="742" y="100"/>
                  <a:pt x="749" y="89"/>
                </a:cubicBezTo>
                <a:cubicBezTo>
                  <a:pt x="759" y="118"/>
                  <a:pt x="724" y="111"/>
                  <a:pt x="704" y="113"/>
                </a:cubicBezTo>
                <a:cubicBezTo>
                  <a:pt x="694" y="116"/>
                  <a:pt x="687" y="122"/>
                  <a:pt x="677" y="125"/>
                </a:cubicBezTo>
                <a:cubicBezTo>
                  <a:pt x="665" y="113"/>
                  <a:pt x="663" y="116"/>
                  <a:pt x="650" y="125"/>
                </a:cubicBezTo>
                <a:cubicBezTo>
                  <a:pt x="643" y="105"/>
                  <a:pt x="593" y="122"/>
                  <a:pt x="575" y="128"/>
                </a:cubicBezTo>
                <a:cubicBezTo>
                  <a:pt x="547" y="121"/>
                  <a:pt x="557" y="127"/>
                  <a:pt x="557" y="92"/>
                </a:cubicBezTo>
                <a:cubicBezTo>
                  <a:pt x="557" y="89"/>
                  <a:pt x="556" y="99"/>
                  <a:pt x="554" y="101"/>
                </a:cubicBezTo>
                <a:cubicBezTo>
                  <a:pt x="549" y="107"/>
                  <a:pt x="540" y="108"/>
                  <a:pt x="533" y="110"/>
                </a:cubicBezTo>
                <a:cubicBezTo>
                  <a:pt x="517" y="122"/>
                  <a:pt x="516" y="114"/>
                  <a:pt x="500" y="119"/>
                </a:cubicBezTo>
                <a:cubicBezTo>
                  <a:pt x="476" y="103"/>
                  <a:pt x="507" y="128"/>
                  <a:pt x="494" y="95"/>
                </a:cubicBezTo>
                <a:cubicBezTo>
                  <a:pt x="493" y="92"/>
                  <a:pt x="488" y="97"/>
                  <a:pt x="485" y="98"/>
                </a:cubicBezTo>
                <a:cubicBezTo>
                  <a:pt x="477" y="102"/>
                  <a:pt x="461" y="110"/>
                  <a:pt x="461" y="110"/>
                </a:cubicBezTo>
                <a:cubicBezTo>
                  <a:pt x="459" y="113"/>
                  <a:pt x="459" y="119"/>
                  <a:pt x="455" y="119"/>
                </a:cubicBezTo>
                <a:cubicBezTo>
                  <a:pt x="449" y="120"/>
                  <a:pt x="443" y="115"/>
                  <a:pt x="437" y="113"/>
                </a:cubicBezTo>
                <a:cubicBezTo>
                  <a:pt x="434" y="112"/>
                  <a:pt x="428" y="110"/>
                  <a:pt x="428" y="110"/>
                </a:cubicBezTo>
                <a:cubicBezTo>
                  <a:pt x="404" y="126"/>
                  <a:pt x="434" y="110"/>
                  <a:pt x="410" y="110"/>
                </a:cubicBezTo>
                <a:cubicBezTo>
                  <a:pt x="403" y="110"/>
                  <a:pt x="396" y="116"/>
                  <a:pt x="389" y="116"/>
                </a:cubicBezTo>
              </a:path>
            </a:pathLst>
          </a:custGeom>
          <a:solidFill>
            <a:srgbClr val="99ff99"/>
          </a:solidFill>
          <a:ln w="648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8797760" y="16218000"/>
            <a:ext cx="1064880" cy="1106280"/>
          </a:xfrm>
          <a:custGeom>
            <a:avLst/>
            <a:gdLst/>
            <a:ahLst/>
            <a:rect l="l" t="t" r="r" b="b"/>
            <a:pathLst>
              <a:path w="671" h="697">
                <a:moveTo>
                  <a:pt x="11" y="688"/>
                </a:moveTo>
                <a:cubicBezTo>
                  <a:pt x="5" y="651"/>
                  <a:pt x="2" y="680"/>
                  <a:pt x="5" y="691"/>
                </a:cubicBezTo>
                <a:cubicBezTo>
                  <a:pt x="15" y="684"/>
                  <a:pt x="25" y="681"/>
                  <a:pt x="20" y="697"/>
                </a:cubicBezTo>
                <a:cubicBezTo>
                  <a:pt x="0" y="690"/>
                  <a:pt x="29" y="688"/>
                  <a:pt x="38" y="682"/>
                </a:cubicBezTo>
                <a:cubicBezTo>
                  <a:pt x="43" y="668"/>
                  <a:pt x="42" y="663"/>
                  <a:pt x="26" y="667"/>
                </a:cubicBezTo>
                <a:cubicBezTo>
                  <a:pt x="14" y="685"/>
                  <a:pt x="34" y="678"/>
                  <a:pt x="47" y="676"/>
                </a:cubicBezTo>
                <a:cubicBezTo>
                  <a:pt x="56" y="678"/>
                  <a:pt x="80" y="684"/>
                  <a:pt x="59" y="691"/>
                </a:cubicBezTo>
                <a:cubicBezTo>
                  <a:pt x="40" y="685"/>
                  <a:pt x="62" y="680"/>
                  <a:pt x="71" y="676"/>
                </a:cubicBezTo>
                <a:cubicBezTo>
                  <a:pt x="66" y="657"/>
                  <a:pt x="66" y="669"/>
                  <a:pt x="50" y="664"/>
                </a:cubicBezTo>
                <a:cubicBezTo>
                  <a:pt x="55" y="644"/>
                  <a:pt x="60" y="646"/>
                  <a:pt x="80" y="649"/>
                </a:cubicBezTo>
                <a:cubicBezTo>
                  <a:pt x="89" y="646"/>
                  <a:pt x="110" y="627"/>
                  <a:pt x="83" y="640"/>
                </a:cubicBezTo>
                <a:cubicBezTo>
                  <a:pt x="79" y="653"/>
                  <a:pt x="74" y="653"/>
                  <a:pt x="62" y="649"/>
                </a:cubicBezTo>
                <a:cubicBezTo>
                  <a:pt x="50" y="653"/>
                  <a:pt x="47" y="647"/>
                  <a:pt x="35" y="643"/>
                </a:cubicBezTo>
                <a:cubicBezTo>
                  <a:pt x="13" y="665"/>
                  <a:pt x="21" y="641"/>
                  <a:pt x="32" y="634"/>
                </a:cubicBezTo>
                <a:cubicBezTo>
                  <a:pt x="51" y="639"/>
                  <a:pt x="56" y="634"/>
                  <a:pt x="62" y="616"/>
                </a:cubicBezTo>
                <a:cubicBezTo>
                  <a:pt x="55" y="594"/>
                  <a:pt x="58" y="592"/>
                  <a:pt x="53" y="610"/>
                </a:cubicBezTo>
                <a:cubicBezTo>
                  <a:pt x="63" y="625"/>
                  <a:pt x="74" y="621"/>
                  <a:pt x="83" y="607"/>
                </a:cubicBezTo>
                <a:cubicBezTo>
                  <a:pt x="84" y="602"/>
                  <a:pt x="82" y="596"/>
                  <a:pt x="86" y="592"/>
                </a:cubicBezTo>
                <a:cubicBezTo>
                  <a:pt x="102" y="576"/>
                  <a:pt x="93" y="617"/>
                  <a:pt x="101" y="631"/>
                </a:cubicBezTo>
                <a:cubicBezTo>
                  <a:pt x="103" y="634"/>
                  <a:pt x="107" y="635"/>
                  <a:pt x="110" y="637"/>
                </a:cubicBezTo>
                <a:cubicBezTo>
                  <a:pt x="122" y="620"/>
                  <a:pt x="106" y="630"/>
                  <a:pt x="122" y="646"/>
                </a:cubicBezTo>
                <a:cubicBezTo>
                  <a:pt x="118" y="668"/>
                  <a:pt x="106" y="669"/>
                  <a:pt x="86" y="664"/>
                </a:cubicBezTo>
                <a:cubicBezTo>
                  <a:pt x="85" y="661"/>
                  <a:pt x="82" y="652"/>
                  <a:pt x="83" y="655"/>
                </a:cubicBezTo>
                <a:cubicBezTo>
                  <a:pt x="85" y="663"/>
                  <a:pt x="89" y="679"/>
                  <a:pt x="89" y="679"/>
                </a:cubicBezTo>
                <a:cubicBezTo>
                  <a:pt x="106" y="670"/>
                  <a:pt x="150" y="674"/>
                  <a:pt x="110" y="661"/>
                </a:cubicBezTo>
                <a:cubicBezTo>
                  <a:pt x="105" y="642"/>
                  <a:pt x="97" y="625"/>
                  <a:pt x="116" y="613"/>
                </a:cubicBezTo>
                <a:cubicBezTo>
                  <a:pt x="139" y="619"/>
                  <a:pt x="148" y="633"/>
                  <a:pt x="158" y="613"/>
                </a:cubicBezTo>
                <a:cubicBezTo>
                  <a:pt x="142" y="609"/>
                  <a:pt x="138" y="616"/>
                  <a:pt x="143" y="631"/>
                </a:cubicBezTo>
                <a:cubicBezTo>
                  <a:pt x="142" y="638"/>
                  <a:pt x="144" y="646"/>
                  <a:pt x="140" y="652"/>
                </a:cubicBezTo>
                <a:cubicBezTo>
                  <a:pt x="138" y="655"/>
                  <a:pt x="131" y="645"/>
                  <a:pt x="134" y="643"/>
                </a:cubicBezTo>
                <a:cubicBezTo>
                  <a:pt x="142" y="636"/>
                  <a:pt x="190" y="634"/>
                  <a:pt x="194" y="634"/>
                </a:cubicBezTo>
                <a:cubicBezTo>
                  <a:pt x="245" y="596"/>
                  <a:pt x="186" y="597"/>
                  <a:pt x="164" y="595"/>
                </a:cubicBezTo>
                <a:cubicBezTo>
                  <a:pt x="160" y="598"/>
                  <a:pt x="146" y="604"/>
                  <a:pt x="152" y="613"/>
                </a:cubicBezTo>
                <a:cubicBezTo>
                  <a:pt x="156" y="619"/>
                  <a:pt x="170" y="625"/>
                  <a:pt x="170" y="625"/>
                </a:cubicBezTo>
                <a:cubicBezTo>
                  <a:pt x="183" y="645"/>
                  <a:pt x="171" y="652"/>
                  <a:pt x="152" y="655"/>
                </a:cubicBezTo>
                <a:cubicBezTo>
                  <a:pt x="149" y="668"/>
                  <a:pt x="152" y="678"/>
                  <a:pt x="137" y="673"/>
                </a:cubicBezTo>
                <a:cubicBezTo>
                  <a:pt x="124" y="653"/>
                  <a:pt x="154" y="655"/>
                  <a:pt x="170" y="652"/>
                </a:cubicBezTo>
                <a:cubicBezTo>
                  <a:pt x="173" y="650"/>
                  <a:pt x="175" y="646"/>
                  <a:pt x="179" y="646"/>
                </a:cubicBezTo>
                <a:cubicBezTo>
                  <a:pt x="185" y="646"/>
                  <a:pt x="197" y="652"/>
                  <a:pt x="197" y="652"/>
                </a:cubicBezTo>
                <a:cubicBezTo>
                  <a:pt x="200" y="651"/>
                  <a:pt x="205" y="652"/>
                  <a:pt x="206" y="649"/>
                </a:cubicBezTo>
                <a:cubicBezTo>
                  <a:pt x="207" y="646"/>
                  <a:pt x="206" y="640"/>
                  <a:pt x="203" y="640"/>
                </a:cubicBezTo>
                <a:cubicBezTo>
                  <a:pt x="202" y="640"/>
                  <a:pt x="199" y="653"/>
                  <a:pt x="197" y="661"/>
                </a:cubicBezTo>
                <a:cubicBezTo>
                  <a:pt x="161" y="654"/>
                  <a:pt x="202" y="663"/>
                  <a:pt x="215" y="643"/>
                </a:cubicBezTo>
                <a:cubicBezTo>
                  <a:pt x="229" y="646"/>
                  <a:pt x="240" y="650"/>
                  <a:pt x="245" y="634"/>
                </a:cubicBezTo>
                <a:cubicBezTo>
                  <a:pt x="209" y="616"/>
                  <a:pt x="278" y="627"/>
                  <a:pt x="284" y="628"/>
                </a:cubicBezTo>
                <a:cubicBezTo>
                  <a:pt x="282" y="625"/>
                  <a:pt x="281" y="620"/>
                  <a:pt x="278" y="619"/>
                </a:cubicBezTo>
                <a:cubicBezTo>
                  <a:pt x="272" y="616"/>
                  <a:pt x="262" y="621"/>
                  <a:pt x="257" y="616"/>
                </a:cubicBezTo>
                <a:cubicBezTo>
                  <a:pt x="245" y="606"/>
                  <a:pt x="268" y="601"/>
                  <a:pt x="269" y="601"/>
                </a:cubicBezTo>
                <a:cubicBezTo>
                  <a:pt x="284" y="606"/>
                  <a:pt x="282" y="597"/>
                  <a:pt x="278" y="586"/>
                </a:cubicBezTo>
                <a:cubicBezTo>
                  <a:pt x="258" y="589"/>
                  <a:pt x="253" y="590"/>
                  <a:pt x="248" y="610"/>
                </a:cubicBezTo>
                <a:cubicBezTo>
                  <a:pt x="236" y="592"/>
                  <a:pt x="244" y="592"/>
                  <a:pt x="263" y="595"/>
                </a:cubicBezTo>
                <a:cubicBezTo>
                  <a:pt x="278" y="590"/>
                  <a:pt x="272" y="581"/>
                  <a:pt x="260" y="577"/>
                </a:cubicBezTo>
                <a:cubicBezTo>
                  <a:pt x="247" y="581"/>
                  <a:pt x="247" y="591"/>
                  <a:pt x="236" y="598"/>
                </a:cubicBezTo>
                <a:cubicBezTo>
                  <a:pt x="217" y="595"/>
                  <a:pt x="212" y="595"/>
                  <a:pt x="218" y="577"/>
                </a:cubicBezTo>
                <a:cubicBezTo>
                  <a:pt x="235" y="588"/>
                  <a:pt x="236" y="627"/>
                  <a:pt x="215" y="634"/>
                </a:cubicBezTo>
                <a:cubicBezTo>
                  <a:pt x="210" y="623"/>
                  <a:pt x="205" y="612"/>
                  <a:pt x="200" y="601"/>
                </a:cubicBezTo>
                <a:cubicBezTo>
                  <a:pt x="203" y="589"/>
                  <a:pt x="213" y="556"/>
                  <a:pt x="191" y="571"/>
                </a:cubicBezTo>
                <a:cubicBezTo>
                  <a:pt x="201" y="592"/>
                  <a:pt x="197" y="574"/>
                  <a:pt x="215" y="580"/>
                </a:cubicBezTo>
                <a:cubicBezTo>
                  <a:pt x="229" y="623"/>
                  <a:pt x="186" y="612"/>
                  <a:pt x="155" y="610"/>
                </a:cubicBezTo>
                <a:cubicBezTo>
                  <a:pt x="139" y="599"/>
                  <a:pt x="140" y="594"/>
                  <a:pt x="137" y="574"/>
                </a:cubicBezTo>
                <a:cubicBezTo>
                  <a:pt x="148" y="551"/>
                  <a:pt x="145" y="527"/>
                  <a:pt x="167" y="538"/>
                </a:cubicBezTo>
                <a:cubicBezTo>
                  <a:pt x="177" y="579"/>
                  <a:pt x="157" y="567"/>
                  <a:pt x="131" y="580"/>
                </a:cubicBezTo>
                <a:cubicBezTo>
                  <a:pt x="132" y="583"/>
                  <a:pt x="131" y="589"/>
                  <a:pt x="134" y="589"/>
                </a:cubicBezTo>
                <a:cubicBezTo>
                  <a:pt x="138" y="589"/>
                  <a:pt x="140" y="582"/>
                  <a:pt x="143" y="580"/>
                </a:cubicBezTo>
                <a:cubicBezTo>
                  <a:pt x="151" y="574"/>
                  <a:pt x="157" y="573"/>
                  <a:pt x="167" y="571"/>
                </a:cubicBezTo>
                <a:cubicBezTo>
                  <a:pt x="185" y="578"/>
                  <a:pt x="195" y="587"/>
                  <a:pt x="212" y="583"/>
                </a:cubicBezTo>
                <a:cubicBezTo>
                  <a:pt x="218" y="566"/>
                  <a:pt x="208" y="551"/>
                  <a:pt x="230" y="562"/>
                </a:cubicBezTo>
                <a:cubicBezTo>
                  <a:pt x="238" y="575"/>
                  <a:pt x="244" y="577"/>
                  <a:pt x="257" y="568"/>
                </a:cubicBezTo>
                <a:cubicBezTo>
                  <a:pt x="258" y="564"/>
                  <a:pt x="257" y="553"/>
                  <a:pt x="260" y="556"/>
                </a:cubicBezTo>
                <a:cubicBezTo>
                  <a:pt x="267" y="562"/>
                  <a:pt x="272" y="580"/>
                  <a:pt x="272" y="580"/>
                </a:cubicBezTo>
                <a:cubicBezTo>
                  <a:pt x="276" y="579"/>
                  <a:pt x="281" y="574"/>
                  <a:pt x="284" y="577"/>
                </a:cubicBezTo>
                <a:cubicBezTo>
                  <a:pt x="303" y="596"/>
                  <a:pt x="283" y="611"/>
                  <a:pt x="302" y="592"/>
                </a:cubicBezTo>
                <a:cubicBezTo>
                  <a:pt x="313" y="609"/>
                  <a:pt x="331" y="601"/>
                  <a:pt x="341" y="586"/>
                </a:cubicBezTo>
                <a:cubicBezTo>
                  <a:pt x="338" y="559"/>
                  <a:pt x="335" y="547"/>
                  <a:pt x="320" y="577"/>
                </a:cubicBezTo>
                <a:cubicBezTo>
                  <a:pt x="332" y="578"/>
                  <a:pt x="344" y="582"/>
                  <a:pt x="356" y="580"/>
                </a:cubicBezTo>
                <a:cubicBezTo>
                  <a:pt x="360" y="579"/>
                  <a:pt x="365" y="572"/>
                  <a:pt x="362" y="571"/>
                </a:cubicBezTo>
                <a:cubicBezTo>
                  <a:pt x="354" y="568"/>
                  <a:pt x="346" y="573"/>
                  <a:pt x="338" y="574"/>
                </a:cubicBezTo>
                <a:cubicBezTo>
                  <a:pt x="321" y="591"/>
                  <a:pt x="312" y="585"/>
                  <a:pt x="290" y="580"/>
                </a:cubicBezTo>
                <a:cubicBezTo>
                  <a:pt x="274" y="556"/>
                  <a:pt x="301" y="558"/>
                  <a:pt x="320" y="556"/>
                </a:cubicBezTo>
                <a:cubicBezTo>
                  <a:pt x="325" y="541"/>
                  <a:pt x="326" y="534"/>
                  <a:pt x="308" y="538"/>
                </a:cubicBezTo>
                <a:cubicBezTo>
                  <a:pt x="307" y="542"/>
                  <a:pt x="309" y="549"/>
                  <a:pt x="305" y="550"/>
                </a:cubicBezTo>
                <a:cubicBezTo>
                  <a:pt x="302" y="551"/>
                  <a:pt x="295" y="541"/>
                  <a:pt x="299" y="541"/>
                </a:cubicBezTo>
                <a:cubicBezTo>
                  <a:pt x="313" y="540"/>
                  <a:pt x="327" y="545"/>
                  <a:pt x="341" y="547"/>
                </a:cubicBezTo>
                <a:cubicBezTo>
                  <a:pt x="350" y="550"/>
                  <a:pt x="401" y="553"/>
                  <a:pt x="365" y="544"/>
                </a:cubicBezTo>
                <a:cubicBezTo>
                  <a:pt x="364" y="548"/>
                  <a:pt x="356" y="592"/>
                  <a:pt x="347" y="565"/>
                </a:cubicBezTo>
                <a:cubicBezTo>
                  <a:pt x="360" y="561"/>
                  <a:pt x="370" y="566"/>
                  <a:pt x="383" y="562"/>
                </a:cubicBezTo>
                <a:cubicBezTo>
                  <a:pt x="390" y="535"/>
                  <a:pt x="382" y="565"/>
                  <a:pt x="404" y="550"/>
                </a:cubicBezTo>
                <a:cubicBezTo>
                  <a:pt x="408" y="538"/>
                  <a:pt x="404" y="532"/>
                  <a:pt x="401" y="520"/>
                </a:cubicBezTo>
                <a:cubicBezTo>
                  <a:pt x="343" y="530"/>
                  <a:pt x="364" y="514"/>
                  <a:pt x="392" y="523"/>
                </a:cubicBezTo>
                <a:cubicBezTo>
                  <a:pt x="403" y="512"/>
                  <a:pt x="406" y="502"/>
                  <a:pt x="389" y="496"/>
                </a:cubicBezTo>
                <a:cubicBezTo>
                  <a:pt x="367" y="505"/>
                  <a:pt x="367" y="509"/>
                  <a:pt x="371" y="532"/>
                </a:cubicBezTo>
                <a:cubicBezTo>
                  <a:pt x="365" y="555"/>
                  <a:pt x="358" y="550"/>
                  <a:pt x="335" y="547"/>
                </a:cubicBezTo>
                <a:cubicBezTo>
                  <a:pt x="300" y="512"/>
                  <a:pt x="333" y="515"/>
                  <a:pt x="362" y="508"/>
                </a:cubicBezTo>
                <a:cubicBezTo>
                  <a:pt x="366" y="496"/>
                  <a:pt x="366" y="491"/>
                  <a:pt x="353" y="487"/>
                </a:cubicBezTo>
                <a:cubicBezTo>
                  <a:pt x="358" y="512"/>
                  <a:pt x="375" y="517"/>
                  <a:pt x="341" y="523"/>
                </a:cubicBezTo>
                <a:cubicBezTo>
                  <a:pt x="338" y="522"/>
                  <a:pt x="324" y="518"/>
                  <a:pt x="323" y="514"/>
                </a:cubicBezTo>
                <a:cubicBezTo>
                  <a:pt x="317" y="483"/>
                  <a:pt x="341" y="484"/>
                  <a:pt x="308" y="490"/>
                </a:cubicBezTo>
                <a:cubicBezTo>
                  <a:pt x="313" y="504"/>
                  <a:pt x="324" y="506"/>
                  <a:pt x="338" y="511"/>
                </a:cubicBezTo>
                <a:cubicBezTo>
                  <a:pt x="333" y="543"/>
                  <a:pt x="311" y="531"/>
                  <a:pt x="281" y="529"/>
                </a:cubicBezTo>
                <a:cubicBezTo>
                  <a:pt x="269" y="521"/>
                  <a:pt x="268" y="512"/>
                  <a:pt x="254" y="505"/>
                </a:cubicBezTo>
                <a:cubicBezTo>
                  <a:pt x="233" y="536"/>
                  <a:pt x="280" y="521"/>
                  <a:pt x="302" y="520"/>
                </a:cubicBezTo>
                <a:cubicBezTo>
                  <a:pt x="320" y="526"/>
                  <a:pt x="319" y="543"/>
                  <a:pt x="305" y="553"/>
                </a:cubicBezTo>
                <a:cubicBezTo>
                  <a:pt x="275" y="550"/>
                  <a:pt x="274" y="542"/>
                  <a:pt x="248" y="538"/>
                </a:cubicBezTo>
                <a:cubicBezTo>
                  <a:pt x="227" y="545"/>
                  <a:pt x="223" y="558"/>
                  <a:pt x="218" y="538"/>
                </a:cubicBezTo>
                <a:cubicBezTo>
                  <a:pt x="222" y="522"/>
                  <a:pt x="227" y="521"/>
                  <a:pt x="242" y="514"/>
                </a:cubicBezTo>
                <a:cubicBezTo>
                  <a:pt x="252" y="499"/>
                  <a:pt x="242" y="501"/>
                  <a:pt x="230" y="505"/>
                </a:cubicBezTo>
                <a:cubicBezTo>
                  <a:pt x="222" y="528"/>
                  <a:pt x="273" y="512"/>
                  <a:pt x="284" y="511"/>
                </a:cubicBezTo>
                <a:cubicBezTo>
                  <a:pt x="292" y="500"/>
                  <a:pt x="292" y="491"/>
                  <a:pt x="302" y="481"/>
                </a:cubicBezTo>
                <a:cubicBezTo>
                  <a:pt x="321" y="484"/>
                  <a:pt x="331" y="491"/>
                  <a:pt x="350" y="487"/>
                </a:cubicBezTo>
                <a:cubicBezTo>
                  <a:pt x="372" y="489"/>
                  <a:pt x="386" y="494"/>
                  <a:pt x="407" y="490"/>
                </a:cubicBezTo>
                <a:cubicBezTo>
                  <a:pt x="420" y="480"/>
                  <a:pt x="424" y="478"/>
                  <a:pt x="419" y="463"/>
                </a:cubicBezTo>
                <a:cubicBezTo>
                  <a:pt x="420" y="476"/>
                  <a:pt x="417" y="490"/>
                  <a:pt x="422" y="502"/>
                </a:cubicBezTo>
                <a:cubicBezTo>
                  <a:pt x="424" y="506"/>
                  <a:pt x="433" y="492"/>
                  <a:pt x="434" y="496"/>
                </a:cubicBezTo>
                <a:cubicBezTo>
                  <a:pt x="435" y="503"/>
                  <a:pt x="424" y="519"/>
                  <a:pt x="419" y="526"/>
                </a:cubicBezTo>
                <a:cubicBezTo>
                  <a:pt x="415" y="525"/>
                  <a:pt x="409" y="527"/>
                  <a:pt x="407" y="523"/>
                </a:cubicBezTo>
                <a:cubicBezTo>
                  <a:pt x="405" y="519"/>
                  <a:pt x="406" y="512"/>
                  <a:pt x="410" y="511"/>
                </a:cubicBezTo>
                <a:cubicBezTo>
                  <a:pt x="417" y="509"/>
                  <a:pt x="424" y="513"/>
                  <a:pt x="431" y="514"/>
                </a:cubicBezTo>
                <a:cubicBezTo>
                  <a:pt x="433" y="510"/>
                  <a:pt x="436" y="506"/>
                  <a:pt x="437" y="502"/>
                </a:cubicBezTo>
                <a:cubicBezTo>
                  <a:pt x="438" y="498"/>
                  <a:pt x="432" y="486"/>
                  <a:pt x="434" y="490"/>
                </a:cubicBezTo>
                <a:cubicBezTo>
                  <a:pt x="437" y="496"/>
                  <a:pt x="440" y="508"/>
                  <a:pt x="440" y="508"/>
                </a:cubicBezTo>
                <a:cubicBezTo>
                  <a:pt x="439" y="511"/>
                  <a:pt x="434" y="516"/>
                  <a:pt x="437" y="517"/>
                </a:cubicBezTo>
                <a:cubicBezTo>
                  <a:pt x="442" y="520"/>
                  <a:pt x="451" y="503"/>
                  <a:pt x="452" y="502"/>
                </a:cubicBezTo>
                <a:cubicBezTo>
                  <a:pt x="459" y="495"/>
                  <a:pt x="464" y="495"/>
                  <a:pt x="473" y="493"/>
                </a:cubicBezTo>
                <a:cubicBezTo>
                  <a:pt x="486" y="473"/>
                  <a:pt x="472" y="474"/>
                  <a:pt x="452" y="469"/>
                </a:cubicBezTo>
                <a:cubicBezTo>
                  <a:pt x="440" y="470"/>
                  <a:pt x="428" y="470"/>
                  <a:pt x="416" y="472"/>
                </a:cubicBezTo>
                <a:cubicBezTo>
                  <a:pt x="413" y="472"/>
                  <a:pt x="404" y="475"/>
                  <a:pt x="407" y="475"/>
                </a:cubicBezTo>
                <a:cubicBezTo>
                  <a:pt x="415" y="475"/>
                  <a:pt x="423" y="473"/>
                  <a:pt x="431" y="472"/>
                </a:cubicBezTo>
                <a:cubicBezTo>
                  <a:pt x="445" y="465"/>
                  <a:pt x="452" y="470"/>
                  <a:pt x="467" y="466"/>
                </a:cubicBezTo>
                <a:cubicBezTo>
                  <a:pt x="461" y="475"/>
                  <a:pt x="458" y="497"/>
                  <a:pt x="452" y="478"/>
                </a:cubicBezTo>
                <a:cubicBezTo>
                  <a:pt x="442" y="481"/>
                  <a:pt x="429" y="474"/>
                  <a:pt x="440" y="463"/>
                </a:cubicBezTo>
                <a:cubicBezTo>
                  <a:pt x="449" y="454"/>
                  <a:pt x="468" y="453"/>
                  <a:pt x="479" y="451"/>
                </a:cubicBezTo>
                <a:cubicBezTo>
                  <a:pt x="493" y="437"/>
                  <a:pt x="482" y="427"/>
                  <a:pt x="497" y="412"/>
                </a:cubicBezTo>
                <a:cubicBezTo>
                  <a:pt x="499" y="427"/>
                  <a:pt x="497" y="445"/>
                  <a:pt x="515" y="439"/>
                </a:cubicBezTo>
                <a:cubicBezTo>
                  <a:pt x="503" y="451"/>
                  <a:pt x="501" y="455"/>
                  <a:pt x="485" y="451"/>
                </a:cubicBezTo>
                <a:cubicBezTo>
                  <a:pt x="474" y="462"/>
                  <a:pt x="472" y="469"/>
                  <a:pt x="458" y="460"/>
                </a:cubicBezTo>
                <a:cubicBezTo>
                  <a:pt x="462" y="443"/>
                  <a:pt x="470" y="447"/>
                  <a:pt x="485" y="439"/>
                </a:cubicBezTo>
                <a:cubicBezTo>
                  <a:pt x="492" y="428"/>
                  <a:pt x="491" y="422"/>
                  <a:pt x="503" y="418"/>
                </a:cubicBezTo>
                <a:cubicBezTo>
                  <a:pt x="520" y="420"/>
                  <a:pt x="542" y="428"/>
                  <a:pt x="548" y="409"/>
                </a:cubicBezTo>
                <a:cubicBezTo>
                  <a:pt x="510" y="399"/>
                  <a:pt x="536" y="436"/>
                  <a:pt x="509" y="445"/>
                </a:cubicBezTo>
                <a:cubicBezTo>
                  <a:pt x="495" y="474"/>
                  <a:pt x="497" y="483"/>
                  <a:pt x="467" y="463"/>
                </a:cubicBezTo>
                <a:cubicBezTo>
                  <a:pt x="454" y="437"/>
                  <a:pt x="461" y="434"/>
                  <a:pt x="476" y="412"/>
                </a:cubicBezTo>
                <a:cubicBezTo>
                  <a:pt x="471" y="397"/>
                  <a:pt x="467" y="394"/>
                  <a:pt x="455" y="406"/>
                </a:cubicBezTo>
                <a:cubicBezTo>
                  <a:pt x="474" y="412"/>
                  <a:pt x="488" y="406"/>
                  <a:pt x="506" y="412"/>
                </a:cubicBezTo>
                <a:cubicBezTo>
                  <a:pt x="502" y="424"/>
                  <a:pt x="484" y="435"/>
                  <a:pt x="497" y="406"/>
                </a:cubicBezTo>
                <a:cubicBezTo>
                  <a:pt x="500" y="399"/>
                  <a:pt x="508" y="394"/>
                  <a:pt x="512" y="388"/>
                </a:cubicBezTo>
                <a:cubicBezTo>
                  <a:pt x="511" y="381"/>
                  <a:pt x="514" y="372"/>
                  <a:pt x="509" y="367"/>
                </a:cubicBezTo>
                <a:cubicBezTo>
                  <a:pt x="505" y="363"/>
                  <a:pt x="491" y="366"/>
                  <a:pt x="494" y="370"/>
                </a:cubicBezTo>
                <a:cubicBezTo>
                  <a:pt x="498" y="376"/>
                  <a:pt x="508" y="374"/>
                  <a:pt x="515" y="376"/>
                </a:cubicBezTo>
                <a:cubicBezTo>
                  <a:pt x="534" y="374"/>
                  <a:pt x="554" y="376"/>
                  <a:pt x="572" y="370"/>
                </a:cubicBezTo>
                <a:cubicBezTo>
                  <a:pt x="575" y="369"/>
                  <a:pt x="566" y="368"/>
                  <a:pt x="563" y="367"/>
                </a:cubicBezTo>
                <a:cubicBezTo>
                  <a:pt x="556" y="339"/>
                  <a:pt x="564" y="317"/>
                  <a:pt x="533" y="307"/>
                </a:cubicBezTo>
                <a:cubicBezTo>
                  <a:pt x="528" y="309"/>
                  <a:pt x="515" y="319"/>
                  <a:pt x="521" y="319"/>
                </a:cubicBezTo>
                <a:cubicBezTo>
                  <a:pt x="545" y="321"/>
                  <a:pt x="569" y="317"/>
                  <a:pt x="593" y="316"/>
                </a:cubicBezTo>
                <a:cubicBezTo>
                  <a:pt x="613" y="323"/>
                  <a:pt x="586" y="339"/>
                  <a:pt x="575" y="343"/>
                </a:cubicBezTo>
                <a:cubicBezTo>
                  <a:pt x="551" y="340"/>
                  <a:pt x="540" y="337"/>
                  <a:pt x="515" y="340"/>
                </a:cubicBezTo>
                <a:cubicBezTo>
                  <a:pt x="536" y="371"/>
                  <a:pt x="503" y="325"/>
                  <a:pt x="533" y="355"/>
                </a:cubicBezTo>
                <a:cubicBezTo>
                  <a:pt x="538" y="360"/>
                  <a:pt x="538" y="367"/>
                  <a:pt x="542" y="373"/>
                </a:cubicBezTo>
                <a:cubicBezTo>
                  <a:pt x="535" y="388"/>
                  <a:pt x="532" y="391"/>
                  <a:pt x="518" y="382"/>
                </a:cubicBezTo>
                <a:cubicBezTo>
                  <a:pt x="511" y="360"/>
                  <a:pt x="518" y="362"/>
                  <a:pt x="500" y="367"/>
                </a:cubicBezTo>
                <a:cubicBezTo>
                  <a:pt x="494" y="371"/>
                  <a:pt x="491" y="378"/>
                  <a:pt x="485" y="382"/>
                </a:cubicBezTo>
                <a:cubicBezTo>
                  <a:pt x="479" y="386"/>
                  <a:pt x="471" y="386"/>
                  <a:pt x="464" y="388"/>
                </a:cubicBezTo>
                <a:cubicBezTo>
                  <a:pt x="461" y="386"/>
                  <a:pt x="456" y="386"/>
                  <a:pt x="455" y="382"/>
                </a:cubicBezTo>
                <a:cubicBezTo>
                  <a:pt x="452" y="368"/>
                  <a:pt x="465" y="350"/>
                  <a:pt x="452" y="370"/>
                </a:cubicBezTo>
                <a:cubicBezTo>
                  <a:pt x="458" y="389"/>
                  <a:pt x="461" y="409"/>
                  <a:pt x="443" y="421"/>
                </a:cubicBezTo>
                <a:cubicBezTo>
                  <a:pt x="416" y="408"/>
                  <a:pt x="433" y="380"/>
                  <a:pt x="437" y="355"/>
                </a:cubicBezTo>
                <a:cubicBezTo>
                  <a:pt x="433" y="335"/>
                  <a:pt x="429" y="332"/>
                  <a:pt x="422" y="352"/>
                </a:cubicBezTo>
                <a:cubicBezTo>
                  <a:pt x="447" y="356"/>
                  <a:pt x="454" y="353"/>
                  <a:pt x="458" y="379"/>
                </a:cubicBezTo>
                <a:cubicBezTo>
                  <a:pt x="451" y="394"/>
                  <a:pt x="444" y="393"/>
                  <a:pt x="434" y="406"/>
                </a:cubicBezTo>
                <a:cubicBezTo>
                  <a:pt x="430" y="440"/>
                  <a:pt x="435" y="449"/>
                  <a:pt x="398" y="454"/>
                </a:cubicBezTo>
                <a:cubicBezTo>
                  <a:pt x="378" y="449"/>
                  <a:pt x="364" y="450"/>
                  <a:pt x="377" y="430"/>
                </a:cubicBezTo>
                <a:cubicBezTo>
                  <a:pt x="403" y="436"/>
                  <a:pt x="398" y="439"/>
                  <a:pt x="401" y="469"/>
                </a:cubicBezTo>
                <a:cubicBezTo>
                  <a:pt x="422" y="459"/>
                  <a:pt x="407" y="423"/>
                  <a:pt x="428" y="421"/>
                </a:cubicBezTo>
                <a:cubicBezTo>
                  <a:pt x="450" y="419"/>
                  <a:pt x="472" y="419"/>
                  <a:pt x="494" y="418"/>
                </a:cubicBezTo>
                <a:cubicBezTo>
                  <a:pt x="519" y="399"/>
                  <a:pt x="502" y="370"/>
                  <a:pt x="497" y="343"/>
                </a:cubicBezTo>
                <a:cubicBezTo>
                  <a:pt x="436" y="347"/>
                  <a:pt x="438" y="345"/>
                  <a:pt x="470" y="334"/>
                </a:cubicBezTo>
                <a:cubicBezTo>
                  <a:pt x="491" y="348"/>
                  <a:pt x="476" y="350"/>
                  <a:pt x="509" y="346"/>
                </a:cubicBezTo>
                <a:cubicBezTo>
                  <a:pt x="514" y="331"/>
                  <a:pt x="524" y="338"/>
                  <a:pt x="533" y="325"/>
                </a:cubicBezTo>
                <a:cubicBezTo>
                  <a:pt x="536" y="321"/>
                  <a:pt x="536" y="316"/>
                  <a:pt x="539" y="313"/>
                </a:cubicBezTo>
                <a:cubicBezTo>
                  <a:pt x="542" y="310"/>
                  <a:pt x="547" y="311"/>
                  <a:pt x="551" y="310"/>
                </a:cubicBezTo>
                <a:cubicBezTo>
                  <a:pt x="564" y="291"/>
                  <a:pt x="557" y="280"/>
                  <a:pt x="545" y="262"/>
                </a:cubicBezTo>
                <a:cubicBezTo>
                  <a:pt x="549" y="243"/>
                  <a:pt x="551" y="242"/>
                  <a:pt x="569" y="247"/>
                </a:cubicBezTo>
                <a:cubicBezTo>
                  <a:pt x="585" y="245"/>
                  <a:pt x="606" y="247"/>
                  <a:pt x="599" y="226"/>
                </a:cubicBezTo>
                <a:cubicBezTo>
                  <a:pt x="585" y="231"/>
                  <a:pt x="591" y="295"/>
                  <a:pt x="590" y="313"/>
                </a:cubicBezTo>
                <a:cubicBezTo>
                  <a:pt x="568" y="306"/>
                  <a:pt x="557" y="293"/>
                  <a:pt x="581" y="277"/>
                </a:cubicBezTo>
                <a:cubicBezTo>
                  <a:pt x="588" y="257"/>
                  <a:pt x="605" y="225"/>
                  <a:pt x="569" y="232"/>
                </a:cubicBezTo>
                <a:cubicBezTo>
                  <a:pt x="559" y="222"/>
                  <a:pt x="555" y="219"/>
                  <a:pt x="560" y="205"/>
                </a:cubicBezTo>
                <a:cubicBezTo>
                  <a:pt x="564" y="221"/>
                  <a:pt x="565" y="231"/>
                  <a:pt x="551" y="241"/>
                </a:cubicBezTo>
                <a:cubicBezTo>
                  <a:pt x="543" y="258"/>
                  <a:pt x="550" y="272"/>
                  <a:pt x="539" y="289"/>
                </a:cubicBezTo>
                <a:cubicBezTo>
                  <a:pt x="532" y="288"/>
                  <a:pt x="524" y="289"/>
                  <a:pt x="518" y="286"/>
                </a:cubicBezTo>
                <a:cubicBezTo>
                  <a:pt x="499" y="276"/>
                  <a:pt x="532" y="265"/>
                  <a:pt x="533" y="265"/>
                </a:cubicBezTo>
                <a:cubicBezTo>
                  <a:pt x="540" y="237"/>
                  <a:pt x="530" y="286"/>
                  <a:pt x="521" y="295"/>
                </a:cubicBezTo>
                <a:cubicBezTo>
                  <a:pt x="505" y="262"/>
                  <a:pt x="524" y="261"/>
                  <a:pt x="545" y="247"/>
                </a:cubicBezTo>
                <a:cubicBezTo>
                  <a:pt x="550" y="228"/>
                  <a:pt x="549" y="220"/>
                  <a:pt x="566" y="211"/>
                </a:cubicBezTo>
                <a:cubicBezTo>
                  <a:pt x="580" y="215"/>
                  <a:pt x="592" y="224"/>
                  <a:pt x="605" y="220"/>
                </a:cubicBezTo>
                <a:cubicBezTo>
                  <a:pt x="610" y="205"/>
                  <a:pt x="615" y="200"/>
                  <a:pt x="623" y="217"/>
                </a:cubicBezTo>
                <a:cubicBezTo>
                  <a:pt x="620" y="234"/>
                  <a:pt x="618" y="251"/>
                  <a:pt x="614" y="268"/>
                </a:cubicBezTo>
                <a:cubicBezTo>
                  <a:pt x="597" y="262"/>
                  <a:pt x="602" y="246"/>
                  <a:pt x="617" y="241"/>
                </a:cubicBezTo>
                <a:cubicBezTo>
                  <a:pt x="619" y="233"/>
                  <a:pt x="626" y="226"/>
                  <a:pt x="626" y="217"/>
                </a:cubicBezTo>
                <a:cubicBezTo>
                  <a:pt x="626" y="217"/>
                  <a:pt x="619" y="195"/>
                  <a:pt x="617" y="190"/>
                </a:cubicBezTo>
                <a:cubicBezTo>
                  <a:pt x="616" y="187"/>
                  <a:pt x="614" y="181"/>
                  <a:pt x="614" y="181"/>
                </a:cubicBezTo>
                <a:cubicBezTo>
                  <a:pt x="625" y="174"/>
                  <a:pt x="635" y="166"/>
                  <a:pt x="644" y="157"/>
                </a:cubicBezTo>
                <a:cubicBezTo>
                  <a:pt x="642" y="174"/>
                  <a:pt x="648" y="200"/>
                  <a:pt x="629" y="181"/>
                </a:cubicBezTo>
                <a:cubicBezTo>
                  <a:pt x="631" y="161"/>
                  <a:pt x="640" y="129"/>
                  <a:pt x="620" y="115"/>
                </a:cubicBezTo>
                <a:cubicBezTo>
                  <a:pt x="619" y="116"/>
                  <a:pt x="592" y="137"/>
                  <a:pt x="602" y="139"/>
                </a:cubicBezTo>
                <a:cubicBezTo>
                  <a:pt x="614" y="141"/>
                  <a:pt x="626" y="137"/>
                  <a:pt x="638" y="136"/>
                </a:cubicBezTo>
                <a:cubicBezTo>
                  <a:pt x="640" y="139"/>
                  <a:pt x="645" y="142"/>
                  <a:pt x="644" y="145"/>
                </a:cubicBezTo>
                <a:cubicBezTo>
                  <a:pt x="643" y="148"/>
                  <a:pt x="635" y="151"/>
                  <a:pt x="635" y="148"/>
                </a:cubicBezTo>
                <a:cubicBezTo>
                  <a:pt x="632" y="130"/>
                  <a:pt x="637" y="93"/>
                  <a:pt x="644" y="73"/>
                </a:cubicBezTo>
                <a:cubicBezTo>
                  <a:pt x="643" y="70"/>
                  <a:pt x="644" y="65"/>
                  <a:pt x="641" y="64"/>
                </a:cubicBezTo>
                <a:cubicBezTo>
                  <a:pt x="638" y="63"/>
                  <a:pt x="633" y="67"/>
                  <a:pt x="632" y="70"/>
                </a:cubicBezTo>
                <a:cubicBezTo>
                  <a:pt x="628" y="86"/>
                  <a:pt x="637" y="100"/>
                  <a:pt x="650" y="103"/>
                </a:cubicBezTo>
                <a:cubicBezTo>
                  <a:pt x="671" y="96"/>
                  <a:pt x="656" y="118"/>
                  <a:pt x="650" y="127"/>
                </a:cubicBezTo>
                <a:cubicBezTo>
                  <a:pt x="643" y="116"/>
                  <a:pt x="636" y="110"/>
                  <a:pt x="623" y="106"/>
                </a:cubicBezTo>
                <a:cubicBezTo>
                  <a:pt x="594" y="113"/>
                  <a:pt x="604" y="132"/>
                  <a:pt x="626" y="139"/>
                </a:cubicBezTo>
                <a:cubicBezTo>
                  <a:pt x="635" y="184"/>
                  <a:pt x="619" y="162"/>
                  <a:pt x="596" y="154"/>
                </a:cubicBezTo>
                <a:cubicBezTo>
                  <a:pt x="585" y="165"/>
                  <a:pt x="582" y="177"/>
                  <a:pt x="602" y="172"/>
                </a:cubicBezTo>
                <a:cubicBezTo>
                  <a:pt x="608" y="189"/>
                  <a:pt x="615" y="202"/>
                  <a:pt x="605" y="217"/>
                </a:cubicBezTo>
                <a:cubicBezTo>
                  <a:pt x="579" y="211"/>
                  <a:pt x="584" y="168"/>
                  <a:pt x="581" y="145"/>
                </a:cubicBezTo>
                <a:cubicBezTo>
                  <a:pt x="542" y="156"/>
                  <a:pt x="569" y="159"/>
                  <a:pt x="581" y="151"/>
                </a:cubicBezTo>
                <a:cubicBezTo>
                  <a:pt x="592" y="119"/>
                  <a:pt x="555" y="72"/>
                  <a:pt x="605" y="64"/>
                </a:cubicBezTo>
                <a:cubicBezTo>
                  <a:pt x="622" y="67"/>
                  <a:pt x="628" y="67"/>
                  <a:pt x="638" y="52"/>
                </a:cubicBezTo>
                <a:cubicBezTo>
                  <a:pt x="631" y="0"/>
                  <a:pt x="624" y="62"/>
                  <a:pt x="623" y="73"/>
                </a:cubicBezTo>
                <a:cubicBezTo>
                  <a:pt x="628" y="119"/>
                  <a:pt x="632" y="112"/>
                  <a:pt x="596" y="106"/>
                </a:cubicBezTo>
                <a:cubicBezTo>
                  <a:pt x="576" y="77"/>
                  <a:pt x="603" y="86"/>
                  <a:pt x="629" y="79"/>
                </a:cubicBezTo>
                <a:cubicBezTo>
                  <a:pt x="638" y="61"/>
                  <a:pt x="632" y="42"/>
                  <a:pt x="653" y="37"/>
                </a:cubicBezTo>
                <a:cubicBezTo>
                  <a:pt x="664" y="21"/>
                  <a:pt x="659" y="18"/>
                  <a:pt x="641" y="25"/>
                </a:cubicBezTo>
                <a:cubicBezTo>
                  <a:pt x="638" y="43"/>
                  <a:pt x="635" y="51"/>
                  <a:pt x="650" y="61"/>
                </a:cubicBezTo>
                <a:cubicBezTo>
                  <a:pt x="645" y="90"/>
                  <a:pt x="641" y="83"/>
                  <a:pt x="626" y="64"/>
                </a:cubicBezTo>
                <a:cubicBezTo>
                  <a:pt x="623" y="48"/>
                  <a:pt x="628" y="28"/>
                  <a:pt x="611" y="22"/>
                </a:cubicBezTo>
                <a:cubicBezTo>
                  <a:pt x="607" y="23"/>
                  <a:pt x="578" y="36"/>
                  <a:pt x="599" y="43"/>
                </a:cubicBezTo>
                <a:cubicBezTo>
                  <a:pt x="609" y="46"/>
                  <a:pt x="619" y="45"/>
                  <a:pt x="629" y="46"/>
                </a:cubicBezTo>
                <a:cubicBezTo>
                  <a:pt x="633" y="45"/>
                  <a:pt x="640" y="47"/>
                  <a:pt x="641" y="43"/>
                </a:cubicBezTo>
                <a:cubicBezTo>
                  <a:pt x="643" y="37"/>
                  <a:pt x="635" y="25"/>
                  <a:pt x="635" y="25"/>
                </a:cubicBezTo>
                <a:cubicBezTo>
                  <a:pt x="642" y="14"/>
                  <a:pt x="645" y="8"/>
                  <a:pt x="659" y="13"/>
                </a:cubicBezTo>
                <a:cubicBezTo>
                  <a:pt x="669" y="28"/>
                  <a:pt x="669" y="44"/>
                  <a:pt x="653" y="55"/>
                </a:cubicBezTo>
                <a:cubicBezTo>
                  <a:pt x="629" y="39"/>
                  <a:pt x="642" y="44"/>
                  <a:pt x="614" y="40"/>
                </a:cubicBezTo>
                <a:cubicBezTo>
                  <a:pt x="579" y="44"/>
                  <a:pt x="551" y="29"/>
                  <a:pt x="542" y="67"/>
                </a:cubicBezTo>
                <a:cubicBezTo>
                  <a:pt x="547" y="85"/>
                  <a:pt x="551" y="78"/>
                  <a:pt x="566" y="73"/>
                </a:cubicBezTo>
                <a:cubicBezTo>
                  <a:pt x="577" y="80"/>
                  <a:pt x="582" y="89"/>
                  <a:pt x="593" y="97"/>
                </a:cubicBezTo>
                <a:cubicBezTo>
                  <a:pt x="592" y="103"/>
                  <a:pt x="595" y="111"/>
                  <a:pt x="590" y="115"/>
                </a:cubicBezTo>
                <a:cubicBezTo>
                  <a:pt x="587" y="118"/>
                  <a:pt x="582" y="111"/>
                  <a:pt x="578" y="109"/>
                </a:cubicBezTo>
                <a:cubicBezTo>
                  <a:pt x="572" y="105"/>
                  <a:pt x="560" y="97"/>
                  <a:pt x="560" y="97"/>
                </a:cubicBezTo>
                <a:cubicBezTo>
                  <a:pt x="550" y="127"/>
                  <a:pt x="561" y="85"/>
                  <a:pt x="569" y="103"/>
                </a:cubicBezTo>
                <a:cubicBezTo>
                  <a:pt x="582" y="134"/>
                  <a:pt x="549" y="145"/>
                  <a:pt x="530" y="151"/>
                </a:cubicBezTo>
                <a:cubicBezTo>
                  <a:pt x="537" y="171"/>
                  <a:pt x="556" y="160"/>
                  <a:pt x="569" y="151"/>
                </a:cubicBezTo>
                <a:cubicBezTo>
                  <a:pt x="575" y="175"/>
                  <a:pt x="573" y="176"/>
                  <a:pt x="548" y="169"/>
                </a:cubicBezTo>
                <a:cubicBezTo>
                  <a:pt x="551" y="156"/>
                  <a:pt x="554" y="160"/>
                  <a:pt x="548" y="154"/>
                </a:cubicBezTo>
              </a:path>
            </a:pathLst>
          </a:custGeom>
          <a:solidFill>
            <a:srgbClr val="99ffcc"/>
          </a:solidFill>
          <a:ln w="648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8899280" y="16611480"/>
            <a:ext cx="731880" cy="527040"/>
          </a:xfrm>
          <a:custGeom>
            <a:avLst/>
            <a:gdLst/>
            <a:ahLst/>
            <a:rect l="l" t="t" r="r" b="b"/>
            <a:pathLst>
              <a:path w="461" h="332">
                <a:moveTo>
                  <a:pt x="232" y="215"/>
                </a:moveTo>
                <a:cubicBezTo>
                  <a:pt x="209" y="218"/>
                  <a:pt x="204" y="221"/>
                  <a:pt x="190" y="203"/>
                </a:cubicBezTo>
                <a:cubicBezTo>
                  <a:pt x="196" y="186"/>
                  <a:pt x="199" y="182"/>
                  <a:pt x="202" y="161"/>
                </a:cubicBezTo>
                <a:cubicBezTo>
                  <a:pt x="197" y="145"/>
                  <a:pt x="190" y="155"/>
                  <a:pt x="181" y="164"/>
                </a:cubicBezTo>
                <a:cubicBezTo>
                  <a:pt x="175" y="213"/>
                  <a:pt x="189" y="199"/>
                  <a:pt x="235" y="203"/>
                </a:cubicBezTo>
                <a:cubicBezTo>
                  <a:pt x="241" y="220"/>
                  <a:pt x="239" y="251"/>
                  <a:pt x="220" y="257"/>
                </a:cubicBezTo>
                <a:cubicBezTo>
                  <a:pt x="200" y="250"/>
                  <a:pt x="185" y="236"/>
                  <a:pt x="208" y="221"/>
                </a:cubicBezTo>
                <a:cubicBezTo>
                  <a:pt x="199" y="176"/>
                  <a:pt x="148" y="230"/>
                  <a:pt x="133" y="245"/>
                </a:cubicBezTo>
                <a:cubicBezTo>
                  <a:pt x="146" y="246"/>
                  <a:pt x="159" y="245"/>
                  <a:pt x="172" y="248"/>
                </a:cubicBezTo>
                <a:cubicBezTo>
                  <a:pt x="176" y="249"/>
                  <a:pt x="177" y="258"/>
                  <a:pt x="181" y="257"/>
                </a:cubicBezTo>
                <a:cubicBezTo>
                  <a:pt x="187" y="256"/>
                  <a:pt x="189" y="249"/>
                  <a:pt x="193" y="245"/>
                </a:cubicBezTo>
                <a:cubicBezTo>
                  <a:pt x="183" y="230"/>
                  <a:pt x="178" y="238"/>
                  <a:pt x="169" y="251"/>
                </a:cubicBezTo>
                <a:cubicBezTo>
                  <a:pt x="144" y="243"/>
                  <a:pt x="185" y="241"/>
                  <a:pt x="193" y="239"/>
                </a:cubicBezTo>
                <a:cubicBezTo>
                  <a:pt x="217" y="223"/>
                  <a:pt x="201" y="195"/>
                  <a:pt x="229" y="179"/>
                </a:cubicBezTo>
                <a:cubicBezTo>
                  <a:pt x="234" y="176"/>
                  <a:pt x="241" y="177"/>
                  <a:pt x="247" y="176"/>
                </a:cubicBezTo>
                <a:cubicBezTo>
                  <a:pt x="269" y="193"/>
                  <a:pt x="251" y="206"/>
                  <a:pt x="280" y="200"/>
                </a:cubicBezTo>
                <a:cubicBezTo>
                  <a:pt x="292" y="188"/>
                  <a:pt x="291" y="183"/>
                  <a:pt x="274" y="179"/>
                </a:cubicBezTo>
                <a:cubicBezTo>
                  <a:pt x="265" y="192"/>
                  <a:pt x="264" y="198"/>
                  <a:pt x="247" y="194"/>
                </a:cubicBezTo>
                <a:cubicBezTo>
                  <a:pt x="251" y="174"/>
                  <a:pt x="254" y="177"/>
                  <a:pt x="274" y="173"/>
                </a:cubicBezTo>
                <a:cubicBezTo>
                  <a:pt x="282" y="157"/>
                  <a:pt x="280" y="155"/>
                  <a:pt x="268" y="143"/>
                </a:cubicBezTo>
                <a:cubicBezTo>
                  <a:pt x="242" y="147"/>
                  <a:pt x="243" y="148"/>
                  <a:pt x="259" y="164"/>
                </a:cubicBezTo>
                <a:cubicBezTo>
                  <a:pt x="281" y="142"/>
                  <a:pt x="268" y="140"/>
                  <a:pt x="307" y="152"/>
                </a:cubicBezTo>
                <a:cubicBezTo>
                  <a:pt x="309" y="154"/>
                  <a:pt x="321" y="162"/>
                  <a:pt x="325" y="161"/>
                </a:cubicBezTo>
                <a:cubicBezTo>
                  <a:pt x="330" y="160"/>
                  <a:pt x="335" y="156"/>
                  <a:pt x="337" y="152"/>
                </a:cubicBezTo>
                <a:cubicBezTo>
                  <a:pt x="338" y="149"/>
                  <a:pt x="331" y="154"/>
                  <a:pt x="328" y="155"/>
                </a:cubicBezTo>
                <a:cubicBezTo>
                  <a:pt x="323" y="175"/>
                  <a:pt x="319" y="178"/>
                  <a:pt x="298" y="182"/>
                </a:cubicBezTo>
                <a:cubicBezTo>
                  <a:pt x="277" y="177"/>
                  <a:pt x="279" y="164"/>
                  <a:pt x="292" y="143"/>
                </a:cubicBezTo>
                <a:cubicBezTo>
                  <a:pt x="296" y="136"/>
                  <a:pt x="306" y="135"/>
                  <a:pt x="313" y="131"/>
                </a:cubicBezTo>
                <a:cubicBezTo>
                  <a:pt x="316" y="119"/>
                  <a:pt x="328" y="94"/>
                  <a:pt x="307" y="101"/>
                </a:cubicBezTo>
                <a:cubicBezTo>
                  <a:pt x="298" y="129"/>
                  <a:pt x="319" y="120"/>
                  <a:pt x="340" y="116"/>
                </a:cubicBezTo>
                <a:cubicBezTo>
                  <a:pt x="361" y="102"/>
                  <a:pt x="351" y="102"/>
                  <a:pt x="367" y="107"/>
                </a:cubicBezTo>
                <a:cubicBezTo>
                  <a:pt x="364" y="132"/>
                  <a:pt x="367" y="148"/>
                  <a:pt x="340" y="143"/>
                </a:cubicBezTo>
                <a:cubicBezTo>
                  <a:pt x="343" y="115"/>
                  <a:pt x="347" y="99"/>
                  <a:pt x="355" y="74"/>
                </a:cubicBezTo>
                <a:cubicBezTo>
                  <a:pt x="351" y="54"/>
                  <a:pt x="347" y="51"/>
                  <a:pt x="340" y="71"/>
                </a:cubicBezTo>
                <a:cubicBezTo>
                  <a:pt x="349" y="97"/>
                  <a:pt x="388" y="83"/>
                  <a:pt x="406" y="80"/>
                </a:cubicBezTo>
                <a:cubicBezTo>
                  <a:pt x="424" y="62"/>
                  <a:pt x="430" y="68"/>
                  <a:pt x="460" y="71"/>
                </a:cubicBezTo>
                <a:cubicBezTo>
                  <a:pt x="459" y="77"/>
                  <a:pt x="461" y="84"/>
                  <a:pt x="457" y="89"/>
                </a:cubicBezTo>
                <a:cubicBezTo>
                  <a:pt x="444" y="107"/>
                  <a:pt x="414" y="63"/>
                  <a:pt x="406" y="47"/>
                </a:cubicBezTo>
                <a:cubicBezTo>
                  <a:pt x="402" y="6"/>
                  <a:pt x="405" y="9"/>
                  <a:pt x="367" y="14"/>
                </a:cubicBezTo>
                <a:cubicBezTo>
                  <a:pt x="373" y="21"/>
                  <a:pt x="377" y="31"/>
                  <a:pt x="385" y="35"/>
                </a:cubicBezTo>
                <a:cubicBezTo>
                  <a:pt x="389" y="37"/>
                  <a:pt x="396" y="33"/>
                  <a:pt x="397" y="29"/>
                </a:cubicBezTo>
                <a:cubicBezTo>
                  <a:pt x="398" y="26"/>
                  <a:pt x="391" y="25"/>
                  <a:pt x="388" y="23"/>
                </a:cubicBezTo>
                <a:cubicBezTo>
                  <a:pt x="326" y="44"/>
                  <a:pt x="325" y="0"/>
                  <a:pt x="340" y="62"/>
                </a:cubicBezTo>
                <a:cubicBezTo>
                  <a:pt x="327" y="75"/>
                  <a:pt x="324" y="85"/>
                  <a:pt x="310" y="71"/>
                </a:cubicBezTo>
                <a:cubicBezTo>
                  <a:pt x="305" y="56"/>
                  <a:pt x="325" y="30"/>
                  <a:pt x="304" y="44"/>
                </a:cubicBezTo>
                <a:cubicBezTo>
                  <a:pt x="310" y="73"/>
                  <a:pt x="316" y="49"/>
                  <a:pt x="328" y="74"/>
                </a:cubicBezTo>
                <a:cubicBezTo>
                  <a:pt x="323" y="94"/>
                  <a:pt x="316" y="93"/>
                  <a:pt x="298" y="86"/>
                </a:cubicBezTo>
                <a:cubicBezTo>
                  <a:pt x="294" y="71"/>
                  <a:pt x="292" y="69"/>
                  <a:pt x="277" y="74"/>
                </a:cubicBezTo>
                <a:cubicBezTo>
                  <a:pt x="273" y="90"/>
                  <a:pt x="278" y="91"/>
                  <a:pt x="292" y="86"/>
                </a:cubicBezTo>
                <a:cubicBezTo>
                  <a:pt x="307" y="116"/>
                  <a:pt x="269" y="125"/>
                  <a:pt x="247" y="131"/>
                </a:cubicBezTo>
                <a:cubicBezTo>
                  <a:pt x="230" y="114"/>
                  <a:pt x="240" y="64"/>
                  <a:pt x="232" y="98"/>
                </a:cubicBezTo>
                <a:cubicBezTo>
                  <a:pt x="238" y="116"/>
                  <a:pt x="255" y="103"/>
                  <a:pt x="271" y="107"/>
                </a:cubicBezTo>
                <a:cubicBezTo>
                  <a:pt x="270" y="110"/>
                  <a:pt x="270" y="113"/>
                  <a:pt x="268" y="116"/>
                </a:cubicBezTo>
                <a:cubicBezTo>
                  <a:pt x="265" y="121"/>
                  <a:pt x="259" y="123"/>
                  <a:pt x="256" y="128"/>
                </a:cubicBezTo>
                <a:cubicBezTo>
                  <a:pt x="220" y="199"/>
                  <a:pt x="276" y="119"/>
                  <a:pt x="229" y="182"/>
                </a:cubicBezTo>
                <a:cubicBezTo>
                  <a:pt x="218" y="235"/>
                  <a:pt x="226" y="207"/>
                  <a:pt x="214" y="188"/>
                </a:cubicBezTo>
                <a:cubicBezTo>
                  <a:pt x="215" y="180"/>
                  <a:pt x="209" y="133"/>
                  <a:pt x="241" y="149"/>
                </a:cubicBezTo>
                <a:cubicBezTo>
                  <a:pt x="248" y="152"/>
                  <a:pt x="234" y="165"/>
                  <a:pt x="226" y="167"/>
                </a:cubicBezTo>
                <a:cubicBezTo>
                  <a:pt x="214" y="169"/>
                  <a:pt x="202" y="171"/>
                  <a:pt x="190" y="173"/>
                </a:cubicBezTo>
                <a:cubicBezTo>
                  <a:pt x="187" y="191"/>
                  <a:pt x="184" y="230"/>
                  <a:pt x="166" y="236"/>
                </a:cubicBezTo>
                <a:cubicBezTo>
                  <a:pt x="145" y="233"/>
                  <a:pt x="123" y="228"/>
                  <a:pt x="103" y="221"/>
                </a:cubicBezTo>
                <a:cubicBezTo>
                  <a:pt x="102" y="218"/>
                  <a:pt x="99" y="209"/>
                  <a:pt x="100" y="212"/>
                </a:cubicBezTo>
                <a:cubicBezTo>
                  <a:pt x="102" y="221"/>
                  <a:pt x="98" y="234"/>
                  <a:pt x="106" y="239"/>
                </a:cubicBezTo>
                <a:cubicBezTo>
                  <a:pt x="116" y="245"/>
                  <a:pt x="130" y="237"/>
                  <a:pt x="142" y="236"/>
                </a:cubicBezTo>
                <a:cubicBezTo>
                  <a:pt x="151" y="263"/>
                  <a:pt x="150" y="271"/>
                  <a:pt x="121" y="275"/>
                </a:cubicBezTo>
                <a:cubicBezTo>
                  <a:pt x="113" y="273"/>
                  <a:pt x="105" y="270"/>
                  <a:pt x="97" y="269"/>
                </a:cubicBezTo>
                <a:cubicBezTo>
                  <a:pt x="93" y="269"/>
                  <a:pt x="86" y="276"/>
                  <a:pt x="85" y="272"/>
                </a:cubicBezTo>
                <a:cubicBezTo>
                  <a:pt x="82" y="265"/>
                  <a:pt x="89" y="243"/>
                  <a:pt x="91" y="233"/>
                </a:cubicBezTo>
                <a:cubicBezTo>
                  <a:pt x="92" y="248"/>
                  <a:pt x="89" y="264"/>
                  <a:pt x="94" y="278"/>
                </a:cubicBezTo>
                <a:cubicBezTo>
                  <a:pt x="96" y="282"/>
                  <a:pt x="104" y="268"/>
                  <a:pt x="106" y="272"/>
                </a:cubicBezTo>
                <a:cubicBezTo>
                  <a:pt x="120" y="300"/>
                  <a:pt x="93" y="299"/>
                  <a:pt x="79" y="302"/>
                </a:cubicBezTo>
                <a:cubicBezTo>
                  <a:pt x="43" y="278"/>
                  <a:pt x="57" y="260"/>
                  <a:pt x="94" y="254"/>
                </a:cubicBezTo>
                <a:cubicBezTo>
                  <a:pt x="103" y="227"/>
                  <a:pt x="99" y="283"/>
                  <a:pt x="88" y="293"/>
                </a:cubicBezTo>
                <a:cubicBezTo>
                  <a:pt x="82" y="298"/>
                  <a:pt x="72" y="295"/>
                  <a:pt x="64" y="296"/>
                </a:cubicBezTo>
                <a:cubicBezTo>
                  <a:pt x="52" y="308"/>
                  <a:pt x="19" y="317"/>
                  <a:pt x="19" y="317"/>
                </a:cubicBezTo>
                <a:cubicBezTo>
                  <a:pt x="13" y="302"/>
                  <a:pt x="0" y="274"/>
                  <a:pt x="25" y="293"/>
                </a:cubicBezTo>
                <a:cubicBezTo>
                  <a:pt x="29" y="306"/>
                  <a:pt x="38" y="319"/>
                  <a:pt x="31" y="332"/>
                </a:cubicBezTo>
              </a:path>
            </a:pathLst>
          </a:custGeom>
          <a:solidFill>
            <a:srgbClr val="00cc66"/>
          </a:solidFill>
          <a:ln w="648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20016600">
            <a:off x="19270800" y="16244640"/>
            <a:ext cx="731880" cy="527040"/>
          </a:xfrm>
          <a:custGeom>
            <a:avLst/>
            <a:gdLst/>
            <a:ahLst/>
            <a:rect l="l" t="t" r="r" b="b"/>
            <a:pathLst>
              <a:path w="461" h="332">
                <a:moveTo>
                  <a:pt x="232" y="215"/>
                </a:moveTo>
                <a:cubicBezTo>
                  <a:pt x="209" y="218"/>
                  <a:pt x="204" y="221"/>
                  <a:pt x="190" y="203"/>
                </a:cubicBezTo>
                <a:cubicBezTo>
                  <a:pt x="196" y="186"/>
                  <a:pt x="199" y="182"/>
                  <a:pt x="202" y="161"/>
                </a:cubicBezTo>
                <a:cubicBezTo>
                  <a:pt x="197" y="145"/>
                  <a:pt x="190" y="155"/>
                  <a:pt x="181" y="164"/>
                </a:cubicBezTo>
                <a:cubicBezTo>
                  <a:pt x="175" y="213"/>
                  <a:pt x="189" y="199"/>
                  <a:pt x="235" y="203"/>
                </a:cubicBezTo>
                <a:cubicBezTo>
                  <a:pt x="241" y="220"/>
                  <a:pt x="239" y="251"/>
                  <a:pt x="220" y="257"/>
                </a:cubicBezTo>
                <a:cubicBezTo>
                  <a:pt x="200" y="250"/>
                  <a:pt x="185" y="236"/>
                  <a:pt x="208" y="221"/>
                </a:cubicBezTo>
                <a:cubicBezTo>
                  <a:pt x="199" y="176"/>
                  <a:pt x="148" y="230"/>
                  <a:pt x="133" y="245"/>
                </a:cubicBezTo>
                <a:cubicBezTo>
                  <a:pt x="146" y="246"/>
                  <a:pt x="159" y="245"/>
                  <a:pt x="172" y="248"/>
                </a:cubicBezTo>
                <a:cubicBezTo>
                  <a:pt x="176" y="249"/>
                  <a:pt x="177" y="258"/>
                  <a:pt x="181" y="257"/>
                </a:cubicBezTo>
                <a:cubicBezTo>
                  <a:pt x="187" y="256"/>
                  <a:pt x="189" y="249"/>
                  <a:pt x="193" y="245"/>
                </a:cubicBezTo>
                <a:cubicBezTo>
                  <a:pt x="183" y="230"/>
                  <a:pt x="178" y="238"/>
                  <a:pt x="169" y="251"/>
                </a:cubicBezTo>
                <a:cubicBezTo>
                  <a:pt x="144" y="243"/>
                  <a:pt x="185" y="241"/>
                  <a:pt x="193" y="239"/>
                </a:cubicBezTo>
                <a:cubicBezTo>
                  <a:pt x="217" y="223"/>
                  <a:pt x="201" y="195"/>
                  <a:pt x="229" y="179"/>
                </a:cubicBezTo>
                <a:cubicBezTo>
                  <a:pt x="234" y="176"/>
                  <a:pt x="241" y="177"/>
                  <a:pt x="247" y="176"/>
                </a:cubicBezTo>
                <a:cubicBezTo>
                  <a:pt x="269" y="193"/>
                  <a:pt x="251" y="206"/>
                  <a:pt x="280" y="200"/>
                </a:cubicBezTo>
                <a:cubicBezTo>
                  <a:pt x="292" y="188"/>
                  <a:pt x="291" y="183"/>
                  <a:pt x="274" y="179"/>
                </a:cubicBezTo>
                <a:cubicBezTo>
                  <a:pt x="265" y="192"/>
                  <a:pt x="264" y="198"/>
                  <a:pt x="247" y="194"/>
                </a:cubicBezTo>
                <a:cubicBezTo>
                  <a:pt x="251" y="174"/>
                  <a:pt x="254" y="177"/>
                  <a:pt x="274" y="173"/>
                </a:cubicBezTo>
                <a:cubicBezTo>
                  <a:pt x="282" y="157"/>
                  <a:pt x="280" y="155"/>
                  <a:pt x="268" y="143"/>
                </a:cubicBezTo>
                <a:cubicBezTo>
                  <a:pt x="242" y="147"/>
                  <a:pt x="243" y="148"/>
                  <a:pt x="259" y="164"/>
                </a:cubicBezTo>
                <a:cubicBezTo>
                  <a:pt x="281" y="142"/>
                  <a:pt x="268" y="140"/>
                  <a:pt x="307" y="152"/>
                </a:cubicBezTo>
                <a:cubicBezTo>
                  <a:pt x="309" y="154"/>
                  <a:pt x="321" y="162"/>
                  <a:pt x="325" y="161"/>
                </a:cubicBezTo>
                <a:cubicBezTo>
                  <a:pt x="330" y="160"/>
                  <a:pt x="335" y="156"/>
                  <a:pt x="337" y="152"/>
                </a:cubicBezTo>
                <a:cubicBezTo>
                  <a:pt x="338" y="149"/>
                  <a:pt x="331" y="154"/>
                  <a:pt x="328" y="155"/>
                </a:cubicBezTo>
                <a:cubicBezTo>
                  <a:pt x="323" y="175"/>
                  <a:pt x="319" y="178"/>
                  <a:pt x="298" y="182"/>
                </a:cubicBezTo>
                <a:cubicBezTo>
                  <a:pt x="277" y="177"/>
                  <a:pt x="279" y="164"/>
                  <a:pt x="292" y="143"/>
                </a:cubicBezTo>
                <a:cubicBezTo>
                  <a:pt x="296" y="136"/>
                  <a:pt x="306" y="135"/>
                  <a:pt x="313" y="131"/>
                </a:cubicBezTo>
                <a:cubicBezTo>
                  <a:pt x="316" y="119"/>
                  <a:pt x="328" y="94"/>
                  <a:pt x="307" y="101"/>
                </a:cubicBezTo>
                <a:cubicBezTo>
                  <a:pt x="298" y="129"/>
                  <a:pt x="319" y="120"/>
                  <a:pt x="340" y="116"/>
                </a:cubicBezTo>
                <a:cubicBezTo>
                  <a:pt x="361" y="102"/>
                  <a:pt x="351" y="102"/>
                  <a:pt x="367" y="107"/>
                </a:cubicBezTo>
                <a:cubicBezTo>
                  <a:pt x="364" y="132"/>
                  <a:pt x="367" y="148"/>
                  <a:pt x="340" y="143"/>
                </a:cubicBezTo>
                <a:cubicBezTo>
                  <a:pt x="343" y="115"/>
                  <a:pt x="347" y="99"/>
                  <a:pt x="355" y="74"/>
                </a:cubicBezTo>
                <a:cubicBezTo>
                  <a:pt x="351" y="54"/>
                  <a:pt x="347" y="51"/>
                  <a:pt x="340" y="71"/>
                </a:cubicBezTo>
                <a:cubicBezTo>
                  <a:pt x="349" y="97"/>
                  <a:pt x="388" y="83"/>
                  <a:pt x="406" y="80"/>
                </a:cubicBezTo>
                <a:cubicBezTo>
                  <a:pt x="424" y="62"/>
                  <a:pt x="430" y="68"/>
                  <a:pt x="460" y="71"/>
                </a:cubicBezTo>
                <a:cubicBezTo>
                  <a:pt x="459" y="77"/>
                  <a:pt x="461" y="84"/>
                  <a:pt x="457" y="89"/>
                </a:cubicBezTo>
                <a:cubicBezTo>
                  <a:pt x="444" y="107"/>
                  <a:pt x="414" y="63"/>
                  <a:pt x="406" y="47"/>
                </a:cubicBezTo>
                <a:cubicBezTo>
                  <a:pt x="402" y="6"/>
                  <a:pt x="405" y="9"/>
                  <a:pt x="367" y="14"/>
                </a:cubicBezTo>
                <a:cubicBezTo>
                  <a:pt x="373" y="21"/>
                  <a:pt x="377" y="31"/>
                  <a:pt x="385" y="35"/>
                </a:cubicBezTo>
                <a:cubicBezTo>
                  <a:pt x="389" y="37"/>
                  <a:pt x="396" y="33"/>
                  <a:pt x="397" y="29"/>
                </a:cubicBezTo>
                <a:cubicBezTo>
                  <a:pt x="398" y="26"/>
                  <a:pt x="391" y="25"/>
                  <a:pt x="388" y="23"/>
                </a:cubicBezTo>
                <a:cubicBezTo>
                  <a:pt x="326" y="44"/>
                  <a:pt x="325" y="0"/>
                  <a:pt x="340" y="62"/>
                </a:cubicBezTo>
                <a:cubicBezTo>
                  <a:pt x="327" y="75"/>
                  <a:pt x="324" y="85"/>
                  <a:pt x="310" y="71"/>
                </a:cubicBezTo>
                <a:cubicBezTo>
                  <a:pt x="305" y="56"/>
                  <a:pt x="325" y="30"/>
                  <a:pt x="304" y="44"/>
                </a:cubicBezTo>
                <a:cubicBezTo>
                  <a:pt x="310" y="73"/>
                  <a:pt x="316" y="49"/>
                  <a:pt x="328" y="74"/>
                </a:cubicBezTo>
                <a:cubicBezTo>
                  <a:pt x="323" y="94"/>
                  <a:pt x="316" y="93"/>
                  <a:pt x="298" y="86"/>
                </a:cubicBezTo>
                <a:cubicBezTo>
                  <a:pt x="294" y="71"/>
                  <a:pt x="292" y="69"/>
                  <a:pt x="277" y="74"/>
                </a:cubicBezTo>
                <a:cubicBezTo>
                  <a:pt x="273" y="90"/>
                  <a:pt x="278" y="91"/>
                  <a:pt x="292" y="86"/>
                </a:cubicBezTo>
                <a:cubicBezTo>
                  <a:pt x="307" y="116"/>
                  <a:pt x="269" y="125"/>
                  <a:pt x="247" y="131"/>
                </a:cubicBezTo>
                <a:cubicBezTo>
                  <a:pt x="230" y="114"/>
                  <a:pt x="240" y="64"/>
                  <a:pt x="232" y="98"/>
                </a:cubicBezTo>
                <a:cubicBezTo>
                  <a:pt x="238" y="116"/>
                  <a:pt x="255" y="103"/>
                  <a:pt x="271" y="107"/>
                </a:cubicBezTo>
                <a:cubicBezTo>
                  <a:pt x="270" y="110"/>
                  <a:pt x="270" y="113"/>
                  <a:pt x="268" y="116"/>
                </a:cubicBezTo>
                <a:cubicBezTo>
                  <a:pt x="265" y="121"/>
                  <a:pt x="259" y="123"/>
                  <a:pt x="256" y="128"/>
                </a:cubicBezTo>
                <a:cubicBezTo>
                  <a:pt x="220" y="199"/>
                  <a:pt x="276" y="119"/>
                  <a:pt x="229" y="182"/>
                </a:cubicBezTo>
                <a:cubicBezTo>
                  <a:pt x="218" y="235"/>
                  <a:pt x="226" y="207"/>
                  <a:pt x="214" y="188"/>
                </a:cubicBezTo>
                <a:cubicBezTo>
                  <a:pt x="215" y="180"/>
                  <a:pt x="209" y="133"/>
                  <a:pt x="241" y="149"/>
                </a:cubicBezTo>
                <a:cubicBezTo>
                  <a:pt x="248" y="152"/>
                  <a:pt x="234" y="165"/>
                  <a:pt x="226" y="167"/>
                </a:cubicBezTo>
                <a:cubicBezTo>
                  <a:pt x="214" y="169"/>
                  <a:pt x="202" y="171"/>
                  <a:pt x="190" y="173"/>
                </a:cubicBezTo>
                <a:cubicBezTo>
                  <a:pt x="187" y="191"/>
                  <a:pt x="184" y="230"/>
                  <a:pt x="166" y="236"/>
                </a:cubicBezTo>
                <a:cubicBezTo>
                  <a:pt x="145" y="233"/>
                  <a:pt x="123" y="228"/>
                  <a:pt x="103" y="221"/>
                </a:cubicBezTo>
                <a:cubicBezTo>
                  <a:pt x="102" y="218"/>
                  <a:pt x="99" y="209"/>
                  <a:pt x="100" y="212"/>
                </a:cubicBezTo>
                <a:cubicBezTo>
                  <a:pt x="102" y="221"/>
                  <a:pt x="98" y="234"/>
                  <a:pt x="106" y="239"/>
                </a:cubicBezTo>
                <a:cubicBezTo>
                  <a:pt x="116" y="245"/>
                  <a:pt x="130" y="237"/>
                  <a:pt x="142" y="236"/>
                </a:cubicBezTo>
                <a:cubicBezTo>
                  <a:pt x="151" y="263"/>
                  <a:pt x="150" y="271"/>
                  <a:pt x="121" y="275"/>
                </a:cubicBezTo>
                <a:cubicBezTo>
                  <a:pt x="113" y="273"/>
                  <a:pt x="105" y="270"/>
                  <a:pt x="97" y="269"/>
                </a:cubicBezTo>
                <a:cubicBezTo>
                  <a:pt x="93" y="269"/>
                  <a:pt x="86" y="276"/>
                  <a:pt x="85" y="272"/>
                </a:cubicBezTo>
                <a:cubicBezTo>
                  <a:pt x="82" y="265"/>
                  <a:pt x="89" y="243"/>
                  <a:pt x="91" y="233"/>
                </a:cubicBezTo>
                <a:cubicBezTo>
                  <a:pt x="92" y="248"/>
                  <a:pt x="89" y="264"/>
                  <a:pt x="94" y="278"/>
                </a:cubicBezTo>
                <a:cubicBezTo>
                  <a:pt x="96" y="282"/>
                  <a:pt x="104" y="268"/>
                  <a:pt x="106" y="272"/>
                </a:cubicBezTo>
                <a:cubicBezTo>
                  <a:pt x="120" y="300"/>
                  <a:pt x="93" y="299"/>
                  <a:pt x="79" y="302"/>
                </a:cubicBezTo>
                <a:cubicBezTo>
                  <a:pt x="43" y="278"/>
                  <a:pt x="57" y="260"/>
                  <a:pt x="94" y="254"/>
                </a:cubicBezTo>
                <a:cubicBezTo>
                  <a:pt x="103" y="227"/>
                  <a:pt x="99" y="283"/>
                  <a:pt x="88" y="293"/>
                </a:cubicBezTo>
                <a:cubicBezTo>
                  <a:pt x="82" y="298"/>
                  <a:pt x="72" y="295"/>
                  <a:pt x="64" y="296"/>
                </a:cubicBezTo>
                <a:cubicBezTo>
                  <a:pt x="52" y="308"/>
                  <a:pt x="19" y="317"/>
                  <a:pt x="19" y="317"/>
                </a:cubicBezTo>
                <a:cubicBezTo>
                  <a:pt x="13" y="302"/>
                  <a:pt x="0" y="274"/>
                  <a:pt x="25" y="293"/>
                </a:cubicBezTo>
                <a:cubicBezTo>
                  <a:pt x="29" y="306"/>
                  <a:pt x="38" y="319"/>
                  <a:pt x="31" y="332"/>
                </a:cubicBezTo>
              </a:path>
            </a:pathLst>
          </a:custGeom>
          <a:solidFill>
            <a:srgbClr val="99ffcc"/>
          </a:solidFill>
          <a:ln w="648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5400000">
            <a:off x="22232520" y="16291080"/>
            <a:ext cx="1065240" cy="1106280"/>
          </a:xfrm>
          <a:custGeom>
            <a:avLst/>
            <a:gdLst/>
            <a:ahLst/>
            <a:rect l="l" t="t" r="r" b="b"/>
            <a:pathLst>
              <a:path w="671" h="697">
                <a:moveTo>
                  <a:pt x="11" y="688"/>
                </a:moveTo>
                <a:cubicBezTo>
                  <a:pt x="5" y="651"/>
                  <a:pt x="2" y="680"/>
                  <a:pt x="5" y="691"/>
                </a:cubicBezTo>
                <a:cubicBezTo>
                  <a:pt x="15" y="684"/>
                  <a:pt x="25" y="681"/>
                  <a:pt x="20" y="697"/>
                </a:cubicBezTo>
                <a:cubicBezTo>
                  <a:pt x="0" y="690"/>
                  <a:pt x="29" y="688"/>
                  <a:pt x="38" y="682"/>
                </a:cubicBezTo>
                <a:cubicBezTo>
                  <a:pt x="43" y="668"/>
                  <a:pt x="42" y="663"/>
                  <a:pt x="26" y="667"/>
                </a:cubicBezTo>
                <a:cubicBezTo>
                  <a:pt x="14" y="685"/>
                  <a:pt x="34" y="678"/>
                  <a:pt x="47" y="676"/>
                </a:cubicBezTo>
                <a:cubicBezTo>
                  <a:pt x="56" y="678"/>
                  <a:pt x="80" y="684"/>
                  <a:pt x="59" y="691"/>
                </a:cubicBezTo>
                <a:cubicBezTo>
                  <a:pt x="40" y="685"/>
                  <a:pt x="62" y="680"/>
                  <a:pt x="71" y="676"/>
                </a:cubicBezTo>
                <a:cubicBezTo>
                  <a:pt x="66" y="657"/>
                  <a:pt x="66" y="669"/>
                  <a:pt x="50" y="664"/>
                </a:cubicBezTo>
                <a:cubicBezTo>
                  <a:pt x="55" y="644"/>
                  <a:pt x="60" y="646"/>
                  <a:pt x="80" y="649"/>
                </a:cubicBezTo>
                <a:cubicBezTo>
                  <a:pt x="89" y="646"/>
                  <a:pt x="110" y="627"/>
                  <a:pt x="83" y="640"/>
                </a:cubicBezTo>
                <a:cubicBezTo>
                  <a:pt x="79" y="653"/>
                  <a:pt x="74" y="653"/>
                  <a:pt x="62" y="649"/>
                </a:cubicBezTo>
                <a:cubicBezTo>
                  <a:pt x="50" y="653"/>
                  <a:pt x="47" y="647"/>
                  <a:pt x="35" y="643"/>
                </a:cubicBezTo>
                <a:cubicBezTo>
                  <a:pt x="13" y="665"/>
                  <a:pt x="21" y="641"/>
                  <a:pt x="32" y="634"/>
                </a:cubicBezTo>
                <a:cubicBezTo>
                  <a:pt x="51" y="639"/>
                  <a:pt x="56" y="634"/>
                  <a:pt x="62" y="616"/>
                </a:cubicBezTo>
                <a:cubicBezTo>
                  <a:pt x="55" y="594"/>
                  <a:pt x="58" y="592"/>
                  <a:pt x="53" y="610"/>
                </a:cubicBezTo>
                <a:cubicBezTo>
                  <a:pt x="63" y="625"/>
                  <a:pt x="74" y="621"/>
                  <a:pt x="83" y="607"/>
                </a:cubicBezTo>
                <a:cubicBezTo>
                  <a:pt x="84" y="602"/>
                  <a:pt x="82" y="596"/>
                  <a:pt x="86" y="592"/>
                </a:cubicBezTo>
                <a:cubicBezTo>
                  <a:pt x="102" y="576"/>
                  <a:pt x="93" y="617"/>
                  <a:pt x="101" y="631"/>
                </a:cubicBezTo>
                <a:cubicBezTo>
                  <a:pt x="103" y="634"/>
                  <a:pt x="107" y="635"/>
                  <a:pt x="110" y="637"/>
                </a:cubicBezTo>
                <a:cubicBezTo>
                  <a:pt x="122" y="620"/>
                  <a:pt x="106" y="630"/>
                  <a:pt x="122" y="646"/>
                </a:cubicBezTo>
                <a:cubicBezTo>
                  <a:pt x="118" y="668"/>
                  <a:pt x="106" y="669"/>
                  <a:pt x="86" y="664"/>
                </a:cubicBezTo>
                <a:cubicBezTo>
                  <a:pt x="85" y="661"/>
                  <a:pt x="82" y="652"/>
                  <a:pt x="83" y="655"/>
                </a:cubicBezTo>
                <a:cubicBezTo>
                  <a:pt x="85" y="663"/>
                  <a:pt x="89" y="679"/>
                  <a:pt x="89" y="679"/>
                </a:cubicBezTo>
                <a:cubicBezTo>
                  <a:pt x="106" y="670"/>
                  <a:pt x="150" y="674"/>
                  <a:pt x="110" y="661"/>
                </a:cubicBezTo>
                <a:cubicBezTo>
                  <a:pt x="105" y="642"/>
                  <a:pt x="97" y="625"/>
                  <a:pt x="116" y="613"/>
                </a:cubicBezTo>
                <a:cubicBezTo>
                  <a:pt x="139" y="619"/>
                  <a:pt x="148" y="633"/>
                  <a:pt x="158" y="613"/>
                </a:cubicBezTo>
                <a:cubicBezTo>
                  <a:pt x="142" y="609"/>
                  <a:pt x="138" y="616"/>
                  <a:pt x="143" y="631"/>
                </a:cubicBezTo>
                <a:cubicBezTo>
                  <a:pt x="142" y="638"/>
                  <a:pt x="144" y="646"/>
                  <a:pt x="140" y="652"/>
                </a:cubicBezTo>
                <a:cubicBezTo>
                  <a:pt x="138" y="655"/>
                  <a:pt x="131" y="645"/>
                  <a:pt x="134" y="643"/>
                </a:cubicBezTo>
                <a:cubicBezTo>
                  <a:pt x="142" y="636"/>
                  <a:pt x="190" y="634"/>
                  <a:pt x="194" y="634"/>
                </a:cubicBezTo>
                <a:cubicBezTo>
                  <a:pt x="245" y="596"/>
                  <a:pt x="186" y="597"/>
                  <a:pt x="164" y="595"/>
                </a:cubicBezTo>
                <a:cubicBezTo>
                  <a:pt x="160" y="598"/>
                  <a:pt x="146" y="604"/>
                  <a:pt x="152" y="613"/>
                </a:cubicBezTo>
                <a:cubicBezTo>
                  <a:pt x="156" y="619"/>
                  <a:pt x="170" y="625"/>
                  <a:pt x="170" y="625"/>
                </a:cubicBezTo>
                <a:cubicBezTo>
                  <a:pt x="183" y="645"/>
                  <a:pt x="171" y="652"/>
                  <a:pt x="152" y="655"/>
                </a:cubicBezTo>
                <a:cubicBezTo>
                  <a:pt x="149" y="668"/>
                  <a:pt x="152" y="678"/>
                  <a:pt x="137" y="673"/>
                </a:cubicBezTo>
                <a:cubicBezTo>
                  <a:pt x="124" y="653"/>
                  <a:pt x="154" y="655"/>
                  <a:pt x="170" y="652"/>
                </a:cubicBezTo>
                <a:cubicBezTo>
                  <a:pt x="173" y="650"/>
                  <a:pt x="175" y="646"/>
                  <a:pt x="179" y="646"/>
                </a:cubicBezTo>
                <a:cubicBezTo>
                  <a:pt x="185" y="646"/>
                  <a:pt x="197" y="652"/>
                  <a:pt x="197" y="652"/>
                </a:cubicBezTo>
                <a:cubicBezTo>
                  <a:pt x="200" y="651"/>
                  <a:pt x="205" y="652"/>
                  <a:pt x="206" y="649"/>
                </a:cubicBezTo>
                <a:cubicBezTo>
                  <a:pt x="207" y="646"/>
                  <a:pt x="206" y="640"/>
                  <a:pt x="203" y="640"/>
                </a:cubicBezTo>
                <a:cubicBezTo>
                  <a:pt x="202" y="640"/>
                  <a:pt x="199" y="653"/>
                  <a:pt x="197" y="661"/>
                </a:cubicBezTo>
                <a:cubicBezTo>
                  <a:pt x="161" y="654"/>
                  <a:pt x="202" y="663"/>
                  <a:pt x="215" y="643"/>
                </a:cubicBezTo>
                <a:cubicBezTo>
                  <a:pt x="229" y="646"/>
                  <a:pt x="240" y="650"/>
                  <a:pt x="245" y="634"/>
                </a:cubicBezTo>
                <a:cubicBezTo>
                  <a:pt x="209" y="616"/>
                  <a:pt x="278" y="627"/>
                  <a:pt x="284" y="628"/>
                </a:cubicBezTo>
                <a:cubicBezTo>
                  <a:pt x="282" y="625"/>
                  <a:pt x="281" y="620"/>
                  <a:pt x="278" y="619"/>
                </a:cubicBezTo>
                <a:cubicBezTo>
                  <a:pt x="272" y="616"/>
                  <a:pt x="262" y="621"/>
                  <a:pt x="257" y="616"/>
                </a:cubicBezTo>
                <a:cubicBezTo>
                  <a:pt x="245" y="606"/>
                  <a:pt x="268" y="601"/>
                  <a:pt x="269" y="601"/>
                </a:cubicBezTo>
                <a:cubicBezTo>
                  <a:pt x="284" y="606"/>
                  <a:pt x="282" y="597"/>
                  <a:pt x="278" y="586"/>
                </a:cubicBezTo>
                <a:cubicBezTo>
                  <a:pt x="258" y="589"/>
                  <a:pt x="253" y="590"/>
                  <a:pt x="248" y="610"/>
                </a:cubicBezTo>
                <a:cubicBezTo>
                  <a:pt x="236" y="592"/>
                  <a:pt x="244" y="592"/>
                  <a:pt x="263" y="595"/>
                </a:cubicBezTo>
                <a:cubicBezTo>
                  <a:pt x="278" y="590"/>
                  <a:pt x="272" y="581"/>
                  <a:pt x="260" y="577"/>
                </a:cubicBezTo>
                <a:cubicBezTo>
                  <a:pt x="247" y="581"/>
                  <a:pt x="247" y="591"/>
                  <a:pt x="236" y="598"/>
                </a:cubicBezTo>
                <a:cubicBezTo>
                  <a:pt x="217" y="595"/>
                  <a:pt x="212" y="595"/>
                  <a:pt x="218" y="577"/>
                </a:cubicBezTo>
                <a:cubicBezTo>
                  <a:pt x="235" y="588"/>
                  <a:pt x="236" y="627"/>
                  <a:pt x="215" y="634"/>
                </a:cubicBezTo>
                <a:cubicBezTo>
                  <a:pt x="210" y="623"/>
                  <a:pt x="205" y="612"/>
                  <a:pt x="200" y="601"/>
                </a:cubicBezTo>
                <a:cubicBezTo>
                  <a:pt x="203" y="589"/>
                  <a:pt x="213" y="556"/>
                  <a:pt x="191" y="571"/>
                </a:cubicBezTo>
                <a:cubicBezTo>
                  <a:pt x="201" y="592"/>
                  <a:pt x="197" y="574"/>
                  <a:pt x="215" y="580"/>
                </a:cubicBezTo>
                <a:cubicBezTo>
                  <a:pt x="229" y="623"/>
                  <a:pt x="186" y="612"/>
                  <a:pt x="155" y="610"/>
                </a:cubicBezTo>
                <a:cubicBezTo>
                  <a:pt x="139" y="599"/>
                  <a:pt x="140" y="594"/>
                  <a:pt x="137" y="574"/>
                </a:cubicBezTo>
                <a:cubicBezTo>
                  <a:pt x="148" y="551"/>
                  <a:pt x="145" y="527"/>
                  <a:pt x="167" y="538"/>
                </a:cubicBezTo>
                <a:cubicBezTo>
                  <a:pt x="177" y="579"/>
                  <a:pt x="157" y="567"/>
                  <a:pt x="131" y="580"/>
                </a:cubicBezTo>
                <a:cubicBezTo>
                  <a:pt x="132" y="583"/>
                  <a:pt x="131" y="589"/>
                  <a:pt x="134" y="589"/>
                </a:cubicBezTo>
                <a:cubicBezTo>
                  <a:pt x="138" y="589"/>
                  <a:pt x="140" y="582"/>
                  <a:pt x="143" y="580"/>
                </a:cubicBezTo>
                <a:cubicBezTo>
                  <a:pt x="151" y="574"/>
                  <a:pt x="157" y="573"/>
                  <a:pt x="167" y="571"/>
                </a:cubicBezTo>
                <a:cubicBezTo>
                  <a:pt x="185" y="578"/>
                  <a:pt x="195" y="587"/>
                  <a:pt x="212" y="583"/>
                </a:cubicBezTo>
                <a:cubicBezTo>
                  <a:pt x="218" y="566"/>
                  <a:pt x="208" y="551"/>
                  <a:pt x="230" y="562"/>
                </a:cubicBezTo>
                <a:cubicBezTo>
                  <a:pt x="238" y="575"/>
                  <a:pt x="244" y="577"/>
                  <a:pt x="257" y="568"/>
                </a:cubicBezTo>
                <a:cubicBezTo>
                  <a:pt x="258" y="564"/>
                  <a:pt x="257" y="553"/>
                  <a:pt x="260" y="556"/>
                </a:cubicBezTo>
                <a:cubicBezTo>
                  <a:pt x="267" y="562"/>
                  <a:pt x="272" y="580"/>
                  <a:pt x="272" y="580"/>
                </a:cubicBezTo>
                <a:cubicBezTo>
                  <a:pt x="276" y="579"/>
                  <a:pt x="281" y="574"/>
                  <a:pt x="284" y="577"/>
                </a:cubicBezTo>
                <a:cubicBezTo>
                  <a:pt x="303" y="596"/>
                  <a:pt x="283" y="611"/>
                  <a:pt x="302" y="592"/>
                </a:cubicBezTo>
                <a:cubicBezTo>
                  <a:pt x="313" y="609"/>
                  <a:pt x="331" y="601"/>
                  <a:pt x="341" y="586"/>
                </a:cubicBezTo>
                <a:cubicBezTo>
                  <a:pt x="338" y="559"/>
                  <a:pt x="335" y="547"/>
                  <a:pt x="320" y="577"/>
                </a:cubicBezTo>
                <a:cubicBezTo>
                  <a:pt x="332" y="578"/>
                  <a:pt x="344" y="582"/>
                  <a:pt x="356" y="580"/>
                </a:cubicBezTo>
                <a:cubicBezTo>
                  <a:pt x="360" y="579"/>
                  <a:pt x="365" y="572"/>
                  <a:pt x="362" y="571"/>
                </a:cubicBezTo>
                <a:cubicBezTo>
                  <a:pt x="354" y="568"/>
                  <a:pt x="346" y="573"/>
                  <a:pt x="338" y="574"/>
                </a:cubicBezTo>
                <a:cubicBezTo>
                  <a:pt x="321" y="591"/>
                  <a:pt x="312" y="585"/>
                  <a:pt x="290" y="580"/>
                </a:cubicBezTo>
                <a:cubicBezTo>
                  <a:pt x="274" y="556"/>
                  <a:pt x="301" y="558"/>
                  <a:pt x="320" y="556"/>
                </a:cubicBezTo>
                <a:cubicBezTo>
                  <a:pt x="325" y="541"/>
                  <a:pt x="326" y="534"/>
                  <a:pt x="308" y="538"/>
                </a:cubicBezTo>
                <a:cubicBezTo>
                  <a:pt x="307" y="542"/>
                  <a:pt x="309" y="549"/>
                  <a:pt x="305" y="550"/>
                </a:cubicBezTo>
                <a:cubicBezTo>
                  <a:pt x="302" y="551"/>
                  <a:pt x="295" y="541"/>
                  <a:pt x="299" y="541"/>
                </a:cubicBezTo>
                <a:cubicBezTo>
                  <a:pt x="313" y="540"/>
                  <a:pt x="327" y="545"/>
                  <a:pt x="341" y="547"/>
                </a:cubicBezTo>
                <a:cubicBezTo>
                  <a:pt x="350" y="550"/>
                  <a:pt x="401" y="553"/>
                  <a:pt x="365" y="544"/>
                </a:cubicBezTo>
                <a:cubicBezTo>
                  <a:pt x="364" y="548"/>
                  <a:pt x="356" y="592"/>
                  <a:pt x="347" y="565"/>
                </a:cubicBezTo>
                <a:cubicBezTo>
                  <a:pt x="360" y="561"/>
                  <a:pt x="370" y="566"/>
                  <a:pt x="383" y="562"/>
                </a:cubicBezTo>
                <a:cubicBezTo>
                  <a:pt x="390" y="535"/>
                  <a:pt x="382" y="565"/>
                  <a:pt x="404" y="550"/>
                </a:cubicBezTo>
                <a:cubicBezTo>
                  <a:pt x="408" y="538"/>
                  <a:pt x="404" y="532"/>
                  <a:pt x="401" y="520"/>
                </a:cubicBezTo>
                <a:cubicBezTo>
                  <a:pt x="343" y="530"/>
                  <a:pt x="364" y="514"/>
                  <a:pt x="392" y="523"/>
                </a:cubicBezTo>
                <a:cubicBezTo>
                  <a:pt x="403" y="512"/>
                  <a:pt x="406" y="502"/>
                  <a:pt x="389" y="496"/>
                </a:cubicBezTo>
                <a:cubicBezTo>
                  <a:pt x="367" y="505"/>
                  <a:pt x="367" y="509"/>
                  <a:pt x="371" y="532"/>
                </a:cubicBezTo>
                <a:cubicBezTo>
                  <a:pt x="365" y="555"/>
                  <a:pt x="358" y="550"/>
                  <a:pt x="335" y="547"/>
                </a:cubicBezTo>
                <a:cubicBezTo>
                  <a:pt x="300" y="512"/>
                  <a:pt x="333" y="515"/>
                  <a:pt x="362" y="508"/>
                </a:cubicBezTo>
                <a:cubicBezTo>
                  <a:pt x="366" y="496"/>
                  <a:pt x="366" y="491"/>
                  <a:pt x="353" y="487"/>
                </a:cubicBezTo>
                <a:cubicBezTo>
                  <a:pt x="358" y="512"/>
                  <a:pt x="375" y="517"/>
                  <a:pt x="341" y="523"/>
                </a:cubicBezTo>
                <a:cubicBezTo>
                  <a:pt x="338" y="522"/>
                  <a:pt x="324" y="518"/>
                  <a:pt x="323" y="514"/>
                </a:cubicBezTo>
                <a:cubicBezTo>
                  <a:pt x="317" y="483"/>
                  <a:pt x="341" y="484"/>
                  <a:pt x="308" y="490"/>
                </a:cubicBezTo>
                <a:cubicBezTo>
                  <a:pt x="313" y="504"/>
                  <a:pt x="324" y="506"/>
                  <a:pt x="338" y="511"/>
                </a:cubicBezTo>
                <a:cubicBezTo>
                  <a:pt x="333" y="543"/>
                  <a:pt x="311" y="531"/>
                  <a:pt x="281" y="529"/>
                </a:cubicBezTo>
                <a:cubicBezTo>
                  <a:pt x="269" y="521"/>
                  <a:pt x="268" y="512"/>
                  <a:pt x="254" y="505"/>
                </a:cubicBezTo>
                <a:cubicBezTo>
                  <a:pt x="233" y="536"/>
                  <a:pt x="280" y="521"/>
                  <a:pt x="302" y="520"/>
                </a:cubicBezTo>
                <a:cubicBezTo>
                  <a:pt x="320" y="526"/>
                  <a:pt x="319" y="543"/>
                  <a:pt x="305" y="553"/>
                </a:cubicBezTo>
                <a:cubicBezTo>
                  <a:pt x="275" y="550"/>
                  <a:pt x="274" y="542"/>
                  <a:pt x="248" y="538"/>
                </a:cubicBezTo>
                <a:cubicBezTo>
                  <a:pt x="227" y="545"/>
                  <a:pt x="223" y="558"/>
                  <a:pt x="218" y="538"/>
                </a:cubicBezTo>
                <a:cubicBezTo>
                  <a:pt x="222" y="522"/>
                  <a:pt x="227" y="521"/>
                  <a:pt x="242" y="514"/>
                </a:cubicBezTo>
                <a:cubicBezTo>
                  <a:pt x="252" y="499"/>
                  <a:pt x="242" y="501"/>
                  <a:pt x="230" y="505"/>
                </a:cubicBezTo>
                <a:cubicBezTo>
                  <a:pt x="222" y="528"/>
                  <a:pt x="273" y="512"/>
                  <a:pt x="284" y="511"/>
                </a:cubicBezTo>
                <a:cubicBezTo>
                  <a:pt x="292" y="500"/>
                  <a:pt x="292" y="491"/>
                  <a:pt x="302" y="481"/>
                </a:cubicBezTo>
                <a:cubicBezTo>
                  <a:pt x="321" y="484"/>
                  <a:pt x="331" y="491"/>
                  <a:pt x="350" y="487"/>
                </a:cubicBezTo>
                <a:cubicBezTo>
                  <a:pt x="372" y="489"/>
                  <a:pt x="386" y="494"/>
                  <a:pt x="407" y="490"/>
                </a:cubicBezTo>
                <a:cubicBezTo>
                  <a:pt x="420" y="480"/>
                  <a:pt x="424" y="478"/>
                  <a:pt x="419" y="463"/>
                </a:cubicBezTo>
                <a:cubicBezTo>
                  <a:pt x="420" y="476"/>
                  <a:pt x="417" y="490"/>
                  <a:pt x="422" y="502"/>
                </a:cubicBezTo>
                <a:cubicBezTo>
                  <a:pt x="424" y="506"/>
                  <a:pt x="433" y="492"/>
                  <a:pt x="434" y="496"/>
                </a:cubicBezTo>
                <a:cubicBezTo>
                  <a:pt x="435" y="503"/>
                  <a:pt x="424" y="519"/>
                  <a:pt x="419" y="526"/>
                </a:cubicBezTo>
                <a:cubicBezTo>
                  <a:pt x="415" y="525"/>
                  <a:pt x="409" y="527"/>
                  <a:pt x="407" y="523"/>
                </a:cubicBezTo>
                <a:cubicBezTo>
                  <a:pt x="405" y="519"/>
                  <a:pt x="406" y="512"/>
                  <a:pt x="410" y="511"/>
                </a:cubicBezTo>
                <a:cubicBezTo>
                  <a:pt x="417" y="509"/>
                  <a:pt x="424" y="513"/>
                  <a:pt x="431" y="514"/>
                </a:cubicBezTo>
                <a:cubicBezTo>
                  <a:pt x="433" y="510"/>
                  <a:pt x="436" y="506"/>
                  <a:pt x="437" y="502"/>
                </a:cubicBezTo>
                <a:cubicBezTo>
                  <a:pt x="438" y="498"/>
                  <a:pt x="432" y="486"/>
                  <a:pt x="434" y="490"/>
                </a:cubicBezTo>
                <a:cubicBezTo>
                  <a:pt x="437" y="496"/>
                  <a:pt x="440" y="508"/>
                  <a:pt x="440" y="508"/>
                </a:cubicBezTo>
                <a:cubicBezTo>
                  <a:pt x="439" y="511"/>
                  <a:pt x="434" y="516"/>
                  <a:pt x="437" y="517"/>
                </a:cubicBezTo>
                <a:cubicBezTo>
                  <a:pt x="442" y="520"/>
                  <a:pt x="451" y="503"/>
                  <a:pt x="452" y="502"/>
                </a:cubicBezTo>
                <a:cubicBezTo>
                  <a:pt x="459" y="495"/>
                  <a:pt x="464" y="495"/>
                  <a:pt x="473" y="493"/>
                </a:cubicBezTo>
                <a:cubicBezTo>
                  <a:pt x="486" y="473"/>
                  <a:pt x="472" y="474"/>
                  <a:pt x="452" y="469"/>
                </a:cubicBezTo>
                <a:cubicBezTo>
                  <a:pt x="440" y="470"/>
                  <a:pt x="428" y="470"/>
                  <a:pt x="416" y="472"/>
                </a:cubicBezTo>
                <a:cubicBezTo>
                  <a:pt x="413" y="472"/>
                  <a:pt x="404" y="475"/>
                  <a:pt x="407" y="475"/>
                </a:cubicBezTo>
                <a:cubicBezTo>
                  <a:pt x="415" y="475"/>
                  <a:pt x="423" y="473"/>
                  <a:pt x="431" y="472"/>
                </a:cubicBezTo>
                <a:cubicBezTo>
                  <a:pt x="445" y="465"/>
                  <a:pt x="452" y="470"/>
                  <a:pt x="467" y="466"/>
                </a:cubicBezTo>
                <a:cubicBezTo>
                  <a:pt x="461" y="475"/>
                  <a:pt x="458" y="497"/>
                  <a:pt x="452" y="478"/>
                </a:cubicBezTo>
                <a:cubicBezTo>
                  <a:pt x="442" y="481"/>
                  <a:pt x="429" y="474"/>
                  <a:pt x="440" y="463"/>
                </a:cubicBezTo>
                <a:cubicBezTo>
                  <a:pt x="449" y="454"/>
                  <a:pt x="468" y="453"/>
                  <a:pt x="479" y="451"/>
                </a:cubicBezTo>
                <a:cubicBezTo>
                  <a:pt x="493" y="437"/>
                  <a:pt x="482" y="427"/>
                  <a:pt x="497" y="412"/>
                </a:cubicBezTo>
                <a:cubicBezTo>
                  <a:pt x="499" y="427"/>
                  <a:pt x="497" y="445"/>
                  <a:pt x="515" y="439"/>
                </a:cubicBezTo>
                <a:cubicBezTo>
                  <a:pt x="503" y="451"/>
                  <a:pt x="501" y="455"/>
                  <a:pt x="485" y="451"/>
                </a:cubicBezTo>
                <a:cubicBezTo>
                  <a:pt x="474" y="462"/>
                  <a:pt x="472" y="469"/>
                  <a:pt x="458" y="460"/>
                </a:cubicBezTo>
                <a:cubicBezTo>
                  <a:pt x="462" y="443"/>
                  <a:pt x="470" y="447"/>
                  <a:pt x="485" y="439"/>
                </a:cubicBezTo>
                <a:cubicBezTo>
                  <a:pt x="492" y="428"/>
                  <a:pt x="491" y="422"/>
                  <a:pt x="503" y="418"/>
                </a:cubicBezTo>
                <a:cubicBezTo>
                  <a:pt x="520" y="420"/>
                  <a:pt x="542" y="428"/>
                  <a:pt x="548" y="409"/>
                </a:cubicBezTo>
                <a:cubicBezTo>
                  <a:pt x="510" y="399"/>
                  <a:pt x="536" y="436"/>
                  <a:pt x="509" y="445"/>
                </a:cubicBezTo>
                <a:cubicBezTo>
                  <a:pt x="495" y="474"/>
                  <a:pt x="497" y="483"/>
                  <a:pt x="467" y="463"/>
                </a:cubicBezTo>
                <a:cubicBezTo>
                  <a:pt x="454" y="437"/>
                  <a:pt x="461" y="434"/>
                  <a:pt x="476" y="412"/>
                </a:cubicBezTo>
                <a:cubicBezTo>
                  <a:pt x="471" y="397"/>
                  <a:pt x="467" y="394"/>
                  <a:pt x="455" y="406"/>
                </a:cubicBezTo>
                <a:cubicBezTo>
                  <a:pt x="474" y="412"/>
                  <a:pt x="488" y="406"/>
                  <a:pt x="506" y="412"/>
                </a:cubicBezTo>
                <a:cubicBezTo>
                  <a:pt x="502" y="424"/>
                  <a:pt x="484" y="435"/>
                  <a:pt x="497" y="406"/>
                </a:cubicBezTo>
                <a:cubicBezTo>
                  <a:pt x="500" y="399"/>
                  <a:pt x="508" y="394"/>
                  <a:pt x="512" y="388"/>
                </a:cubicBezTo>
                <a:cubicBezTo>
                  <a:pt x="511" y="381"/>
                  <a:pt x="514" y="372"/>
                  <a:pt x="509" y="367"/>
                </a:cubicBezTo>
                <a:cubicBezTo>
                  <a:pt x="505" y="363"/>
                  <a:pt x="491" y="366"/>
                  <a:pt x="494" y="370"/>
                </a:cubicBezTo>
                <a:cubicBezTo>
                  <a:pt x="498" y="376"/>
                  <a:pt x="508" y="374"/>
                  <a:pt x="515" y="376"/>
                </a:cubicBezTo>
                <a:cubicBezTo>
                  <a:pt x="534" y="374"/>
                  <a:pt x="554" y="376"/>
                  <a:pt x="572" y="370"/>
                </a:cubicBezTo>
                <a:cubicBezTo>
                  <a:pt x="575" y="369"/>
                  <a:pt x="566" y="368"/>
                  <a:pt x="563" y="367"/>
                </a:cubicBezTo>
                <a:cubicBezTo>
                  <a:pt x="556" y="339"/>
                  <a:pt x="564" y="317"/>
                  <a:pt x="533" y="307"/>
                </a:cubicBezTo>
                <a:cubicBezTo>
                  <a:pt x="528" y="309"/>
                  <a:pt x="515" y="319"/>
                  <a:pt x="521" y="319"/>
                </a:cubicBezTo>
                <a:cubicBezTo>
                  <a:pt x="545" y="321"/>
                  <a:pt x="569" y="317"/>
                  <a:pt x="593" y="316"/>
                </a:cubicBezTo>
                <a:cubicBezTo>
                  <a:pt x="613" y="323"/>
                  <a:pt x="586" y="339"/>
                  <a:pt x="575" y="343"/>
                </a:cubicBezTo>
                <a:cubicBezTo>
                  <a:pt x="551" y="340"/>
                  <a:pt x="540" y="337"/>
                  <a:pt x="515" y="340"/>
                </a:cubicBezTo>
                <a:cubicBezTo>
                  <a:pt x="536" y="371"/>
                  <a:pt x="503" y="325"/>
                  <a:pt x="533" y="355"/>
                </a:cubicBezTo>
                <a:cubicBezTo>
                  <a:pt x="538" y="360"/>
                  <a:pt x="538" y="367"/>
                  <a:pt x="542" y="373"/>
                </a:cubicBezTo>
                <a:cubicBezTo>
                  <a:pt x="535" y="388"/>
                  <a:pt x="532" y="391"/>
                  <a:pt x="518" y="382"/>
                </a:cubicBezTo>
                <a:cubicBezTo>
                  <a:pt x="511" y="360"/>
                  <a:pt x="518" y="362"/>
                  <a:pt x="500" y="367"/>
                </a:cubicBezTo>
                <a:cubicBezTo>
                  <a:pt x="494" y="371"/>
                  <a:pt x="491" y="378"/>
                  <a:pt x="485" y="382"/>
                </a:cubicBezTo>
                <a:cubicBezTo>
                  <a:pt x="479" y="386"/>
                  <a:pt x="471" y="386"/>
                  <a:pt x="464" y="388"/>
                </a:cubicBezTo>
                <a:cubicBezTo>
                  <a:pt x="461" y="386"/>
                  <a:pt x="456" y="386"/>
                  <a:pt x="455" y="382"/>
                </a:cubicBezTo>
                <a:cubicBezTo>
                  <a:pt x="452" y="368"/>
                  <a:pt x="465" y="350"/>
                  <a:pt x="452" y="370"/>
                </a:cubicBezTo>
                <a:cubicBezTo>
                  <a:pt x="458" y="389"/>
                  <a:pt x="461" y="409"/>
                  <a:pt x="443" y="421"/>
                </a:cubicBezTo>
                <a:cubicBezTo>
                  <a:pt x="416" y="408"/>
                  <a:pt x="433" y="380"/>
                  <a:pt x="437" y="355"/>
                </a:cubicBezTo>
                <a:cubicBezTo>
                  <a:pt x="433" y="335"/>
                  <a:pt x="429" y="332"/>
                  <a:pt x="422" y="352"/>
                </a:cubicBezTo>
                <a:cubicBezTo>
                  <a:pt x="447" y="356"/>
                  <a:pt x="454" y="353"/>
                  <a:pt x="458" y="379"/>
                </a:cubicBezTo>
                <a:cubicBezTo>
                  <a:pt x="451" y="394"/>
                  <a:pt x="444" y="393"/>
                  <a:pt x="434" y="406"/>
                </a:cubicBezTo>
                <a:cubicBezTo>
                  <a:pt x="430" y="440"/>
                  <a:pt x="435" y="449"/>
                  <a:pt x="398" y="454"/>
                </a:cubicBezTo>
                <a:cubicBezTo>
                  <a:pt x="378" y="449"/>
                  <a:pt x="364" y="450"/>
                  <a:pt x="377" y="430"/>
                </a:cubicBezTo>
                <a:cubicBezTo>
                  <a:pt x="403" y="436"/>
                  <a:pt x="398" y="439"/>
                  <a:pt x="401" y="469"/>
                </a:cubicBezTo>
                <a:cubicBezTo>
                  <a:pt x="422" y="459"/>
                  <a:pt x="407" y="423"/>
                  <a:pt x="428" y="421"/>
                </a:cubicBezTo>
                <a:cubicBezTo>
                  <a:pt x="450" y="419"/>
                  <a:pt x="472" y="419"/>
                  <a:pt x="494" y="418"/>
                </a:cubicBezTo>
                <a:cubicBezTo>
                  <a:pt x="519" y="399"/>
                  <a:pt x="502" y="370"/>
                  <a:pt x="497" y="343"/>
                </a:cubicBezTo>
                <a:cubicBezTo>
                  <a:pt x="436" y="347"/>
                  <a:pt x="438" y="345"/>
                  <a:pt x="470" y="334"/>
                </a:cubicBezTo>
                <a:cubicBezTo>
                  <a:pt x="491" y="348"/>
                  <a:pt x="476" y="350"/>
                  <a:pt x="509" y="346"/>
                </a:cubicBezTo>
                <a:cubicBezTo>
                  <a:pt x="514" y="331"/>
                  <a:pt x="524" y="338"/>
                  <a:pt x="533" y="325"/>
                </a:cubicBezTo>
                <a:cubicBezTo>
                  <a:pt x="536" y="321"/>
                  <a:pt x="536" y="316"/>
                  <a:pt x="539" y="313"/>
                </a:cubicBezTo>
                <a:cubicBezTo>
                  <a:pt x="542" y="310"/>
                  <a:pt x="547" y="311"/>
                  <a:pt x="551" y="310"/>
                </a:cubicBezTo>
                <a:cubicBezTo>
                  <a:pt x="564" y="291"/>
                  <a:pt x="557" y="280"/>
                  <a:pt x="545" y="262"/>
                </a:cubicBezTo>
                <a:cubicBezTo>
                  <a:pt x="549" y="243"/>
                  <a:pt x="551" y="242"/>
                  <a:pt x="569" y="247"/>
                </a:cubicBezTo>
                <a:cubicBezTo>
                  <a:pt x="585" y="245"/>
                  <a:pt x="606" y="247"/>
                  <a:pt x="599" y="226"/>
                </a:cubicBezTo>
                <a:cubicBezTo>
                  <a:pt x="585" y="231"/>
                  <a:pt x="591" y="295"/>
                  <a:pt x="590" y="313"/>
                </a:cubicBezTo>
                <a:cubicBezTo>
                  <a:pt x="568" y="306"/>
                  <a:pt x="557" y="293"/>
                  <a:pt x="581" y="277"/>
                </a:cubicBezTo>
                <a:cubicBezTo>
                  <a:pt x="588" y="257"/>
                  <a:pt x="605" y="225"/>
                  <a:pt x="569" y="232"/>
                </a:cubicBezTo>
                <a:cubicBezTo>
                  <a:pt x="559" y="222"/>
                  <a:pt x="555" y="219"/>
                  <a:pt x="560" y="205"/>
                </a:cubicBezTo>
                <a:cubicBezTo>
                  <a:pt x="564" y="221"/>
                  <a:pt x="565" y="231"/>
                  <a:pt x="551" y="241"/>
                </a:cubicBezTo>
                <a:cubicBezTo>
                  <a:pt x="543" y="258"/>
                  <a:pt x="550" y="272"/>
                  <a:pt x="539" y="289"/>
                </a:cubicBezTo>
                <a:cubicBezTo>
                  <a:pt x="532" y="288"/>
                  <a:pt x="524" y="289"/>
                  <a:pt x="518" y="286"/>
                </a:cubicBezTo>
                <a:cubicBezTo>
                  <a:pt x="499" y="276"/>
                  <a:pt x="532" y="265"/>
                  <a:pt x="533" y="265"/>
                </a:cubicBezTo>
                <a:cubicBezTo>
                  <a:pt x="540" y="237"/>
                  <a:pt x="530" y="286"/>
                  <a:pt x="521" y="295"/>
                </a:cubicBezTo>
                <a:cubicBezTo>
                  <a:pt x="505" y="262"/>
                  <a:pt x="524" y="261"/>
                  <a:pt x="545" y="247"/>
                </a:cubicBezTo>
                <a:cubicBezTo>
                  <a:pt x="550" y="228"/>
                  <a:pt x="549" y="220"/>
                  <a:pt x="566" y="211"/>
                </a:cubicBezTo>
                <a:cubicBezTo>
                  <a:pt x="580" y="215"/>
                  <a:pt x="592" y="224"/>
                  <a:pt x="605" y="220"/>
                </a:cubicBezTo>
                <a:cubicBezTo>
                  <a:pt x="610" y="205"/>
                  <a:pt x="615" y="200"/>
                  <a:pt x="623" y="217"/>
                </a:cubicBezTo>
                <a:cubicBezTo>
                  <a:pt x="620" y="234"/>
                  <a:pt x="618" y="251"/>
                  <a:pt x="614" y="268"/>
                </a:cubicBezTo>
                <a:cubicBezTo>
                  <a:pt x="597" y="262"/>
                  <a:pt x="602" y="246"/>
                  <a:pt x="617" y="241"/>
                </a:cubicBezTo>
                <a:cubicBezTo>
                  <a:pt x="619" y="233"/>
                  <a:pt x="626" y="226"/>
                  <a:pt x="626" y="217"/>
                </a:cubicBezTo>
                <a:cubicBezTo>
                  <a:pt x="626" y="217"/>
                  <a:pt x="619" y="195"/>
                  <a:pt x="617" y="190"/>
                </a:cubicBezTo>
                <a:cubicBezTo>
                  <a:pt x="616" y="187"/>
                  <a:pt x="614" y="181"/>
                  <a:pt x="614" y="181"/>
                </a:cubicBezTo>
                <a:cubicBezTo>
                  <a:pt x="625" y="174"/>
                  <a:pt x="635" y="166"/>
                  <a:pt x="644" y="157"/>
                </a:cubicBezTo>
                <a:cubicBezTo>
                  <a:pt x="642" y="174"/>
                  <a:pt x="648" y="200"/>
                  <a:pt x="629" y="181"/>
                </a:cubicBezTo>
                <a:cubicBezTo>
                  <a:pt x="631" y="161"/>
                  <a:pt x="640" y="129"/>
                  <a:pt x="620" y="115"/>
                </a:cubicBezTo>
                <a:cubicBezTo>
                  <a:pt x="619" y="116"/>
                  <a:pt x="592" y="137"/>
                  <a:pt x="602" y="139"/>
                </a:cubicBezTo>
                <a:cubicBezTo>
                  <a:pt x="614" y="141"/>
                  <a:pt x="626" y="137"/>
                  <a:pt x="638" y="136"/>
                </a:cubicBezTo>
                <a:cubicBezTo>
                  <a:pt x="640" y="139"/>
                  <a:pt x="645" y="142"/>
                  <a:pt x="644" y="145"/>
                </a:cubicBezTo>
                <a:cubicBezTo>
                  <a:pt x="643" y="148"/>
                  <a:pt x="635" y="151"/>
                  <a:pt x="635" y="148"/>
                </a:cubicBezTo>
                <a:cubicBezTo>
                  <a:pt x="632" y="130"/>
                  <a:pt x="637" y="93"/>
                  <a:pt x="644" y="73"/>
                </a:cubicBezTo>
                <a:cubicBezTo>
                  <a:pt x="643" y="70"/>
                  <a:pt x="644" y="65"/>
                  <a:pt x="641" y="64"/>
                </a:cubicBezTo>
                <a:cubicBezTo>
                  <a:pt x="638" y="63"/>
                  <a:pt x="633" y="67"/>
                  <a:pt x="632" y="70"/>
                </a:cubicBezTo>
                <a:cubicBezTo>
                  <a:pt x="628" y="86"/>
                  <a:pt x="637" y="100"/>
                  <a:pt x="650" y="103"/>
                </a:cubicBezTo>
                <a:cubicBezTo>
                  <a:pt x="671" y="96"/>
                  <a:pt x="656" y="118"/>
                  <a:pt x="650" y="127"/>
                </a:cubicBezTo>
                <a:cubicBezTo>
                  <a:pt x="643" y="116"/>
                  <a:pt x="636" y="110"/>
                  <a:pt x="623" y="106"/>
                </a:cubicBezTo>
                <a:cubicBezTo>
                  <a:pt x="594" y="113"/>
                  <a:pt x="604" y="132"/>
                  <a:pt x="626" y="139"/>
                </a:cubicBezTo>
                <a:cubicBezTo>
                  <a:pt x="635" y="184"/>
                  <a:pt x="619" y="162"/>
                  <a:pt x="596" y="154"/>
                </a:cubicBezTo>
                <a:cubicBezTo>
                  <a:pt x="585" y="165"/>
                  <a:pt x="582" y="177"/>
                  <a:pt x="602" y="172"/>
                </a:cubicBezTo>
                <a:cubicBezTo>
                  <a:pt x="608" y="189"/>
                  <a:pt x="615" y="202"/>
                  <a:pt x="605" y="217"/>
                </a:cubicBezTo>
                <a:cubicBezTo>
                  <a:pt x="579" y="211"/>
                  <a:pt x="584" y="168"/>
                  <a:pt x="581" y="145"/>
                </a:cubicBezTo>
                <a:cubicBezTo>
                  <a:pt x="542" y="156"/>
                  <a:pt x="569" y="159"/>
                  <a:pt x="581" y="151"/>
                </a:cubicBezTo>
                <a:cubicBezTo>
                  <a:pt x="592" y="119"/>
                  <a:pt x="555" y="72"/>
                  <a:pt x="605" y="64"/>
                </a:cubicBezTo>
                <a:cubicBezTo>
                  <a:pt x="622" y="67"/>
                  <a:pt x="628" y="67"/>
                  <a:pt x="638" y="52"/>
                </a:cubicBezTo>
                <a:cubicBezTo>
                  <a:pt x="631" y="0"/>
                  <a:pt x="624" y="62"/>
                  <a:pt x="623" y="73"/>
                </a:cubicBezTo>
                <a:cubicBezTo>
                  <a:pt x="628" y="119"/>
                  <a:pt x="632" y="112"/>
                  <a:pt x="596" y="106"/>
                </a:cubicBezTo>
                <a:cubicBezTo>
                  <a:pt x="576" y="77"/>
                  <a:pt x="603" y="86"/>
                  <a:pt x="629" y="79"/>
                </a:cubicBezTo>
                <a:cubicBezTo>
                  <a:pt x="638" y="61"/>
                  <a:pt x="632" y="42"/>
                  <a:pt x="653" y="37"/>
                </a:cubicBezTo>
                <a:cubicBezTo>
                  <a:pt x="664" y="21"/>
                  <a:pt x="659" y="18"/>
                  <a:pt x="641" y="25"/>
                </a:cubicBezTo>
                <a:cubicBezTo>
                  <a:pt x="638" y="43"/>
                  <a:pt x="635" y="51"/>
                  <a:pt x="650" y="61"/>
                </a:cubicBezTo>
                <a:cubicBezTo>
                  <a:pt x="645" y="90"/>
                  <a:pt x="641" y="83"/>
                  <a:pt x="626" y="64"/>
                </a:cubicBezTo>
                <a:cubicBezTo>
                  <a:pt x="623" y="48"/>
                  <a:pt x="628" y="28"/>
                  <a:pt x="611" y="22"/>
                </a:cubicBezTo>
                <a:cubicBezTo>
                  <a:pt x="607" y="23"/>
                  <a:pt x="578" y="36"/>
                  <a:pt x="599" y="43"/>
                </a:cubicBezTo>
                <a:cubicBezTo>
                  <a:pt x="609" y="46"/>
                  <a:pt x="619" y="45"/>
                  <a:pt x="629" y="46"/>
                </a:cubicBezTo>
                <a:cubicBezTo>
                  <a:pt x="633" y="45"/>
                  <a:pt x="640" y="47"/>
                  <a:pt x="641" y="43"/>
                </a:cubicBezTo>
                <a:cubicBezTo>
                  <a:pt x="643" y="37"/>
                  <a:pt x="635" y="25"/>
                  <a:pt x="635" y="25"/>
                </a:cubicBezTo>
                <a:cubicBezTo>
                  <a:pt x="642" y="14"/>
                  <a:pt x="645" y="8"/>
                  <a:pt x="659" y="13"/>
                </a:cubicBezTo>
                <a:cubicBezTo>
                  <a:pt x="669" y="28"/>
                  <a:pt x="669" y="44"/>
                  <a:pt x="653" y="55"/>
                </a:cubicBezTo>
                <a:cubicBezTo>
                  <a:pt x="629" y="39"/>
                  <a:pt x="642" y="44"/>
                  <a:pt x="614" y="40"/>
                </a:cubicBezTo>
                <a:cubicBezTo>
                  <a:pt x="579" y="44"/>
                  <a:pt x="551" y="29"/>
                  <a:pt x="542" y="67"/>
                </a:cubicBezTo>
                <a:cubicBezTo>
                  <a:pt x="547" y="85"/>
                  <a:pt x="551" y="78"/>
                  <a:pt x="566" y="73"/>
                </a:cubicBezTo>
                <a:cubicBezTo>
                  <a:pt x="577" y="80"/>
                  <a:pt x="582" y="89"/>
                  <a:pt x="593" y="97"/>
                </a:cubicBezTo>
                <a:cubicBezTo>
                  <a:pt x="592" y="103"/>
                  <a:pt x="595" y="111"/>
                  <a:pt x="590" y="115"/>
                </a:cubicBezTo>
                <a:cubicBezTo>
                  <a:pt x="587" y="118"/>
                  <a:pt x="582" y="111"/>
                  <a:pt x="578" y="109"/>
                </a:cubicBezTo>
                <a:cubicBezTo>
                  <a:pt x="572" y="105"/>
                  <a:pt x="560" y="97"/>
                  <a:pt x="560" y="97"/>
                </a:cubicBezTo>
                <a:cubicBezTo>
                  <a:pt x="550" y="127"/>
                  <a:pt x="561" y="85"/>
                  <a:pt x="569" y="103"/>
                </a:cubicBezTo>
                <a:cubicBezTo>
                  <a:pt x="582" y="134"/>
                  <a:pt x="549" y="145"/>
                  <a:pt x="530" y="151"/>
                </a:cubicBezTo>
                <a:cubicBezTo>
                  <a:pt x="537" y="171"/>
                  <a:pt x="556" y="160"/>
                  <a:pt x="569" y="151"/>
                </a:cubicBezTo>
                <a:cubicBezTo>
                  <a:pt x="575" y="175"/>
                  <a:pt x="573" y="176"/>
                  <a:pt x="548" y="169"/>
                </a:cubicBezTo>
                <a:cubicBezTo>
                  <a:pt x="551" y="156"/>
                  <a:pt x="554" y="160"/>
                  <a:pt x="548" y="154"/>
                </a:cubicBezTo>
              </a:path>
            </a:pathLst>
          </a:custGeom>
          <a:solidFill>
            <a:srgbClr val="66ff33"/>
          </a:solidFill>
          <a:ln w="64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4616600">
            <a:off x="22443120" y="16748280"/>
            <a:ext cx="731880" cy="527040"/>
          </a:xfrm>
          <a:custGeom>
            <a:avLst/>
            <a:gdLst/>
            <a:ahLst/>
            <a:rect l="l" t="t" r="r" b="b"/>
            <a:pathLst>
              <a:path w="461" h="332">
                <a:moveTo>
                  <a:pt x="232" y="215"/>
                </a:moveTo>
                <a:cubicBezTo>
                  <a:pt x="209" y="218"/>
                  <a:pt x="204" y="221"/>
                  <a:pt x="190" y="203"/>
                </a:cubicBezTo>
                <a:cubicBezTo>
                  <a:pt x="196" y="186"/>
                  <a:pt x="199" y="182"/>
                  <a:pt x="202" y="161"/>
                </a:cubicBezTo>
                <a:cubicBezTo>
                  <a:pt x="197" y="145"/>
                  <a:pt x="190" y="155"/>
                  <a:pt x="181" y="164"/>
                </a:cubicBezTo>
                <a:cubicBezTo>
                  <a:pt x="175" y="213"/>
                  <a:pt x="189" y="199"/>
                  <a:pt x="235" y="203"/>
                </a:cubicBezTo>
                <a:cubicBezTo>
                  <a:pt x="241" y="220"/>
                  <a:pt x="239" y="251"/>
                  <a:pt x="220" y="257"/>
                </a:cubicBezTo>
                <a:cubicBezTo>
                  <a:pt x="200" y="250"/>
                  <a:pt x="185" y="236"/>
                  <a:pt x="208" y="221"/>
                </a:cubicBezTo>
                <a:cubicBezTo>
                  <a:pt x="199" y="176"/>
                  <a:pt x="148" y="230"/>
                  <a:pt x="133" y="245"/>
                </a:cubicBezTo>
                <a:cubicBezTo>
                  <a:pt x="146" y="246"/>
                  <a:pt x="159" y="245"/>
                  <a:pt x="172" y="248"/>
                </a:cubicBezTo>
                <a:cubicBezTo>
                  <a:pt x="176" y="249"/>
                  <a:pt x="177" y="258"/>
                  <a:pt x="181" y="257"/>
                </a:cubicBezTo>
                <a:cubicBezTo>
                  <a:pt x="187" y="256"/>
                  <a:pt x="189" y="249"/>
                  <a:pt x="193" y="245"/>
                </a:cubicBezTo>
                <a:cubicBezTo>
                  <a:pt x="183" y="230"/>
                  <a:pt x="178" y="238"/>
                  <a:pt x="169" y="251"/>
                </a:cubicBezTo>
                <a:cubicBezTo>
                  <a:pt x="144" y="243"/>
                  <a:pt x="185" y="241"/>
                  <a:pt x="193" y="239"/>
                </a:cubicBezTo>
                <a:cubicBezTo>
                  <a:pt x="217" y="223"/>
                  <a:pt x="201" y="195"/>
                  <a:pt x="229" y="179"/>
                </a:cubicBezTo>
                <a:cubicBezTo>
                  <a:pt x="234" y="176"/>
                  <a:pt x="241" y="177"/>
                  <a:pt x="247" y="176"/>
                </a:cubicBezTo>
                <a:cubicBezTo>
                  <a:pt x="269" y="193"/>
                  <a:pt x="251" y="206"/>
                  <a:pt x="280" y="200"/>
                </a:cubicBezTo>
                <a:cubicBezTo>
                  <a:pt x="292" y="188"/>
                  <a:pt x="291" y="183"/>
                  <a:pt x="274" y="179"/>
                </a:cubicBezTo>
                <a:cubicBezTo>
                  <a:pt x="265" y="192"/>
                  <a:pt x="264" y="198"/>
                  <a:pt x="247" y="194"/>
                </a:cubicBezTo>
                <a:cubicBezTo>
                  <a:pt x="251" y="174"/>
                  <a:pt x="254" y="177"/>
                  <a:pt x="274" y="173"/>
                </a:cubicBezTo>
                <a:cubicBezTo>
                  <a:pt x="282" y="157"/>
                  <a:pt x="280" y="155"/>
                  <a:pt x="268" y="143"/>
                </a:cubicBezTo>
                <a:cubicBezTo>
                  <a:pt x="242" y="147"/>
                  <a:pt x="243" y="148"/>
                  <a:pt x="259" y="164"/>
                </a:cubicBezTo>
                <a:cubicBezTo>
                  <a:pt x="281" y="142"/>
                  <a:pt x="268" y="140"/>
                  <a:pt x="307" y="152"/>
                </a:cubicBezTo>
                <a:cubicBezTo>
                  <a:pt x="309" y="154"/>
                  <a:pt x="321" y="162"/>
                  <a:pt x="325" y="161"/>
                </a:cubicBezTo>
                <a:cubicBezTo>
                  <a:pt x="330" y="160"/>
                  <a:pt x="335" y="156"/>
                  <a:pt x="337" y="152"/>
                </a:cubicBezTo>
                <a:cubicBezTo>
                  <a:pt x="338" y="149"/>
                  <a:pt x="331" y="154"/>
                  <a:pt x="328" y="155"/>
                </a:cubicBezTo>
                <a:cubicBezTo>
                  <a:pt x="323" y="175"/>
                  <a:pt x="319" y="178"/>
                  <a:pt x="298" y="182"/>
                </a:cubicBezTo>
                <a:cubicBezTo>
                  <a:pt x="277" y="177"/>
                  <a:pt x="279" y="164"/>
                  <a:pt x="292" y="143"/>
                </a:cubicBezTo>
                <a:cubicBezTo>
                  <a:pt x="296" y="136"/>
                  <a:pt x="306" y="135"/>
                  <a:pt x="313" y="131"/>
                </a:cubicBezTo>
                <a:cubicBezTo>
                  <a:pt x="316" y="119"/>
                  <a:pt x="328" y="94"/>
                  <a:pt x="307" y="101"/>
                </a:cubicBezTo>
                <a:cubicBezTo>
                  <a:pt x="298" y="129"/>
                  <a:pt x="319" y="120"/>
                  <a:pt x="340" y="116"/>
                </a:cubicBezTo>
                <a:cubicBezTo>
                  <a:pt x="361" y="102"/>
                  <a:pt x="351" y="102"/>
                  <a:pt x="367" y="107"/>
                </a:cubicBezTo>
                <a:cubicBezTo>
                  <a:pt x="364" y="132"/>
                  <a:pt x="367" y="148"/>
                  <a:pt x="340" y="143"/>
                </a:cubicBezTo>
                <a:cubicBezTo>
                  <a:pt x="343" y="115"/>
                  <a:pt x="347" y="99"/>
                  <a:pt x="355" y="74"/>
                </a:cubicBezTo>
                <a:cubicBezTo>
                  <a:pt x="351" y="54"/>
                  <a:pt x="347" y="51"/>
                  <a:pt x="340" y="71"/>
                </a:cubicBezTo>
                <a:cubicBezTo>
                  <a:pt x="349" y="97"/>
                  <a:pt x="388" y="83"/>
                  <a:pt x="406" y="80"/>
                </a:cubicBezTo>
                <a:cubicBezTo>
                  <a:pt x="424" y="62"/>
                  <a:pt x="430" y="68"/>
                  <a:pt x="460" y="71"/>
                </a:cubicBezTo>
                <a:cubicBezTo>
                  <a:pt x="459" y="77"/>
                  <a:pt x="461" y="84"/>
                  <a:pt x="457" y="89"/>
                </a:cubicBezTo>
                <a:cubicBezTo>
                  <a:pt x="444" y="107"/>
                  <a:pt x="414" y="63"/>
                  <a:pt x="406" y="47"/>
                </a:cubicBezTo>
                <a:cubicBezTo>
                  <a:pt x="402" y="6"/>
                  <a:pt x="405" y="9"/>
                  <a:pt x="367" y="14"/>
                </a:cubicBezTo>
                <a:cubicBezTo>
                  <a:pt x="373" y="21"/>
                  <a:pt x="377" y="31"/>
                  <a:pt x="385" y="35"/>
                </a:cubicBezTo>
                <a:cubicBezTo>
                  <a:pt x="389" y="37"/>
                  <a:pt x="396" y="33"/>
                  <a:pt x="397" y="29"/>
                </a:cubicBezTo>
                <a:cubicBezTo>
                  <a:pt x="398" y="26"/>
                  <a:pt x="391" y="25"/>
                  <a:pt x="388" y="23"/>
                </a:cubicBezTo>
                <a:cubicBezTo>
                  <a:pt x="326" y="44"/>
                  <a:pt x="325" y="0"/>
                  <a:pt x="340" y="62"/>
                </a:cubicBezTo>
                <a:cubicBezTo>
                  <a:pt x="327" y="75"/>
                  <a:pt x="324" y="85"/>
                  <a:pt x="310" y="71"/>
                </a:cubicBezTo>
                <a:cubicBezTo>
                  <a:pt x="305" y="56"/>
                  <a:pt x="325" y="30"/>
                  <a:pt x="304" y="44"/>
                </a:cubicBezTo>
                <a:cubicBezTo>
                  <a:pt x="310" y="73"/>
                  <a:pt x="316" y="49"/>
                  <a:pt x="328" y="74"/>
                </a:cubicBezTo>
                <a:cubicBezTo>
                  <a:pt x="323" y="94"/>
                  <a:pt x="316" y="93"/>
                  <a:pt x="298" y="86"/>
                </a:cubicBezTo>
                <a:cubicBezTo>
                  <a:pt x="294" y="71"/>
                  <a:pt x="292" y="69"/>
                  <a:pt x="277" y="74"/>
                </a:cubicBezTo>
                <a:cubicBezTo>
                  <a:pt x="273" y="90"/>
                  <a:pt x="278" y="91"/>
                  <a:pt x="292" y="86"/>
                </a:cubicBezTo>
                <a:cubicBezTo>
                  <a:pt x="307" y="116"/>
                  <a:pt x="269" y="125"/>
                  <a:pt x="247" y="131"/>
                </a:cubicBezTo>
                <a:cubicBezTo>
                  <a:pt x="230" y="114"/>
                  <a:pt x="240" y="64"/>
                  <a:pt x="232" y="98"/>
                </a:cubicBezTo>
                <a:cubicBezTo>
                  <a:pt x="238" y="116"/>
                  <a:pt x="255" y="103"/>
                  <a:pt x="271" y="107"/>
                </a:cubicBezTo>
                <a:cubicBezTo>
                  <a:pt x="270" y="110"/>
                  <a:pt x="270" y="113"/>
                  <a:pt x="268" y="116"/>
                </a:cubicBezTo>
                <a:cubicBezTo>
                  <a:pt x="265" y="121"/>
                  <a:pt x="259" y="123"/>
                  <a:pt x="256" y="128"/>
                </a:cubicBezTo>
                <a:cubicBezTo>
                  <a:pt x="220" y="199"/>
                  <a:pt x="276" y="119"/>
                  <a:pt x="229" y="182"/>
                </a:cubicBezTo>
                <a:cubicBezTo>
                  <a:pt x="218" y="235"/>
                  <a:pt x="226" y="207"/>
                  <a:pt x="214" y="188"/>
                </a:cubicBezTo>
                <a:cubicBezTo>
                  <a:pt x="215" y="180"/>
                  <a:pt x="209" y="133"/>
                  <a:pt x="241" y="149"/>
                </a:cubicBezTo>
                <a:cubicBezTo>
                  <a:pt x="248" y="152"/>
                  <a:pt x="234" y="165"/>
                  <a:pt x="226" y="167"/>
                </a:cubicBezTo>
                <a:cubicBezTo>
                  <a:pt x="214" y="169"/>
                  <a:pt x="202" y="171"/>
                  <a:pt x="190" y="173"/>
                </a:cubicBezTo>
                <a:cubicBezTo>
                  <a:pt x="187" y="191"/>
                  <a:pt x="184" y="230"/>
                  <a:pt x="166" y="236"/>
                </a:cubicBezTo>
                <a:cubicBezTo>
                  <a:pt x="145" y="233"/>
                  <a:pt x="123" y="228"/>
                  <a:pt x="103" y="221"/>
                </a:cubicBezTo>
                <a:cubicBezTo>
                  <a:pt x="102" y="218"/>
                  <a:pt x="99" y="209"/>
                  <a:pt x="100" y="212"/>
                </a:cubicBezTo>
                <a:cubicBezTo>
                  <a:pt x="102" y="221"/>
                  <a:pt x="98" y="234"/>
                  <a:pt x="106" y="239"/>
                </a:cubicBezTo>
                <a:cubicBezTo>
                  <a:pt x="116" y="245"/>
                  <a:pt x="130" y="237"/>
                  <a:pt x="142" y="236"/>
                </a:cubicBezTo>
                <a:cubicBezTo>
                  <a:pt x="151" y="263"/>
                  <a:pt x="150" y="271"/>
                  <a:pt x="121" y="275"/>
                </a:cubicBezTo>
                <a:cubicBezTo>
                  <a:pt x="113" y="273"/>
                  <a:pt x="105" y="270"/>
                  <a:pt x="97" y="269"/>
                </a:cubicBezTo>
                <a:cubicBezTo>
                  <a:pt x="93" y="269"/>
                  <a:pt x="86" y="276"/>
                  <a:pt x="85" y="272"/>
                </a:cubicBezTo>
                <a:cubicBezTo>
                  <a:pt x="82" y="265"/>
                  <a:pt x="89" y="243"/>
                  <a:pt x="91" y="233"/>
                </a:cubicBezTo>
                <a:cubicBezTo>
                  <a:pt x="92" y="248"/>
                  <a:pt x="89" y="264"/>
                  <a:pt x="94" y="278"/>
                </a:cubicBezTo>
                <a:cubicBezTo>
                  <a:pt x="96" y="282"/>
                  <a:pt x="104" y="268"/>
                  <a:pt x="106" y="272"/>
                </a:cubicBezTo>
                <a:cubicBezTo>
                  <a:pt x="120" y="300"/>
                  <a:pt x="93" y="299"/>
                  <a:pt x="79" y="302"/>
                </a:cubicBezTo>
                <a:cubicBezTo>
                  <a:pt x="43" y="278"/>
                  <a:pt x="57" y="260"/>
                  <a:pt x="94" y="254"/>
                </a:cubicBezTo>
                <a:cubicBezTo>
                  <a:pt x="103" y="227"/>
                  <a:pt x="99" y="283"/>
                  <a:pt x="88" y="293"/>
                </a:cubicBezTo>
                <a:cubicBezTo>
                  <a:pt x="82" y="298"/>
                  <a:pt x="72" y="295"/>
                  <a:pt x="64" y="296"/>
                </a:cubicBezTo>
                <a:cubicBezTo>
                  <a:pt x="52" y="308"/>
                  <a:pt x="19" y="317"/>
                  <a:pt x="19" y="317"/>
                </a:cubicBezTo>
                <a:cubicBezTo>
                  <a:pt x="13" y="302"/>
                  <a:pt x="0" y="274"/>
                  <a:pt x="25" y="293"/>
                </a:cubicBezTo>
                <a:cubicBezTo>
                  <a:pt x="29" y="306"/>
                  <a:pt x="38" y="319"/>
                  <a:pt x="31" y="332"/>
                </a:cubicBezTo>
              </a:path>
            </a:pathLst>
          </a:custGeom>
          <a:solidFill>
            <a:srgbClr val="33cc33"/>
          </a:solidFill>
          <a:ln w="64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15729000">
            <a:off x="22214520" y="16453080"/>
            <a:ext cx="731880" cy="527040"/>
          </a:xfrm>
          <a:custGeom>
            <a:avLst/>
            <a:gdLst/>
            <a:ahLst/>
            <a:rect l="l" t="t" r="r" b="b"/>
            <a:pathLst>
              <a:path w="461" h="332">
                <a:moveTo>
                  <a:pt x="232" y="215"/>
                </a:moveTo>
                <a:cubicBezTo>
                  <a:pt x="209" y="218"/>
                  <a:pt x="204" y="221"/>
                  <a:pt x="190" y="203"/>
                </a:cubicBezTo>
                <a:cubicBezTo>
                  <a:pt x="196" y="186"/>
                  <a:pt x="199" y="182"/>
                  <a:pt x="202" y="161"/>
                </a:cubicBezTo>
                <a:cubicBezTo>
                  <a:pt x="197" y="145"/>
                  <a:pt x="190" y="155"/>
                  <a:pt x="181" y="164"/>
                </a:cubicBezTo>
                <a:cubicBezTo>
                  <a:pt x="175" y="213"/>
                  <a:pt x="189" y="199"/>
                  <a:pt x="235" y="203"/>
                </a:cubicBezTo>
                <a:cubicBezTo>
                  <a:pt x="241" y="220"/>
                  <a:pt x="239" y="251"/>
                  <a:pt x="220" y="257"/>
                </a:cubicBezTo>
                <a:cubicBezTo>
                  <a:pt x="200" y="250"/>
                  <a:pt x="185" y="236"/>
                  <a:pt x="208" y="221"/>
                </a:cubicBezTo>
                <a:cubicBezTo>
                  <a:pt x="199" y="176"/>
                  <a:pt x="148" y="230"/>
                  <a:pt x="133" y="245"/>
                </a:cubicBezTo>
                <a:cubicBezTo>
                  <a:pt x="146" y="246"/>
                  <a:pt x="159" y="245"/>
                  <a:pt x="172" y="248"/>
                </a:cubicBezTo>
                <a:cubicBezTo>
                  <a:pt x="176" y="249"/>
                  <a:pt x="177" y="258"/>
                  <a:pt x="181" y="257"/>
                </a:cubicBezTo>
                <a:cubicBezTo>
                  <a:pt x="187" y="256"/>
                  <a:pt x="189" y="249"/>
                  <a:pt x="193" y="245"/>
                </a:cubicBezTo>
                <a:cubicBezTo>
                  <a:pt x="183" y="230"/>
                  <a:pt x="178" y="238"/>
                  <a:pt x="169" y="251"/>
                </a:cubicBezTo>
                <a:cubicBezTo>
                  <a:pt x="144" y="243"/>
                  <a:pt x="185" y="241"/>
                  <a:pt x="193" y="239"/>
                </a:cubicBezTo>
                <a:cubicBezTo>
                  <a:pt x="217" y="223"/>
                  <a:pt x="201" y="195"/>
                  <a:pt x="229" y="179"/>
                </a:cubicBezTo>
                <a:cubicBezTo>
                  <a:pt x="234" y="176"/>
                  <a:pt x="241" y="177"/>
                  <a:pt x="247" y="176"/>
                </a:cubicBezTo>
                <a:cubicBezTo>
                  <a:pt x="269" y="193"/>
                  <a:pt x="251" y="206"/>
                  <a:pt x="280" y="200"/>
                </a:cubicBezTo>
                <a:cubicBezTo>
                  <a:pt x="292" y="188"/>
                  <a:pt x="291" y="183"/>
                  <a:pt x="274" y="179"/>
                </a:cubicBezTo>
                <a:cubicBezTo>
                  <a:pt x="265" y="192"/>
                  <a:pt x="264" y="198"/>
                  <a:pt x="247" y="194"/>
                </a:cubicBezTo>
                <a:cubicBezTo>
                  <a:pt x="251" y="174"/>
                  <a:pt x="254" y="177"/>
                  <a:pt x="274" y="173"/>
                </a:cubicBezTo>
                <a:cubicBezTo>
                  <a:pt x="282" y="157"/>
                  <a:pt x="280" y="155"/>
                  <a:pt x="268" y="143"/>
                </a:cubicBezTo>
                <a:cubicBezTo>
                  <a:pt x="242" y="147"/>
                  <a:pt x="243" y="148"/>
                  <a:pt x="259" y="164"/>
                </a:cubicBezTo>
                <a:cubicBezTo>
                  <a:pt x="281" y="142"/>
                  <a:pt x="268" y="140"/>
                  <a:pt x="307" y="152"/>
                </a:cubicBezTo>
                <a:cubicBezTo>
                  <a:pt x="309" y="154"/>
                  <a:pt x="321" y="162"/>
                  <a:pt x="325" y="161"/>
                </a:cubicBezTo>
                <a:cubicBezTo>
                  <a:pt x="330" y="160"/>
                  <a:pt x="335" y="156"/>
                  <a:pt x="337" y="152"/>
                </a:cubicBezTo>
                <a:cubicBezTo>
                  <a:pt x="338" y="149"/>
                  <a:pt x="331" y="154"/>
                  <a:pt x="328" y="155"/>
                </a:cubicBezTo>
                <a:cubicBezTo>
                  <a:pt x="323" y="175"/>
                  <a:pt x="319" y="178"/>
                  <a:pt x="298" y="182"/>
                </a:cubicBezTo>
                <a:cubicBezTo>
                  <a:pt x="277" y="177"/>
                  <a:pt x="279" y="164"/>
                  <a:pt x="292" y="143"/>
                </a:cubicBezTo>
                <a:cubicBezTo>
                  <a:pt x="296" y="136"/>
                  <a:pt x="306" y="135"/>
                  <a:pt x="313" y="131"/>
                </a:cubicBezTo>
                <a:cubicBezTo>
                  <a:pt x="316" y="119"/>
                  <a:pt x="328" y="94"/>
                  <a:pt x="307" y="101"/>
                </a:cubicBezTo>
                <a:cubicBezTo>
                  <a:pt x="298" y="129"/>
                  <a:pt x="319" y="120"/>
                  <a:pt x="340" y="116"/>
                </a:cubicBezTo>
                <a:cubicBezTo>
                  <a:pt x="361" y="102"/>
                  <a:pt x="351" y="102"/>
                  <a:pt x="367" y="107"/>
                </a:cubicBezTo>
                <a:cubicBezTo>
                  <a:pt x="364" y="132"/>
                  <a:pt x="367" y="148"/>
                  <a:pt x="340" y="143"/>
                </a:cubicBezTo>
                <a:cubicBezTo>
                  <a:pt x="343" y="115"/>
                  <a:pt x="347" y="99"/>
                  <a:pt x="355" y="74"/>
                </a:cubicBezTo>
                <a:cubicBezTo>
                  <a:pt x="351" y="54"/>
                  <a:pt x="347" y="51"/>
                  <a:pt x="340" y="71"/>
                </a:cubicBezTo>
                <a:cubicBezTo>
                  <a:pt x="349" y="97"/>
                  <a:pt x="388" y="83"/>
                  <a:pt x="406" y="80"/>
                </a:cubicBezTo>
                <a:cubicBezTo>
                  <a:pt x="424" y="62"/>
                  <a:pt x="430" y="68"/>
                  <a:pt x="460" y="71"/>
                </a:cubicBezTo>
                <a:cubicBezTo>
                  <a:pt x="459" y="77"/>
                  <a:pt x="461" y="84"/>
                  <a:pt x="457" y="89"/>
                </a:cubicBezTo>
                <a:cubicBezTo>
                  <a:pt x="444" y="107"/>
                  <a:pt x="414" y="63"/>
                  <a:pt x="406" y="47"/>
                </a:cubicBezTo>
                <a:cubicBezTo>
                  <a:pt x="402" y="6"/>
                  <a:pt x="405" y="9"/>
                  <a:pt x="367" y="14"/>
                </a:cubicBezTo>
                <a:cubicBezTo>
                  <a:pt x="373" y="21"/>
                  <a:pt x="377" y="31"/>
                  <a:pt x="385" y="35"/>
                </a:cubicBezTo>
                <a:cubicBezTo>
                  <a:pt x="389" y="37"/>
                  <a:pt x="396" y="33"/>
                  <a:pt x="397" y="29"/>
                </a:cubicBezTo>
                <a:cubicBezTo>
                  <a:pt x="398" y="26"/>
                  <a:pt x="391" y="25"/>
                  <a:pt x="388" y="23"/>
                </a:cubicBezTo>
                <a:cubicBezTo>
                  <a:pt x="326" y="44"/>
                  <a:pt x="325" y="0"/>
                  <a:pt x="340" y="62"/>
                </a:cubicBezTo>
                <a:cubicBezTo>
                  <a:pt x="327" y="75"/>
                  <a:pt x="324" y="85"/>
                  <a:pt x="310" y="71"/>
                </a:cubicBezTo>
                <a:cubicBezTo>
                  <a:pt x="305" y="56"/>
                  <a:pt x="325" y="30"/>
                  <a:pt x="304" y="44"/>
                </a:cubicBezTo>
                <a:cubicBezTo>
                  <a:pt x="310" y="73"/>
                  <a:pt x="316" y="49"/>
                  <a:pt x="328" y="74"/>
                </a:cubicBezTo>
                <a:cubicBezTo>
                  <a:pt x="323" y="94"/>
                  <a:pt x="316" y="93"/>
                  <a:pt x="298" y="86"/>
                </a:cubicBezTo>
                <a:cubicBezTo>
                  <a:pt x="294" y="71"/>
                  <a:pt x="292" y="69"/>
                  <a:pt x="277" y="74"/>
                </a:cubicBezTo>
                <a:cubicBezTo>
                  <a:pt x="273" y="90"/>
                  <a:pt x="278" y="91"/>
                  <a:pt x="292" y="86"/>
                </a:cubicBezTo>
                <a:cubicBezTo>
                  <a:pt x="307" y="116"/>
                  <a:pt x="269" y="125"/>
                  <a:pt x="247" y="131"/>
                </a:cubicBezTo>
                <a:cubicBezTo>
                  <a:pt x="230" y="114"/>
                  <a:pt x="240" y="64"/>
                  <a:pt x="232" y="98"/>
                </a:cubicBezTo>
                <a:cubicBezTo>
                  <a:pt x="238" y="116"/>
                  <a:pt x="255" y="103"/>
                  <a:pt x="271" y="107"/>
                </a:cubicBezTo>
                <a:cubicBezTo>
                  <a:pt x="270" y="110"/>
                  <a:pt x="270" y="113"/>
                  <a:pt x="268" y="116"/>
                </a:cubicBezTo>
                <a:cubicBezTo>
                  <a:pt x="265" y="121"/>
                  <a:pt x="259" y="123"/>
                  <a:pt x="256" y="128"/>
                </a:cubicBezTo>
                <a:cubicBezTo>
                  <a:pt x="220" y="199"/>
                  <a:pt x="276" y="119"/>
                  <a:pt x="229" y="182"/>
                </a:cubicBezTo>
                <a:cubicBezTo>
                  <a:pt x="218" y="235"/>
                  <a:pt x="226" y="207"/>
                  <a:pt x="214" y="188"/>
                </a:cubicBezTo>
                <a:cubicBezTo>
                  <a:pt x="215" y="180"/>
                  <a:pt x="209" y="133"/>
                  <a:pt x="241" y="149"/>
                </a:cubicBezTo>
                <a:cubicBezTo>
                  <a:pt x="248" y="152"/>
                  <a:pt x="234" y="165"/>
                  <a:pt x="226" y="167"/>
                </a:cubicBezTo>
                <a:cubicBezTo>
                  <a:pt x="214" y="169"/>
                  <a:pt x="202" y="171"/>
                  <a:pt x="190" y="173"/>
                </a:cubicBezTo>
                <a:cubicBezTo>
                  <a:pt x="187" y="191"/>
                  <a:pt x="184" y="230"/>
                  <a:pt x="166" y="236"/>
                </a:cubicBezTo>
                <a:cubicBezTo>
                  <a:pt x="145" y="233"/>
                  <a:pt x="123" y="228"/>
                  <a:pt x="103" y="221"/>
                </a:cubicBezTo>
                <a:cubicBezTo>
                  <a:pt x="102" y="218"/>
                  <a:pt x="99" y="209"/>
                  <a:pt x="100" y="212"/>
                </a:cubicBezTo>
                <a:cubicBezTo>
                  <a:pt x="102" y="221"/>
                  <a:pt x="98" y="234"/>
                  <a:pt x="106" y="239"/>
                </a:cubicBezTo>
                <a:cubicBezTo>
                  <a:pt x="116" y="245"/>
                  <a:pt x="130" y="237"/>
                  <a:pt x="142" y="236"/>
                </a:cubicBezTo>
                <a:cubicBezTo>
                  <a:pt x="151" y="263"/>
                  <a:pt x="150" y="271"/>
                  <a:pt x="121" y="275"/>
                </a:cubicBezTo>
                <a:cubicBezTo>
                  <a:pt x="113" y="273"/>
                  <a:pt x="105" y="270"/>
                  <a:pt x="97" y="269"/>
                </a:cubicBezTo>
                <a:cubicBezTo>
                  <a:pt x="93" y="269"/>
                  <a:pt x="86" y="276"/>
                  <a:pt x="85" y="272"/>
                </a:cubicBezTo>
                <a:cubicBezTo>
                  <a:pt x="82" y="265"/>
                  <a:pt x="89" y="243"/>
                  <a:pt x="91" y="233"/>
                </a:cubicBezTo>
                <a:cubicBezTo>
                  <a:pt x="92" y="248"/>
                  <a:pt x="89" y="264"/>
                  <a:pt x="94" y="278"/>
                </a:cubicBezTo>
                <a:cubicBezTo>
                  <a:pt x="96" y="282"/>
                  <a:pt x="104" y="268"/>
                  <a:pt x="106" y="272"/>
                </a:cubicBezTo>
                <a:cubicBezTo>
                  <a:pt x="120" y="300"/>
                  <a:pt x="93" y="299"/>
                  <a:pt x="79" y="302"/>
                </a:cubicBezTo>
                <a:cubicBezTo>
                  <a:pt x="43" y="278"/>
                  <a:pt x="57" y="260"/>
                  <a:pt x="94" y="254"/>
                </a:cubicBezTo>
                <a:cubicBezTo>
                  <a:pt x="103" y="227"/>
                  <a:pt x="99" y="283"/>
                  <a:pt x="88" y="293"/>
                </a:cubicBezTo>
                <a:cubicBezTo>
                  <a:pt x="82" y="298"/>
                  <a:pt x="72" y="295"/>
                  <a:pt x="64" y="296"/>
                </a:cubicBezTo>
                <a:cubicBezTo>
                  <a:pt x="52" y="308"/>
                  <a:pt x="19" y="317"/>
                  <a:pt x="19" y="317"/>
                </a:cubicBezTo>
                <a:cubicBezTo>
                  <a:pt x="13" y="302"/>
                  <a:pt x="0" y="274"/>
                  <a:pt x="25" y="293"/>
                </a:cubicBezTo>
                <a:cubicBezTo>
                  <a:pt x="29" y="306"/>
                  <a:pt x="38" y="319"/>
                  <a:pt x="31" y="332"/>
                </a:cubicBezTo>
              </a:path>
            </a:pathLst>
          </a:custGeom>
          <a:solidFill>
            <a:srgbClr val="ccff66"/>
          </a:solidFill>
          <a:ln w="64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23200" y="17119440"/>
            <a:ext cx="453960" cy="238320"/>
          </a:xfrm>
          <a:custGeom>
            <a:avLst/>
            <a:gdLst/>
            <a:ahLst/>
            <a:rect l="l" t="t" r="r" b="b"/>
            <a:pathLst>
              <a:path w="286" h="150">
                <a:moveTo>
                  <a:pt x="54" y="99"/>
                </a:moveTo>
                <a:cubicBezTo>
                  <a:pt x="68" y="96"/>
                  <a:pt x="85" y="99"/>
                  <a:pt x="96" y="90"/>
                </a:cubicBezTo>
                <a:cubicBezTo>
                  <a:pt x="104" y="83"/>
                  <a:pt x="104" y="69"/>
                  <a:pt x="111" y="60"/>
                </a:cubicBezTo>
                <a:cubicBezTo>
                  <a:pt x="116" y="31"/>
                  <a:pt x="113" y="32"/>
                  <a:pt x="84" y="39"/>
                </a:cubicBezTo>
                <a:cubicBezTo>
                  <a:pt x="75" y="51"/>
                  <a:pt x="70" y="60"/>
                  <a:pt x="87" y="66"/>
                </a:cubicBezTo>
                <a:cubicBezTo>
                  <a:pt x="88" y="72"/>
                  <a:pt x="88" y="78"/>
                  <a:pt x="90" y="84"/>
                </a:cubicBezTo>
                <a:cubicBezTo>
                  <a:pt x="92" y="89"/>
                  <a:pt x="103" y="93"/>
                  <a:pt x="99" y="96"/>
                </a:cubicBezTo>
                <a:cubicBezTo>
                  <a:pt x="91" y="103"/>
                  <a:pt x="79" y="100"/>
                  <a:pt x="69" y="102"/>
                </a:cubicBezTo>
                <a:cubicBezTo>
                  <a:pt x="63" y="104"/>
                  <a:pt x="45" y="108"/>
                  <a:pt x="51" y="108"/>
                </a:cubicBezTo>
                <a:cubicBezTo>
                  <a:pt x="63" y="108"/>
                  <a:pt x="75" y="104"/>
                  <a:pt x="87" y="102"/>
                </a:cubicBezTo>
                <a:cubicBezTo>
                  <a:pt x="95" y="127"/>
                  <a:pt x="91" y="141"/>
                  <a:pt x="117" y="150"/>
                </a:cubicBezTo>
                <a:cubicBezTo>
                  <a:pt x="161" y="146"/>
                  <a:pt x="179" y="130"/>
                  <a:pt x="201" y="93"/>
                </a:cubicBezTo>
                <a:cubicBezTo>
                  <a:pt x="200" y="87"/>
                  <a:pt x="202" y="79"/>
                  <a:pt x="198" y="75"/>
                </a:cubicBezTo>
                <a:cubicBezTo>
                  <a:pt x="195" y="72"/>
                  <a:pt x="193" y="87"/>
                  <a:pt x="192" y="84"/>
                </a:cubicBezTo>
                <a:cubicBezTo>
                  <a:pt x="178" y="46"/>
                  <a:pt x="213" y="30"/>
                  <a:pt x="162" y="24"/>
                </a:cubicBezTo>
                <a:cubicBezTo>
                  <a:pt x="130" y="32"/>
                  <a:pt x="124" y="48"/>
                  <a:pt x="114" y="78"/>
                </a:cubicBezTo>
                <a:cubicBezTo>
                  <a:pt x="146" y="99"/>
                  <a:pt x="97" y="131"/>
                  <a:pt x="156" y="84"/>
                </a:cubicBezTo>
                <a:cubicBezTo>
                  <a:pt x="168" y="48"/>
                  <a:pt x="156" y="73"/>
                  <a:pt x="168" y="90"/>
                </a:cubicBezTo>
                <a:cubicBezTo>
                  <a:pt x="170" y="93"/>
                  <a:pt x="174" y="88"/>
                  <a:pt x="177" y="87"/>
                </a:cubicBezTo>
                <a:cubicBezTo>
                  <a:pt x="179" y="81"/>
                  <a:pt x="183" y="69"/>
                  <a:pt x="183" y="69"/>
                </a:cubicBezTo>
                <a:cubicBezTo>
                  <a:pt x="158" y="86"/>
                  <a:pt x="176" y="39"/>
                  <a:pt x="150" y="48"/>
                </a:cubicBezTo>
                <a:cubicBezTo>
                  <a:pt x="164" y="5"/>
                  <a:pt x="206" y="16"/>
                  <a:pt x="249" y="12"/>
                </a:cubicBezTo>
                <a:cubicBezTo>
                  <a:pt x="225" y="0"/>
                  <a:pt x="201" y="9"/>
                  <a:pt x="177" y="15"/>
                </a:cubicBezTo>
                <a:cubicBezTo>
                  <a:pt x="147" y="45"/>
                  <a:pt x="180" y="77"/>
                  <a:pt x="213" y="81"/>
                </a:cubicBezTo>
                <a:cubicBezTo>
                  <a:pt x="235" y="78"/>
                  <a:pt x="242" y="80"/>
                  <a:pt x="249" y="60"/>
                </a:cubicBezTo>
                <a:cubicBezTo>
                  <a:pt x="248" y="57"/>
                  <a:pt x="249" y="51"/>
                  <a:pt x="246" y="51"/>
                </a:cubicBezTo>
                <a:cubicBezTo>
                  <a:pt x="242" y="51"/>
                  <a:pt x="237" y="60"/>
                  <a:pt x="237" y="60"/>
                </a:cubicBezTo>
                <a:cubicBezTo>
                  <a:pt x="236" y="68"/>
                  <a:pt x="242" y="84"/>
                  <a:pt x="234" y="84"/>
                </a:cubicBezTo>
                <a:cubicBezTo>
                  <a:pt x="226" y="84"/>
                  <a:pt x="232" y="68"/>
                  <a:pt x="231" y="60"/>
                </a:cubicBezTo>
                <a:cubicBezTo>
                  <a:pt x="230" y="54"/>
                  <a:pt x="225" y="47"/>
                  <a:pt x="228" y="42"/>
                </a:cubicBezTo>
                <a:cubicBezTo>
                  <a:pt x="230" y="39"/>
                  <a:pt x="234" y="46"/>
                  <a:pt x="237" y="48"/>
                </a:cubicBezTo>
                <a:cubicBezTo>
                  <a:pt x="250" y="47"/>
                  <a:pt x="263" y="48"/>
                  <a:pt x="276" y="45"/>
                </a:cubicBezTo>
                <a:cubicBezTo>
                  <a:pt x="280" y="44"/>
                  <a:pt x="286" y="32"/>
                  <a:pt x="285" y="36"/>
                </a:cubicBezTo>
                <a:cubicBezTo>
                  <a:pt x="283" y="43"/>
                  <a:pt x="273" y="54"/>
                  <a:pt x="273" y="54"/>
                </a:cubicBezTo>
                <a:cubicBezTo>
                  <a:pt x="271" y="65"/>
                  <a:pt x="260" y="102"/>
                  <a:pt x="282" y="87"/>
                </a:cubicBezTo>
                <a:cubicBezTo>
                  <a:pt x="270" y="75"/>
                  <a:pt x="265" y="68"/>
                  <a:pt x="261" y="51"/>
                </a:cubicBezTo>
                <a:cubicBezTo>
                  <a:pt x="282" y="37"/>
                  <a:pt x="277" y="46"/>
                  <a:pt x="282" y="30"/>
                </a:cubicBezTo>
                <a:cubicBezTo>
                  <a:pt x="257" y="24"/>
                  <a:pt x="230" y="17"/>
                  <a:pt x="207" y="33"/>
                </a:cubicBezTo>
                <a:cubicBezTo>
                  <a:pt x="213" y="36"/>
                  <a:pt x="221" y="37"/>
                  <a:pt x="225" y="42"/>
                </a:cubicBezTo>
                <a:cubicBezTo>
                  <a:pt x="229" y="47"/>
                  <a:pt x="231" y="60"/>
                  <a:pt x="231" y="60"/>
                </a:cubicBezTo>
                <a:cubicBezTo>
                  <a:pt x="206" y="62"/>
                  <a:pt x="181" y="68"/>
                  <a:pt x="156" y="66"/>
                </a:cubicBezTo>
                <a:cubicBezTo>
                  <a:pt x="151" y="66"/>
                  <a:pt x="152" y="55"/>
                  <a:pt x="147" y="54"/>
                </a:cubicBezTo>
                <a:cubicBezTo>
                  <a:pt x="138" y="52"/>
                  <a:pt x="129" y="58"/>
                  <a:pt x="120" y="60"/>
                </a:cubicBezTo>
                <a:cubicBezTo>
                  <a:pt x="119" y="64"/>
                  <a:pt x="115" y="68"/>
                  <a:pt x="117" y="72"/>
                </a:cubicBezTo>
                <a:cubicBezTo>
                  <a:pt x="119" y="76"/>
                  <a:pt x="126" y="72"/>
                  <a:pt x="129" y="75"/>
                </a:cubicBezTo>
                <a:cubicBezTo>
                  <a:pt x="135" y="82"/>
                  <a:pt x="136" y="91"/>
                  <a:pt x="141" y="99"/>
                </a:cubicBezTo>
                <a:cubicBezTo>
                  <a:pt x="143" y="103"/>
                  <a:pt x="147" y="105"/>
                  <a:pt x="150" y="108"/>
                </a:cubicBezTo>
                <a:cubicBezTo>
                  <a:pt x="164" y="107"/>
                  <a:pt x="178" y="107"/>
                  <a:pt x="192" y="105"/>
                </a:cubicBezTo>
                <a:cubicBezTo>
                  <a:pt x="196" y="104"/>
                  <a:pt x="202" y="102"/>
                  <a:pt x="201" y="99"/>
                </a:cubicBezTo>
                <a:cubicBezTo>
                  <a:pt x="200" y="95"/>
                  <a:pt x="193" y="97"/>
                  <a:pt x="189" y="96"/>
                </a:cubicBezTo>
                <a:cubicBezTo>
                  <a:pt x="180" y="99"/>
                  <a:pt x="162" y="93"/>
                  <a:pt x="162" y="93"/>
                </a:cubicBezTo>
                <a:cubicBezTo>
                  <a:pt x="148" y="94"/>
                  <a:pt x="134" y="98"/>
                  <a:pt x="120" y="96"/>
                </a:cubicBezTo>
                <a:cubicBezTo>
                  <a:pt x="93" y="93"/>
                  <a:pt x="140" y="74"/>
                  <a:pt x="102" y="93"/>
                </a:cubicBezTo>
                <a:cubicBezTo>
                  <a:pt x="84" y="75"/>
                  <a:pt x="70" y="75"/>
                  <a:pt x="45" y="72"/>
                </a:cubicBezTo>
                <a:cubicBezTo>
                  <a:pt x="39" y="76"/>
                  <a:pt x="30" y="76"/>
                  <a:pt x="24" y="81"/>
                </a:cubicBezTo>
                <a:cubicBezTo>
                  <a:pt x="0" y="101"/>
                  <a:pt x="28" y="90"/>
                  <a:pt x="30" y="90"/>
                </a:cubicBezTo>
                <a:cubicBezTo>
                  <a:pt x="33" y="81"/>
                  <a:pt x="36" y="74"/>
                  <a:pt x="36" y="63"/>
                </a:cubicBezTo>
                <a:cubicBezTo>
                  <a:pt x="36" y="59"/>
                  <a:pt x="34" y="71"/>
                  <a:pt x="33" y="75"/>
                </a:cubicBezTo>
                <a:cubicBezTo>
                  <a:pt x="32" y="83"/>
                  <a:pt x="31" y="91"/>
                  <a:pt x="30" y="99"/>
                </a:cubicBezTo>
                <a:cubicBezTo>
                  <a:pt x="48" y="127"/>
                  <a:pt x="96" y="120"/>
                  <a:pt x="114" y="93"/>
                </a:cubicBezTo>
                <a:cubicBezTo>
                  <a:pt x="91" y="58"/>
                  <a:pt x="87" y="66"/>
                  <a:pt x="36" y="60"/>
                </a:cubicBezTo>
                <a:cubicBezTo>
                  <a:pt x="40" y="47"/>
                  <a:pt x="44" y="36"/>
                  <a:pt x="54" y="51"/>
                </a:cubicBezTo>
                <a:cubicBezTo>
                  <a:pt x="91" y="46"/>
                  <a:pt x="73" y="47"/>
                  <a:pt x="57" y="54"/>
                </a:cubicBezTo>
                <a:cubicBezTo>
                  <a:pt x="46" y="59"/>
                  <a:pt x="40" y="66"/>
                  <a:pt x="27" y="66"/>
                </a:cubicBezTo>
              </a:path>
            </a:pathLst>
          </a:custGeom>
          <a:solidFill>
            <a:srgbClr val="99ff99"/>
          </a:solidFill>
          <a:ln w="64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17620920" y="15114960"/>
            <a:ext cx="2284920" cy="2272680"/>
            <a:chOff x="17620920" y="15114960"/>
            <a:chExt cx="2284920" cy="2272680"/>
          </a:xfrm>
        </p:grpSpPr>
        <p:sp>
          <p:nvSpPr>
            <p:cNvPr id="1052" name=""/>
            <p:cNvSpPr/>
            <p:nvPr/>
          </p:nvSpPr>
          <p:spPr>
            <a:xfrm flipH="1" rot="10800000">
              <a:off x="17620920" y="15114960"/>
              <a:ext cx="2283120" cy="227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0" y="1"/>
                  </a:moveTo>
                  <a:arcTo wR="10800" hR="10800" stAng="-5441409" swAng="55129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0" y="1"/>
                  </a:moveTo>
                  <a:arcTo wR="10800" hR="10800" stAng="-5441409" swAng="5512979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9905840" y="15729120"/>
              <a:ext cx="0" cy="5032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19880280" y="15273360"/>
            <a:ext cx="74520" cy="393840"/>
          </a:xfrm>
          <a:custGeom>
            <a:avLst/>
            <a:gdLst/>
            <a:ahLst/>
            <a:rect l="l" t="t" r="r" b="b"/>
            <a:pathLst>
              <a:path w="27" h="248">
                <a:moveTo>
                  <a:pt x="9" y="229"/>
                </a:moveTo>
                <a:cubicBezTo>
                  <a:pt x="13" y="242"/>
                  <a:pt x="15" y="226"/>
                  <a:pt x="19" y="239"/>
                </a:cubicBezTo>
                <a:cubicBezTo>
                  <a:pt x="14" y="241"/>
                  <a:pt x="9" y="248"/>
                  <a:pt x="5" y="245"/>
                </a:cubicBezTo>
                <a:cubicBezTo>
                  <a:pt x="1" y="242"/>
                  <a:pt x="10" y="235"/>
                  <a:pt x="15" y="233"/>
                </a:cubicBezTo>
                <a:cubicBezTo>
                  <a:pt x="16" y="230"/>
                  <a:pt x="17" y="228"/>
                  <a:pt x="17" y="225"/>
                </a:cubicBezTo>
                <a:cubicBezTo>
                  <a:pt x="17" y="223"/>
                  <a:pt x="17" y="231"/>
                  <a:pt x="15" y="231"/>
                </a:cubicBezTo>
                <a:cubicBezTo>
                  <a:pt x="11" y="232"/>
                  <a:pt x="3" y="227"/>
                  <a:pt x="3" y="227"/>
                </a:cubicBezTo>
                <a:cubicBezTo>
                  <a:pt x="5" y="225"/>
                  <a:pt x="9" y="224"/>
                  <a:pt x="9" y="221"/>
                </a:cubicBezTo>
                <a:cubicBezTo>
                  <a:pt x="9" y="219"/>
                  <a:pt x="4" y="221"/>
                  <a:pt x="3" y="219"/>
                </a:cubicBezTo>
                <a:cubicBezTo>
                  <a:pt x="0" y="213"/>
                  <a:pt x="9" y="212"/>
                  <a:pt x="11" y="211"/>
                </a:cubicBezTo>
                <a:cubicBezTo>
                  <a:pt x="11" y="211"/>
                  <a:pt x="14" y="215"/>
                  <a:pt x="15" y="217"/>
                </a:cubicBezTo>
                <a:cubicBezTo>
                  <a:pt x="19" y="203"/>
                  <a:pt x="14" y="204"/>
                  <a:pt x="3" y="197"/>
                </a:cubicBezTo>
                <a:cubicBezTo>
                  <a:pt x="7" y="195"/>
                  <a:pt x="13" y="195"/>
                  <a:pt x="15" y="191"/>
                </a:cubicBezTo>
                <a:cubicBezTo>
                  <a:pt x="17" y="186"/>
                  <a:pt x="5" y="180"/>
                  <a:pt x="19" y="189"/>
                </a:cubicBezTo>
                <a:cubicBezTo>
                  <a:pt x="25" y="198"/>
                  <a:pt x="20" y="203"/>
                  <a:pt x="11" y="197"/>
                </a:cubicBezTo>
                <a:cubicBezTo>
                  <a:pt x="16" y="177"/>
                  <a:pt x="13" y="196"/>
                  <a:pt x="7" y="193"/>
                </a:cubicBezTo>
                <a:cubicBezTo>
                  <a:pt x="5" y="192"/>
                  <a:pt x="6" y="188"/>
                  <a:pt x="5" y="185"/>
                </a:cubicBezTo>
                <a:cubicBezTo>
                  <a:pt x="6" y="181"/>
                  <a:pt x="5" y="176"/>
                  <a:pt x="7" y="173"/>
                </a:cubicBezTo>
                <a:cubicBezTo>
                  <a:pt x="8" y="171"/>
                  <a:pt x="7" y="179"/>
                  <a:pt x="9" y="179"/>
                </a:cubicBezTo>
                <a:cubicBezTo>
                  <a:pt x="11" y="179"/>
                  <a:pt x="10" y="175"/>
                  <a:pt x="11" y="173"/>
                </a:cubicBezTo>
                <a:cubicBezTo>
                  <a:pt x="6" y="164"/>
                  <a:pt x="1" y="159"/>
                  <a:pt x="11" y="153"/>
                </a:cubicBezTo>
                <a:cubicBezTo>
                  <a:pt x="19" y="165"/>
                  <a:pt x="13" y="153"/>
                  <a:pt x="13" y="177"/>
                </a:cubicBezTo>
                <a:cubicBezTo>
                  <a:pt x="13" y="179"/>
                  <a:pt x="17" y="172"/>
                  <a:pt x="15" y="171"/>
                </a:cubicBezTo>
                <a:cubicBezTo>
                  <a:pt x="13" y="170"/>
                  <a:pt x="11" y="174"/>
                  <a:pt x="9" y="175"/>
                </a:cubicBezTo>
                <a:cubicBezTo>
                  <a:pt x="5" y="157"/>
                  <a:pt x="4" y="177"/>
                  <a:pt x="17" y="173"/>
                </a:cubicBezTo>
                <a:cubicBezTo>
                  <a:pt x="21" y="153"/>
                  <a:pt x="21" y="169"/>
                  <a:pt x="19" y="175"/>
                </a:cubicBezTo>
                <a:cubicBezTo>
                  <a:pt x="13" y="167"/>
                  <a:pt x="16" y="162"/>
                  <a:pt x="19" y="153"/>
                </a:cubicBezTo>
                <a:cubicBezTo>
                  <a:pt x="16" y="145"/>
                  <a:pt x="14" y="142"/>
                  <a:pt x="5" y="145"/>
                </a:cubicBezTo>
                <a:cubicBezTo>
                  <a:pt x="14" y="148"/>
                  <a:pt x="9" y="138"/>
                  <a:pt x="11" y="127"/>
                </a:cubicBezTo>
                <a:cubicBezTo>
                  <a:pt x="23" y="130"/>
                  <a:pt x="22" y="137"/>
                  <a:pt x="11" y="141"/>
                </a:cubicBezTo>
                <a:cubicBezTo>
                  <a:pt x="8" y="136"/>
                  <a:pt x="7" y="127"/>
                  <a:pt x="13" y="123"/>
                </a:cubicBezTo>
                <a:cubicBezTo>
                  <a:pt x="16" y="121"/>
                  <a:pt x="25" y="119"/>
                  <a:pt x="25" y="119"/>
                </a:cubicBezTo>
                <a:cubicBezTo>
                  <a:pt x="21" y="96"/>
                  <a:pt x="27" y="115"/>
                  <a:pt x="15" y="111"/>
                </a:cubicBezTo>
                <a:cubicBezTo>
                  <a:pt x="18" y="98"/>
                  <a:pt x="21" y="83"/>
                  <a:pt x="13" y="107"/>
                </a:cubicBezTo>
                <a:cubicBezTo>
                  <a:pt x="16" y="115"/>
                  <a:pt x="20" y="129"/>
                  <a:pt x="7" y="125"/>
                </a:cubicBezTo>
                <a:cubicBezTo>
                  <a:pt x="12" y="82"/>
                  <a:pt x="13" y="135"/>
                  <a:pt x="3" y="99"/>
                </a:cubicBezTo>
                <a:cubicBezTo>
                  <a:pt x="6" y="91"/>
                  <a:pt x="12" y="88"/>
                  <a:pt x="17" y="81"/>
                </a:cubicBezTo>
                <a:cubicBezTo>
                  <a:pt x="20" y="73"/>
                  <a:pt x="21" y="68"/>
                  <a:pt x="11" y="71"/>
                </a:cubicBezTo>
                <a:cubicBezTo>
                  <a:pt x="16" y="79"/>
                  <a:pt x="15" y="84"/>
                  <a:pt x="5" y="81"/>
                </a:cubicBezTo>
                <a:cubicBezTo>
                  <a:pt x="6" y="76"/>
                  <a:pt x="14" y="62"/>
                  <a:pt x="9" y="65"/>
                </a:cubicBezTo>
                <a:cubicBezTo>
                  <a:pt x="7" y="66"/>
                  <a:pt x="1" y="67"/>
                  <a:pt x="3" y="69"/>
                </a:cubicBezTo>
                <a:cubicBezTo>
                  <a:pt x="4" y="70"/>
                  <a:pt x="16" y="65"/>
                  <a:pt x="17" y="65"/>
                </a:cubicBezTo>
                <a:cubicBezTo>
                  <a:pt x="16" y="58"/>
                  <a:pt x="17" y="51"/>
                  <a:pt x="15" y="45"/>
                </a:cubicBezTo>
                <a:cubicBezTo>
                  <a:pt x="14" y="43"/>
                  <a:pt x="13" y="49"/>
                  <a:pt x="13" y="51"/>
                </a:cubicBezTo>
                <a:cubicBezTo>
                  <a:pt x="13" y="53"/>
                  <a:pt x="16" y="55"/>
                  <a:pt x="17" y="57"/>
                </a:cubicBezTo>
                <a:cubicBezTo>
                  <a:pt x="14" y="71"/>
                  <a:pt x="8" y="69"/>
                  <a:pt x="5" y="57"/>
                </a:cubicBezTo>
                <a:cubicBezTo>
                  <a:pt x="6" y="53"/>
                  <a:pt x="9" y="49"/>
                  <a:pt x="7" y="45"/>
                </a:cubicBezTo>
                <a:cubicBezTo>
                  <a:pt x="6" y="43"/>
                  <a:pt x="1" y="47"/>
                  <a:pt x="1" y="49"/>
                </a:cubicBezTo>
                <a:cubicBezTo>
                  <a:pt x="1" y="51"/>
                  <a:pt x="5" y="52"/>
                  <a:pt x="7" y="53"/>
                </a:cubicBezTo>
                <a:cubicBezTo>
                  <a:pt x="11" y="52"/>
                  <a:pt x="17" y="51"/>
                  <a:pt x="17" y="45"/>
                </a:cubicBezTo>
                <a:cubicBezTo>
                  <a:pt x="17" y="40"/>
                  <a:pt x="13" y="29"/>
                  <a:pt x="13" y="29"/>
                </a:cubicBezTo>
                <a:cubicBezTo>
                  <a:pt x="7" y="38"/>
                  <a:pt x="12" y="43"/>
                  <a:pt x="15" y="53"/>
                </a:cubicBezTo>
                <a:cubicBezTo>
                  <a:pt x="16" y="56"/>
                  <a:pt x="13" y="45"/>
                  <a:pt x="13" y="45"/>
                </a:cubicBezTo>
                <a:cubicBezTo>
                  <a:pt x="14" y="38"/>
                  <a:pt x="24" y="0"/>
                  <a:pt x="7" y="17"/>
                </a:cubicBezTo>
                <a:cubicBezTo>
                  <a:pt x="11" y="41"/>
                  <a:pt x="9" y="19"/>
                  <a:pt x="19" y="33"/>
                </a:cubicBezTo>
                <a:cubicBezTo>
                  <a:pt x="12" y="43"/>
                  <a:pt x="8" y="38"/>
                  <a:pt x="3" y="29"/>
                </a:cubicBezTo>
                <a:cubicBezTo>
                  <a:pt x="5" y="12"/>
                  <a:pt x="9" y="14"/>
                  <a:pt x="13" y="1"/>
                </a:cubicBezTo>
                <a:cubicBezTo>
                  <a:pt x="16" y="10"/>
                  <a:pt x="20" y="18"/>
                  <a:pt x="23" y="27"/>
                </a:cubicBezTo>
                <a:cubicBezTo>
                  <a:pt x="21" y="40"/>
                  <a:pt x="22" y="41"/>
                  <a:pt x="19" y="51"/>
                </a:cubicBezTo>
                <a:cubicBezTo>
                  <a:pt x="17" y="56"/>
                  <a:pt x="15" y="67"/>
                  <a:pt x="15" y="67"/>
                </a:cubicBezTo>
              </a:path>
            </a:pathLst>
          </a:custGeom>
          <a:solidFill>
            <a:srgbClr val="99ffcc"/>
          </a:solidFill>
          <a:ln w="648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9883520" y="14758920"/>
            <a:ext cx="74520" cy="692280"/>
          </a:xfrm>
          <a:custGeom>
            <a:avLst/>
            <a:gdLst/>
            <a:ahLst/>
            <a:rect l="l" t="t" r="r" b="b"/>
            <a:pathLst>
              <a:path w="27" h="248">
                <a:moveTo>
                  <a:pt x="9" y="229"/>
                </a:moveTo>
                <a:cubicBezTo>
                  <a:pt x="13" y="242"/>
                  <a:pt x="15" y="226"/>
                  <a:pt x="19" y="239"/>
                </a:cubicBezTo>
                <a:cubicBezTo>
                  <a:pt x="14" y="241"/>
                  <a:pt x="9" y="248"/>
                  <a:pt x="5" y="245"/>
                </a:cubicBezTo>
                <a:cubicBezTo>
                  <a:pt x="1" y="242"/>
                  <a:pt x="10" y="235"/>
                  <a:pt x="15" y="233"/>
                </a:cubicBezTo>
                <a:cubicBezTo>
                  <a:pt x="16" y="230"/>
                  <a:pt x="17" y="228"/>
                  <a:pt x="17" y="225"/>
                </a:cubicBezTo>
                <a:cubicBezTo>
                  <a:pt x="17" y="223"/>
                  <a:pt x="17" y="231"/>
                  <a:pt x="15" y="231"/>
                </a:cubicBezTo>
                <a:cubicBezTo>
                  <a:pt x="11" y="232"/>
                  <a:pt x="3" y="227"/>
                  <a:pt x="3" y="227"/>
                </a:cubicBezTo>
                <a:cubicBezTo>
                  <a:pt x="5" y="225"/>
                  <a:pt x="9" y="224"/>
                  <a:pt x="9" y="221"/>
                </a:cubicBezTo>
                <a:cubicBezTo>
                  <a:pt x="9" y="219"/>
                  <a:pt x="4" y="221"/>
                  <a:pt x="3" y="219"/>
                </a:cubicBezTo>
                <a:cubicBezTo>
                  <a:pt x="0" y="213"/>
                  <a:pt x="9" y="212"/>
                  <a:pt x="11" y="211"/>
                </a:cubicBezTo>
                <a:cubicBezTo>
                  <a:pt x="11" y="211"/>
                  <a:pt x="14" y="215"/>
                  <a:pt x="15" y="217"/>
                </a:cubicBezTo>
                <a:cubicBezTo>
                  <a:pt x="19" y="203"/>
                  <a:pt x="14" y="204"/>
                  <a:pt x="3" y="197"/>
                </a:cubicBezTo>
                <a:cubicBezTo>
                  <a:pt x="7" y="195"/>
                  <a:pt x="13" y="195"/>
                  <a:pt x="15" y="191"/>
                </a:cubicBezTo>
                <a:cubicBezTo>
                  <a:pt x="17" y="186"/>
                  <a:pt x="5" y="180"/>
                  <a:pt x="19" y="189"/>
                </a:cubicBezTo>
                <a:cubicBezTo>
                  <a:pt x="25" y="198"/>
                  <a:pt x="20" y="203"/>
                  <a:pt x="11" y="197"/>
                </a:cubicBezTo>
                <a:cubicBezTo>
                  <a:pt x="16" y="177"/>
                  <a:pt x="13" y="196"/>
                  <a:pt x="7" y="193"/>
                </a:cubicBezTo>
                <a:cubicBezTo>
                  <a:pt x="5" y="192"/>
                  <a:pt x="6" y="188"/>
                  <a:pt x="5" y="185"/>
                </a:cubicBezTo>
                <a:cubicBezTo>
                  <a:pt x="6" y="181"/>
                  <a:pt x="5" y="176"/>
                  <a:pt x="7" y="173"/>
                </a:cubicBezTo>
                <a:cubicBezTo>
                  <a:pt x="8" y="171"/>
                  <a:pt x="7" y="179"/>
                  <a:pt x="9" y="179"/>
                </a:cubicBezTo>
                <a:cubicBezTo>
                  <a:pt x="11" y="179"/>
                  <a:pt x="10" y="175"/>
                  <a:pt x="11" y="173"/>
                </a:cubicBezTo>
                <a:cubicBezTo>
                  <a:pt x="6" y="164"/>
                  <a:pt x="1" y="159"/>
                  <a:pt x="11" y="153"/>
                </a:cubicBezTo>
                <a:cubicBezTo>
                  <a:pt x="19" y="165"/>
                  <a:pt x="13" y="153"/>
                  <a:pt x="13" y="177"/>
                </a:cubicBezTo>
                <a:cubicBezTo>
                  <a:pt x="13" y="179"/>
                  <a:pt x="17" y="172"/>
                  <a:pt x="15" y="171"/>
                </a:cubicBezTo>
                <a:cubicBezTo>
                  <a:pt x="13" y="170"/>
                  <a:pt x="11" y="174"/>
                  <a:pt x="9" y="175"/>
                </a:cubicBezTo>
                <a:cubicBezTo>
                  <a:pt x="5" y="157"/>
                  <a:pt x="4" y="177"/>
                  <a:pt x="17" y="173"/>
                </a:cubicBezTo>
                <a:cubicBezTo>
                  <a:pt x="21" y="153"/>
                  <a:pt x="21" y="169"/>
                  <a:pt x="19" y="175"/>
                </a:cubicBezTo>
                <a:cubicBezTo>
                  <a:pt x="13" y="167"/>
                  <a:pt x="16" y="162"/>
                  <a:pt x="19" y="153"/>
                </a:cubicBezTo>
                <a:cubicBezTo>
                  <a:pt x="16" y="145"/>
                  <a:pt x="14" y="142"/>
                  <a:pt x="5" y="145"/>
                </a:cubicBezTo>
                <a:cubicBezTo>
                  <a:pt x="14" y="148"/>
                  <a:pt x="9" y="138"/>
                  <a:pt x="11" y="127"/>
                </a:cubicBezTo>
                <a:cubicBezTo>
                  <a:pt x="23" y="130"/>
                  <a:pt x="22" y="137"/>
                  <a:pt x="11" y="141"/>
                </a:cubicBezTo>
                <a:cubicBezTo>
                  <a:pt x="8" y="136"/>
                  <a:pt x="7" y="127"/>
                  <a:pt x="13" y="123"/>
                </a:cubicBezTo>
                <a:cubicBezTo>
                  <a:pt x="16" y="121"/>
                  <a:pt x="25" y="119"/>
                  <a:pt x="25" y="119"/>
                </a:cubicBezTo>
                <a:cubicBezTo>
                  <a:pt x="21" y="96"/>
                  <a:pt x="27" y="115"/>
                  <a:pt x="15" y="111"/>
                </a:cubicBezTo>
                <a:cubicBezTo>
                  <a:pt x="18" y="98"/>
                  <a:pt x="21" y="83"/>
                  <a:pt x="13" y="107"/>
                </a:cubicBezTo>
                <a:cubicBezTo>
                  <a:pt x="16" y="115"/>
                  <a:pt x="20" y="129"/>
                  <a:pt x="7" y="125"/>
                </a:cubicBezTo>
                <a:cubicBezTo>
                  <a:pt x="12" y="82"/>
                  <a:pt x="13" y="135"/>
                  <a:pt x="3" y="99"/>
                </a:cubicBezTo>
                <a:cubicBezTo>
                  <a:pt x="6" y="91"/>
                  <a:pt x="12" y="88"/>
                  <a:pt x="17" y="81"/>
                </a:cubicBezTo>
                <a:cubicBezTo>
                  <a:pt x="20" y="73"/>
                  <a:pt x="21" y="68"/>
                  <a:pt x="11" y="71"/>
                </a:cubicBezTo>
                <a:cubicBezTo>
                  <a:pt x="16" y="79"/>
                  <a:pt x="15" y="84"/>
                  <a:pt x="5" y="81"/>
                </a:cubicBezTo>
                <a:cubicBezTo>
                  <a:pt x="6" y="76"/>
                  <a:pt x="14" y="62"/>
                  <a:pt x="9" y="65"/>
                </a:cubicBezTo>
                <a:cubicBezTo>
                  <a:pt x="7" y="66"/>
                  <a:pt x="1" y="67"/>
                  <a:pt x="3" y="69"/>
                </a:cubicBezTo>
                <a:cubicBezTo>
                  <a:pt x="4" y="70"/>
                  <a:pt x="16" y="65"/>
                  <a:pt x="17" y="65"/>
                </a:cubicBezTo>
                <a:cubicBezTo>
                  <a:pt x="16" y="58"/>
                  <a:pt x="17" y="51"/>
                  <a:pt x="15" y="45"/>
                </a:cubicBezTo>
                <a:cubicBezTo>
                  <a:pt x="14" y="43"/>
                  <a:pt x="13" y="49"/>
                  <a:pt x="13" y="51"/>
                </a:cubicBezTo>
                <a:cubicBezTo>
                  <a:pt x="13" y="53"/>
                  <a:pt x="16" y="55"/>
                  <a:pt x="17" y="57"/>
                </a:cubicBezTo>
                <a:cubicBezTo>
                  <a:pt x="14" y="71"/>
                  <a:pt x="8" y="69"/>
                  <a:pt x="5" y="57"/>
                </a:cubicBezTo>
                <a:cubicBezTo>
                  <a:pt x="6" y="53"/>
                  <a:pt x="9" y="49"/>
                  <a:pt x="7" y="45"/>
                </a:cubicBezTo>
                <a:cubicBezTo>
                  <a:pt x="6" y="43"/>
                  <a:pt x="1" y="47"/>
                  <a:pt x="1" y="49"/>
                </a:cubicBezTo>
                <a:cubicBezTo>
                  <a:pt x="1" y="51"/>
                  <a:pt x="5" y="52"/>
                  <a:pt x="7" y="53"/>
                </a:cubicBezTo>
                <a:cubicBezTo>
                  <a:pt x="11" y="52"/>
                  <a:pt x="17" y="51"/>
                  <a:pt x="17" y="45"/>
                </a:cubicBezTo>
                <a:cubicBezTo>
                  <a:pt x="17" y="40"/>
                  <a:pt x="13" y="29"/>
                  <a:pt x="13" y="29"/>
                </a:cubicBezTo>
                <a:cubicBezTo>
                  <a:pt x="7" y="38"/>
                  <a:pt x="12" y="43"/>
                  <a:pt x="15" y="53"/>
                </a:cubicBezTo>
                <a:cubicBezTo>
                  <a:pt x="16" y="56"/>
                  <a:pt x="13" y="45"/>
                  <a:pt x="13" y="45"/>
                </a:cubicBezTo>
                <a:cubicBezTo>
                  <a:pt x="14" y="38"/>
                  <a:pt x="24" y="0"/>
                  <a:pt x="7" y="17"/>
                </a:cubicBezTo>
                <a:cubicBezTo>
                  <a:pt x="11" y="41"/>
                  <a:pt x="9" y="19"/>
                  <a:pt x="19" y="33"/>
                </a:cubicBezTo>
                <a:cubicBezTo>
                  <a:pt x="12" y="43"/>
                  <a:pt x="8" y="38"/>
                  <a:pt x="3" y="29"/>
                </a:cubicBezTo>
                <a:cubicBezTo>
                  <a:pt x="5" y="12"/>
                  <a:pt x="9" y="14"/>
                  <a:pt x="13" y="1"/>
                </a:cubicBezTo>
                <a:cubicBezTo>
                  <a:pt x="16" y="10"/>
                  <a:pt x="20" y="18"/>
                  <a:pt x="23" y="27"/>
                </a:cubicBezTo>
                <a:cubicBezTo>
                  <a:pt x="21" y="40"/>
                  <a:pt x="22" y="41"/>
                  <a:pt x="19" y="51"/>
                </a:cubicBezTo>
                <a:cubicBezTo>
                  <a:pt x="17" y="56"/>
                  <a:pt x="15" y="67"/>
                  <a:pt x="15" y="67"/>
                </a:cubicBezTo>
              </a:path>
            </a:pathLst>
          </a:custGeom>
          <a:solidFill>
            <a:srgbClr val="66ff99"/>
          </a:solidFill>
          <a:ln w="64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283600" y="15651000"/>
            <a:ext cx="7128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6560720" y="1282680"/>
            <a:ext cx="513072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130880" y="590400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0551960" y="589284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4476320" y="5800680"/>
            <a:ext cx="716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2934800" y="5886360"/>
            <a:ext cx="14472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390240" y="589284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2205880" y="12916080"/>
            <a:ext cx="10796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12273120" y="3784680"/>
            <a:ext cx="362160" cy="376200"/>
            <a:chOff x="12273120" y="3784680"/>
            <a:chExt cx="362160" cy="376200"/>
          </a:xfrm>
        </p:grpSpPr>
        <p:grpSp>
          <p:nvGrpSpPr>
            <p:cNvPr id="1065" name=""/>
            <p:cNvGrpSpPr/>
            <p:nvPr/>
          </p:nvGrpSpPr>
          <p:grpSpPr>
            <a:xfrm>
              <a:off x="12273120" y="3792960"/>
              <a:ext cx="362160" cy="367920"/>
              <a:chOff x="12273120" y="3792960"/>
              <a:chExt cx="362160" cy="367920"/>
            </a:xfrm>
          </p:grpSpPr>
          <p:sp>
            <p:nvSpPr>
              <p:cNvPr id="1066" name=""/>
              <p:cNvSpPr/>
              <p:nvPr/>
            </p:nvSpPr>
            <p:spPr>
              <a:xfrm rot="16200000">
                <a:off x="12270240" y="3795840"/>
                <a:ext cx="367920" cy="362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6253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625358"/>
                  </a:path>
                </a:pathLst>
              </a:cu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 rot="16200000">
                <a:off x="12362760" y="3880080"/>
                <a:ext cx="11880" cy="186480"/>
              </a:xfrm>
              <a:prstGeom prst="rect">
                <a:avLst/>
              </a:prstGeom>
              <a:noFill/>
              <a:ln w="64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2463560" y="3955320"/>
                <a:ext cx="0" cy="212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9" name=""/>
            <p:cNvSpPr/>
            <p:nvPr/>
          </p:nvSpPr>
          <p:spPr>
            <a:xfrm>
              <a:off x="12477600" y="3784680"/>
              <a:ext cx="0" cy="203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12274560" y="4070520"/>
            <a:ext cx="362880" cy="376200"/>
            <a:chOff x="12274560" y="4070520"/>
            <a:chExt cx="362880" cy="376200"/>
          </a:xfrm>
        </p:grpSpPr>
        <p:grpSp>
          <p:nvGrpSpPr>
            <p:cNvPr id="1071" name=""/>
            <p:cNvGrpSpPr/>
            <p:nvPr/>
          </p:nvGrpSpPr>
          <p:grpSpPr>
            <a:xfrm>
              <a:off x="12274560" y="4078800"/>
              <a:ext cx="362880" cy="367920"/>
              <a:chOff x="12274560" y="4078800"/>
              <a:chExt cx="362880" cy="367920"/>
            </a:xfrm>
          </p:grpSpPr>
          <p:sp>
            <p:nvSpPr>
              <p:cNvPr id="1072" name=""/>
              <p:cNvSpPr/>
              <p:nvPr/>
            </p:nvSpPr>
            <p:spPr>
              <a:xfrm rot="16200000">
                <a:off x="12272040" y="4081320"/>
                <a:ext cx="367920" cy="362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6253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625358"/>
                  </a:path>
                </a:pathLst>
              </a:cu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 rot="16200000">
                <a:off x="12363480" y="4165920"/>
                <a:ext cx="11880" cy="186840"/>
              </a:xfrm>
              <a:prstGeom prst="rect">
                <a:avLst/>
              </a:prstGeom>
              <a:noFill/>
              <a:ln w="64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2465360" y="4241160"/>
                <a:ext cx="0" cy="212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>
              <a:off x="12479400" y="4070520"/>
              <a:ext cx="0" cy="203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14222880" y="4907520"/>
            <a:ext cx="645480" cy="1292040"/>
            <a:chOff x="14222880" y="4907520"/>
            <a:chExt cx="645480" cy="1292040"/>
          </a:xfrm>
        </p:grpSpPr>
        <p:grpSp>
          <p:nvGrpSpPr>
            <p:cNvPr id="1077" name=""/>
            <p:cNvGrpSpPr/>
            <p:nvPr/>
          </p:nvGrpSpPr>
          <p:grpSpPr>
            <a:xfrm>
              <a:off x="14227560" y="5553000"/>
              <a:ext cx="640800" cy="646560"/>
              <a:chOff x="14227560" y="5553000"/>
              <a:chExt cx="640800" cy="646560"/>
            </a:xfrm>
          </p:grpSpPr>
          <p:sp>
            <p:nvSpPr>
              <p:cNvPr id="1078" name=""/>
              <p:cNvSpPr/>
              <p:nvPr/>
            </p:nvSpPr>
            <p:spPr>
              <a:xfrm flipV="1" rot="16200000">
                <a:off x="14224320" y="5556240"/>
                <a:ext cx="646560" cy="64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rot="16200000">
                <a:off x="14699160" y="5713920"/>
                <a:ext cx="14400" cy="323640"/>
              </a:xfrm>
              <a:prstGeom prst="rect">
                <a:avLst/>
              </a:prstGeom>
              <a:noFill/>
              <a:ln w="64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14222880" y="4907520"/>
              <a:ext cx="640800" cy="646560"/>
              <a:chOff x="14222880" y="4907520"/>
              <a:chExt cx="640800" cy="646560"/>
            </a:xfrm>
          </p:grpSpPr>
          <p:sp>
            <p:nvSpPr>
              <p:cNvPr id="1081" name=""/>
              <p:cNvSpPr/>
              <p:nvPr/>
            </p:nvSpPr>
            <p:spPr>
              <a:xfrm flipH="1" flipV="1" rot="16200000">
                <a:off x="14219640" y="4910760"/>
                <a:ext cx="646560" cy="64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 rot="16200000">
                <a:off x="14694120" y="5069160"/>
                <a:ext cx="14400" cy="323640"/>
              </a:xfrm>
              <a:prstGeom prst="rect">
                <a:avLst/>
              </a:prstGeom>
              <a:noFill/>
              <a:ln w="64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3" name=""/>
          <p:cNvSpPr/>
          <p:nvPr/>
        </p:nvSpPr>
        <p:spPr>
          <a:xfrm>
            <a:off x="22205880" y="10356840"/>
            <a:ext cx="0" cy="251928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2205880" y="10350360"/>
            <a:ext cx="10796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130880" y="6426360"/>
            <a:ext cx="65160" cy="26640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7086600" y="6027480"/>
            <a:ext cx="105840" cy="432000"/>
            <a:chOff x="7086600" y="6027480"/>
            <a:chExt cx="105840" cy="432000"/>
          </a:xfrm>
        </p:grpSpPr>
        <p:sp>
          <p:nvSpPr>
            <p:cNvPr id="1087" name=""/>
            <p:cNvSpPr/>
            <p:nvPr/>
          </p:nvSpPr>
          <p:spPr>
            <a:xfrm>
              <a:off x="7118280" y="6027840"/>
              <a:ext cx="74160" cy="431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086600" y="6030720"/>
              <a:ext cx="0" cy="428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086600" y="6459120"/>
              <a:ext cx="36360" cy="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086600" y="6027480"/>
              <a:ext cx="36360" cy="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14478120" y="5213520"/>
            <a:ext cx="64800" cy="67608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2533400" y="5184720"/>
            <a:ext cx="20016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12760200" y="4970160"/>
            <a:ext cx="358560" cy="354600"/>
            <a:chOff x="12760200" y="4970160"/>
            <a:chExt cx="358560" cy="354600"/>
          </a:xfrm>
        </p:grpSpPr>
        <p:grpSp>
          <p:nvGrpSpPr>
            <p:cNvPr id="1094" name=""/>
            <p:cNvGrpSpPr/>
            <p:nvPr/>
          </p:nvGrpSpPr>
          <p:grpSpPr>
            <a:xfrm>
              <a:off x="12760200" y="4970160"/>
              <a:ext cx="358560" cy="354600"/>
              <a:chOff x="12760200" y="4970160"/>
              <a:chExt cx="358560" cy="354600"/>
            </a:xfrm>
          </p:grpSpPr>
          <p:sp>
            <p:nvSpPr>
              <p:cNvPr id="1095" name=""/>
              <p:cNvSpPr/>
              <p:nvPr/>
            </p:nvSpPr>
            <p:spPr>
              <a:xfrm flipV="1" rot="10800000">
                <a:off x="12760200" y="4969800"/>
                <a:ext cx="35856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2941280" y="4971600"/>
                <a:ext cx="14400" cy="176040"/>
              </a:xfrm>
              <a:prstGeom prst="rect">
                <a:avLst/>
              </a:prstGeom>
              <a:noFill/>
              <a:ln w="64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 rot="10800000">
              <a:off x="12762000" y="5154480"/>
              <a:ext cx="193680" cy="64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14157360" y="4898880"/>
            <a:ext cx="512280" cy="506160"/>
            <a:chOff x="14157360" y="4898880"/>
            <a:chExt cx="512280" cy="506160"/>
          </a:xfrm>
        </p:grpSpPr>
        <p:sp>
          <p:nvSpPr>
            <p:cNvPr id="1099" name=""/>
            <p:cNvSpPr/>
            <p:nvPr/>
          </p:nvSpPr>
          <p:spPr>
            <a:xfrm flipH="1">
              <a:off x="14159160" y="4898880"/>
              <a:ext cx="510480" cy="50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253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25358"/>
                </a:path>
              </a:pathLst>
            </a:cu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16200000">
              <a:off x="14259600" y="5056560"/>
              <a:ext cx="5724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4403600" y="4903920"/>
              <a:ext cx="14400" cy="258840"/>
            </a:xfrm>
            <a:prstGeom prst="rect">
              <a:avLst/>
            </a:prstGeom>
            <a:noFill/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 rot="16200000">
            <a:off x="13566600" y="9340560"/>
            <a:ext cx="651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18951480" y="2951280"/>
            <a:ext cx="144720" cy="144360"/>
            <a:chOff x="18951480" y="2951280"/>
            <a:chExt cx="144720" cy="144360"/>
          </a:xfrm>
        </p:grpSpPr>
        <p:sp>
          <p:nvSpPr>
            <p:cNvPr id="1104" name=""/>
            <p:cNvSpPr/>
            <p:nvPr/>
          </p:nvSpPr>
          <p:spPr>
            <a:xfrm>
              <a:off x="18951480" y="2951280"/>
              <a:ext cx="14472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970560" y="2970360"/>
              <a:ext cx="108000" cy="10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218360" y="7226280"/>
            <a:ext cx="144360" cy="144360"/>
            <a:chOff x="7218360" y="7226280"/>
            <a:chExt cx="144360" cy="144360"/>
          </a:xfrm>
        </p:grpSpPr>
        <p:sp>
          <p:nvSpPr>
            <p:cNvPr id="1107" name=""/>
            <p:cNvSpPr/>
            <p:nvPr/>
          </p:nvSpPr>
          <p:spPr>
            <a:xfrm>
              <a:off x="7218360" y="7226280"/>
              <a:ext cx="14436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37080" y="7245360"/>
              <a:ext cx="107640" cy="10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13825440" y="9129600"/>
            <a:ext cx="166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ALVENARIAS EXIST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3794480" y="9402840"/>
            <a:ext cx="17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ALVENARIAS  A  DEMOL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3820760" y="9664560"/>
            <a:ext cx="184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ALVENARIAS  A  CONSTRU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3581360" y="6354720"/>
            <a:ext cx="153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3300"/>
                </a:solidFill>
                <a:latin typeface="Technical"/>
              </a:rPr>
              <a:t>CIRCULAÇÃO EXTER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3155480" y="9259920"/>
            <a:ext cx="6210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411080" y="978048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3560480" y="828216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echnical"/>
              </a:rPr>
              <a:t>LEGE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6920360" y="54054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echnical"/>
              </a:rPr>
              <a:t>PF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545440" y="5407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echnical"/>
              </a:rPr>
              <a:t>PF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428520" y="6213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echnical"/>
              </a:rPr>
              <a:t>PF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3371560" y="12563640"/>
            <a:ext cx="53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echnical"/>
              </a:rPr>
              <a:t>PM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9890280" y="5318280"/>
            <a:ext cx="287280" cy="303120"/>
            <a:chOff x="9890280" y="5318280"/>
            <a:chExt cx="287280" cy="303120"/>
          </a:xfrm>
        </p:grpSpPr>
        <p:sp>
          <p:nvSpPr>
            <p:cNvPr id="1121" name=""/>
            <p:cNvSpPr/>
            <p:nvPr/>
          </p:nvSpPr>
          <p:spPr>
            <a:xfrm>
              <a:off x="9907920" y="5344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9890280" y="5318280"/>
              <a:ext cx="287280" cy="286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8015400" y="6748560"/>
            <a:ext cx="311760" cy="289080"/>
            <a:chOff x="8015400" y="6748560"/>
            <a:chExt cx="311760" cy="289080"/>
          </a:xfrm>
        </p:grpSpPr>
        <p:sp>
          <p:nvSpPr>
            <p:cNvPr id="1124" name=""/>
            <p:cNvSpPr/>
            <p:nvPr/>
          </p:nvSpPr>
          <p:spPr>
            <a:xfrm>
              <a:off x="8059680" y="67611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015400" y="674856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7394400" y="7161120"/>
            <a:ext cx="287280" cy="287640"/>
            <a:chOff x="7394400" y="7161120"/>
            <a:chExt cx="287280" cy="287640"/>
          </a:xfrm>
        </p:grpSpPr>
        <p:sp>
          <p:nvSpPr>
            <p:cNvPr id="1127" name=""/>
            <p:cNvSpPr/>
            <p:nvPr/>
          </p:nvSpPr>
          <p:spPr>
            <a:xfrm>
              <a:off x="7412400" y="717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394400" y="716112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683480" y="5289480"/>
            <a:ext cx="287280" cy="303480"/>
            <a:chOff x="7683480" y="5289480"/>
            <a:chExt cx="287280" cy="303480"/>
          </a:xfrm>
        </p:grpSpPr>
        <p:sp>
          <p:nvSpPr>
            <p:cNvPr id="1130" name=""/>
            <p:cNvSpPr/>
            <p:nvPr/>
          </p:nvSpPr>
          <p:spPr>
            <a:xfrm>
              <a:off x="7700760" y="53164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683480" y="528948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12620160" y="5241960"/>
            <a:ext cx="42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echnical"/>
              </a:rPr>
              <a:t>PM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13166640" y="5386320"/>
            <a:ext cx="287280" cy="287640"/>
            <a:chOff x="13166640" y="5386320"/>
            <a:chExt cx="287280" cy="287640"/>
          </a:xfrm>
        </p:grpSpPr>
        <p:sp>
          <p:nvSpPr>
            <p:cNvPr id="1134" name=""/>
            <p:cNvSpPr/>
            <p:nvPr/>
          </p:nvSpPr>
          <p:spPr>
            <a:xfrm>
              <a:off x="13184640" y="53974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3166640" y="538632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19273680" y="6546960"/>
            <a:ext cx="312480" cy="289080"/>
            <a:chOff x="19273680" y="6546960"/>
            <a:chExt cx="312480" cy="289080"/>
          </a:xfrm>
        </p:grpSpPr>
        <p:sp>
          <p:nvSpPr>
            <p:cNvPr id="1137" name=""/>
            <p:cNvSpPr/>
            <p:nvPr/>
          </p:nvSpPr>
          <p:spPr>
            <a:xfrm>
              <a:off x="19318680" y="65595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9273680" y="6546960"/>
              <a:ext cx="28764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7859240" y="3127320"/>
            <a:ext cx="287280" cy="302040"/>
            <a:chOff x="17859240" y="3127320"/>
            <a:chExt cx="287280" cy="302040"/>
          </a:xfrm>
        </p:grpSpPr>
        <p:sp>
          <p:nvSpPr>
            <p:cNvPr id="1140" name=""/>
            <p:cNvSpPr/>
            <p:nvPr/>
          </p:nvSpPr>
          <p:spPr>
            <a:xfrm>
              <a:off x="17875440" y="31528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7859240" y="312732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18141840" y="1635120"/>
            <a:ext cx="287280" cy="303480"/>
            <a:chOff x="18141840" y="1635120"/>
            <a:chExt cx="287280" cy="303480"/>
          </a:xfrm>
        </p:grpSpPr>
        <p:sp>
          <p:nvSpPr>
            <p:cNvPr id="1143" name=""/>
            <p:cNvSpPr/>
            <p:nvPr/>
          </p:nvSpPr>
          <p:spPr>
            <a:xfrm>
              <a:off x="18159480" y="16621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8141840" y="163512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19046880" y="3059280"/>
            <a:ext cx="287280" cy="287640"/>
            <a:chOff x="19046880" y="3059280"/>
            <a:chExt cx="287280" cy="287640"/>
          </a:xfrm>
        </p:grpSpPr>
        <p:sp>
          <p:nvSpPr>
            <p:cNvPr id="1146" name=""/>
            <p:cNvSpPr/>
            <p:nvPr/>
          </p:nvSpPr>
          <p:spPr>
            <a:xfrm>
              <a:off x="19064880" y="30704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9046880" y="305928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18303840" y="4398840"/>
            <a:ext cx="287280" cy="287640"/>
            <a:chOff x="18303840" y="4398840"/>
            <a:chExt cx="287280" cy="287640"/>
          </a:xfrm>
        </p:grpSpPr>
        <p:sp>
          <p:nvSpPr>
            <p:cNvPr id="1149" name=""/>
            <p:cNvSpPr/>
            <p:nvPr/>
          </p:nvSpPr>
          <p:spPr>
            <a:xfrm>
              <a:off x="18321120" y="44100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8303840" y="4398840"/>
              <a:ext cx="28728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21537720" y="5545080"/>
            <a:ext cx="297360" cy="289080"/>
            <a:chOff x="21537720" y="5545080"/>
            <a:chExt cx="297360" cy="289080"/>
          </a:xfrm>
        </p:grpSpPr>
        <p:sp>
          <p:nvSpPr>
            <p:cNvPr id="1152" name=""/>
            <p:cNvSpPr/>
            <p:nvPr/>
          </p:nvSpPr>
          <p:spPr>
            <a:xfrm>
              <a:off x="21567600" y="55576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1537720" y="5545080"/>
              <a:ext cx="28152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22339440" y="5472000"/>
            <a:ext cx="311760" cy="303120"/>
            <a:chOff x="22339440" y="5472000"/>
            <a:chExt cx="311760" cy="303120"/>
          </a:xfrm>
        </p:grpSpPr>
        <p:sp>
          <p:nvSpPr>
            <p:cNvPr id="1155" name=""/>
            <p:cNvSpPr/>
            <p:nvPr/>
          </p:nvSpPr>
          <p:spPr>
            <a:xfrm>
              <a:off x="22383720" y="5498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2339440" y="547200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20745360" y="5956200"/>
            <a:ext cx="254016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21566160" y="5965920"/>
            <a:ext cx="312480" cy="289080"/>
            <a:chOff x="21566160" y="5965920"/>
            <a:chExt cx="312480" cy="289080"/>
          </a:xfrm>
        </p:grpSpPr>
        <p:sp>
          <p:nvSpPr>
            <p:cNvPr id="1159" name=""/>
            <p:cNvSpPr/>
            <p:nvPr/>
          </p:nvSpPr>
          <p:spPr>
            <a:xfrm>
              <a:off x="21611160" y="5978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566160" y="5965920"/>
              <a:ext cx="28764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22655160" y="10072800"/>
            <a:ext cx="297360" cy="289080"/>
            <a:chOff x="22655160" y="10072800"/>
            <a:chExt cx="297360" cy="289080"/>
          </a:xfrm>
        </p:grpSpPr>
        <p:sp>
          <p:nvSpPr>
            <p:cNvPr id="1162" name=""/>
            <p:cNvSpPr/>
            <p:nvPr/>
          </p:nvSpPr>
          <p:spPr>
            <a:xfrm>
              <a:off x="22685040" y="100854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2655160" y="10072800"/>
              <a:ext cx="28152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24172920" y="13050720"/>
            <a:ext cx="297360" cy="289080"/>
            <a:chOff x="24172920" y="13050720"/>
            <a:chExt cx="297360" cy="289080"/>
          </a:xfrm>
        </p:grpSpPr>
        <p:sp>
          <p:nvSpPr>
            <p:cNvPr id="1165" name=""/>
            <p:cNvSpPr/>
            <p:nvPr/>
          </p:nvSpPr>
          <p:spPr>
            <a:xfrm>
              <a:off x="24202800" y="13063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echnic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4172920" y="13050720"/>
              <a:ext cx="28152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4433760" y="8290080"/>
            <a:ext cx="1471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SETOR OPER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MÓDULOS ( A, 2 e 3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3300920" y="3809880"/>
            <a:ext cx="106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MANUTENÇÃ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342280" y="3686040"/>
            <a:ext cx="1471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SETOR OPER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MÓDULO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8868320" y="4770360"/>
            <a:ext cx="726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CANT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5334920" y="3827520"/>
            <a:ext cx="157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PREPARO DE MATE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3958000" y="3405240"/>
            <a:ext cx="79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DESCA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4657840" y="13976280"/>
            <a:ext cx="814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RECEPÇÃ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582240" y="8464680"/>
            <a:ext cx="130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ARMAZENA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0923920" y="9502920"/>
            <a:ext cx="166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PROTEÇÃO DO TELH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       </a:t>
            </a:r>
            <a:r>
              <a:rPr b="0" lang="pt-BR" sz="1000" spc="-1" strike="noStrike">
                <a:solidFill>
                  <a:srgbClr val="000000"/>
                </a:solidFill>
                <a:latin typeface="Technical"/>
              </a:rPr>
              <a:t>DA  DESCAR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1771000" y="9880560"/>
            <a:ext cx="447480" cy="447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3541480" y="63151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echnical"/>
              </a:rPr>
              <a:t>PF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13249440" y="5219640"/>
            <a:ext cx="144360" cy="144360"/>
            <a:chOff x="13249440" y="5219640"/>
            <a:chExt cx="144360" cy="144360"/>
          </a:xfrm>
        </p:grpSpPr>
        <p:sp>
          <p:nvSpPr>
            <p:cNvPr id="1179" name=""/>
            <p:cNvSpPr/>
            <p:nvPr/>
          </p:nvSpPr>
          <p:spPr>
            <a:xfrm>
              <a:off x="13249440" y="5219640"/>
              <a:ext cx="14436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3268160" y="5238720"/>
              <a:ext cx="107640" cy="10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17560800" y="579924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414600" y="4444920"/>
            <a:ext cx="716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6856560" y="4237200"/>
            <a:ext cx="448560" cy="433800"/>
            <a:chOff x="6856560" y="4237200"/>
            <a:chExt cx="448560" cy="433800"/>
          </a:xfrm>
        </p:grpSpPr>
        <p:sp>
          <p:nvSpPr>
            <p:cNvPr id="1184" name=""/>
            <p:cNvSpPr/>
            <p:nvPr/>
          </p:nvSpPr>
          <p:spPr>
            <a:xfrm flipH="1">
              <a:off x="6867360" y="4237200"/>
              <a:ext cx="437760" cy="43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253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25358"/>
                </a:path>
              </a:pathLst>
            </a:custGeom>
            <a:noFill/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075440" y="4238640"/>
              <a:ext cx="14400" cy="223920"/>
            </a:xfrm>
            <a:prstGeom prst="rect">
              <a:avLst/>
            </a:prstGeom>
            <a:noFill/>
            <a:ln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rot="16200000">
              <a:off x="6941520" y="4377600"/>
              <a:ext cx="56880" cy="226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3871800" y="4443480"/>
            <a:ext cx="0" cy="712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62600" y="4438800"/>
            <a:ext cx="0" cy="712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391000" y="4443480"/>
            <a:ext cx="0" cy="712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467400" y="4443480"/>
            <a:ext cx="0" cy="712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126200" y="4098960"/>
            <a:ext cx="716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116840" y="3370320"/>
            <a:ext cx="7128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413160" y="288936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413160" y="5959440"/>
            <a:ext cx="7128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6831000" y="7699320"/>
            <a:ext cx="369360" cy="1079280"/>
            <a:chOff x="6831000" y="7699320"/>
            <a:chExt cx="369360" cy="1079280"/>
          </a:xfrm>
        </p:grpSpPr>
        <p:grpSp>
          <p:nvGrpSpPr>
            <p:cNvPr id="1196" name=""/>
            <p:cNvGrpSpPr/>
            <p:nvPr/>
          </p:nvGrpSpPr>
          <p:grpSpPr>
            <a:xfrm>
              <a:off x="7125840" y="7699320"/>
              <a:ext cx="74520" cy="1079280"/>
              <a:chOff x="7125840" y="7699320"/>
              <a:chExt cx="74520" cy="1079280"/>
            </a:xfrm>
          </p:grpSpPr>
          <p:sp>
            <p:nvSpPr>
              <p:cNvPr id="1197" name=""/>
              <p:cNvSpPr/>
              <p:nvPr/>
            </p:nvSpPr>
            <p:spPr>
              <a:xfrm rot="10800000">
                <a:off x="7125840" y="7705440"/>
                <a:ext cx="74520" cy="10731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7164000" y="7699320"/>
                <a:ext cx="0" cy="1073160"/>
              </a:xfrm>
              <a:prstGeom prst="line">
                <a:avLst/>
              </a:prstGeom>
              <a:ln w="316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9" name=""/>
            <p:cNvSpPr/>
            <p:nvPr/>
          </p:nvSpPr>
          <p:spPr>
            <a:xfrm rot="16200000">
              <a:off x="6726240" y="808344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echnical"/>
                </a:rPr>
                <a:t>BF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7126200" y="9223200"/>
            <a:ext cx="74880" cy="1079280"/>
            <a:chOff x="7126200" y="9223200"/>
            <a:chExt cx="74880" cy="1079280"/>
          </a:xfrm>
        </p:grpSpPr>
        <p:sp>
          <p:nvSpPr>
            <p:cNvPr id="1201" name=""/>
            <p:cNvSpPr/>
            <p:nvPr/>
          </p:nvSpPr>
          <p:spPr>
            <a:xfrm rot="10800000">
              <a:off x="7126200" y="9229320"/>
              <a:ext cx="74880" cy="1073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7164360" y="9223200"/>
              <a:ext cx="0" cy="107316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6826320" y="10747440"/>
            <a:ext cx="369360" cy="1079280"/>
            <a:chOff x="6826320" y="10747440"/>
            <a:chExt cx="369360" cy="1079280"/>
          </a:xfrm>
        </p:grpSpPr>
        <p:grpSp>
          <p:nvGrpSpPr>
            <p:cNvPr id="1204" name=""/>
            <p:cNvGrpSpPr/>
            <p:nvPr/>
          </p:nvGrpSpPr>
          <p:grpSpPr>
            <a:xfrm>
              <a:off x="7121160" y="10747440"/>
              <a:ext cx="74520" cy="1079280"/>
              <a:chOff x="7121160" y="10747440"/>
              <a:chExt cx="74520" cy="1079280"/>
            </a:xfrm>
          </p:grpSpPr>
          <p:sp>
            <p:nvSpPr>
              <p:cNvPr id="1205" name=""/>
              <p:cNvSpPr/>
              <p:nvPr/>
            </p:nvSpPr>
            <p:spPr>
              <a:xfrm rot="10800000">
                <a:off x="7121160" y="10753560"/>
                <a:ext cx="74520" cy="10731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V="1">
                <a:off x="7159320" y="10747440"/>
                <a:ext cx="0" cy="1073160"/>
              </a:xfrm>
              <a:prstGeom prst="line">
                <a:avLst/>
              </a:prstGeom>
              <a:ln w="316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7" name=""/>
            <p:cNvSpPr/>
            <p:nvPr/>
          </p:nvSpPr>
          <p:spPr>
            <a:xfrm rot="16200000">
              <a:off x="6721560" y="111315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echnical"/>
                </a:rPr>
                <a:t>BF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8" name=""/>
          <p:cNvSpPr/>
          <p:nvPr/>
        </p:nvSpPr>
        <p:spPr>
          <a:xfrm>
            <a:off x="3411360" y="1518768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221440" y="15189120"/>
            <a:ext cx="7128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6954280" y="2898720"/>
            <a:ext cx="7128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5093440" y="289728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3285520" y="2898720"/>
            <a:ext cx="7128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6949240" y="596124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6949240" y="13655520"/>
            <a:ext cx="716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5" name=""/>
          <p:cNvGrpSpPr/>
          <p:nvPr/>
        </p:nvGrpSpPr>
        <p:grpSpPr>
          <a:xfrm>
            <a:off x="23280480" y="4556160"/>
            <a:ext cx="74520" cy="1079280"/>
            <a:chOff x="23280480" y="4556160"/>
            <a:chExt cx="74520" cy="1079280"/>
          </a:xfrm>
        </p:grpSpPr>
        <p:sp>
          <p:nvSpPr>
            <p:cNvPr id="1216" name=""/>
            <p:cNvSpPr/>
            <p:nvPr/>
          </p:nvSpPr>
          <p:spPr>
            <a:xfrm rot="10800000">
              <a:off x="23280480" y="4562280"/>
              <a:ext cx="74520" cy="1073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23318640" y="4556160"/>
              <a:ext cx="0" cy="107316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23286960" y="596268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23280480" y="7756560"/>
            <a:ext cx="74520" cy="1079280"/>
            <a:chOff x="23280480" y="7756560"/>
            <a:chExt cx="74520" cy="1079280"/>
          </a:xfrm>
        </p:grpSpPr>
        <p:sp>
          <p:nvSpPr>
            <p:cNvPr id="1220" name=""/>
            <p:cNvSpPr/>
            <p:nvPr/>
          </p:nvSpPr>
          <p:spPr>
            <a:xfrm rot="10800000">
              <a:off x="23280480" y="7762680"/>
              <a:ext cx="74520" cy="1073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23318640" y="7756560"/>
              <a:ext cx="0" cy="107316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2" name=""/>
          <p:cNvSpPr/>
          <p:nvPr/>
        </p:nvSpPr>
        <p:spPr>
          <a:xfrm>
            <a:off x="20674080" y="444348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128000" y="444348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122960" y="288936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273640" y="2890800"/>
            <a:ext cx="716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9390240" y="2890800"/>
            <a:ext cx="7128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0551960" y="289260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rot="10800000">
            <a:off x="12940920" y="3360600"/>
            <a:ext cx="57240" cy="19872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2930120" y="2892600"/>
            <a:ext cx="14436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4470200" y="288936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12123720" y="3397320"/>
            <a:ext cx="362880" cy="376200"/>
            <a:chOff x="12123720" y="3397320"/>
            <a:chExt cx="362880" cy="376200"/>
          </a:xfrm>
        </p:grpSpPr>
        <p:grpSp>
          <p:nvGrpSpPr>
            <p:cNvPr id="1232" name=""/>
            <p:cNvGrpSpPr/>
            <p:nvPr/>
          </p:nvGrpSpPr>
          <p:grpSpPr>
            <a:xfrm>
              <a:off x="12123720" y="3405600"/>
              <a:ext cx="362880" cy="367920"/>
              <a:chOff x="12123720" y="3405600"/>
              <a:chExt cx="362880" cy="367920"/>
            </a:xfrm>
          </p:grpSpPr>
          <p:sp>
            <p:nvSpPr>
              <p:cNvPr id="1233" name=""/>
              <p:cNvSpPr/>
              <p:nvPr/>
            </p:nvSpPr>
            <p:spPr>
              <a:xfrm rot="16200000">
                <a:off x="12121200" y="3408120"/>
                <a:ext cx="367920" cy="362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6253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625358"/>
                  </a:path>
                </a:pathLst>
              </a:cu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 rot="16200000">
                <a:off x="12212640" y="3492720"/>
                <a:ext cx="11880" cy="186840"/>
              </a:xfrm>
              <a:prstGeom prst="rect">
                <a:avLst/>
              </a:prstGeom>
              <a:noFill/>
              <a:ln w="64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2314520" y="3567960"/>
                <a:ext cx="0" cy="212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6" name=""/>
            <p:cNvSpPr/>
            <p:nvPr/>
          </p:nvSpPr>
          <p:spPr>
            <a:xfrm>
              <a:off x="12328560" y="3397320"/>
              <a:ext cx="0" cy="203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12750840" y="3365640"/>
            <a:ext cx="362880" cy="367200"/>
            <a:chOff x="12750840" y="3365640"/>
            <a:chExt cx="362880" cy="367200"/>
          </a:xfrm>
        </p:grpSpPr>
        <p:sp>
          <p:nvSpPr>
            <p:cNvPr id="1238" name=""/>
            <p:cNvSpPr/>
            <p:nvPr/>
          </p:nvSpPr>
          <p:spPr>
            <a:xfrm rot="16200000">
              <a:off x="12748680" y="3367800"/>
              <a:ext cx="367200" cy="36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253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25358"/>
                </a:path>
              </a:pathLst>
            </a:custGeom>
            <a:noFill/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 rot="16200000">
              <a:off x="12840480" y="3453120"/>
              <a:ext cx="12600" cy="185760"/>
            </a:xfrm>
            <a:prstGeom prst="rect">
              <a:avLst/>
            </a:prstGeom>
            <a:noFill/>
            <a:ln w="6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12119040" y="3049560"/>
            <a:ext cx="362880" cy="376200"/>
            <a:chOff x="12119040" y="3049560"/>
            <a:chExt cx="362880" cy="376200"/>
          </a:xfrm>
        </p:grpSpPr>
        <p:grpSp>
          <p:nvGrpSpPr>
            <p:cNvPr id="1241" name=""/>
            <p:cNvGrpSpPr/>
            <p:nvPr/>
          </p:nvGrpSpPr>
          <p:grpSpPr>
            <a:xfrm>
              <a:off x="12119040" y="3057840"/>
              <a:ext cx="362880" cy="367920"/>
              <a:chOff x="12119040" y="3057840"/>
              <a:chExt cx="362880" cy="367920"/>
            </a:xfrm>
          </p:grpSpPr>
          <p:sp>
            <p:nvSpPr>
              <p:cNvPr id="1242" name=""/>
              <p:cNvSpPr/>
              <p:nvPr/>
            </p:nvSpPr>
            <p:spPr>
              <a:xfrm rot="16200000">
                <a:off x="12116520" y="3060360"/>
                <a:ext cx="367920" cy="362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6253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625358"/>
                  </a:path>
                </a:pathLst>
              </a:cu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 rot="16200000">
                <a:off x="12207960" y="3144960"/>
                <a:ext cx="11880" cy="186840"/>
              </a:xfrm>
              <a:prstGeom prst="rect">
                <a:avLst/>
              </a:prstGeom>
              <a:noFill/>
              <a:ln w="64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2309840" y="3220200"/>
                <a:ext cx="0" cy="212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5" name=""/>
            <p:cNvSpPr/>
            <p:nvPr/>
          </p:nvSpPr>
          <p:spPr>
            <a:xfrm>
              <a:off x="12323880" y="3049560"/>
              <a:ext cx="0" cy="203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6" name=""/>
          <p:cNvSpPr/>
          <p:nvPr/>
        </p:nvSpPr>
        <p:spPr>
          <a:xfrm rot="16200000">
            <a:off x="12171240" y="32014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echnical"/>
              </a:rPr>
              <a:t>PM 1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11958480" y="3616200"/>
            <a:ext cx="720720" cy="74880"/>
            <a:chOff x="11958480" y="3616200"/>
            <a:chExt cx="720720" cy="74880"/>
          </a:xfrm>
        </p:grpSpPr>
        <p:sp>
          <p:nvSpPr>
            <p:cNvPr id="1248" name=""/>
            <p:cNvSpPr/>
            <p:nvPr/>
          </p:nvSpPr>
          <p:spPr>
            <a:xfrm rot="16200000">
              <a:off x="12280680" y="3294000"/>
              <a:ext cx="74880" cy="71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1960280" y="3654360"/>
              <a:ext cx="718920" cy="0"/>
            </a:xfrm>
            <a:prstGeom prst="line">
              <a:avLst/>
            </a:prstGeom>
            <a:ln w="3168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12066480" y="3600360"/>
            <a:ext cx="35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echnical"/>
              </a:rPr>
              <a:t>V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rot="16200000">
            <a:off x="12334680" y="393804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echnical"/>
              </a:rPr>
              <a:t>PM 1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6795720" y="12252960"/>
            <a:ext cx="645840" cy="1291680"/>
            <a:chOff x="6795720" y="12252960"/>
            <a:chExt cx="645840" cy="1291680"/>
          </a:xfrm>
        </p:grpSpPr>
        <p:grpSp>
          <p:nvGrpSpPr>
            <p:cNvPr id="1253" name=""/>
            <p:cNvGrpSpPr/>
            <p:nvPr/>
          </p:nvGrpSpPr>
          <p:grpSpPr>
            <a:xfrm>
              <a:off x="6795720" y="12898080"/>
              <a:ext cx="641160" cy="646560"/>
              <a:chOff x="6795720" y="12898080"/>
              <a:chExt cx="641160" cy="646560"/>
            </a:xfrm>
          </p:grpSpPr>
          <p:sp>
            <p:nvSpPr>
              <p:cNvPr id="1254" name=""/>
              <p:cNvSpPr/>
              <p:nvPr/>
            </p:nvSpPr>
            <p:spPr>
              <a:xfrm flipH="1" flipV="1" rot="5400000">
                <a:off x="6792480" y="12900600"/>
                <a:ext cx="646560" cy="64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 rot="5400000">
                <a:off x="6950880" y="13059000"/>
                <a:ext cx="14400" cy="324000"/>
              </a:xfrm>
              <a:prstGeom prst="rect">
                <a:avLst/>
              </a:pr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6800760" y="12252960"/>
              <a:ext cx="640800" cy="646560"/>
              <a:chOff x="6800760" y="12252960"/>
              <a:chExt cx="640800" cy="646560"/>
            </a:xfrm>
          </p:grpSpPr>
          <p:sp>
            <p:nvSpPr>
              <p:cNvPr id="1257" name=""/>
              <p:cNvSpPr/>
              <p:nvPr/>
            </p:nvSpPr>
            <p:spPr>
              <a:xfrm flipV="1" rot="5400000">
                <a:off x="6798240" y="12256200"/>
                <a:ext cx="646560" cy="64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rot="5400000">
                <a:off x="6955200" y="12414600"/>
                <a:ext cx="14400" cy="323640"/>
              </a:xfrm>
              <a:prstGeom prst="rect">
                <a:avLst/>
              </a:pr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9" name=""/>
          <p:cNvSpPr/>
          <p:nvPr/>
        </p:nvSpPr>
        <p:spPr>
          <a:xfrm flipH="1">
            <a:off x="8265960" y="5908680"/>
            <a:ext cx="11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8134200" y="5560560"/>
            <a:ext cx="1291680" cy="645840"/>
            <a:chOff x="8134200" y="5560560"/>
            <a:chExt cx="1291680" cy="645840"/>
          </a:xfrm>
        </p:grpSpPr>
        <p:grpSp>
          <p:nvGrpSpPr>
            <p:cNvPr id="1261" name=""/>
            <p:cNvGrpSpPr/>
            <p:nvPr/>
          </p:nvGrpSpPr>
          <p:grpSpPr>
            <a:xfrm>
              <a:off x="8134200" y="5560560"/>
              <a:ext cx="646560" cy="641160"/>
              <a:chOff x="8134200" y="5560560"/>
              <a:chExt cx="646560" cy="641160"/>
            </a:xfrm>
          </p:grpSpPr>
          <p:sp>
            <p:nvSpPr>
              <p:cNvPr id="1262" name=""/>
              <p:cNvSpPr/>
              <p:nvPr/>
            </p:nvSpPr>
            <p:spPr>
              <a:xfrm flipH="1" flipV="1" rot="10800000">
                <a:off x="8134200" y="5560200"/>
                <a:ext cx="646560" cy="64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 rot="10800000">
                <a:off x="8450640" y="5560920"/>
                <a:ext cx="14400" cy="324000"/>
              </a:xfrm>
              <a:prstGeom prst="rect">
                <a:avLst/>
              </a:pr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8779320" y="5565600"/>
              <a:ext cx="646560" cy="640800"/>
              <a:chOff x="8779320" y="5565600"/>
              <a:chExt cx="646560" cy="640800"/>
            </a:xfrm>
          </p:grpSpPr>
          <p:sp>
            <p:nvSpPr>
              <p:cNvPr id="1265" name=""/>
              <p:cNvSpPr/>
              <p:nvPr/>
            </p:nvSpPr>
            <p:spPr>
              <a:xfrm flipV="1" rot="10800000">
                <a:off x="8779320" y="5566320"/>
                <a:ext cx="646560" cy="64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10800000">
                <a:off x="9095040" y="5565600"/>
                <a:ext cx="14400" cy="323640"/>
              </a:xfrm>
              <a:prstGeom prst="rect">
                <a:avLst/>
              </a:prstGeom>
              <a:noFill/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7" name=""/>
          <p:cNvSpPr/>
          <p:nvPr/>
        </p:nvSpPr>
        <p:spPr>
          <a:xfrm>
            <a:off x="12933360" y="4443480"/>
            <a:ext cx="14436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1744280" y="3009960"/>
            <a:ext cx="54000" cy="2221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12425400" y="2965320"/>
            <a:ext cx="309600" cy="112680"/>
            <a:chOff x="12425400" y="2965320"/>
            <a:chExt cx="309600" cy="112680"/>
          </a:xfrm>
        </p:grpSpPr>
        <p:sp>
          <p:nvSpPr>
            <p:cNvPr id="1270" name=""/>
            <p:cNvSpPr/>
            <p:nvPr/>
          </p:nvSpPr>
          <p:spPr>
            <a:xfrm>
              <a:off x="12488760" y="2967120"/>
              <a:ext cx="0" cy="1080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2552480" y="2970360"/>
              <a:ext cx="0" cy="1076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2612600" y="2970360"/>
              <a:ext cx="0" cy="1076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2673080" y="2970360"/>
              <a:ext cx="0" cy="1076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2425400" y="2965320"/>
              <a:ext cx="309600" cy="10800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12544560" y="4718160"/>
            <a:ext cx="112680" cy="309600"/>
            <a:chOff x="12544560" y="4718160"/>
            <a:chExt cx="112680" cy="309600"/>
          </a:xfrm>
        </p:grpSpPr>
        <p:sp>
          <p:nvSpPr>
            <p:cNvPr id="1276" name=""/>
            <p:cNvSpPr/>
            <p:nvPr/>
          </p:nvSpPr>
          <p:spPr>
            <a:xfrm>
              <a:off x="12546360" y="4964400"/>
              <a:ext cx="108000" cy="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2549600" y="4900680"/>
              <a:ext cx="107640" cy="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2549600" y="4840560"/>
              <a:ext cx="107640" cy="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2549600" y="4780080"/>
              <a:ext cx="107640" cy="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rot="16200000">
              <a:off x="12443760" y="4818960"/>
              <a:ext cx="309600" cy="10800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1" name=""/>
          <p:cNvSpPr/>
          <p:nvPr/>
        </p:nvSpPr>
        <p:spPr>
          <a:xfrm>
            <a:off x="9390240" y="444348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0551960" y="444348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11553840" y="3781440"/>
            <a:ext cx="136080" cy="74520"/>
            <a:chOff x="11553840" y="3781440"/>
            <a:chExt cx="136080" cy="74520"/>
          </a:xfrm>
        </p:grpSpPr>
        <p:sp>
          <p:nvSpPr>
            <p:cNvPr id="1284" name=""/>
            <p:cNvSpPr/>
            <p:nvPr/>
          </p:nvSpPr>
          <p:spPr>
            <a:xfrm rot="5400000">
              <a:off x="11615400" y="3781440"/>
              <a:ext cx="74520" cy="74520"/>
            </a:xfrm>
            <a:prstGeom prst="triangle">
              <a:avLst>
                <a:gd name="adj" fmla="val 50000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553840" y="3819600"/>
              <a:ext cx="61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11544480" y="3147840"/>
            <a:ext cx="136080" cy="74520"/>
            <a:chOff x="11544480" y="3147840"/>
            <a:chExt cx="136080" cy="74520"/>
          </a:xfrm>
        </p:grpSpPr>
        <p:sp>
          <p:nvSpPr>
            <p:cNvPr id="1287" name=""/>
            <p:cNvSpPr/>
            <p:nvPr/>
          </p:nvSpPr>
          <p:spPr>
            <a:xfrm rot="5400000">
              <a:off x="11606040" y="3147840"/>
              <a:ext cx="74520" cy="74520"/>
            </a:xfrm>
            <a:prstGeom prst="triangle">
              <a:avLst>
                <a:gd name="adj" fmla="val 50000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1544480" y="3186000"/>
              <a:ext cx="61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14474880" y="5886360"/>
            <a:ext cx="7128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143840" y="12203280"/>
            <a:ext cx="0" cy="143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6532920" y="12870000"/>
            <a:ext cx="288360" cy="74520"/>
            <a:chOff x="6532920" y="12870000"/>
            <a:chExt cx="288360" cy="74520"/>
          </a:xfrm>
        </p:grpSpPr>
        <p:sp>
          <p:nvSpPr>
            <p:cNvPr id="1292" name=""/>
            <p:cNvSpPr/>
            <p:nvPr/>
          </p:nvSpPr>
          <p:spPr>
            <a:xfrm rot="5400000">
              <a:off x="6746760" y="12870000"/>
              <a:ext cx="74520" cy="74520"/>
            </a:xfrm>
            <a:prstGeom prst="triangle">
              <a:avLst>
                <a:gd name="adj" fmla="val 50000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532920" y="12907800"/>
              <a:ext cx="214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14474880" y="4444920"/>
            <a:ext cx="7128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7557920" y="4441680"/>
            <a:ext cx="7128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7430840" y="4730760"/>
            <a:ext cx="1332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6027560" y="288936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7557920" y="2887560"/>
            <a:ext cx="7128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9227960" y="288288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7562600" y="5192640"/>
            <a:ext cx="65160" cy="67644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7556120" y="588024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0669400" y="587376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9904040" y="3578400"/>
            <a:ext cx="71640" cy="10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0689920" y="288288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21258000" y="2957040"/>
            <a:ext cx="144360" cy="216360"/>
            <a:chOff x="21258000" y="2957040"/>
            <a:chExt cx="144360" cy="216360"/>
          </a:xfrm>
        </p:grpSpPr>
        <p:sp>
          <p:nvSpPr>
            <p:cNvPr id="1306" name=""/>
            <p:cNvSpPr/>
            <p:nvPr/>
          </p:nvSpPr>
          <p:spPr>
            <a:xfrm flipH="1" flipV="1">
              <a:off x="21276000" y="3012840"/>
              <a:ext cx="115920" cy="160560"/>
            </a:xfrm>
            <a:custGeom>
              <a:avLst/>
              <a:gdLst/>
              <a:ahLst/>
              <a:rect l="l" t="t" r="r" b="b"/>
              <a:pathLst>
                <a:path w="236" h="302">
                  <a:moveTo>
                    <a:pt x="218" y="299"/>
                  </a:moveTo>
                  <a:lnTo>
                    <a:pt x="233" y="231"/>
                  </a:lnTo>
                  <a:lnTo>
                    <a:pt x="236" y="200"/>
                  </a:lnTo>
                  <a:lnTo>
                    <a:pt x="235" y="170"/>
                  </a:lnTo>
                  <a:lnTo>
                    <a:pt x="233" y="144"/>
                  </a:lnTo>
                  <a:lnTo>
                    <a:pt x="229" y="114"/>
                  </a:lnTo>
                  <a:lnTo>
                    <a:pt x="222" y="83"/>
                  </a:lnTo>
                  <a:lnTo>
                    <a:pt x="213" y="53"/>
                  </a:lnTo>
                  <a:lnTo>
                    <a:pt x="208" y="40"/>
                  </a:lnTo>
                  <a:lnTo>
                    <a:pt x="178" y="11"/>
                  </a:lnTo>
                  <a:lnTo>
                    <a:pt x="161" y="5"/>
                  </a:lnTo>
                  <a:lnTo>
                    <a:pt x="152" y="2"/>
                  </a:lnTo>
                  <a:lnTo>
                    <a:pt x="135" y="0"/>
                  </a:lnTo>
                  <a:lnTo>
                    <a:pt x="131" y="0"/>
                  </a:lnTo>
                  <a:lnTo>
                    <a:pt x="119" y="0"/>
                  </a:lnTo>
                  <a:lnTo>
                    <a:pt x="105" y="0"/>
                  </a:lnTo>
                  <a:lnTo>
                    <a:pt x="98" y="0"/>
                  </a:lnTo>
                  <a:lnTo>
                    <a:pt x="84" y="2"/>
                  </a:lnTo>
                  <a:lnTo>
                    <a:pt x="75" y="5"/>
                  </a:lnTo>
                  <a:lnTo>
                    <a:pt x="58" y="11"/>
                  </a:lnTo>
                  <a:lnTo>
                    <a:pt x="28" y="40"/>
                  </a:lnTo>
                  <a:lnTo>
                    <a:pt x="22" y="53"/>
                  </a:lnTo>
                  <a:lnTo>
                    <a:pt x="14" y="83"/>
                  </a:lnTo>
                  <a:lnTo>
                    <a:pt x="6" y="114"/>
                  </a:lnTo>
                  <a:lnTo>
                    <a:pt x="2" y="144"/>
                  </a:lnTo>
                  <a:lnTo>
                    <a:pt x="0" y="170"/>
                  </a:lnTo>
                  <a:lnTo>
                    <a:pt x="0" y="200"/>
                  </a:lnTo>
                  <a:lnTo>
                    <a:pt x="3" y="231"/>
                  </a:lnTo>
                  <a:lnTo>
                    <a:pt x="14" y="302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21291840" y="3038400"/>
              <a:ext cx="85680" cy="12384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115" y="188"/>
                  </a:moveTo>
                  <a:lnTo>
                    <a:pt x="140" y="179"/>
                  </a:lnTo>
                  <a:lnTo>
                    <a:pt x="161" y="138"/>
                  </a:lnTo>
                  <a:lnTo>
                    <a:pt x="156" y="79"/>
                  </a:lnTo>
                  <a:lnTo>
                    <a:pt x="145" y="34"/>
                  </a:lnTo>
                  <a:lnTo>
                    <a:pt x="135" y="15"/>
                  </a:lnTo>
                  <a:lnTo>
                    <a:pt x="114" y="3"/>
                  </a:lnTo>
                  <a:lnTo>
                    <a:pt x="106" y="3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47" y="3"/>
                  </a:lnTo>
                  <a:lnTo>
                    <a:pt x="26" y="15"/>
                  </a:lnTo>
                  <a:lnTo>
                    <a:pt x="16" y="34"/>
                  </a:lnTo>
                  <a:lnTo>
                    <a:pt x="6" y="79"/>
                  </a:lnTo>
                  <a:lnTo>
                    <a:pt x="0" y="138"/>
                  </a:lnTo>
                  <a:lnTo>
                    <a:pt x="21" y="179"/>
                  </a:lnTo>
                  <a:lnTo>
                    <a:pt x="46" y="188"/>
                  </a:lnTo>
                  <a:lnTo>
                    <a:pt x="81" y="191"/>
                  </a:lnTo>
                  <a:lnTo>
                    <a:pt x="115" y="188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 flipV="1">
              <a:off x="21257640" y="2956680"/>
              <a:ext cx="144360" cy="57240"/>
            </a:xfrm>
            <a:custGeom>
              <a:avLst/>
              <a:gdLst/>
              <a:ahLst/>
              <a:rect l="l" t="t" r="r" b="b"/>
              <a:pathLst>
                <a:path w="274" h="97">
                  <a:moveTo>
                    <a:pt x="13" y="0"/>
                  </a:moveTo>
                  <a:lnTo>
                    <a:pt x="10" y="0"/>
                  </a:lnTo>
                  <a:lnTo>
                    <a:pt x="5" y="3"/>
                  </a:lnTo>
                  <a:lnTo>
                    <a:pt x="4" y="9"/>
                  </a:lnTo>
                  <a:lnTo>
                    <a:pt x="4" y="19"/>
                  </a:lnTo>
                  <a:lnTo>
                    <a:pt x="4" y="37"/>
                  </a:lnTo>
                  <a:lnTo>
                    <a:pt x="4" y="42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4" y="53"/>
                  </a:lnTo>
                  <a:lnTo>
                    <a:pt x="4" y="88"/>
                  </a:lnTo>
                  <a:lnTo>
                    <a:pt x="6" y="93"/>
                  </a:lnTo>
                  <a:lnTo>
                    <a:pt x="12" y="97"/>
                  </a:lnTo>
                  <a:lnTo>
                    <a:pt x="14" y="97"/>
                  </a:lnTo>
                  <a:lnTo>
                    <a:pt x="131" y="97"/>
                  </a:lnTo>
                  <a:lnTo>
                    <a:pt x="247" y="97"/>
                  </a:lnTo>
                  <a:lnTo>
                    <a:pt x="248" y="97"/>
                  </a:lnTo>
                  <a:lnTo>
                    <a:pt x="255" y="93"/>
                  </a:lnTo>
                  <a:lnTo>
                    <a:pt x="257" y="88"/>
                  </a:lnTo>
                  <a:lnTo>
                    <a:pt x="257" y="53"/>
                  </a:lnTo>
                  <a:lnTo>
                    <a:pt x="259" y="53"/>
                  </a:lnTo>
                  <a:lnTo>
                    <a:pt x="261" y="47"/>
                  </a:lnTo>
                  <a:lnTo>
                    <a:pt x="259" y="44"/>
                  </a:lnTo>
                  <a:lnTo>
                    <a:pt x="259" y="42"/>
                  </a:lnTo>
                  <a:lnTo>
                    <a:pt x="257" y="42"/>
                  </a:lnTo>
                  <a:lnTo>
                    <a:pt x="257" y="37"/>
                  </a:lnTo>
                  <a:lnTo>
                    <a:pt x="265" y="37"/>
                  </a:lnTo>
                  <a:lnTo>
                    <a:pt x="265" y="38"/>
                  </a:lnTo>
                  <a:lnTo>
                    <a:pt x="274" y="38"/>
                  </a:lnTo>
                  <a:lnTo>
                    <a:pt x="274" y="28"/>
                  </a:lnTo>
                  <a:lnTo>
                    <a:pt x="274" y="18"/>
                  </a:lnTo>
                  <a:lnTo>
                    <a:pt x="265" y="18"/>
                  </a:lnTo>
                  <a:lnTo>
                    <a:pt x="265" y="19"/>
                  </a:lnTo>
                  <a:lnTo>
                    <a:pt x="257" y="19"/>
                  </a:lnTo>
                  <a:lnTo>
                    <a:pt x="257" y="9"/>
                  </a:lnTo>
                  <a:lnTo>
                    <a:pt x="255" y="3"/>
                  </a:lnTo>
                  <a:lnTo>
                    <a:pt x="250" y="0"/>
                  </a:lnTo>
                  <a:lnTo>
                    <a:pt x="247" y="0"/>
                  </a:lnTo>
                  <a:lnTo>
                    <a:pt x="131" y="0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 flipV="1">
              <a:off x="21322080" y="3061440"/>
              <a:ext cx="23760" cy="3492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2" y="9"/>
                  </a:moveTo>
                  <a:lnTo>
                    <a:pt x="24" y="0"/>
                  </a:lnTo>
                  <a:lnTo>
                    <a:pt x="5" y="9"/>
                  </a:lnTo>
                  <a:lnTo>
                    <a:pt x="0" y="22"/>
                  </a:lnTo>
                  <a:lnTo>
                    <a:pt x="0" y="59"/>
                  </a:lnTo>
                  <a:lnTo>
                    <a:pt x="46" y="59"/>
                  </a:lnTo>
                  <a:lnTo>
                    <a:pt x="46" y="22"/>
                  </a:lnTo>
                  <a:lnTo>
                    <a:pt x="42" y="9"/>
                  </a:lnTo>
                </a:path>
              </a:pathLst>
            </a:custGeom>
            <a:noFill/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21182040" y="3379320"/>
            <a:ext cx="448200" cy="434520"/>
            <a:chOff x="21182040" y="3379320"/>
            <a:chExt cx="448200" cy="434520"/>
          </a:xfrm>
        </p:grpSpPr>
        <p:sp>
          <p:nvSpPr>
            <p:cNvPr id="1311" name=""/>
            <p:cNvSpPr/>
            <p:nvPr/>
          </p:nvSpPr>
          <p:spPr>
            <a:xfrm flipH="1">
              <a:off x="21193200" y="3379320"/>
              <a:ext cx="43704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253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25358"/>
                </a:path>
              </a:pathLst>
            </a:cu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1400920" y="3382560"/>
              <a:ext cx="14400" cy="223920"/>
            </a:xfrm>
            <a:prstGeom prst="rect">
              <a:avLst/>
            </a:prstGeom>
            <a:noFill/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16200000">
              <a:off x="21267000" y="3519720"/>
              <a:ext cx="5724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20824920" y="2933280"/>
            <a:ext cx="108000" cy="290520"/>
            <a:chOff x="20824920" y="2933280"/>
            <a:chExt cx="108000" cy="290520"/>
          </a:xfrm>
        </p:grpSpPr>
        <p:sp>
          <p:nvSpPr>
            <p:cNvPr id="1315" name=""/>
            <p:cNvSpPr/>
            <p:nvPr/>
          </p:nvSpPr>
          <p:spPr>
            <a:xfrm rot="10800000">
              <a:off x="20824920" y="3116160"/>
              <a:ext cx="108000" cy="107640"/>
            </a:xfrm>
            <a:prstGeom prst="ellipse">
              <a:avLst/>
            </a:prstGeom>
            <a:noFill/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20878920" y="2933280"/>
              <a:ext cx="0" cy="1796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"/>
          <p:cNvSpPr/>
          <p:nvPr/>
        </p:nvSpPr>
        <p:spPr>
          <a:xfrm>
            <a:off x="22101120" y="15670080"/>
            <a:ext cx="716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317760" y="2871720"/>
            <a:ext cx="0" cy="15082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3278160" y="2881440"/>
            <a:ext cx="74520" cy="87120"/>
            <a:chOff x="3278160" y="2881440"/>
            <a:chExt cx="74520" cy="87120"/>
          </a:xfrm>
        </p:grpSpPr>
        <p:grpSp>
          <p:nvGrpSpPr>
            <p:cNvPr id="1320" name=""/>
            <p:cNvGrpSpPr/>
            <p:nvPr/>
          </p:nvGrpSpPr>
          <p:grpSpPr>
            <a:xfrm>
              <a:off x="3278160" y="2886120"/>
              <a:ext cx="74520" cy="71280"/>
              <a:chOff x="3278160" y="2886120"/>
              <a:chExt cx="74520" cy="71280"/>
            </a:xfrm>
          </p:grpSpPr>
          <p:sp>
            <p:nvSpPr>
              <p:cNvPr id="1321" name=""/>
              <p:cNvSpPr/>
              <p:nvPr/>
            </p:nvSpPr>
            <p:spPr>
              <a:xfrm>
                <a:off x="3278160" y="288612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281400" y="295740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3" name=""/>
            <p:cNvSpPr/>
            <p:nvPr/>
          </p:nvSpPr>
          <p:spPr>
            <a:xfrm>
              <a:off x="3308400" y="288144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305160" y="294480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3276720" y="4441680"/>
            <a:ext cx="74520" cy="87120"/>
            <a:chOff x="3276720" y="4441680"/>
            <a:chExt cx="74520" cy="87120"/>
          </a:xfrm>
        </p:grpSpPr>
        <p:grpSp>
          <p:nvGrpSpPr>
            <p:cNvPr id="1326" name=""/>
            <p:cNvGrpSpPr/>
            <p:nvPr/>
          </p:nvGrpSpPr>
          <p:grpSpPr>
            <a:xfrm>
              <a:off x="3276720" y="4446360"/>
              <a:ext cx="74520" cy="71280"/>
              <a:chOff x="3276720" y="4446360"/>
              <a:chExt cx="74520" cy="71280"/>
            </a:xfrm>
          </p:grpSpPr>
          <p:sp>
            <p:nvSpPr>
              <p:cNvPr id="1327" name=""/>
              <p:cNvSpPr/>
              <p:nvPr/>
            </p:nvSpPr>
            <p:spPr>
              <a:xfrm>
                <a:off x="3276720" y="444636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279960" y="451764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9" name=""/>
            <p:cNvSpPr/>
            <p:nvPr/>
          </p:nvSpPr>
          <p:spPr>
            <a:xfrm>
              <a:off x="3306960" y="444168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303720" y="450504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3276720" y="5956200"/>
            <a:ext cx="74520" cy="87120"/>
            <a:chOff x="3276720" y="5956200"/>
            <a:chExt cx="74520" cy="87120"/>
          </a:xfrm>
        </p:grpSpPr>
        <p:grpSp>
          <p:nvGrpSpPr>
            <p:cNvPr id="1332" name=""/>
            <p:cNvGrpSpPr/>
            <p:nvPr/>
          </p:nvGrpSpPr>
          <p:grpSpPr>
            <a:xfrm>
              <a:off x="3276720" y="5960880"/>
              <a:ext cx="74520" cy="71280"/>
              <a:chOff x="3276720" y="5960880"/>
              <a:chExt cx="74520" cy="71280"/>
            </a:xfrm>
          </p:grpSpPr>
          <p:sp>
            <p:nvSpPr>
              <p:cNvPr id="1333" name=""/>
              <p:cNvSpPr/>
              <p:nvPr/>
            </p:nvSpPr>
            <p:spPr>
              <a:xfrm>
                <a:off x="3276720" y="596088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3279960" y="603216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5" name=""/>
            <p:cNvSpPr/>
            <p:nvPr/>
          </p:nvSpPr>
          <p:spPr>
            <a:xfrm>
              <a:off x="3306960" y="595620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303720" y="601956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3274920" y="7499520"/>
            <a:ext cx="74520" cy="87120"/>
            <a:chOff x="3274920" y="7499520"/>
            <a:chExt cx="74520" cy="87120"/>
          </a:xfrm>
        </p:grpSpPr>
        <p:grpSp>
          <p:nvGrpSpPr>
            <p:cNvPr id="1338" name=""/>
            <p:cNvGrpSpPr/>
            <p:nvPr/>
          </p:nvGrpSpPr>
          <p:grpSpPr>
            <a:xfrm>
              <a:off x="3274920" y="7504200"/>
              <a:ext cx="74520" cy="71280"/>
              <a:chOff x="3274920" y="7504200"/>
              <a:chExt cx="74520" cy="71280"/>
            </a:xfrm>
          </p:grpSpPr>
          <p:sp>
            <p:nvSpPr>
              <p:cNvPr id="1339" name=""/>
              <p:cNvSpPr/>
              <p:nvPr/>
            </p:nvSpPr>
            <p:spPr>
              <a:xfrm>
                <a:off x="3274920" y="750420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278160" y="757548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3305160" y="749952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301920" y="756288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3" name=""/>
          <p:cNvGrpSpPr/>
          <p:nvPr/>
        </p:nvGrpSpPr>
        <p:grpSpPr>
          <a:xfrm>
            <a:off x="3279600" y="9042480"/>
            <a:ext cx="74520" cy="87120"/>
            <a:chOff x="3279600" y="9042480"/>
            <a:chExt cx="74520" cy="87120"/>
          </a:xfrm>
        </p:grpSpPr>
        <p:grpSp>
          <p:nvGrpSpPr>
            <p:cNvPr id="1344" name=""/>
            <p:cNvGrpSpPr/>
            <p:nvPr/>
          </p:nvGrpSpPr>
          <p:grpSpPr>
            <a:xfrm>
              <a:off x="3279600" y="9047160"/>
              <a:ext cx="74520" cy="71280"/>
              <a:chOff x="3279600" y="9047160"/>
              <a:chExt cx="74520" cy="71280"/>
            </a:xfrm>
          </p:grpSpPr>
          <p:sp>
            <p:nvSpPr>
              <p:cNvPr id="1345" name=""/>
              <p:cNvSpPr/>
              <p:nvPr/>
            </p:nvSpPr>
            <p:spPr>
              <a:xfrm>
                <a:off x="3279600" y="904716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282840" y="911844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7" name=""/>
            <p:cNvSpPr/>
            <p:nvPr/>
          </p:nvSpPr>
          <p:spPr>
            <a:xfrm>
              <a:off x="3309840" y="904248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306600" y="910584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3273480" y="10586880"/>
            <a:ext cx="74520" cy="87120"/>
            <a:chOff x="3273480" y="10586880"/>
            <a:chExt cx="74520" cy="87120"/>
          </a:xfrm>
        </p:grpSpPr>
        <p:grpSp>
          <p:nvGrpSpPr>
            <p:cNvPr id="1350" name=""/>
            <p:cNvGrpSpPr/>
            <p:nvPr/>
          </p:nvGrpSpPr>
          <p:grpSpPr>
            <a:xfrm>
              <a:off x="3273480" y="10591560"/>
              <a:ext cx="74520" cy="71280"/>
              <a:chOff x="3273480" y="10591560"/>
              <a:chExt cx="74520" cy="71280"/>
            </a:xfrm>
          </p:grpSpPr>
          <p:sp>
            <p:nvSpPr>
              <p:cNvPr id="1351" name=""/>
              <p:cNvSpPr/>
              <p:nvPr/>
            </p:nvSpPr>
            <p:spPr>
              <a:xfrm>
                <a:off x="3273480" y="1059156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276720" y="1066284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3303720" y="1058688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300480" y="1065024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5" name=""/>
          <p:cNvGrpSpPr/>
          <p:nvPr/>
        </p:nvGrpSpPr>
        <p:grpSpPr>
          <a:xfrm>
            <a:off x="3273480" y="12123720"/>
            <a:ext cx="74520" cy="87120"/>
            <a:chOff x="3273480" y="12123720"/>
            <a:chExt cx="74520" cy="87120"/>
          </a:xfrm>
        </p:grpSpPr>
        <p:grpSp>
          <p:nvGrpSpPr>
            <p:cNvPr id="1356" name=""/>
            <p:cNvGrpSpPr/>
            <p:nvPr/>
          </p:nvGrpSpPr>
          <p:grpSpPr>
            <a:xfrm>
              <a:off x="3273480" y="12128400"/>
              <a:ext cx="74520" cy="71280"/>
              <a:chOff x="3273480" y="12128400"/>
              <a:chExt cx="74520" cy="71280"/>
            </a:xfrm>
          </p:grpSpPr>
          <p:sp>
            <p:nvSpPr>
              <p:cNvPr id="1357" name=""/>
              <p:cNvSpPr/>
              <p:nvPr/>
            </p:nvSpPr>
            <p:spPr>
              <a:xfrm>
                <a:off x="3273480" y="1212840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276720" y="1219968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9" name=""/>
            <p:cNvSpPr/>
            <p:nvPr/>
          </p:nvSpPr>
          <p:spPr>
            <a:xfrm>
              <a:off x="3303720" y="1212372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300480" y="1218708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3274920" y="13642920"/>
            <a:ext cx="74520" cy="87120"/>
            <a:chOff x="3274920" y="13642920"/>
            <a:chExt cx="74520" cy="87120"/>
          </a:xfrm>
        </p:grpSpPr>
        <p:grpSp>
          <p:nvGrpSpPr>
            <p:cNvPr id="1362" name=""/>
            <p:cNvGrpSpPr/>
            <p:nvPr/>
          </p:nvGrpSpPr>
          <p:grpSpPr>
            <a:xfrm>
              <a:off x="3274920" y="13647600"/>
              <a:ext cx="74520" cy="71280"/>
              <a:chOff x="3274920" y="13647600"/>
              <a:chExt cx="74520" cy="71280"/>
            </a:xfrm>
          </p:grpSpPr>
          <p:sp>
            <p:nvSpPr>
              <p:cNvPr id="1363" name=""/>
              <p:cNvSpPr/>
              <p:nvPr/>
            </p:nvSpPr>
            <p:spPr>
              <a:xfrm>
                <a:off x="3274920" y="1364760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3278160" y="1371888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5" name=""/>
            <p:cNvSpPr/>
            <p:nvPr/>
          </p:nvSpPr>
          <p:spPr>
            <a:xfrm>
              <a:off x="3305160" y="1364292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301920" y="1370628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3270240" y="15181200"/>
            <a:ext cx="74520" cy="87120"/>
            <a:chOff x="3270240" y="15181200"/>
            <a:chExt cx="74520" cy="87120"/>
          </a:xfrm>
        </p:grpSpPr>
        <p:grpSp>
          <p:nvGrpSpPr>
            <p:cNvPr id="1368" name=""/>
            <p:cNvGrpSpPr/>
            <p:nvPr/>
          </p:nvGrpSpPr>
          <p:grpSpPr>
            <a:xfrm>
              <a:off x="3270240" y="15185880"/>
              <a:ext cx="74520" cy="71280"/>
              <a:chOff x="3270240" y="15185880"/>
              <a:chExt cx="74520" cy="71280"/>
            </a:xfrm>
          </p:grpSpPr>
          <p:sp>
            <p:nvSpPr>
              <p:cNvPr id="1369" name=""/>
              <p:cNvSpPr/>
              <p:nvPr/>
            </p:nvSpPr>
            <p:spPr>
              <a:xfrm>
                <a:off x="3270240" y="1518588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273480" y="1525716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1" name=""/>
            <p:cNvSpPr/>
            <p:nvPr/>
          </p:nvSpPr>
          <p:spPr>
            <a:xfrm>
              <a:off x="3300480" y="1518120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297240" y="1524456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3279600" y="16133760"/>
            <a:ext cx="73080" cy="82440"/>
            <a:chOff x="3279600" y="16133760"/>
            <a:chExt cx="73080" cy="82440"/>
          </a:xfrm>
        </p:grpSpPr>
        <p:grpSp>
          <p:nvGrpSpPr>
            <p:cNvPr id="1374" name=""/>
            <p:cNvGrpSpPr/>
            <p:nvPr/>
          </p:nvGrpSpPr>
          <p:grpSpPr>
            <a:xfrm>
              <a:off x="3279600" y="16146360"/>
              <a:ext cx="73080" cy="57240"/>
              <a:chOff x="3279600" y="16146360"/>
              <a:chExt cx="73080" cy="57240"/>
            </a:xfrm>
          </p:grpSpPr>
          <p:sp>
            <p:nvSpPr>
              <p:cNvPr id="1375" name=""/>
              <p:cNvSpPr/>
              <p:nvPr/>
            </p:nvSpPr>
            <p:spPr>
              <a:xfrm>
                <a:off x="3279600" y="1614636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281040" y="16203600"/>
                <a:ext cx="71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7" name=""/>
            <p:cNvSpPr/>
            <p:nvPr/>
          </p:nvSpPr>
          <p:spPr>
            <a:xfrm>
              <a:off x="3298680" y="16133760"/>
              <a:ext cx="3204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303720" y="1619244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9" name=""/>
          <p:cNvGrpSpPr/>
          <p:nvPr/>
        </p:nvGrpSpPr>
        <p:grpSpPr>
          <a:xfrm>
            <a:off x="3284640" y="17357760"/>
            <a:ext cx="73080" cy="82440"/>
            <a:chOff x="3284640" y="17357760"/>
            <a:chExt cx="73080" cy="82440"/>
          </a:xfrm>
        </p:grpSpPr>
        <p:grpSp>
          <p:nvGrpSpPr>
            <p:cNvPr id="1380" name=""/>
            <p:cNvGrpSpPr/>
            <p:nvPr/>
          </p:nvGrpSpPr>
          <p:grpSpPr>
            <a:xfrm>
              <a:off x="3284640" y="17370360"/>
              <a:ext cx="73080" cy="57240"/>
              <a:chOff x="3284640" y="17370360"/>
              <a:chExt cx="73080" cy="57240"/>
            </a:xfrm>
          </p:grpSpPr>
          <p:sp>
            <p:nvSpPr>
              <p:cNvPr id="1381" name=""/>
              <p:cNvSpPr/>
              <p:nvPr/>
            </p:nvSpPr>
            <p:spPr>
              <a:xfrm>
                <a:off x="3284640" y="1737036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3286080" y="17427600"/>
                <a:ext cx="71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3" name=""/>
            <p:cNvSpPr/>
            <p:nvPr/>
          </p:nvSpPr>
          <p:spPr>
            <a:xfrm>
              <a:off x="3303720" y="17357760"/>
              <a:ext cx="3204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08760" y="1741644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5" name=""/>
          <p:cNvSpPr/>
          <p:nvPr/>
        </p:nvSpPr>
        <p:spPr>
          <a:xfrm rot="16200000">
            <a:off x="3068280" y="281844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rot="16200000">
            <a:off x="3029040" y="365004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rot="16200000">
            <a:off x="3029040" y="49647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rot="16200000">
            <a:off x="3043440" y="68457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rot="16200000">
            <a:off x="3072960" y="437580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rot="16200000">
            <a:off x="3068280" y="589032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rot="16200000">
            <a:off x="3029040" y="81982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rot="16200000">
            <a:off x="3068280" y="743760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rot="16200000">
            <a:off x="3072960" y="898128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rot="16200000">
            <a:off x="3043440" y="9803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rot="16200000">
            <a:off x="3063600" y="1051956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rot="16200000">
            <a:off x="3033720" y="112240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rot="16200000">
            <a:off x="3063600" y="1205316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rot="16200000">
            <a:off x="3048120" y="128656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rot="16200000">
            <a:off x="3068280" y="1357704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rot="16200000">
            <a:off x="3033720" y="1427544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rot="16200000">
            <a:off x="3068280" y="1512000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rot="16200000">
            <a:off x="3046680" y="155833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rot="16200000">
            <a:off x="3071520" y="1607112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rot="16200000">
            <a:off x="3046680" y="166741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rot="16200000">
            <a:off x="3076200" y="1729440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376440" y="2784600"/>
            <a:ext cx="11196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3394080" y="2747520"/>
            <a:ext cx="93600" cy="74520"/>
            <a:chOff x="3394080" y="2747520"/>
            <a:chExt cx="93600" cy="74520"/>
          </a:xfrm>
        </p:grpSpPr>
        <p:grpSp>
          <p:nvGrpSpPr>
            <p:cNvPr id="1408" name=""/>
            <p:cNvGrpSpPr/>
            <p:nvPr/>
          </p:nvGrpSpPr>
          <p:grpSpPr>
            <a:xfrm>
              <a:off x="3405240" y="2747520"/>
              <a:ext cx="71280" cy="74520"/>
              <a:chOff x="3405240" y="2747520"/>
              <a:chExt cx="71280" cy="74520"/>
            </a:xfrm>
          </p:grpSpPr>
          <p:sp>
            <p:nvSpPr>
              <p:cNvPr id="1409" name=""/>
              <p:cNvSpPr/>
              <p:nvPr/>
            </p:nvSpPr>
            <p:spPr>
              <a:xfrm flipV="1">
                <a:off x="3405240" y="275076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V="1">
                <a:off x="3476520" y="274752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1" name=""/>
            <p:cNvSpPr/>
            <p:nvPr/>
          </p:nvSpPr>
          <p:spPr>
            <a:xfrm flipV="1">
              <a:off x="3394080" y="276876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3463920" y="276552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3275280" y="257328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126320" y="257652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5265720" y="2750760"/>
            <a:ext cx="93600" cy="74520"/>
            <a:chOff x="5265720" y="2750760"/>
            <a:chExt cx="93600" cy="74520"/>
          </a:xfrm>
        </p:grpSpPr>
        <p:grpSp>
          <p:nvGrpSpPr>
            <p:cNvPr id="1416" name=""/>
            <p:cNvGrpSpPr/>
            <p:nvPr/>
          </p:nvGrpSpPr>
          <p:grpSpPr>
            <a:xfrm>
              <a:off x="5276880" y="2750760"/>
              <a:ext cx="71280" cy="74520"/>
              <a:chOff x="5276880" y="2750760"/>
              <a:chExt cx="71280" cy="74520"/>
            </a:xfrm>
          </p:grpSpPr>
          <p:sp>
            <p:nvSpPr>
              <p:cNvPr id="1417" name=""/>
              <p:cNvSpPr/>
              <p:nvPr/>
            </p:nvSpPr>
            <p:spPr>
              <a:xfrm flipV="1">
                <a:off x="5276880" y="275400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V="1">
                <a:off x="5348160" y="275076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9" name=""/>
            <p:cNvSpPr/>
            <p:nvPr/>
          </p:nvSpPr>
          <p:spPr>
            <a:xfrm flipV="1">
              <a:off x="5265720" y="277200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5335560" y="276876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1" name=""/>
          <p:cNvSpPr/>
          <p:nvPr/>
        </p:nvSpPr>
        <p:spPr>
          <a:xfrm>
            <a:off x="5131080" y="257796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961760" y="257976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3" name=""/>
          <p:cNvGrpSpPr/>
          <p:nvPr/>
        </p:nvGrpSpPr>
        <p:grpSpPr>
          <a:xfrm>
            <a:off x="11595600" y="2576520"/>
            <a:ext cx="316440" cy="248760"/>
            <a:chOff x="11595600" y="2576520"/>
            <a:chExt cx="316440" cy="248760"/>
          </a:xfrm>
        </p:grpSpPr>
        <p:sp>
          <p:nvSpPr>
            <p:cNvPr id="1424" name=""/>
            <p:cNvSpPr/>
            <p:nvPr/>
          </p:nvSpPr>
          <p:spPr>
            <a:xfrm>
              <a:off x="11595600" y="257652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5" name=""/>
            <p:cNvGrpSpPr/>
            <p:nvPr/>
          </p:nvGrpSpPr>
          <p:grpSpPr>
            <a:xfrm>
              <a:off x="11714040" y="2750760"/>
              <a:ext cx="93600" cy="74520"/>
              <a:chOff x="11714040" y="2750760"/>
              <a:chExt cx="93600" cy="74520"/>
            </a:xfrm>
          </p:grpSpPr>
          <p:grpSp>
            <p:nvGrpSpPr>
              <p:cNvPr id="1426" name=""/>
              <p:cNvGrpSpPr/>
              <p:nvPr/>
            </p:nvGrpSpPr>
            <p:grpSpPr>
              <a:xfrm>
                <a:off x="11725200" y="2750760"/>
                <a:ext cx="71280" cy="74520"/>
                <a:chOff x="11725200" y="2750760"/>
                <a:chExt cx="71280" cy="74520"/>
              </a:xfrm>
            </p:grpSpPr>
            <p:sp>
              <p:nvSpPr>
                <p:cNvPr id="1427" name=""/>
                <p:cNvSpPr/>
                <p:nvPr/>
              </p:nvSpPr>
              <p:spPr>
                <a:xfrm flipV="1">
                  <a:off x="11725200" y="2754000"/>
                  <a:ext cx="0" cy="71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 flipV="1">
                  <a:off x="11796480" y="2750760"/>
                  <a:ext cx="0" cy="71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9" name=""/>
              <p:cNvSpPr/>
              <p:nvPr/>
            </p:nvSpPr>
            <p:spPr>
              <a:xfrm flipV="1">
                <a:off x="11714040" y="277200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V="1">
                <a:off x="11783880" y="276876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1" name=""/>
          <p:cNvGrpSpPr/>
          <p:nvPr/>
        </p:nvGrpSpPr>
        <p:grpSpPr>
          <a:xfrm>
            <a:off x="12920760" y="2754000"/>
            <a:ext cx="93600" cy="74520"/>
            <a:chOff x="12920760" y="2754000"/>
            <a:chExt cx="93600" cy="74520"/>
          </a:xfrm>
        </p:grpSpPr>
        <p:grpSp>
          <p:nvGrpSpPr>
            <p:cNvPr id="1432" name=""/>
            <p:cNvGrpSpPr/>
            <p:nvPr/>
          </p:nvGrpSpPr>
          <p:grpSpPr>
            <a:xfrm>
              <a:off x="12931920" y="2754000"/>
              <a:ext cx="71280" cy="74520"/>
              <a:chOff x="12931920" y="2754000"/>
              <a:chExt cx="71280" cy="74520"/>
            </a:xfrm>
          </p:grpSpPr>
          <p:sp>
            <p:nvSpPr>
              <p:cNvPr id="1433" name=""/>
              <p:cNvSpPr/>
              <p:nvPr/>
            </p:nvSpPr>
            <p:spPr>
              <a:xfrm flipV="1">
                <a:off x="12931920" y="275724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13003200" y="275400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5" name=""/>
            <p:cNvSpPr/>
            <p:nvPr/>
          </p:nvSpPr>
          <p:spPr>
            <a:xfrm flipV="1">
              <a:off x="12920760" y="277524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12990600" y="277200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7" name=""/>
          <p:cNvSpPr/>
          <p:nvPr/>
        </p:nvSpPr>
        <p:spPr>
          <a:xfrm>
            <a:off x="12805200" y="257328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2173760" y="25956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3608720" y="259884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14341680" y="2579760"/>
            <a:ext cx="316440" cy="246240"/>
            <a:chOff x="14341680" y="2579760"/>
            <a:chExt cx="316440" cy="246240"/>
          </a:xfrm>
        </p:grpSpPr>
        <p:grpSp>
          <p:nvGrpSpPr>
            <p:cNvPr id="1441" name=""/>
            <p:cNvGrpSpPr/>
            <p:nvPr/>
          </p:nvGrpSpPr>
          <p:grpSpPr>
            <a:xfrm>
              <a:off x="14460480" y="2747520"/>
              <a:ext cx="93600" cy="74520"/>
              <a:chOff x="14460480" y="2747520"/>
              <a:chExt cx="93600" cy="74520"/>
            </a:xfrm>
          </p:grpSpPr>
          <p:grpSp>
            <p:nvGrpSpPr>
              <p:cNvPr id="1442" name=""/>
              <p:cNvGrpSpPr/>
              <p:nvPr/>
            </p:nvGrpSpPr>
            <p:grpSpPr>
              <a:xfrm>
                <a:off x="14471640" y="2747520"/>
                <a:ext cx="71280" cy="74520"/>
                <a:chOff x="14471640" y="2747520"/>
                <a:chExt cx="71280" cy="74520"/>
              </a:xfrm>
            </p:grpSpPr>
            <p:sp>
              <p:nvSpPr>
                <p:cNvPr id="1443" name=""/>
                <p:cNvSpPr/>
                <p:nvPr/>
              </p:nvSpPr>
              <p:spPr>
                <a:xfrm flipV="1">
                  <a:off x="14471640" y="2750760"/>
                  <a:ext cx="0" cy="71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 flipV="1">
                  <a:off x="14542920" y="2747520"/>
                  <a:ext cx="0" cy="71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5" name=""/>
              <p:cNvSpPr/>
              <p:nvPr/>
            </p:nvSpPr>
            <p:spPr>
              <a:xfrm flipV="1">
                <a:off x="14460480" y="276876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V="1">
                <a:off x="14530320" y="276552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7" name=""/>
            <p:cNvSpPr/>
            <p:nvPr/>
          </p:nvSpPr>
          <p:spPr>
            <a:xfrm>
              <a:off x="14341680" y="257976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12846240" y="593892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12924000" y="5962680"/>
            <a:ext cx="23760" cy="71280"/>
            <a:chOff x="12924000" y="5962680"/>
            <a:chExt cx="23760" cy="71280"/>
          </a:xfrm>
        </p:grpSpPr>
        <p:sp>
          <p:nvSpPr>
            <p:cNvPr id="1450" name=""/>
            <p:cNvSpPr/>
            <p:nvPr/>
          </p:nvSpPr>
          <p:spPr>
            <a:xfrm flipV="1">
              <a:off x="12933360" y="5962680"/>
              <a:ext cx="0" cy="71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12924000" y="5981040"/>
              <a:ext cx="2376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13066560" y="5962680"/>
            <a:ext cx="23760" cy="71280"/>
            <a:chOff x="13066560" y="5962680"/>
            <a:chExt cx="23760" cy="71280"/>
          </a:xfrm>
        </p:grpSpPr>
        <p:sp>
          <p:nvSpPr>
            <p:cNvPr id="1453" name=""/>
            <p:cNvSpPr/>
            <p:nvPr/>
          </p:nvSpPr>
          <p:spPr>
            <a:xfrm flipV="1">
              <a:off x="13077720" y="5962680"/>
              <a:ext cx="0" cy="71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13066560" y="598140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12897000" y="5997600"/>
            <a:ext cx="218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4341320" y="6064200"/>
            <a:ext cx="898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9028520" y="58816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.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14460480" y="6017760"/>
            <a:ext cx="93600" cy="74520"/>
            <a:chOff x="14460480" y="6017760"/>
            <a:chExt cx="93600" cy="74520"/>
          </a:xfrm>
        </p:grpSpPr>
        <p:grpSp>
          <p:nvGrpSpPr>
            <p:cNvPr id="1459" name=""/>
            <p:cNvGrpSpPr/>
            <p:nvPr/>
          </p:nvGrpSpPr>
          <p:grpSpPr>
            <a:xfrm>
              <a:off x="14471640" y="6017760"/>
              <a:ext cx="71280" cy="74520"/>
              <a:chOff x="14471640" y="6017760"/>
              <a:chExt cx="71280" cy="74520"/>
            </a:xfrm>
          </p:grpSpPr>
          <p:sp>
            <p:nvSpPr>
              <p:cNvPr id="1460" name=""/>
              <p:cNvSpPr/>
              <p:nvPr/>
            </p:nvSpPr>
            <p:spPr>
              <a:xfrm flipV="1">
                <a:off x="14471640" y="602100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V="1">
                <a:off x="14542920" y="601776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2" name=""/>
            <p:cNvSpPr/>
            <p:nvPr/>
          </p:nvSpPr>
          <p:spPr>
            <a:xfrm flipV="1">
              <a:off x="14460480" y="603900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>
              <a:off x="14530320" y="603576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" name=""/>
          <p:cNvSpPr/>
          <p:nvPr/>
        </p:nvSpPr>
        <p:spPr>
          <a:xfrm>
            <a:off x="13163400" y="2940120"/>
            <a:ext cx="0" cy="1457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13131720" y="3613320"/>
            <a:ext cx="74520" cy="83880"/>
            <a:chOff x="13131720" y="3613320"/>
            <a:chExt cx="74520" cy="83880"/>
          </a:xfrm>
        </p:grpSpPr>
        <p:grpSp>
          <p:nvGrpSpPr>
            <p:cNvPr id="1466" name=""/>
            <p:cNvGrpSpPr/>
            <p:nvPr/>
          </p:nvGrpSpPr>
          <p:grpSpPr>
            <a:xfrm>
              <a:off x="13134960" y="3673440"/>
              <a:ext cx="71280" cy="23760"/>
              <a:chOff x="13134960" y="3673440"/>
              <a:chExt cx="71280" cy="23760"/>
            </a:xfrm>
          </p:grpSpPr>
          <p:sp>
            <p:nvSpPr>
              <p:cNvPr id="1467" name=""/>
              <p:cNvSpPr/>
              <p:nvPr/>
            </p:nvSpPr>
            <p:spPr>
              <a:xfrm flipH="1">
                <a:off x="13134960" y="368424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 flipV="1">
                <a:off x="13151880" y="3673440"/>
                <a:ext cx="3132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13131720" y="3613320"/>
              <a:ext cx="71280" cy="23760"/>
              <a:chOff x="13131720" y="3613320"/>
              <a:chExt cx="71280" cy="23760"/>
            </a:xfrm>
          </p:grpSpPr>
          <p:sp>
            <p:nvSpPr>
              <p:cNvPr id="1470" name=""/>
              <p:cNvSpPr/>
              <p:nvPr/>
            </p:nvSpPr>
            <p:spPr>
              <a:xfrm flipH="1">
                <a:off x="13131720" y="362628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H="1" flipV="1">
                <a:off x="13149000" y="361332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2" name=""/>
          <p:cNvSpPr/>
          <p:nvPr/>
        </p:nvSpPr>
        <p:spPr>
          <a:xfrm rot="16200000">
            <a:off x="12925080" y="354888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13128120" y="2937960"/>
            <a:ext cx="71640" cy="24120"/>
            <a:chOff x="13128120" y="2937960"/>
            <a:chExt cx="71640" cy="24120"/>
          </a:xfrm>
        </p:grpSpPr>
        <p:sp>
          <p:nvSpPr>
            <p:cNvPr id="1474" name=""/>
            <p:cNvSpPr/>
            <p:nvPr/>
          </p:nvSpPr>
          <p:spPr>
            <a:xfrm flipH="1">
              <a:off x="13128120" y="2950920"/>
              <a:ext cx="71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 flipV="1">
              <a:off x="13147560" y="2937960"/>
              <a:ext cx="31680" cy="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6" name=""/>
          <p:cNvSpPr/>
          <p:nvPr/>
        </p:nvSpPr>
        <p:spPr>
          <a:xfrm rot="16200000">
            <a:off x="12892320" y="313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rot="16200000">
            <a:off x="12893760" y="39423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13134960" y="4280040"/>
            <a:ext cx="74520" cy="83880"/>
            <a:chOff x="13134960" y="4280040"/>
            <a:chExt cx="74520" cy="83880"/>
          </a:xfrm>
        </p:grpSpPr>
        <p:grpSp>
          <p:nvGrpSpPr>
            <p:cNvPr id="1479" name=""/>
            <p:cNvGrpSpPr/>
            <p:nvPr/>
          </p:nvGrpSpPr>
          <p:grpSpPr>
            <a:xfrm>
              <a:off x="13138200" y="4340160"/>
              <a:ext cx="71280" cy="23760"/>
              <a:chOff x="13138200" y="4340160"/>
              <a:chExt cx="71280" cy="23760"/>
            </a:xfrm>
          </p:grpSpPr>
          <p:sp>
            <p:nvSpPr>
              <p:cNvPr id="1480" name=""/>
              <p:cNvSpPr/>
              <p:nvPr/>
            </p:nvSpPr>
            <p:spPr>
              <a:xfrm flipH="1">
                <a:off x="13138200" y="435096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H="1" flipV="1">
                <a:off x="13155120" y="4340160"/>
                <a:ext cx="3132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13134960" y="4280040"/>
              <a:ext cx="71280" cy="23760"/>
              <a:chOff x="13134960" y="4280040"/>
              <a:chExt cx="71280" cy="23760"/>
            </a:xfrm>
          </p:grpSpPr>
          <p:sp>
            <p:nvSpPr>
              <p:cNvPr id="1483" name=""/>
              <p:cNvSpPr/>
              <p:nvPr/>
            </p:nvSpPr>
            <p:spPr>
              <a:xfrm flipH="1">
                <a:off x="13134960" y="429300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 flipV="1">
                <a:off x="13152240" y="428004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5" name=""/>
          <p:cNvSpPr/>
          <p:nvPr/>
        </p:nvSpPr>
        <p:spPr>
          <a:xfrm rot="16200000">
            <a:off x="12925080" y="421236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4909760" y="2946240"/>
            <a:ext cx="0" cy="2997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"/>
          <p:cNvGrpSpPr/>
          <p:nvPr/>
        </p:nvGrpSpPr>
        <p:grpSpPr>
          <a:xfrm>
            <a:off x="14884560" y="2938320"/>
            <a:ext cx="71280" cy="23760"/>
            <a:chOff x="14884560" y="2938320"/>
            <a:chExt cx="71280" cy="23760"/>
          </a:xfrm>
        </p:grpSpPr>
        <p:sp>
          <p:nvSpPr>
            <p:cNvPr id="1488" name=""/>
            <p:cNvSpPr/>
            <p:nvPr/>
          </p:nvSpPr>
          <p:spPr>
            <a:xfrm flipH="1">
              <a:off x="14884560" y="2950920"/>
              <a:ext cx="7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 flipV="1">
              <a:off x="14903640" y="293832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14874840" y="5884920"/>
            <a:ext cx="71280" cy="23760"/>
            <a:chOff x="14874840" y="5884920"/>
            <a:chExt cx="71280" cy="23760"/>
          </a:xfrm>
        </p:grpSpPr>
        <p:sp>
          <p:nvSpPr>
            <p:cNvPr id="1491" name=""/>
            <p:cNvSpPr/>
            <p:nvPr/>
          </p:nvSpPr>
          <p:spPr>
            <a:xfrm flipH="1">
              <a:off x="14874840" y="5897520"/>
              <a:ext cx="7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 flipV="1">
              <a:off x="14893920" y="588492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3" name=""/>
          <p:cNvSpPr/>
          <p:nvPr/>
        </p:nvSpPr>
        <p:spPr>
          <a:xfrm>
            <a:off x="14348160" y="586260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5990120" y="58816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.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17546760" y="6027480"/>
            <a:ext cx="93600" cy="74520"/>
            <a:chOff x="17546760" y="6027480"/>
            <a:chExt cx="93600" cy="74520"/>
          </a:xfrm>
        </p:grpSpPr>
        <p:grpSp>
          <p:nvGrpSpPr>
            <p:cNvPr id="1496" name=""/>
            <p:cNvGrpSpPr/>
            <p:nvPr/>
          </p:nvGrpSpPr>
          <p:grpSpPr>
            <a:xfrm>
              <a:off x="17557920" y="6027480"/>
              <a:ext cx="71280" cy="74520"/>
              <a:chOff x="17557920" y="6027480"/>
              <a:chExt cx="71280" cy="74520"/>
            </a:xfrm>
          </p:grpSpPr>
          <p:sp>
            <p:nvSpPr>
              <p:cNvPr id="1497" name=""/>
              <p:cNvSpPr/>
              <p:nvPr/>
            </p:nvSpPr>
            <p:spPr>
              <a:xfrm flipV="1">
                <a:off x="17557920" y="603072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V="1">
                <a:off x="17629200" y="602748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9" name=""/>
            <p:cNvSpPr/>
            <p:nvPr/>
          </p:nvSpPr>
          <p:spPr>
            <a:xfrm flipV="1">
              <a:off x="17546760" y="604872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V="1">
              <a:off x="17616600" y="604548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1" name=""/>
          <p:cNvSpPr/>
          <p:nvPr/>
        </p:nvSpPr>
        <p:spPr>
          <a:xfrm>
            <a:off x="17424720" y="585612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0530080" y="585612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3" name=""/>
          <p:cNvGrpSpPr/>
          <p:nvPr/>
        </p:nvGrpSpPr>
        <p:grpSpPr>
          <a:xfrm>
            <a:off x="20655000" y="6030720"/>
            <a:ext cx="93600" cy="74520"/>
            <a:chOff x="20655000" y="6030720"/>
            <a:chExt cx="93600" cy="74520"/>
          </a:xfrm>
        </p:grpSpPr>
        <p:grpSp>
          <p:nvGrpSpPr>
            <p:cNvPr id="1504" name=""/>
            <p:cNvGrpSpPr/>
            <p:nvPr/>
          </p:nvGrpSpPr>
          <p:grpSpPr>
            <a:xfrm>
              <a:off x="20666160" y="6030720"/>
              <a:ext cx="71280" cy="74520"/>
              <a:chOff x="20666160" y="6030720"/>
              <a:chExt cx="71280" cy="74520"/>
            </a:xfrm>
          </p:grpSpPr>
          <p:sp>
            <p:nvSpPr>
              <p:cNvPr id="1505" name=""/>
              <p:cNvSpPr/>
              <p:nvPr/>
            </p:nvSpPr>
            <p:spPr>
              <a:xfrm flipV="1">
                <a:off x="20666160" y="603396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V="1">
                <a:off x="20737440" y="603072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 flipV="1">
              <a:off x="20655000" y="605196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V="1">
              <a:off x="20724840" y="604872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22032000" y="5888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.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6665480" y="1165320"/>
            <a:ext cx="10496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16580160" y="960480"/>
            <a:ext cx="316440" cy="246240"/>
            <a:chOff x="16580160" y="960480"/>
            <a:chExt cx="316440" cy="246240"/>
          </a:xfrm>
        </p:grpSpPr>
        <p:grpSp>
          <p:nvGrpSpPr>
            <p:cNvPr id="1512" name=""/>
            <p:cNvGrpSpPr/>
            <p:nvPr/>
          </p:nvGrpSpPr>
          <p:grpSpPr>
            <a:xfrm>
              <a:off x="16708320" y="1130040"/>
              <a:ext cx="23760" cy="71280"/>
              <a:chOff x="16708320" y="1130040"/>
              <a:chExt cx="23760" cy="71280"/>
            </a:xfrm>
          </p:grpSpPr>
          <p:sp>
            <p:nvSpPr>
              <p:cNvPr id="1513" name=""/>
              <p:cNvSpPr/>
              <p:nvPr/>
            </p:nvSpPr>
            <p:spPr>
              <a:xfrm flipV="1">
                <a:off x="16718040" y="113004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16708320" y="114912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5" name=""/>
            <p:cNvSpPr/>
            <p:nvPr/>
          </p:nvSpPr>
          <p:spPr>
            <a:xfrm>
              <a:off x="16580160" y="96048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6" name=""/>
            <p:cNvGrpSpPr/>
            <p:nvPr/>
          </p:nvGrpSpPr>
          <p:grpSpPr>
            <a:xfrm>
              <a:off x="16765560" y="1133280"/>
              <a:ext cx="23760" cy="71280"/>
              <a:chOff x="16765560" y="1133280"/>
              <a:chExt cx="23760" cy="71280"/>
            </a:xfrm>
          </p:grpSpPr>
          <p:sp>
            <p:nvSpPr>
              <p:cNvPr id="1517" name=""/>
              <p:cNvSpPr/>
              <p:nvPr/>
            </p:nvSpPr>
            <p:spPr>
              <a:xfrm flipV="1">
                <a:off x="16775280" y="113328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V="1">
                <a:off x="16765560" y="115236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9" name=""/>
          <p:cNvGrpSpPr/>
          <p:nvPr/>
        </p:nvGrpSpPr>
        <p:grpSpPr>
          <a:xfrm>
            <a:off x="18532800" y="960480"/>
            <a:ext cx="316440" cy="246240"/>
            <a:chOff x="18532800" y="960480"/>
            <a:chExt cx="316440" cy="246240"/>
          </a:xfrm>
        </p:grpSpPr>
        <p:grpSp>
          <p:nvGrpSpPr>
            <p:cNvPr id="1520" name=""/>
            <p:cNvGrpSpPr/>
            <p:nvPr/>
          </p:nvGrpSpPr>
          <p:grpSpPr>
            <a:xfrm>
              <a:off x="18660960" y="1130040"/>
              <a:ext cx="23760" cy="71280"/>
              <a:chOff x="18660960" y="1130040"/>
              <a:chExt cx="23760" cy="71280"/>
            </a:xfrm>
          </p:grpSpPr>
          <p:sp>
            <p:nvSpPr>
              <p:cNvPr id="1521" name=""/>
              <p:cNvSpPr/>
              <p:nvPr/>
            </p:nvSpPr>
            <p:spPr>
              <a:xfrm flipV="1">
                <a:off x="18670680" y="113004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V="1">
                <a:off x="18660960" y="114912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3" name=""/>
            <p:cNvSpPr/>
            <p:nvPr/>
          </p:nvSpPr>
          <p:spPr>
            <a:xfrm>
              <a:off x="18532800" y="96048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4" name=""/>
            <p:cNvGrpSpPr/>
            <p:nvPr/>
          </p:nvGrpSpPr>
          <p:grpSpPr>
            <a:xfrm>
              <a:off x="18718200" y="1133280"/>
              <a:ext cx="23760" cy="71280"/>
              <a:chOff x="18718200" y="1133280"/>
              <a:chExt cx="23760" cy="71280"/>
            </a:xfrm>
          </p:grpSpPr>
          <p:sp>
            <p:nvSpPr>
              <p:cNvPr id="1525" name=""/>
              <p:cNvSpPr/>
              <p:nvPr/>
            </p:nvSpPr>
            <p:spPr>
              <a:xfrm flipV="1">
                <a:off x="18727920" y="113328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18718200" y="115236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7" name=""/>
          <p:cNvGrpSpPr/>
          <p:nvPr/>
        </p:nvGrpSpPr>
        <p:grpSpPr>
          <a:xfrm>
            <a:off x="19148760" y="954000"/>
            <a:ext cx="316440" cy="246240"/>
            <a:chOff x="19148760" y="954000"/>
            <a:chExt cx="316440" cy="246240"/>
          </a:xfrm>
        </p:grpSpPr>
        <p:grpSp>
          <p:nvGrpSpPr>
            <p:cNvPr id="1528" name=""/>
            <p:cNvGrpSpPr/>
            <p:nvPr/>
          </p:nvGrpSpPr>
          <p:grpSpPr>
            <a:xfrm>
              <a:off x="19276920" y="1123560"/>
              <a:ext cx="23760" cy="71280"/>
              <a:chOff x="19276920" y="1123560"/>
              <a:chExt cx="23760" cy="71280"/>
            </a:xfrm>
          </p:grpSpPr>
          <p:sp>
            <p:nvSpPr>
              <p:cNvPr id="1529" name=""/>
              <p:cNvSpPr/>
              <p:nvPr/>
            </p:nvSpPr>
            <p:spPr>
              <a:xfrm flipV="1">
                <a:off x="19286640" y="112356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19276920" y="114264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1" name=""/>
            <p:cNvSpPr/>
            <p:nvPr/>
          </p:nvSpPr>
          <p:spPr>
            <a:xfrm>
              <a:off x="19148760" y="95400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19334160" y="1126800"/>
              <a:ext cx="23760" cy="71280"/>
              <a:chOff x="19334160" y="1126800"/>
              <a:chExt cx="23760" cy="71280"/>
            </a:xfrm>
          </p:grpSpPr>
          <p:sp>
            <p:nvSpPr>
              <p:cNvPr id="1533" name=""/>
              <p:cNvSpPr/>
              <p:nvPr/>
            </p:nvSpPr>
            <p:spPr>
              <a:xfrm flipV="1">
                <a:off x="19343880" y="112680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19334160" y="114588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5" name=""/>
          <p:cNvGrpSpPr/>
          <p:nvPr/>
        </p:nvGrpSpPr>
        <p:grpSpPr>
          <a:xfrm>
            <a:off x="19764720" y="954000"/>
            <a:ext cx="316440" cy="246240"/>
            <a:chOff x="19764720" y="954000"/>
            <a:chExt cx="316440" cy="246240"/>
          </a:xfrm>
        </p:grpSpPr>
        <p:grpSp>
          <p:nvGrpSpPr>
            <p:cNvPr id="1536" name=""/>
            <p:cNvGrpSpPr/>
            <p:nvPr/>
          </p:nvGrpSpPr>
          <p:grpSpPr>
            <a:xfrm>
              <a:off x="19892880" y="1123560"/>
              <a:ext cx="23760" cy="71280"/>
              <a:chOff x="19892880" y="1123560"/>
              <a:chExt cx="23760" cy="71280"/>
            </a:xfrm>
          </p:grpSpPr>
          <p:sp>
            <p:nvSpPr>
              <p:cNvPr id="1537" name=""/>
              <p:cNvSpPr/>
              <p:nvPr/>
            </p:nvSpPr>
            <p:spPr>
              <a:xfrm flipV="1">
                <a:off x="19902600" y="112356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V="1">
                <a:off x="19892880" y="114264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9" name=""/>
            <p:cNvSpPr/>
            <p:nvPr/>
          </p:nvSpPr>
          <p:spPr>
            <a:xfrm>
              <a:off x="19764720" y="95400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0" name=""/>
            <p:cNvGrpSpPr/>
            <p:nvPr/>
          </p:nvGrpSpPr>
          <p:grpSpPr>
            <a:xfrm>
              <a:off x="19950120" y="1126800"/>
              <a:ext cx="23760" cy="71280"/>
              <a:chOff x="19950120" y="1126800"/>
              <a:chExt cx="23760" cy="71280"/>
            </a:xfrm>
          </p:grpSpPr>
          <p:sp>
            <p:nvSpPr>
              <p:cNvPr id="1541" name=""/>
              <p:cNvSpPr/>
              <p:nvPr/>
            </p:nvSpPr>
            <p:spPr>
              <a:xfrm flipV="1">
                <a:off x="19959840" y="112680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V="1">
                <a:off x="19950120" y="114588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3" name=""/>
          <p:cNvGrpSpPr/>
          <p:nvPr/>
        </p:nvGrpSpPr>
        <p:grpSpPr>
          <a:xfrm>
            <a:off x="21339360" y="957240"/>
            <a:ext cx="316440" cy="246240"/>
            <a:chOff x="21339360" y="957240"/>
            <a:chExt cx="316440" cy="246240"/>
          </a:xfrm>
        </p:grpSpPr>
        <p:grpSp>
          <p:nvGrpSpPr>
            <p:cNvPr id="1544" name=""/>
            <p:cNvGrpSpPr/>
            <p:nvPr/>
          </p:nvGrpSpPr>
          <p:grpSpPr>
            <a:xfrm>
              <a:off x="21467520" y="1126800"/>
              <a:ext cx="23760" cy="71280"/>
              <a:chOff x="21467520" y="1126800"/>
              <a:chExt cx="23760" cy="71280"/>
            </a:xfrm>
          </p:grpSpPr>
          <p:sp>
            <p:nvSpPr>
              <p:cNvPr id="1545" name=""/>
              <p:cNvSpPr/>
              <p:nvPr/>
            </p:nvSpPr>
            <p:spPr>
              <a:xfrm flipV="1">
                <a:off x="21477240" y="112680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V="1">
                <a:off x="21467520" y="114588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21339360" y="95724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1524760" y="1130040"/>
              <a:ext cx="23760" cy="71280"/>
              <a:chOff x="21524760" y="1130040"/>
              <a:chExt cx="23760" cy="71280"/>
            </a:xfrm>
          </p:grpSpPr>
          <p:sp>
            <p:nvSpPr>
              <p:cNvPr id="1549" name=""/>
              <p:cNvSpPr/>
              <p:nvPr/>
            </p:nvSpPr>
            <p:spPr>
              <a:xfrm flipV="1">
                <a:off x="21534480" y="113004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>
                <a:off x="21524760" y="114912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1" name=""/>
          <p:cNvSpPr/>
          <p:nvPr/>
        </p:nvSpPr>
        <p:spPr>
          <a:xfrm>
            <a:off x="20536560" y="9795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9434960" y="9763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8793440" y="9795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7615520" y="9828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21855240" y="1479600"/>
            <a:ext cx="71280" cy="23760"/>
            <a:chOff x="21855240" y="1479600"/>
            <a:chExt cx="71280" cy="23760"/>
          </a:xfrm>
        </p:grpSpPr>
        <p:sp>
          <p:nvSpPr>
            <p:cNvPr id="1556" name=""/>
            <p:cNvSpPr/>
            <p:nvPr/>
          </p:nvSpPr>
          <p:spPr>
            <a:xfrm flipH="1">
              <a:off x="21855240" y="1493640"/>
              <a:ext cx="7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 flipV="1">
              <a:off x="21874320" y="147960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8" name=""/>
          <p:cNvSpPr/>
          <p:nvPr/>
        </p:nvSpPr>
        <p:spPr>
          <a:xfrm rot="16200000">
            <a:off x="21632400" y="135324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21858120" y="1422360"/>
            <a:ext cx="71280" cy="23760"/>
            <a:chOff x="21858120" y="1422360"/>
            <a:chExt cx="71280" cy="23760"/>
          </a:xfrm>
        </p:grpSpPr>
        <p:sp>
          <p:nvSpPr>
            <p:cNvPr id="1560" name=""/>
            <p:cNvSpPr/>
            <p:nvPr/>
          </p:nvSpPr>
          <p:spPr>
            <a:xfrm flipH="1">
              <a:off x="21858120" y="1436400"/>
              <a:ext cx="7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 flipV="1">
              <a:off x="21877200" y="142236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2" name=""/>
          <p:cNvGrpSpPr/>
          <p:nvPr/>
        </p:nvGrpSpPr>
        <p:grpSpPr>
          <a:xfrm>
            <a:off x="21696480" y="2769480"/>
            <a:ext cx="246240" cy="316440"/>
            <a:chOff x="21696480" y="2769480"/>
            <a:chExt cx="246240" cy="316440"/>
          </a:xfrm>
        </p:grpSpPr>
        <p:grpSp>
          <p:nvGrpSpPr>
            <p:cNvPr id="1563" name=""/>
            <p:cNvGrpSpPr/>
            <p:nvPr/>
          </p:nvGrpSpPr>
          <p:grpSpPr>
            <a:xfrm>
              <a:off x="21861360" y="2938680"/>
              <a:ext cx="71280" cy="23760"/>
              <a:chOff x="21861360" y="2938680"/>
              <a:chExt cx="71280" cy="23760"/>
            </a:xfrm>
          </p:grpSpPr>
          <p:sp>
            <p:nvSpPr>
              <p:cNvPr id="1564" name=""/>
              <p:cNvSpPr/>
              <p:nvPr/>
            </p:nvSpPr>
            <p:spPr>
              <a:xfrm flipH="1">
                <a:off x="21861360" y="295272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 flipV="1">
                <a:off x="21880440" y="293868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6" name=""/>
            <p:cNvSpPr/>
            <p:nvPr/>
          </p:nvSpPr>
          <p:spPr>
            <a:xfrm rot="16200000">
              <a:off x="21661200" y="280440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7" name=""/>
            <p:cNvGrpSpPr/>
            <p:nvPr/>
          </p:nvGrpSpPr>
          <p:grpSpPr>
            <a:xfrm>
              <a:off x="21864600" y="2881440"/>
              <a:ext cx="71280" cy="23760"/>
              <a:chOff x="21864600" y="2881440"/>
              <a:chExt cx="71280" cy="23760"/>
            </a:xfrm>
          </p:grpSpPr>
          <p:sp>
            <p:nvSpPr>
              <p:cNvPr id="1568" name=""/>
              <p:cNvSpPr/>
              <p:nvPr/>
            </p:nvSpPr>
            <p:spPr>
              <a:xfrm flipH="1">
                <a:off x="21864600" y="289548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 flipV="1">
                <a:off x="21883680" y="288144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0" name=""/>
          <p:cNvSpPr/>
          <p:nvPr/>
        </p:nvSpPr>
        <p:spPr>
          <a:xfrm>
            <a:off x="18484920" y="3841920"/>
            <a:ext cx="1476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18574200" y="3627360"/>
            <a:ext cx="316440" cy="246240"/>
            <a:chOff x="18574200" y="3627360"/>
            <a:chExt cx="316440" cy="246240"/>
          </a:xfrm>
        </p:grpSpPr>
        <p:grpSp>
          <p:nvGrpSpPr>
            <p:cNvPr id="1572" name=""/>
            <p:cNvGrpSpPr/>
            <p:nvPr/>
          </p:nvGrpSpPr>
          <p:grpSpPr>
            <a:xfrm>
              <a:off x="18702360" y="3796920"/>
              <a:ext cx="23760" cy="71280"/>
              <a:chOff x="18702360" y="3796920"/>
              <a:chExt cx="23760" cy="71280"/>
            </a:xfrm>
          </p:grpSpPr>
          <p:sp>
            <p:nvSpPr>
              <p:cNvPr id="1573" name=""/>
              <p:cNvSpPr/>
              <p:nvPr/>
            </p:nvSpPr>
            <p:spPr>
              <a:xfrm flipV="1">
                <a:off x="18712080" y="379692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V="1">
                <a:off x="18702360" y="381600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5" name=""/>
            <p:cNvSpPr/>
            <p:nvPr/>
          </p:nvSpPr>
          <p:spPr>
            <a:xfrm>
              <a:off x="18574200" y="362736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6" name=""/>
            <p:cNvGrpSpPr/>
            <p:nvPr/>
          </p:nvGrpSpPr>
          <p:grpSpPr>
            <a:xfrm>
              <a:off x="18759600" y="3800160"/>
              <a:ext cx="23760" cy="71280"/>
              <a:chOff x="18759600" y="3800160"/>
              <a:chExt cx="23760" cy="71280"/>
            </a:xfrm>
          </p:grpSpPr>
          <p:sp>
            <p:nvSpPr>
              <p:cNvPr id="1577" name=""/>
              <p:cNvSpPr/>
              <p:nvPr/>
            </p:nvSpPr>
            <p:spPr>
              <a:xfrm flipV="1">
                <a:off x="18769320" y="380016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V="1">
                <a:off x="18759600" y="381924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9" name=""/>
          <p:cNvGrpSpPr/>
          <p:nvPr/>
        </p:nvGrpSpPr>
        <p:grpSpPr>
          <a:xfrm>
            <a:off x="19315080" y="3807000"/>
            <a:ext cx="23760" cy="71280"/>
            <a:chOff x="19315080" y="3807000"/>
            <a:chExt cx="23760" cy="71280"/>
          </a:xfrm>
        </p:grpSpPr>
        <p:sp>
          <p:nvSpPr>
            <p:cNvPr id="1580" name=""/>
            <p:cNvSpPr/>
            <p:nvPr/>
          </p:nvSpPr>
          <p:spPr>
            <a:xfrm flipV="1">
              <a:off x="19324800" y="3807000"/>
              <a:ext cx="0" cy="71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19315080" y="382608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2" name=""/>
          <p:cNvSpPr/>
          <p:nvPr/>
        </p:nvSpPr>
        <p:spPr>
          <a:xfrm>
            <a:off x="19186920" y="363708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3" name=""/>
          <p:cNvGrpSpPr/>
          <p:nvPr/>
        </p:nvGrpSpPr>
        <p:grpSpPr>
          <a:xfrm>
            <a:off x="19372320" y="3809880"/>
            <a:ext cx="23760" cy="71280"/>
            <a:chOff x="19372320" y="3809880"/>
            <a:chExt cx="23760" cy="71280"/>
          </a:xfrm>
        </p:grpSpPr>
        <p:sp>
          <p:nvSpPr>
            <p:cNvPr id="1584" name=""/>
            <p:cNvSpPr/>
            <p:nvPr/>
          </p:nvSpPr>
          <p:spPr>
            <a:xfrm flipV="1">
              <a:off x="19382040" y="3809880"/>
              <a:ext cx="0" cy="71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V="1">
              <a:off x="19372320" y="382896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6" name=""/>
          <p:cNvSpPr/>
          <p:nvPr/>
        </p:nvSpPr>
        <p:spPr>
          <a:xfrm>
            <a:off x="18907920" y="36622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9482480" y="365904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19940760" y="3803760"/>
            <a:ext cx="23760" cy="71280"/>
            <a:chOff x="19940760" y="3803760"/>
            <a:chExt cx="23760" cy="71280"/>
          </a:xfrm>
        </p:grpSpPr>
        <p:sp>
          <p:nvSpPr>
            <p:cNvPr id="1589" name=""/>
            <p:cNvSpPr/>
            <p:nvPr/>
          </p:nvSpPr>
          <p:spPr>
            <a:xfrm flipV="1">
              <a:off x="19950480" y="3803760"/>
              <a:ext cx="0" cy="71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V="1">
              <a:off x="19940760" y="382284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22996440" y="5667480"/>
            <a:ext cx="0" cy="1457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rot="16200000">
            <a:off x="22733280" y="63648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rot="16200000">
            <a:off x="22739400" y="57013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4" name=""/>
          <p:cNvGrpSpPr/>
          <p:nvPr/>
        </p:nvGrpSpPr>
        <p:grpSpPr>
          <a:xfrm>
            <a:off x="23277600" y="6028920"/>
            <a:ext cx="23760" cy="71640"/>
            <a:chOff x="23277600" y="6028920"/>
            <a:chExt cx="23760" cy="71640"/>
          </a:xfrm>
        </p:grpSpPr>
        <p:sp>
          <p:nvSpPr>
            <p:cNvPr id="1595" name=""/>
            <p:cNvSpPr/>
            <p:nvPr/>
          </p:nvSpPr>
          <p:spPr>
            <a:xfrm flipV="1">
              <a:off x="23286960" y="6028920"/>
              <a:ext cx="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V="1">
              <a:off x="23277600" y="6048000"/>
              <a:ext cx="23760" cy="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22964760" y="5745240"/>
            <a:ext cx="71280" cy="23760"/>
            <a:chOff x="22964760" y="5745240"/>
            <a:chExt cx="71280" cy="23760"/>
          </a:xfrm>
        </p:grpSpPr>
        <p:sp>
          <p:nvSpPr>
            <p:cNvPr id="1598" name=""/>
            <p:cNvSpPr/>
            <p:nvPr/>
          </p:nvSpPr>
          <p:spPr>
            <a:xfrm flipH="1">
              <a:off x="22964760" y="5757840"/>
              <a:ext cx="7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 flipV="1">
              <a:off x="22983840" y="574524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0" name=""/>
          <p:cNvSpPr/>
          <p:nvPr/>
        </p:nvSpPr>
        <p:spPr>
          <a:xfrm rot="16200000">
            <a:off x="22736520" y="683784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22958280" y="5948280"/>
            <a:ext cx="71280" cy="23760"/>
            <a:chOff x="22958280" y="5948280"/>
            <a:chExt cx="71280" cy="23760"/>
          </a:xfrm>
        </p:grpSpPr>
        <p:sp>
          <p:nvSpPr>
            <p:cNvPr id="1602" name=""/>
            <p:cNvSpPr/>
            <p:nvPr/>
          </p:nvSpPr>
          <p:spPr>
            <a:xfrm flipH="1">
              <a:off x="22958280" y="5960880"/>
              <a:ext cx="7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 flipV="1">
              <a:off x="22977360" y="594828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4" name=""/>
          <p:cNvGrpSpPr/>
          <p:nvPr/>
        </p:nvGrpSpPr>
        <p:grpSpPr>
          <a:xfrm>
            <a:off x="22961520" y="6840360"/>
            <a:ext cx="71280" cy="23760"/>
            <a:chOff x="22961520" y="6840360"/>
            <a:chExt cx="71280" cy="23760"/>
          </a:xfrm>
        </p:grpSpPr>
        <p:sp>
          <p:nvSpPr>
            <p:cNvPr id="1605" name=""/>
            <p:cNvSpPr/>
            <p:nvPr/>
          </p:nvSpPr>
          <p:spPr>
            <a:xfrm flipH="1">
              <a:off x="22961520" y="6852960"/>
              <a:ext cx="7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 flipV="1">
              <a:off x="22980600" y="684036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7" name=""/>
          <p:cNvGrpSpPr/>
          <p:nvPr/>
        </p:nvGrpSpPr>
        <p:grpSpPr>
          <a:xfrm>
            <a:off x="22974480" y="7043760"/>
            <a:ext cx="71280" cy="23760"/>
            <a:chOff x="22974480" y="7043760"/>
            <a:chExt cx="71280" cy="23760"/>
          </a:xfrm>
        </p:grpSpPr>
        <p:sp>
          <p:nvSpPr>
            <p:cNvPr id="1608" name=""/>
            <p:cNvSpPr/>
            <p:nvPr/>
          </p:nvSpPr>
          <p:spPr>
            <a:xfrm flipH="1">
              <a:off x="22974480" y="7056360"/>
              <a:ext cx="7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 flipV="1">
              <a:off x="22993560" y="704376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22225680" y="9828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5311600" y="97956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26816400" y="954000"/>
            <a:ext cx="316440" cy="246240"/>
            <a:chOff x="26816400" y="954000"/>
            <a:chExt cx="316440" cy="246240"/>
          </a:xfrm>
        </p:grpSpPr>
        <p:grpSp>
          <p:nvGrpSpPr>
            <p:cNvPr id="1613" name=""/>
            <p:cNvGrpSpPr/>
            <p:nvPr/>
          </p:nvGrpSpPr>
          <p:grpSpPr>
            <a:xfrm>
              <a:off x="26944560" y="1123560"/>
              <a:ext cx="23760" cy="71280"/>
              <a:chOff x="26944560" y="1123560"/>
              <a:chExt cx="23760" cy="71280"/>
            </a:xfrm>
          </p:grpSpPr>
          <p:sp>
            <p:nvSpPr>
              <p:cNvPr id="1614" name=""/>
              <p:cNvSpPr/>
              <p:nvPr/>
            </p:nvSpPr>
            <p:spPr>
              <a:xfrm flipV="1">
                <a:off x="26954280" y="112356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flipV="1">
                <a:off x="26944560" y="114264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6" name=""/>
            <p:cNvSpPr/>
            <p:nvPr/>
          </p:nvSpPr>
          <p:spPr>
            <a:xfrm>
              <a:off x="26816400" y="95400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7" name=""/>
            <p:cNvGrpSpPr/>
            <p:nvPr/>
          </p:nvGrpSpPr>
          <p:grpSpPr>
            <a:xfrm>
              <a:off x="27001800" y="1126800"/>
              <a:ext cx="23760" cy="71280"/>
              <a:chOff x="27001800" y="1126800"/>
              <a:chExt cx="23760" cy="71280"/>
            </a:xfrm>
          </p:grpSpPr>
          <p:sp>
            <p:nvSpPr>
              <p:cNvPr id="1618" name=""/>
              <p:cNvSpPr/>
              <p:nvPr/>
            </p:nvSpPr>
            <p:spPr>
              <a:xfrm flipV="1">
                <a:off x="27011520" y="112680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V="1">
                <a:off x="27001800" y="114588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0" name=""/>
          <p:cNvGrpSpPr/>
          <p:nvPr/>
        </p:nvGrpSpPr>
        <p:grpSpPr>
          <a:xfrm>
            <a:off x="23155560" y="954000"/>
            <a:ext cx="316440" cy="246240"/>
            <a:chOff x="23155560" y="954000"/>
            <a:chExt cx="316440" cy="246240"/>
          </a:xfrm>
        </p:grpSpPr>
        <p:grpSp>
          <p:nvGrpSpPr>
            <p:cNvPr id="1621" name=""/>
            <p:cNvGrpSpPr/>
            <p:nvPr/>
          </p:nvGrpSpPr>
          <p:grpSpPr>
            <a:xfrm>
              <a:off x="23283720" y="1123560"/>
              <a:ext cx="23760" cy="71280"/>
              <a:chOff x="23283720" y="1123560"/>
              <a:chExt cx="23760" cy="71280"/>
            </a:xfrm>
          </p:grpSpPr>
          <p:sp>
            <p:nvSpPr>
              <p:cNvPr id="1622" name=""/>
              <p:cNvSpPr/>
              <p:nvPr/>
            </p:nvSpPr>
            <p:spPr>
              <a:xfrm flipV="1">
                <a:off x="23293440" y="112356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V="1">
                <a:off x="23283720" y="114264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4" name=""/>
            <p:cNvSpPr/>
            <p:nvPr/>
          </p:nvSpPr>
          <p:spPr>
            <a:xfrm>
              <a:off x="23155560" y="95400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5" name=""/>
            <p:cNvGrpSpPr/>
            <p:nvPr/>
          </p:nvGrpSpPr>
          <p:grpSpPr>
            <a:xfrm>
              <a:off x="23340960" y="1126800"/>
              <a:ext cx="23760" cy="71280"/>
              <a:chOff x="23340960" y="1126800"/>
              <a:chExt cx="23760" cy="71280"/>
            </a:xfrm>
          </p:grpSpPr>
          <p:sp>
            <p:nvSpPr>
              <p:cNvPr id="1626" name=""/>
              <p:cNvSpPr/>
              <p:nvPr/>
            </p:nvSpPr>
            <p:spPr>
              <a:xfrm flipV="1">
                <a:off x="23350680" y="1126800"/>
                <a:ext cx="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23340960" y="114588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8" name=""/>
          <p:cNvSpPr/>
          <p:nvPr/>
        </p:nvSpPr>
        <p:spPr>
          <a:xfrm rot="16200000">
            <a:off x="14649480" y="44884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.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7209880" y="2711520"/>
            <a:ext cx="0" cy="15042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2580200" y="3355920"/>
            <a:ext cx="44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echnical"/>
              </a:rPr>
              <a:t>PM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9938960" y="1476360"/>
            <a:ext cx="0" cy="2602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19346760" y="3103560"/>
            <a:ext cx="550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3285520" y="1211112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4" name=""/>
          <p:cNvGrpSpPr/>
          <p:nvPr/>
        </p:nvGrpSpPr>
        <p:grpSpPr>
          <a:xfrm>
            <a:off x="27006480" y="2786760"/>
            <a:ext cx="248760" cy="316440"/>
            <a:chOff x="27006480" y="2786760"/>
            <a:chExt cx="248760" cy="316440"/>
          </a:xfrm>
        </p:grpSpPr>
        <p:sp>
          <p:nvSpPr>
            <p:cNvPr id="1635" name=""/>
            <p:cNvSpPr/>
            <p:nvPr/>
          </p:nvSpPr>
          <p:spPr>
            <a:xfrm rot="16200000">
              <a:off x="26971200" y="282168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6" name=""/>
            <p:cNvGrpSpPr/>
            <p:nvPr/>
          </p:nvGrpSpPr>
          <p:grpSpPr>
            <a:xfrm>
              <a:off x="27180720" y="2891160"/>
              <a:ext cx="74520" cy="93600"/>
              <a:chOff x="27180720" y="2891160"/>
              <a:chExt cx="74520" cy="93600"/>
            </a:xfrm>
          </p:grpSpPr>
          <p:grpSp>
            <p:nvGrpSpPr>
              <p:cNvPr id="1637" name=""/>
              <p:cNvGrpSpPr/>
              <p:nvPr/>
            </p:nvGrpSpPr>
            <p:grpSpPr>
              <a:xfrm>
                <a:off x="27180720" y="2902320"/>
                <a:ext cx="74520" cy="71280"/>
                <a:chOff x="27180720" y="2902320"/>
                <a:chExt cx="74520" cy="71280"/>
              </a:xfrm>
            </p:grpSpPr>
            <p:sp>
              <p:nvSpPr>
                <p:cNvPr id="1638" name=""/>
                <p:cNvSpPr/>
                <p:nvPr/>
              </p:nvSpPr>
              <p:spPr>
                <a:xfrm flipH="1">
                  <a:off x="27183960" y="2973600"/>
                  <a:ext cx="71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flipH="1">
                  <a:off x="27180720" y="2902320"/>
                  <a:ext cx="71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0" name=""/>
              <p:cNvSpPr/>
              <p:nvPr/>
            </p:nvSpPr>
            <p:spPr>
              <a:xfrm flipH="1" flipV="1">
                <a:off x="27201960" y="296100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flipH="1" flipV="1">
                <a:off x="27198720" y="289116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2" name=""/>
          <p:cNvGrpSpPr/>
          <p:nvPr/>
        </p:nvGrpSpPr>
        <p:grpSpPr>
          <a:xfrm>
            <a:off x="27003240" y="4336200"/>
            <a:ext cx="248760" cy="316440"/>
            <a:chOff x="27003240" y="4336200"/>
            <a:chExt cx="248760" cy="316440"/>
          </a:xfrm>
        </p:grpSpPr>
        <p:sp>
          <p:nvSpPr>
            <p:cNvPr id="1643" name=""/>
            <p:cNvSpPr/>
            <p:nvPr/>
          </p:nvSpPr>
          <p:spPr>
            <a:xfrm rot="16200000">
              <a:off x="26967960" y="437112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4" name=""/>
            <p:cNvGrpSpPr/>
            <p:nvPr/>
          </p:nvGrpSpPr>
          <p:grpSpPr>
            <a:xfrm>
              <a:off x="27177480" y="4440600"/>
              <a:ext cx="74520" cy="93600"/>
              <a:chOff x="27177480" y="4440600"/>
              <a:chExt cx="74520" cy="93600"/>
            </a:xfrm>
          </p:grpSpPr>
          <p:grpSp>
            <p:nvGrpSpPr>
              <p:cNvPr id="1645" name=""/>
              <p:cNvGrpSpPr/>
              <p:nvPr/>
            </p:nvGrpSpPr>
            <p:grpSpPr>
              <a:xfrm>
                <a:off x="27177480" y="4451760"/>
                <a:ext cx="74520" cy="71280"/>
                <a:chOff x="27177480" y="4451760"/>
                <a:chExt cx="74520" cy="71280"/>
              </a:xfrm>
            </p:grpSpPr>
            <p:sp>
              <p:nvSpPr>
                <p:cNvPr id="1646" name=""/>
                <p:cNvSpPr/>
                <p:nvPr/>
              </p:nvSpPr>
              <p:spPr>
                <a:xfrm flipH="1">
                  <a:off x="27180720" y="4523040"/>
                  <a:ext cx="71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flipH="1">
                  <a:off x="27177480" y="4451760"/>
                  <a:ext cx="71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8" name=""/>
              <p:cNvSpPr/>
              <p:nvPr/>
            </p:nvSpPr>
            <p:spPr>
              <a:xfrm flipH="1" flipV="1">
                <a:off x="27198720" y="451044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H="1" flipV="1">
                <a:off x="27195480" y="444060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0" name=""/>
          <p:cNvGrpSpPr/>
          <p:nvPr/>
        </p:nvGrpSpPr>
        <p:grpSpPr>
          <a:xfrm>
            <a:off x="27003240" y="5850720"/>
            <a:ext cx="248760" cy="316440"/>
            <a:chOff x="27003240" y="5850720"/>
            <a:chExt cx="248760" cy="316440"/>
          </a:xfrm>
        </p:grpSpPr>
        <p:sp>
          <p:nvSpPr>
            <p:cNvPr id="1651" name=""/>
            <p:cNvSpPr/>
            <p:nvPr/>
          </p:nvSpPr>
          <p:spPr>
            <a:xfrm rot="16200000">
              <a:off x="26967960" y="588564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2" name=""/>
            <p:cNvGrpSpPr/>
            <p:nvPr/>
          </p:nvGrpSpPr>
          <p:grpSpPr>
            <a:xfrm>
              <a:off x="27177480" y="5955120"/>
              <a:ext cx="74520" cy="93600"/>
              <a:chOff x="27177480" y="5955120"/>
              <a:chExt cx="74520" cy="93600"/>
            </a:xfrm>
          </p:grpSpPr>
          <p:grpSp>
            <p:nvGrpSpPr>
              <p:cNvPr id="1653" name=""/>
              <p:cNvGrpSpPr/>
              <p:nvPr/>
            </p:nvGrpSpPr>
            <p:grpSpPr>
              <a:xfrm>
                <a:off x="27177480" y="5966280"/>
                <a:ext cx="74520" cy="71280"/>
                <a:chOff x="27177480" y="5966280"/>
                <a:chExt cx="74520" cy="71280"/>
              </a:xfrm>
            </p:grpSpPr>
            <p:sp>
              <p:nvSpPr>
                <p:cNvPr id="1654" name=""/>
                <p:cNvSpPr/>
                <p:nvPr/>
              </p:nvSpPr>
              <p:spPr>
                <a:xfrm flipH="1">
                  <a:off x="27180720" y="6037560"/>
                  <a:ext cx="71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H="1">
                  <a:off x="27177480" y="5966280"/>
                  <a:ext cx="71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6" name=""/>
              <p:cNvSpPr/>
              <p:nvPr/>
            </p:nvSpPr>
            <p:spPr>
              <a:xfrm flipH="1" flipV="1">
                <a:off x="27198720" y="602496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H="1" flipV="1">
                <a:off x="27195480" y="595512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8" name=""/>
          <p:cNvGrpSpPr/>
          <p:nvPr/>
        </p:nvGrpSpPr>
        <p:grpSpPr>
          <a:xfrm>
            <a:off x="27000360" y="7400160"/>
            <a:ext cx="248760" cy="316440"/>
            <a:chOff x="27000360" y="7400160"/>
            <a:chExt cx="248760" cy="316440"/>
          </a:xfrm>
        </p:grpSpPr>
        <p:sp>
          <p:nvSpPr>
            <p:cNvPr id="1659" name=""/>
            <p:cNvSpPr/>
            <p:nvPr/>
          </p:nvSpPr>
          <p:spPr>
            <a:xfrm rot="16200000">
              <a:off x="26965080" y="743508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0" name=""/>
            <p:cNvGrpSpPr/>
            <p:nvPr/>
          </p:nvGrpSpPr>
          <p:grpSpPr>
            <a:xfrm>
              <a:off x="27174600" y="7504560"/>
              <a:ext cx="74520" cy="93600"/>
              <a:chOff x="27174600" y="7504560"/>
              <a:chExt cx="74520" cy="93600"/>
            </a:xfrm>
          </p:grpSpPr>
          <p:grpSp>
            <p:nvGrpSpPr>
              <p:cNvPr id="1661" name=""/>
              <p:cNvGrpSpPr/>
              <p:nvPr/>
            </p:nvGrpSpPr>
            <p:grpSpPr>
              <a:xfrm>
                <a:off x="27174600" y="7515720"/>
                <a:ext cx="74520" cy="71280"/>
                <a:chOff x="27174600" y="7515720"/>
                <a:chExt cx="74520" cy="71280"/>
              </a:xfrm>
            </p:grpSpPr>
            <p:sp>
              <p:nvSpPr>
                <p:cNvPr id="1662" name=""/>
                <p:cNvSpPr/>
                <p:nvPr/>
              </p:nvSpPr>
              <p:spPr>
                <a:xfrm flipH="1">
                  <a:off x="27177840" y="7587000"/>
                  <a:ext cx="71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flipH="1">
                  <a:off x="27174600" y="7515720"/>
                  <a:ext cx="71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4" name=""/>
              <p:cNvSpPr/>
              <p:nvPr/>
            </p:nvSpPr>
            <p:spPr>
              <a:xfrm flipH="1" flipV="1">
                <a:off x="27195840" y="757440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H="1" flipV="1">
                <a:off x="27192600" y="750456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6" name=""/>
          <p:cNvGrpSpPr/>
          <p:nvPr/>
        </p:nvGrpSpPr>
        <p:grpSpPr>
          <a:xfrm>
            <a:off x="27003240" y="8946360"/>
            <a:ext cx="248760" cy="316440"/>
            <a:chOff x="27003240" y="8946360"/>
            <a:chExt cx="248760" cy="316440"/>
          </a:xfrm>
        </p:grpSpPr>
        <p:sp>
          <p:nvSpPr>
            <p:cNvPr id="1667" name=""/>
            <p:cNvSpPr/>
            <p:nvPr/>
          </p:nvSpPr>
          <p:spPr>
            <a:xfrm rot="16200000">
              <a:off x="26967960" y="898128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8" name=""/>
            <p:cNvGrpSpPr/>
            <p:nvPr/>
          </p:nvGrpSpPr>
          <p:grpSpPr>
            <a:xfrm>
              <a:off x="27177480" y="9050760"/>
              <a:ext cx="74520" cy="93600"/>
              <a:chOff x="27177480" y="9050760"/>
              <a:chExt cx="74520" cy="93600"/>
            </a:xfrm>
          </p:grpSpPr>
          <p:grpSp>
            <p:nvGrpSpPr>
              <p:cNvPr id="1669" name=""/>
              <p:cNvGrpSpPr/>
              <p:nvPr/>
            </p:nvGrpSpPr>
            <p:grpSpPr>
              <a:xfrm>
                <a:off x="27177480" y="9061920"/>
                <a:ext cx="74520" cy="71280"/>
                <a:chOff x="27177480" y="9061920"/>
                <a:chExt cx="74520" cy="71280"/>
              </a:xfrm>
            </p:grpSpPr>
            <p:sp>
              <p:nvSpPr>
                <p:cNvPr id="1670" name=""/>
                <p:cNvSpPr/>
                <p:nvPr/>
              </p:nvSpPr>
              <p:spPr>
                <a:xfrm flipH="1">
                  <a:off x="27180720" y="9133200"/>
                  <a:ext cx="71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 flipH="1">
                  <a:off x="27177480" y="9061920"/>
                  <a:ext cx="71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2" name=""/>
              <p:cNvSpPr/>
              <p:nvPr/>
            </p:nvSpPr>
            <p:spPr>
              <a:xfrm flipH="1" flipV="1">
                <a:off x="27198720" y="912060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H="1" flipV="1">
                <a:off x="27195480" y="905076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4" name=""/>
          <p:cNvGrpSpPr/>
          <p:nvPr/>
        </p:nvGrpSpPr>
        <p:grpSpPr>
          <a:xfrm>
            <a:off x="27006480" y="10489320"/>
            <a:ext cx="248760" cy="316440"/>
            <a:chOff x="27006480" y="10489320"/>
            <a:chExt cx="248760" cy="316440"/>
          </a:xfrm>
        </p:grpSpPr>
        <p:sp>
          <p:nvSpPr>
            <p:cNvPr id="1675" name=""/>
            <p:cNvSpPr/>
            <p:nvPr/>
          </p:nvSpPr>
          <p:spPr>
            <a:xfrm rot="16200000">
              <a:off x="26971200" y="1052424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6" name=""/>
            <p:cNvGrpSpPr/>
            <p:nvPr/>
          </p:nvGrpSpPr>
          <p:grpSpPr>
            <a:xfrm>
              <a:off x="27180720" y="10593720"/>
              <a:ext cx="74520" cy="93600"/>
              <a:chOff x="27180720" y="10593720"/>
              <a:chExt cx="74520" cy="93600"/>
            </a:xfrm>
          </p:grpSpPr>
          <p:grpSp>
            <p:nvGrpSpPr>
              <p:cNvPr id="1677" name=""/>
              <p:cNvGrpSpPr/>
              <p:nvPr/>
            </p:nvGrpSpPr>
            <p:grpSpPr>
              <a:xfrm>
                <a:off x="27180720" y="10604880"/>
                <a:ext cx="74520" cy="71280"/>
                <a:chOff x="27180720" y="10604880"/>
                <a:chExt cx="74520" cy="71280"/>
              </a:xfrm>
            </p:grpSpPr>
            <p:sp>
              <p:nvSpPr>
                <p:cNvPr id="1678" name=""/>
                <p:cNvSpPr/>
                <p:nvPr/>
              </p:nvSpPr>
              <p:spPr>
                <a:xfrm flipH="1">
                  <a:off x="27183960" y="10676160"/>
                  <a:ext cx="71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 flipH="1">
                  <a:off x="27180720" y="10604880"/>
                  <a:ext cx="71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0" name=""/>
              <p:cNvSpPr/>
              <p:nvPr/>
            </p:nvSpPr>
            <p:spPr>
              <a:xfrm flipH="1" flipV="1">
                <a:off x="27201960" y="1066356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 flipV="1">
                <a:off x="27198720" y="1059372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2" name=""/>
          <p:cNvGrpSpPr/>
          <p:nvPr/>
        </p:nvGrpSpPr>
        <p:grpSpPr>
          <a:xfrm>
            <a:off x="27000360" y="12019680"/>
            <a:ext cx="248760" cy="316440"/>
            <a:chOff x="27000360" y="12019680"/>
            <a:chExt cx="248760" cy="316440"/>
          </a:xfrm>
        </p:grpSpPr>
        <p:sp>
          <p:nvSpPr>
            <p:cNvPr id="1683" name=""/>
            <p:cNvSpPr/>
            <p:nvPr/>
          </p:nvSpPr>
          <p:spPr>
            <a:xfrm rot="16200000">
              <a:off x="26965080" y="1205460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4" name=""/>
            <p:cNvGrpSpPr/>
            <p:nvPr/>
          </p:nvGrpSpPr>
          <p:grpSpPr>
            <a:xfrm>
              <a:off x="27174600" y="12124080"/>
              <a:ext cx="74520" cy="93600"/>
              <a:chOff x="27174600" y="12124080"/>
              <a:chExt cx="74520" cy="93600"/>
            </a:xfrm>
          </p:grpSpPr>
          <p:grpSp>
            <p:nvGrpSpPr>
              <p:cNvPr id="1685" name=""/>
              <p:cNvGrpSpPr/>
              <p:nvPr/>
            </p:nvGrpSpPr>
            <p:grpSpPr>
              <a:xfrm>
                <a:off x="27174600" y="12135240"/>
                <a:ext cx="74520" cy="71280"/>
                <a:chOff x="27174600" y="12135240"/>
                <a:chExt cx="74520" cy="71280"/>
              </a:xfrm>
            </p:grpSpPr>
            <p:sp>
              <p:nvSpPr>
                <p:cNvPr id="1686" name=""/>
                <p:cNvSpPr/>
                <p:nvPr/>
              </p:nvSpPr>
              <p:spPr>
                <a:xfrm flipH="1">
                  <a:off x="27177840" y="12206520"/>
                  <a:ext cx="71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flipH="1">
                  <a:off x="27174600" y="12135240"/>
                  <a:ext cx="71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8" name=""/>
              <p:cNvSpPr/>
              <p:nvPr/>
            </p:nvSpPr>
            <p:spPr>
              <a:xfrm flipH="1" flipV="1">
                <a:off x="27195840" y="1219392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 flipV="1">
                <a:off x="27192600" y="1212408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0" name=""/>
          <p:cNvGrpSpPr/>
          <p:nvPr/>
        </p:nvGrpSpPr>
        <p:grpSpPr>
          <a:xfrm>
            <a:off x="27003240" y="13550040"/>
            <a:ext cx="248760" cy="316440"/>
            <a:chOff x="27003240" y="13550040"/>
            <a:chExt cx="248760" cy="316440"/>
          </a:xfrm>
        </p:grpSpPr>
        <p:sp>
          <p:nvSpPr>
            <p:cNvPr id="1691" name=""/>
            <p:cNvSpPr/>
            <p:nvPr/>
          </p:nvSpPr>
          <p:spPr>
            <a:xfrm rot="16200000">
              <a:off x="26967960" y="1358496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2" name=""/>
            <p:cNvGrpSpPr/>
            <p:nvPr/>
          </p:nvGrpSpPr>
          <p:grpSpPr>
            <a:xfrm>
              <a:off x="27177480" y="13654440"/>
              <a:ext cx="74520" cy="93600"/>
              <a:chOff x="27177480" y="13654440"/>
              <a:chExt cx="74520" cy="93600"/>
            </a:xfrm>
          </p:grpSpPr>
          <p:grpSp>
            <p:nvGrpSpPr>
              <p:cNvPr id="1693" name=""/>
              <p:cNvGrpSpPr/>
              <p:nvPr/>
            </p:nvGrpSpPr>
            <p:grpSpPr>
              <a:xfrm>
                <a:off x="27177480" y="13665600"/>
                <a:ext cx="74520" cy="71280"/>
                <a:chOff x="27177480" y="13665600"/>
                <a:chExt cx="74520" cy="71280"/>
              </a:xfrm>
            </p:grpSpPr>
            <p:sp>
              <p:nvSpPr>
                <p:cNvPr id="1694" name=""/>
                <p:cNvSpPr/>
                <p:nvPr/>
              </p:nvSpPr>
              <p:spPr>
                <a:xfrm flipH="1">
                  <a:off x="27180720" y="13736880"/>
                  <a:ext cx="71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flipH="1">
                  <a:off x="27177480" y="13665600"/>
                  <a:ext cx="71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6" name=""/>
              <p:cNvSpPr/>
              <p:nvPr/>
            </p:nvSpPr>
            <p:spPr>
              <a:xfrm flipH="1" flipV="1">
                <a:off x="27198720" y="1372428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 flipV="1">
                <a:off x="27195480" y="1365444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8" name=""/>
          <p:cNvGrpSpPr/>
          <p:nvPr/>
        </p:nvGrpSpPr>
        <p:grpSpPr>
          <a:xfrm>
            <a:off x="27006480" y="15102720"/>
            <a:ext cx="248760" cy="316440"/>
            <a:chOff x="27006480" y="15102720"/>
            <a:chExt cx="248760" cy="316440"/>
          </a:xfrm>
        </p:grpSpPr>
        <p:sp>
          <p:nvSpPr>
            <p:cNvPr id="1699" name=""/>
            <p:cNvSpPr/>
            <p:nvPr/>
          </p:nvSpPr>
          <p:spPr>
            <a:xfrm rot="16200000">
              <a:off x="26971200" y="1513764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0" name=""/>
            <p:cNvGrpSpPr/>
            <p:nvPr/>
          </p:nvGrpSpPr>
          <p:grpSpPr>
            <a:xfrm>
              <a:off x="27180720" y="15207120"/>
              <a:ext cx="74520" cy="93600"/>
              <a:chOff x="27180720" y="15207120"/>
              <a:chExt cx="74520" cy="93600"/>
            </a:xfrm>
          </p:grpSpPr>
          <p:grpSp>
            <p:nvGrpSpPr>
              <p:cNvPr id="1701" name=""/>
              <p:cNvGrpSpPr/>
              <p:nvPr/>
            </p:nvGrpSpPr>
            <p:grpSpPr>
              <a:xfrm>
                <a:off x="27180720" y="15218280"/>
                <a:ext cx="74520" cy="71280"/>
                <a:chOff x="27180720" y="15218280"/>
                <a:chExt cx="74520" cy="71280"/>
              </a:xfrm>
            </p:grpSpPr>
            <p:sp>
              <p:nvSpPr>
                <p:cNvPr id="1702" name=""/>
                <p:cNvSpPr/>
                <p:nvPr/>
              </p:nvSpPr>
              <p:spPr>
                <a:xfrm flipH="1">
                  <a:off x="27183960" y="15289560"/>
                  <a:ext cx="71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flipH="1">
                  <a:off x="27180720" y="15218280"/>
                  <a:ext cx="71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4" name=""/>
              <p:cNvSpPr/>
              <p:nvPr/>
            </p:nvSpPr>
            <p:spPr>
              <a:xfrm flipH="1" flipV="1">
                <a:off x="27201960" y="1527696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 flipV="1">
                <a:off x="27198720" y="1520712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6" name=""/>
          <p:cNvSpPr/>
          <p:nvPr/>
        </p:nvSpPr>
        <p:spPr>
          <a:xfrm rot="16200000">
            <a:off x="26961840" y="1729008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7" name=""/>
          <p:cNvGrpSpPr/>
          <p:nvPr/>
        </p:nvGrpSpPr>
        <p:grpSpPr>
          <a:xfrm>
            <a:off x="27174960" y="17417880"/>
            <a:ext cx="71280" cy="23760"/>
            <a:chOff x="27174960" y="17417880"/>
            <a:chExt cx="71280" cy="23760"/>
          </a:xfrm>
        </p:grpSpPr>
        <p:sp>
          <p:nvSpPr>
            <p:cNvPr id="1708" name=""/>
            <p:cNvSpPr/>
            <p:nvPr/>
          </p:nvSpPr>
          <p:spPr>
            <a:xfrm flipH="1">
              <a:off x="27174960" y="17432280"/>
              <a:ext cx="7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 flipV="1">
              <a:off x="27192240" y="1741788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0" name=""/>
          <p:cNvGrpSpPr/>
          <p:nvPr/>
        </p:nvGrpSpPr>
        <p:grpSpPr>
          <a:xfrm>
            <a:off x="27168480" y="17370360"/>
            <a:ext cx="71280" cy="23760"/>
            <a:chOff x="27168480" y="17370360"/>
            <a:chExt cx="71280" cy="23760"/>
          </a:xfrm>
        </p:grpSpPr>
        <p:sp>
          <p:nvSpPr>
            <p:cNvPr id="1711" name=""/>
            <p:cNvSpPr/>
            <p:nvPr/>
          </p:nvSpPr>
          <p:spPr>
            <a:xfrm flipH="1">
              <a:off x="27168480" y="17382960"/>
              <a:ext cx="7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 flipV="1">
              <a:off x="27185400" y="17370360"/>
              <a:ext cx="3204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3" name=""/>
          <p:cNvSpPr/>
          <p:nvPr/>
        </p:nvSpPr>
        <p:spPr>
          <a:xfrm rot="16200000">
            <a:off x="26933760" y="35074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rot="16200000">
            <a:off x="26943120" y="52218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rot="16200000">
            <a:off x="26943120" y="66031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rot="16200000">
            <a:off x="26943120" y="815544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rot="16200000">
            <a:off x="26933760" y="98128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rot="16200000">
            <a:off x="26943120" y="112608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rot="16200000">
            <a:off x="26943120" y="128419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rot="16200000">
            <a:off x="26952840" y="143373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rot="16200000">
            <a:off x="26951040" y="1647864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5819480" y="624528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15819480" y="5950080"/>
            <a:ext cx="14436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6103880" y="6399360"/>
            <a:ext cx="68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echnical"/>
              </a:rPr>
              <a:t>HI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5" name=""/>
          <p:cNvGrpSpPr/>
          <p:nvPr/>
        </p:nvGrpSpPr>
        <p:grpSpPr>
          <a:xfrm>
            <a:off x="15984000" y="6363720"/>
            <a:ext cx="137880" cy="100800"/>
            <a:chOff x="15984000" y="6363720"/>
            <a:chExt cx="137880" cy="100800"/>
          </a:xfrm>
        </p:grpSpPr>
        <p:sp>
          <p:nvSpPr>
            <p:cNvPr id="1726" name=""/>
            <p:cNvSpPr/>
            <p:nvPr/>
          </p:nvSpPr>
          <p:spPr>
            <a:xfrm rot="7079400">
              <a:off x="16034040" y="6376680"/>
              <a:ext cx="74520" cy="74520"/>
            </a:xfrm>
            <a:prstGeom prst="triangle">
              <a:avLst>
                <a:gd name="adj" fmla="val 50000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5984000" y="6368400"/>
              <a:ext cx="54720" cy="29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8" name=""/>
          <p:cNvGrpSpPr/>
          <p:nvPr/>
        </p:nvGrpSpPr>
        <p:grpSpPr>
          <a:xfrm>
            <a:off x="8331480" y="6091200"/>
            <a:ext cx="650160" cy="455760"/>
            <a:chOff x="8331480" y="6091200"/>
            <a:chExt cx="650160" cy="455760"/>
          </a:xfrm>
        </p:grpSpPr>
        <p:sp>
          <p:nvSpPr>
            <p:cNvPr id="1729" name=""/>
            <p:cNvSpPr/>
            <p:nvPr/>
          </p:nvSpPr>
          <p:spPr>
            <a:xfrm>
              <a:off x="8597880" y="6091200"/>
              <a:ext cx="176400" cy="74520"/>
            </a:xfrm>
            <a:prstGeom prst="triangle">
              <a:avLst>
                <a:gd name="adj" fmla="val 50000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331480" y="6148440"/>
              <a:ext cx="650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echnical"/>
                </a:rPr>
                <a:t>ACES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7155000" y="15570360"/>
            <a:ext cx="650160" cy="455760"/>
            <a:chOff x="7155000" y="15570360"/>
            <a:chExt cx="650160" cy="455760"/>
          </a:xfrm>
        </p:grpSpPr>
        <p:sp>
          <p:nvSpPr>
            <p:cNvPr id="1732" name=""/>
            <p:cNvSpPr/>
            <p:nvPr/>
          </p:nvSpPr>
          <p:spPr>
            <a:xfrm>
              <a:off x="7421400" y="15570360"/>
              <a:ext cx="176040" cy="74520"/>
            </a:xfrm>
            <a:prstGeom prst="triangle">
              <a:avLst>
                <a:gd name="adj" fmla="val 50000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155000" y="15627600"/>
              <a:ext cx="650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echnical"/>
                </a:rPr>
                <a:t>ACES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4" name=""/>
          <p:cNvSpPr/>
          <p:nvPr/>
        </p:nvSpPr>
        <p:spPr>
          <a:xfrm>
            <a:off x="7116840" y="1517976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126200" y="13655520"/>
            <a:ext cx="716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457440" y="16354440"/>
            <a:ext cx="3495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7" name=""/>
          <p:cNvGrpSpPr/>
          <p:nvPr/>
        </p:nvGrpSpPr>
        <p:grpSpPr>
          <a:xfrm>
            <a:off x="4051800" y="16129080"/>
            <a:ext cx="316440" cy="258480"/>
            <a:chOff x="4051800" y="16129080"/>
            <a:chExt cx="316440" cy="258480"/>
          </a:xfrm>
        </p:grpSpPr>
        <p:sp>
          <p:nvSpPr>
            <p:cNvPr id="1738" name=""/>
            <p:cNvSpPr/>
            <p:nvPr/>
          </p:nvSpPr>
          <p:spPr>
            <a:xfrm>
              <a:off x="4051800" y="1612908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9" name=""/>
            <p:cNvGrpSpPr/>
            <p:nvPr/>
          </p:nvGrpSpPr>
          <p:grpSpPr>
            <a:xfrm>
              <a:off x="4179960" y="16314480"/>
              <a:ext cx="82440" cy="73080"/>
              <a:chOff x="4179960" y="16314480"/>
              <a:chExt cx="82440" cy="73080"/>
            </a:xfrm>
          </p:grpSpPr>
          <p:grpSp>
            <p:nvGrpSpPr>
              <p:cNvPr id="1740" name=""/>
              <p:cNvGrpSpPr/>
              <p:nvPr/>
            </p:nvGrpSpPr>
            <p:grpSpPr>
              <a:xfrm>
                <a:off x="4192560" y="16314480"/>
                <a:ext cx="57240" cy="73080"/>
                <a:chOff x="4192560" y="16314480"/>
                <a:chExt cx="57240" cy="73080"/>
              </a:xfrm>
            </p:grpSpPr>
            <p:sp>
              <p:nvSpPr>
                <p:cNvPr id="1741" name=""/>
                <p:cNvSpPr/>
                <p:nvPr/>
              </p:nvSpPr>
              <p:spPr>
                <a:xfrm flipV="1">
                  <a:off x="4192560" y="16316280"/>
                  <a:ext cx="0" cy="71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 flipV="1">
                  <a:off x="4249800" y="16314480"/>
                  <a:ext cx="0" cy="71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 flipV="1">
                <a:off x="4179960" y="16336440"/>
                <a:ext cx="2376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V="1">
                <a:off x="4238640" y="1633176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5" name=""/>
          <p:cNvGrpSpPr/>
          <p:nvPr/>
        </p:nvGrpSpPr>
        <p:grpSpPr>
          <a:xfrm>
            <a:off x="4842360" y="16133760"/>
            <a:ext cx="316440" cy="258480"/>
            <a:chOff x="4842360" y="16133760"/>
            <a:chExt cx="316440" cy="258480"/>
          </a:xfrm>
        </p:grpSpPr>
        <p:sp>
          <p:nvSpPr>
            <p:cNvPr id="1746" name=""/>
            <p:cNvSpPr/>
            <p:nvPr/>
          </p:nvSpPr>
          <p:spPr>
            <a:xfrm>
              <a:off x="4842360" y="1613376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7" name=""/>
            <p:cNvGrpSpPr/>
            <p:nvPr/>
          </p:nvGrpSpPr>
          <p:grpSpPr>
            <a:xfrm>
              <a:off x="4970520" y="16319160"/>
              <a:ext cx="82440" cy="73080"/>
              <a:chOff x="4970520" y="16319160"/>
              <a:chExt cx="82440" cy="73080"/>
            </a:xfrm>
          </p:grpSpPr>
          <p:grpSp>
            <p:nvGrpSpPr>
              <p:cNvPr id="1748" name=""/>
              <p:cNvGrpSpPr/>
              <p:nvPr/>
            </p:nvGrpSpPr>
            <p:grpSpPr>
              <a:xfrm>
                <a:off x="4983120" y="16319160"/>
                <a:ext cx="57240" cy="73080"/>
                <a:chOff x="4983120" y="16319160"/>
                <a:chExt cx="57240" cy="73080"/>
              </a:xfrm>
            </p:grpSpPr>
            <p:sp>
              <p:nvSpPr>
                <p:cNvPr id="1749" name=""/>
                <p:cNvSpPr/>
                <p:nvPr/>
              </p:nvSpPr>
              <p:spPr>
                <a:xfrm flipV="1">
                  <a:off x="4983120" y="16320960"/>
                  <a:ext cx="0" cy="71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 flipV="1">
                  <a:off x="5040360" y="16319160"/>
                  <a:ext cx="0" cy="71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1" name=""/>
              <p:cNvSpPr/>
              <p:nvPr/>
            </p:nvSpPr>
            <p:spPr>
              <a:xfrm flipV="1">
                <a:off x="4970520" y="16341120"/>
                <a:ext cx="2376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V="1">
                <a:off x="5029200" y="1633644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3" name=""/>
          <p:cNvGrpSpPr/>
          <p:nvPr/>
        </p:nvGrpSpPr>
        <p:grpSpPr>
          <a:xfrm>
            <a:off x="5613840" y="16133760"/>
            <a:ext cx="316440" cy="258480"/>
            <a:chOff x="5613840" y="16133760"/>
            <a:chExt cx="316440" cy="258480"/>
          </a:xfrm>
        </p:grpSpPr>
        <p:sp>
          <p:nvSpPr>
            <p:cNvPr id="1754" name=""/>
            <p:cNvSpPr/>
            <p:nvPr/>
          </p:nvSpPr>
          <p:spPr>
            <a:xfrm>
              <a:off x="5613840" y="1613376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5" name=""/>
            <p:cNvGrpSpPr/>
            <p:nvPr/>
          </p:nvGrpSpPr>
          <p:grpSpPr>
            <a:xfrm>
              <a:off x="5742000" y="16319160"/>
              <a:ext cx="82440" cy="73080"/>
              <a:chOff x="5742000" y="16319160"/>
              <a:chExt cx="82440" cy="73080"/>
            </a:xfrm>
          </p:grpSpPr>
          <p:grpSp>
            <p:nvGrpSpPr>
              <p:cNvPr id="1756" name=""/>
              <p:cNvGrpSpPr/>
              <p:nvPr/>
            </p:nvGrpSpPr>
            <p:grpSpPr>
              <a:xfrm>
                <a:off x="5754600" y="16319160"/>
                <a:ext cx="57240" cy="73080"/>
                <a:chOff x="5754600" y="16319160"/>
                <a:chExt cx="57240" cy="73080"/>
              </a:xfrm>
            </p:grpSpPr>
            <p:sp>
              <p:nvSpPr>
                <p:cNvPr id="1757" name=""/>
                <p:cNvSpPr/>
                <p:nvPr/>
              </p:nvSpPr>
              <p:spPr>
                <a:xfrm flipV="1">
                  <a:off x="5754600" y="16320960"/>
                  <a:ext cx="0" cy="71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flipV="1">
                  <a:off x="5811840" y="16319160"/>
                  <a:ext cx="0" cy="71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9" name=""/>
              <p:cNvSpPr/>
              <p:nvPr/>
            </p:nvSpPr>
            <p:spPr>
              <a:xfrm flipV="1">
                <a:off x="5742000" y="16341120"/>
                <a:ext cx="2376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5800680" y="1633644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1" name=""/>
          <p:cNvGrpSpPr/>
          <p:nvPr/>
        </p:nvGrpSpPr>
        <p:grpSpPr>
          <a:xfrm>
            <a:off x="6423480" y="16133760"/>
            <a:ext cx="316440" cy="258480"/>
            <a:chOff x="6423480" y="16133760"/>
            <a:chExt cx="316440" cy="258480"/>
          </a:xfrm>
        </p:grpSpPr>
        <p:sp>
          <p:nvSpPr>
            <p:cNvPr id="1762" name=""/>
            <p:cNvSpPr/>
            <p:nvPr/>
          </p:nvSpPr>
          <p:spPr>
            <a:xfrm>
              <a:off x="6423480" y="1613376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6551640" y="16319160"/>
              <a:ext cx="82440" cy="73080"/>
              <a:chOff x="6551640" y="16319160"/>
              <a:chExt cx="82440" cy="73080"/>
            </a:xfrm>
          </p:grpSpPr>
          <p:grpSp>
            <p:nvGrpSpPr>
              <p:cNvPr id="1764" name=""/>
              <p:cNvGrpSpPr/>
              <p:nvPr/>
            </p:nvGrpSpPr>
            <p:grpSpPr>
              <a:xfrm>
                <a:off x="6564240" y="16319160"/>
                <a:ext cx="57240" cy="73080"/>
                <a:chOff x="6564240" y="16319160"/>
                <a:chExt cx="57240" cy="73080"/>
              </a:xfrm>
            </p:grpSpPr>
            <p:sp>
              <p:nvSpPr>
                <p:cNvPr id="1765" name=""/>
                <p:cNvSpPr/>
                <p:nvPr/>
              </p:nvSpPr>
              <p:spPr>
                <a:xfrm flipV="1">
                  <a:off x="6564240" y="16320960"/>
                  <a:ext cx="0" cy="71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 flipV="1">
                  <a:off x="6621480" y="16319160"/>
                  <a:ext cx="0" cy="71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7" name=""/>
              <p:cNvSpPr/>
              <p:nvPr/>
            </p:nvSpPr>
            <p:spPr>
              <a:xfrm flipV="1">
                <a:off x="6551640" y="16341120"/>
                <a:ext cx="2376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V="1">
                <a:off x="6610320" y="16336440"/>
                <a:ext cx="237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9" name=""/>
          <p:cNvGrpSpPr/>
          <p:nvPr/>
        </p:nvGrpSpPr>
        <p:grpSpPr>
          <a:xfrm>
            <a:off x="3460680" y="16311600"/>
            <a:ext cx="23760" cy="71280"/>
            <a:chOff x="3460680" y="16311600"/>
            <a:chExt cx="23760" cy="71280"/>
          </a:xfrm>
        </p:grpSpPr>
        <p:sp>
          <p:nvSpPr>
            <p:cNvPr id="1770" name=""/>
            <p:cNvSpPr/>
            <p:nvPr/>
          </p:nvSpPr>
          <p:spPr>
            <a:xfrm flipV="1">
              <a:off x="3467160" y="16311600"/>
              <a:ext cx="0" cy="71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3460680" y="1633068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2" name=""/>
          <p:cNvSpPr/>
          <p:nvPr/>
        </p:nvSpPr>
        <p:spPr>
          <a:xfrm>
            <a:off x="5179320" y="16175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602880" y="16175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393440" y="16175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964840" y="16175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11598480" y="6242040"/>
            <a:ext cx="68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echnical"/>
              </a:rPr>
              <a:t>HI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7" name=""/>
          <p:cNvGrpSpPr/>
          <p:nvPr/>
        </p:nvGrpSpPr>
        <p:grpSpPr>
          <a:xfrm>
            <a:off x="8876160" y="5913000"/>
            <a:ext cx="226800" cy="234000"/>
            <a:chOff x="8876160" y="5913000"/>
            <a:chExt cx="226800" cy="234000"/>
          </a:xfrm>
        </p:grpSpPr>
        <p:sp>
          <p:nvSpPr>
            <p:cNvPr id="1778" name=""/>
            <p:cNvSpPr/>
            <p:nvPr/>
          </p:nvSpPr>
          <p:spPr>
            <a:xfrm rot="8175600">
              <a:off x="9012960" y="6057000"/>
              <a:ext cx="74520" cy="74520"/>
            </a:xfrm>
            <a:prstGeom prst="triangle">
              <a:avLst>
                <a:gd name="adj" fmla="val 50000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876160" y="5913000"/>
              <a:ext cx="147960" cy="15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0" name=""/>
          <p:cNvSpPr/>
          <p:nvPr/>
        </p:nvSpPr>
        <p:spPr>
          <a:xfrm>
            <a:off x="6853320" y="15249600"/>
            <a:ext cx="0" cy="1014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1" name=""/>
          <p:cNvGrpSpPr/>
          <p:nvPr/>
        </p:nvGrpSpPr>
        <p:grpSpPr>
          <a:xfrm>
            <a:off x="6637320" y="16044120"/>
            <a:ext cx="258480" cy="316440"/>
            <a:chOff x="6637320" y="16044120"/>
            <a:chExt cx="258480" cy="316440"/>
          </a:xfrm>
        </p:grpSpPr>
        <p:sp>
          <p:nvSpPr>
            <p:cNvPr id="1782" name=""/>
            <p:cNvSpPr/>
            <p:nvPr/>
          </p:nvSpPr>
          <p:spPr>
            <a:xfrm rot="16200000">
              <a:off x="6602040" y="1607904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3" name=""/>
            <p:cNvGrpSpPr/>
            <p:nvPr/>
          </p:nvGrpSpPr>
          <p:grpSpPr>
            <a:xfrm>
              <a:off x="6822720" y="16149960"/>
              <a:ext cx="73080" cy="82440"/>
              <a:chOff x="6822720" y="16149960"/>
              <a:chExt cx="73080" cy="82440"/>
            </a:xfrm>
          </p:grpSpPr>
          <p:grpSp>
            <p:nvGrpSpPr>
              <p:cNvPr id="1784" name=""/>
              <p:cNvGrpSpPr/>
              <p:nvPr/>
            </p:nvGrpSpPr>
            <p:grpSpPr>
              <a:xfrm>
                <a:off x="6822720" y="16162560"/>
                <a:ext cx="73080" cy="57240"/>
                <a:chOff x="6822720" y="16162560"/>
                <a:chExt cx="73080" cy="57240"/>
              </a:xfrm>
            </p:grpSpPr>
            <p:sp>
              <p:nvSpPr>
                <p:cNvPr id="1785" name=""/>
                <p:cNvSpPr/>
                <p:nvPr/>
              </p:nvSpPr>
              <p:spPr>
                <a:xfrm flipH="1">
                  <a:off x="6824520" y="16219800"/>
                  <a:ext cx="71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flipH="1">
                  <a:off x="6822720" y="16162560"/>
                  <a:ext cx="71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7" name=""/>
              <p:cNvSpPr/>
              <p:nvPr/>
            </p:nvSpPr>
            <p:spPr>
              <a:xfrm flipH="1" flipV="1">
                <a:off x="6844680" y="16208640"/>
                <a:ext cx="3204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H="1" flipV="1">
                <a:off x="6840000" y="1614996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9" name=""/>
          <p:cNvSpPr/>
          <p:nvPr/>
        </p:nvSpPr>
        <p:spPr>
          <a:xfrm rot="16200000">
            <a:off x="6588360" y="1562004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6818400" y="15239880"/>
            <a:ext cx="71280" cy="23760"/>
            <a:chOff x="6818400" y="15239880"/>
            <a:chExt cx="71280" cy="23760"/>
          </a:xfrm>
        </p:grpSpPr>
        <p:sp>
          <p:nvSpPr>
            <p:cNvPr id="1791" name=""/>
            <p:cNvSpPr/>
            <p:nvPr/>
          </p:nvSpPr>
          <p:spPr>
            <a:xfrm flipH="1">
              <a:off x="6818400" y="15257160"/>
              <a:ext cx="7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 flipV="1">
              <a:off x="6837480" y="1523988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3" name=""/>
          <p:cNvSpPr/>
          <p:nvPr/>
        </p:nvSpPr>
        <p:spPr>
          <a:xfrm>
            <a:off x="19878840" y="14449320"/>
            <a:ext cx="23097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0809800" y="1425744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5" name=""/>
          <p:cNvGrpSpPr/>
          <p:nvPr/>
        </p:nvGrpSpPr>
        <p:grpSpPr>
          <a:xfrm>
            <a:off x="22131360" y="14414040"/>
            <a:ext cx="23760" cy="71640"/>
            <a:chOff x="22131360" y="14414040"/>
            <a:chExt cx="23760" cy="71640"/>
          </a:xfrm>
        </p:grpSpPr>
        <p:sp>
          <p:nvSpPr>
            <p:cNvPr id="1796" name=""/>
            <p:cNvSpPr/>
            <p:nvPr/>
          </p:nvSpPr>
          <p:spPr>
            <a:xfrm flipV="1">
              <a:off x="22142520" y="14414040"/>
              <a:ext cx="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V="1">
              <a:off x="22131360" y="1443204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19931040" y="14414040"/>
            <a:ext cx="23760" cy="71640"/>
            <a:chOff x="19931040" y="14414040"/>
            <a:chExt cx="23760" cy="71640"/>
          </a:xfrm>
        </p:grpSpPr>
        <p:sp>
          <p:nvSpPr>
            <p:cNvPr id="1799" name=""/>
            <p:cNvSpPr/>
            <p:nvPr/>
          </p:nvSpPr>
          <p:spPr>
            <a:xfrm flipV="1">
              <a:off x="19942200" y="14414040"/>
              <a:ext cx="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V="1">
              <a:off x="19931040" y="14432040"/>
              <a:ext cx="237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1" name=""/>
          <p:cNvSpPr/>
          <p:nvPr/>
        </p:nvSpPr>
        <p:spPr>
          <a:xfrm>
            <a:off x="19872360" y="15665400"/>
            <a:ext cx="7128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2" name=""/>
          <p:cNvGrpSpPr/>
          <p:nvPr/>
        </p:nvGrpSpPr>
        <p:grpSpPr>
          <a:xfrm>
            <a:off x="19894680" y="14968440"/>
            <a:ext cx="246240" cy="728640"/>
            <a:chOff x="19894680" y="14968440"/>
            <a:chExt cx="246240" cy="728640"/>
          </a:xfrm>
        </p:grpSpPr>
        <p:sp>
          <p:nvSpPr>
            <p:cNvPr id="1803" name=""/>
            <p:cNvSpPr/>
            <p:nvPr/>
          </p:nvSpPr>
          <p:spPr>
            <a:xfrm>
              <a:off x="20078640" y="14968440"/>
              <a:ext cx="0" cy="72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4" name=""/>
            <p:cNvGrpSpPr/>
            <p:nvPr/>
          </p:nvGrpSpPr>
          <p:grpSpPr>
            <a:xfrm>
              <a:off x="20040120" y="14986080"/>
              <a:ext cx="71640" cy="23760"/>
              <a:chOff x="20040120" y="14986080"/>
              <a:chExt cx="71640" cy="23760"/>
            </a:xfrm>
          </p:grpSpPr>
          <p:sp>
            <p:nvSpPr>
              <p:cNvPr id="1805" name=""/>
              <p:cNvSpPr/>
              <p:nvPr/>
            </p:nvSpPr>
            <p:spPr>
              <a:xfrm flipH="1">
                <a:off x="20040120" y="14998680"/>
                <a:ext cx="71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H="1" flipV="1">
                <a:off x="20058120" y="14986080"/>
                <a:ext cx="316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20045520" y="15657480"/>
              <a:ext cx="71280" cy="23760"/>
              <a:chOff x="20045520" y="15657480"/>
              <a:chExt cx="71280" cy="23760"/>
            </a:xfrm>
          </p:grpSpPr>
          <p:sp>
            <p:nvSpPr>
              <p:cNvPr id="1808" name=""/>
              <p:cNvSpPr/>
              <p:nvPr/>
            </p:nvSpPr>
            <p:spPr>
              <a:xfrm flipH="1">
                <a:off x="20045520" y="15670080"/>
                <a:ext cx="71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H="1" flipV="1">
                <a:off x="20062440" y="15657480"/>
                <a:ext cx="3132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0" name=""/>
            <p:cNvSpPr/>
            <p:nvPr/>
          </p:nvSpPr>
          <p:spPr>
            <a:xfrm rot="16200000">
              <a:off x="19815480" y="15180120"/>
              <a:ext cx="40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.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18745200" y="16354440"/>
            <a:ext cx="0" cy="1028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2" name=""/>
          <p:cNvGrpSpPr/>
          <p:nvPr/>
        </p:nvGrpSpPr>
        <p:grpSpPr>
          <a:xfrm>
            <a:off x="18706680" y="17343360"/>
            <a:ext cx="71640" cy="23760"/>
            <a:chOff x="18706680" y="17343360"/>
            <a:chExt cx="71640" cy="23760"/>
          </a:xfrm>
        </p:grpSpPr>
        <p:sp>
          <p:nvSpPr>
            <p:cNvPr id="1813" name=""/>
            <p:cNvSpPr/>
            <p:nvPr/>
          </p:nvSpPr>
          <p:spPr>
            <a:xfrm flipH="1">
              <a:off x="18706680" y="17355960"/>
              <a:ext cx="71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H="1" flipV="1">
              <a:off x="18724680" y="17343360"/>
              <a:ext cx="31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 rot="16200000">
            <a:off x="18475560" y="1672164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6" name=""/>
          <p:cNvGrpSpPr/>
          <p:nvPr/>
        </p:nvGrpSpPr>
        <p:grpSpPr>
          <a:xfrm>
            <a:off x="17510040" y="16116480"/>
            <a:ext cx="982440" cy="776880"/>
            <a:chOff x="17510040" y="16116480"/>
            <a:chExt cx="982440" cy="776880"/>
          </a:xfrm>
        </p:grpSpPr>
        <p:sp>
          <p:nvSpPr>
            <p:cNvPr id="1817" name=""/>
            <p:cNvSpPr/>
            <p:nvPr/>
          </p:nvSpPr>
          <p:spPr>
            <a:xfrm>
              <a:off x="17546400" y="16118280"/>
              <a:ext cx="946080" cy="775080"/>
            </a:xfrm>
            <a:custGeom>
              <a:avLst/>
              <a:gdLst/>
              <a:ahLst/>
              <a:rect l="l" t="t" r="r" b="b"/>
              <a:pathLst>
                <a:path w="342" h="336">
                  <a:moveTo>
                    <a:pt x="123" y="11"/>
                  </a:moveTo>
                  <a:cubicBezTo>
                    <a:pt x="127" y="24"/>
                    <a:pt x="134" y="34"/>
                    <a:pt x="138" y="47"/>
                  </a:cubicBezTo>
                  <a:cubicBezTo>
                    <a:pt x="136" y="69"/>
                    <a:pt x="132" y="83"/>
                    <a:pt x="120" y="101"/>
                  </a:cubicBezTo>
                  <a:cubicBezTo>
                    <a:pt x="114" y="143"/>
                    <a:pt x="105" y="136"/>
                    <a:pt x="81" y="164"/>
                  </a:cubicBezTo>
                  <a:cubicBezTo>
                    <a:pt x="57" y="192"/>
                    <a:pt x="77" y="202"/>
                    <a:pt x="39" y="221"/>
                  </a:cubicBezTo>
                  <a:cubicBezTo>
                    <a:pt x="24" y="243"/>
                    <a:pt x="20" y="240"/>
                    <a:pt x="42" y="236"/>
                  </a:cubicBezTo>
                  <a:cubicBezTo>
                    <a:pt x="63" y="222"/>
                    <a:pt x="75" y="202"/>
                    <a:pt x="96" y="188"/>
                  </a:cubicBezTo>
                  <a:cubicBezTo>
                    <a:pt x="103" y="178"/>
                    <a:pt x="104" y="169"/>
                    <a:pt x="108" y="158"/>
                  </a:cubicBezTo>
                  <a:cubicBezTo>
                    <a:pt x="103" y="90"/>
                    <a:pt x="103" y="127"/>
                    <a:pt x="126" y="143"/>
                  </a:cubicBezTo>
                  <a:cubicBezTo>
                    <a:pt x="132" y="153"/>
                    <a:pt x="135" y="152"/>
                    <a:pt x="129" y="164"/>
                  </a:cubicBezTo>
                  <a:cubicBezTo>
                    <a:pt x="121" y="179"/>
                    <a:pt x="109" y="195"/>
                    <a:pt x="99" y="209"/>
                  </a:cubicBezTo>
                  <a:cubicBezTo>
                    <a:pt x="92" y="220"/>
                    <a:pt x="88" y="234"/>
                    <a:pt x="81" y="245"/>
                  </a:cubicBezTo>
                  <a:cubicBezTo>
                    <a:pt x="71" y="259"/>
                    <a:pt x="76" y="251"/>
                    <a:pt x="69" y="272"/>
                  </a:cubicBezTo>
                  <a:cubicBezTo>
                    <a:pt x="65" y="283"/>
                    <a:pt x="63" y="290"/>
                    <a:pt x="63" y="290"/>
                  </a:cubicBezTo>
                  <a:cubicBezTo>
                    <a:pt x="79" y="285"/>
                    <a:pt x="69" y="289"/>
                    <a:pt x="90" y="275"/>
                  </a:cubicBezTo>
                  <a:cubicBezTo>
                    <a:pt x="93" y="273"/>
                    <a:pt x="99" y="269"/>
                    <a:pt x="99" y="269"/>
                  </a:cubicBezTo>
                  <a:cubicBezTo>
                    <a:pt x="107" y="244"/>
                    <a:pt x="95" y="283"/>
                    <a:pt x="105" y="227"/>
                  </a:cubicBezTo>
                  <a:cubicBezTo>
                    <a:pt x="109" y="207"/>
                    <a:pt x="121" y="190"/>
                    <a:pt x="126" y="170"/>
                  </a:cubicBezTo>
                  <a:cubicBezTo>
                    <a:pt x="128" y="173"/>
                    <a:pt x="132" y="175"/>
                    <a:pt x="132" y="179"/>
                  </a:cubicBezTo>
                  <a:cubicBezTo>
                    <a:pt x="134" y="209"/>
                    <a:pt x="128" y="235"/>
                    <a:pt x="120" y="263"/>
                  </a:cubicBezTo>
                  <a:cubicBezTo>
                    <a:pt x="119" y="265"/>
                    <a:pt x="114" y="287"/>
                    <a:pt x="108" y="290"/>
                  </a:cubicBezTo>
                  <a:cubicBezTo>
                    <a:pt x="104" y="293"/>
                    <a:pt x="98" y="292"/>
                    <a:pt x="93" y="293"/>
                  </a:cubicBezTo>
                  <a:cubicBezTo>
                    <a:pt x="92" y="296"/>
                    <a:pt x="88" y="300"/>
                    <a:pt x="90" y="302"/>
                  </a:cubicBezTo>
                  <a:cubicBezTo>
                    <a:pt x="92" y="304"/>
                    <a:pt x="96" y="301"/>
                    <a:pt x="99" y="299"/>
                  </a:cubicBezTo>
                  <a:cubicBezTo>
                    <a:pt x="105" y="295"/>
                    <a:pt x="111" y="291"/>
                    <a:pt x="117" y="287"/>
                  </a:cubicBezTo>
                  <a:cubicBezTo>
                    <a:pt x="120" y="285"/>
                    <a:pt x="126" y="281"/>
                    <a:pt x="126" y="281"/>
                  </a:cubicBezTo>
                  <a:cubicBezTo>
                    <a:pt x="146" y="251"/>
                    <a:pt x="136" y="229"/>
                    <a:pt x="138" y="185"/>
                  </a:cubicBezTo>
                  <a:cubicBezTo>
                    <a:pt x="146" y="198"/>
                    <a:pt x="147" y="205"/>
                    <a:pt x="150" y="221"/>
                  </a:cubicBezTo>
                  <a:cubicBezTo>
                    <a:pt x="146" y="251"/>
                    <a:pt x="135" y="272"/>
                    <a:pt x="126" y="299"/>
                  </a:cubicBezTo>
                  <a:cubicBezTo>
                    <a:pt x="127" y="308"/>
                    <a:pt x="130" y="326"/>
                    <a:pt x="138" y="323"/>
                  </a:cubicBezTo>
                  <a:cubicBezTo>
                    <a:pt x="140" y="322"/>
                    <a:pt x="152" y="296"/>
                    <a:pt x="153" y="293"/>
                  </a:cubicBezTo>
                  <a:cubicBezTo>
                    <a:pt x="156" y="287"/>
                    <a:pt x="159" y="275"/>
                    <a:pt x="159" y="275"/>
                  </a:cubicBezTo>
                  <a:cubicBezTo>
                    <a:pt x="157" y="244"/>
                    <a:pt x="151" y="223"/>
                    <a:pt x="144" y="194"/>
                  </a:cubicBezTo>
                  <a:cubicBezTo>
                    <a:pt x="150" y="157"/>
                    <a:pt x="150" y="148"/>
                    <a:pt x="180" y="128"/>
                  </a:cubicBezTo>
                  <a:cubicBezTo>
                    <a:pt x="192" y="92"/>
                    <a:pt x="200" y="66"/>
                    <a:pt x="240" y="56"/>
                  </a:cubicBezTo>
                  <a:cubicBezTo>
                    <a:pt x="243" y="26"/>
                    <a:pt x="239" y="22"/>
                    <a:pt x="267" y="17"/>
                  </a:cubicBezTo>
                  <a:cubicBezTo>
                    <a:pt x="271" y="29"/>
                    <a:pt x="271" y="34"/>
                    <a:pt x="258" y="38"/>
                  </a:cubicBezTo>
                  <a:cubicBezTo>
                    <a:pt x="250" y="50"/>
                    <a:pt x="248" y="79"/>
                    <a:pt x="234" y="86"/>
                  </a:cubicBezTo>
                  <a:cubicBezTo>
                    <a:pt x="227" y="90"/>
                    <a:pt x="218" y="89"/>
                    <a:pt x="210" y="92"/>
                  </a:cubicBezTo>
                  <a:cubicBezTo>
                    <a:pt x="188" y="114"/>
                    <a:pt x="190" y="141"/>
                    <a:pt x="156" y="152"/>
                  </a:cubicBezTo>
                  <a:cubicBezTo>
                    <a:pt x="154" y="158"/>
                    <a:pt x="152" y="164"/>
                    <a:pt x="150" y="170"/>
                  </a:cubicBezTo>
                  <a:cubicBezTo>
                    <a:pt x="135" y="214"/>
                    <a:pt x="165" y="158"/>
                    <a:pt x="183" y="155"/>
                  </a:cubicBezTo>
                  <a:cubicBezTo>
                    <a:pt x="200" y="152"/>
                    <a:pt x="217" y="153"/>
                    <a:pt x="234" y="152"/>
                  </a:cubicBezTo>
                  <a:cubicBezTo>
                    <a:pt x="244" y="145"/>
                    <a:pt x="248" y="138"/>
                    <a:pt x="258" y="131"/>
                  </a:cubicBezTo>
                  <a:cubicBezTo>
                    <a:pt x="272" y="136"/>
                    <a:pt x="282" y="133"/>
                    <a:pt x="294" y="125"/>
                  </a:cubicBezTo>
                  <a:cubicBezTo>
                    <a:pt x="297" y="107"/>
                    <a:pt x="297" y="101"/>
                    <a:pt x="309" y="89"/>
                  </a:cubicBezTo>
                  <a:cubicBezTo>
                    <a:pt x="311" y="82"/>
                    <a:pt x="315" y="65"/>
                    <a:pt x="309" y="68"/>
                  </a:cubicBezTo>
                  <a:cubicBezTo>
                    <a:pt x="300" y="72"/>
                    <a:pt x="283" y="111"/>
                    <a:pt x="279" y="122"/>
                  </a:cubicBezTo>
                  <a:cubicBezTo>
                    <a:pt x="276" y="130"/>
                    <a:pt x="250" y="131"/>
                    <a:pt x="249" y="131"/>
                  </a:cubicBezTo>
                  <a:cubicBezTo>
                    <a:pt x="237" y="135"/>
                    <a:pt x="233" y="144"/>
                    <a:pt x="222" y="149"/>
                  </a:cubicBezTo>
                  <a:cubicBezTo>
                    <a:pt x="209" y="155"/>
                    <a:pt x="166" y="155"/>
                    <a:pt x="165" y="155"/>
                  </a:cubicBezTo>
                  <a:cubicBezTo>
                    <a:pt x="152" y="193"/>
                    <a:pt x="168" y="191"/>
                    <a:pt x="192" y="215"/>
                  </a:cubicBezTo>
                  <a:cubicBezTo>
                    <a:pt x="203" y="249"/>
                    <a:pt x="193" y="286"/>
                    <a:pt x="204" y="320"/>
                  </a:cubicBezTo>
                  <a:cubicBezTo>
                    <a:pt x="214" y="306"/>
                    <a:pt x="209" y="314"/>
                    <a:pt x="216" y="293"/>
                  </a:cubicBezTo>
                  <a:cubicBezTo>
                    <a:pt x="217" y="290"/>
                    <a:pt x="219" y="284"/>
                    <a:pt x="219" y="284"/>
                  </a:cubicBezTo>
                  <a:cubicBezTo>
                    <a:pt x="216" y="261"/>
                    <a:pt x="211" y="253"/>
                    <a:pt x="204" y="233"/>
                  </a:cubicBezTo>
                  <a:cubicBezTo>
                    <a:pt x="199" y="196"/>
                    <a:pt x="201" y="199"/>
                    <a:pt x="168" y="191"/>
                  </a:cubicBezTo>
                  <a:cubicBezTo>
                    <a:pt x="188" y="206"/>
                    <a:pt x="201" y="203"/>
                    <a:pt x="225" y="197"/>
                  </a:cubicBezTo>
                  <a:cubicBezTo>
                    <a:pt x="258" y="208"/>
                    <a:pt x="239" y="246"/>
                    <a:pt x="264" y="254"/>
                  </a:cubicBezTo>
                  <a:cubicBezTo>
                    <a:pt x="279" y="249"/>
                    <a:pt x="286" y="261"/>
                    <a:pt x="300" y="266"/>
                  </a:cubicBezTo>
                  <a:cubicBezTo>
                    <a:pt x="325" y="250"/>
                    <a:pt x="275" y="249"/>
                    <a:pt x="267" y="248"/>
                  </a:cubicBezTo>
                  <a:cubicBezTo>
                    <a:pt x="247" y="241"/>
                    <a:pt x="259" y="219"/>
                    <a:pt x="249" y="203"/>
                  </a:cubicBezTo>
                  <a:cubicBezTo>
                    <a:pt x="242" y="193"/>
                    <a:pt x="230" y="190"/>
                    <a:pt x="219" y="185"/>
                  </a:cubicBezTo>
                  <a:cubicBezTo>
                    <a:pt x="204" y="186"/>
                    <a:pt x="189" y="186"/>
                    <a:pt x="174" y="188"/>
                  </a:cubicBezTo>
                  <a:cubicBezTo>
                    <a:pt x="171" y="188"/>
                    <a:pt x="162" y="191"/>
                    <a:pt x="165" y="191"/>
                  </a:cubicBezTo>
                  <a:cubicBezTo>
                    <a:pt x="169" y="191"/>
                    <a:pt x="173" y="189"/>
                    <a:pt x="177" y="188"/>
                  </a:cubicBezTo>
                  <a:cubicBezTo>
                    <a:pt x="216" y="190"/>
                    <a:pt x="250" y="191"/>
                    <a:pt x="288" y="197"/>
                  </a:cubicBezTo>
                  <a:cubicBezTo>
                    <a:pt x="294" y="195"/>
                    <a:pt x="301" y="187"/>
                    <a:pt x="306" y="191"/>
                  </a:cubicBezTo>
                  <a:cubicBezTo>
                    <a:pt x="312" y="195"/>
                    <a:pt x="324" y="203"/>
                    <a:pt x="324" y="203"/>
                  </a:cubicBezTo>
                  <a:cubicBezTo>
                    <a:pt x="342" y="191"/>
                    <a:pt x="333" y="181"/>
                    <a:pt x="318" y="176"/>
                  </a:cubicBezTo>
                  <a:cubicBezTo>
                    <a:pt x="293" y="180"/>
                    <a:pt x="268" y="178"/>
                    <a:pt x="243" y="173"/>
                  </a:cubicBezTo>
                  <a:cubicBezTo>
                    <a:pt x="218" y="177"/>
                    <a:pt x="199" y="187"/>
                    <a:pt x="174" y="191"/>
                  </a:cubicBezTo>
                  <a:cubicBezTo>
                    <a:pt x="201" y="164"/>
                    <a:pt x="225" y="172"/>
                    <a:pt x="264" y="170"/>
                  </a:cubicBezTo>
                  <a:cubicBezTo>
                    <a:pt x="280" y="159"/>
                    <a:pt x="293" y="155"/>
                    <a:pt x="312" y="152"/>
                  </a:cubicBezTo>
                  <a:cubicBezTo>
                    <a:pt x="323" y="145"/>
                    <a:pt x="323" y="139"/>
                    <a:pt x="330" y="128"/>
                  </a:cubicBezTo>
                  <a:cubicBezTo>
                    <a:pt x="324" y="110"/>
                    <a:pt x="304" y="140"/>
                    <a:pt x="288" y="146"/>
                  </a:cubicBezTo>
                  <a:cubicBezTo>
                    <a:pt x="271" y="152"/>
                    <a:pt x="234" y="151"/>
                    <a:pt x="225" y="152"/>
                  </a:cubicBezTo>
                  <a:cubicBezTo>
                    <a:pt x="202" y="160"/>
                    <a:pt x="199" y="163"/>
                    <a:pt x="180" y="182"/>
                  </a:cubicBezTo>
                  <a:cubicBezTo>
                    <a:pt x="177" y="185"/>
                    <a:pt x="171" y="191"/>
                    <a:pt x="171" y="191"/>
                  </a:cubicBezTo>
                  <a:cubicBezTo>
                    <a:pt x="146" y="183"/>
                    <a:pt x="150" y="164"/>
                    <a:pt x="135" y="146"/>
                  </a:cubicBezTo>
                  <a:cubicBezTo>
                    <a:pt x="125" y="134"/>
                    <a:pt x="109" y="125"/>
                    <a:pt x="96" y="116"/>
                  </a:cubicBezTo>
                  <a:cubicBezTo>
                    <a:pt x="94" y="113"/>
                    <a:pt x="93" y="109"/>
                    <a:pt x="90" y="107"/>
                  </a:cubicBezTo>
                  <a:cubicBezTo>
                    <a:pt x="88" y="105"/>
                    <a:pt x="83" y="106"/>
                    <a:pt x="81" y="104"/>
                  </a:cubicBezTo>
                  <a:cubicBezTo>
                    <a:pt x="66" y="89"/>
                    <a:pt x="61" y="65"/>
                    <a:pt x="57" y="44"/>
                  </a:cubicBezTo>
                  <a:cubicBezTo>
                    <a:pt x="64" y="42"/>
                    <a:pt x="71" y="35"/>
                    <a:pt x="78" y="38"/>
                  </a:cubicBezTo>
                  <a:cubicBezTo>
                    <a:pt x="83" y="41"/>
                    <a:pt x="80" y="50"/>
                    <a:pt x="81" y="56"/>
                  </a:cubicBezTo>
                  <a:cubicBezTo>
                    <a:pt x="82" y="67"/>
                    <a:pt x="82" y="78"/>
                    <a:pt x="84" y="89"/>
                  </a:cubicBezTo>
                  <a:cubicBezTo>
                    <a:pt x="86" y="105"/>
                    <a:pt x="102" y="113"/>
                    <a:pt x="111" y="125"/>
                  </a:cubicBezTo>
                  <a:cubicBezTo>
                    <a:pt x="119" y="148"/>
                    <a:pt x="108" y="120"/>
                    <a:pt x="120" y="143"/>
                  </a:cubicBezTo>
                  <a:cubicBezTo>
                    <a:pt x="121" y="146"/>
                    <a:pt x="126" y="154"/>
                    <a:pt x="123" y="152"/>
                  </a:cubicBezTo>
                  <a:cubicBezTo>
                    <a:pt x="88" y="129"/>
                    <a:pt x="116" y="128"/>
                    <a:pt x="72" y="122"/>
                  </a:cubicBezTo>
                  <a:cubicBezTo>
                    <a:pt x="57" y="125"/>
                    <a:pt x="27" y="134"/>
                    <a:pt x="27" y="134"/>
                  </a:cubicBezTo>
                  <a:cubicBezTo>
                    <a:pt x="19" y="146"/>
                    <a:pt x="14" y="146"/>
                    <a:pt x="0" y="149"/>
                  </a:cubicBezTo>
                  <a:cubicBezTo>
                    <a:pt x="44" y="164"/>
                    <a:pt x="91" y="138"/>
                    <a:pt x="135" y="134"/>
                  </a:cubicBezTo>
                  <a:cubicBezTo>
                    <a:pt x="137" y="111"/>
                    <a:pt x="136" y="106"/>
                    <a:pt x="141" y="89"/>
                  </a:cubicBezTo>
                  <a:cubicBezTo>
                    <a:pt x="143" y="83"/>
                    <a:pt x="147" y="71"/>
                    <a:pt x="147" y="71"/>
                  </a:cubicBezTo>
                  <a:cubicBezTo>
                    <a:pt x="146" y="59"/>
                    <a:pt x="146" y="47"/>
                    <a:pt x="144" y="35"/>
                  </a:cubicBezTo>
                  <a:cubicBezTo>
                    <a:pt x="143" y="29"/>
                    <a:pt x="142" y="21"/>
                    <a:pt x="138" y="17"/>
                  </a:cubicBezTo>
                  <a:cubicBezTo>
                    <a:pt x="135" y="14"/>
                    <a:pt x="125" y="8"/>
                    <a:pt x="129" y="8"/>
                  </a:cubicBezTo>
                  <a:cubicBezTo>
                    <a:pt x="143" y="8"/>
                    <a:pt x="165" y="29"/>
                    <a:pt x="165" y="29"/>
                  </a:cubicBezTo>
                  <a:cubicBezTo>
                    <a:pt x="172" y="39"/>
                    <a:pt x="173" y="48"/>
                    <a:pt x="177" y="59"/>
                  </a:cubicBezTo>
                  <a:cubicBezTo>
                    <a:pt x="173" y="81"/>
                    <a:pt x="171" y="89"/>
                    <a:pt x="153" y="101"/>
                  </a:cubicBezTo>
                  <a:cubicBezTo>
                    <a:pt x="147" y="111"/>
                    <a:pt x="142" y="120"/>
                    <a:pt x="138" y="131"/>
                  </a:cubicBezTo>
                  <a:cubicBezTo>
                    <a:pt x="147" y="149"/>
                    <a:pt x="153" y="143"/>
                    <a:pt x="165" y="131"/>
                  </a:cubicBezTo>
                  <a:cubicBezTo>
                    <a:pt x="172" y="109"/>
                    <a:pt x="173" y="87"/>
                    <a:pt x="180" y="65"/>
                  </a:cubicBezTo>
                  <a:cubicBezTo>
                    <a:pt x="182" y="59"/>
                    <a:pt x="182" y="52"/>
                    <a:pt x="186" y="47"/>
                  </a:cubicBezTo>
                  <a:cubicBezTo>
                    <a:pt x="190" y="41"/>
                    <a:pt x="198" y="29"/>
                    <a:pt x="198" y="29"/>
                  </a:cubicBezTo>
                  <a:cubicBezTo>
                    <a:pt x="200" y="21"/>
                    <a:pt x="205" y="13"/>
                    <a:pt x="204" y="5"/>
                  </a:cubicBezTo>
                  <a:cubicBezTo>
                    <a:pt x="204" y="2"/>
                    <a:pt x="198" y="0"/>
                    <a:pt x="195" y="2"/>
                  </a:cubicBezTo>
                  <a:cubicBezTo>
                    <a:pt x="191" y="4"/>
                    <a:pt x="191" y="10"/>
                    <a:pt x="189" y="14"/>
                  </a:cubicBezTo>
                  <a:cubicBezTo>
                    <a:pt x="187" y="44"/>
                    <a:pt x="181" y="62"/>
                    <a:pt x="174" y="89"/>
                  </a:cubicBezTo>
                  <a:cubicBezTo>
                    <a:pt x="172" y="98"/>
                    <a:pt x="170" y="107"/>
                    <a:pt x="168" y="116"/>
                  </a:cubicBezTo>
                  <a:cubicBezTo>
                    <a:pt x="167" y="119"/>
                    <a:pt x="162" y="125"/>
                    <a:pt x="165" y="125"/>
                  </a:cubicBezTo>
                  <a:cubicBezTo>
                    <a:pt x="169" y="125"/>
                    <a:pt x="169" y="119"/>
                    <a:pt x="171" y="116"/>
                  </a:cubicBezTo>
                  <a:cubicBezTo>
                    <a:pt x="174" y="105"/>
                    <a:pt x="183" y="72"/>
                    <a:pt x="189" y="65"/>
                  </a:cubicBezTo>
                  <a:cubicBezTo>
                    <a:pt x="205" y="44"/>
                    <a:pt x="213" y="43"/>
                    <a:pt x="219" y="17"/>
                  </a:cubicBezTo>
                  <a:cubicBezTo>
                    <a:pt x="232" y="21"/>
                    <a:pt x="236" y="18"/>
                    <a:pt x="240" y="5"/>
                  </a:cubicBezTo>
                  <a:cubicBezTo>
                    <a:pt x="237" y="30"/>
                    <a:pt x="234" y="39"/>
                    <a:pt x="210" y="47"/>
                  </a:cubicBezTo>
                  <a:cubicBezTo>
                    <a:pt x="197" y="66"/>
                    <a:pt x="185" y="87"/>
                    <a:pt x="171" y="104"/>
                  </a:cubicBezTo>
                  <a:cubicBezTo>
                    <a:pt x="165" y="112"/>
                    <a:pt x="159" y="131"/>
                    <a:pt x="159" y="131"/>
                  </a:cubicBezTo>
                  <a:cubicBezTo>
                    <a:pt x="161" y="134"/>
                    <a:pt x="161" y="140"/>
                    <a:pt x="165" y="140"/>
                  </a:cubicBezTo>
                  <a:cubicBezTo>
                    <a:pt x="169" y="141"/>
                    <a:pt x="203" y="129"/>
                    <a:pt x="210" y="128"/>
                  </a:cubicBezTo>
                  <a:cubicBezTo>
                    <a:pt x="229" y="116"/>
                    <a:pt x="249" y="99"/>
                    <a:pt x="261" y="80"/>
                  </a:cubicBezTo>
                  <a:cubicBezTo>
                    <a:pt x="265" y="74"/>
                    <a:pt x="271" y="69"/>
                    <a:pt x="273" y="62"/>
                  </a:cubicBezTo>
                  <a:cubicBezTo>
                    <a:pt x="274" y="59"/>
                    <a:pt x="274" y="55"/>
                    <a:pt x="276" y="53"/>
                  </a:cubicBezTo>
                  <a:cubicBezTo>
                    <a:pt x="282" y="48"/>
                    <a:pt x="290" y="49"/>
                    <a:pt x="297" y="47"/>
                  </a:cubicBezTo>
                  <a:cubicBezTo>
                    <a:pt x="309" y="66"/>
                    <a:pt x="282" y="64"/>
                    <a:pt x="267" y="74"/>
                  </a:cubicBezTo>
                  <a:cubicBezTo>
                    <a:pt x="254" y="113"/>
                    <a:pt x="246" y="95"/>
                    <a:pt x="219" y="113"/>
                  </a:cubicBezTo>
                  <a:cubicBezTo>
                    <a:pt x="206" y="133"/>
                    <a:pt x="192" y="139"/>
                    <a:pt x="171" y="146"/>
                  </a:cubicBezTo>
                  <a:cubicBezTo>
                    <a:pt x="187" y="151"/>
                    <a:pt x="187" y="160"/>
                    <a:pt x="192" y="176"/>
                  </a:cubicBezTo>
                  <a:cubicBezTo>
                    <a:pt x="196" y="187"/>
                    <a:pt x="219" y="197"/>
                    <a:pt x="219" y="197"/>
                  </a:cubicBezTo>
                  <a:cubicBezTo>
                    <a:pt x="236" y="223"/>
                    <a:pt x="213" y="274"/>
                    <a:pt x="243" y="284"/>
                  </a:cubicBezTo>
                  <a:cubicBezTo>
                    <a:pt x="245" y="287"/>
                    <a:pt x="247" y="290"/>
                    <a:pt x="249" y="293"/>
                  </a:cubicBezTo>
                  <a:cubicBezTo>
                    <a:pt x="250" y="296"/>
                    <a:pt x="252" y="305"/>
                    <a:pt x="252" y="302"/>
                  </a:cubicBezTo>
                  <a:cubicBezTo>
                    <a:pt x="252" y="296"/>
                    <a:pt x="251" y="290"/>
                    <a:pt x="249" y="284"/>
                  </a:cubicBezTo>
                  <a:cubicBezTo>
                    <a:pt x="246" y="277"/>
                    <a:pt x="237" y="266"/>
                    <a:pt x="237" y="266"/>
                  </a:cubicBezTo>
                  <a:cubicBezTo>
                    <a:pt x="234" y="231"/>
                    <a:pt x="240" y="218"/>
                    <a:pt x="213" y="200"/>
                  </a:cubicBezTo>
                  <a:cubicBezTo>
                    <a:pt x="203" y="201"/>
                    <a:pt x="193" y="203"/>
                    <a:pt x="183" y="203"/>
                  </a:cubicBezTo>
                  <a:cubicBezTo>
                    <a:pt x="174" y="203"/>
                    <a:pt x="164" y="196"/>
                    <a:pt x="156" y="200"/>
                  </a:cubicBezTo>
                  <a:cubicBezTo>
                    <a:pt x="148" y="204"/>
                    <a:pt x="168" y="213"/>
                    <a:pt x="171" y="221"/>
                  </a:cubicBezTo>
                  <a:cubicBezTo>
                    <a:pt x="175" y="230"/>
                    <a:pt x="178" y="241"/>
                    <a:pt x="180" y="251"/>
                  </a:cubicBezTo>
                  <a:cubicBezTo>
                    <a:pt x="178" y="263"/>
                    <a:pt x="174" y="275"/>
                    <a:pt x="171" y="287"/>
                  </a:cubicBezTo>
                  <a:cubicBezTo>
                    <a:pt x="169" y="297"/>
                    <a:pt x="165" y="317"/>
                    <a:pt x="165" y="317"/>
                  </a:cubicBezTo>
                  <a:cubicBezTo>
                    <a:pt x="166" y="320"/>
                    <a:pt x="168" y="336"/>
                    <a:pt x="177" y="323"/>
                  </a:cubicBezTo>
                  <a:cubicBezTo>
                    <a:pt x="181" y="318"/>
                    <a:pt x="183" y="305"/>
                    <a:pt x="183" y="305"/>
                  </a:cubicBezTo>
                  <a:cubicBezTo>
                    <a:pt x="173" y="267"/>
                    <a:pt x="184" y="203"/>
                    <a:pt x="144" y="176"/>
                  </a:cubicBezTo>
                  <a:cubicBezTo>
                    <a:pt x="134" y="161"/>
                    <a:pt x="123" y="144"/>
                    <a:pt x="108" y="134"/>
                  </a:cubicBezTo>
                  <a:cubicBezTo>
                    <a:pt x="102" y="136"/>
                    <a:pt x="96" y="138"/>
                    <a:pt x="90" y="140"/>
                  </a:cubicBezTo>
                  <a:cubicBezTo>
                    <a:pt x="87" y="141"/>
                    <a:pt x="81" y="143"/>
                    <a:pt x="81" y="143"/>
                  </a:cubicBezTo>
                  <a:cubicBezTo>
                    <a:pt x="72" y="152"/>
                    <a:pt x="70" y="163"/>
                    <a:pt x="60" y="170"/>
                  </a:cubicBezTo>
                  <a:cubicBezTo>
                    <a:pt x="51" y="176"/>
                    <a:pt x="33" y="185"/>
                    <a:pt x="33" y="185"/>
                  </a:cubicBezTo>
                  <a:cubicBezTo>
                    <a:pt x="19" y="206"/>
                    <a:pt x="28" y="201"/>
                    <a:pt x="12" y="206"/>
                  </a:cubicBezTo>
                  <a:cubicBezTo>
                    <a:pt x="18" y="178"/>
                    <a:pt x="33" y="185"/>
                    <a:pt x="54" y="173"/>
                  </a:cubicBezTo>
                  <a:cubicBezTo>
                    <a:pt x="82" y="157"/>
                    <a:pt x="95" y="147"/>
                    <a:pt x="126" y="137"/>
                  </a:cubicBezTo>
                  <a:cubicBezTo>
                    <a:pt x="110" y="125"/>
                    <a:pt x="97" y="123"/>
                    <a:pt x="78" y="128"/>
                  </a:cubicBezTo>
                  <a:cubicBezTo>
                    <a:pt x="56" y="142"/>
                    <a:pt x="66" y="137"/>
                    <a:pt x="48" y="146"/>
                  </a:cubicBezTo>
                  <a:cubicBezTo>
                    <a:pt x="28" y="141"/>
                    <a:pt x="37" y="147"/>
                    <a:pt x="30" y="119"/>
                  </a:cubicBezTo>
                  <a:cubicBezTo>
                    <a:pt x="29" y="115"/>
                    <a:pt x="28" y="111"/>
                    <a:pt x="27" y="107"/>
                  </a:cubicBezTo>
                  <a:cubicBezTo>
                    <a:pt x="26" y="103"/>
                    <a:pt x="21" y="92"/>
                    <a:pt x="24" y="95"/>
                  </a:cubicBezTo>
                  <a:cubicBezTo>
                    <a:pt x="56" y="127"/>
                    <a:pt x="48" y="123"/>
                    <a:pt x="90" y="128"/>
                  </a:cubicBezTo>
                  <a:cubicBezTo>
                    <a:pt x="99" y="134"/>
                    <a:pt x="108" y="137"/>
                    <a:pt x="117" y="143"/>
                  </a:cubicBezTo>
                  <a:cubicBezTo>
                    <a:pt x="129" y="120"/>
                    <a:pt x="118" y="54"/>
                    <a:pt x="117" y="41"/>
                  </a:cubicBezTo>
                  <a:cubicBezTo>
                    <a:pt x="116" y="35"/>
                    <a:pt x="111" y="23"/>
                    <a:pt x="111" y="23"/>
                  </a:cubicBezTo>
                  <a:cubicBezTo>
                    <a:pt x="86" y="40"/>
                    <a:pt x="113" y="76"/>
                    <a:pt x="126" y="95"/>
                  </a:cubicBezTo>
                  <a:cubicBezTo>
                    <a:pt x="125" y="110"/>
                    <a:pt x="134" y="129"/>
                    <a:pt x="123" y="140"/>
                  </a:cubicBezTo>
                  <a:cubicBezTo>
                    <a:pt x="116" y="147"/>
                    <a:pt x="110" y="124"/>
                    <a:pt x="102" y="119"/>
                  </a:cubicBezTo>
                  <a:cubicBezTo>
                    <a:pt x="89" y="111"/>
                    <a:pt x="82" y="110"/>
                    <a:pt x="66" y="107"/>
                  </a:cubicBezTo>
                  <a:cubicBezTo>
                    <a:pt x="56" y="100"/>
                    <a:pt x="49" y="93"/>
                    <a:pt x="42" y="83"/>
                  </a:cubicBezTo>
                  <a:cubicBezTo>
                    <a:pt x="40" y="79"/>
                    <a:pt x="48" y="89"/>
                    <a:pt x="51" y="92"/>
                  </a:cubicBezTo>
                  <a:cubicBezTo>
                    <a:pt x="58" y="98"/>
                    <a:pt x="61" y="99"/>
                    <a:pt x="69" y="101"/>
                  </a:cubicBezTo>
                  <a:cubicBezTo>
                    <a:pt x="77" y="103"/>
                    <a:pt x="93" y="107"/>
                    <a:pt x="93" y="107"/>
                  </a:cubicBezTo>
                  <a:cubicBezTo>
                    <a:pt x="103" y="114"/>
                    <a:pt x="107" y="121"/>
                    <a:pt x="117" y="128"/>
                  </a:cubicBezTo>
                  <a:cubicBezTo>
                    <a:pt x="119" y="131"/>
                    <a:pt x="120" y="134"/>
                    <a:pt x="123" y="137"/>
                  </a:cubicBezTo>
                  <a:cubicBezTo>
                    <a:pt x="126" y="140"/>
                    <a:pt x="130" y="140"/>
                    <a:pt x="132" y="143"/>
                  </a:cubicBezTo>
                  <a:cubicBezTo>
                    <a:pt x="134" y="145"/>
                    <a:pt x="135" y="152"/>
                    <a:pt x="135" y="152"/>
                  </a:cubicBezTo>
                </a:path>
              </a:pathLst>
            </a:custGeom>
            <a:solidFill>
              <a:srgbClr val="99ff99"/>
            </a:solidFill>
            <a:ln w="32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510040" y="16116480"/>
              <a:ext cx="954720" cy="735840"/>
            </a:xfrm>
            <a:custGeom>
              <a:avLst/>
              <a:gdLst/>
              <a:ahLst/>
              <a:rect l="l" t="t" r="r" b="b"/>
              <a:pathLst>
                <a:path w="345" h="319">
                  <a:moveTo>
                    <a:pt x="88" y="33"/>
                  </a:moveTo>
                  <a:cubicBezTo>
                    <a:pt x="110" y="40"/>
                    <a:pt x="119" y="75"/>
                    <a:pt x="124" y="96"/>
                  </a:cubicBezTo>
                  <a:cubicBezTo>
                    <a:pt x="125" y="113"/>
                    <a:pt x="127" y="143"/>
                    <a:pt x="139" y="159"/>
                  </a:cubicBezTo>
                  <a:cubicBezTo>
                    <a:pt x="149" y="172"/>
                    <a:pt x="161" y="168"/>
                    <a:pt x="169" y="192"/>
                  </a:cubicBezTo>
                  <a:cubicBezTo>
                    <a:pt x="171" y="189"/>
                    <a:pt x="177" y="186"/>
                    <a:pt x="175" y="183"/>
                  </a:cubicBezTo>
                  <a:cubicBezTo>
                    <a:pt x="171" y="177"/>
                    <a:pt x="157" y="171"/>
                    <a:pt x="157" y="171"/>
                  </a:cubicBezTo>
                  <a:cubicBezTo>
                    <a:pt x="144" y="152"/>
                    <a:pt x="141" y="123"/>
                    <a:pt x="124" y="111"/>
                  </a:cubicBezTo>
                  <a:cubicBezTo>
                    <a:pt x="106" y="84"/>
                    <a:pt x="118" y="59"/>
                    <a:pt x="97" y="27"/>
                  </a:cubicBezTo>
                  <a:cubicBezTo>
                    <a:pt x="93" y="21"/>
                    <a:pt x="104" y="39"/>
                    <a:pt x="106" y="45"/>
                  </a:cubicBezTo>
                  <a:cubicBezTo>
                    <a:pt x="110" y="78"/>
                    <a:pt x="123" y="95"/>
                    <a:pt x="136" y="123"/>
                  </a:cubicBezTo>
                  <a:cubicBezTo>
                    <a:pt x="140" y="132"/>
                    <a:pt x="142" y="150"/>
                    <a:pt x="148" y="159"/>
                  </a:cubicBezTo>
                  <a:cubicBezTo>
                    <a:pt x="162" y="180"/>
                    <a:pt x="158" y="170"/>
                    <a:pt x="163" y="186"/>
                  </a:cubicBezTo>
                  <a:cubicBezTo>
                    <a:pt x="168" y="162"/>
                    <a:pt x="163" y="126"/>
                    <a:pt x="175" y="105"/>
                  </a:cubicBezTo>
                  <a:cubicBezTo>
                    <a:pt x="178" y="100"/>
                    <a:pt x="184" y="98"/>
                    <a:pt x="187" y="93"/>
                  </a:cubicBezTo>
                  <a:cubicBezTo>
                    <a:pt x="190" y="89"/>
                    <a:pt x="191" y="85"/>
                    <a:pt x="193" y="81"/>
                  </a:cubicBezTo>
                  <a:cubicBezTo>
                    <a:pt x="198" y="54"/>
                    <a:pt x="200" y="27"/>
                    <a:pt x="202" y="0"/>
                  </a:cubicBezTo>
                  <a:cubicBezTo>
                    <a:pt x="204" y="6"/>
                    <a:pt x="206" y="12"/>
                    <a:pt x="208" y="18"/>
                  </a:cubicBezTo>
                  <a:cubicBezTo>
                    <a:pt x="209" y="21"/>
                    <a:pt x="211" y="27"/>
                    <a:pt x="211" y="27"/>
                  </a:cubicBezTo>
                  <a:cubicBezTo>
                    <a:pt x="208" y="44"/>
                    <a:pt x="203" y="59"/>
                    <a:pt x="199" y="75"/>
                  </a:cubicBezTo>
                  <a:cubicBezTo>
                    <a:pt x="198" y="90"/>
                    <a:pt x="199" y="105"/>
                    <a:pt x="196" y="120"/>
                  </a:cubicBezTo>
                  <a:cubicBezTo>
                    <a:pt x="194" y="128"/>
                    <a:pt x="184" y="131"/>
                    <a:pt x="181" y="138"/>
                  </a:cubicBezTo>
                  <a:cubicBezTo>
                    <a:pt x="173" y="156"/>
                    <a:pt x="172" y="177"/>
                    <a:pt x="154" y="189"/>
                  </a:cubicBezTo>
                  <a:cubicBezTo>
                    <a:pt x="173" y="160"/>
                    <a:pt x="193" y="147"/>
                    <a:pt x="220" y="129"/>
                  </a:cubicBezTo>
                  <a:cubicBezTo>
                    <a:pt x="239" y="116"/>
                    <a:pt x="220" y="120"/>
                    <a:pt x="235" y="108"/>
                  </a:cubicBezTo>
                  <a:cubicBezTo>
                    <a:pt x="248" y="98"/>
                    <a:pt x="267" y="103"/>
                    <a:pt x="283" y="102"/>
                  </a:cubicBezTo>
                  <a:cubicBezTo>
                    <a:pt x="290" y="98"/>
                    <a:pt x="297" y="94"/>
                    <a:pt x="304" y="90"/>
                  </a:cubicBezTo>
                  <a:cubicBezTo>
                    <a:pt x="307" y="89"/>
                    <a:pt x="316" y="87"/>
                    <a:pt x="313" y="87"/>
                  </a:cubicBezTo>
                  <a:cubicBezTo>
                    <a:pt x="305" y="88"/>
                    <a:pt x="297" y="89"/>
                    <a:pt x="289" y="90"/>
                  </a:cubicBezTo>
                  <a:cubicBezTo>
                    <a:pt x="277" y="98"/>
                    <a:pt x="264" y="102"/>
                    <a:pt x="250" y="105"/>
                  </a:cubicBezTo>
                  <a:cubicBezTo>
                    <a:pt x="241" y="119"/>
                    <a:pt x="225" y="136"/>
                    <a:pt x="211" y="144"/>
                  </a:cubicBezTo>
                  <a:cubicBezTo>
                    <a:pt x="205" y="147"/>
                    <a:pt x="193" y="150"/>
                    <a:pt x="193" y="150"/>
                  </a:cubicBezTo>
                  <a:cubicBezTo>
                    <a:pt x="186" y="160"/>
                    <a:pt x="164" y="188"/>
                    <a:pt x="169" y="189"/>
                  </a:cubicBezTo>
                  <a:cubicBezTo>
                    <a:pt x="182" y="191"/>
                    <a:pt x="195" y="187"/>
                    <a:pt x="208" y="186"/>
                  </a:cubicBezTo>
                  <a:cubicBezTo>
                    <a:pt x="224" y="181"/>
                    <a:pt x="240" y="179"/>
                    <a:pt x="256" y="174"/>
                  </a:cubicBezTo>
                  <a:cubicBezTo>
                    <a:pt x="275" y="187"/>
                    <a:pt x="267" y="195"/>
                    <a:pt x="295" y="204"/>
                  </a:cubicBezTo>
                  <a:cubicBezTo>
                    <a:pt x="303" y="227"/>
                    <a:pt x="317" y="228"/>
                    <a:pt x="325" y="252"/>
                  </a:cubicBezTo>
                  <a:cubicBezTo>
                    <a:pt x="318" y="254"/>
                    <a:pt x="311" y="259"/>
                    <a:pt x="304" y="258"/>
                  </a:cubicBezTo>
                  <a:cubicBezTo>
                    <a:pt x="294" y="257"/>
                    <a:pt x="296" y="222"/>
                    <a:pt x="277" y="216"/>
                  </a:cubicBezTo>
                  <a:cubicBezTo>
                    <a:pt x="270" y="195"/>
                    <a:pt x="276" y="202"/>
                    <a:pt x="262" y="192"/>
                  </a:cubicBezTo>
                  <a:cubicBezTo>
                    <a:pt x="234" y="196"/>
                    <a:pt x="207" y="191"/>
                    <a:pt x="178" y="189"/>
                  </a:cubicBezTo>
                  <a:cubicBezTo>
                    <a:pt x="167" y="182"/>
                    <a:pt x="165" y="172"/>
                    <a:pt x="151" y="177"/>
                  </a:cubicBezTo>
                  <a:cubicBezTo>
                    <a:pt x="136" y="200"/>
                    <a:pt x="132" y="224"/>
                    <a:pt x="103" y="234"/>
                  </a:cubicBezTo>
                  <a:cubicBezTo>
                    <a:pt x="89" y="248"/>
                    <a:pt x="74" y="256"/>
                    <a:pt x="58" y="267"/>
                  </a:cubicBezTo>
                  <a:cubicBezTo>
                    <a:pt x="65" y="269"/>
                    <a:pt x="72" y="272"/>
                    <a:pt x="79" y="273"/>
                  </a:cubicBezTo>
                  <a:cubicBezTo>
                    <a:pt x="99" y="275"/>
                    <a:pt x="115" y="241"/>
                    <a:pt x="136" y="234"/>
                  </a:cubicBezTo>
                  <a:cubicBezTo>
                    <a:pt x="150" y="220"/>
                    <a:pt x="148" y="201"/>
                    <a:pt x="163" y="186"/>
                  </a:cubicBezTo>
                  <a:cubicBezTo>
                    <a:pt x="150" y="182"/>
                    <a:pt x="141" y="187"/>
                    <a:pt x="127" y="189"/>
                  </a:cubicBezTo>
                  <a:cubicBezTo>
                    <a:pt x="96" y="179"/>
                    <a:pt x="60" y="190"/>
                    <a:pt x="28" y="192"/>
                  </a:cubicBezTo>
                  <a:cubicBezTo>
                    <a:pt x="12" y="188"/>
                    <a:pt x="0" y="172"/>
                    <a:pt x="22" y="165"/>
                  </a:cubicBezTo>
                  <a:cubicBezTo>
                    <a:pt x="32" y="166"/>
                    <a:pt x="44" y="165"/>
                    <a:pt x="52" y="171"/>
                  </a:cubicBezTo>
                  <a:cubicBezTo>
                    <a:pt x="59" y="176"/>
                    <a:pt x="70" y="189"/>
                    <a:pt x="70" y="189"/>
                  </a:cubicBezTo>
                  <a:cubicBezTo>
                    <a:pt x="110" y="187"/>
                    <a:pt x="132" y="188"/>
                    <a:pt x="166" y="180"/>
                  </a:cubicBezTo>
                  <a:cubicBezTo>
                    <a:pt x="148" y="178"/>
                    <a:pt x="129" y="179"/>
                    <a:pt x="112" y="174"/>
                  </a:cubicBezTo>
                  <a:cubicBezTo>
                    <a:pt x="99" y="170"/>
                    <a:pt x="96" y="141"/>
                    <a:pt x="85" y="138"/>
                  </a:cubicBezTo>
                  <a:cubicBezTo>
                    <a:pt x="58" y="131"/>
                    <a:pt x="69" y="135"/>
                    <a:pt x="52" y="129"/>
                  </a:cubicBezTo>
                  <a:cubicBezTo>
                    <a:pt x="44" y="117"/>
                    <a:pt x="38" y="116"/>
                    <a:pt x="34" y="102"/>
                  </a:cubicBezTo>
                  <a:cubicBezTo>
                    <a:pt x="32" y="96"/>
                    <a:pt x="28" y="84"/>
                    <a:pt x="28" y="84"/>
                  </a:cubicBezTo>
                  <a:cubicBezTo>
                    <a:pt x="48" y="79"/>
                    <a:pt x="46" y="90"/>
                    <a:pt x="52" y="108"/>
                  </a:cubicBezTo>
                  <a:cubicBezTo>
                    <a:pt x="53" y="111"/>
                    <a:pt x="52" y="116"/>
                    <a:pt x="55" y="117"/>
                  </a:cubicBezTo>
                  <a:cubicBezTo>
                    <a:pt x="70" y="122"/>
                    <a:pt x="85" y="125"/>
                    <a:pt x="100" y="129"/>
                  </a:cubicBezTo>
                  <a:cubicBezTo>
                    <a:pt x="113" y="138"/>
                    <a:pt x="111" y="152"/>
                    <a:pt x="121" y="162"/>
                  </a:cubicBezTo>
                  <a:cubicBezTo>
                    <a:pt x="137" y="178"/>
                    <a:pt x="161" y="187"/>
                    <a:pt x="178" y="204"/>
                  </a:cubicBezTo>
                  <a:cubicBezTo>
                    <a:pt x="174" y="232"/>
                    <a:pt x="179" y="219"/>
                    <a:pt x="163" y="243"/>
                  </a:cubicBezTo>
                  <a:cubicBezTo>
                    <a:pt x="161" y="246"/>
                    <a:pt x="157" y="252"/>
                    <a:pt x="157" y="252"/>
                  </a:cubicBezTo>
                  <a:cubicBezTo>
                    <a:pt x="152" y="272"/>
                    <a:pt x="150" y="292"/>
                    <a:pt x="145" y="312"/>
                  </a:cubicBezTo>
                  <a:cubicBezTo>
                    <a:pt x="143" y="318"/>
                    <a:pt x="121" y="319"/>
                    <a:pt x="127" y="318"/>
                  </a:cubicBezTo>
                  <a:cubicBezTo>
                    <a:pt x="132" y="317"/>
                    <a:pt x="137" y="316"/>
                    <a:pt x="142" y="315"/>
                  </a:cubicBezTo>
                  <a:cubicBezTo>
                    <a:pt x="167" y="297"/>
                    <a:pt x="167" y="278"/>
                    <a:pt x="172" y="249"/>
                  </a:cubicBezTo>
                  <a:cubicBezTo>
                    <a:pt x="174" y="241"/>
                    <a:pt x="176" y="233"/>
                    <a:pt x="178" y="225"/>
                  </a:cubicBezTo>
                  <a:cubicBezTo>
                    <a:pt x="180" y="219"/>
                    <a:pt x="184" y="207"/>
                    <a:pt x="184" y="207"/>
                  </a:cubicBezTo>
                  <a:cubicBezTo>
                    <a:pt x="195" y="223"/>
                    <a:pt x="187" y="265"/>
                    <a:pt x="211" y="273"/>
                  </a:cubicBezTo>
                  <a:cubicBezTo>
                    <a:pt x="219" y="276"/>
                    <a:pt x="227" y="275"/>
                    <a:pt x="235" y="276"/>
                  </a:cubicBezTo>
                  <a:cubicBezTo>
                    <a:pt x="246" y="285"/>
                    <a:pt x="261" y="291"/>
                    <a:pt x="268" y="303"/>
                  </a:cubicBezTo>
                  <a:cubicBezTo>
                    <a:pt x="270" y="307"/>
                    <a:pt x="271" y="315"/>
                    <a:pt x="271" y="315"/>
                  </a:cubicBezTo>
                  <a:cubicBezTo>
                    <a:pt x="271" y="315"/>
                    <a:pt x="269" y="307"/>
                    <a:pt x="268" y="303"/>
                  </a:cubicBezTo>
                  <a:cubicBezTo>
                    <a:pt x="266" y="294"/>
                    <a:pt x="267" y="284"/>
                    <a:pt x="262" y="276"/>
                  </a:cubicBezTo>
                  <a:cubicBezTo>
                    <a:pt x="257" y="268"/>
                    <a:pt x="242" y="262"/>
                    <a:pt x="235" y="258"/>
                  </a:cubicBezTo>
                  <a:cubicBezTo>
                    <a:pt x="229" y="254"/>
                    <a:pt x="217" y="246"/>
                    <a:pt x="217" y="246"/>
                  </a:cubicBezTo>
                  <a:cubicBezTo>
                    <a:pt x="207" y="231"/>
                    <a:pt x="202" y="217"/>
                    <a:pt x="187" y="207"/>
                  </a:cubicBezTo>
                  <a:cubicBezTo>
                    <a:pt x="173" y="187"/>
                    <a:pt x="215" y="190"/>
                    <a:pt x="232" y="186"/>
                  </a:cubicBezTo>
                  <a:cubicBezTo>
                    <a:pt x="256" y="150"/>
                    <a:pt x="271" y="163"/>
                    <a:pt x="310" y="150"/>
                  </a:cubicBezTo>
                  <a:cubicBezTo>
                    <a:pt x="324" y="155"/>
                    <a:pt x="329" y="153"/>
                    <a:pt x="337" y="141"/>
                  </a:cubicBezTo>
                  <a:cubicBezTo>
                    <a:pt x="339" y="133"/>
                    <a:pt x="341" y="125"/>
                    <a:pt x="343" y="117"/>
                  </a:cubicBezTo>
                  <a:cubicBezTo>
                    <a:pt x="345" y="111"/>
                    <a:pt x="331" y="121"/>
                    <a:pt x="325" y="123"/>
                  </a:cubicBezTo>
                  <a:cubicBezTo>
                    <a:pt x="316" y="126"/>
                    <a:pt x="298" y="135"/>
                    <a:pt x="298" y="135"/>
                  </a:cubicBezTo>
                  <a:cubicBezTo>
                    <a:pt x="276" y="157"/>
                    <a:pt x="256" y="160"/>
                    <a:pt x="226" y="165"/>
                  </a:cubicBezTo>
                  <a:cubicBezTo>
                    <a:pt x="213" y="174"/>
                    <a:pt x="206" y="186"/>
                    <a:pt x="193" y="195"/>
                  </a:cubicBezTo>
                  <a:cubicBezTo>
                    <a:pt x="185" y="171"/>
                    <a:pt x="188" y="161"/>
                    <a:pt x="211" y="153"/>
                  </a:cubicBezTo>
                  <a:cubicBezTo>
                    <a:pt x="220" y="139"/>
                    <a:pt x="237" y="83"/>
                    <a:pt x="247" y="78"/>
                  </a:cubicBezTo>
                  <a:cubicBezTo>
                    <a:pt x="254" y="74"/>
                    <a:pt x="263" y="74"/>
                    <a:pt x="271" y="72"/>
                  </a:cubicBezTo>
                  <a:cubicBezTo>
                    <a:pt x="278" y="65"/>
                    <a:pt x="286" y="45"/>
                    <a:pt x="286" y="45"/>
                  </a:cubicBezTo>
                  <a:cubicBezTo>
                    <a:pt x="279" y="11"/>
                    <a:pt x="270" y="43"/>
                    <a:pt x="259" y="57"/>
                  </a:cubicBezTo>
                  <a:cubicBezTo>
                    <a:pt x="240" y="81"/>
                    <a:pt x="232" y="110"/>
                    <a:pt x="223" y="138"/>
                  </a:cubicBezTo>
                  <a:cubicBezTo>
                    <a:pt x="216" y="158"/>
                    <a:pt x="210" y="156"/>
                    <a:pt x="193" y="162"/>
                  </a:cubicBezTo>
                  <a:cubicBezTo>
                    <a:pt x="187" y="164"/>
                    <a:pt x="175" y="168"/>
                    <a:pt x="175" y="168"/>
                  </a:cubicBezTo>
                  <a:cubicBezTo>
                    <a:pt x="172" y="156"/>
                    <a:pt x="166" y="139"/>
                    <a:pt x="166" y="126"/>
                  </a:cubicBezTo>
                  <a:cubicBezTo>
                    <a:pt x="167" y="105"/>
                    <a:pt x="172" y="63"/>
                    <a:pt x="172" y="63"/>
                  </a:cubicBezTo>
                  <a:cubicBezTo>
                    <a:pt x="169" y="46"/>
                    <a:pt x="166" y="42"/>
                    <a:pt x="154" y="30"/>
                  </a:cubicBezTo>
                  <a:cubicBezTo>
                    <a:pt x="147" y="8"/>
                    <a:pt x="146" y="18"/>
                    <a:pt x="151" y="0"/>
                  </a:cubicBezTo>
                  <a:cubicBezTo>
                    <a:pt x="155" y="17"/>
                    <a:pt x="157" y="28"/>
                    <a:pt x="166" y="42"/>
                  </a:cubicBezTo>
                  <a:cubicBezTo>
                    <a:pt x="174" y="74"/>
                    <a:pt x="169" y="103"/>
                    <a:pt x="163" y="135"/>
                  </a:cubicBezTo>
                  <a:cubicBezTo>
                    <a:pt x="165" y="149"/>
                    <a:pt x="172" y="171"/>
                    <a:pt x="172" y="186"/>
                  </a:cubicBezTo>
                </a:path>
              </a:pathLst>
            </a:custGeom>
            <a:solidFill>
              <a:srgbClr val="99ffcc"/>
            </a:solidFill>
            <a:ln w="32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7629200" y="16192080"/>
              <a:ext cx="647280" cy="604440"/>
            </a:xfrm>
            <a:custGeom>
              <a:avLst/>
              <a:gdLst/>
              <a:ahLst/>
              <a:rect l="l" t="t" r="r" b="b"/>
              <a:pathLst>
                <a:path w="234" h="262">
                  <a:moveTo>
                    <a:pt x="114" y="42"/>
                  </a:moveTo>
                  <a:cubicBezTo>
                    <a:pt x="110" y="36"/>
                    <a:pt x="106" y="30"/>
                    <a:pt x="102" y="24"/>
                  </a:cubicBezTo>
                  <a:cubicBezTo>
                    <a:pt x="98" y="19"/>
                    <a:pt x="94" y="0"/>
                    <a:pt x="96" y="6"/>
                  </a:cubicBezTo>
                  <a:cubicBezTo>
                    <a:pt x="106" y="34"/>
                    <a:pt x="99" y="24"/>
                    <a:pt x="114" y="39"/>
                  </a:cubicBezTo>
                  <a:cubicBezTo>
                    <a:pt x="120" y="58"/>
                    <a:pt x="110" y="77"/>
                    <a:pt x="105" y="96"/>
                  </a:cubicBezTo>
                  <a:cubicBezTo>
                    <a:pt x="107" y="112"/>
                    <a:pt x="122" y="153"/>
                    <a:pt x="102" y="126"/>
                  </a:cubicBezTo>
                  <a:cubicBezTo>
                    <a:pt x="98" y="102"/>
                    <a:pt x="93" y="89"/>
                    <a:pt x="69" y="81"/>
                  </a:cubicBezTo>
                  <a:cubicBezTo>
                    <a:pt x="61" y="69"/>
                    <a:pt x="59" y="53"/>
                    <a:pt x="45" y="48"/>
                  </a:cubicBezTo>
                  <a:cubicBezTo>
                    <a:pt x="7" y="56"/>
                    <a:pt x="45" y="65"/>
                    <a:pt x="57" y="69"/>
                  </a:cubicBezTo>
                  <a:cubicBezTo>
                    <a:pt x="68" y="80"/>
                    <a:pt x="72" y="94"/>
                    <a:pt x="84" y="102"/>
                  </a:cubicBezTo>
                  <a:cubicBezTo>
                    <a:pt x="89" y="118"/>
                    <a:pt x="99" y="136"/>
                    <a:pt x="108" y="150"/>
                  </a:cubicBezTo>
                  <a:cubicBezTo>
                    <a:pt x="89" y="158"/>
                    <a:pt x="72" y="163"/>
                    <a:pt x="54" y="174"/>
                  </a:cubicBezTo>
                  <a:cubicBezTo>
                    <a:pt x="48" y="178"/>
                    <a:pt x="43" y="185"/>
                    <a:pt x="36" y="186"/>
                  </a:cubicBezTo>
                  <a:cubicBezTo>
                    <a:pt x="8" y="190"/>
                    <a:pt x="20" y="187"/>
                    <a:pt x="0" y="192"/>
                  </a:cubicBezTo>
                  <a:cubicBezTo>
                    <a:pt x="18" y="198"/>
                    <a:pt x="48" y="188"/>
                    <a:pt x="66" y="186"/>
                  </a:cubicBezTo>
                  <a:cubicBezTo>
                    <a:pt x="75" y="183"/>
                    <a:pt x="88" y="185"/>
                    <a:pt x="93" y="177"/>
                  </a:cubicBezTo>
                  <a:cubicBezTo>
                    <a:pt x="100" y="166"/>
                    <a:pt x="99" y="160"/>
                    <a:pt x="111" y="156"/>
                  </a:cubicBezTo>
                  <a:cubicBezTo>
                    <a:pt x="113" y="162"/>
                    <a:pt x="113" y="169"/>
                    <a:pt x="117" y="174"/>
                  </a:cubicBezTo>
                  <a:cubicBezTo>
                    <a:pt x="121" y="180"/>
                    <a:pt x="129" y="192"/>
                    <a:pt x="129" y="192"/>
                  </a:cubicBezTo>
                  <a:cubicBezTo>
                    <a:pt x="121" y="234"/>
                    <a:pt x="120" y="215"/>
                    <a:pt x="111" y="243"/>
                  </a:cubicBezTo>
                  <a:cubicBezTo>
                    <a:pt x="123" y="262"/>
                    <a:pt x="129" y="234"/>
                    <a:pt x="138" y="222"/>
                  </a:cubicBezTo>
                  <a:cubicBezTo>
                    <a:pt x="140" y="213"/>
                    <a:pt x="147" y="204"/>
                    <a:pt x="144" y="195"/>
                  </a:cubicBezTo>
                  <a:cubicBezTo>
                    <a:pt x="142" y="188"/>
                    <a:pt x="136" y="183"/>
                    <a:pt x="132" y="177"/>
                  </a:cubicBezTo>
                  <a:cubicBezTo>
                    <a:pt x="130" y="174"/>
                    <a:pt x="126" y="168"/>
                    <a:pt x="126" y="168"/>
                  </a:cubicBezTo>
                  <a:cubicBezTo>
                    <a:pt x="155" y="139"/>
                    <a:pt x="150" y="163"/>
                    <a:pt x="165" y="180"/>
                  </a:cubicBezTo>
                  <a:cubicBezTo>
                    <a:pt x="174" y="191"/>
                    <a:pt x="179" y="189"/>
                    <a:pt x="192" y="192"/>
                  </a:cubicBezTo>
                  <a:cubicBezTo>
                    <a:pt x="165" y="155"/>
                    <a:pt x="163" y="165"/>
                    <a:pt x="108" y="162"/>
                  </a:cubicBezTo>
                  <a:cubicBezTo>
                    <a:pt x="115" y="121"/>
                    <a:pt x="145" y="137"/>
                    <a:pt x="189" y="135"/>
                  </a:cubicBezTo>
                  <a:cubicBezTo>
                    <a:pt x="207" y="117"/>
                    <a:pt x="211" y="113"/>
                    <a:pt x="234" y="102"/>
                  </a:cubicBezTo>
                  <a:cubicBezTo>
                    <a:pt x="233" y="98"/>
                    <a:pt x="234" y="92"/>
                    <a:pt x="231" y="90"/>
                  </a:cubicBezTo>
                  <a:cubicBezTo>
                    <a:pt x="223" y="84"/>
                    <a:pt x="216" y="105"/>
                    <a:pt x="216" y="105"/>
                  </a:cubicBezTo>
                  <a:cubicBezTo>
                    <a:pt x="206" y="117"/>
                    <a:pt x="183" y="120"/>
                    <a:pt x="171" y="123"/>
                  </a:cubicBezTo>
                  <a:cubicBezTo>
                    <a:pt x="148" y="138"/>
                    <a:pt x="160" y="134"/>
                    <a:pt x="135" y="138"/>
                  </a:cubicBezTo>
                  <a:cubicBezTo>
                    <a:pt x="139" y="123"/>
                    <a:pt x="145" y="122"/>
                    <a:pt x="156" y="111"/>
                  </a:cubicBezTo>
                  <a:cubicBezTo>
                    <a:pt x="162" y="92"/>
                    <a:pt x="173" y="74"/>
                    <a:pt x="189" y="63"/>
                  </a:cubicBezTo>
                  <a:cubicBezTo>
                    <a:pt x="197" y="51"/>
                    <a:pt x="199" y="48"/>
                    <a:pt x="195" y="33"/>
                  </a:cubicBezTo>
                  <a:cubicBezTo>
                    <a:pt x="183" y="41"/>
                    <a:pt x="183" y="46"/>
                    <a:pt x="180" y="60"/>
                  </a:cubicBezTo>
                  <a:cubicBezTo>
                    <a:pt x="177" y="101"/>
                    <a:pt x="168" y="129"/>
                    <a:pt x="132" y="147"/>
                  </a:cubicBezTo>
                  <a:lnTo>
                    <a:pt x="84" y="135"/>
                  </a:lnTo>
                </a:path>
              </a:pathLst>
            </a:custGeom>
            <a:solidFill>
              <a:srgbClr val="66ff33"/>
            </a:solidFill>
            <a:ln w="3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16138440" y="16230600"/>
            <a:ext cx="1020600" cy="758160"/>
            <a:chOff x="16138440" y="16230600"/>
            <a:chExt cx="1020600" cy="758160"/>
          </a:xfrm>
        </p:grpSpPr>
        <p:sp>
          <p:nvSpPr>
            <p:cNvPr id="1821" name=""/>
            <p:cNvSpPr/>
            <p:nvPr/>
          </p:nvSpPr>
          <p:spPr>
            <a:xfrm>
              <a:off x="16176240" y="16232400"/>
              <a:ext cx="982800" cy="756360"/>
            </a:xfrm>
            <a:custGeom>
              <a:avLst/>
              <a:gdLst/>
              <a:ahLst/>
              <a:rect l="l" t="t" r="r" b="b"/>
              <a:pathLst>
                <a:path w="342" h="336">
                  <a:moveTo>
                    <a:pt x="123" y="11"/>
                  </a:moveTo>
                  <a:cubicBezTo>
                    <a:pt x="127" y="24"/>
                    <a:pt x="134" y="34"/>
                    <a:pt x="138" y="47"/>
                  </a:cubicBezTo>
                  <a:cubicBezTo>
                    <a:pt x="136" y="69"/>
                    <a:pt x="132" y="83"/>
                    <a:pt x="120" y="101"/>
                  </a:cubicBezTo>
                  <a:cubicBezTo>
                    <a:pt x="114" y="143"/>
                    <a:pt x="105" y="136"/>
                    <a:pt x="81" y="164"/>
                  </a:cubicBezTo>
                  <a:cubicBezTo>
                    <a:pt x="57" y="192"/>
                    <a:pt x="77" y="202"/>
                    <a:pt x="39" y="221"/>
                  </a:cubicBezTo>
                  <a:cubicBezTo>
                    <a:pt x="24" y="243"/>
                    <a:pt x="20" y="240"/>
                    <a:pt x="42" y="236"/>
                  </a:cubicBezTo>
                  <a:cubicBezTo>
                    <a:pt x="63" y="222"/>
                    <a:pt x="75" y="202"/>
                    <a:pt x="96" y="188"/>
                  </a:cubicBezTo>
                  <a:cubicBezTo>
                    <a:pt x="103" y="178"/>
                    <a:pt x="104" y="169"/>
                    <a:pt x="108" y="158"/>
                  </a:cubicBezTo>
                  <a:cubicBezTo>
                    <a:pt x="103" y="90"/>
                    <a:pt x="103" y="127"/>
                    <a:pt x="126" y="143"/>
                  </a:cubicBezTo>
                  <a:cubicBezTo>
                    <a:pt x="132" y="153"/>
                    <a:pt x="135" y="152"/>
                    <a:pt x="129" y="164"/>
                  </a:cubicBezTo>
                  <a:cubicBezTo>
                    <a:pt x="121" y="179"/>
                    <a:pt x="109" y="195"/>
                    <a:pt x="99" y="209"/>
                  </a:cubicBezTo>
                  <a:cubicBezTo>
                    <a:pt x="92" y="220"/>
                    <a:pt x="88" y="234"/>
                    <a:pt x="81" y="245"/>
                  </a:cubicBezTo>
                  <a:cubicBezTo>
                    <a:pt x="71" y="259"/>
                    <a:pt x="76" y="251"/>
                    <a:pt x="69" y="272"/>
                  </a:cubicBezTo>
                  <a:cubicBezTo>
                    <a:pt x="65" y="283"/>
                    <a:pt x="63" y="290"/>
                    <a:pt x="63" y="290"/>
                  </a:cubicBezTo>
                  <a:cubicBezTo>
                    <a:pt x="79" y="285"/>
                    <a:pt x="69" y="289"/>
                    <a:pt x="90" y="275"/>
                  </a:cubicBezTo>
                  <a:cubicBezTo>
                    <a:pt x="93" y="273"/>
                    <a:pt x="99" y="269"/>
                    <a:pt x="99" y="269"/>
                  </a:cubicBezTo>
                  <a:cubicBezTo>
                    <a:pt x="107" y="244"/>
                    <a:pt x="95" y="283"/>
                    <a:pt x="105" y="227"/>
                  </a:cubicBezTo>
                  <a:cubicBezTo>
                    <a:pt x="109" y="207"/>
                    <a:pt x="121" y="190"/>
                    <a:pt x="126" y="170"/>
                  </a:cubicBezTo>
                  <a:cubicBezTo>
                    <a:pt x="128" y="173"/>
                    <a:pt x="132" y="175"/>
                    <a:pt x="132" y="179"/>
                  </a:cubicBezTo>
                  <a:cubicBezTo>
                    <a:pt x="134" y="209"/>
                    <a:pt x="128" y="235"/>
                    <a:pt x="120" y="263"/>
                  </a:cubicBezTo>
                  <a:cubicBezTo>
                    <a:pt x="119" y="265"/>
                    <a:pt x="114" y="287"/>
                    <a:pt x="108" y="290"/>
                  </a:cubicBezTo>
                  <a:cubicBezTo>
                    <a:pt x="104" y="293"/>
                    <a:pt x="98" y="292"/>
                    <a:pt x="93" y="293"/>
                  </a:cubicBezTo>
                  <a:cubicBezTo>
                    <a:pt x="92" y="296"/>
                    <a:pt x="88" y="300"/>
                    <a:pt x="90" y="302"/>
                  </a:cubicBezTo>
                  <a:cubicBezTo>
                    <a:pt x="92" y="304"/>
                    <a:pt x="96" y="301"/>
                    <a:pt x="99" y="299"/>
                  </a:cubicBezTo>
                  <a:cubicBezTo>
                    <a:pt x="105" y="295"/>
                    <a:pt x="111" y="291"/>
                    <a:pt x="117" y="287"/>
                  </a:cubicBezTo>
                  <a:cubicBezTo>
                    <a:pt x="120" y="285"/>
                    <a:pt x="126" y="281"/>
                    <a:pt x="126" y="281"/>
                  </a:cubicBezTo>
                  <a:cubicBezTo>
                    <a:pt x="146" y="251"/>
                    <a:pt x="136" y="229"/>
                    <a:pt x="138" y="185"/>
                  </a:cubicBezTo>
                  <a:cubicBezTo>
                    <a:pt x="146" y="198"/>
                    <a:pt x="147" y="205"/>
                    <a:pt x="150" y="221"/>
                  </a:cubicBezTo>
                  <a:cubicBezTo>
                    <a:pt x="146" y="251"/>
                    <a:pt x="135" y="272"/>
                    <a:pt x="126" y="299"/>
                  </a:cubicBezTo>
                  <a:cubicBezTo>
                    <a:pt x="127" y="308"/>
                    <a:pt x="130" y="326"/>
                    <a:pt x="138" y="323"/>
                  </a:cubicBezTo>
                  <a:cubicBezTo>
                    <a:pt x="140" y="322"/>
                    <a:pt x="152" y="296"/>
                    <a:pt x="153" y="293"/>
                  </a:cubicBezTo>
                  <a:cubicBezTo>
                    <a:pt x="156" y="287"/>
                    <a:pt x="159" y="275"/>
                    <a:pt x="159" y="275"/>
                  </a:cubicBezTo>
                  <a:cubicBezTo>
                    <a:pt x="157" y="244"/>
                    <a:pt x="151" y="223"/>
                    <a:pt x="144" y="194"/>
                  </a:cubicBezTo>
                  <a:cubicBezTo>
                    <a:pt x="150" y="157"/>
                    <a:pt x="150" y="148"/>
                    <a:pt x="180" y="128"/>
                  </a:cubicBezTo>
                  <a:cubicBezTo>
                    <a:pt x="192" y="92"/>
                    <a:pt x="200" y="66"/>
                    <a:pt x="240" y="56"/>
                  </a:cubicBezTo>
                  <a:cubicBezTo>
                    <a:pt x="243" y="26"/>
                    <a:pt x="239" y="22"/>
                    <a:pt x="267" y="17"/>
                  </a:cubicBezTo>
                  <a:cubicBezTo>
                    <a:pt x="271" y="29"/>
                    <a:pt x="271" y="34"/>
                    <a:pt x="258" y="38"/>
                  </a:cubicBezTo>
                  <a:cubicBezTo>
                    <a:pt x="250" y="50"/>
                    <a:pt x="248" y="79"/>
                    <a:pt x="234" y="86"/>
                  </a:cubicBezTo>
                  <a:cubicBezTo>
                    <a:pt x="227" y="90"/>
                    <a:pt x="218" y="89"/>
                    <a:pt x="210" y="92"/>
                  </a:cubicBezTo>
                  <a:cubicBezTo>
                    <a:pt x="188" y="114"/>
                    <a:pt x="190" y="141"/>
                    <a:pt x="156" y="152"/>
                  </a:cubicBezTo>
                  <a:cubicBezTo>
                    <a:pt x="154" y="158"/>
                    <a:pt x="152" y="164"/>
                    <a:pt x="150" y="170"/>
                  </a:cubicBezTo>
                  <a:cubicBezTo>
                    <a:pt x="135" y="214"/>
                    <a:pt x="165" y="158"/>
                    <a:pt x="183" y="155"/>
                  </a:cubicBezTo>
                  <a:cubicBezTo>
                    <a:pt x="200" y="152"/>
                    <a:pt x="217" y="153"/>
                    <a:pt x="234" y="152"/>
                  </a:cubicBezTo>
                  <a:cubicBezTo>
                    <a:pt x="244" y="145"/>
                    <a:pt x="248" y="138"/>
                    <a:pt x="258" y="131"/>
                  </a:cubicBezTo>
                  <a:cubicBezTo>
                    <a:pt x="272" y="136"/>
                    <a:pt x="282" y="133"/>
                    <a:pt x="294" y="125"/>
                  </a:cubicBezTo>
                  <a:cubicBezTo>
                    <a:pt x="297" y="107"/>
                    <a:pt x="297" y="101"/>
                    <a:pt x="309" y="89"/>
                  </a:cubicBezTo>
                  <a:cubicBezTo>
                    <a:pt x="311" y="82"/>
                    <a:pt x="315" y="65"/>
                    <a:pt x="309" y="68"/>
                  </a:cubicBezTo>
                  <a:cubicBezTo>
                    <a:pt x="300" y="72"/>
                    <a:pt x="283" y="111"/>
                    <a:pt x="279" y="122"/>
                  </a:cubicBezTo>
                  <a:cubicBezTo>
                    <a:pt x="276" y="130"/>
                    <a:pt x="250" y="131"/>
                    <a:pt x="249" y="131"/>
                  </a:cubicBezTo>
                  <a:cubicBezTo>
                    <a:pt x="237" y="135"/>
                    <a:pt x="233" y="144"/>
                    <a:pt x="222" y="149"/>
                  </a:cubicBezTo>
                  <a:cubicBezTo>
                    <a:pt x="209" y="155"/>
                    <a:pt x="166" y="155"/>
                    <a:pt x="165" y="155"/>
                  </a:cubicBezTo>
                  <a:cubicBezTo>
                    <a:pt x="152" y="193"/>
                    <a:pt x="168" y="191"/>
                    <a:pt x="192" y="215"/>
                  </a:cubicBezTo>
                  <a:cubicBezTo>
                    <a:pt x="203" y="249"/>
                    <a:pt x="193" y="286"/>
                    <a:pt x="204" y="320"/>
                  </a:cubicBezTo>
                  <a:cubicBezTo>
                    <a:pt x="214" y="306"/>
                    <a:pt x="209" y="314"/>
                    <a:pt x="216" y="293"/>
                  </a:cubicBezTo>
                  <a:cubicBezTo>
                    <a:pt x="217" y="290"/>
                    <a:pt x="219" y="284"/>
                    <a:pt x="219" y="284"/>
                  </a:cubicBezTo>
                  <a:cubicBezTo>
                    <a:pt x="216" y="261"/>
                    <a:pt x="211" y="253"/>
                    <a:pt x="204" y="233"/>
                  </a:cubicBezTo>
                  <a:cubicBezTo>
                    <a:pt x="199" y="196"/>
                    <a:pt x="201" y="199"/>
                    <a:pt x="168" y="191"/>
                  </a:cubicBezTo>
                  <a:cubicBezTo>
                    <a:pt x="188" y="206"/>
                    <a:pt x="201" y="203"/>
                    <a:pt x="225" y="197"/>
                  </a:cubicBezTo>
                  <a:cubicBezTo>
                    <a:pt x="258" y="208"/>
                    <a:pt x="239" y="246"/>
                    <a:pt x="264" y="254"/>
                  </a:cubicBezTo>
                  <a:cubicBezTo>
                    <a:pt x="279" y="249"/>
                    <a:pt x="286" y="261"/>
                    <a:pt x="300" y="266"/>
                  </a:cubicBezTo>
                  <a:cubicBezTo>
                    <a:pt x="325" y="250"/>
                    <a:pt x="275" y="249"/>
                    <a:pt x="267" y="248"/>
                  </a:cubicBezTo>
                  <a:cubicBezTo>
                    <a:pt x="247" y="241"/>
                    <a:pt x="259" y="219"/>
                    <a:pt x="249" y="203"/>
                  </a:cubicBezTo>
                  <a:cubicBezTo>
                    <a:pt x="242" y="193"/>
                    <a:pt x="230" y="190"/>
                    <a:pt x="219" y="185"/>
                  </a:cubicBezTo>
                  <a:cubicBezTo>
                    <a:pt x="204" y="186"/>
                    <a:pt x="189" y="186"/>
                    <a:pt x="174" y="188"/>
                  </a:cubicBezTo>
                  <a:cubicBezTo>
                    <a:pt x="171" y="188"/>
                    <a:pt x="162" y="191"/>
                    <a:pt x="165" y="191"/>
                  </a:cubicBezTo>
                  <a:cubicBezTo>
                    <a:pt x="169" y="191"/>
                    <a:pt x="173" y="189"/>
                    <a:pt x="177" y="188"/>
                  </a:cubicBezTo>
                  <a:cubicBezTo>
                    <a:pt x="216" y="190"/>
                    <a:pt x="250" y="191"/>
                    <a:pt x="288" y="197"/>
                  </a:cubicBezTo>
                  <a:cubicBezTo>
                    <a:pt x="294" y="195"/>
                    <a:pt x="301" y="187"/>
                    <a:pt x="306" y="191"/>
                  </a:cubicBezTo>
                  <a:cubicBezTo>
                    <a:pt x="312" y="195"/>
                    <a:pt x="324" y="203"/>
                    <a:pt x="324" y="203"/>
                  </a:cubicBezTo>
                  <a:cubicBezTo>
                    <a:pt x="342" y="191"/>
                    <a:pt x="333" y="181"/>
                    <a:pt x="318" y="176"/>
                  </a:cubicBezTo>
                  <a:cubicBezTo>
                    <a:pt x="293" y="180"/>
                    <a:pt x="268" y="178"/>
                    <a:pt x="243" y="173"/>
                  </a:cubicBezTo>
                  <a:cubicBezTo>
                    <a:pt x="218" y="177"/>
                    <a:pt x="199" y="187"/>
                    <a:pt x="174" y="191"/>
                  </a:cubicBezTo>
                  <a:cubicBezTo>
                    <a:pt x="201" y="164"/>
                    <a:pt x="225" y="172"/>
                    <a:pt x="264" y="170"/>
                  </a:cubicBezTo>
                  <a:cubicBezTo>
                    <a:pt x="280" y="159"/>
                    <a:pt x="293" y="155"/>
                    <a:pt x="312" y="152"/>
                  </a:cubicBezTo>
                  <a:cubicBezTo>
                    <a:pt x="323" y="145"/>
                    <a:pt x="323" y="139"/>
                    <a:pt x="330" y="128"/>
                  </a:cubicBezTo>
                  <a:cubicBezTo>
                    <a:pt x="324" y="110"/>
                    <a:pt x="304" y="140"/>
                    <a:pt x="288" y="146"/>
                  </a:cubicBezTo>
                  <a:cubicBezTo>
                    <a:pt x="271" y="152"/>
                    <a:pt x="234" y="151"/>
                    <a:pt x="225" y="152"/>
                  </a:cubicBezTo>
                  <a:cubicBezTo>
                    <a:pt x="202" y="160"/>
                    <a:pt x="199" y="163"/>
                    <a:pt x="180" y="182"/>
                  </a:cubicBezTo>
                  <a:cubicBezTo>
                    <a:pt x="177" y="185"/>
                    <a:pt x="171" y="191"/>
                    <a:pt x="171" y="191"/>
                  </a:cubicBezTo>
                  <a:cubicBezTo>
                    <a:pt x="146" y="183"/>
                    <a:pt x="150" y="164"/>
                    <a:pt x="135" y="146"/>
                  </a:cubicBezTo>
                  <a:cubicBezTo>
                    <a:pt x="125" y="134"/>
                    <a:pt x="109" y="125"/>
                    <a:pt x="96" y="116"/>
                  </a:cubicBezTo>
                  <a:cubicBezTo>
                    <a:pt x="94" y="113"/>
                    <a:pt x="93" y="109"/>
                    <a:pt x="90" y="107"/>
                  </a:cubicBezTo>
                  <a:cubicBezTo>
                    <a:pt x="88" y="105"/>
                    <a:pt x="83" y="106"/>
                    <a:pt x="81" y="104"/>
                  </a:cubicBezTo>
                  <a:cubicBezTo>
                    <a:pt x="66" y="89"/>
                    <a:pt x="61" y="65"/>
                    <a:pt x="57" y="44"/>
                  </a:cubicBezTo>
                  <a:cubicBezTo>
                    <a:pt x="64" y="42"/>
                    <a:pt x="71" y="35"/>
                    <a:pt x="78" y="38"/>
                  </a:cubicBezTo>
                  <a:cubicBezTo>
                    <a:pt x="83" y="41"/>
                    <a:pt x="80" y="50"/>
                    <a:pt x="81" y="56"/>
                  </a:cubicBezTo>
                  <a:cubicBezTo>
                    <a:pt x="82" y="67"/>
                    <a:pt x="82" y="78"/>
                    <a:pt x="84" y="89"/>
                  </a:cubicBezTo>
                  <a:cubicBezTo>
                    <a:pt x="86" y="105"/>
                    <a:pt x="102" y="113"/>
                    <a:pt x="111" y="125"/>
                  </a:cubicBezTo>
                  <a:cubicBezTo>
                    <a:pt x="119" y="148"/>
                    <a:pt x="108" y="120"/>
                    <a:pt x="120" y="143"/>
                  </a:cubicBezTo>
                  <a:cubicBezTo>
                    <a:pt x="121" y="146"/>
                    <a:pt x="126" y="154"/>
                    <a:pt x="123" y="152"/>
                  </a:cubicBezTo>
                  <a:cubicBezTo>
                    <a:pt x="88" y="129"/>
                    <a:pt x="116" y="128"/>
                    <a:pt x="72" y="122"/>
                  </a:cubicBezTo>
                  <a:cubicBezTo>
                    <a:pt x="57" y="125"/>
                    <a:pt x="27" y="134"/>
                    <a:pt x="27" y="134"/>
                  </a:cubicBezTo>
                  <a:cubicBezTo>
                    <a:pt x="19" y="146"/>
                    <a:pt x="14" y="146"/>
                    <a:pt x="0" y="149"/>
                  </a:cubicBezTo>
                  <a:cubicBezTo>
                    <a:pt x="44" y="164"/>
                    <a:pt x="91" y="138"/>
                    <a:pt x="135" y="134"/>
                  </a:cubicBezTo>
                  <a:cubicBezTo>
                    <a:pt x="137" y="111"/>
                    <a:pt x="136" y="106"/>
                    <a:pt x="141" y="89"/>
                  </a:cubicBezTo>
                  <a:cubicBezTo>
                    <a:pt x="143" y="83"/>
                    <a:pt x="147" y="71"/>
                    <a:pt x="147" y="71"/>
                  </a:cubicBezTo>
                  <a:cubicBezTo>
                    <a:pt x="146" y="59"/>
                    <a:pt x="146" y="47"/>
                    <a:pt x="144" y="35"/>
                  </a:cubicBezTo>
                  <a:cubicBezTo>
                    <a:pt x="143" y="29"/>
                    <a:pt x="142" y="21"/>
                    <a:pt x="138" y="17"/>
                  </a:cubicBezTo>
                  <a:cubicBezTo>
                    <a:pt x="135" y="14"/>
                    <a:pt x="125" y="8"/>
                    <a:pt x="129" y="8"/>
                  </a:cubicBezTo>
                  <a:cubicBezTo>
                    <a:pt x="143" y="8"/>
                    <a:pt x="165" y="29"/>
                    <a:pt x="165" y="29"/>
                  </a:cubicBezTo>
                  <a:cubicBezTo>
                    <a:pt x="172" y="39"/>
                    <a:pt x="173" y="48"/>
                    <a:pt x="177" y="59"/>
                  </a:cubicBezTo>
                  <a:cubicBezTo>
                    <a:pt x="173" y="81"/>
                    <a:pt x="171" y="89"/>
                    <a:pt x="153" y="101"/>
                  </a:cubicBezTo>
                  <a:cubicBezTo>
                    <a:pt x="147" y="111"/>
                    <a:pt x="142" y="120"/>
                    <a:pt x="138" y="131"/>
                  </a:cubicBezTo>
                  <a:cubicBezTo>
                    <a:pt x="147" y="149"/>
                    <a:pt x="153" y="143"/>
                    <a:pt x="165" y="131"/>
                  </a:cubicBezTo>
                  <a:cubicBezTo>
                    <a:pt x="172" y="109"/>
                    <a:pt x="173" y="87"/>
                    <a:pt x="180" y="65"/>
                  </a:cubicBezTo>
                  <a:cubicBezTo>
                    <a:pt x="182" y="59"/>
                    <a:pt x="182" y="52"/>
                    <a:pt x="186" y="47"/>
                  </a:cubicBezTo>
                  <a:cubicBezTo>
                    <a:pt x="190" y="41"/>
                    <a:pt x="198" y="29"/>
                    <a:pt x="198" y="29"/>
                  </a:cubicBezTo>
                  <a:cubicBezTo>
                    <a:pt x="200" y="21"/>
                    <a:pt x="205" y="13"/>
                    <a:pt x="204" y="5"/>
                  </a:cubicBezTo>
                  <a:cubicBezTo>
                    <a:pt x="204" y="2"/>
                    <a:pt x="198" y="0"/>
                    <a:pt x="195" y="2"/>
                  </a:cubicBezTo>
                  <a:cubicBezTo>
                    <a:pt x="191" y="4"/>
                    <a:pt x="191" y="10"/>
                    <a:pt x="189" y="14"/>
                  </a:cubicBezTo>
                  <a:cubicBezTo>
                    <a:pt x="187" y="44"/>
                    <a:pt x="181" y="62"/>
                    <a:pt x="174" y="89"/>
                  </a:cubicBezTo>
                  <a:cubicBezTo>
                    <a:pt x="172" y="98"/>
                    <a:pt x="170" y="107"/>
                    <a:pt x="168" y="116"/>
                  </a:cubicBezTo>
                  <a:cubicBezTo>
                    <a:pt x="167" y="119"/>
                    <a:pt x="162" y="125"/>
                    <a:pt x="165" y="125"/>
                  </a:cubicBezTo>
                  <a:cubicBezTo>
                    <a:pt x="169" y="125"/>
                    <a:pt x="169" y="119"/>
                    <a:pt x="171" y="116"/>
                  </a:cubicBezTo>
                  <a:cubicBezTo>
                    <a:pt x="174" y="105"/>
                    <a:pt x="183" y="72"/>
                    <a:pt x="189" y="65"/>
                  </a:cubicBezTo>
                  <a:cubicBezTo>
                    <a:pt x="205" y="44"/>
                    <a:pt x="213" y="43"/>
                    <a:pt x="219" y="17"/>
                  </a:cubicBezTo>
                  <a:cubicBezTo>
                    <a:pt x="232" y="21"/>
                    <a:pt x="236" y="18"/>
                    <a:pt x="240" y="5"/>
                  </a:cubicBezTo>
                  <a:cubicBezTo>
                    <a:pt x="237" y="30"/>
                    <a:pt x="234" y="39"/>
                    <a:pt x="210" y="47"/>
                  </a:cubicBezTo>
                  <a:cubicBezTo>
                    <a:pt x="197" y="66"/>
                    <a:pt x="185" y="87"/>
                    <a:pt x="171" y="104"/>
                  </a:cubicBezTo>
                  <a:cubicBezTo>
                    <a:pt x="165" y="112"/>
                    <a:pt x="159" y="131"/>
                    <a:pt x="159" y="131"/>
                  </a:cubicBezTo>
                  <a:cubicBezTo>
                    <a:pt x="161" y="134"/>
                    <a:pt x="161" y="140"/>
                    <a:pt x="165" y="140"/>
                  </a:cubicBezTo>
                  <a:cubicBezTo>
                    <a:pt x="169" y="141"/>
                    <a:pt x="203" y="129"/>
                    <a:pt x="210" y="128"/>
                  </a:cubicBezTo>
                  <a:cubicBezTo>
                    <a:pt x="229" y="116"/>
                    <a:pt x="249" y="99"/>
                    <a:pt x="261" y="80"/>
                  </a:cubicBezTo>
                  <a:cubicBezTo>
                    <a:pt x="265" y="74"/>
                    <a:pt x="271" y="69"/>
                    <a:pt x="273" y="62"/>
                  </a:cubicBezTo>
                  <a:cubicBezTo>
                    <a:pt x="274" y="59"/>
                    <a:pt x="274" y="55"/>
                    <a:pt x="276" y="53"/>
                  </a:cubicBezTo>
                  <a:cubicBezTo>
                    <a:pt x="282" y="48"/>
                    <a:pt x="290" y="49"/>
                    <a:pt x="297" y="47"/>
                  </a:cubicBezTo>
                  <a:cubicBezTo>
                    <a:pt x="309" y="66"/>
                    <a:pt x="282" y="64"/>
                    <a:pt x="267" y="74"/>
                  </a:cubicBezTo>
                  <a:cubicBezTo>
                    <a:pt x="254" y="113"/>
                    <a:pt x="246" y="95"/>
                    <a:pt x="219" y="113"/>
                  </a:cubicBezTo>
                  <a:cubicBezTo>
                    <a:pt x="206" y="133"/>
                    <a:pt x="192" y="139"/>
                    <a:pt x="171" y="146"/>
                  </a:cubicBezTo>
                  <a:cubicBezTo>
                    <a:pt x="187" y="151"/>
                    <a:pt x="187" y="160"/>
                    <a:pt x="192" y="176"/>
                  </a:cubicBezTo>
                  <a:cubicBezTo>
                    <a:pt x="196" y="187"/>
                    <a:pt x="219" y="197"/>
                    <a:pt x="219" y="197"/>
                  </a:cubicBezTo>
                  <a:cubicBezTo>
                    <a:pt x="236" y="223"/>
                    <a:pt x="213" y="274"/>
                    <a:pt x="243" y="284"/>
                  </a:cubicBezTo>
                  <a:cubicBezTo>
                    <a:pt x="245" y="287"/>
                    <a:pt x="247" y="290"/>
                    <a:pt x="249" y="293"/>
                  </a:cubicBezTo>
                  <a:cubicBezTo>
                    <a:pt x="250" y="296"/>
                    <a:pt x="252" y="305"/>
                    <a:pt x="252" y="302"/>
                  </a:cubicBezTo>
                  <a:cubicBezTo>
                    <a:pt x="252" y="296"/>
                    <a:pt x="251" y="290"/>
                    <a:pt x="249" y="284"/>
                  </a:cubicBezTo>
                  <a:cubicBezTo>
                    <a:pt x="246" y="277"/>
                    <a:pt x="237" y="266"/>
                    <a:pt x="237" y="266"/>
                  </a:cubicBezTo>
                  <a:cubicBezTo>
                    <a:pt x="234" y="231"/>
                    <a:pt x="240" y="218"/>
                    <a:pt x="213" y="200"/>
                  </a:cubicBezTo>
                  <a:cubicBezTo>
                    <a:pt x="203" y="201"/>
                    <a:pt x="193" y="203"/>
                    <a:pt x="183" y="203"/>
                  </a:cubicBezTo>
                  <a:cubicBezTo>
                    <a:pt x="174" y="203"/>
                    <a:pt x="164" y="196"/>
                    <a:pt x="156" y="200"/>
                  </a:cubicBezTo>
                  <a:cubicBezTo>
                    <a:pt x="148" y="204"/>
                    <a:pt x="168" y="213"/>
                    <a:pt x="171" y="221"/>
                  </a:cubicBezTo>
                  <a:cubicBezTo>
                    <a:pt x="175" y="230"/>
                    <a:pt x="178" y="241"/>
                    <a:pt x="180" y="251"/>
                  </a:cubicBezTo>
                  <a:cubicBezTo>
                    <a:pt x="178" y="263"/>
                    <a:pt x="174" y="275"/>
                    <a:pt x="171" y="287"/>
                  </a:cubicBezTo>
                  <a:cubicBezTo>
                    <a:pt x="169" y="297"/>
                    <a:pt x="165" y="317"/>
                    <a:pt x="165" y="317"/>
                  </a:cubicBezTo>
                  <a:cubicBezTo>
                    <a:pt x="166" y="320"/>
                    <a:pt x="168" y="336"/>
                    <a:pt x="177" y="323"/>
                  </a:cubicBezTo>
                  <a:cubicBezTo>
                    <a:pt x="181" y="318"/>
                    <a:pt x="183" y="305"/>
                    <a:pt x="183" y="305"/>
                  </a:cubicBezTo>
                  <a:cubicBezTo>
                    <a:pt x="173" y="267"/>
                    <a:pt x="184" y="203"/>
                    <a:pt x="144" y="176"/>
                  </a:cubicBezTo>
                  <a:cubicBezTo>
                    <a:pt x="134" y="161"/>
                    <a:pt x="123" y="144"/>
                    <a:pt x="108" y="134"/>
                  </a:cubicBezTo>
                  <a:cubicBezTo>
                    <a:pt x="102" y="136"/>
                    <a:pt x="96" y="138"/>
                    <a:pt x="90" y="140"/>
                  </a:cubicBezTo>
                  <a:cubicBezTo>
                    <a:pt x="87" y="141"/>
                    <a:pt x="81" y="143"/>
                    <a:pt x="81" y="143"/>
                  </a:cubicBezTo>
                  <a:cubicBezTo>
                    <a:pt x="72" y="152"/>
                    <a:pt x="70" y="163"/>
                    <a:pt x="60" y="170"/>
                  </a:cubicBezTo>
                  <a:cubicBezTo>
                    <a:pt x="51" y="176"/>
                    <a:pt x="33" y="185"/>
                    <a:pt x="33" y="185"/>
                  </a:cubicBezTo>
                  <a:cubicBezTo>
                    <a:pt x="19" y="206"/>
                    <a:pt x="28" y="201"/>
                    <a:pt x="12" y="206"/>
                  </a:cubicBezTo>
                  <a:cubicBezTo>
                    <a:pt x="18" y="178"/>
                    <a:pt x="33" y="185"/>
                    <a:pt x="54" y="173"/>
                  </a:cubicBezTo>
                  <a:cubicBezTo>
                    <a:pt x="82" y="157"/>
                    <a:pt x="95" y="147"/>
                    <a:pt x="126" y="137"/>
                  </a:cubicBezTo>
                  <a:cubicBezTo>
                    <a:pt x="110" y="125"/>
                    <a:pt x="97" y="123"/>
                    <a:pt x="78" y="128"/>
                  </a:cubicBezTo>
                  <a:cubicBezTo>
                    <a:pt x="56" y="142"/>
                    <a:pt x="66" y="137"/>
                    <a:pt x="48" y="146"/>
                  </a:cubicBezTo>
                  <a:cubicBezTo>
                    <a:pt x="28" y="141"/>
                    <a:pt x="37" y="147"/>
                    <a:pt x="30" y="119"/>
                  </a:cubicBezTo>
                  <a:cubicBezTo>
                    <a:pt x="29" y="115"/>
                    <a:pt x="28" y="111"/>
                    <a:pt x="27" y="107"/>
                  </a:cubicBezTo>
                  <a:cubicBezTo>
                    <a:pt x="26" y="103"/>
                    <a:pt x="21" y="92"/>
                    <a:pt x="24" y="95"/>
                  </a:cubicBezTo>
                  <a:cubicBezTo>
                    <a:pt x="56" y="127"/>
                    <a:pt x="48" y="123"/>
                    <a:pt x="90" y="128"/>
                  </a:cubicBezTo>
                  <a:cubicBezTo>
                    <a:pt x="99" y="134"/>
                    <a:pt x="108" y="137"/>
                    <a:pt x="117" y="143"/>
                  </a:cubicBezTo>
                  <a:cubicBezTo>
                    <a:pt x="129" y="120"/>
                    <a:pt x="118" y="54"/>
                    <a:pt x="117" y="41"/>
                  </a:cubicBezTo>
                  <a:cubicBezTo>
                    <a:pt x="116" y="35"/>
                    <a:pt x="111" y="23"/>
                    <a:pt x="111" y="23"/>
                  </a:cubicBezTo>
                  <a:cubicBezTo>
                    <a:pt x="86" y="40"/>
                    <a:pt x="113" y="76"/>
                    <a:pt x="126" y="95"/>
                  </a:cubicBezTo>
                  <a:cubicBezTo>
                    <a:pt x="125" y="110"/>
                    <a:pt x="134" y="129"/>
                    <a:pt x="123" y="140"/>
                  </a:cubicBezTo>
                  <a:cubicBezTo>
                    <a:pt x="116" y="147"/>
                    <a:pt x="110" y="124"/>
                    <a:pt x="102" y="119"/>
                  </a:cubicBezTo>
                  <a:cubicBezTo>
                    <a:pt x="89" y="111"/>
                    <a:pt x="82" y="110"/>
                    <a:pt x="66" y="107"/>
                  </a:cubicBezTo>
                  <a:cubicBezTo>
                    <a:pt x="56" y="100"/>
                    <a:pt x="49" y="93"/>
                    <a:pt x="42" y="83"/>
                  </a:cubicBezTo>
                  <a:cubicBezTo>
                    <a:pt x="40" y="79"/>
                    <a:pt x="48" y="89"/>
                    <a:pt x="51" y="92"/>
                  </a:cubicBezTo>
                  <a:cubicBezTo>
                    <a:pt x="58" y="98"/>
                    <a:pt x="61" y="99"/>
                    <a:pt x="69" y="101"/>
                  </a:cubicBezTo>
                  <a:cubicBezTo>
                    <a:pt x="77" y="103"/>
                    <a:pt x="93" y="107"/>
                    <a:pt x="93" y="107"/>
                  </a:cubicBezTo>
                  <a:cubicBezTo>
                    <a:pt x="103" y="114"/>
                    <a:pt x="107" y="121"/>
                    <a:pt x="117" y="128"/>
                  </a:cubicBezTo>
                  <a:cubicBezTo>
                    <a:pt x="119" y="131"/>
                    <a:pt x="120" y="134"/>
                    <a:pt x="123" y="137"/>
                  </a:cubicBezTo>
                  <a:cubicBezTo>
                    <a:pt x="126" y="140"/>
                    <a:pt x="130" y="140"/>
                    <a:pt x="132" y="143"/>
                  </a:cubicBezTo>
                  <a:cubicBezTo>
                    <a:pt x="134" y="145"/>
                    <a:pt x="135" y="152"/>
                    <a:pt x="135" y="152"/>
                  </a:cubicBezTo>
                </a:path>
              </a:pathLst>
            </a:custGeom>
            <a:solidFill>
              <a:srgbClr val="99ff99"/>
            </a:solidFill>
            <a:ln w="32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138440" y="16230600"/>
              <a:ext cx="991800" cy="718200"/>
            </a:xfrm>
            <a:custGeom>
              <a:avLst/>
              <a:gdLst/>
              <a:ahLst/>
              <a:rect l="l" t="t" r="r" b="b"/>
              <a:pathLst>
                <a:path w="345" h="319">
                  <a:moveTo>
                    <a:pt x="88" y="33"/>
                  </a:moveTo>
                  <a:cubicBezTo>
                    <a:pt x="110" y="40"/>
                    <a:pt x="119" y="75"/>
                    <a:pt x="124" y="96"/>
                  </a:cubicBezTo>
                  <a:cubicBezTo>
                    <a:pt x="125" y="113"/>
                    <a:pt x="127" y="143"/>
                    <a:pt x="139" y="159"/>
                  </a:cubicBezTo>
                  <a:cubicBezTo>
                    <a:pt x="149" y="172"/>
                    <a:pt x="161" y="168"/>
                    <a:pt x="169" y="192"/>
                  </a:cubicBezTo>
                  <a:cubicBezTo>
                    <a:pt x="171" y="189"/>
                    <a:pt x="177" y="186"/>
                    <a:pt x="175" y="183"/>
                  </a:cubicBezTo>
                  <a:cubicBezTo>
                    <a:pt x="171" y="177"/>
                    <a:pt x="157" y="171"/>
                    <a:pt x="157" y="171"/>
                  </a:cubicBezTo>
                  <a:cubicBezTo>
                    <a:pt x="144" y="152"/>
                    <a:pt x="141" y="123"/>
                    <a:pt x="124" y="111"/>
                  </a:cubicBezTo>
                  <a:cubicBezTo>
                    <a:pt x="106" y="84"/>
                    <a:pt x="118" y="59"/>
                    <a:pt x="97" y="27"/>
                  </a:cubicBezTo>
                  <a:cubicBezTo>
                    <a:pt x="93" y="21"/>
                    <a:pt x="104" y="39"/>
                    <a:pt x="106" y="45"/>
                  </a:cubicBezTo>
                  <a:cubicBezTo>
                    <a:pt x="110" y="78"/>
                    <a:pt x="123" y="95"/>
                    <a:pt x="136" y="123"/>
                  </a:cubicBezTo>
                  <a:cubicBezTo>
                    <a:pt x="140" y="132"/>
                    <a:pt x="142" y="150"/>
                    <a:pt x="148" y="159"/>
                  </a:cubicBezTo>
                  <a:cubicBezTo>
                    <a:pt x="162" y="180"/>
                    <a:pt x="158" y="170"/>
                    <a:pt x="163" y="186"/>
                  </a:cubicBezTo>
                  <a:cubicBezTo>
                    <a:pt x="168" y="162"/>
                    <a:pt x="163" y="126"/>
                    <a:pt x="175" y="105"/>
                  </a:cubicBezTo>
                  <a:cubicBezTo>
                    <a:pt x="178" y="100"/>
                    <a:pt x="184" y="98"/>
                    <a:pt x="187" y="93"/>
                  </a:cubicBezTo>
                  <a:cubicBezTo>
                    <a:pt x="190" y="89"/>
                    <a:pt x="191" y="85"/>
                    <a:pt x="193" y="81"/>
                  </a:cubicBezTo>
                  <a:cubicBezTo>
                    <a:pt x="198" y="54"/>
                    <a:pt x="200" y="27"/>
                    <a:pt x="202" y="0"/>
                  </a:cubicBezTo>
                  <a:cubicBezTo>
                    <a:pt x="204" y="6"/>
                    <a:pt x="206" y="12"/>
                    <a:pt x="208" y="18"/>
                  </a:cubicBezTo>
                  <a:cubicBezTo>
                    <a:pt x="209" y="21"/>
                    <a:pt x="211" y="27"/>
                    <a:pt x="211" y="27"/>
                  </a:cubicBezTo>
                  <a:cubicBezTo>
                    <a:pt x="208" y="44"/>
                    <a:pt x="203" y="59"/>
                    <a:pt x="199" y="75"/>
                  </a:cubicBezTo>
                  <a:cubicBezTo>
                    <a:pt x="198" y="90"/>
                    <a:pt x="199" y="105"/>
                    <a:pt x="196" y="120"/>
                  </a:cubicBezTo>
                  <a:cubicBezTo>
                    <a:pt x="194" y="128"/>
                    <a:pt x="184" y="131"/>
                    <a:pt x="181" y="138"/>
                  </a:cubicBezTo>
                  <a:cubicBezTo>
                    <a:pt x="173" y="156"/>
                    <a:pt x="172" y="177"/>
                    <a:pt x="154" y="189"/>
                  </a:cubicBezTo>
                  <a:cubicBezTo>
                    <a:pt x="173" y="160"/>
                    <a:pt x="193" y="147"/>
                    <a:pt x="220" y="129"/>
                  </a:cubicBezTo>
                  <a:cubicBezTo>
                    <a:pt x="239" y="116"/>
                    <a:pt x="220" y="120"/>
                    <a:pt x="235" y="108"/>
                  </a:cubicBezTo>
                  <a:cubicBezTo>
                    <a:pt x="248" y="98"/>
                    <a:pt x="267" y="103"/>
                    <a:pt x="283" y="102"/>
                  </a:cubicBezTo>
                  <a:cubicBezTo>
                    <a:pt x="290" y="98"/>
                    <a:pt x="297" y="94"/>
                    <a:pt x="304" y="90"/>
                  </a:cubicBezTo>
                  <a:cubicBezTo>
                    <a:pt x="307" y="89"/>
                    <a:pt x="316" y="87"/>
                    <a:pt x="313" y="87"/>
                  </a:cubicBezTo>
                  <a:cubicBezTo>
                    <a:pt x="305" y="88"/>
                    <a:pt x="297" y="89"/>
                    <a:pt x="289" y="90"/>
                  </a:cubicBezTo>
                  <a:cubicBezTo>
                    <a:pt x="277" y="98"/>
                    <a:pt x="264" y="102"/>
                    <a:pt x="250" y="105"/>
                  </a:cubicBezTo>
                  <a:cubicBezTo>
                    <a:pt x="241" y="119"/>
                    <a:pt x="225" y="136"/>
                    <a:pt x="211" y="144"/>
                  </a:cubicBezTo>
                  <a:cubicBezTo>
                    <a:pt x="205" y="147"/>
                    <a:pt x="193" y="150"/>
                    <a:pt x="193" y="150"/>
                  </a:cubicBezTo>
                  <a:cubicBezTo>
                    <a:pt x="186" y="160"/>
                    <a:pt x="164" y="188"/>
                    <a:pt x="169" y="189"/>
                  </a:cubicBezTo>
                  <a:cubicBezTo>
                    <a:pt x="182" y="191"/>
                    <a:pt x="195" y="187"/>
                    <a:pt x="208" y="186"/>
                  </a:cubicBezTo>
                  <a:cubicBezTo>
                    <a:pt x="224" y="181"/>
                    <a:pt x="240" y="179"/>
                    <a:pt x="256" y="174"/>
                  </a:cubicBezTo>
                  <a:cubicBezTo>
                    <a:pt x="275" y="187"/>
                    <a:pt x="267" y="195"/>
                    <a:pt x="295" y="204"/>
                  </a:cubicBezTo>
                  <a:cubicBezTo>
                    <a:pt x="303" y="227"/>
                    <a:pt x="317" y="228"/>
                    <a:pt x="325" y="252"/>
                  </a:cubicBezTo>
                  <a:cubicBezTo>
                    <a:pt x="318" y="254"/>
                    <a:pt x="311" y="259"/>
                    <a:pt x="304" y="258"/>
                  </a:cubicBezTo>
                  <a:cubicBezTo>
                    <a:pt x="294" y="257"/>
                    <a:pt x="296" y="222"/>
                    <a:pt x="277" y="216"/>
                  </a:cubicBezTo>
                  <a:cubicBezTo>
                    <a:pt x="270" y="195"/>
                    <a:pt x="276" y="202"/>
                    <a:pt x="262" y="192"/>
                  </a:cubicBezTo>
                  <a:cubicBezTo>
                    <a:pt x="234" y="196"/>
                    <a:pt x="207" y="191"/>
                    <a:pt x="178" y="189"/>
                  </a:cubicBezTo>
                  <a:cubicBezTo>
                    <a:pt x="167" y="182"/>
                    <a:pt x="165" y="172"/>
                    <a:pt x="151" y="177"/>
                  </a:cubicBezTo>
                  <a:cubicBezTo>
                    <a:pt x="136" y="200"/>
                    <a:pt x="132" y="224"/>
                    <a:pt x="103" y="234"/>
                  </a:cubicBezTo>
                  <a:cubicBezTo>
                    <a:pt x="89" y="248"/>
                    <a:pt x="74" y="256"/>
                    <a:pt x="58" y="267"/>
                  </a:cubicBezTo>
                  <a:cubicBezTo>
                    <a:pt x="65" y="269"/>
                    <a:pt x="72" y="272"/>
                    <a:pt x="79" y="273"/>
                  </a:cubicBezTo>
                  <a:cubicBezTo>
                    <a:pt x="99" y="275"/>
                    <a:pt x="115" y="241"/>
                    <a:pt x="136" y="234"/>
                  </a:cubicBezTo>
                  <a:cubicBezTo>
                    <a:pt x="150" y="220"/>
                    <a:pt x="148" y="201"/>
                    <a:pt x="163" y="186"/>
                  </a:cubicBezTo>
                  <a:cubicBezTo>
                    <a:pt x="150" y="182"/>
                    <a:pt x="141" y="187"/>
                    <a:pt x="127" y="189"/>
                  </a:cubicBezTo>
                  <a:cubicBezTo>
                    <a:pt x="96" y="179"/>
                    <a:pt x="60" y="190"/>
                    <a:pt x="28" y="192"/>
                  </a:cubicBezTo>
                  <a:cubicBezTo>
                    <a:pt x="12" y="188"/>
                    <a:pt x="0" y="172"/>
                    <a:pt x="22" y="165"/>
                  </a:cubicBezTo>
                  <a:cubicBezTo>
                    <a:pt x="32" y="166"/>
                    <a:pt x="44" y="165"/>
                    <a:pt x="52" y="171"/>
                  </a:cubicBezTo>
                  <a:cubicBezTo>
                    <a:pt x="59" y="176"/>
                    <a:pt x="70" y="189"/>
                    <a:pt x="70" y="189"/>
                  </a:cubicBezTo>
                  <a:cubicBezTo>
                    <a:pt x="110" y="187"/>
                    <a:pt x="132" y="188"/>
                    <a:pt x="166" y="180"/>
                  </a:cubicBezTo>
                  <a:cubicBezTo>
                    <a:pt x="148" y="178"/>
                    <a:pt x="129" y="179"/>
                    <a:pt x="112" y="174"/>
                  </a:cubicBezTo>
                  <a:cubicBezTo>
                    <a:pt x="99" y="170"/>
                    <a:pt x="96" y="141"/>
                    <a:pt x="85" y="138"/>
                  </a:cubicBezTo>
                  <a:cubicBezTo>
                    <a:pt x="58" y="131"/>
                    <a:pt x="69" y="135"/>
                    <a:pt x="52" y="129"/>
                  </a:cubicBezTo>
                  <a:cubicBezTo>
                    <a:pt x="44" y="117"/>
                    <a:pt x="38" y="116"/>
                    <a:pt x="34" y="102"/>
                  </a:cubicBezTo>
                  <a:cubicBezTo>
                    <a:pt x="32" y="96"/>
                    <a:pt x="28" y="84"/>
                    <a:pt x="28" y="84"/>
                  </a:cubicBezTo>
                  <a:cubicBezTo>
                    <a:pt x="48" y="79"/>
                    <a:pt x="46" y="90"/>
                    <a:pt x="52" y="108"/>
                  </a:cubicBezTo>
                  <a:cubicBezTo>
                    <a:pt x="53" y="111"/>
                    <a:pt x="52" y="116"/>
                    <a:pt x="55" y="117"/>
                  </a:cubicBezTo>
                  <a:cubicBezTo>
                    <a:pt x="70" y="122"/>
                    <a:pt x="85" y="125"/>
                    <a:pt x="100" y="129"/>
                  </a:cubicBezTo>
                  <a:cubicBezTo>
                    <a:pt x="113" y="138"/>
                    <a:pt x="111" y="152"/>
                    <a:pt x="121" y="162"/>
                  </a:cubicBezTo>
                  <a:cubicBezTo>
                    <a:pt x="137" y="178"/>
                    <a:pt x="161" y="187"/>
                    <a:pt x="178" y="204"/>
                  </a:cubicBezTo>
                  <a:cubicBezTo>
                    <a:pt x="174" y="232"/>
                    <a:pt x="179" y="219"/>
                    <a:pt x="163" y="243"/>
                  </a:cubicBezTo>
                  <a:cubicBezTo>
                    <a:pt x="161" y="246"/>
                    <a:pt x="157" y="252"/>
                    <a:pt x="157" y="252"/>
                  </a:cubicBezTo>
                  <a:cubicBezTo>
                    <a:pt x="152" y="272"/>
                    <a:pt x="150" y="292"/>
                    <a:pt x="145" y="312"/>
                  </a:cubicBezTo>
                  <a:cubicBezTo>
                    <a:pt x="143" y="318"/>
                    <a:pt x="121" y="319"/>
                    <a:pt x="127" y="318"/>
                  </a:cubicBezTo>
                  <a:cubicBezTo>
                    <a:pt x="132" y="317"/>
                    <a:pt x="137" y="316"/>
                    <a:pt x="142" y="315"/>
                  </a:cubicBezTo>
                  <a:cubicBezTo>
                    <a:pt x="167" y="297"/>
                    <a:pt x="167" y="278"/>
                    <a:pt x="172" y="249"/>
                  </a:cubicBezTo>
                  <a:cubicBezTo>
                    <a:pt x="174" y="241"/>
                    <a:pt x="176" y="233"/>
                    <a:pt x="178" y="225"/>
                  </a:cubicBezTo>
                  <a:cubicBezTo>
                    <a:pt x="180" y="219"/>
                    <a:pt x="184" y="207"/>
                    <a:pt x="184" y="207"/>
                  </a:cubicBezTo>
                  <a:cubicBezTo>
                    <a:pt x="195" y="223"/>
                    <a:pt x="187" y="265"/>
                    <a:pt x="211" y="273"/>
                  </a:cubicBezTo>
                  <a:cubicBezTo>
                    <a:pt x="219" y="276"/>
                    <a:pt x="227" y="275"/>
                    <a:pt x="235" y="276"/>
                  </a:cubicBezTo>
                  <a:cubicBezTo>
                    <a:pt x="246" y="285"/>
                    <a:pt x="261" y="291"/>
                    <a:pt x="268" y="303"/>
                  </a:cubicBezTo>
                  <a:cubicBezTo>
                    <a:pt x="270" y="307"/>
                    <a:pt x="271" y="315"/>
                    <a:pt x="271" y="315"/>
                  </a:cubicBezTo>
                  <a:cubicBezTo>
                    <a:pt x="271" y="315"/>
                    <a:pt x="269" y="307"/>
                    <a:pt x="268" y="303"/>
                  </a:cubicBezTo>
                  <a:cubicBezTo>
                    <a:pt x="266" y="294"/>
                    <a:pt x="267" y="284"/>
                    <a:pt x="262" y="276"/>
                  </a:cubicBezTo>
                  <a:cubicBezTo>
                    <a:pt x="257" y="268"/>
                    <a:pt x="242" y="262"/>
                    <a:pt x="235" y="258"/>
                  </a:cubicBezTo>
                  <a:cubicBezTo>
                    <a:pt x="229" y="254"/>
                    <a:pt x="217" y="246"/>
                    <a:pt x="217" y="246"/>
                  </a:cubicBezTo>
                  <a:cubicBezTo>
                    <a:pt x="207" y="231"/>
                    <a:pt x="202" y="217"/>
                    <a:pt x="187" y="207"/>
                  </a:cubicBezTo>
                  <a:cubicBezTo>
                    <a:pt x="173" y="187"/>
                    <a:pt x="215" y="190"/>
                    <a:pt x="232" y="186"/>
                  </a:cubicBezTo>
                  <a:cubicBezTo>
                    <a:pt x="256" y="150"/>
                    <a:pt x="271" y="163"/>
                    <a:pt x="310" y="150"/>
                  </a:cubicBezTo>
                  <a:cubicBezTo>
                    <a:pt x="324" y="155"/>
                    <a:pt x="329" y="153"/>
                    <a:pt x="337" y="141"/>
                  </a:cubicBezTo>
                  <a:cubicBezTo>
                    <a:pt x="339" y="133"/>
                    <a:pt x="341" y="125"/>
                    <a:pt x="343" y="117"/>
                  </a:cubicBezTo>
                  <a:cubicBezTo>
                    <a:pt x="345" y="111"/>
                    <a:pt x="331" y="121"/>
                    <a:pt x="325" y="123"/>
                  </a:cubicBezTo>
                  <a:cubicBezTo>
                    <a:pt x="316" y="126"/>
                    <a:pt x="298" y="135"/>
                    <a:pt x="298" y="135"/>
                  </a:cubicBezTo>
                  <a:cubicBezTo>
                    <a:pt x="276" y="157"/>
                    <a:pt x="256" y="160"/>
                    <a:pt x="226" y="165"/>
                  </a:cubicBezTo>
                  <a:cubicBezTo>
                    <a:pt x="213" y="174"/>
                    <a:pt x="206" y="186"/>
                    <a:pt x="193" y="195"/>
                  </a:cubicBezTo>
                  <a:cubicBezTo>
                    <a:pt x="185" y="171"/>
                    <a:pt x="188" y="161"/>
                    <a:pt x="211" y="153"/>
                  </a:cubicBezTo>
                  <a:cubicBezTo>
                    <a:pt x="220" y="139"/>
                    <a:pt x="237" y="83"/>
                    <a:pt x="247" y="78"/>
                  </a:cubicBezTo>
                  <a:cubicBezTo>
                    <a:pt x="254" y="74"/>
                    <a:pt x="263" y="74"/>
                    <a:pt x="271" y="72"/>
                  </a:cubicBezTo>
                  <a:cubicBezTo>
                    <a:pt x="278" y="65"/>
                    <a:pt x="286" y="45"/>
                    <a:pt x="286" y="45"/>
                  </a:cubicBezTo>
                  <a:cubicBezTo>
                    <a:pt x="279" y="11"/>
                    <a:pt x="270" y="43"/>
                    <a:pt x="259" y="57"/>
                  </a:cubicBezTo>
                  <a:cubicBezTo>
                    <a:pt x="240" y="81"/>
                    <a:pt x="232" y="110"/>
                    <a:pt x="223" y="138"/>
                  </a:cubicBezTo>
                  <a:cubicBezTo>
                    <a:pt x="216" y="158"/>
                    <a:pt x="210" y="156"/>
                    <a:pt x="193" y="162"/>
                  </a:cubicBezTo>
                  <a:cubicBezTo>
                    <a:pt x="187" y="164"/>
                    <a:pt x="175" y="168"/>
                    <a:pt x="175" y="168"/>
                  </a:cubicBezTo>
                  <a:cubicBezTo>
                    <a:pt x="172" y="156"/>
                    <a:pt x="166" y="139"/>
                    <a:pt x="166" y="126"/>
                  </a:cubicBezTo>
                  <a:cubicBezTo>
                    <a:pt x="167" y="105"/>
                    <a:pt x="172" y="63"/>
                    <a:pt x="172" y="63"/>
                  </a:cubicBezTo>
                  <a:cubicBezTo>
                    <a:pt x="169" y="46"/>
                    <a:pt x="166" y="42"/>
                    <a:pt x="154" y="30"/>
                  </a:cubicBezTo>
                  <a:cubicBezTo>
                    <a:pt x="147" y="8"/>
                    <a:pt x="146" y="18"/>
                    <a:pt x="151" y="0"/>
                  </a:cubicBezTo>
                  <a:cubicBezTo>
                    <a:pt x="155" y="17"/>
                    <a:pt x="157" y="28"/>
                    <a:pt x="166" y="42"/>
                  </a:cubicBezTo>
                  <a:cubicBezTo>
                    <a:pt x="174" y="74"/>
                    <a:pt x="169" y="103"/>
                    <a:pt x="163" y="135"/>
                  </a:cubicBezTo>
                  <a:cubicBezTo>
                    <a:pt x="165" y="149"/>
                    <a:pt x="172" y="171"/>
                    <a:pt x="172" y="186"/>
                  </a:cubicBezTo>
                </a:path>
              </a:pathLst>
            </a:custGeom>
            <a:solidFill>
              <a:srgbClr val="99ffcc"/>
            </a:solidFill>
            <a:ln w="32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6261920" y="16304400"/>
              <a:ext cx="672480" cy="590040"/>
            </a:xfrm>
            <a:custGeom>
              <a:avLst/>
              <a:gdLst/>
              <a:ahLst/>
              <a:rect l="l" t="t" r="r" b="b"/>
              <a:pathLst>
                <a:path w="234" h="262">
                  <a:moveTo>
                    <a:pt x="114" y="42"/>
                  </a:moveTo>
                  <a:cubicBezTo>
                    <a:pt x="110" y="36"/>
                    <a:pt x="106" y="30"/>
                    <a:pt x="102" y="24"/>
                  </a:cubicBezTo>
                  <a:cubicBezTo>
                    <a:pt x="98" y="19"/>
                    <a:pt x="94" y="0"/>
                    <a:pt x="96" y="6"/>
                  </a:cubicBezTo>
                  <a:cubicBezTo>
                    <a:pt x="106" y="34"/>
                    <a:pt x="99" y="24"/>
                    <a:pt x="114" y="39"/>
                  </a:cubicBezTo>
                  <a:cubicBezTo>
                    <a:pt x="120" y="58"/>
                    <a:pt x="110" y="77"/>
                    <a:pt x="105" y="96"/>
                  </a:cubicBezTo>
                  <a:cubicBezTo>
                    <a:pt x="107" y="112"/>
                    <a:pt x="122" y="153"/>
                    <a:pt x="102" y="126"/>
                  </a:cubicBezTo>
                  <a:cubicBezTo>
                    <a:pt x="98" y="102"/>
                    <a:pt x="93" y="89"/>
                    <a:pt x="69" y="81"/>
                  </a:cubicBezTo>
                  <a:cubicBezTo>
                    <a:pt x="61" y="69"/>
                    <a:pt x="59" y="53"/>
                    <a:pt x="45" y="48"/>
                  </a:cubicBezTo>
                  <a:cubicBezTo>
                    <a:pt x="7" y="56"/>
                    <a:pt x="45" y="65"/>
                    <a:pt x="57" y="69"/>
                  </a:cubicBezTo>
                  <a:cubicBezTo>
                    <a:pt x="68" y="80"/>
                    <a:pt x="72" y="94"/>
                    <a:pt x="84" y="102"/>
                  </a:cubicBezTo>
                  <a:cubicBezTo>
                    <a:pt x="89" y="118"/>
                    <a:pt x="99" y="136"/>
                    <a:pt x="108" y="150"/>
                  </a:cubicBezTo>
                  <a:cubicBezTo>
                    <a:pt x="89" y="158"/>
                    <a:pt x="72" y="163"/>
                    <a:pt x="54" y="174"/>
                  </a:cubicBezTo>
                  <a:cubicBezTo>
                    <a:pt x="48" y="178"/>
                    <a:pt x="43" y="185"/>
                    <a:pt x="36" y="186"/>
                  </a:cubicBezTo>
                  <a:cubicBezTo>
                    <a:pt x="8" y="190"/>
                    <a:pt x="20" y="187"/>
                    <a:pt x="0" y="192"/>
                  </a:cubicBezTo>
                  <a:cubicBezTo>
                    <a:pt x="18" y="198"/>
                    <a:pt x="48" y="188"/>
                    <a:pt x="66" y="186"/>
                  </a:cubicBezTo>
                  <a:cubicBezTo>
                    <a:pt x="75" y="183"/>
                    <a:pt x="88" y="185"/>
                    <a:pt x="93" y="177"/>
                  </a:cubicBezTo>
                  <a:cubicBezTo>
                    <a:pt x="100" y="166"/>
                    <a:pt x="99" y="160"/>
                    <a:pt x="111" y="156"/>
                  </a:cubicBezTo>
                  <a:cubicBezTo>
                    <a:pt x="113" y="162"/>
                    <a:pt x="113" y="169"/>
                    <a:pt x="117" y="174"/>
                  </a:cubicBezTo>
                  <a:cubicBezTo>
                    <a:pt x="121" y="180"/>
                    <a:pt x="129" y="192"/>
                    <a:pt x="129" y="192"/>
                  </a:cubicBezTo>
                  <a:cubicBezTo>
                    <a:pt x="121" y="234"/>
                    <a:pt x="120" y="215"/>
                    <a:pt x="111" y="243"/>
                  </a:cubicBezTo>
                  <a:cubicBezTo>
                    <a:pt x="123" y="262"/>
                    <a:pt x="129" y="234"/>
                    <a:pt x="138" y="222"/>
                  </a:cubicBezTo>
                  <a:cubicBezTo>
                    <a:pt x="140" y="213"/>
                    <a:pt x="147" y="204"/>
                    <a:pt x="144" y="195"/>
                  </a:cubicBezTo>
                  <a:cubicBezTo>
                    <a:pt x="142" y="188"/>
                    <a:pt x="136" y="183"/>
                    <a:pt x="132" y="177"/>
                  </a:cubicBezTo>
                  <a:cubicBezTo>
                    <a:pt x="130" y="174"/>
                    <a:pt x="126" y="168"/>
                    <a:pt x="126" y="168"/>
                  </a:cubicBezTo>
                  <a:cubicBezTo>
                    <a:pt x="155" y="139"/>
                    <a:pt x="150" y="163"/>
                    <a:pt x="165" y="180"/>
                  </a:cubicBezTo>
                  <a:cubicBezTo>
                    <a:pt x="174" y="191"/>
                    <a:pt x="179" y="189"/>
                    <a:pt x="192" y="192"/>
                  </a:cubicBezTo>
                  <a:cubicBezTo>
                    <a:pt x="165" y="155"/>
                    <a:pt x="163" y="165"/>
                    <a:pt x="108" y="162"/>
                  </a:cubicBezTo>
                  <a:cubicBezTo>
                    <a:pt x="115" y="121"/>
                    <a:pt x="145" y="137"/>
                    <a:pt x="189" y="135"/>
                  </a:cubicBezTo>
                  <a:cubicBezTo>
                    <a:pt x="207" y="117"/>
                    <a:pt x="211" y="113"/>
                    <a:pt x="234" y="102"/>
                  </a:cubicBezTo>
                  <a:cubicBezTo>
                    <a:pt x="233" y="98"/>
                    <a:pt x="234" y="92"/>
                    <a:pt x="231" y="90"/>
                  </a:cubicBezTo>
                  <a:cubicBezTo>
                    <a:pt x="223" y="84"/>
                    <a:pt x="216" y="105"/>
                    <a:pt x="216" y="105"/>
                  </a:cubicBezTo>
                  <a:cubicBezTo>
                    <a:pt x="206" y="117"/>
                    <a:pt x="183" y="120"/>
                    <a:pt x="171" y="123"/>
                  </a:cubicBezTo>
                  <a:cubicBezTo>
                    <a:pt x="148" y="138"/>
                    <a:pt x="160" y="134"/>
                    <a:pt x="135" y="138"/>
                  </a:cubicBezTo>
                  <a:cubicBezTo>
                    <a:pt x="139" y="123"/>
                    <a:pt x="145" y="122"/>
                    <a:pt x="156" y="111"/>
                  </a:cubicBezTo>
                  <a:cubicBezTo>
                    <a:pt x="162" y="92"/>
                    <a:pt x="173" y="74"/>
                    <a:pt x="189" y="63"/>
                  </a:cubicBezTo>
                  <a:cubicBezTo>
                    <a:pt x="197" y="51"/>
                    <a:pt x="199" y="48"/>
                    <a:pt x="195" y="33"/>
                  </a:cubicBezTo>
                  <a:cubicBezTo>
                    <a:pt x="183" y="41"/>
                    <a:pt x="183" y="46"/>
                    <a:pt x="180" y="60"/>
                  </a:cubicBezTo>
                  <a:cubicBezTo>
                    <a:pt x="177" y="101"/>
                    <a:pt x="168" y="129"/>
                    <a:pt x="132" y="147"/>
                  </a:cubicBezTo>
                  <a:lnTo>
                    <a:pt x="84" y="135"/>
                  </a:lnTo>
                </a:path>
              </a:pathLst>
            </a:custGeom>
            <a:solidFill>
              <a:srgbClr val="66ff33"/>
            </a:solidFill>
            <a:ln w="3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4" name=""/>
          <p:cNvGrpSpPr/>
          <p:nvPr/>
        </p:nvGrpSpPr>
        <p:grpSpPr>
          <a:xfrm>
            <a:off x="14005080" y="16116480"/>
            <a:ext cx="943920" cy="795960"/>
            <a:chOff x="14005080" y="16116480"/>
            <a:chExt cx="943920" cy="795960"/>
          </a:xfrm>
        </p:grpSpPr>
        <p:sp>
          <p:nvSpPr>
            <p:cNvPr id="1825" name=""/>
            <p:cNvSpPr/>
            <p:nvPr/>
          </p:nvSpPr>
          <p:spPr>
            <a:xfrm>
              <a:off x="14040000" y="16118280"/>
              <a:ext cx="909000" cy="794160"/>
            </a:xfrm>
            <a:custGeom>
              <a:avLst/>
              <a:gdLst/>
              <a:ahLst/>
              <a:rect l="l" t="t" r="r" b="b"/>
              <a:pathLst>
                <a:path w="342" h="336">
                  <a:moveTo>
                    <a:pt x="123" y="11"/>
                  </a:moveTo>
                  <a:cubicBezTo>
                    <a:pt x="127" y="24"/>
                    <a:pt x="134" y="34"/>
                    <a:pt x="138" y="47"/>
                  </a:cubicBezTo>
                  <a:cubicBezTo>
                    <a:pt x="136" y="69"/>
                    <a:pt x="132" y="83"/>
                    <a:pt x="120" y="101"/>
                  </a:cubicBezTo>
                  <a:cubicBezTo>
                    <a:pt x="114" y="143"/>
                    <a:pt x="105" y="136"/>
                    <a:pt x="81" y="164"/>
                  </a:cubicBezTo>
                  <a:cubicBezTo>
                    <a:pt x="57" y="192"/>
                    <a:pt x="77" y="202"/>
                    <a:pt x="39" y="221"/>
                  </a:cubicBezTo>
                  <a:cubicBezTo>
                    <a:pt x="24" y="243"/>
                    <a:pt x="20" y="240"/>
                    <a:pt x="42" y="236"/>
                  </a:cubicBezTo>
                  <a:cubicBezTo>
                    <a:pt x="63" y="222"/>
                    <a:pt x="75" y="202"/>
                    <a:pt x="96" y="188"/>
                  </a:cubicBezTo>
                  <a:cubicBezTo>
                    <a:pt x="103" y="178"/>
                    <a:pt x="104" y="169"/>
                    <a:pt x="108" y="158"/>
                  </a:cubicBezTo>
                  <a:cubicBezTo>
                    <a:pt x="103" y="90"/>
                    <a:pt x="103" y="127"/>
                    <a:pt x="126" y="143"/>
                  </a:cubicBezTo>
                  <a:cubicBezTo>
                    <a:pt x="132" y="153"/>
                    <a:pt x="135" y="152"/>
                    <a:pt x="129" y="164"/>
                  </a:cubicBezTo>
                  <a:cubicBezTo>
                    <a:pt x="121" y="179"/>
                    <a:pt x="109" y="195"/>
                    <a:pt x="99" y="209"/>
                  </a:cubicBezTo>
                  <a:cubicBezTo>
                    <a:pt x="92" y="220"/>
                    <a:pt x="88" y="234"/>
                    <a:pt x="81" y="245"/>
                  </a:cubicBezTo>
                  <a:cubicBezTo>
                    <a:pt x="71" y="259"/>
                    <a:pt x="76" y="251"/>
                    <a:pt x="69" y="272"/>
                  </a:cubicBezTo>
                  <a:cubicBezTo>
                    <a:pt x="65" y="283"/>
                    <a:pt x="63" y="290"/>
                    <a:pt x="63" y="290"/>
                  </a:cubicBezTo>
                  <a:cubicBezTo>
                    <a:pt x="79" y="285"/>
                    <a:pt x="69" y="289"/>
                    <a:pt x="90" y="275"/>
                  </a:cubicBezTo>
                  <a:cubicBezTo>
                    <a:pt x="93" y="273"/>
                    <a:pt x="99" y="269"/>
                    <a:pt x="99" y="269"/>
                  </a:cubicBezTo>
                  <a:cubicBezTo>
                    <a:pt x="107" y="244"/>
                    <a:pt x="95" y="283"/>
                    <a:pt x="105" y="227"/>
                  </a:cubicBezTo>
                  <a:cubicBezTo>
                    <a:pt x="109" y="207"/>
                    <a:pt x="121" y="190"/>
                    <a:pt x="126" y="170"/>
                  </a:cubicBezTo>
                  <a:cubicBezTo>
                    <a:pt x="128" y="173"/>
                    <a:pt x="132" y="175"/>
                    <a:pt x="132" y="179"/>
                  </a:cubicBezTo>
                  <a:cubicBezTo>
                    <a:pt x="134" y="209"/>
                    <a:pt x="128" y="235"/>
                    <a:pt x="120" y="263"/>
                  </a:cubicBezTo>
                  <a:cubicBezTo>
                    <a:pt x="119" y="265"/>
                    <a:pt x="114" y="287"/>
                    <a:pt x="108" y="290"/>
                  </a:cubicBezTo>
                  <a:cubicBezTo>
                    <a:pt x="104" y="293"/>
                    <a:pt x="98" y="292"/>
                    <a:pt x="93" y="293"/>
                  </a:cubicBezTo>
                  <a:cubicBezTo>
                    <a:pt x="92" y="296"/>
                    <a:pt x="88" y="300"/>
                    <a:pt x="90" y="302"/>
                  </a:cubicBezTo>
                  <a:cubicBezTo>
                    <a:pt x="92" y="304"/>
                    <a:pt x="96" y="301"/>
                    <a:pt x="99" y="299"/>
                  </a:cubicBezTo>
                  <a:cubicBezTo>
                    <a:pt x="105" y="295"/>
                    <a:pt x="111" y="291"/>
                    <a:pt x="117" y="287"/>
                  </a:cubicBezTo>
                  <a:cubicBezTo>
                    <a:pt x="120" y="285"/>
                    <a:pt x="126" y="281"/>
                    <a:pt x="126" y="281"/>
                  </a:cubicBezTo>
                  <a:cubicBezTo>
                    <a:pt x="146" y="251"/>
                    <a:pt x="136" y="229"/>
                    <a:pt x="138" y="185"/>
                  </a:cubicBezTo>
                  <a:cubicBezTo>
                    <a:pt x="146" y="198"/>
                    <a:pt x="147" y="205"/>
                    <a:pt x="150" y="221"/>
                  </a:cubicBezTo>
                  <a:cubicBezTo>
                    <a:pt x="146" y="251"/>
                    <a:pt x="135" y="272"/>
                    <a:pt x="126" y="299"/>
                  </a:cubicBezTo>
                  <a:cubicBezTo>
                    <a:pt x="127" y="308"/>
                    <a:pt x="130" y="326"/>
                    <a:pt x="138" y="323"/>
                  </a:cubicBezTo>
                  <a:cubicBezTo>
                    <a:pt x="140" y="322"/>
                    <a:pt x="152" y="296"/>
                    <a:pt x="153" y="293"/>
                  </a:cubicBezTo>
                  <a:cubicBezTo>
                    <a:pt x="156" y="287"/>
                    <a:pt x="159" y="275"/>
                    <a:pt x="159" y="275"/>
                  </a:cubicBezTo>
                  <a:cubicBezTo>
                    <a:pt x="157" y="244"/>
                    <a:pt x="151" y="223"/>
                    <a:pt x="144" y="194"/>
                  </a:cubicBezTo>
                  <a:cubicBezTo>
                    <a:pt x="150" y="157"/>
                    <a:pt x="150" y="148"/>
                    <a:pt x="180" y="128"/>
                  </a:cubicBezTo>
                  <a:cubicBezTo>
                    <a:pt x="192" y="92"/>
                    <a:pt x="200" y="66"/>
                    <a:pt x="240" y="56"/>
                  </a:cubicBezTo>
                  <a:cubicBezTo>
                    <a:pt x="243" y="26"/>
                    <a:pt x="239" y="22"/>
                    <a:pt x="267" y="17"/>
                  </a:cubicBezTo>
                  <a:cubicBezTo>
                    <a:pt x="271" y="29"/>
                    <a:pt x="271" y="34"/>
                    <a:pt x="258" y="38"/>
                  </a:cubicBezTo>
                  <a:cubicBezTo>
                    <a:pt x="250" y="50"/>
                    <a:pt x="248" y="79"/>
                    <a:pt x="234" y="86"/>
                  </a:cubicBezTo>
                  <a:cubicBezTo>
                    <a:pt x="227" y="90"/>
                    <a:pt x="218" y="89"/>
                    <a:pt x="210" y="92"/>
                  </a:cubicBezTo>
                  <a:cubicBezTo>
                    <a:pt x="188" y="114"/>
                    <a:pt x="190" y="141"/>
                    <a:pt x="156" y="152"/>
                  </a:cubicBezTo>
                  <a:cubicBezTo>
                    <a:pt x="154" y="158"/>
                    <a:pt x="152" y="164"/>
                    <a:pt x="150" y="170"/>
                  </a:cubicBezTo>
                  <a:cubicBezTo>
                    <a:pt x="135" y="214"/>
                    <a:pt x="165" y="158"/>
                    <a:pt x="183" y="155"/>
                  </a:cubicBezTo>
                  <a:cubicBezTo>
                    <a:pt x="200" y="152"/>
                    <a:pt x="217" y="153"/>
                    <a:pt x="234" y="152"/>
                  </a:cubicBezTo>
                  <a:cubicBezTo>
                    <a:pt x="244" y="145"/>
                    <a:pt x="248" y="138"/>
                    <a:pt x="258" y="131"/>
                  </a:cubicBezTo>
                  <a:cubicBezTo>
                    <a:pt x="272" y="136"/>
                    <a:pt x="282" y="133"/>
                    <a:pt x="294" y="125"/>
                  </a:cubicBezTo>
                  <a:cubicBezTo>
                    <a:pt x="297" y="107"/>
                    <a:pt x="297" y="101"/>
                    <a:pt x="309" y="89"/>
                  </a:cubicBezTo>
                  <a:cubicBezTo>
                    <a:pt x="311" y="82"/>
                    <a:pt x="315" y="65"/>
                    <a:pt x="309" y="68"/>
                  </a:cubicBezTo>
                  <a:cubicBezTo>
                    <a:pt x="300" y="72"/>
                    <a:pt x="283" y="111"/>
                    <a:pt x="279" y="122"/>
                  </a:cubicBezTo>
                  <a:cubicBezTo>
                    <a:pt x="276" y="130"/>
                    <a:pt x="250" y="131"/>
                    <a:pt x="249" y="131"/>
                  </a:cubicBezTo>
                  <a:cubicBezTo>
                    <a:pt x="237" y="135"/>
                    <a:pt x="233" y="144"/>
                    <a:pt x="222" y="149"/>
                  </a:cubicBezTo>
                  <a:cubicBezTo>
                    <a:pt x="209" y="155"/>
                    <a:pt x="166" y="155"/>
                    <a:pt x="165" y="155"/>
                  </a:cubicBezTo>
                  <a:cubicBezTo>
                    <a:pt x="152" y="193"/>
                    <a:pt x="168" y="191"/>
                    <a:pt x="192" y="215"/>
                  </a:cubicBezTo>
                  <a:cubicBezTo>
                    <a:pt x="203" y="249"/>
                    <a:pt x="193" y="286"/>
                    <a:pt x="204" y="320"/>
                  </a:cubicBezTo>
                  <a:cubicBezTo>
                    <a:pt x="214" y="306"/>
                    <a:pt x="209" y="314"/>
                    <a:pt x="216" y="293"/>
                  </a:cubicBezTo>
                  <a:cubicBezTo>
                    <a:pt x="217" y="290"/>
                    <a:pt x="219" y="284"/>
                    <a:pt x="219" y="284"/>
                  </a:cubicBezTo>
                  <a:cubicBezTo>
                    <a:pt x="216" y="261"/>
                    <a:pt x="211" y="253"/>
                    <a:pt x="204" y="233"/>
                  </a:cubicBezTo>
                  <a:cubicBezTo>
                    <a:pt x="199" y="196"/>
                    <a:pt x="201" y="199"/>
                    <a:pt x="168" y="191"/>
                  </a:cubicBezTo>
                  <a:cubicBezTo>
                    <a:pt x="188" y="206"/>
                    <a:pt x="201" y="203"/>
                    <a:pt x="225" y="197"/>
                  </a:cubicBezTo>
                  <a:cubicBezTo>
                    <a:pt x="258" y="208"/>
                    <a:pt x="239" y="246"/>
                    <a:pt x="264" y="254"/>
                  </a:cubicBezTo>
                  <a:cubicBezTo>
                    <a:pt x="279" y="249"/>
                    <a:pt x="286" y="261"/>
                    <a:pt x="300" y="266"/>
                  </a:cubicBezTo>
                  <a:cubicBezTo>
                    <a:pt x="325" y="250"/>
                    <a:pt x="275" y="249"/>
                    <a:pt x="267" y="248"/>
                  </a:cubicBezTo>
                  <a:cubicBezTo>
                    <a:pt x="247" y="241"/>
                    <a:pt x="259" y="219"/>
                    <a:pt x="249" y="203"/>
                  </a:cubicBezTo>
                  <a:cubicBezTo>
                    <a:pt x="242" y="193"/>
                    <a:pt x="230" y="190"/>
                    <a:pt x="219" y="185"/>
                  </a:cubicBezTo>
                  <a:cubicBezTo>
                    <a:pt x="204" y="186"/>
                    <a:pt x="189" y="186"/>
                    <a:pt x="174" y="188"/>
                  </a:cubicBezTo>
                  <a:cubicBezTo>
                    <a:pt x="171" y="188"/>
                    <a:pt x="162" y="191"/>
                    <a:pt x="165" y="191"/>
                  </a:cubicBezTo>
                  <a:cubicBezTo>
                    <a:pt x="169" y="191"/>
                    <a:pt x="173" y="189"/>
                    <a:pt x="177" y="188"/>
                  </a:cubicBezTo>
                  <a:cubicBezTo>
                    <a:pt x="216" y="190"/>
                    <a:pt x="250" y="191"/>
                    <a:pt x="288" y="197"/>
                  </a:cubicBezTo>
                  <a:cubicBezTo>
                    <a:pt x="294" y="195"/>
                    <a:pt x="301" y="187"/>
                    <a:pt x="306" y="191"/>
                  </a:cubicBezTo>
                  <a:cubicBezTo>
                    <a:pt x="312" y="195"/>
                    <a:pt x="324" y="203"/>
                    <a:pt x="324" y="203"/>
                  </a:cubicBezTo>
                  <a:cubicBezTo>
                    <a:pt x="342" y="191"/>
                    <a:pt x="333" y="181"/>
                    <a:pt x="318" y="176"/>
                  </a:cubicBezTo>
                  <a:cubicBezTo>
                    <a:pt x="293" y="180"/>
                    <a:pt x="268" y="178"/>
                    <a:pt x="243" y="173"/>
                  </a:cubicBezTo>
                  <a:cubicBezTo>
                    <a:pt x="218" y="177"/>
                    <a:pt x="199" y="187"/>
                    <a:pt x="174" y="191"/>
                  </a:cubicBezTo>
                  <a:cubicBezTo>
                    <a:pt x="201" y="164"/>
                    <a:pt x="225" y="172"/>
                    <a:pt x="264" y="170"/>
                  </a:cubicBezTo>
                  <a:cubicBezTo>
                    <a:pt x="280" y="159"/>
                    <a:pt x="293" y="155"/>
                    <a:pt x="312" y="152"/>
                  </a:cubicBezTo>
                  <a:cubicBezTo>
                    <a:pt x="323" y="145"/>
                    <a:pt x="323" y="139"/>
                    <a:pt x="330" y="128"/>
                  </a:cubicBezTo>
                  <a:cubicBezTo>
                    <a:pt x="324" y="110"/>
                    <a:pt x="304" y="140"/>
                    <a:pt x="288" y="146"/>
                  </a:cubicBezTo>
                  <a:cubicBezTo>
                    <a:pt x="271" y="152"/>
                    <a:pt x="234" y="151"/>
                    <a:pt x="225" y="152"/>
                  </a:cubicBezTo>
                  <a:cubicBezTo>
                    <a:pt x="202" y="160"/>
                    <a:pt x="199" y="163"/>
                    <a:pt x="180" y="182"/>
                  </a:cubicBezTo>
                  <a:cubicBezTo>
                    <a:pt x="177" y="185"/>
                    <a:pt x="171" y="191"/>
                    <a:pt x="171" y="191"/>
                  </a:cubicBezTo>
                  <a:cubicBezTo>
                    <a:pt x="146" y="183"/>
                    <a:pt x="150" y="164"/>
                    <a:pt x="135" y="146"/>
                  </a:cubicBezTo>
                  <a:cubicBezTo>
                    <a:pt x="125" y="134"/>
                    <a:pt x="109" y="125"/>
                    <a:pt x="96" y="116"/>
                  </a:cubicBezTo>
                  <a:cubicBezTo>
                    <a:pt x="94" y="113"/>
                    <a:pt x="93" y="109"/>
                    <a:pt x="90" y="107"/>
                  </a:cubicBezTo>
                  <a:cubicBezTo>
                    <a:pt x="88" y="105"/>
                    <a:pt x="83" y="106"/>
                    <a:pt x="81" y="104"/>
                  </a:cubicBezTo>
                  <a:cubicBezTo>
                    <a:pt x="66" y="89"/>
                    <a:pt x="61" y="65"/>
                    <a:pt x="57" y="44"/>
                  </a:cubicBezTo>
                  <a:cubicBezTo>
                    <a:pt x="64" y="42"/>
                    <a:pt x="71" y="35"/>
                    <a:pt x="78" y="38"/>
                  </a:cubicBezTo>
                  <a:cubicBezTo>
                    <a:pt x="83" y="41"/>
                    <a:pt x="80" y="50"/>
                    <a:pt x="81" y="56"/>
                  </a:cubicBezTo>
                  <a:cubicBezTo>
                    <a:pt x="82" y="67"/>
                    <a:pt x="82" y="78"/>
                    <a:pt x="84" y="89"/>
                  </a:cubicBezTo>
                  <a:cubicBezTo>
                    <a:pt x="86" y="105"/>
                    <a:pt x="102" y="113"/>
                    <a:pt x="111" y="125"/>
                  </a:cubicBezTo>
                  <a:cubicBezTo>
                    <a:pt x="119" y="148"/>
                    <a:pt x="108" y="120"/>
                    <a:pt x="120" y="143"/>
                  </a:cubicBezTo>
                  <a:cubicBezTo>
                    <a:pt x="121" y="146"/>
                    <a:pt x="126" y="154"/>
                    <a:pt x="123" y="152"/>
                  </a:cubicBezTo>
                  <a:cubicBezTo>
                    <a:pt x="88" y="129"/>
                    <a:pt x="116" y="128"/>
                    <a:pt x="72" y="122"/>
                  </a:cubicBezTo>
                  <a:cubicBezTo>
                    <a:pt x="57" y="125"/>
                    <a:pt x="27" y="134"/>
                    <a:pt x="27" y="134"/>
                  </a:cubicBezTo>
                  <a:cubicBezTo>
                    <a:pt x="19" y="146"/>
                    <a:pt x="14" y="146"/>
                    <a:pt x="0" y="149"/>
                  </a:cubicBezTo>
                  <a:cubicBezTo>
                    <a:pt x="44" y="164"/>
                    <a:pt x="91" y="138"/>
                    <a:pt x="135" y="134"/>
                  </a:cubicBezTo>
                  <a:cubicBezTo>
                    <a:pt x="137" y="111"/>
                    <a:pt x="136" y="106"/>
                    <a:pt x="141" y="89"/>
                  </a:cubicBezTo>
                  <a:cubicBezTo>
                    <a:pt x="143" y="83"/>
                    <a:pt x="147" y="71"/>
                    <a:pt x="147" y="71"/>
                  </a:cubicBezTo>
                  <a:cubicBezTo>
                    <a:pt x="146" y="59"/>
                    <a:pt x="146" y="47"/>
                    <a:pt x="144" y="35"/>
                  </a:cubicBezTo>
                  <a:cubicBezTo>
                    <a:pt x="143" y="29"/>
                    <a:pt x="142" y="21"/>
                    <a:pt x="138" y="17"/>
                  </a:cubicBezTo>
                  <a:cubicBezTo>
                    <a:pt x="135" y="14"/>
                    <a:pt x="125" y="8"/>
                    <a:pt x="129" y="8"/>
                  </a:cubicBezTo>
                  <a:cubicBezTo>
                    <a:pt x="143" y="8"/>
                    <a:pt x="165" y="29"/>
                    <a:pt x="165" y="29"/>
                  </a:cubicBezTo>
                  <a:cubicBezTo>
                    <a:pt x="172" y="39"/>
                    <a:pt x="173" y="48"/>
                    <a:pt x="177" y="59"/>
                  </a:cubicBezTo>
                  <a:cubicBezTo>
                    <a:pt x="173" y="81"/>
                    <a:pt x="171" y="89"/>
                    <a:pt x="153" y="101"/>
                  </a:cubicBezTo>
                  <a:cubicBezTo>
                    <a:pt x="147" y="111"/>
                    <a:pt x="142" y="120"/>
                    <a:pt x="138" y="131"/>
                  </a:cubicBezTo>
                  <a:cubicBezTo>
                    <a:pt x="147" y="149"/>
                    <a:pt x="153" y="143"/>
                    <a:pt x="165" y="131"/>
                  </a:cubicBezTo>
                  <a:cubicBezTo>
                    <a:pt x="172" y="109"/>
                    <a:pt x="173" y="87"/>
                    <a:pt x="180" y="65"/>
                  </a:cubicBezTo>
                  <a:cubicBezTo>
                    <a:pt x="182" y="59"/>
                    <a:pt x="182" y="52"/>
                    <a:pt x="186" y="47"/>
                  </a:cubicBezTo>
                  <a:cubicBezTo>
                    <a:pt x="190" y="41"/>
                    <a:pt x="198" y="29"/>
                    <a:pt x="198" y="29"/>
                  </a:cubicBezTo>
                  <a:cubicBezTo>
                    <a:pt x="200" y="21"/>
                    <a:pt x="205" y="13"/>
                    <a:pt x="204" y="5"/>
                  </a:cubicBezTo>
                  <a:cubicBezTo>
                    <a:pt x="204" y="2"/>
                    <a:pt x="198" y="0"/>
                    <a:pt x="195" y="2"/>
                  </a:cubicBezTo>
                  <a:cubicBezTo>
                    <a:pt x="191" y="4"/>
                    <a:pt x="191" y="10"/>
                    <a:pt x="189" y="14"/>
                  </a:cubicBezTo>
                  <a:cubicBezTo>
                    <a:pt x="187" y="44"/>
                    <a:pt x="181" y="62"/>
                    <a:pt x="174" y="89"/>
                  </a:cubicBezTo>
                  <a:cubicBezTo>
                    <a:pt x="172" y="98"/>
                    <a:pt x="170" y="107"/>
                    <a:pt x="168" y="116"/>
                  </a:cubicBezTo>
                  <a:cubicBezTo>
                    <a:pt x="167" y="119"/>
                    <a:pt x="162" y="125"/>
                    <a:pt x="165" y="125"/>
                  </a:cubicBezTo>
                  <a:cubicBezTo>
                    <a:pt x="169" y="125"/>
                    <a:pt x="169" y="119"/>
                    <a:pt x="171" y="116"/>
                  </a:cubicBezTo>
                  <a:cubicBezTo>
                    <a:pt x="174" y="105"/>
                    <a:pt x="183" y="72"/>
                    <a:pt x="189" y="65"/>
                  </a:cubicBezTo>
                  <a:cubicBezTo>
                    <a:pt x="205" y="44"/>
                    <a:pt x="213" y="43"/>
                    <a:pt x="219" y="17"/>
                  </a:cubicBezTo>
                  <a:cubicBezTo>
                    <a:pt x="232" y="21"/>
                    <a:pt x="236" y="18"/>
                    <a:pt x="240" y="5"/>
                  </a:cubicBezTo>
                  <a:cubicBezTo>
                    <a:pt x="237" y="30"/>
                    <a:pt x="234" y="39"/>
                    <a:pt x="210" y="47"/>
                  </a:cubicBezTo>
                  <a:cubicBezTo>
                    <a:pt x="197" y="66"/>
                    <a:pt x="185" y="87"/>
                    <a:pt x="171" y="104"/>
                  </a:cubicBezTo>
                  <a:cubicBezTo>
                    <a:pt x="165" y="112"/>
                    <a:pt x="159" y="131"/>
                    <a:pt x="159" y="131"/>
                  </a:cubicBezTo>
                  <a:cubicBezTo>
                    <a:pt x="161" y="134"/>
                    <a:pt x="161" y="140"/>
                    <a:pt x="165" y="140"/>
                  </a:cubicBezTo>
                  <a:cubicBezTo>
                    <a:pt x="169" y="141"/>
                    <a:pt x="203" y="129"/>
                    <a:pt x="210" y="128"/>
                  </a:cubicBezTo>
                  <a:cubicBezTo>
                    <a:pt x="229" y="116"/>
                    <a:pt x="249" y="99"/>
                    <a:pt x="261" y="80"/>
                  </a:cubicBezTo>
                  <a:cubicBezTo>
                    <a:pt x="265" y="74"/>
                    <a:pt x="271" y="69"/>
                    <a:pt x="273" y="62"/>
                  </a:cubicBezTo>
                  <a:cubicBezTo>
                    <a:pt x="274" y="59"/>
                    <a:pt x="274" y="55"/>
                    <a:pt x="276" y="53"/>
                  </a:cubicBezTo>
                  <a:cubicBezTo>
                    <a:pt x="282" y="48"/>
                    <a:pt x="290" y="49"/>
                    <a:pt x="297" y="47"/>
                  </a:cubicBezTo>
                  <a:cubicBezTo>
                    <a:pt x="309" y="66"/>
                    <a:pt x="282" y="64"/>
                    <a:pt x="267" y="74"/>
                  </a:cubicBezTo>
                  <a:cubicBezTo>
                    <a:pt x="254" y="113"/>
                    <a:pt x="246" y="95"/>
                    <a:pt x="219" y="113"/>
                  </a:cubicBezTo>
                  <a:cubicBezTo>
                    <a:pt x="206" y="133"/>
                    <a:pt x="192" y="139"/>
                    <a:pt x="171" y="146"/>
                  </a:cubicBezTo>
                  <a:cubicBezTo>
                    <a:pt x="187" y="151"/>
                    <a:pt x="187" y="160"/>
                    <a:pt x="192" y="176"/>
                  </a:cubicBezTo>
                  <a:cubicBezTo>
                    <a:pt x="196" y="187"/>
                    <a:pt x="219" y="197"/>
                    <a:pt x="219" y="197"/>
                  </a:cubicBezTo>
                  <a:cubicBezTo>
                    <a:pt x="236" y="223"/>
                    <a:pt x="213" y="274"/>
                    <a:pt x="243" y="284"/>
                  </a:cubicBezTo>
                  <a:cubicBezTo>
                    <a:pt x="245" y="287"/>
                    <a:pt x="247" y="290"/>
                    <a:pt x="249" y="293"/>
                  </a:cubicBezTo>
                  <a:cubicBezTo>
                    <a:pt x="250" y="296"/>
                    <a:pt x="252" y="305"/>
                    <a:pt x="252" y="302"/>
                  </a:cubicBezTo>
                  <a:cubicBezTo>
                    <a:pt x="252" y="296"/>
                    <a:pt x="251" y="290"/>
                    <a:pt x="249" y="284"/>
                  </a:cubicBezTo>
                  <a:cubicBezTo>
                    <a:pt x="246" y="277"/>
                    <a:pt x="237" y="266"/>
                    <a:pt x="237" y="266"/>
                  </a:cubicBezTo>
                  <a:cubicBezTo>
                    <a:pt x="234" y="231"/>
                    <a:pt x="240" y="218"/>
                    <a:pt x="213" y="200"/>
                  </a:cubicBezTo>
                  <a:cubicBezTo>
                    <a:pt x="203" y="201"/>
                    <a:pt x="193" y="203"/>
                    <a:pt x="183" y="203"/>
                  </a:cubicBezTo>
                  <a:cubicBezTo>
                    <a:pt x="174" y="203"/>
                    <a:pt x="164" y="196"/>
                    <a:pt x="156" y="200"/>
                  </a:cubicBezTo>
                  <a:cubicBezTo>
                    <a:pt x="148" y="204"/>
                    <a:pt x="168" y="213"/>
                    <a:pt x="171" y="221"/>
                  </a:cubicBezTo>
                  <a:cubicBezTo>
                    <a:pt x="175" y="230"/>
                    <a:pt x="178" y="241"/>
                    <a:pt x="180" y="251"/>
                  </a:cubicBezTo>
                  <a:cubicBezTo>
                    <a:pt x="178" y="263"/>
                    <a:pt x="174" y="275"/>
                    <a:pt x="171" y="287"/>
                  </a:cubicBezTo>
                  <a:cubicBezTo>
                    <a:pt x="169" y="297"/>
                    <a:pt x="165" y="317"/>
                    <a:pt x="165" y="317"/>
                  </a:cubicBezTo>
                  <a:cubicBezTo>
                    <a:pt x="166" y="320"/>
                    <a:pt x="168" y="336"/>
                    <a:pt x="177" y="323"/>
                  </a:cubicBezTo>
                  <a:cubicBezTo>
                    <a:pt x="181" y="318"/>
                    <a:pt x="183" y="305"/>
                    <a:pt x="183" y="305"/>
                  </a:cubicBezTo>
                  <a:cubicBezTo>
                    <a:pt x="173" y="267"/>
                    <a:pt x="184" y="203"/>
                    <a:pt x="144" y="176"/>
                  </a:cubicBezTo>
                  <a:cubicBezTo>
                    <a:pt x="134" y="161"/>
                    <a:pt x="123" y="144"/>
                    <a:pt x="108" y="134"/>
                  </a:cubicBezTo>
                  <a:cubicBezTo>
                    <a:pt x="102" y="136"/>
                    <a:pt x="96" y="138"/>
                    <a:pt x="90" y="140"/>
                  </a:cubicBezTo>
                  <a:cubicBezTo>
                    <a:pt x="87" y="141"/>
                    <a:pt x="81" y="143"/>
                    <a:pt x="81" y="143"/>
                  </a:cubicBezTo>
                  <a:cubicBezTo>
                    <a:pt x="72" y="152"/>
                    <a:pt x="70" y="163"/>
                    <a:pt x="60" y="170"/>
                  </a:cubicBezTo>
                  <a:cubicBezTo>
                    <a:pt x="51" y="176"/>
                    <a:pt x="33" y="185"/>
                    <a:pt x="33" y="185"/>
                  </a:cubicBezTo>
                  <a:cubicBezTo>
                    <a:pt x="19" y="206"/>
                    <a:pt x="28" y="201"/>
                    <a:pt x="12" y="206"/>
                  </a:cubicBezTo>
                  <a:cubicBezTo>
                    <a:pt x="18" y="178"/>
                    <a:pt x="33" y="185"/>
                    <a:pt x="54" y="173"/>
                  </a:cubicBezTo>
                  <a:cubicBezTo>
                    <a:pt x="82" y="157"/>
                    <a:pt x="95" y="147"/>
                    <a:pt x="126" y="137"/>
                  </a:cubicBezTo>
                  <a:cubicBezTo>
                    <a:pt x="110" y="125"/>
                    <a:pt x="97" y="123"/>
                    <a:pt x="78" y="128"/>
                  </a:cubicBezTo>
                  <a:cubicBezTo>
                    <a:pt x="56" y="142"/>
                    <a:pt x="66" y="137"/>
                    <a:pt x="48" y="146"/>
                  </a:cubicBezTo>
                  <a:cubicBezTo>
                    <a:pt x="28" y="141"/>
                    <a:pt x="37" y="147"/>
                    <a:pt x="30" y="119"/>
                  </a:cubicBezTo>
                  <a:cubicBezTo>
                    <a:pt x="29" y="115"/>
                    <a:pt x="28" y="111"/>
                    <a:pt x="27" y="107"/>
                  </a:cubicBezTo>
                  <a:cubicBezTo>
                    <a:pt x="26" y="103"/>
                    <a:pt x="21" y="92"/>
                    <a:pt x="24" y="95"/>
                  </a:cubicBezTo>
                  <a:cubicBezTo>
                    <a:pt x="56" y="127"/>
                    <a:pt x="48" y="123"/>
                    <a:pt x="90" y="128"/>
                  </a:cubicBezTo>
                  <a:cubicBezTo>
                    <a:pt x="99" y="134"/>
                    <a:pt x="108" y="137"/>
                    <a:pt x="117" y="143"/>
                  </a:cubicBezTo>
                  <a:cubicBezTo>
                    <a:pt x="129" y="120"/>
                    <a:pt x="118" y="54"/>
                    <a:pt x="117" y="41"/>
                  </a:cubicBezTo>
                  <a:cubicBezTo>
                    <a:pt x="116" y="35"/>
                    <a:pt x="111" y="23"/>
                    <a:pt x="111" y="23"/>
                  </a:cubicBezTo>
                  <a:cubicBezTo>
                    <a:pt x="86" y="40"/>
                    <a:pt x="113" y="76"/>
                    <a:pt x="126" y="95"/>
                  </a:cubicBezTo>
                  <a:cubicBezTo>
                    <a:pt x="125" y="110"/>
                    <a:pt x="134" y="129"/>
                    <a:pt x="123" y="140"/>
                  </a:cubicBezTo>
                  <a:cubicBezTo>
                    <a:pt x="116" y="147"/>
                    <a:pt x="110" y="124"/>
                    <a:pt x="102" y="119"/>
                  </a:cubicBezTo>
                  <a:cubicBezTo>
                    <a:pt x="89" y="111"/>
                    <a:pt x="82" y="110"/>
                    <a:pt x="66" y="107"/>
                  </a:cubicBezTo>
                  <a:cubicBezTo>
                    <a:pt x="56" y="100"/>
                    <a:pt x="49" y="93"/>
                    <a:pt x="42" y="83"/>
                  </a:cubicBezTo>
                  <a:cubicBezTo>
                    <a:pt x="40" y="79"/>
                    <a:pt x="48" y="89"/>
                    <a:pt x="51" y="92"/>
                  </a:cubicBezTo>
                  <a:cubicBezTo>
                    <a:pt x="58" y="98"/>
                    <a:pt x="61" y="99"/>
                    <a:pt x="69" y="101"/>
                  </a:cubicBezTo>
                  <a:cubicBezTo>
                    <a:pt x="77" y="103"/>
                    <a:pt x="93" y="107"/>
                    <a:pt x="93" y="107"/>
                  </a:cubicBezTo>
                  <a:cubicBezTo>
                    <a:pt x="103" y="114"/>
                    <a:pt x="107" y="121"/>
                    <a:pt x="117" y="128"/>
                  </a:cubicBezTo>
                  <a:cubicBezTo>
                    <a:pt x="119" y="131"/>
                    <a:pt x="120" y="134"/>
                    <a:pt x="123" y="137"/>
                  </a:cubicBezTo>
                  <a:cubicBezTo>
                    <a:pt x="126" y="140"/>
                    <a:pt x="130" y="140"/>
                    <a:pt x="132" y="143"/>
                  </a:cubicBezTo>
                  <a:cubicBezTo>
                    <a:pt x="134" y="145"/>
                    <a:pt x="135" y="152"/>
                    <a:pt x="135" y="152"/>
                  </a:cubicBezTo>
                </a:path>
              </a:pathLst>
            </a:custGeom>
            <a:solidFill>
              <a:srgbClr val="99ff99"/>
            </a:solidFill>
            <a:ln w="32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4005080" y="16116480"/>
              <a:ext cx="917280" cy="753840"/>
            </a:xfrm>
            <a:custGeom>
              <a:avLst/>
              <a:gdLst/>
              <a:ahLst/>
              <a:rect l="l" t="t" r="r" b="b"/>
              <a:pathLst>
                <a:path w="345" h="319">
                  <a:moveTo>
                    <a:pt x="88" y="33"/>
                  </a:moveTo>
                  <a:cubicBezTo>
                    <a:pt x="110" y="40"/>
                    <a:pt x="119" y="75"/>
                    <a:pt x="124" y="96"/>
                  </a:cubicBezTo>
                  <a:cubicBezTo>
                    <a:pt x="125" y="113"/>
                    <a:pt x="127" y="143"/>
                    <a:pt x="139" y="159"/>
                  </a:cubicBezTo>
                  <a:cubicBezTo>
                    <a:pt x="149" y="172"/>
                    <a:pt x="161" y="168"/>
                    <a:pt x="169" y="192"/>
                  </a:cubicBezTo>
                  <a:cubicBezTo>
                    <a:pt x="171" y="189"/>
                    <a:pt x="177" y="186"/>
                    <a:pt x="175" y="183"/>
                  </a:cubicBezTo>
                  <a:cubicBezTo>
                    <a:pt x="171" y="177"/>
                    <a:pt x="157" y="171"/>
                    <a:pt x="157" y="171"/>
                  </a:cubicBezTo>
                  <a:cubicBezTo>
                    <a:pt x="144" y="152"/>
                    <a:pt x="141" y="123"/>
                    <a:pt x="124" y="111"/>
                  </a:cubicBezTo>
                  <a:cubicBezTo>
                    <a:pt x="106" y="84"/>
                    <a:pt x="118" y="59"/>
                    <a:pt x="97" y="27"/>
                  </a:cubicBezTo>
                  <a:cubicBezTo>
                    <a:pt x="93" y="21"/>
                    <a:pt x="104" y="39"/>
                    <a:pt x="106" y="45"/>
                  </a:cubicBezTo>
                  <a:cubicBezTo>
                    <a:pt x="110" y="78"/>
                    <a:pt x="123" y="95"/>
                    <a:pt x="136" y="123"/>
                  </a:cubicBezTo>
                  <a:cubicBezTo>
                    <a:pt x="140" y="132"/>
                    <a:pt x="142" y="150"/>
                    <a:pt x="148" y="159"/>
                  </a:cubicBezTo>
                  <a:cubicBezTo>
                    <a:pt x="162" y="180"/>
                    <a:pt x="158" y="170"/>
                    <a:pt x="163" y="186"/>
                  </a:cubicBezTo>
                  <a:cubicBezTo>
                    <a:pt x="168" y="162"/>
                    <a:pt x="163" y="126"/>
                    <a:pt x="175" y="105"/>
                  </a:cubicBezTo>
                  <a:cubicBezTo>
                    <a:pt x="178" y="100"/>
                    <a:pt x="184" y="98"/>
                    <a:pt x="187" y="93"/>
                  </a:cubicBezTo>
                  <a:cubicBezTo>
                    <a:pt x="190" y="89"/>
                    <a:pt x="191" y="85"/>
                    <a:pt x="193" y="81"/>
                  </a:cubicBezTo>
                  <a:cubicBezTo>
                    <a:pt x="198" y="54"/>
                    <a:pt x="200" y="27"/>
                    <a:pt x="202" y="0"/>
                  </a:cubicBezTo>
                  <a:cubicBezTo>
                    <a:pt x="204" y="6"/>
                    <a:pt x="206" y="12"/>
                    <a:pt x="208" y="18"/>
                  </a:cubicBezTo>
                  <a:cubicBezTo>
                    <a:pt x="209" y="21"/>
                    <a:pt x="211" y="27"/>
                    <a:pt x="211" y="27"/>
                  </a:cubicBezTo>
                  <a:cubicBezTo>
                    <a:pt x="208" y="44"/>
                    <a:pt x="203" y="59"/>
                    <a:pt x="199" y="75"/>
                  </a:cubicBezTo>
                  <a:cubicBezTo>
                    <a:pt x="198" y="90"/>
                    <a:pt x="199" y="105"/>
                    <a:pt x="196" y="120"/>
                  </a:cubicBezTo>
                  <a:cubicBezTo>
                    <a:pt x="194" y="128"/>
                    <a:pt x="184" y="131"/>
                    <a:pt x="181" y="138"/>
                  </a:cubicBezTo>
                  <a:cubicBezTo>
                    <a:pt x="173" y="156"/>
                    <a:pt x="172" y="177"/>
                    <a:pt x="154" y="189"/>
                  </a:cubicBezTo>
                  <a:cubicBezTo>
                    <a:pt x="173" y="160"/>
                    <a:pt x="193" y="147"/>
                    <a:pt x="220" y="129"/>
                  </a:cubicBezTo>
                  <a:cubicBezTo>
                    <a:pt x="239" y="116"/>
                    <a:pt x="220" y="120"/>
                    <a:pt x="235" y="108"/>
                  </a:cubicBezTo>
                  <a:cubicBezTo>
                    <a:pt x="248" y="98"/>
                    <a:pt x="267" y="103"/>
                    <a:pt x="283" y="102"/>
                  </a:cubicBezTo>
                  <a:cubicBezTo>
                    <a:pt x="290" y="98"/>
                    <a:pt x="297" y="94"/>
                    <a:pt x="304" y="90"/>
                  </a:cubicBezTo>
                  <a:cubicBezTo>
                    <a:pt x="307" y="89"/>
                    <a:pt x="316" y="87"/>
                    <a:pt x="313" y="87"/>
                  </a:cubicBezTo>
                  <a:cubicBezTo>
                    <a:pt x="305" y="88"/>
                    <a:pt x="297" y="89"/>
                    <a:pt x="289" y="90"/>
                  </a:cubicBezTo>
                  <a:cubicBezTo>
                    <a:pt x="277" y="98"/>
                    <a:pt x="264" y="102"/>
                    <a:pt x="250" y="105"/>
                  </a:cubicBezTo>
                  <a:cubicBezTo>
                    <a:pt x="241" y="119"/>
                    <a:pt x="225" y="136"/>
                    <a:pt x="211" y="144"/>
                  </a:cubicBezTo>
                  <a:cubicBezTo>
                    <a:pt x="205" y="147"/>
                    <a:pt x="193" y="150"/>
                    <a:pt x="193" y="150"/>
                  </a:cubicBezTo>
                  <a:cubicBezTo>
                    <a:pt x="186" y="160"/>
                    <a:pt x="164" y="188"/>
                    <a:pt x="169" y="189"/>
                  </a:cubicBezTo>
                  <a:cubicBezTo>
                    <a:pt x="182" y="191"/>
                    <a:pt x="195" y="187"/>
                    <a:pt x="208" y="186"/>
                  </a:cubicBezTo>
                  <a:cubicBezTo>
                    <a:pt x="224" y="181"/>
                    <a:pt x="240" y="179"/>
                    <a:pt x="256" y="174"/>
                  </a:cubicBezTo>
                  <a:cubicBezTo>
                    <a:pt x="275" y="187"/>
                    <a:pt x="267" y="195"/>
                    <a:pt x="295" y="204"/>
                  </a:cubicBezTo>
                  <a:cubicBezTo>
                    <a:pt x="303" y="227"/>
                    <a:pt x="317" y="228"/>
                    <a:pt x="325" y="252"/>
                  </a:cubicBezTo>
                  <a:cubicBezTo>
                    <a:pt x="318" y="254"/>
                    <a:pt x="311" y="259"/>
                    <a:pt x="304" y="258"/>
                  </a:cubicBezTo>
                  <a:cubicBezTo>
                    <a:pt x="294" y="257"/>
                    <a:pt x="296" y="222"/>
                    <a:pt x="277" y="216"/>
                  </a:cubicBezTo>
                  <a:cubicBezTo>
                    <a:pt x="270" y="195"/>
                    <a:pt x="276" y="202"/>
                    <a:pt x="262" y="192"/>
                  </a:cubicBezTo>
                  <a:cubicBezTo>
                    <a:pt x="234" y="196"/>
                    <a:pt x="207" y="191"/>
                    <a:pt x="178" y="189"/>
                  </a:cubicBezTo>
                  <a:cubicBezTo>
                    <a:pt x="167" y="182"/>
                    <a:pt x="165" y="172"/>
                    <a:pt x="151" y="177"/>
                  </a:cubicBezTo>
                  <a:cubicBezTo>
                    <a:pt x="136" y="200"/>
                    <a:pt x="132" y="224"/>
                    <a:pt x="103" y="234"/>
                  </a:cubicBezTo>
                  <a:cubicBezTo>
                    <a:pt x="89" y="248"/>
                    <a:pt x="74" y="256"/>
                    <a:pt x="58" y="267"/>
                  </a:cubicBezTo>
                  <a:cubicBezTo>
                    <a:pt x="65" y="269"/>
                    <a:pt x="72" y="272"/>
                    <a:pt x="79" y="273"/>
                  </a:cubicBezTo>
                  <a:cubicBezTo>
                    <a:pt x="99" y="275"/>
                    <a:pt x="115" y="241"/>
                    <a:pt x="136" y="234"/>
                  </a:cubicBezTo>
                  <a:cubicBezTo>
                    <a:pt x="150" y="220"/>
                    <a:pt x="148" y="201"/>
                    <a:pt x="163" y="186"/>
                  </a:cubicBezTo>
                  <a:cubicBezTo>
                    <a:pt x="150" y="182"/>
                    <a:pt x="141" y="187"/>
                    <a:pt x="127" y="189"/>
                  </a:cubicBezTo>
                  <a:cubicBezTo>
                    <a:pt x="96" y="179"/>
                    <a:pt x="60" y="190"/>
                    <a:pt x="28" y="192"/>
                  </a:cubicBezTo>
                  <a:cubicBezTo>
                    <a:pt x="12" y="188"/>
                    <a:pt x="0" y="172"/>
                    <a:pt x="22" y="165"/>
                  </a:cubicBezTo>
                  <a:cubicBezTo>
                    <a:pt x="32" y="166"/>
                    <a:pt x="44" y="165"/>
                    <a:pt x="52" y="171"/>
                  </a:cubicBezTo>
                  <a:cubicBezTo>
                    <a:pt x="59" y="176"/>
                    <a:pt x="70" y="189"/>
                    <a:pt x="70" y="189"/>
                  </a:cubicBezTo>
                  <a:cubicBezTo>
                    <a:pt x="110" y="187"/>
                    <a:pt x="132" y="188"/>
                    <a:pt x="166" y="180"/>
                  </a:cubicBezTo>
                  <a:cubicBezTo>
                    <a:pt x="148" y="178"/>
                    <a:pt x="129" y="179"/>
                    <a:pt x="112" y="174"/>
                  </a:cubicBezTo>
                  <a:cubicBezTo>
                    <a:pt x="99" y="170"/>
                    <a:pt x="96" y="141"/>
                    <a:pt x="85" y="138"/>
                  </a:cubicBezTo>
                  <a:cubicBezTo>
                    <a:pt x="58" y="131"/>
                    <a:pt x="69" y="135"/>
                    <a:pt x="52" y="129"/>
                  </a:cubicBezTo>
                  <a:cubicBezTo>
                    <a:pt x="44" y="117"/>
                    <a:pt x="38" y="116"/>
                    <a:pt x="34" y="102"/>
                  </a:cubicBezTo>
                  <a:cubicBezTo>
                    <a:pt x="32" y="96"/>
                    <a:pt x="28" y="84"/>
                    <a:pt x="28" y="84"/>
                  </a:cubicBezTo>
                  <a:cubicBezTo>
                    <a:pt x="48" y="79"/>
                    <a:pt x="46" y="90"/>
                    <a:pt x="52" y="108"/>
                  </a:cubicBezTo>
                  <a:cubicBezTo>
                    <a:pt x="53" y="111"/>
                    <a:pt x="52" y="116"/>
                    <a:pt x="55" y="117"/>
                  </a:cubicBezTo>
                  <a:cubicBezTo>
                    <a:pt x="70" y="122"/>
                    <a:pt x="85" y="125"/>
                    <a:pt x="100" y="129"/>
                  </a:cubicBezTo>
                  <a:cubicBezTo>
                    <a:pt x="113" y="138"/>
                    <a:pt x="111" y="152"/>
                    <a:pt x="121" y="162"/>
                  </a:cubicBezTo>
                  <a:cubicBezTo>
                    <a:pt x="137" y="178"/>
                    <a:pt x="161" y="187"/>
                    <a:pt x="178" y="204"/>
                  </a:cubicBezTo>
                  <a:cubicBezTo>
                    <a:pt x="174" y="232"/>
                    <a:pt x="179" y="219"/>
                    <a:pt x="163" y="243"/>
                  </a:cubicBezTo>
                  <a:cubicBezTo>
                    <a:pt x="161" y="246"/>
                    <a:pt x="157" y="252"/>
                    <a:pt x="157" y="252"/>
                  </a:cubicBezTo>
                  <a:cubicBezTo>
                    <a:pt x="152" y="272"/>
                    <a:pt x="150" y="292"/>
                    <a:pt x="145" y="312"/>
                  </a:cubicBezTo>
                  <a:cubicBezTo>
                    <a:pt x="143" y="318"/>
                    <a:pt x="121" y="319"/>
                    <a:pt x="127" y="318"/>
                  </a:cubicBezTo>
                  <a:cubicBezTo>
                    <a:pt x="132" y="317"/>
                    <a:pt x="137" y="316"/>
                    <a:pt x="142" y="315"/>
                  </a:cubicBezTo>
                  <a:cubicBezTo>
                    <a:pt x="167" y="297"/>
                    <a:pt x="167" y="278"/>
                    <a:pt x="172" y="249"/>
                  </a:cubicBezTo>
                  <a:cubicBezTo>
                    <a:pt x="174" y="241"/>
                    <a:pt x="176" y="233"/>
                    <a:pt x="178" y="225"/>
                  </a:cubicBezTo>
                  <a:cubicBezTo>
                    <a:pt x="180" y="219"/>
                    <a:pt x="184" y="207"/>
                    <a:pt x="184" y="207"/>
                  </a:cubicBezTo>
                  <a:cubicBezTo>
                    <a:pt x="195" y="223"/>
                    <a:pt x="187" y="265"/>
                    <a:pt x="211" y="273"/>
                  </a:cubicBezTo>
                  <a:cubicBezTo>
                    <a:pt x="219" y="276"/>
                    <a:pt x="227" y="275"/>
                    <a:pt x="235" y="276"/>
                  </a:cubicBezTo>
                  <a:cubicBezTo>
                    <a:pt x="246" y="285"/>
                    <a:pt x="261" y="291"/>
                    <a:pt x="268" y="303"/>
                  </a:cubicBezTo>
                  <a:cubicBezTo>
                    <a:pt x="270" y="307"/>
                    <a:pt x="271" y="315"/>
                    <a:pt x="271" y="315"/>
                  </a:cubicBezTo>
                  <a:cubicBezTo>
                    <a:pt x="271" y="315"/>
                    <a:pt x="269" y="307"/>
                    <a:pt x="268" y="303"/>
                  </a:cubicBezTo>
                  <a:cubicBezTo>
                    <a:pt x="266" y="294"/>
                    <a:pt x="267" y="284"/>
                    <a:pt x="262" y="276"/>
                  </a:cubicBezTo>
                  <a:cubicBezTo>
                    <a:pt x="257" y="268"/>
                    <a:pt x="242" y="262"/>
                    <a:pt x="235" y="258"/>
                  </a:cubicBezTo>
                  <a:cubicBezTo>
                    <a:pt x="229" y="254"/>
                    <a:pt x="217" y="246"/>
                    <a:pt x="217" y="246"/>
                  </a:cubicBezTo>
                  <a:cubicBezTo>
                    <a:pt x="207" y="231"/>
                    <a:pt x="202" y="217"/>
                    <a:pt x="187" y="207"/>
                  </a:cubicBezTo>
                  <a:cubicBezTo>
                    <a:pt x="173" y="187"/>
                    <a:pt x="215" y="190"/>
                    <a:pt x="232" y="186"/>
                  </a:cubicBezTo>
                  <a:cubicBezTo>
                    <a:pt x="256" y="150"/>
                    <a:pt x="271" y="163"/>
                    <a:pt x="310" y="150"/>
                  </a:cubicBezTo>
                  <a:cubicBezTo>
                    <a:pt x="324" y="155"/>
                    <a:pt x="329" y="153"/>
                    <a:pt x="337" y="141"/>
                  </a:cubicBezTo>
                  <a:cubicBezTo>
                    <a:pt x="339" y="133"/>
                    <a:pt x="341" y="125"/>
                    <a:pt x="343" y="117"/>
                  </a:cubicBezTo>
                  <a:cubicBezTo>
                    <a:pt x="345" y="111"/>
                    <a:pt x="331" y="121"/>
                    <a:pt x="325" y="123"/>
                  </a:cubicBezTo>
                  <a:cubicBezTo>
                    <a:pt x="316" y="126"/>
                    <a:pt x="298" y="135"/>
                    <a:pt x="298" y="135"/>
                  </a:cubicBezTo>
                  <a:cubicBezTo>
                    <a:pt x="276" y="157"/>
                    <a:pt x="256" y="160"/>
                    <a:pt x="226" y="165"/>
                  </a:cubicBezTo>
                  <a:cubicBezTo>
                    <a:pt x="213" y="174"/>
                    <a:pt x="206" y="186"/>
                    <a:pt x="193" y="195"/>
                  </a:cubicBezTo>
                  <a:cubicBezTo>
                    <a:pt x="185" y="171"/>
                    <a:pt x="188" y="161"/>
                    <a:pt x="211" y="153"/>
                  </a:cubicBezTo>
                  <a:cubicBezTo>
                    <a:pt x="220" y="139"/>
                    <a:pt x="237" y="83"/>
                    <a:pt x="247" y="78"/>
                  </a:cubicBezTo>
                  <a:cubicBezTo>
                    <a:pt x="254" y="74"/>
                    <a:pt x="263" y="74"/>
                    <a:pt x="271" y="72"/>
                  </a:cubicBezTo>
                  <a:cubicBezTo>
                    <a:pt x="278" y="65"/>
                    <a:pt x="286" y="45"/>
                    <a:pt x="286" y="45"/>
                  </a:cubicBezTo>
                  <a:cubicBezTo>
                    <a:pt x="279" y="11"/>
                    <a:pt x="270" y="43"/>
                    <a:pt x="259" y="57"/>
                  </a:cubicBezTo>
                  <a:cubicBezTo>
                    <a:pt x="240" y="81"/>
                    <a:pt x="232" y="110"/>
                    <a:pt x="223" y="138"/>
                  </a:cubicBezTo>
                  <a:cubicBezTo>
                    <a:pt x="216" y="158"/>
                    <a:pt x="210" y="156"/>
                    <a:pt x="193" y="162"/>
                  </a:cubicBezTo>
                  <a:cubicBezTo>
                    <a:pt x="187" y="164"/>
                    <a:pt x="175" y="168"/>
                    <a:pt x="175" y="168"/>
                  </a:cubicBezTo>
                  <a:cubicBezTo>
                    <a:pt x="172" y="156"/>
                    <a:pt x="166" y="139"/>
                    <a:pt x="166" y="126"/>
                  </a:cubicBezTo>
                  <a:cubicBezTo>
                    <a:pt x="167" y="105"/>
                    <a:pt x="172" y="63"/>
                    <a:pt x="172" y="63"/>
                  </a:cubicBezTo>
                  <a:cubicBezTo>
                    <a:pt x="169" y="46"/>
                    <a:pt x="166" y="42"/>
                    <a:pt x="154" y="30"/>
                  </a:cubicBezTo>
                  <a:cubicBezTo>
                    <a:pt x="147" y="8"/>
                    <a:pt x="146" y="18"/>
                    <a:pt x="151" y="0"/>
                  </a:cubicBezTo>
                  <a:cubicBezTo>
                    <a:pt x="155" y="17"/>
                    <a:pt x="157" y="28"/>
                    <a:pt x="166" y="42"/>
                  </a:cubicBezTo>
                  <a:cubicBezTo>
                    <a:pt x="174" y="74"/>
                    <a:pt x="169" y="103"/>
                    <a:pt x="163" y="135"/>
                  </a:cubicBezTo>
                  <a:cubicBezTo>
                    <a:pt x="165" y="149"/>
                    <a:pt x="172" y="171"/>
                    <a:pt x="172" y="186"/>
                  </a:cubicBezTo>
                </a:path>
              </a:pathLst>
            </a:custGeom>
            <a:solidFill>
              <a:srgbClr val="99ffcc"/>
            </a:solidFill>
            <a:ln w="32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4119560" y="16193880"/>
              <a:ext cx="622080" cy="619560"/>
            </a:xfrm>
            <a:custGeom>
              <a:avLst/>
              <a:gdLst/>
              <a:ahLst/>
              <a:rect l="l" t="t" r="r" b="b"/>
              <a:pathLst>
                <a:path w="234" h="262">
                  <a:moveTo>
                    <a:pt x="114" y="42"/>
                  </a:moveTo>
                  <a:cubicBezTo>
                    <a:pt x="110" y="36"/>
                    <a:pt x="106" y="30"/>
                    <a:pt x="102" y="24"/>
                  </a:cubicBezTo>
                  <a:cubicBezTo>
                    <a:pt x="98" y="19"/>
                    <a:pt x="94" y="0"/>
                    <a:pt x="96" y="6"/>
                  </a:cubicBezTo>
                  <a:cubicBezTo>
                    <a:pt x="106" y="34"/>
                    <a:pt x="99" y="24"/>
                    <a:pt x="114" y="39"/>
                  </a:cubicBezTo>
                  <a:cubicBezTo>
                    <a:pt x="120" y="58"/>
                    <a:pt x="110" y="77"/>
                    <a:pt x="105" y="96"/>
                  </a:cubicBezTo>
                  <a:cubicBezTo>
                    <a:pt x="107" y="112"/>
                    <a:pt x="122" y="153"/>
                    <a:pt x="102" y="126"/>
                  </a:cubicBezTo>
                  <a:cubicBezTo>
                    <a:pt x="98" y="102"/>
                    <a:pt x="93" y="89"/>
                    <a:pt x="69" y="81"/>
                  </a:cubicBezTo>
                  <a:cubicBezTo>
                    <a:pt x="61" y="69"/>
                    <a:pt x="59" y="53"/>
                    <a:pt x="45" y="48"/>
                  </a:cubicBezTo>
                  <a:cubicBezTo>
                    <a:pt x="7" y="56"/>
                    <a:pt x="45" y="65"/>
                    <a:pt x="57" y="69"/>
                  </a:cubicBezTo>
                  <a:cubicBezTo>
                    <a:pt x="68" y="80"/>
                    <a:pt x="72" y="94"/>
                    <a:pt x="84" y="102"/>
                  </a:cubicBezTo>
                  <a:cubicBezTo>
                    <a:pt x="89" y="118"/>
                    <a:pt x="99" y="136"/>
                    <a:pt x="108" y="150"/>
                  </a:cubicBezTo>
                  <a:cubicBezTo>
                    <a:pt x="89" y="158"/>
                    <a:pt x="72" y="163"/>
                    <a:pt x="54" y="174"/>
                  </a:cubicBezTo>
                  <a:cubicBezTo>
                    <a:pt x="48" y="178"/>
                    <a:pt x="43" y="185"/>
                    <a:pt x="36" y="186"/>
                  </a:cubicBezTo>
                  <a:cubicBezTo>
                    <a:pt x="8" y="190"/>
                    <a:pt x="20" y="187"/>
                    <a:pt x="0" y="192"/>
                  </a:cubicBezTo>
                  <a:cubicBezTo>
                    <a:pt x="18" y="198"/>
                    <a:pt x="48" y="188"/>
                    <a:pt x="66" y="186"/>
                  </a:cubicBezTo>
                  <a:cubicBezTo>
                    <a:pt x="75" y="183"/>
                    <a:pt x="88" y="185"/>
                    <a:pt x="93" y="177"/>
                  </a:cubicBezTo>
                  <a:cubicBezTo>
                    <a:pt x="100" y="166"/>
                    <a:pt x="99" y="160"/>
                    <a:pt x="111" y="156"/>
                  </a:cubicBezTo>
                  <a:cubicBezTo>
                    <a:pt x="113" y="162"/>
                    <a:pt x="113" y="169"/>
                    <a:pt x="117" y="174"/>
                  </a:cubicBezTo>
                  <a:cubicBezTo>
                    <a:pt x="121" y="180"/>
                    <a:pt x="129" y="192"/>
                    <a:pt x="129" y="192"/>
                  </a:cubicBezTo>
                  <a:cubicBezTo>
                    <a:pt x="121" y="234"/>
                    <a:pt x="120" y="215"/>
                    <a:pt x="111" y="243"/>
                  </a:cubicBezTo>
                  <a:cubicBezTo>
                    <a:pt x="123" y="262"/>
                    <a:pt x="129" y="234"/>
                    <a:pt x="138" y="222"/>
                  </a:cubicBezTo>
                  <a:cubicBezTo>
                    <a:pt x="140" y="213"/>
                    <a:pt x="147" y="204"/>
                    <a:pt x="144" y="195"/>
                  </a:cubicBezTo>
                  <a:cubicBezTo>
                    <a:pt x="142" y="188"/>
                    <a:pt x="136" y="183"/>
                    <a:pt x="132" y="177"/>
                  </a:cubicBezTo>
                  <a:cubicBezTo>
                    <a:pt x="130" y="174"/>
                    <a:pt x="126" y="168"/>
                    <a:pt x="126" y="168"/>
                  </a:cubicBezTo>
                  <a:cubicBezTo>
                    <a:pt x="155" y="139"/>
                    <a:pt x="150" y="163"/>
                    <a:pt x="165" y="180"/>
                  </a:cubicBezTo>
                  <a:cubicBezTo>
                    <a:pt x="174" y="191"/>
                    <a:pt x="179" y="189"/>
                    <a:pt x="192" y="192"/>
                  </a:cubicBezTo>
                  <a:cubicBezTo>
                    <a:pt x="165" y="155"/>
                    <a:pt x="163" y="165"/>
                    <a:pt x="108" y="162"/>
                  </a:cubicBezTo>
                  <a:cubicBezTo>
                    <a:pt x="115" y="121"/>
                    <a:pt x="145" y="137"/>
                    <a:pt x="189" y="135"/>
                  </a:cubicBezTo>
                  <a:cubicBezTo>
                    <a:pt x="207" y="117"/>
                    <a:pt x="211" y="113"/>
                    <a:pt x="234" y="102"/>
                  </a:cubicBezTo>
                  <a:cubicBezTo>
                    <a:pt x="233" y="98"/>
                    <a:pt x="234" y="92"/>
                    <a:pt x="231" y="90"/>
                  </a:cubicBezTo>
                  <a:cubicBezTo>
                    <a:pt x="223" y="84"/>
                    <a:pt x="216" y="105"/>
                    <a:pt x="216" y="105"/>
                  </a:cubicBezTo>
                  <a:cubicBezTo>
                    <a:pt x="206" y="117"/>
                    <a:pt x="183" y="120"/>
                    <a:pt x="171" y="123"/>
                  </a:cubicBezTo>
                  <a:cubicBezTo>
                    <a:pt x="148" y="138"/>
                    <a:pt x="160" y="134"/>
                    <a:pt x="135" y="138"/>
                  </a:cubicBezTo>
                  <a:cubicBezTo>
                    <a:pt x="139" y="123"/>
                    <a:pt x="145" y="122"/>
                    <a:pt x="156" y="111"/>
                  </a:cubicBezTo>
                  <a:cubicBezTo>
                    <a:pt x="162" y="92"/>
                    <a:pt x="173" y="74"/>
                    <a:pt x="189" y="63"/>
                  </a:cubicBezTo>
                  <a:cubicBezTo>
                    <a:pt x="197" y="51"/>
                    <a:pt x="199" y="48"/>
                    <a:pt x="195" y="33"/>
                  </a:cubicBezTo>
                  <a:cubicBezTo>
                    <a:pt x="183" y="41"/>
                    <a:pt x="183" y="46"/>
                    <a:pt x="180" y="60"/>
                  </a:cubicBezTo>
                  <a:cubicBezTo>
                    <a:pt x="177" y="101"/>
                    <a:pt x="168" y="129"/>
                    <a:pt x="132" y="147"/>
                  </a:cubicBezTo>
                  <a:lnTo>
                    <a:pt x="84" y="135"/>
                  </a:lnTo>
                </a:path>
              </a:pathLst>
            </a:custGeom>
            <a:solidFill>
              <a:srgbClr val="66ff33"/>
            </a:solidFill>
            <a:ln w="3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10385280" y="16078320"/>
            <a:ext cx="1020600" cy="915120"/>
            <a:chOff x="10385280" y="16078320"/>
            <a:chExt cx="1020600" cy="915120"/>
          </a:xfrm>
        </p:grpSpPr>
        <p:sp>
          <p:nvSpPr>
            <p:cNvPr id="1829" name=""/>
            <p:cNvSpPr/>
            <p:nvPr/>
          </p:nvSpPr>
          <p:spPr>
            <a:xfrm>
              <a:off x="10423080" y="16080480"/>
              <a:ext cx="982800" cy="912960"/>
            </a:xfrm>
            <a:custGeom>
              <a:avLst/>
              <a:gdLst/>
              <a:ahLst/>
              <a:rect l="l" t="t" r="r" b="b"/>
              <a:pathLst>
                <a:path w="342" h="336">
                  <a:moveTo>
                    <a:pt x="123" y="11"/>
                  </a:moveTo>
                  <a:cubicBezTo>
                    <a:pt x="127" y="24"/>
                    <a:pt x="134" y="34"/>
                    <a:pt x="138" y="47"/>
                  </a:cubicBezTo>
                  <a:cubicBezTo>
                    <a:pt x="136" y="69"/>
                    <a:pt x="132" y="83"/>
                    <a:pt x="120" y="101"/>
                  </a:cubicBezTo>
                  <a:cubicBezTo>
                    <a:pt x="114" y="143"/>
                    <a:pt x="105" y="136"/>
                    <a:pt x="81" y="164"/>
                  </a:cubicBezTo>
                  <a:cubicBezTo>
                    <a:pt x="57" y="192"/>
                    <a:pt x="77" y="202"/>
                    <a:pt x="39" y="221"/>
                  </a:cubicBezTo>
                  <a:cubicBezTo>
                    <a:pt x="24" y="243"/>
                    <a:pt x="20" y="240"/>
                    <a:pt x="42" y="236"/>
                  </a:cubicBezTo>
                  <a:cubicBezTo>
                    <a:pt x="63" y="222"/>
                    <a:pt x="75" y="202"/>
                    <a:pt x="96" y="188"/>
                  </a:cubicBezTo>
                  <a:cubicBezTo>
                    <a:pt x="103" y="178"/>
                    <a:pt x="104" y="169"/>
                    <a:pt x="108" y="158"/>
                  </a:cubicBezTo>
                  <a:cubicBezTo>
                    <a:pt x="103" y="90"/>
                    <a:pt x="103" y="127"/>
                    <a:pt x="126" y="143"/>
                  </a:cubicBezTo>
                  <a:cubicBezTo>
                    <a:pt x="132" y="153"/>
                    <a:pt x="135" y="152"/>
                    <a:pt x="129" y="164"/>
                  </a:cubicBezTo>
                  <a:cubicBezTo>
                    <a:pt x="121" y="179"/>
                    <a:pt x="109" y="195"/>
                    <a:pt x="99" y="209"/>
                  </a:cubicBezTo>
                  <a:cubicBezTo>
                    <a:pt x="92" y="220"/>
                    <a:pt x="88" y="234"/>
                    <a:pt x="81" y="245"/>
                  </a:cubicBezTo>
                  <a:cubicBezTo>
                    <a:pt x="71" y="259"/>
                    <a:pt x="76" y="251"/>
                    <a:pt x="69" y="272"/>
                  </a:cubicBezTo>
                  <a:cubicBezTo>
                    <a:pt x="65" y="283"/>
                    <a:pt x="63" y="290"/>
                    <a:pt x="63" y="290"/>
                  </a:cubicBezTo>
                  <a:cubicBezTo>
                    <a:pt x="79" y="285"/>
                    <a:pt x="69" y="289"/>
                    <a:pt x="90" y="275"/>
                  </a:cubicBezTo>
                  <a:cubicBezTo>
                    <a:pt x="93" y="273"/>
                    <a:pt x="99" y="269"/>
                    <a:pt x="99" y="269"/>
                  </a:cubicBezTo>
                  <a:cubicBezTo>
                    <a:pt x="107" y="244"/>
                    <a:pt x="95" y="283"/>
                    <a:pt x="105" y="227"/>
                  </a:cubicBezTo>
                  <a:cubicBezTo>
                    <a:pt x="109" y="207"/>
                    <a:pt x="121" y="190"/>
                    <a:pt x="126" y="170"/>
                  </a:cubicBezTo>
                  <a:cubicBezTo>
                    <a:pt x="128" y="173"/>
                    <a:pt x="132" y="175"/>
                    <a:pt x="132" y="179"/>
                  </a:cubicBezTo>
                  <a:cubicBezTo>
                    <a:pt x="134" y="209"/>
                    <a:pt x="128" y="235"/>
                    <a:pt x="120" y="263"/>
                  </a:cubicBezTo>
                  <a:cubicBezTo>
                    <a:pt x="119" y="265"/>
                    <a:pt x="114" y="287"/>
                    <a:pt x="108" y="290"/>
                  </a:cubicBezTo>
                  <a:cubicBezTo>
                    <a:pt x="104" y="293"/>
                    <a:pt x="98" y="292"/>
                    <a:pt x="93" y="293"/>
                  </a:cubicBezTo>
                  <a:cubicBezTo>
                    <a:pt x="92" y="296"/>
                    <a:pt x="88" y="300"/>
                    <a:pt x="90" y="302"/>
                  </a:cubicBezTo>
                  <a:cubicBezTo>
                    <a:pt x="92" y="304"/>
                    <a:pt x="96" y="301"/>
                    <a:pt x="99" y="299"/>
                  </a:cubicBezTo>
                  <a:cubicBezTo>
                    <a:pt x="105" y="295"/>
                    <a:pt x="111" y="291"/>
                    <a:pt x="117" y="287"/>
                  </a:cubicBezTo>
                  <a:cubicBezTo>
                    <a:pt x="120" y="285"/>
                    <a:pt x="126" y="281"/>
                    <a:pt x="126" y="281"/>
                  </a:cubicBezTo>
                  <a:cubicBezTo>
                    <a:pt x="146" y="251"/>
                    <a:pt x="136" y="229"/>
                    <a:pt x="138" y="185"/>
                  </a:cubicBezTo>
                  <a:cubicBezTo>
                    <a:pt x="146" y="198"/>
                    <a:pt x="147" y="205"/>
                    <a:pt x="150" y="221"/>
                  </a:cubicBezTo>
                  <a:cubicBezTo>
                    <a:pt x="146" y="251"/>
                    <a:pt x="135" y="272"/>
                    <a:pt x="126" y="299"/>
                  </a:cubicBezTo>
                  <a:cubicBezTo>
                    <a:pt x="127" y="308"/>
                    <a:pt x="130" y="326"/>
                    <a:pt x="138" y="323"/>
                  </a:cubicBezTo>
                  <a:cubicBezTo>
                    <a:pt x="140" y="322"/>
                    <a:pt x="152" y="296"/>
                    <a:pt x="153" y="293"/>
                  </a:cubicBezTo>
                  <a:cubicBezTo>
                    <a:pt x="156" y="287"/>
                    <a:pt x="159" y="275"/>
                    <a:pt x="159" y="275"/>
                  </a:cubicBezTo>
                  <a:cubicBezTo>
                    <a:pt x="157" y="244"/>
                    <a:pt x="151" y="223"/>
                    <a:pt x="144" y="194"/>
                  </a:cubicBezTo>
                  <a:cubicBezTo>
                    <a:pt x="150" y="157"/>
                    <a:pt x="150" y="148"/>
                    <a:pt x="180" y="128"/>
                  </a:cubicBezTo>
                  <a:cubicBezTo>
                    <a:pt x="192" y="92"/>
                    <a:pt x="200" y="66"/>
                    <a:pt x="240" y="56"/>
                  </a:cubicBezTo>
                  <a:cubicBezTo>
                    <a:pt x="243" y="26"/>
                    <a:pt x="239" y="22"/>
                    <a:pt x="267" y="17"/>
                  </a:cubicBezTo>
                  <a:cubicBezTo>
                    <a:pt x="271" y="29"/>
                    <a:pt x="271" y="34"/>
                    <a:pt x="258" y="38"/>
                  </a:cubicBezTo>
                  <a:cubicBezTo>
                    <a:pt x="250" y="50"/>
                    <a:pt x="248" y="79"/>
                    <a:pt x="234" y="86"/>
                  </a:cubicBezTo>
                  <a:cubicBezTo>
                    <a:pt x="227" y="90"/>
                    <a:pt x="218" y="89"/>
                    <a:pt x="210" y="92"/>
                  </a:cubicBezTo>
                  <a:cubicBezTo>
                    <a:pt x="188" y="114"/>
                    <a:pt x="190" y="141"/>
                    <a:pt x="156" y="152"/>
                  </a:cubicBezTo>
                  <a:cubicBezTo>
                    <a:pt x="154" y="158"/>
                    <a:pt x="152" y="164"/>
                    <a:pt x="150" y="170"/>
                  </a:cubicBezTo>
                  <a:cubicBezTo>
                    <a:pt x="135" y="214"/>
                    <a:pt x="165" y="158"/>
                    <a:pt x="183" y="155"/>
                  </a:cubicBezTo>
                  <a:cubicBezTo>
                    <a:pt x="200" y="152"/>
                    <a:pt x="217" y="153"/>
                    <a:pt x="234" y="152"/>
                  </a:cubicBezTo>
                  <a:cubicBezTo>
                    <a:pt x="244" y="145"/>
                    <a:pt x="248" y="138"/>
                    <a:pt x="258" y="131"/>
                  </a:cubicBezTo>
                  <a:cubicBezTo>
                    <a:pt x="272" y="136"/>
                    <a:pt x="282" y="133"/>
                    <a:pt x="294" y="125"/>
                  </a:cubicBezTo>
                  <a:cubicBezTo>
                    <a:pt x="297" y="107"/>
                    <a:pt x="297" y="101"/>
                    <a:pt x="309" y="89"/>
                  </a:cubicBezTo>
                  <a:cubicBezTo>
                    <a:pt x="311" y="82"/>
                    <a:pt x="315" y="65"/>
                    <a:pt x="309" y="68"/>
                  </a:cubicBezTo>
                  <a:cubicBezTo>
                    <a:pt x="300" y="72"/>
                    <a:pt x="283" y="111"/>
                    <a:pt x="279" y="122"/>
                  </a:cubicBezTo>
                  <a:cubicBezTo>
                    <a:pt x="276" y="130"/>
                    <a:pt x="250" y="131"/>
                    <a:pt x="249" y="131"/>
                  </a:cubicBezTo>
                  <a:cubicBezTo>
                    <a:pt x="237" y="135"/>
                    <a:pt x="233" y="144"/>
                    <a:pt x="222" y="149"/>
                  </a:cubicBezTo>
                  <a:cubicBezTo>
                    <a:pt x="209" y="155"/>
                    <a:pt x="166" y="155"/>
                    <a:pt x="165" y="155"/>
                  </a:cubicBezTo>
                  <a:cubicBezTo>
                    <a:pt x="152" y="193"/>
                    <a:pt x="168" y="191"/>
                    <a:pt x="192" y="215"/>
                  </a:cubicBezTo>
                  <a:cubicBezTo>
                    <a:pt x="203" y="249"/>
                    <a:pt x="193" y="286"/>
                    <a:pt x="204" y="320"/>
                  </a:cubicBezTo>
                  <a:cubicBezTo>
                    <a:pt x="214" y="306"/>
                    <a:pt x="209" y="314"/>
                    <a:pt x="216" y="293"/>
                  </a:cubicBezTo>
                  <a:cubicBezTo>
                    <a:pt x="217" y="290"/>
                    <a:pt x="219" y="284"/>
                    <a:pt x="219" y="284"/>
                  </a:cubicBezTo>
                  <a:cubicBezTo>
                    <a:pt x="216" y="261"/>
                    <a:pt x="211" y="253"/>
                    <a:pt x="204" y="233"/>
                  </a:cubicBezTo>
                  <a:cubicBezTo>
                    <a:pt x="199" y="196"/>
                    <a:pt x="201" y="199"/>
                    <a:pt x="168" y="191"/>
                  </a:cubicBezTo>
                  <a:cubicBezTo>
                    <a:pt x="188" y="206"/>
                    <a:pt x="201" y="203"/>
                    <a:pt x="225" y="197"/>
                  </a:cubicBezTo>
                  <a:cubicBezTo>
                    <a:pt x="258" y="208"/>
                    <a:pt x="239" y="246"/>
                    <a:pt x="264" y="254"/>
                  </a:cubicBezTo>
                  <a:cubicBezTo>
                    <a:pt x="279" y="249"/>
                    <a:pt x="286" y="261"/>
                    <a:pt x="300" y="266"/>
                  </a:cubicBezTo>
                  <a:cubicBezTo>
                    <a:pt x="325" y="250"/>
                    <a:pt x="275" y="249"/>
                    <a:pt x="267" y="248"/>
                  </a:cubicBezTo>
                  <a:cubicBezTo>
                    <a:pt x="247" y="241"/>
                    <a:pt x="259" y="219"/>
                    <a:pt x="249" y="203"/>
                  </a:cubicBezTo>
                  <a:cubicBezTo>
                    <a:pt x="242" y="193"/>
                    <a:pt x="230" y="190"/>
                    <a:pt x="219" y="185"/>
                  </a:cubicBezTo>
                  <a:cubicBezTo>
                    <a:pt x="204" y="186"/>
                    <a:pt x="189" y="186"/>
                    <a:pt x="174" y="188"/>
                  </a:cubicBezTo>
                  <a:cubicBezTo>
                    <a:pt x="171" y="188"/>
                    <a:pt x="162" y="191"/>
                    <a:pt x="165" y="191"/>
                  </a:cubicBezTo>
                  <a:cubicBezTo>
                    <a:pt x="169" y="191"/>
                    <a:pt x="173" y="189"/>
                    <a:pt x="177" y="188"/>
                  </a:cubicBezTo>
                  <a:cubicBezTo>
                    <a:pt x="216" y="190"/>
                    <a:pt x="250" y="191"/>
                    <a:pt x="288" y="197"/>
                  </a:cubicBezTo>
                  <a:cubicBezTo>
                    <a:pt x="294" y="195"/>
                    <a:pt x="301" y="187"/>
                    <a:pt x="306" y="191"/>
                  </a:cubicBezTo>
                  <a:cubicBezTo>
                    <a:pt x="312" y="195"/>
                    <a:pt x="324" y="203"/>
                    <a:pt x="324" y="203"/>
                  </a:cubicBezTo>
                  <a:cubicBezTo>
                    <a:pt x="342" y="191"/>
                    <a:pt x="333" y="181"/>
                    <a:pt x="318" y="176"/>
                  </a:cubicBezTo>
                  <a:cubicBezTo>
                    <a:pt x="293" y="180"/>
                    <a:pt x="268" y="178"/>
                    <a:pt x="243" y="173"/>
                  </a:cubicBezTo>
                  <a:cubicBezTo>
                    <a:pt x="218" y="177"/>
                    <a:pt x="199" y="187"/>
                    <a:pt x="174" y="191"/>
                  </a:cubicBezTo>
                  <a:cubicBezTo>
                    <a:pt x="201" y="164"/>
                    <a:pt x="225" y="172"/>
                    <a:pt x="264" y="170"/>
                  </a:cubicBezTo>
                  <a:cubicBezTo>
                    <a:pt x="280" y="159"/>
                    <a:pt x="293" y="155"/>
                    <a:pt x="312" y="152"/>
                  </a:cubicBezTo>
                  <a:cubicBezTo>
                    <a:pt x="323" y="145"/>
                    <a:pt x="323" y="139"/>
                    <a:pt x="330" y="128"/>
                  </a:cubicBezTo>
                  <a:cubicBezTo>
                    <a:pt x="324" y="110"/>
                    <a:pt x="304" y="140"/>
                    <a:pt x="288" y="146"/>
                  </a:cubicBezTo>
                  <a:cubicBezTo>
                    <a:pt x="271" y="152"/>
                    <a:pt x="234" y="151"/>
                    <a:pt x="225" y="152"/>
                  </a:cubicBezTo>
                  <a:cubicBezTo>
                    <a:pt x="202" y="160"/>
                    <a:pt x="199" y="163"/>
                    <a:pt x="180" y="182"/>
                  </a:cubicBezTo>
                  <a:cubicBezTo>
                    <a:pt x="177" y="185"/>
                    <a:pt x="171" y="191"/>
                    <a:pt x="171" y="191"/>
                  </a:cubicBezTo>
                  <a:cubicBezTo>
                    <a:pt x="146" y="183"/>
                    <a:pt x="150" y="164"/>
                    <a:pt x="135" y="146"/>
                  </a:cubicBezTo>
                  <a:cubicBezTo>
                    <a:pt x="125" y="134"/>
                    <a:pt x="109" y="125"/>
                    <a:pt x="96" y="116"/>
                  </a:cubicBezTo>
                  <a:cubicBezTo>
                    <a:pt x="94" y="113"/>
                    <a:pt x="93" y="109"/>
                    <a:pt x="90" y="107"/>
                  </a:cubicBezTo>
                  <a:cubicBezTo>
                    <a:pt x="88" y="105"/>
                    <a:pt x="83" y="106"/>
                    <a:pt x="81" y="104"/>
                  </a:cubicBezTo>
                  <a:cubicBezTo>
                    <a:pt x="66" y="89"/>
                    <a:pt x="61" y="65"/>
                    <a:pt x="57" y="44"/>
                  </a:cubicBezTo>
                  <a:cubicBezTo>
                    <a:pt x="64" y="42"/>
                    <a:pt x="71" y="35"/>
                    <a:pt x="78" y="38"/>
                  </a:cubicBezTo>
                  <a:cubicBezTo>
                    <a:pt x="83" y="41"/>
                    <a:pt x="80" y="50"/>
                    <a:pt x="81" y="56"/>
                  </a:cubicBezTo>
                  <a:cubicBezTo>
                    <a:pt x="82" y="67"/>
                    <a:pt x="82" y="78"/>
                    <a:pt x="84" y="89"/>
                  </a:cubicBezTo>
                  <a:cubicBezTo>
                    <a:pt x="86" y="105"/>
                    <a:pt x="102" y="113"/>
                    <a:pt x="111" y="125"/>
                  </a:cubicBezTo>
                  <a:cubicBezTo>
                    <a:pt x="119" y="148"/>
                    <a:pt x="108" y="120"/>
                    <a:pt x="120" y="143"/>
                  </a:cubicBezTo>
                  <a:cubicBezTo>
                    <a:pt x="121" y="146"/>
                    <a:pt x="126" y="154"/>
                    <a:pt x="123" y="152"/>
                  </a:cubicBezTo>
                  <a:cubicBezTo>
                    <a:pt x="88" y="129"/>
                    <a:pt x="116" y="128"/>
                    <a:pt x="72" y="122"/>
                  </a:cubicBezTo>
                  <a:cubicBezTo>
                    <a:pt x="57" y="125"/>
                    <a:pt x="27" y="134"/>
                    <a:pt x="27" y="134"/>
                  </a:cubicBezTo>
                  <a:cubicBezTo>
                    <a:pt x="19" y="146"/>
                    <a:pt x="14" y="146"/>
                    <a:pt x="0" y="149"/>
                  </a:cubicBezTo>
                  <a:cubicBezTo>
                    <a:pt x="44" y="164"/>
                    <a:pt x="91" y="138"/>
                    <a:pt x="135" y="134"/>
                  </a:cubicBezTo>
                  <a:cubicBezTo>
                    <a:pt x="137" y="111"/>
                    <a:pt x="136" y="106"/>
                    <a:pt x="141" y="89"/>
                  </a:cubicBezTo>
                  <a:cubicBezTo>
                    <a:pt x="143" y="83"/>
                    <a:pt x="147" y="71"/>
                    <a:pt x="147" y="71"/>
                  </a:cubicBezTo>
                  <a:cubicBezTo>
                    <a:pt x="146" y="59"/>
                    <a:pt x="146" y="47"/>
                    <a:pt x="144" y="35"/>
                  </a:cubicBezTo>
                  <a:cubicBezTo>
                    <a:pt x="143" y="29"/>
                    <a:pt x="142" y="21"/>
                    <a:pt x="138" y="17"/>
                  </a:cubicBezTo>
                  <a:cubicBezTo>
                    <a:pt x="135" y="14"/>
                    <a:pt x="125" y="8"/>
                    <a:pt x="129" y="8"/>
                  </a:cubicBezTo>
                  <a:cubicBezTo>
                    <a:pt x="143" y="8"/>
                    <a:pt x="165" y="29"/>
                    <a:pt x="165" y="29"/>
                  </a:cubicBezTo>
                  <a:cubicBezTo>
                    <a:pt x="172" y="39"/>
                    <a:pt x="173" y="48"/>
                    <a:pt x="177" y="59"/>
                  </a:cubicBezTo>
                  <a:cubicBezTo>
                    <a:pt x="173" y="81"/>
                    <a:pt x="171" y="89"/>
                    <a:pt x="153" y="101"/>
                  </a:cubicBezTo>
                  <a:cubicBezTo>
                    <a:pt x="147" y="111"/>
                    <a:pt x="142" y="120"/>
                    <a:pt x="138" y="131"/>
                  </a:cubicBezTo>
                  <a:cubicBezTo>
                    <a:pt x="147" y="149"/>
                    <a:pt x="153" y="143"/>
                    <a:pt x="165" y="131"/>
                  </a:cubicBezTo>
                  <a:cubicBezTo>
                    <a:pt x="172" y="109"/>
                    <a:pt x="173" y="87"/>
                    <a:pt x="180" y="65"/>
                  </a:cubicBezTo>
                  <a:cubicBezTo>
                    <a:pt x="182" y="59"/>
                    <a:pt x="182" y="52"/>
                    <a:pt x="186" y="47"/>
                  </a:cubicBezTo>
                  <a:cubicBezTo>
                    <a:pt x="190" y="41"/>
                    <a:pt x="198" y="29"/>
                    <a:pt x="198" y="29"/>
                  </a:cubicBezTo>
                  <a:cubicBezTo>
                    <a:pt x="200" y="21"/>
                    <a:pt x="205" y="13"/>
                    <a:pt x="204" y="5"/>
                  </a:cubicBezTo>
                  <a:cubicBezTo>
                    <a:pt x="204" y="2"/>
                    <a:pt x="198" y="0"/>
                    <a:pt x="195" y="2"/>
                  </a:cubicBezTo>
                  <a:cubicBezTo>
                    <a:pt x="191" y="4"/>
                    <a:pt x="191" y="10"/>
                    <a:pt x="189" y="14"/>
                  </a:cubicBezTo>
                  <a:cubicBezTo>
                    <a:pt x="187" y="44"/>
                    <a:pt x="181" y="62"/>
                    <a:pt x="174" y="89"/>
                  </a:cubicBezTo>
                  <a:cubicBezTo>
                    <a:pt x="172" y="98"/>
                    <a:pt x="170" y="107"/>
                    <a:pt x="168" y="116"/>
                  </a:cubicBezTo>
                  <a:cubicBezTo>
                    <a:pt x="167" y="119"/>
                    <a:pt x="162" y="125"/>
                    <a:pt x="165" y="125"/>
                  </a:cubicBezTo>
                  <a:cubicBezTo>
                    <a:pt x="169" y="125"/>
                    <a:pt x="169" y="119"/>
                    <a:pt x="171" y="116"/>
                  </a:cubicBezTo>
                  <a:cubicBezTo>
                    <a:pt x="174" y="105"/>
                    <a:pt x="183" y="72"/>
                    <a:pt x="189" y="65"/>
                  </a:cubicBezTo>
                  <a:cubicBezTo>
                    <a:pt x="205" y="44"/>
                    <a:pt x="213" y="43"/>
                    <a:pt x="219" y="17"/>
                  </a:cubicBezTo>
                  <a:cubicBezTo>
                    <a:pt x="232" y="21"/>
                    <a:pt x="236" y="18"/>
                    <a:pt x="240" y="5"/>
                  </a:cubicBezTo>
                  <a:cubicBezTo>
                    <a:pt x="237" y="30"/>
                    <a:pt x="234" y="39"/>
                    <a:pt x="210" y="47"/>
                  </a:cubicBezTo>
                  <a:cubicBezTo>
                    <a:pt x="197" y="66"/>
                    <a:pt x="185" y="87"/>
                    <a:pt x="171" y="104"/>
                  </a:cubicBezTo>
                  <a:cubicBezTo>
                    <a:pt x="165" y="112"/>
                    <a:pt x="159" y="131"/>
                    <a:pt x="159" y="131"/>
                  </a:cubicBezTo>
                  <a:cubicBezTo>
                    <a:pt x="161" y="134"/>
                    <a:pt x="161" y="140"/>
                    <a:pt x="165" y="140"/>
                  </a:cubicBezTo>
                  <a:cubicBezTo>
                    <a:pt x="169" y="141"/>
                    <a:pt x="203" y="129"/>
                    <a:pt x="210" y="128"/>
                  </a:cubicBezTo>
                  <a:cubicBezTo>
                    <a:pt x="229" y="116"/>
                    <a:pt x="249" y="99"/>
                    <a:pt x="261" y="80"/>
                  </a:cubicBezTo>
                  <a:cubicBezTo>
                    <a:pt x="265" y="74"/>
                    <a:pt x="271" y="69"/>
                    <a:pt x="273" y="62"/>
                  </a:cubicBezTo>
                  <a:cubicBezTo>
                    <a:pt x="274" y="59"/>
                    <a:pt x="274" y="55"/>
                    <a:pt x="276" y="53"/>
                  </a:cubicBezTo>
                  <a:cubicBezTo>
                    <a:pt x="282" y="48"/>
                    <a:pt x="290" y="49"/>
                    <a:pt x="297" y="47"/>
                  </a:cubicBezTo>
                  <a:cubicBezTo>
                    <a:pt x="309" y="66"/>
                    <a:pt x="282" y="64"/>
                    <a:pt x="267" y="74"/>
                  </a:cubicBezTo>
                  <a:cubicBezTo>
                    <a:pt x="254" y="113"/>
                    <a:pt x="246" y="95"/>
                    <a:pt x="219" y="113"/>
                  </a:cubicBezTo>
                  <a:cubicBezTo>
                    <a:pt x="206" y="133"/>
                    <a:pt x="192" y="139"/>
                    <a:pt x="171" y="146"/>
                  </a:cubicBezTo>
                  <a:cubicBezTo>
                    <a:pt x="187" y="151"/>
                    <a:pt x="187" y="160"/>
                    <a:pt x="192" y="176"/>
                  </a:cubicBezTo>
                  <a:cubicBezTo>
                    <a:pt x="196" y="187"/>
                    <a:pt x="219" y="197"/>
                    <a:pt x="219" y="197"/>
                  </a:cubicBezTo>
                  <a:cubicBezTo>
                    <a:pt x="236" y="223"/>
                    <a:pt x="213" y="274"/>
                    <a:pt x="243" y="284"/>
                  </a:cubicBezTo>
                  <a:cubicBezTo>
                    <a:pt x="245" y="287"/>
                    <a:pt x="247" y="290"/>
                    <a:pt x="249" y="293"/>
                  </a:cubicBezTo>
                  <a:cubicBezTo>
                    <a:pt x="250" y="296"/>
                    <a:pt x="252" y="305"/>
                    <a:pt x="252" y="302"/>
                  </a:cubicBezTo>
                  <a:cubicBezTo>
                    <a:pt x="252" y="296"/>
                    <a:pt x="251" y="290"/>
                    <a:pt x="249" y="284"/>
                  </a:cubicBezTo>
                  <a:cubicBezTo>
                    <a:pt x="246" y="277"/>
                    <a:pt x="237" y="266"/>
                    <a:pt x="237" y="266"/>
                  </a:cubicBezTo>
                  <a:cubicBezTo>
                    <a:pt x="234" y="231"/>
                    <a:pt x="240" y="218"/>
                    <a:pt x="213" y="200"/>
                  </a:cubicBezTo>
                  <a:cubicBezTo>
                    <a:pt x="203" y="201"/>
                    <a:pt x="193" y="203"/>
                    <a:pt x="183" y="203"/>
                  </a:cubicBezTo>
                  <a:cubicBezTo>
                    <a:pt x="174" y="203"/>
                    <a:pt x="164" y="196"/>
                    <a:pt x="156" y="200"/>
                  </a:cubicBezTo>
                  <a:cubicBezTo>
                    <a:pt x="148" y="204"/>
                    <a:pt x="168" y="213"/>
                    <a:pt x="171" y="221"/>
                  </a:cubicBezTo>
                  <a:cubicBezTo>
                    <a:pt x="175" y="230"/>
                    <a:pt x="178" y="241"/>
                    <a:pt x="180" y="251"/>
                  </a:cubicBezTo>
                  <a:cubicBezTo>
                    <a:pt x="178" y="263"/>
                    <a:pt x="174" y="275"/>
                    <a:pt x="171" y="287"/>
                  </a:cubicBezTo>
                  <a:cubicBezTo>
                    <a:pt x="169" y="297"/>
                    <a:pt x="165" y="317"/>
                    <a:pt x="165" y="317"/>
                  </a:cubicBezTo>
                  <a:cubicBezTo>
                    <a:pt x="166" y="320"/>
                    <a:pt x="168" y="336"/>
                    <a:pt x="177" y="323"/>
                  </a:cubicBezTo>
                  <a:cubicBezTo>
                    <a:pt x="181" y="318"/>
                    <a:pt x="183" y="305"/>
                    <a:pt x="183" y="305"/>
                  </a:cubicBezTo>
                  <a:cubicBezTo>
                    <a:pt x="173" y="267"/>
                    <a:pt x="184" y="203"/>
                    <a:pt x="144" y="176"/>
                  </a:cubicBezTo>
                  <a:cubicBezTo>
                    <a:pt x="134" y="161"/>
                    <a:pt x="123" y="144"/>
                    <a:pt x="108" y="134"/>
                  </a:cubicBezTo>
                  <a:cubicBezTo>
                    <a:pt x="102" y="136"/>
                    <a:pt x="96" y="138"/>
                    <a:pt x="90" y="140"/>
                  </a:cubicBezTo>
                  <a:cubicBezTo>
                    <a:pt x="87" y="141"/>
                    <a:pt x="81" y="143"/>
                    <a:pt x="81" y="143"/>
                  </a:cubicBezTo>
                  <a:cubicBezTo>
                    <a:pt x="72" y="152"/>
                    <a:pt x="70" y="163"/>
                    <a:pt x="60" y="170"/>
                  </a:cubicBezTo>
                  <a:cubicBezTo>
                    <a:pt x="51" y="176"/>
                    <a:pt x="33" y="185"/>
                    <a:pt x="33" y="185"/>
                  </a:cubicBezTo>
                  <a:cubicBezTo>
                    <a:pt x="19" y="206"/>
                    <a:pt x="28" y="201"/>
                    <a:pt x="12" y="206"/>
                  </a:cubicBezTo>
                  <a:cubicBezTo>
                    <a:pt x="18" y="178"/>
                    <a:pt x="33" y="185"/>
                    <a:pt x="54" y="173"/>
                  </a:cubicBezTo>
                  <a:cubicBezTo>
                    <a:pt x="82" y="157"/>
                    <a:pt x="95" y="147"/>
                    <a:pt x="126" y="137"/>
                  </a:cubicBezTo>
                  <a:cubicBezTo>
                    <a:pt x="110" y="125"/>
                    <a:pt x="97" y="123"/>
                    <a:pt x="78" y="128"/>
                  </a:cubicBezTo>
                  <a:cubicBezTo>
                    <a:pt x="56" y="142"/>
                    <a:pt x="66" y="137"/>
                    <a:pt x="48" y="146"/>
                  </a:cubicBezTo>
                  <a:cubicBezTo>
                    <a:pt x="28" y="141"/>
                    <a:pt x="37" y="147"/>
                    <a:pt x="30" y="119"/>
                  </a:cubicBezTo>
                  <a:cubicBezTo>
                    <a:pt x="29" y="115"/>
                    <a:pt x="28" y="111"/>
                    <a:pt x="27" y="107"/>
                  </a:cubicBezTo>
                  <a:cubicBezTo>
                    <a:pt x="26" y="103"/>
                    <a:pt x="21" y="92"/>
                    <a:pt x="24" y="95"/>
                  </a:cubicBezTo>
                  <a:cubicBezTo>
                    <a:pt x="56" y="127"/>
                    <a:pt x="48" y="123"/>
                    <a:pt x="90" y="128"/>
                  </a:cubicBezTo>
                  <a:cubicBezTo>
                    <a:pt x="99" y="134"/>
                    <a:pt x="108" y="137"/>
                    <a:pt x="117" y="143"/>
                  </a:cubicBezTo>
                  <a:cubicBezTo>
                    <a:pt x="129" y="120"/>
                    <a:pt x="118" y="54"/>
                    <a:pt x="117" y="41"/>
                  </a:cubicBezTo>
                  <a:cubicBezTo>
                    <a:pt x="116" y="35"/>
                    <a:pt x="111" y="23"/>
                    <a:pt x="111" y="23"/>
                  </a:cubicBezTo>
                  <a:cubicBezTo>
                    <a:pt x="86" y="40"/>
                    <a:pt x="113" y="76"/>
                    <a:pt x="126" y="95"/>
                  </a:cubicBezTo>
                  <a:cubicBezTo>
                    <a:pt x="125" y="110"/>
                    <a:pt x="134" y="129"/>
                    <a:pt x="123" y="140"/>
                  </a:cubicBezTo>
                  <a:cubicBezTo>
                    <a:pt x="116" y="147"/>
                    <a:pt x="110" y="124"/>
                    <a:pt x="102" y="119"/>
                  </a:cubicBezTo>
                  <a:cubicBezTo>
                    <a:pt x="89" y="111"/>
                    <a:pt x="82" y="110"/>
                    <a:pt x="66" y="107"/>
                  </a:cubicBezTo>
                  <a:cubicBezTo>
                    <a:pt x="56" y="100"/>
                    <a:pt x="49" y="93"/>
                    <a:pt x="42" y="83"/>
                  </a:cubicBezTo>
                  <a:cubicBezTo>
                    <a:pt x="40" y="79"/>
                    <a:pt x="48" y="89"/>
                    <a:pt x="51" y="92"/>
                  </a:cubicBezTo>
                  <a:cubicBezTo>
                    <a:pt x="58" y="98"/>
                    <a:pt x="61" y="99"/>
                    <a:pt x="69" y="101"/>
                  </a:cubicBezTo>
                  <a:cubicBezTo>
                    <a:pt x="77" y="103"/>
                    <a:pt x="93" y="107"/>
                    <a:pt x="93" y="107"/>
                  </a:cubicBezTo>
                  <a:cubicBezTo>
                    <a:pt x="103" y="114"/>
                    <a:pt x="107" y="121"/>
                    <a:pt x="117" y="128"/>
                  </a:cubicBezTo>
                  <a:cubicBezTo>
                    <a:pt x="119" y="131"/>
                    <a:pt x="120" y="134"/>
                    <a:pt x="123" y="137"/>
                  </a:cubicBezTo>
                  <a:cubicBezTo>
                    <a:pt x="126" y="140"/>
                    <a:pt x="130" y="140"/>
                    <a:pt x="132" y="143"/>
                  </a:cubicBezTo>
                  <a:cubicBezTo>
                    <a:pt x="134" y="145"/>
                    <a:pt x="135" y="152"/>
                    <a:pt x="135" y="152"/>
                  </a:cubicBezTo>
                </a:path>
              </a:pathLst>
            </a:custGeom>
            <a:solidFill>
              <a:srgbClr val="99ff99"/>
            </a:solidFill>
            <a:ln w="32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0385280" y="16078320"/>
              <a:ext cx="991800" cy="866880"/>
            </a:xfrm>
            <a:custGeom>
              <a:avLst/>
              <a:gdLst/>
              <a:ahLst/>
              <a:rect l="l" t="t" r="r" b="b"/>
              <a:pathLst>
                <a:path w="345" h="319">
                  <a:moveTo>
                    <a:pt x="88" y="33"/>
                  </a:moveTo>
                  <a:cubicBezTo>
                    <a:pt x="110" y="40"/>
                    <a:pt x="119" y="75"/>
                    <a:pt x="124" y="96"/>
                  </a:cubicBezTo>
                  <a:cubicBezTo>
                    <a:pt x="125" y="113"/>
                    <a:pt x="127" y="143"/>
                    <a:pt x="139" y="159"/>
                  </a:cubicBezTo>
                  <a:cubicBezTo>
                    <a:pt x="149" y="172"/>
                    <a:pt x="161" y="168"/>
                    <a:pt x="169" y="192"/>
                  </a:cubicBezTo>
                  <a:cubicBezTo>
                    <a:pt x="171" y="189"/>
                    <a:pt x="177" y="186"/>
                    <a:pt x="175" y="183"/>
                  </a:cubicBezTo>
                  <a:cubicBezTo>
                    <a:pt x="171" y="177"/>
                    <a:pt x="157" y="171"/>
                    <a:pt x="157" y="171"/>
                  </a:cubicBezTo>
                  <a:cubicBezTo>
                    <a:pt x="144" y="152"/>
                    <a:pt x="141" y="123"/>
                    <a:pt x="124" y="111"/>
                  </a:cubicBezTo>
                  <a:cubicBezTo>
                    <a:pt x="106" y="84"/>
                    <a:pt x="118" y="59"/>
                    <a:pt x="97" y="27"/>
                  </a:cubicBezTo>
                  <a:cubicBezTo>
                    <a:pt x="93" y="21"/>
                    <a:pt x="104" y="39"/>
                    <a:pt x="106" y="45"/>
                  </a:cubicBezTo>
                  <a:cubicBezTo>
                    <a:pt x="110" y="78"/>
                    <a:pt x="123" y="95"/>
                    <a:pt x="136" y="123"/>
                  </a:cubicBezTo>
                  <a:cubicBezTo>
                    <a:pt x="140" y="132"/>
                    <a:pt x="142" y="150"/>
                    <a:pt x="148" y="159"/>
                  </a:cubicBezTo>
                  <a:cubicBezTo>
                    <a:pt x="162" y="180"/>
                    <a:pt x="158" y="170"/>
                    <a:pt x="163" y="186"/>
                  </a:cubicBezTo>
                  <a:cubicBezTo>
                    <a:pt x="168" y="162"/>
                    <a:pt x="163" y="126"/>
                    <a:pt x="175" y="105"/>
                  </a:cubicBezTo>
                  <a:cubicBezTo>
                    <a:pt x="178" y="100"/>
                    <a:pt x="184" y="98"/>
                    <a:pt x="187" y="93"/>
                  </a:cubicBezTo>
                  <a:cubicBezTo>
                    <a:pt x="190" y="89"/>
                    <a:pt x="191" y="85"/>
                    <a:pt x="193" y="81"/>
                  </a:cubicBezTo>
                  <a:cubicBezTo>
                    <a:pt x="198" y="54"/>
                    <a:pt x="200" y="27"/>
                    <a:pt x="202" y="0"/>
                  </a:cubicBezTo>
                  <a:cubicBezTo>
                    <a:pt x="204" y="6"/>
                    <a:pt x="206" y="12"/>
                    <a:pt x="208" y="18"/>
                  </a:cubicBezTo>
                  <a:cubicBezTo>
                    <a:pt x="209" y="21"/>
                    <a:pt x="211" y="27"/>
                    <a:pt x="211" y="27"/>
                  </a:cubicBezTo>
                  <a:cubicBezTo>
                    <a:pt x="208" y="44"/>
                    <a:pt x="203" y="59"/>
                    <a:pt x="199" y="75"/>
                  </a:cubicBezTo>
                  <a:cubicBezTo>
                    <a:pt x="198" y="90"/>
                    <a:pt x="199" y="105"/>
                    <a:pt x="196" y="120"/>
                  </a:cubicBezTo>
                  <a:cubicBezTo>
                    <a:pt x="194" y="128"/>
                    <a:pt x="184" y="131"/>
                    <a:pt x="181" y="138"/>
                  </a:cubicBezTo>
                  <a:cubicBezTo>
                    <a:pt x="173" y="156"/>
                    <a:pt x="172" y="177"/>
                    <a:pt x="154" y="189"/>
                  </a:cubicBezTo>
                  <a:cubicBezTo>
                    <a:pt x="173" y="160"/>
                    <a:pt x="193" y="147"/>
                    <a:pt x="220" y="129"/>
                  </a:cubicBezTo>
                  <a:cubicBezTo>
                    <a:pt x="239" y="116"/>
                    <a:pt x="220" y="120"/>
                    <a:pt x="235" y="108"/>
                  </a:cubicBezTo>
                  <a:cubicBezTo>
                    <a:pt x="248" y="98"/>
                    <a:pt x="267" y="103"/>
                    <a:pt x="283" y="102"/>
                  </a:cubicBezTo>
                  <a:cubicBezTo>
                    <a:pt x="290" y="98"/>
                    <a:pt x="297" y="94"/>
                    <a:pt x="304" y="90"/>
                  </a:cubicBezTo>
                  <a:cubicBezTo>
                    <a:pt x="307" y="89"/>
                    <a:pt x="316" y="87"/>
                    <a:pt x="313" y="87"/>
                  </a:cubicBezTo>
                  <a:cubicBezTo>
                    <a:pt x="305" y="88"/>
                    <a:pt x="297" y="89"/>
                    <a:pt x="289" y="90"/>
                  </a:cubicBezTo>
                  <a:cubicBezTo>
                    <a:pt x="277" y="98"/>
                    <a:pt x="264" y="102"/>
                    <a:pt x="250" y="105"/>
                  </a:cubicBezTo>
                  <a:cubicBezTo>
                    <a:pt x="241" y="119"/>
                    <a:pt x="225" y="136"/>
                    <a:pt x="211" y="144"/>
                  </a:cubicBezTo>
                  <a:cubicBezTo>
                    <a:pt x="205" y="147"/>
                    <a:pt x="193" y="150"/>
                    <a:pt x="193" y="150"/>
                  </a:cubicBezTo>
                  <a:cubicBezTo>
                    <a:pt x="186" y="160"/>
                    <a:pt x="164" y="188"/>
                    <a:pt x="169" y="189"/>
                  </a:cubicBezTo>
                  <a:cubicBezTo>
                    <a:pt x="182" y="191"/>
                    <a:pt x="195" y="187"/>
                    <a:pt x="208" y="186"/>
                  </a:cubicBezTo>
                  <a:cubicBezTo>
                    <a:pt x="224" y="181"/>
                    <a:pt x="240" y="179"/>
                    <a:pt x="256" y="174"/>
                  </a:cubicBezTo>
                  <a:cubicBezTo>
                    <a:pt x="275" y="187"/>
                    <a:pt x="267" y="195"/>
                    <a:pt x="295" y="204"/>
                  </a:cubicBezTo>
                  <a:cubicBezTo>
                    <a:pt x="303" y="227"/>
                    <a:pt x="317" y="228"/>
                    <a:pt x="325" y="252"/>
                  </a:cubicBezTo>
                  <a:cubicBezTo>
                    <a:pt x="318" y="254"/>
                    <a:pt x="311" y="259"/>
                    <a:pt x="304" y="258"/>
                  </a:cubicBezTo>
                  <a:cubicBezTo>
                    <a:pt x="294" y="257"/>
                    <a:pt x="296" y="222"/>
                    <a:pt x="277" y="216"/>
                  </a:cubicBezTo>
                  <a:cubicBezTo>
                    <a:pt x="270" y="195"/>
                    <a:pt x="276" y="202"/>
                    <a:pt x="262" y="192"/>
                  </a:cubicBezTo>
                  <a:cubicBezTo>
                    <a:pt x="234" y="196"/>
                    <a:pt x="207" y="191"/>
                    <a:pt x="178" y="189"/>
                  </a:cubicBezTo>
                  <a:cubicBezTo>
                    <a:pt x="167" y="182"/>
                    <a:pt x="165" y="172"/>
                    <a:pt x="151" y="177"/>
                  </a:cubicBezTo>
                  <a:cubicBezTo>
                    <a:pt x="136" y="200"/>
                    <a:pt x="132" y="224"/>
                    <a:pt x="103" y="234"/>
                  </a:cubicBezTo>
                  <a:cubicBezTo>
                    <a:pt x="89" y="248"/>
                    <a:pt x="74" y="256"/>
                    <a:pt x="58" y="267"/>
                  </a:cubicBezTo>
                  <a:cubicBezTo>
                    <a:pt x="65" y="269"/>
                    <a:pt x="72" y="272"/>
                    <a:pt x="79" y="273"/>
                  </a:cubicBezTo>
                  <a:cubicBezTo>
                    <a:pt x="99" y="275"/>
                    <a:pt x="115" y="241"/>
                    <a:pt x="136" y="234"/>
                  </a:cubicBezTo>
                  <a:cubicBezTo>
                    <a:pt x="150" y="220"/>
                    <a:pt x="148" y="201"/>
                    <a:pt x="163" y="186"/>
                  </a:cubicBezTo>
                  <a:cubicBezTo>
                    <a:pt x="150" y="182"/>
                    <a:pt x="141" y="187"/>
                    <a:pt x="127" y="189"/>
                  </a:cubicBezTo>
                  <a:cubicBezTo>
                    <a:pt x="96" y="179"/>
                    <a:pt x="60" y="190"/>
                    <a:pt x="28" y="192"/>
                  </a:cubicBezTo>
                  <a:cubicBezTo>
                    <a:pt x="12" y="188"/>
                    <a:pt x="0" y="172"/>
                    <a:pt x="22" y="165"/>
                  </a:cubicBezTo>
                  <a:cubicBezTo>
                    <a:pt x="32" y="166"/>
                    <a:pt x="44" y="165"/>
                    <a:pt x="52" y="171"/>
                  </a:cubicBezTo>
                  <a:cubicBezTo>
                    <a:pt x="59" y="176"/>
                    <a:pt x="70" y="189"/>
                    <a:pt x="70" y="189"/>
                  </a:cubicBezTo>
                  <a:cubicBezTo>
                    <a:pt x="110" y="187"/>
                    <a:pt x="132" y="188"/>
                    <a:pt x="166" y="180"/>
                  </a:cubicBezTo>
                  <a:cubicBezTo>
                    <a:pt x="148" y="178"/>
                    <a:pt x="129" y="179"/>
                    <a:pt x="112" y="174"/>
                  </a:cubicBezTo>
                  <a:cubicBezTo>
                    <a:pt x="99" y="170"/>
                    <a:pt x="96" y="141"/>
                    <a:pt x="85" y="138"/>
                  </a:cubicBezTo>
                  <a:cubicBezTo>
                    <a:pt x="58" y="131"/>
                    <a:pt x="69" y="135"/>
                    <a:pt x="52" y="129"/>
                  </a:cubicBezTo>
                  <a:cubicBezTo>
                    <a:pt x="44" y="117"/>
                    <a:pt x="38" y="116"/>
                    <a:pt x="34" y="102"/>
                  </a:cubicBezTo>
                  <a:cubicBezTo>
                    <a:pt x="32" y="96"/>
                    <a:pt x="28" y="84"/>
                    <a:pt x="28" y="84"/>
                  </a:cubicBezTo>
                  <a:cubicBezTo>
                    <a:pt x="48" y="79"/>
                    <a:pt x="46" y="90"/>
                    <a:pt x="52" y="108"/>
                  </a:cubicBezTo>
                  <a:cubicBezTo>
                    <a:pt x="53" y="111"/>
                    <a:pt x="52" y="116"/>
                    <a:pt x="55" y="117"/>
                  </a:cubicBezTo>
                  <a:cubicBezTo>
                    <a:pt x="70" y="122"/>
                    <a:pt x="85" y="125"/>
                    <a:pt x="100" y="129"/>
                  </a:cubicBezTo>
                  <a:cubicBezTo>
                    <a:pt x="113" y="138"/>
                    <a:pt x="111" y="152"/>
                    <a:pt x="121" y="162"/>
                  </a:cubicBezTo>
                  <a:cubicBezTo>
                    <a:pt x="137" y="178"/>
                    <a:pt x="161" y="187"/>
                    <a:pt x="178" y="204"/>
                  </a:cubicBezTo>
                  <a:cubicBezTo>
                    <a:pt x="174" y="232"/>
                    <a:pt x="179" y="219"/>
                    <a:pt x="163" y="243"/>
                  </a:cubicBezTo>
                  <a:cubicBezTo>
                    <a:pt x="161" y="246"/>
                    <a:pt x="157" y="252"/>
                    <a:pt x="157" y="252"/>
                  </a:cubicBezTo>
                  <a:cubicBezTo>
                    <a:pt x="152" y="272"/>
                    <a:pt x="150" y="292"/>
                    <a:pt x="145" y="312"/>
                  </a:cubicBezTo>
                  <a:cubicBezTo>
                    <a:pt x="143" y="318"/>
                    <a:pt x="121" y="319"/>
                    <a:pt x="127" y="318"/>
                  </a:cubicBezTo>
                  <a:cubicBezTo>
                    <a:pt x="132" y="317"/>
                    <a:pt x="137" y="316"/>
                    <a:pt x="142" y="315"/>
                  </a:cubicBezTo>
                  <a:cubicBezTo>
                    <a:pt x="167" y="297"/>
                    <a:pt x="167" y="278"/>
                    <a:pt x="172" y="249"/>
                  </a:cubicBezTo>
                  <a:cubicBezTo>
                    <a:pt x="174" y="241"/>
                    <a:pt x="176" y="233"/>
                    <a:pt x="178" y="225"/>
                  </a:cubicBezTo>
                  <a:cubicBezTo>
                    <a:pt x="180" y="219"/>
                    <a:pt x="184" y="207"/>
                    <a:pt x="184" y="207"/>
                  </a:cubicBezTo>
                  <a:cubicBezTo>
                    <a:pt x="195" y="223"/>
                    <a:pt x="187" y="265"/>
                    <a:pt x="211" y="273"/>
                  </a:cubicBezTo>
                  <a:cubicBezTo>
                    <a:pt x="219" y="276"/>
                    <a:pt x="227" y="275"/>
                    <a:pt x="235" y="276"/>
                  </a:cubicBezTo>
                  <a:cubicBezTo>
                    <a:pt x="246" y="285"/>
                    <a:pt x="261" y="291"/>
                    <a:pt x="268" y="303"/>
                  </a:cubicBezTo>
                  <a:cubicBezTo>
                    <a:pt x="270" y="307"/>
                    <a:pt x="271" y="315"/>
                    <a:pt x="271" y="315"/>
                  </a:cubicBezTo>
                  <a:cubicBezTo>
                    <a:pt x="271" y="315"/>
                    <a:pt x="269" y="307"/>
                    <a:pt x="268" y="303"/>
                  </a:cubicBezTo>
                  <a:cubicBezTo>
                    <a:pt x="266" y="294"/>
                    <a:pt x="267" y="284"/>
                    <a:pt x="262" y="276"/>
                  </a:cubicBezTo>
                  <a:cubicBezTo>
                    <a:pt x="257" y="268"/>
                    <a:pt x="242" y="262"/>
                    <a:pt x="235" y="258"/>
                  </a:cubicBezTo>
                  <a:cubicBezTo>
                    <a:pt x="229" y="254"/>
                    <a:pt x="217" y="246"/>
                    <a:pt x="217" y="246"/>
                  </a:cubicBezTo>
                  <a:cubicBezTo>
                    <a:pt x="207" y="231"/>
                    <a:pt x="202" y="217"/>
                    <a:pt x="187" y="207"/>
                  </a:cubicBezTo>
                  <a:cubicBezTo>
                    <a:pt x="173" y="187"/>
                    <a:pt x="215" y="190"/>
                    <a:pt x="232" y="186"/>
                  </a:cubicBezTo>
                  <a:cubicBezTo>
                    <a:pt x="256" y="150"/>
                    <a:pt x="271" y="163"/>
                    <a:pt x="310" y="150"/>
                  </a:cubicBezTo>
                  <a:cubicBezTo>
                    <a:pt x="324" y="155"/>
                    <a:pt x="329" y="153"/>
                    <a:pt x="337" y="141"/>
                  </a:cubicBezTo>
                  <a:cubicBezTo>
                    <a:pt x="339" y="133"/>
                    <a:pt x="341" y="125"/>
                    <a:pt x="343" y="117"/>
                  </a:cubicBezTo>
                  <a:cubicBezTo>
                    <a:pt x="345" y="111"/>
                    <a:pt x="331" y="121"/>
                    <a:pt x="325" y="123"/>
                  </a:cubicBezTo>
                  <a:cubicBezTo>
                    <a:pt x="316" y="126"/>
                    <a:pt x="298" y="135"/>
                    <a:pt x="298" y="135"/>
                  </a:cubicBezTo>
                  <a:cubicBezTo>
                    <a:pt x="276" y="157"/>
                    <a:pt x="256" y="160"/>
                    <a:pt x="226" y="165"/>
                  </a:cubicBezTo>
                  <a:cubicBezTo>
                    <a:pt x="213" y="174"/>
                    <a:pt x="206" y="186"/>
                    <a:pt x="193" y="195"/>
                  </a:cubicBezTo>
                  <a:cubicBezTo>
                    <a:pt x="185" y="171"/>
                    <a:pt x="188" y="161"/>
                    <a:pt x="211" y="153"/>
                  </a:cubicBezTo>
                  <a:cubicBezTo>
                    <a:pt x="220" y="139"/>
                    <a:pt x="237" y="83"/>
                    <a:pt x="247" y="78"/>
                  </a:cubicBezTo>
                  <a:cubicBezTo>
                    <a:pt x="254" y="74"/>
                    <a:pt x="263" y="74"/>
                    <a:pt x="271" y="72"/>
                  </a:cubicBezTo>
                  <a:cubicBezTo>
                    <a:pt x="278" y="65"/>
                    <a:pt x="286" y="45"/>
                    <a:pt x="286" y="45"/>
                  </a:cubicBezTo>
                  <a:cubicBezTo>
                    <a:pt x="279" y="11"/>
                    <a:pt x="270" y="43"/>
                    <a:pt x="259" y="57"/>
                  </a:cubicBezTo>
                  <a:cubicBezTo>
                    <a:pt x="240" y="81"/>
                    <a:pt x="232" y="110"/>
                    <a:pt x="223" y="138"/>
                  </a:cubicBezTo>
                  <a:cubicBezTo>
                    <a:pt x="216" y="158"/>
                    <a:pt x="210" y="156"/>
                    <a:pt x="193" y="162"/>
                  </a:cubicBezTo>
                  <a:cubicBezTo>
                    <a:pt x="187" y="164"/>
                    <a:pt x="175" y="168"/>
                    <a:pt x="175" y="168"/>
                  </a:cubicBezTo>
                  <a:cubicBezTo>
                    <a:pt x="172" y="156"/>
                    <a:pt x="166" y="139"/>
                    <a:pt x="166" y="126"/>
                  </a:cubicBezTo>
                  <a:cubicBezTo>
                    <a:pt x="167" y="105"/>
                    <a:pt x="172" y="63"/>
                    <a:pt x="172" y="63"/>
                  </a:cubicBezTo>
                  <a:cubicBezTo>
                    <a:pt x="169" y="46"/>
                    <a:pt x="166" y="42"/>
                    <a:pt x="154" y="30"/>
                  </a:cubicBezTo>
                  <a:cubicBezTo>
                    <a:pt x="147" y="8"/>
                    <a:pt x="146" y="18"/>
                    <a:pt x="151" y="0"/>
                  </a:cubicBezTo>
                  <a:cubicBezTo>
                    <a:pt x="155" y="17"/>
                    <a:pt x="157" y="28"/>
                    <a:pt x="166" y="42"/>
                  </a:cubicBezTo>
                  <a:cubicBezTo>
                    <a:pt x="174" y="74"/>
                    <a:pt x="169" y="103"/>
                    <a:pt x="163" y="135"/>
                  </a:cubicBezTo>
                  <a:cubicBezTo>
                    <a:pt x="165" y="149"/>
                    <a:pt x="172" y="171"/>
                    <a:pt x="172" y="186"/>
                  </a:cubicBezTo>
                </a:path>
              </a:pathLst>
            </a:custGeom>
            <a:solidFill>
              <a:srgbClr val="99ffcc"/>
            </a:solidFill>
            <a:ln w="32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0508760" y="16167600"/>
              <a:ext cx="672480" cy="712080"/>
            </a:xfrm>
            <a:custGeom>
              <a:avLst/>
              <a:gdLst/>
              <a:ahLst/>
              <a:rect l="l" t="t" r="r" b="b"/>
              <a:pathLst>
                <a:path w="234" h="262">
                  <a:moveTo>
                    <a:pt x="114" y="42"/>
                  </a:moveTo>
                  <a:cubicBezTo>
                    <a:pt x="110" y="36"/>
                    <a:pt x="106" y="30"/>
                    <a:pt x="102" y="24"/>
                  </a:cubicBezTo>
                  <a:cubicBezTo>
                    <a:pt x="98" y="19"/>
                    <a:pt x="94" y="0"/>
                    <a:pt x="96" y="6"/>
                  </a:cubicBezTo>
                  <a:cubicBezTo>
                    <a:pt x="106" y="34"/>
                    <a:pt x="99" y="24"/>
                    <a:pt x="114" y="39"/>
                  </a:cubicBezTo>
                  <a:cubicBezTo>
                    <a:pt x="120" y="58"/>
                    <a:pt x="110" y="77"/>
                    <a:pt x="105" y="96"/>
                  </a:cubicBezTo>
                  <a:cubicBezTo>
                    <a:pt x="107" y="112"/>
                    <a:pt x="122" y="153"/>
                    <a:pt x="102" y="126"/>
                  </a:cubicBezTo>
                  <a:cubicBezTo>
                    <a:pt x="98" y="102"/>
                    <a:pt x="93" y="89"/>
                    <a:pt x="69" y="81"/>
                  </a:cubicBezTo>
                  <a:cubicBezTo>
                    <a:pt x="61" y="69"/>
                    <a:pt x="59" y="53"/>
                    <a:pt x="45" y="48"/>
                  </a:cubicBezTo>
                  <a:cubicBezTo>
                    <a:pt x="7" y="56"/>
                    <a:pt x="45" y="65"/>
                    <a:pt x="57" y="69"/>
                  </a:cubicBezTo>
                  <a:cubicBezTo>
                    <a:pt x="68" y="80"/>
                    <a:pt x="72" y="94"/>
                    <a:pt x="84" y="102"/>
                  </a:cubicBezTo>
                  <a:cubicBezTo>
                    <a:pt x="89" y="118"/>
                    <a:pt x="99" y="136"/>
                    <a:pt x="108" y="150"/>
                  </a:cubicBezTo>
                  <a:cubicBezTo>
                    <a:pt x="89" y="158"/>
                    <a:pt x="72" y="163"/>
                    <a:pt x="54" y="174"/>
                  </a:cubicBezTo>
                  <a:cubicBezTo>
                    <a:pt x="48" y="178"/>
                    <a:pt x="43" y="185"/>
                    <a:pt x="36" y="186"/>
                  </a:cubicBezTo>
                  <a:cubicBezTo>
                    <a:pt x="8" y="190"/>
                    <a:pt x="20" y="187"/>
                    <a:pt x="0" y="192"/>
                  </a:cubicBezTo>
                  <a:cubicBezTo>
                    <a:pt x="18" y="198"/>
                    <a:pt x="48" y="188"/>
                    <a:pt x="66" y="186"/>
                  </a:cubicBezTo>
                  <a:cubicBezTo>
                    <a:pt x="75" y="183"/>
                    <a:pt x="88" y="185"/>
                    <a:pt x="93" y="177"/>
                  </a:cubicBezTo>
                  <a:cubicBezTo>
                    <a:pt x="100" y="166"/>
                    <a:pt x="99" y="160"/>
                    <a:pt x="111" y="156"/>
                  </a:cubicBezTo>
                  <a:cubicBezTo>
                    <a:pt x="113" y="162"/>
                    <a:pt x="113" y="169"/>
                    <a:pt x="117" y="174"/>
                  </a:cubicBezTo>
                  <a:cubicBezTo>
                    <a:pt x="121" y="180"/>
                    <a:pt x="129" y="192"/>
                    <a:pt x="129" y="192"/>
                  </a:cubicBezTo>
                  <a:cubicBezTo>
                    <a:pt x="121" y="234"/>
                    <a:pt x="120" y="215"/>
                    <a:pt x="111" y="243"/>
                  </a:cubicBezTo>
                  <a:cubicBezTo>
                    <a:pt x="123" y="262"/>
                    <a:pt x="129" y="234"/>
                    <a:pt x="138" y="222"/>
                  </a:cubicBezTo>
                  <a:cubicBezTo>
                    <a:pt x="140" y="213"/>
                    <a:pt x="147" y="204"/>
                    <a:pt x="144" y="195"/>
                  </a:cubicBezTo>
                  <a:cubicBezTo>
                    <a:pt x="142" y="188"/>
                    <a:pt x="136" y="183"/>
                    <a:pt x="132" y="177"/>
                  </a:cubicBezTo>
                  <a:cubicBezTo>
                    <a:pt x="130" y="174"/>
                    <a:pt x="126" y="168"/>
                    <a:pt x="126" y="168"/>
                  </a:cubicBezTo>
                  <a:cubicBezTo>
                    <a:pt x="155" y="139"/>
                    <a:pt x="150" y="163"/>
                    <a:pt x="165" y="180"/>
                  </a:cubicBezTo>
                  <a:cubicBezTo>
                    <a:pt x="174" y="191"/>
                    <a:pt x="179" y="189"/>
                    <a:pt x="192" y="192"/>
                  </a:cubicBezTo>
                  <a:cubicBezTo>
                    <a:pt x="165" y="155"/>
                    <a:pt x="163" y="165"/>
                    <a:pt x="108" y="162"/>
                  </a:cubicBezTo>
                  <a:cubicBezTo>
                    <a:pt x="115" y="121"/>
                    <a:pt x="145" y="137"/>
                    <a:pt x="189" y="135"/>
                  </a:cubicBezTo>
                  <a:cubicBezTo>
                    <a:pt x="207" y="117"/>
                    <a:pt x="211" y="113"/>
                    <a:pt x="234" y="102"/>
                  </a:cubicBezTo>
                  <a:cubicBezTo>
                    <a:pt x="233" y="98"/>
                    <a:pt x="234" y="92"/>
                    <a:pt x="231" y="90"/>
                  </a:cubicBezTo>
                  <a:cubicBezTo>
                    <a:pt x="223" y="84"/>
                    <a:pt x="216" y="105"/>
                    <a:pt x="216" y="105"/>
                  </a:cubicBezTo>
                  <a:cubicBezTo>
                    <a:pt x="206" y="117"/>
                    <a:pt x="183" y="120"/>
                    <a:pt x="171" y="123"/>
                  </a:cubicBezTo>
                  <a:cubicBezTo>
                    <a:pt x="148" y="138"/>
                    <a:pt x="160" y="134"/>
                    <a:pt x="135" y="138"/>
                  </a:cubicBezTo>
                  <a:cubicBezTo>
                    <a:pt x="139" y="123"/>
                    <a:pt x="145" y="122"/>
                    <a:pt x="156" y="111"/>
                  </a:cubicBezTo>
                  <a:cubicBezTo>
                    <a:pt x="162" y="92"/>
                    <a:pt x="173" y="74"/>
                    <a:pt x="189" y="63"/>
                  </a:cubicBezTo>
                  <a:cubicBezTo>
                    <a:pt x="197" y="51"/>
                    <a:pt x="199" y="48"/>
                    <a:pt x="195" y="33"/>
                  </a:cubicBezTo>
                  <a:cubicBezTo>
                    <a:pt x="183" y="41"/>
                    <a:pt x="183" y="46"/>
                    <a:pt x="180" y="60"/>
                  </a:cubicBezTo>
                  <a:cubicBezTo>
                    <a:pt x="177" y="101"/>
                    <a:pt x="168" y="129"/>
                    <a:pt x="132" y="147"/>
                  </a:cubicBezTo>
                  <a:lnTo>
                    <a:pt x="84" y="135"/>
                  </a:lnTo>
                </a:path>
              </a:pathLst>
            </a:custGeom>
            <a:solidFill>
              <a:srgbClr val="66ff33"/>
            </a:solidFill>
            <a:ln w="3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2" name=""/>
          <p:cNvSpPr/>
          <p:nvPr/>
        </p:nvSpPr>
        <p:spPr>
          <a:xfrm>
            <a:off x="3413160" y="7505640"/>
            <a:ext cx="7128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411360" y="1364940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126200" y="905040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1787120" y="4484520"/>
            <a:ext cx="2397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1744280" y="444816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11747520" y="589284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1734920" y="289260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8190000" y="289260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8193240" y="5894280"/>
            <a:ext cx="7128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6949240" y="750420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26949240" y="15202080"/>
            <a:ext cx="71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3277600" y="1519884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3285520" y="13652640"/>
            <a:ext cx="71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5:03:38Z</dcterms:created>
  <dc:creator>DEINF-SE3</dc:creator>
  <dc:description/>
  <dc:language>en-US</dc:language>
  <cp:lastModifiedBy>ibge</cp:lastModifiedBy>
  <cp:lastPrinted>1999-12-07T17:09:52Z</cp:lastPrinted>
  <dcterms:modified xsi:type="dcterms:W3CDTF">1999-12-08T14:27:35Z</dcterms:modified>
  <cp:revision>27</cp:revision>
  <dc:subject/>
  <dc:title>Slide sem título </dc:title>
</cp:coreProperties>
</file>